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CB4-94E9-4E87-B529-6CF8C123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17E-5D12-4776-A2D0-61A290A3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1BB-9075-43F8-AB36-565A63D1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F8F-274B-4512-B889-D2A60D80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261B-F8DA-4032-803D-DD73D852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D27D-2725-4B0C-98C7-3007A97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3F61-41ED-4E40-911E-E9EE1B08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2EFF-3BD9-417E-9949-D7BD7CE3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22F9-1ED6-43CA-941A-FD04AA6D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61BB-DD09-4779-A9BD-3E2804C1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5FC5-5D2D-41D2-B7F0-09130CE8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18F-53CD-4C67-A721-385E2445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B73E-86AA-4047-B8A4-8C7DFD7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1CB3-3744-4B3B-A14E-7B337C9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E375-085A-4D85-B356-D01B3FFB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BEEA-84D8-4F72-8EE6-6642F7FD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54C1-5066-4B7F-900B-58A109C4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F3D8-EED6-4870-BD5B-F36E50CA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94AA-5869-4B17-BD45-A9EC7EC3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FEE3-ACD0-4C01-BE46-67C93985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A6E8-554E-4F51-B5B2-D6F8E271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8266-3EE0-4ED1-B4AB-29D13B9F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3C9-992A-493F-9703-B937DAB1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F709-BAD4-4306-99AE-C5986616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51CA-8616-4352-8808-27A33F5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852C-1C94-4B38-BBBC-9A98F18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7B8D-B29B-4D19-B293-07A026A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86F4-9C11-4CDA-9D7A-4E685C2B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7D0C-6807-4E93-BE76-3320829D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384E-17D4-463F-86EC-0CE341A5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906F1-32E7-4C5B-A35E-1C529C7F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29B5-CEB3-4C2B-A0DF-B32BB53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1C6A-D1BD-4AEB-8EFD-5C21C7B7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24A-3807-480F-9CE4-AFA8DF3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AD93-362E-4748-8CF1-D8B2C369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90CE-FBD7-4F91-9EB7-F1DA117F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8399-02AC-474F-9165-F15BFB79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400F-120B-4B4B-B52F-F66C3ADF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B5EC-263D-4427-BE00-AB02803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C1D3A-EDD3-44EB-813C-E475437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8C9F-B382-4150-80C5-B620C44D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DD24-052D-4F18-B0C7-586E0B98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A76C-EDC8-4401-91F9-CE3A4CBD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ADDF9-F7C4-412A-BA94-B391069A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4CB-0346-4FA9-845D-8393B9C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35A7-C688-4677-9B10-E189AAF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B286B-3050-45F4-9DDC-40B6AE8C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CEC21-D623-47FD-BC7E-FF626EBC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43FB6-8026-4BAD-8B01-4B26B9F3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A5FF-B8C8-43FC-A668-F48897B3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54F2-1CF2-4DA3-ADA4-ECAE5C3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4FC0-97CB-4BE4-9DD7-472A3BB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33DB-3141-43D5-8E9A-CFA1C72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B525-ECD7-40B2-A6CB-F850DF3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B744-BC28-4760-B3A5-1B99A0A7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E9B-52E7-4708-87A3-14C8167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5CBD0-58D1-474E-98D9-0C003E65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C1391-F37F-45D1-93CF-DDB231D8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DD8F-A46F-442B-BF82-4CAF40A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2FB2-3FC8-4920-BC32-F6D3ADF0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3FD5-6C50-44CA-A8B0-88D4663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9B232-1AD0-4E1A-89A9-20592C2F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5BD14-F25D-4717-A0CC-FEAE95B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F065-4E09-479E-AD03-1344A47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D0741-6324-4F43-A25B-275F37D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6F43F-4EF9-4040-87D9-EAB6E44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88B-D43F-4B43-9D10-C3AA75EA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15AF-759C-4C55-8288-4C516B3E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5337-AA38-412C-BED9-EA12DBCE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81E44-4C5C-4A3A-8ABE-A8196F13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BAE-E56A-4C3B-9B15-D307CCAE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8EE-D737-4373-842A-8EC156A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AE5-6F54-4E6D-AC9D-83CAF4F792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720" y="524520"/>
                  <a:ext cx="4276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68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0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32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BCD-05AF-46E8-94BF-9016BF43CA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3745-8FA4-4FF2-B8B7-353820A2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6" name="Group 18"/>
          <p:cNvGrpSpPr/>
          <p:nvPr/>
        </p:nvGrpSpPr>
        <p:grpSpPr>
          <a:xfrm>
            <a:off x="7797960" y="4317840"/>
            <a:ext cx="981720" cy="1160640"/>
            <a:chOff x="7797960" y="4317840"/>
            <a:chExt cx="981720" cy="1160640"/>
          </a:xfrm>
        </p:grpSpPr>
        <p:sp>
          <p:nvSpPr>
            <p:cNvPr id="1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0" name="Group 22"/>
            <p:cNvGrpSpPr/>
            <p:nvPr/>
          </p:nvGrpSpPr>
          <p:grpSpPr>
            <a:xfrm>
              <a:off x="7797960" y="4317840"/>
              <a:ext cx="981720" cy="1160640"/>
              <a:chOff x="7797960" y="4317840"/>
              <a:chExt cx="981720" cy="1160640"/>
            </a:xfrm>
          </p:grpSpPr>
          <p:sp>
            <p:nvSpPr>
              <p:cNvPr id="191" name="Freeform 23"/>
              <p:cNvSpPr/>
              <p:nvPr/>
            </p:nvSpPr>
            <p:spPr>
              <a:xfrm rot="7320000">
                <a:off x="7916400" y="5063760"/>
                <a:ext cx="9396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4"/>
              <p:cNvSpPr/>
              <p:nvPr/>
            </p:nvSpPr>
            <p:spPr>
              <a:xfrm rot="7320000">
                <a:off x="7759080" y="4649760"/>
                <a:ext cx="1058760" cy="496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5"/>
              <p:cNvSpPr/>
              <p:nvPr/>
            </p:nvSpPr>
            <p:spPr>
              <a:xfrm rot="7320000">
                <a:off x="8037720" y="4756680"/>
                <a:ext cx="74952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6"/>
              <p:cNvSpPr/>
              <p:nvPr/>
            </p:nvSpPr>
            <p:spPr>
              <a:xfrm rot="7320000">
                <a:off x="8513280" y="4557600"/>
                <a:ext cx="100080" cy="1882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FD70-752E-46C2-BB2D-CDCFF2A33F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4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2B3-ACE8-4EAE-98CC-338FFB2323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49E1-6607-4382-8AFD-13BAC9F1F56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Text Box 5" descr=""/>
          <p:cNvPicPr/>
          <p:nvPr/>
        </p:nvPicPr>
        <p:blipFill>
          <a:blip r:embed="rId2"/>
          <a:stretch/>
        </p:blipFill>
        <p:spPr>
          <a:xfrm>
            <a:off x="1676520" y="1413000"/>
            <a:ext cx="6654600" cy="19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2" descr="9fd2bb4535d79a5f9213c60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2"/>
          <p:cNvSpPr/>
          <p:nvPr/>
        </p:nvSpPr>
        <p:spPr>
          <a:xfrm>
            <a:off x="395280" y="1268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认认真真地看，老老实实地画，自已觉得画得很准确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826920" y="350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认真地看，老实地画，自已觉得画得很准确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24"/>
          <p:cNvSpPr/>
          <p:nvPr/>
        </p:nvSpPr>
        <p:spPr>
          <a:xfrm>
            <a:off x="1187280" y="191628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4643280" y="1989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27"/>
          <p:cNvSpPr/>
          <p:nvPr/>
        </p:nvSpPr>
        <p:spPr>
          <a:xfrm>
            <a:off x="1476360" y="41497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28"/>
          <p:cNvSpPr/>
          <p:nvPr/>
        </p:nvSpPr>
        <p:spPr>
          <a:xfrm>
            <a:off x="4067280" y="41497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9fd2bb4535d79a5f9213c60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"/>
          <p:cNvSpPr/>
          <p:nvPr/>
        </p:nvSpPr>
        <p:spPr>
          <a:xfrm>
            <a:off x="268200" y="620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到我的画同学的表现是什么？找出相应的语句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268200" y="23828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：哈哈大笑  杨桃是这个样子的吗？  倒不如说是五角星吧！   同学们嘲笑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250920" y="4437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到我的画老师的表现是什么？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1706400" y="53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4572000" y="333360"/>
            <a:ext cx="417528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于是，老师请这几个同学轮流坐到我的座位上。他对第一个坐下的同学说：“现在你看看那杨桃，像你平时看到的杨桃吗？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    “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不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像。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   “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那么，像什么呢？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   “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像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五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五角星。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95280" y="620640"/>
            <a:ext cx="4176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老师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看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了看这幅画儿，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走到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我的座位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坐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下来，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审视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了一下讲桌上的杨桃，然后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回到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讲台，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举起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我的画儿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问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大家：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“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这幅画儿画得像不像？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“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不像！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“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它像什么？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“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  <a:ea typeface="宋体"/>
              </a:rPr>
              <a:t>像五角星！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4500720" y="549360"/>
            <a:ext cx="71280" cy="597528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755640" y="5445000"/>
            <a:ext cx="92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042920" y="5661000"/>
            <a:ext cx="73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肃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 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颜悦色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484360" y="2924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老师实事求是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9fd2bb4535d79a5f9213c60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395280" y="1268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严肃：同学们不懂得从别人的角度去想问题，还嘲笑别人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26920" y="350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和颜悦色：看到同学们认识到了自己的错误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679840" y="1557360"/>
            <a:ext cx="39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476360" y="765000"/>
            <a:ext cx="57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杨桃是这个样子的吗？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倒不如说是五角星的吧！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4"/>
          <p:cNvSpPr/>
          <p:nvPr/>
        </p:nvSpPr>
        <p:spPr>
          <a:xfrm flipV="1">
            <a:off x="539640" y="2061000"/>
            <a:ext cx="374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这幅画画得像不像？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像！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它像什么？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五角星！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4911840" y="2295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4284720" y="1989000"/>
            <a:ext cx="439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现在你看看那杨桃，像你平时看到的杨桃吗？”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不……像。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那么，像什么呢？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星。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479840" y="3232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08560" y="3376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284720" y="4076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684360" y="479736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体会这两组对话中同学们语气的变化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2266"/>
          <p:cNvPicPr/>
          <p:nvPr/>
        </p:nvPicPr>
        <p:blipFill>
          <a:blip r:embed="rId1"/>
          <a:stretch/>
        </p:blipFill>
        <p:spPr>
          <a:xfrm>
            <a:off x="457200" y="44280"/>
            <a:ext cx="2133720" cy="1725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27"/>
          <p:cNvPicPr/>
          <p:nvPr/>
        </p:nvPicPr>
        <p:blipFill>
          <a:blip r:embed="rId2"/>
          <a:stretch/>
        </p:blipFill>
        <p:spPr>
          <a:xfrm>
            <a:off x="6477120" y="44280"/>
            <a:ext cx="2286000" cy="18496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4"/>
          <p:cNvSpPr/>
          <p:nvPr/>
        </p:nvSpPr>
        <p:spPr>
          <a:xfrm>
            <a:off x="2438280" y="4762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979640" y="2205000"/>
            <a:ext cx="4932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不像！”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像五角星！”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1763640" y="2349360"/>
            <a:ext cx="142920" cy="11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1692360" y="4365720"/>
            <a:ext cx="71280" cy="10810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2469240" y="4149720"/>
            <a:ext cx="379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不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像。”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像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五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……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角星。”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5110200" y="2133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中宋"/>
              </a:rPr>
              <a:t>（想当然，不假思索的语气。）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5292720" y="364500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宋体"/>
              </a:rPr>
              <a:t>（回答支支吾吾，结结巴巴，迟迟疑疑。）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200512191021348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55640" y="1197000"/>
            <a:ext cx="76327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老师请同学们坐到我的座位上看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杨桃，是老师巧妙设计的教育学生的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时机。请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想象当时的情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同学们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这一看，看出了怎样的结果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这一看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这一看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这一看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1" name="Picture 5" descr="20050605201009144"/>
          <p:cNvPicPr/>
          <p:nvPr/>
        </p:nvPicPr>
        <p:blipFill>
          <a:blip r:embed="rId2"/>
          <a:stretch/>
        </p:blipFill>
        <p:spPr>
          <a:xfrm>
            <a:off x="6659640" y="3716280"/>
            <a:ext cx="2162160" cy="2737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615340625"/>
          <p:cNvPicPr/>
          <p:nvPr/>
        </p:nvPicPr>
        <p:blipFill>
          <a:blip r:embed="rId3"/>
          <a:stretch/>
        </p:blipFill>
        <p:spPr>
          <a:xfrm>
            <a:off x="0" y="0"/>
            <a:ext cx="1125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一看，同学们发现从“我”的角度看杨桃，它确实像个五角星。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0" y="14860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一看，同学们知道嘲笑“我”是错的。他们的神态发生了变化，一个个脸色通红，说话结结巴巴。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0" y="2852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一看，同学们都不好意思了，一个个脸羞得红红的。他们请求我的原谅。他们说：“对不起，我们不应该嘲笑你。你能实事求是地画出你看到的，是多么不容易。原谅我们吧！”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0" y="53020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一看，同学们懂得不能想当然地嘲笑别人。要实事求是，设身处地，尊重别人的看法。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39640" y="691920"/>
            <a:ext cx="80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起杨桃，大家都很熟悉。但是，看的角度不同，杨桃的样子也就不一样，有时候看起来真像个五角星。因此，当我们看见别人把杨桃画成五角星的时候，不要忙着发笑，要看看人家是从什么角度看的。我们应该相信自己的眼睛，看到什么样的就画成什么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971640" y="2781360"/>
            <a:ext cx="7416720" cy="1511280"/>
            <a:chOff x="971640" y="2781360"/>
            <a:chExt cx="7416720" cy="1511280"/>
          </a:xfrm>
        </p:grpSpPr>
        <p:sp>
          <p:nvSpPr>
            <p:cNvPr id="410" name="Line 4"/>
            <p:cNvSpPr/>
            <p:nvPr/>
          </p:nvSpPr>
          <p:spPr>
            <a:xfrm>
              <a:off x="3203640" y="2781360"/>
              <a:ext cx="511344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Line 5"/>
            <p:cNvSpPr/>
            <p:nvPr/>
          </p:nvSpPr>
          <p:spPr>
            <a:xfrm>
              <a:off x="1042920" y="3573360"/>
              <a:ext cx="734544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971640" y="4292640"/>
              <a:ext cx="2232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3" name="Group 7"/>
          <p:cNvGrpSpPr/>
          <p:nvPr/>
        </p:nvGrpSpPr>
        <p:grpSpPr>
          <a:xfrm>
            <a:off x="1042920" y="4292640"/>
            <a:ext cx="7418520" cy="792000"/>
            <a:chOff x="1042920" y="4292640"/>
            <a:chExt cx="7418520" cy="792000"/>
          </a:xfrm>
        </p:grpSpPr>
        <p:sp>
          <p:nvSpPr>
            <p:cNvPr id="414" name="Line 8"/>
            <p:cNvSpPr/>
            <p:nvPr/>
          </p:nvSpPr>
          <p:spPr>
            <a:xfrm>
              <a:off x="3348000" y="4292640"/>
              <a:ext cx="5113440" cy="0"/>
            </a:xfrm>
            <a:prstGeom prst="line">
              <a:avLst/>
            </a:prstGeom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1042920" y="5084640"/>
              <a:ext cx="3889440" cy="0"/>
            </a:xfrm>
            <a:prstGeom prst="line">
              <a:avLst/>
            </a:prstGeom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6" name="Text Box 10"/>
          <p:cNvSpPr/>
          <p:nvPr/>
        </p:nvSpPr>
        <p:spPr>
          <a:xfrm>
            <a:off x="1619280" y="11592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行楷"/>
              </a:rPr>
              <a:t>老师的话几层含义？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，看的角度不同，杨桃的样子也就不同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0" y="40068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，看到别人把杨桃画成五角星不要嘲笑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0" y="5516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，要实事求是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467080" y="1268280"/>
            <a:ext cx="429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杨桃又名阳桃、羊桃、五敛子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是广东和海南一带常见的水果。表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面有五条棱。杨桃没长熟的时候是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绿色的，成熟以后是黄色的。果肉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脆而多汁，有酸的，也有甜的。甜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杨桃可以直接吃，酸杨桃则大多加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工成蜜饯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jiàn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533520" y="304920"/>
            <a:ext cx="2286000" cy="6159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826920" y="907920"/>
            <a:ext cx="76946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☆ 读一读倒数第二自然段老师的话，说说它总共有几层意思？它和第一段爸爸的话有什么联系吗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26920" y="306864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☆ 小组讨论：</a:t>
            </a:r>
            <a:r>
              <a:rPr b="1" lang="zh-CN" sz="4000" spc="-1" strike="noStrike">
                <a:solidFill>
                  <a:srgbClr val="6767ff"/>
                </a:solidFill>
                <a:latin typeface="Times New Roman"/>
                <a:ea typeface="楷体_GB2312"/>
              </a:rPr>
              <a:t>从“画杨桃”我们可以学到什么？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4500720" y="4365720"/>
            <a:ext cx="3352680" cy="1828800"/>
          </a:xfrm>
          <a:prstGeom prst="cloudCallout">
            <a:avLst>
              <a:gd name="adj1" fmla="val -71638"/>
              <a:gd name="adj2" fmla="val -8967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我想把老师的那段话背下来。你呢？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200512191021348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50920" y="1951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684360" y="1052640"/>
            <a:ext cx="75610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老师和父亲的话语那么相似。他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们相同的地方是什么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684360" y="4005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他们不同之处又是什么呢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79280" y="486900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老师的话语中提到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尊重别人的看法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684360" y="2565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做事做人都要实事求是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85800" y="45720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的教诲使我一生受用。这道理自然不仅在于画画。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28600" y="2133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全文的点睛之笔。当听到老师的话以后，感到和当初父亲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画时叮嘱的话是一样的，都是要从实际出发，有实事求是的科学态度，这种不想当然、尊重事实的科学思想方法，无论在什么时候、什么地方都能适用。因此，父亲和老师的教诲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记在心间，一辈子都能得到好处。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4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Xing2"/>
          <p:cNvPicPr/>
          <p:nvPr/>
        </p:nvPicPr>
        <p:blipFill>
          <a:blip r:embed="rId2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Xing2"/>
          <p:cNvPicPr/>
          <p:nvPr/>
        </p:nvPicPr>
        <p:blipFill>
          <a:blip r:embed="rId3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Xing2"/>
          <p:cNvPicPr/>
          <p:nvPr/>
        </p:nvPicPr>
        <p:blipFill>
          <a:blip r:embed="rId4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Xing2"/>
          <p:cNvPicPr/>
          <p:nvPr/>
        </p:nvPicPr>
        <p:blipFill>
          <a:blip r:embed="rId5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179280" y="18900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宋体"/>
              </a:rPr>
              <a:t>我懂得了：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做事或看问题应该实事求是，当别人的看法、做法与自己不同时，不要急于下结论，要从别人的角度去看，去想。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755640" y="1989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做事做人都要实事求是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446120" y="652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Arial"/>
                <a:ea typeface="宋体"/>
              </a:rPr>
              <a:t>我懂得了：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Oval 2"/>
          <p:cNvSpPr/>
          <p:nvPr/>
        </p:nvSpPr>
        <p:spPr>
          <a:xfrm>
            <a:off x="1332000" y="1989000"/>
            <a:ext cx="1295280" cy="1152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写法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AutoShape 3"/>
          <p:cNvSpPr/>
          <p:nvPr/>
        </p:nvSpPr>
        <p:spPr>
          <a:xfrm>
            <a:off x="3492360" y="765000"/>
            <a:ext cx="3527640" cy="2519640"/>
          </a:xfrm>
          <a:prstGeom prst="cloudCallout">
            <a:avLst>
              <a:gd name="adj1" fmla="val -72680"/>
              <a:gd name="adj2" fmla="val 1030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尾呼应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3203640" y="3213000"/>
            <a:ext cx="3240000" cy="2592360"/>
          </a:xfrm>
          <a:prstGeom prst="cloudCallout">
            <a:avLst>
              <a:gd name="adj1" fmla="val -83805"/>
              <a:gd name="adj2" fmla="val -39101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比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50920" y="2602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小结：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68000" y="1292040"/>
            <a:ext cx="8280360" cy="36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诚实和勤勉，应该成为你永久的伴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富兰克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诚实是人生绝妙的法宝。虽然对人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，你可能付出一定的代价，但日后你得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，远比付出的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3"/>
          <p:cNvSpPr txBox="1"/>
          <p:nvPr/>
        </p:nvSpPr>
        <p:spPr>
          <a:xfrm>
            <a:off x="539640" y="44280"/>
            <a:ext cx="22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692360" y="537372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拓展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"/>
                            </p:stCondLst>
                            <p:childTnLst>
                              <p:par>
                                <p:cTn id="36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20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2181994019462683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1402920" y="1628640"/>
            <a:ext cx="727092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作业加油站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有感情地朗读课文，背诵最后两个自然段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复述课文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03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2590920" y="5257800"/>
            <a:ext cx="313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990720" y="50292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杨　桃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00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533520" y="2819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杨　　桃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ARD1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4826880" y="1881360"/>
            <a:ext cx="7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b800"/>
                </a:solidFill>
                <a:latin typeface="Times New Roman"/>
                <a:ea typeface="黑体"/>
              </a:rPr>
              <a:t>思考：这篇文章写了一件什么事？</a:t>
            </a:r>
            <a:r>
              <a:rPr b="0" lang="zh-CN" sz="3200" spc="-1" strike="noStrike">
                <a:solidFill>
                  <a:srgbClr val="ffb800"/>
                </a:solidFill>
                <a:latin typeface="Times New Roman"/>
                <a:ea typeface="方正姚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16000" y="2801880"/>
            <a:ext cx="80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填空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b800"/>
                </a:solidFill>
                <a:latin typeface="黑体"/>
                <a:ea typeface="黑体"/>
              </a:rPr>
              <a:t>这篇课文写的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1" lang="zh-CN" sz="4000" spc="-1" strike="noStrike">
                <a:solidFill>
                  <a:srgbClr val="ffb800"/>
                </a:solidFill>
                <a:latin typeface="黑体"/>
                <a:ea typeface="黑体"/>
              </a:rPr>
              <a:t>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r>
              <a:rPr b="1" lang="zh-CN" sz="4000" spc="-1" strike="noStrike">
                <a:solidFill>
                  <a:srgbClr val="ffb800"/>
                </a:solidFill>
                <a:latin typeface="黑体"/>
                <a:ea typeface="黑体"/>
              </a:rPr>
              <a:t>练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）</a:t>
            </a:r>
            <a:r>
              <a:rPr b="1" lang="zh-CN" sz="4000" spc="-1" strike="noStrike">
                <a:solidFill>
                  <a:srgbClr val="ffb800"/>
                </a:solidFill>
                <a:latin typeface="黑体"/>
                <a:ea typeface="黑体"/>
              </a:rPr>
              <a:t>时发生的事情。 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5148360" y="41688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981120" y="3376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我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2072520" y="3952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图画课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883120" y="4025880"/>
            <a:ext cx="13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画杨桃 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00983214265543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4" name="WordArt 3"/>
          <p:cNvSpPr txBox="1"/>
          <p:nvPr/>
        </p:nvSpPr>
        <p:spPr>
          <a:xfrm>
            <a:off x="1258920" y="2747880"/>
            <a:ext cx="205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父亲的话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497120" y="2362320"/>
            <a:ext cx="249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看见一件东西，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什么样的，就画成什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么样，不要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想当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画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宋体"/>
              </a:rPr>
              <a:t>走了样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685800" y="838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见一件东西，是什么样的，就画成什么样，不要想当然，画走了样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685800" y="2984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当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是指不根据看到的实际情况，只凭脑子里的印象下判断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走了样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是画的和看到的不一致。这句话告诉我们画画的时候应该实事求是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4" descr="Xing2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Xing2"/>
          <p:cNvPicPr/>
          <p:nvPr/>
        </p:nvPicPr>
        <p:blipFill>
          <a:blip r:embed="rId2"/>
          <a:stretch/>
        </p:blipFill>
        <p:spPr>
          <a:xfrm>
            <a:off x="64771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Xing2"/>
          <p:cNvPicPr/>
          <p:nvPr/>
        </p:nvPicPr>
        <p:blipFill>
          <a:blip r:embed="rId3"/>
          <a:stretch/>
        </p:blipFill>
        <p:spPr>
          <a:xfrm>
            <a:off x="388620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Xing2"/>
          <p:cNvPicPr/>
          <p:nvPr/>
        </p:nvPicPr>
        <p:blipFill>
          <a:blip r:embed="rId4"/>
          <a:stretch/>
        </p:blipFill>
        <p:spPr>
          <a:xfrm>
            <a:off x="182880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Xing2"/>
          <p:cNvPicPr/>
          <p:nvPr/>
        </p:nvPicPr>
        <p:blipFill>
          <a:blip r:embed="rId5"/>
          <a:stretch/>
        </p:blipFill>
        <p:spPr>
          <a:xfrm>
            <a:off x="838080" y="1143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2009330836556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233280" y="566640"/>
            <a:ext cx="867564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提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画课上，“我”是怎么画杨桃的？为什么这样做？（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在课文中画出相关的句子，把自已的体会批注在旁边。）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我画的杨桃，老师的神情发生了怎样的变化？为什么会发生变化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和父亲的话有哪些相似处？在课文中画出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你从他们的话中明白了什么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2009428052417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d60093"/>
                </a:solidFill>
                <a:latin typeface="Comic Sans MS"/>
              </a:rPr>
              <a:t>我认认真真地看，老老实实地画，自已觉得画得很准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1692360" y="249228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5364000" y="249228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5:17:07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03-21T09:26:15Z</dcterms:modified>
  <cp:revision>8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