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9" end="2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F291-ED8A-4BBC-A814-47C014845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E0F6-C6A8-4766-BB2F-623DCCEC4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68F6-5199-4C2B-81CD-2AA9FC8F7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1443-AE23-4067-8D30-05AC2CBBA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DAF8-BAE4-4E1B-BE1A-C14D8B1A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BBAF-DECA-4727-B3CF-AC4BC955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3B4B-0DBF-4691-A775-C6E1302A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8EBF-58A9-4213-B9DC-07C0371D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F374-75A5-4594-9F9A-5F855A34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D5BC-AA46-469F-916A-A690E654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03D3-4A41-4F55-9839-402F308F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7BE1-E090-447D-8AE5-64DA7739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F108-19F5-467C-BF5A-C6BA3FBF4D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baidu.com/s?wd=&#21475;&#32617;&amp;hl_tag=textlink&amp;tn=SE_hldp01350_v6v6zkg6" TargetMode="External"/><Relationship Id="rId3" Type="http://schemas.openxmlformats.org/officeDocument/2006/relationships/hyperlink" Target="http://www.baidu.com/s?wd=&#23553;&#38145;&#21306;&amp;hl_tag=textlink&amp;tn=SE_hldp01350_v6v6zkg6" TargetMode="External"/><Relationship Id="rId4" Type="http://schemas.openxmlformats.org/officeDocument/2006/relationships/hyperlink" Target="http://www.baidu.com/s?wd=&#38450;&#27602;&#38754;&#20855;&amp;hl_tag=textlink&amp;tn=SE_hldp01350_v6v6zkg6" TargetMode="External"/><Relationship Id="rId5" Type="http://schemas.openxmlformats.org/officeDocument/2006/relationships/hyperlink" Target="http://www.baidu.com/s?wd=&#38548;&#28909;&#26381;&amp;hl_tag=textlink&amp;tn=SE_hldp01350_v6v6zkg6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baike.baidu.com/view/1350957.htm" TargetMode="External"/><Relationship Id="rId3" Type="http://schemas.openxmlformats.org/officeDocument/2006/relationships/hyperlink" Target="http://baike.baidu.com/view/3067694.htm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be0e3"/>
                </a:solidFill>
                <a:latin typeface="Arial"/>
              </a:rPr>
              <a:t>安全教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·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要先镇定，判断火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·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果断决策，采取措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·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积极应对，减少损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灭火器的使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很多火灾开始的时候可以用灭火器扑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 E X T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我们来学习灭火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st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拔掉铅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066680" y="3124080"/>
            <a:ext cx="2176560" cy="2757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灭火器的使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很多火灾开始的时候可以用灭火器扑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 E X T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我们来学习灭火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st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拔掉铅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066680" y="3124080"/>
            <a:ext cx="2176560" cy="2757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灭火器的使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很多火灾开始的时候可以用灭火器扑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N E X T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，我们来学习灭火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st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拔掉铅封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nd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拔掉保险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1066680" y="3124080"/>
            <a:ext cx="2176560" cy="2757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4343400" y="3276720"/>
            <a:ext cx="3733920" cy="2792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新宋体"/>
              </a:rPr>
              <a:t>3rd 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新宋体"/>
              </a:rPr>
              <a:t>一手持喷枪枪，一手拿提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新宋体"/>
              </a:rPr>
              <a:t>             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新宋体"/>
              </a:rPr>
              <a:t>对准火焰根部压下提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新宋体"/>
              </a:rPr>
              <a:t>                 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新宋体"/>
              </a:rPr>
              <a:t>火焰扑灭，完工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438280" y="2514600"/>
            <a:ext cx="3353040" cy="3108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Arial"/>
              </a:rPr>
              <a:t>            </a:t>
            </a:r>
            <a:r>
              <a:rPr b="0" lang="zh-CN" sz="3200" spc="-1" strike="noStrike">
                <a:solidFill>
                  <a:srgbClr val="663300"/>
                </a:solidFill>
                <a:latin typeface="Arial"/>
              </a:rPr>
              <a:t>有时火灾很大，又该怎么办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3300"/>
                </a:solidFill>
                <a:latin typeface="Arial"/>
              </a:rPr>
              <a:t>            </a:t>
            </a:r>
            <a:r>
              <a:rPr b="0" lang="zh-CN" sz="3200" spc="-1" strike="noStrike">
                <a:solidFill>
                  <a:srgbClr val="663300"/>
                </a:solidFill>
                <a:latin typeface="Arial"/>
              </a:rPr>
              <a:t>答案只有一个，撤离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逃生时经过充满烟雾的路线，要防止烟雾中毒、预防窒息。为了防止火场浓烟呛入，可采用毛巾、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口罩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蒙鼻，匍匐撤离的办法。烟气较空气轻而飘于上部，贴近地面撤离是避免烟气吸入、滤去毒气的最佳方法。穿过烟火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封锁区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，应配戴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防毒面具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、头盔、阻燃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隔热服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等护具，如果没有这些护具，那么可向头部、身上浇冷水或用湿毛巾、湿棉被、湿毯子等将头、身裹好，再冲出去。请记住：多件防护工具在手，总比赤手空拳好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      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踩踏事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·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人意识到危险时，奔跑、逃生，是人类的本能。大多数都会因为恐惧而“慌不择路”，引发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2"/>
              </a:rPr>
              <a:t>拥挤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甚至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3"/>
              </a:rPr>
              <a:t>踩踏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微软雅黑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幼圆"/>
              </a:rPr>
              <a:t>                                            </a:t>
            </a:r>
            <a:r>
              <a:rPr b="0" lang="zh-CN" sz="2400" spc="-1" strike="noStrike">
                <a:solidFill>
                  <a:srgbClr val="0066ff"/>
                </a:solidFill>
                <a:latin typeface="Arial"/>
                <a:ea typeface="幼圆"/>
              </a:rPr>
              <a:t>危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ff"/>
                </a:solidFill>
                <a:latin typeface="Arial"/>
                <a:ea typeface="幼圆"/>
              </a:rPr>
              <a:t>    </a:t>
            </a:r>
            <a:r>
              <a:rPr b="0" lang="zh-CN" sz="2400" spc="-1" strike="noStrike">
                <a:solidFill>
                  <a:srgbClr val="0066ff"/>
                </a:solidFill>
                <a:latin typeface="Arial"/>
                <a:ea typeface="幼圆"/>
              </a:rPr>
              <a:t>·</a:t>
            </a:r>
            <a:r>
              <a:rPr b="0" lang="zh-CN" sz="2400" spc="-1" strike="noStrike">
                <a:solidFill>
                  <a:srgbClr val="0066ff"/>
                </a:solidFill>
                <a:latin typeface="Arial"/>
                <a:ea typeface="幼圆"/>
              </a:rPr>
              <a:t>纵观历史上发生的踩踏事件大都会造成严重的人员伤    亡，轻者造成交通混乱。重则严重影响社会治安秩序，造成极坏的群众影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0" dur="2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2" dur="2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66ffff"/>
                </a:solidFill>
                <a:latin typeface="Arial"/>
              </a:rPr>
              <a:t>踩踏常发生在人多，密度大的地方，如广场，车站，学校…</a:t>
            </a:r>
            <a:r>
              <a:rPr b="0" lang="zh-CN" sz="3200" spc="-1" strike="noStrike">
                <a:solidFill>
                  <a:srgbClr val="66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66ffff"/>
                </a:solidFill>
                <a:latin typeface="Arial"/>
              </a:rPr>
              <a:t>下面就是自救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新宋体"/>
              </a:rPr>
              <a:t>（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新宋体"/>
              </a:rPr>
              <a:t>1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新宋体"/>
              </a:rPr>
              <a:t>）举止文明，人多的时候不拥挤、不起哄、不制造紧张或恐慌气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新宋体"/>
              </a:rPr>
              <a:t>（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新宋体"/>
              </a:rPr>
              <a:t>2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新宋体"/>
              </a:rPr>
              <a:t>）尽量避免到拥挤的人群中，不得已时，尽量走在人流的边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新宋体"/>
              </a:rPr>
              <a:t>（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新宋体"/>
              </a:rPr>
              <a:t>3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新宋体"/>
              </a:rPr>
              <a:t>）发觉拥挤的人群向自己行走的方向来时，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应立即避到一旁，不要慌乱，不要奔跑，避免摔倒</a:t>
            </a:r>
            <a:r>
              <a:rPr b="0" lang="zh-CN" sz="2800" spc="-1" strike="noStrike">
                <a:solidFill>
                  <a:srgbClr val="3366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6" dur="2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0" dur="2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4" dur="2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）假如陷入拥挤的人流时，一定要先站稳，身体不要倾斜失去重心，即使鞋子被踩掉，也不要弯腰捡鞋子或系鞋带。有可能的话，可先尽快抓住坚固可靠的东西慢慢走动或停住，待人群过去后再迅速离开现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）若自己不幸被人群拥倒后，要设法靠近墙角，身体蜷成球状，双手在颈后紧扣以保护身体最脆弱的部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7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）在人群中走动，遇到台阶或楼梯时，尽量抓住扶手，防止摔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溺水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据调查，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60%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未成年死亡都是溺水引起，随着夏季的到来这类事故即将出现大的上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0" lang="zh-CN" sz="4800" spc="-1" strike="noStrike">
                <a:solidFill>
                  <a:srgbClr val="ffff00"/>
                </a:solidFill>
                <a:latin typeface="Arial"/>
              </a:rPr>
              <a:t>不能这样做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1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不能在未开放的场所游泳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2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不能不做热身就游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3.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不能在身体有不适时游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幼圆"/>
              </a:rPr>
              <a:t>                 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幼圆"/>
              </a:rPr>
              <a:t>救援他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ps.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不要自己去搭救他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1.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使用长竹竿，漂浮物等进行救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2.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迅速求助身边的大人朋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3.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打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119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幼圆"/>
              </a:rPr>
              <a:t>求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zh-CN" sz="4400" spc="-1" strike="noStrike">
                <a:solidFill>
                  <a:srgbClr val="009999"/>
                </a:solidFill>
                <a:latin typeface="Arial"/>
                <a:ea typeface="微软雅黑"/>
              </a:rPr>
              <a:t>分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ccff"/>
                </a:solidFill>
                <a:latin typeface="Arial"/>
              </a:rPr>
              <a:t>·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地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火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踩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溺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00400" y="5335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81280" y="533520"/>
            <a:ext cx="2057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感谢观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 rot="10800000">
            <a:off x="380880" y="-720"/>
            <a:ext cx="76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zh-CN" sz="4400" spc="-1" strike="noStrike">
                <a:solidFill>
                  <a:srgbClr val="333399"/>
                </a:solidFill>
                <a:latin typeface="Arial"/>
                <a:ea typeface="微软雅黑"/>
              </a:rPr>
              <a:t>地震的危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000" spc="-1" strike="noStrike">
                <a:solidFill>
                  <a:srgbClr val="009900"/>
                </a:solidFill>
                <a:latin typeface="楷体"/>
                <a:ea typeface="楷体"/>
              </a:rPr>
              <a:t>建筑物与构筑物的破坏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9900"/>
                </a:solidFill>
                <a:latin typeface="楷体"/>
                <a:ea typeface="楷体"/>
              </a:rPr>
              <a:t>   </a:t>
            </a:r>
            <a:r>
              <a:rPr b="0" lang="zh-CN" sz="2000" spc="-1" strike="noStrike">
                <a:solidFill>
                  <a:srgbClr val="009900"/>
                </a:solidFill>
                <a:latin typeface="楷体"/>
                <a:ea typeface="楷体"/>
              </a:rPr>
              <a:t>如房屋倒塌、桥梁断落、水坝开裂、铁轨变形</a:t>
            </a:r>
            <a:r>
              <a:rPr b="0" lang="zh-CN" sz="2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99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9900"/>
                </a:solidFill>
                <a:latin typeface="Arial"/>
                <a:ea typeface="楷体"/>
              </a:rPr>
              <a:t>火灾，由震后火源失控引起；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2000" spc="-1" strike="noStrike">
                <a:solidFill>
                  <a:srgbClr val="009900"/>
                </a:solidFill>
                <a:latin typeface="Arial"/>
                <a:ea typeface="楷体"/>
              </a:rPr>
              <a:t>水灾，由水坝决口或山崩壅塞河道等引起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9900"/>
                </a:solidFill>
                <a:latin typeface="Arial"/>
                <a:ea typeface="楷体"/>
              </a:rPr>
              <a:t> </a:t>
            </a:r>
            <a:br>
              <a:rPr sz="2000"/>
            </a:br>
            <a:r>
              <a:rPr b="0" lang="zh-CN" sz="2000" spc="-1" strike="noStrike">
                <a:solidFill>
                  <a:srgbClr val="009900"/>
                </a:solidFill>
                <a:latin typeface="Arial"/>
                <a:ea typeface="楷体"/>
              </a:rPr>
              <a:t>毒气泄漏，由建筑物或装置破坏等引起；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9900"/>
                </a:solidFill>
                <a:latin typeface="Arial"/>
                <a:ea typeface="楷体"/>
              </a:rPr>
              <a:t>     </a:t>
            </a:r>
            <a:r>
              <a:rPr b="0" lang="zh-CN" sz="2000" spc="-1" strike="noStrike">
                <a:solidFill>
                  <a:srgbClr val="009900"/>
                </a:solidFill>
                <a:latin typeface="Arial"/>
                <a:ea typeface="楷体"/>
              </a:rPr>
              <a:t>瘟疫，由震后生存环境的严重破坏所引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5400" spc="-1" strike="noStrike">
                <a:solidFill>
                  <a:srgbClr val="ff9900"/>
                </a:solidFill>
                <a:latin typeface="黑体"/>
                <a:ea typeface="黑体"/>
              </a:rPr>
              <a:t>地震来临时我们该怎                                               样自救呢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幼圆"/>
              </a:rPr>
              <a:t>错误的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幼圆"/>
                <a:ea typeface="幼圆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跳窗逃生          </a:t>
            </a: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搭电梯逃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733560" cy="2817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486400" y="2057400"/>
            <a:ext cx="2762280" cy="2743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幼圆"/>
              </a:rPr>
              <a:t>错误的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幼圆"/>
                <a:ea typeface="幼圆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跳窗逃生          </a:t>
            </a: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搭电梯逃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33520" y="1828800"/>
            <a:ext cx="3733560" cy="2817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幼圆"/>
              </a:rPr>
              <a:t>错误的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幼圆"/>
                <a:ea typeface="幼圆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跳窗逃生          </a:t>
            </a: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搭电梯逃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533520" y="1828800"/>
            <a:ext cx="3733560" cy="2817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幼圆"/>
              </a:rPr>
              <a:t>错误的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幼圆"/>
                <a:ea typeface="幼圆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跳窗逃生          </a:t>
            </a: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搭电梯逃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边才能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边是在作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9999"/>
                </a:solidFill>
                <a:latin typeface="Arial"/>
              </a:rPr>
              <a:t>火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2400" spc="-1" strike="noStrike">
                <a:solidFill>
                  <a:srgbClr val="009900"/>
                </a:solidFill>
                <a:latin typeface="Arial"/>
                <a:ea typeface="微软雅黑"/>
              </a:rPr>
              <a:t>火灾是一种自然或人为的自然灾害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00"/>
                </a:solidFill>
                <a:latin typeface="Arial"/>
                <a:ea typeface="微软雅黑"/>
              </a:rPr>
              <a:t>                      </a:t>
            </a:r>
            <a:r>
              <a:rPr b="0" lang="zh-CN" sz="2400" spc="-1" strike="noStrike">
                <a:solidFill>
                  <a:srgbClr val="009900"/>
                </a:solidFill>
                <a:latin typeface="Arial"/>
                <a:ea typeface="微软雅黑"/>
              </a:rPr>
              <a:t>同时会造成巨大的损失，但如果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00"/>
                </a:solidFill>
                <a:latin typeface="Arial"/>
                <a:ea typeface="微软雅黑"/>
              </a:rPr>
              <a:t>                      </a:t>
            </a:r>
            <a:r>
              <a:rPr b="0" lang="zh-CN" sz="2400" spc="-1" strike="noStrike">
                <a:solidFill>
                  <a:srgbClr val="009900"/>
                </a:solidFill>
                <a:latin typeface="Arial"/>
                <a:ea typeface="微软雅黑"/>
              </a:rPr>
              <a:t>早发现并扑灭就可以减损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黑体"/>
                <a:ea typeface="黑体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黑体"/>
                <a:ea typeface="黑体"/>
              </a:rPr>
              <a:t>     </a:t>
            </a:r>
            <a:r>
              <a:rPr b="0" lang="zh-CN" sz="4000" spc="-1" strike="noStrike">
                <a:solidFill>
                  <a:srgbClr val="ff9900"/>
                </a:solidFill>
                <a:latin typeface="黑体"/>
                <a:ea typeface="黑体"/>
              </a:rPr>
              <a:t>Q:</a:t>
            </a:r>
            <a:r>
              <a:rPr b="0" lang="zh-CN" sz="4000" spc="-1" strike="noStrike">
                <a:solidFill>
                  <a:srgbClr val="ff9900"/>
                </a:solidFill>
                <a:latin typeface="黑体"/>
                <a:ea typeface="黑体"/>
              </a:rPr>
              <a:t>遇到火情该怎么办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2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1T13:23:01Z</dcterms:created>
  <dc:creator>Administrator</dc:creator>
  <dc:description/>
  <dc:language>en-US</dc:language>
  <cp:lastModifiedBy>User</cp:lastModifiedBy>
  <dcterms:modified xsi:type="dcterms:W3CDTF">2015-04-02T14:46:0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