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1D7F-9F0F-4CB4-9C2A-7DCBA91994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20" y="397404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11A2-261D-4ABC-9E23-7C4B0C63A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FF50-22B7-4CBB-9575-0F2B58D60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388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464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312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388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464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BAB8E-07F7-45B8-B820-D50C7510F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3120" y="1341000"/>
            <a:ext cx="78692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786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36360" y="115560"/>
            <a:ext cx="723564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3120" y="1341000"/>
            <a:ext cx="78692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0EDC-9584-4C20-A895-9D8A3AADE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548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3120" y="397404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548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2388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4640" y="134100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312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2388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4640" y="3974040"/>
            <a:ext cx="25336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786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7104-A01D-417D-B580-456D98BD0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DA20-ED1F-4DE8-8E15-442D8C7780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DC87-BCCA-402B-9BA6-1F2499879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6360" y="115560"/>
            <a:ext cx="723564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D9B7E-77AE-432E-A18C-3302C0ED1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ADED6-DD4B-4802-9ABF-CE4645DE2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7404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76D9-353A-460F-9DF2-E22DDD569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312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341000"/>
            <a:ext cx="38401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3120" y="3974040"/>
            <a:ext cx="78692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678C-8683-415A-8909-D5949246E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979640" y="260280"/>
            <a:ext cx="5581800" cy="743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236000" y="17640"/>
            <a:ext cx="1909440" cy="68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6360" y="115560"/>
            <a:ext cx="723564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63120" y="1341000"/>
            <a:ext cx="78692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244000" y="645300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61BE-6727-493C-97D9-1A5587C36982}" type="slidenum"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&lt;number&gt;</a:t>
            </a:fld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/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8680" y="4149720"/>
            <a:ext cx="1832040" cy="2158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1197000"/>
            <a:ext cx="6443640" cy="223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" y="1988640"/>
            <a:ext cx="63374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675640" y="6416640"/>
            <a:ext cx="457200" cy="441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6400800" y="0"/>
            <a:ext cx="2743200" cy="3746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268360" y="4640400"/>
            <a:ext cx="6851880" cy="1596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1988640"/>
            <a:ext cx="6337440" cy="9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ww.pptbz.co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8760" y="1720800"/>
            <a:ext cx="30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04:25:32Z</dcterms:created>
  <dc:creator>CCU</dc:creator>
  <dc:description/>
  <cp:keywords/>
  <dc:language>en-US</dc:language>
  <cp:lastModifiedBy>微软用户</cp:lastModifiedBy>
  <cp:lastPrinted>1899-12-30T00:00:00Z</cp:lastPrinted>
  <dcterms:modified xsi:type="dcterms:W3CDTF">2010-07-14T02:29:37Z</dcterms:modified>
  <cp:revision>83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