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whoosh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AF9-5A9E-4E62-99E8-4983F80E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D42-9916-4475-A7CB-5B77E93C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BF3-CD50-47CC-87EE-B3885143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F9F-BBD5-42D5-BC53-D9FEEB0C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2403-182A-487D-B542-06562BC1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0853-5F37-4903-9558-1C76664B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4A00-1F21-4C25-86E0-AF5506C4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D1D9-8646-4103-93DB-68382966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82CE-ADC5-47BB-9257-818655B3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5B0A-0DD5-4793-840D-E0648CD4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7FEE-DE7B-42E1-A10C-6962419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F7D-C0B1-481C-87C1-82551F83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B1EE-A5ED-461A-B029-652DF050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0C2A-A849-4FCB-A2D6-63F3D50F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ED50-AD57-4186-99D2-8A72EB59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CB41-92B8-4D69-BE86-B8A410D0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6CB8-E6CF-4BE8-BD49-2FCA60DE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611-6E76-449E-A497-4ED0ECF3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31C-AFED-45FC-823F-301E9AAC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31F-0D0D-403F-A878-9913594C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95E-9E6C-4A41-AE47-9C9A3F07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B81-2CC5-44E0-A61C-AACB8D2F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D99-6BCE-4850-B48A-96A0A553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7CE-D397-4A1D-8C4A-01392C7E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8667-17DA-4835-8C7B-87C4EEDDADD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99DE-0EF1-4A1F-8476-FE06BCAEB3A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990720"/>
            <a:ext cx="4876560" cy="188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珍爱生命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3200400"/>
            <a:ext cx="2438280" cy="20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拒绝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5257800" y="335268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9AD-F1B5-414B-AC16-0A16CF7589FA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23880" y="252360"/>
            <a:ext cx="662940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148-1735-4817-910C-68B52B9B070D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252360"/>
            <a:ext cx="5715000" cy="635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B94-12EF-4467-89DF-94A33F8DECCD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334120" cy="533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F00-C798-4AED-AEDD-FB48D95E4207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343400" cy="46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34A-BEBA-4390-9B35-D1AF23AB367E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502920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7DB-59BE-47E4-974A-98A00BA35444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05120" y="762120"/>
            <a:ext cx="487656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50C-EB17-4428-A579-A6543B165E5F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27880" y="701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抢答题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0680" y="176832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我们班主任在班会之初所朗读的诗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题目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1400" y="30700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是：《拒绝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72000" y="35481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青少年要拒绝毒品，首先要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44040" y="42274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拒绝抽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25480" y="42274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拒绝交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56280" y="41911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拒绝用精神科药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26640" y="4876920"/>
            <a:ext cx="292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国内外的调查显示，吸毒人员绝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多数集中会么年龄之间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82200" y="60562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青少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11000" y="603396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中壮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6019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老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482-4683-4031-89C8-BFEB051AAB79}" type="slidenum">
              <a:t>16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169880" y="88092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东南亚的毒品主要产地是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4000" y="15238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香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4200" y="15606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越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8560" y="15606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金三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23360" y="2557440"/>
            <a:ext cx="35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一旦吸毒，等于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5080" y="34290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坐上了东方快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1080" y="34434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坐上了死亡列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89360" y="3429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坐上了网际快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95200" y="400536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下面的那种药物不是麻醉药品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77560" y="49132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吗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79480" y="487692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咖啡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26040" y="48769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感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FB4-A8F3-4FB4-884D-917C65DB9AF1}" type="slidenum">
              <a:t>17</a:t>
            </a:fld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28480" y="1109520"/>
            <a:ext cx="64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专家认为：一次吸毒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_____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51840" y="2093760"/>
            <a:ext cx="8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十月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戒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26040" y="2170080"/>
            <a:ext cx="11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十年戒 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3160" y="2170080"/>
            <a:ext cx="11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 终身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戒 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57480" y="2666880"/>
            <a:ext cx="487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毒品的毒瘾分生理上和心理上的两种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从理论上讲，多长时间可以脱离生理毒瘾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39480" y="40752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周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9160" y="405288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年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64120" y="405288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一生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84040" y="4614840"/>
            <a:ext cx="437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多长时间可以脱离心理毒瘾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83920" y="548640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周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65000" y="5334120"/>
            <a:ext cx="4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二年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55920" y="53481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、一生时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C88-BE89-4DCE-B0EB-28C4F15E6FF1}" type="slidenum">
              <a:t>18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79960" y="1220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请班主任总结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4920" y="26971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Arial"/>
                <a:ea typeface="隶书"/>
              </a:rPr>
              <a:t>珍爱生命，拒绝毒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6D0-1419-4563-88E4-37E30A8A13B3}" type="slidenum">
              <a:t>19</a:t>
            </a:fld>
          </a:p>
        </p:txBody>
      </p:sp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8480" y="8604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你是否听见远方的死亡的喧嚣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31360" y="13176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你是否听见从火海和毒云中传来的呼叫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18800" y="250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拒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16760" y="217008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仿佛还听到鸦片战争的枪声还在耳边回响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2920" y="251460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依稀看到，从虎门海滩上升起的缕缕白烟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15320" y="320040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世界上所有白色的无知正在潜滋味暗长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69600" y="35193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世界上所有黑色的邪恶已经泛滥成灾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14560" y="4052880"/>
            <a:ext cx="39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每天遇到罪孽，遇见死亡；它们象云块掠过我们的世界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83760" y="4419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一倏忽即逝的闪电狂笑来对我们嘲弄。人们必须站在它们面前，说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35320" y="49528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不怕你，嗨，魔鬼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707-F117-472B-85D0-B25305CEBE5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26800" y="12477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谢谢各位领导、老师来我们班指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我们上课！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B69-3C53-4C5D-A488-1504CC791077}" type="slidenum">
              <a:t>20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98760" y="108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1720" y="7984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全凭信念征服你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45120" y="125568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活过了一天又一天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9960" y="182880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即使暂时失败，也抱着坚定的信念；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360" y="23986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和平是真实的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360" y="316080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和平是真实的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0080" y="39988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我们的未来是真实的！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B9C-8616-40FA-8D4F-BEEE970DE96F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17320" y="12351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发言：我们所认识的毒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91CD-5AD0-44F8-9F48-659AD8A24E97}" type="slidenum">
              <a:t>4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65960" y="10825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发言：毒品离我们有多远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9D0-C22C-4EDC-AF34-5D49CE6C4E33}" type="slidenum">
              <a:t>5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77840" y="1492200"/>
            <a:ext cx="523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发言：</a:t>
            </a:r>
            <a:r>
              <a:rPr b="0" lang="zh-CN" sz="3600" spc="-1" strike="noStrike">
                <a:solidFill>
                  <a:srgbClr val="ffffff"/>
                </a:solidFill>
                <a:latin typeface="_x000b__x000c_"/>
              </a:rPr>
              <a:t>让我们坚决地对毒品说声“不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1AD-7AC8-40D1-AD26-19E7AD9F2D7E}" type="slidenum">
              <a:t>6</a:t>
            </a:fld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27040" y="1447920"/>
            <a:ext cx="80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命如此可贵，请我们同学高奏一曲生命之最强音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6320" y="306396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渔洲唱晚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8040" y="40543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演奏者：关盼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101-39EB-4647-999B-1915821D9B86}" type="slidenum">
              <a:t>7</a:t>
            </a:fld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899720" y="1371600"/>
            <a:ext cx="540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聪明的朋友，你能理解下面的图片所蕴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意思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898-06A4-4788-AFD9-44A87A48E633}" type="slidenum">
              <a:t>8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76520" y="399960"/>
            <a:ext cx="556236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EA9-EC78-46E1-9588-B8F38A3C9944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07:36:10Z</dcterms:created>
  <dc:creator>lszjks - www.k12zy.com</dc:creator>
  <dc:description>中小学教育资源交流中心  www.k12zy.com  免费教案、课件、试题、论文、素材等教育资源下载。</dc:description>
  <cp:keywords>中小学教育资源交流中心/www.k12zy.com/教案/课件/试题/论文/素材/教育资源/下载</cp:keywords>
  <dc:language>en-US</dc:language>
  <cp:lastModifiedBy>Sky123.Org</cp:lastModifiedBy>
  <dcterms:modified xsi:type="dcterms:W3CDTF">2015-10-26T05:55:26Z</dcterms:modified>
  <cp:revision>21</cp:revision>
  <dc:subject/>
  <dc:title>中小学心理健康教育活动课  - www.k12zy.com 中小学教育资源 提供</dc:title>
</cp:coreProperties>
</file>