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chimes.wav" ContentType="audio/x-wav"/>
  <Override PartName="/ppt/media/image8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3A1-13A5-43CD-864B-8B0E09C0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E68-C198-4717-8000-98D77F5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C8C-EE8E-4593-A9E9-810E5311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9F6-74AE-4B90-BFFB-9CE7178B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50C-D7D7-463C-96ED-7AF123B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BED-D2F0-4C73-8435-72715117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889-D65F-4BB3-B980-441E473D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D8D-0D4A-42F9-81DA-F0C8FD36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9C7-AD89-4662-8883-B35046E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14B-63E1-4511-8459-AF8F778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460-CAAD-45D4-92EA-C5584CD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447-45BB-4553-ACFD-A3BCFAB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234-5500-44E0-9EFE-0B2E87388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" Target="slide20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赵静-念故乡.wma" descr=""/>
          <p:cNvPicPr/>
          <p:nvPr/>
        </p:nvPicPr>
        <p:blipFill>
          <a:blip r:embed="rId2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79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80" name="Freeform 3"/>
          <p:cNvSpPr/>
          <p:nvPr/>
        </p:nvSpPr>
        <p:spPr>
          <a:xfrm>
            <a:off x="3929040" y="1832040"/>
            <a:ext cx="200160" cy="178128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4049640" y="1698480"/>
            <a:ext cx="1170000" cy="201780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4068720" y="2262240"/>
            <a:ext cx="689040" cy="1760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4068720" y="2693880"/>
            <a:ext cx="731880" cy="1573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4035600" y="3165480"/>
            <a:ext cx="887400" cy="1760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87" name="Freeform 3"/>
          <p:cNvSpPr/>
          <p:nvPr/>
        </p:nvSpPr>
        <p:spPr>
          <a:xfrm>
            <a:off x="3552840" y="1600200"/>
            <a:ext cx="1290600" cy="21589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3422520" y="2536920"/>
            <a:ext cx="2303640" cy="3985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3848040" y="2287440"/>
            <a:ext cx="371520" cy="28440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3933720" y="1886040"/>
            <a:ext cx="451080" cy="28080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4859280" y="3068640"/>
            <a:ext cx="682560" cy="6350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042920" y="260280"/>
            <a:ext cx="6858000" cy="5943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987640" y="112536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静夜思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658320" y="2259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床前明月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543560" y="31240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地上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658320" y="40384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举头望明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529160" y="49417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头思故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4508640"/>
            <a:ext cx="63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床前明月光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疑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是地上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  <p:sp>
        <p:nvSpPr>
          <p:cNvPr id="10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无标题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617600" y="60213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地上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20090318112028822"/>
          <p:cNvPicPr/>
          <p:nvPr/>
        </p:nvPicPr>
        <p:blipFill>
          <a:blip r:embed="rId1"/>
          <a:stretch/>
        </p:blipFill>
        <p:spPr>
          <a:xfrm>
            <a:off x="0" y="2349360"/>
            <a:ext cx="8893080" cy="4292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050920" y="836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050920" y="189000"/>
            <a:ext cx="54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举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头望明月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低头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思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故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385128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4716360" y="90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6"/>
          <p:cNvSpPr/>
          <p:nvPr/>
        </p:nvSpPr>
        <p:spPr>
          <a:xfrm>
            <a:off x="3780000" y="836640"/>
            <a:ext cx="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2"/>
          <p:cNvSpPr/>
          <p:nvPr/>
        </p:nvSpPr>
        <p:spPr>
          <a:xfrm>
            <a:off x="38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思乡曲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9784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571760" y="1571760"/>
            <a:ext cx="61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望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月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抬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月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928880" y="1571760"/>
            <a:ext cx="557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头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头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李白望月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643280" y="836640"/>
            <a:ext cx="304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724360" y="1204920"/>
            <a:ext cx="34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静夜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床 前 明 月 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疑 是 地 上 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举 头 望 明 月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低 头 思 故 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22600" y="5589720"/>
            <a:ext cx="67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udou.com/programs/view/c71FOxFben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411280" y="0"/>
            <a:ext cx="60850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静夜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床 前 明 月 光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疑 是 地 上 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举 头 望 明 月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低 头 思 故 乡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H="1">
            <a:off x="4140000" y="2349360"/>
            <a:ext cx="21564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4140000" y="371628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 flipH="1">
            <a:off x="5003640" y="494172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 flipH="1">
            <a:off x="4066920" y="602136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4140360" y="4869000"/>
            <a:ext cx="28728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0"/>
          <p:cNvSpPr/>
          <p:nvPr/>
        </p:nvSpPr>
        <p:spPr>
          <a:xfrm flipH="1">
            <a:off x="5148360" y="6093000"/>
            <a:ext cx="71280" cy="57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思乡曲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P74静夜思">
            <a:hlinkClick r:id="rId3" action="ppaction://hlinksldjump"/>
          </p:cNvPr>
          <p:cNvPicPr/>
          <p:nvPr/>
        </p:nvPicPr>
        <p:blipFill>
          <a:blip r:embed="rId4"/>
          <a:srcRect l="44474" t="11182" r="11106" b="0"/>
          <a:stretch/>
        </p:blipFill>
        <p:spPr>
          <a:xfrm>
            <a:off x="7272360" y="261000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3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9784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93680" y="1541520"/>
            <a:ext cx="33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床前明月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疑是地上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042920" y="285264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举头望明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低头思故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042920" y="260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静夜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627280" y="105264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571680" y="1093320"/>
            <a:ext cx="8286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静夜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             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床前明（      ）光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疑是地（      ）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举头望明（      ）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低（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002060"/>
                </a:solidFill>
                <a:latin typeface="Times New Roman"/>
              </a:rPr>
              <a:t> ）思故乡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357800" y="2571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929120" y="40006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357800" y="328608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143160" y="47862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43120" y="32846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780000" y="32846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848200" y="321300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816200" y="39322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3"/>
          <p:cNvSpPr/>
          <p:nvPr/>
        </p:nvSpPr>
        <p:spPr>
          <a:xfrm>
            <a:off x="3768840" y="1631880"/>
            <a:ext cx="1649160" cy="2984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4140360" y="1827360"/>
            <a:ext cx="153720" cy="12110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4213080" y="2498760"/>
            <a:ext cx="492120" cy="13500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3354480" y="2789280"/>
            <a:ext cx="2417760" cy="4255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4243320" y="2122560"/>
            <a:ext cx="444600" cy="13968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4789440" y="1808280"/>
            <a:ext cx="214200" cy="220176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161" name="Freeform 29"/>
          <p:cNvSpPr/>
          <p:nvPr/>
        </p:nvSpPr>
        <p:spPr>
          <a:xfrm>
            <a:off x="4500720" y="1681200"/>
            <a:ext cx="258480" cy="22939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4056120" y="2143080"/>
            <a:ext cx="287280" cy="3254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31"/>
          <p:cNvSpPr/>
          <p:nvPr/>
        </p:nvSpPr>
        <p:spPr>
          <a:xfrm>
            <a:off x="3551400" y="2666880"/>
            <a:ext cx="1071360" cy="100332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32"/>
          <p:cNvSpPr/>
          <p:nvPr/>
        </p:nvSpPr>
        <p:spPr>
          <a:xfrm>
            <a:off x="4622760" y="2666880"/>
            <a:ext cx="1368360" cy="90324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33"/>
          <p:cNvSpPr/>
          <p:nvPr/>
        </p:nvSpPr>
        <p:spPr>
          <a:xfrm>
            <a:off x="3757680" y="2498760"/>
            <a:ext cx="1700280" cy="32868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4"/>
          <p:cNvSpPr/>
          <p:nvPr/>
        </p:nvSpPr>
        <p:spPr>
          <a:xfrm>
            <a:off x="4830840" y="1957320"/>
            <a:ext cx="504720" cy="468360"/>
          </a:xfrm>
          <a:prstGeom prst="pie">
            <a:avLst/>
          </a:pr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0" y="119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古诗中的月</a:t>
            </a:r>
            <a:r>
              <a:rPr b="0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露从今夜白，月是故乡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海上生明月，天涯共此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张九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但愿人长久，千里共婵娟（婵娟：指月亮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小时不识月，呼作白玉盘。又疑瑶台镜，飞在青云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李白像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215040" y="1071720"/>
            <a:ext cx="242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国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唐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著名的诗人。他一生写了很多古诗，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首，他的诗歌想象奇特、风格豪放，是我国历史上伟大的浪漫主义诗人，被称为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诗仙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eijing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80400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654200" y="189000"/>
            <a:ext cx="74898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ìng  yè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 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chu</a:t>
            </a:r>
            <a:r>
              <a:rPr b="1" lang="en-US" sz="20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g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í      shì     dì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 sh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疑  是  地  上  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ǔ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明  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tóu  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ī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 gù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未命名.jpg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143240"/>
          </a:xfrm>
          <a:prstGeom prst="rect">
            <a:avLst/>
          </a:prstGeom>
          <a:ln w="0">
            <a:noFill/>
          </a:ln>
        </p:spPr>
      </p:pic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ā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ì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ǎn    m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uá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yu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u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          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ǐ       m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yuǎ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àng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ītó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        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头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低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i       ji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i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         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          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起        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头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望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低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         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285920" y="178596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静 夜 床 光 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57200" y="350028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 望 低 故 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332000" y="170028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静 夜 床 光 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332000" y="350028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 望 低 故 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5651640" y="3789360"/>
            <a:ext cx="649080" cy="7192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0:39:13Z</dcterms:created>
  <dc:creator>Lixun</dc:creator>
  <dc:description/>
  <dc:language>en-US</dc:language>
  <cp:lastModifiedBy>Administrator</cp:lastModifiedBy>
  <dcterms:modified xsi:type="dcterms:W3CDTF">2014-09-02T07:09:40Z</dcterms:modified>
  <cp:revision>62</cp:revision>
  <dc:subject/>
  <dc:title>没有幻灯片标题</dc:title>
</cp:coreProperties>
</file>