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83F5-1F05-4760-BBDC-24586687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C1E6-A1F7-49DB-A016-6D4CD3F2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892-FFEC-4208-ACB0-0FF15CF9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439-B5E5-4CEE-A5CE-38EEF20B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9E2-A502-4007-B38B-B12E9B4E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B7A-AA1A-4659-A650-B2BE9A0E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0A8-1D37-4522-8B53-6AE862AA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C86-6748-489E-B00B-6DE86C5F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117-88D5-4445-A5CC-E3F61DFC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F70-636F-426E-A00D-AE2DE3E7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E51-765D-4053-B8B3-9B93912B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FEE-63A7-4E76-852B-E41F679C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0DD-FA56-4F2A-AE80-8B2457A2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275-3203-4762-A693-D12D9BB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349A-B73A-4FCA-BBDB-BE82B4CFE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38745;&#22812;&#24605;&#29983;&#23383;.exe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1979640" y="249228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771640" y="335772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181320" y="2492280"/>
            <a:ext cx="322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说说你见过的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无标题2"/>
          <p:cNvPicPr/>
          <p:nvPr/>
        </p:nvPicPr>
        <p:blipFill>
          <a:blip r:embed="rId2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17600" y="602136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地上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3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435120" y="2803680"/>
            <a:ext cx="310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用动作表示“举头”、“低头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无标题3"/>
          <p:cNvPicPr/>
          <p:nvPr/>
        </p:nvPicPr>
        <p:blipFill>
          <a:blip r:embed="rId2"/>
          <a:stretch/>
        </p:blipFill>
        <p:spPr>
          <a:xfrm>
            <a:off x="324000" y="260280"/>
            <a:ext cx="8820000" cy="6615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268360" y="807840"/>
            <a:ext cx="5040360" cy="56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静 夜 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床  前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/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明  月  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疑  是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/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地  上  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举  头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/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望  明  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低  头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/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思  故  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配乐诗.mp3" descr=""/>
          <p:cNvPicPr/>
          <p:nvPr/>
        </p:nvPicPr>
        <p:blipFill>
          <a:blip r:embed="rId3"/>
          <a:stretch/>
        </p:blipFill>
        <p:spPr>
          <a:xfrm>
            <a:off x="7885080" y="5661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9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2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5023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2"/>
          </p:cNvPr>
          <p:cNvSpPr/>
          <p:nvPr/>
        </p:nvSpPr>
        <p:spPr>
          <a:xfrm>
            <a:off x="4067280" y="501336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7301"/>
                </a:moveTo>
                <a:lnTo>
                  <a:pt x="15501" y="7301"/>
                </a:lnTo>
                <a:lnTo>
                  <a:pt x="15884" y="7667"/>
                </a:lnTo>
                <a:lnTo>
                  <a:pt x="25093" y="7667"/>
                </a:lnTo>
                <a:lnTo>
                  <a:pt x="25650" y="8224"/>
                </a:lnTo>
                <a:lnTo>
                  <a:pt x="25650" y="8772"/>
                </a:lnTo>
                <a:lnTo>
                  <a:pt x="27495" y="8772"/>
                </a:lnTo>
                <a:lnTo>
                  <a:pt x="27861" y="8224"/>
                </a:lnTo>
                <a:lnTo>
                  <a:pt x="28600" y="8224"/>
                </a:lnTo>
                <a:lnTo>
                  <a:pt x="28600" y="13376"/>
                </a:lnTo>
                <a:lnTo>
                  <a:pt x="27861" y="13376"/>
                </a:lnTo>
                <a:lnTo>
                  <a:pt x="27495" y="12828"/>
                </a:lnTo>
                <a:lnTo>
                  <a:pt x="25650" y="12828"/>
                </a:lnTo>
                <a:lnTo>
                  <a:pt x="25650" y="14107"/>
                </a:lnTo>
                <a:lnTo>
                  <a:pt x="16067" y="14107"/>
                </a:lnTo>
                <a:lnTo>
                  <a:pt x="16067" y="9877"/>
                </a:lnTo>
                <a:lnTo>
                  <a:pt x="15884" y="9877"/>
                </a:lnTo>
                <a:lnTo>
                  <a:pt x="15501" y="10243"/>
                </a:lnTo>
                <a:lnTo>
                  <a:pt x="14588" y="10243"/>
                </a:lnTo>
                <a:close/>
              </a:path>
            </a:pathLst>
          </a:custGeom>
          <a:solidFill>
            <a:srgbClr val="bbe0e3">
              <a:alpha val="46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181400" y="602136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动画演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904560" y="714240"/>
            <a:ext cx="1826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61f"/>
                </a:solidFill>
                <a:latin typeface="Arial"/>
                <a:ea typeface="楷体_GB2312"/>
              </a:rPr>
              <a:t>会写的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2411280" y="2924280"/>
            <a:ext cx="4897440" cy="1260360"/>
            <a:chOff x="2411280" y="2924280"/>
            <a:chExt cx="4897440" cy="1260360"/>
          </a:xfrm>
        </p:grpSpPr>
        <p:grpSp>
          <p:nvGrpSpPr>
            <p:cNvPr id="100" name="Group 5"/>
            <p:cNvGrpSpPr/>
            <p:nvPr/>
          </p:nvGrpSpPr>
          <p:grpSpPr>
            <a:xfrm>
              <a:off x="3637080" y="2960640"/>
              <a:ext cx="1224000" cy="1224000"/>
              <a:chOff x="3637080" y="2960640"/>
              <a:chExt cx="1224000" cy="1224000"/>
            </a:xfrm>
          </p:grpSpPr>
          <p:sp>
            <p:nvSpPr>
              <p:cNvPr id="101" name="Rectangle 6"/>
              <p:cNvSpPr/>
              <p:nvPr/>
            </p:nvSpPr>
            <p:spPr>
              <a:xfrm>
                <a:off x="3637080" y="296064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7"/>
              <p:cNvSpPr/>
              <p:nvPr/>
            </p:nvSpPr>
            <p:spPr>
              <a:xfrm flipH="1">
                <a:off x="3637080" y="3572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8"/>
              <p:cNvSpPr/>
              <p:nvPr/>
            </p:nvSpPr>
            <p:spPr>
              <a:xfrm>
                <a:off x="424944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9"/>
            <p:cNvGrpSpPr/>
            <p:nvPr/>
          </p:nvGrpSpPr>
          <p:grpSpPr>
            <a:xfrm>
              <a:off x="4860720" y="2960640"/>
              <a:ext cx="1224000" cy="1224000"/>
              <a:chOff x="4860720" y="2960640"/>
              <a:chExt cx="1224000" cy="1224000"/>
            </a:xfrm>
          </p:grpSpPr>
          <p:sp>
            <p:nvSpPr>
              <p:cNvPr id="105" name="Rectangle 10"/>
              <p:cNvSpPr/>
              <p:nvPr/>
            </p:nvSpPr>
            <p:spPr>
              <a:xfrm>
                <a:off x="4861080" y="2960640"/>
                <a:ext cx="122364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1"/>
              <p:cNvSpPr/>
              <p:nvPr/>
            </p:nvSpPr>
            <p:spPr>
              <a:xfrm flipH="1">
                <a:off x="4860720" y="3572640"/>
                <a:ext cx="12236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2"/>
              <p:cNvSpPr/>
              <p:nvPr/>
            </p:nvSpPr>
            <p:spPr>
              <a:xfrm>
                <a:off x="547308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3"/>
            <p:cNvGrpSpPr/>
            <p:nvPr/>
          </p:nvGrpSpPr>
          <p:grpSpPr>
            <a:xfrm>
              <a:off x="6084720" y="2960640"/>
              <a:ext cx="1224000" cy="1224000"/>
              <a:chOff x="6084720" y="2960640"/>
              <a:chExt cx="1224000" cy="1224000"/>
            </a:xfrm>
          </p:grpSpPr>
          <p:sp>
            <p:nvSpPr>
              <p:cNvPr id="109" name="Rectangle 14"/>
              <p:cNvSpPr/>
              <p:nvPr/>
            </p:nvSpPr>
            <p:spPr>
              <a:xfrm>
                <a:off x="6084720" y="296064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5"/>
              <p:cNvSpPr/>
              <p:nvPr/>
            </p:nvSpPr>
            <p:spPr>
              <a:xfrm flipH="1">
                <a:off x="6084720" y="3572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6"/>
              <p:cNvSpPr/>
              <p:nvPr/>
            </p:nvSpPr>
            <p:spPr>
              <a:xfrm>
                <a:off x="669708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5"/>
            <p:cNvGrpSpPr/>
            <p:nvPr/>
          </p:nvGrpSpPr>
          <p:grpSpPr>
            <a:xfrm>
              <a:off x="2411280" y="2960640"/>
              <a:ext cx="1224000" cy="1224000"/>
              <a:chOff x="2411280" y="2960640"/>
              <a:chExt cx="1224000" cy="1224000"/>
            </a:xfrm>
          </p:grpSpPr>
          <p:sp>
            <p:nvSpPr>
              <p:cNvPr id="113" name="Rectangle 26"/>
              <p:cNvSpPr/>
              <p:nvPr/>
            </p:nvSpPr>
            <p:spPr>
              <a:xfrm>
                <a:off x="2411280" y="296064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7"/>
              <p:cNvSpPr/>
              <p:nvPr/>
            </p:nvSpPr>
            <p:spPr>
              <a:xfrm flipH="1">
                <a:off x="2411280" y="3572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8"/>
              <p:cNvSpPr/>
              <p:nvPr/>
            </p:nvSpPr>
            <p:spPr>
              <a:xfrm>
                <a:off x="302364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9"/>
            <p:cNvSpPr/>
            <p:nvPr/>
          </p:nvSpPr>
          <p:spPr>
            <a:xfrm>
              <a:off x="2484360" y="2924280"/>
              <a:ext cx="48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目耳头米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页脚占位符 2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jingyesi.asx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769080" cy="5078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4366080" y="608004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课文视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119480" y="83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课外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332000" y="2766960"/>
            <a:ext cx="7561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看看夜晚的天空，把看到的说给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无标题1"/>
          <p:cNvPicPr/>
          <p:nvPr/>
        </p:nvPicPr>
        <p:blipFill>
          <a:blip r:embed="rId2"/>
          <a:stretch/>
        </p:blipFill>
        <p:spPr>
          <a:xfrm>
            <a:off x="395280" y="297000"/>
            <a:ext cx="8748720" cy="6561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386240" y="771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图片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87280" y="2133720"/>
            <a:ext cx="752508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说说这幅图上画的是什么？看到这幅图，你会想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133360"/>
            <a:ext cx="5616720" cy="197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静夜思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35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653560" y="2778120"/>
            <a:ext cx="475272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思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”，思念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说说诗人在什么时候，思念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283040" y="691920"/>
            <a:ext cx="7349400" cy="617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ìng  yè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静 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chu</a:t>
            </a:r>
            <a:r>
              <a:rPr b="1" lang="en-US" sz="20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qi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g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床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前  明  月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光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í      shì     dì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 sh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疑  是  地  上  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ǔ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举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望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明  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  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gù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xi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低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思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故  乡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静夜思.mp3" descr=""/>
          <p:cNvPicPr/>
          <p:nvPr/>
        </p:nvPicPr>
        <p:blipFill>
          <a:blip r:embed="rId2"/>
          <a:stretch/>
        </p:blipFill>
        <p:spPr>
          <a:xfrm>
            <a:off x="7812000" y="5661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6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560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37360" y="2275920"/>
            <a:ext cx="8163360" cy="322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jìng     yè  </a:t>
            </a:r>
            <a:r>
              <a:rPr b="1" lang="en-US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chu</a:t>
            </a:r>
            <a:r>
              <a:rPr b="1" lang="en-US" sz="32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ng </a:t>
            </a:r>
            <a:r>
              <a:rPr b="1" lang="en-US" sz="3200" spc="-1" strike="noStrike">
                <a:solidFill>
                  <a:srgbClr val="06561f"/>
                </a:solidFill>
                <a:latin typeface="Arial"/>
              </a:rPr>
              <a:t>guāng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j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</a:rPr>
              <a:t>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静   夜   床   光   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tóu    w</a:t>
            </a:r>
            <a:r>
              <a:rPr b="1" lang="en-US" sz="36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ng    d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</a:rPr>
              <a:t>ī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 gù   xi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头   望   低   故   乡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3419640" y="836640"/>
            <a:ext cx="287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楷体_GB2312"/>
              </a:rPr>
              <a:t>会认的字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908000" y="3836160"/>
            <a:ext cx="705672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李白</a:t>
            </a:r>
            <a:r>
              <a:rPr b="1" lang="en-US" sz="3600" spc="-1" strike="noStrike">
                <a:solidFill>
                  <a:srgbClr val="06561f"/>
                </a:solidFill>
                <a:latin typeface="宋体"/>
              </a:rPr>
              <a:t>(701—762)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，字太白，号青莲居士。唐代大诗人。一生中写下了上千首诗歌，其诗风格豪放，想象丰富，语言流畅，是中国文学史上继屈原之后最伟大的浪漫主义诗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314960" y="71136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376880" y="693720"/>
            <a:ext cx="10951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交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748040" y="2924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读课文，互相交流读懂了哪些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User</cp:lastModifiedBy>
  <dcterms:modified xsi:type="dcterms:W3CDTF">2015-08-03T07:57:46Z</dcterms:modified>
  <cp:revision>62</cp:revision>
  <dc:subject/>
  <dc:title>幻灯片 1</dc:title>
</cp:coreProperties>
</file>