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chimes.wav" ContentType="audio/x-wav"/>
  <Override PartName="/ppt/media/image16.jpeg" ContentType="image/jpeg"/>
  <Override PartName="/ppt/media/image9.png" ContentType="image/png"/>
  <Override PartName="/ppt/media/image14.png" ContentType="image/png"/>
  <Override PartName="/ppt/media/image13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789D-4302-438A-BC9C-8DEA935EB4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D822-D6C5-436A-A7AE-3B496FA71F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779-5FB3-406D-B02A-6A028FD6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1B4-E85C-4679-AA5F-0B77A9E7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472-D894-4496-9BC6-AA608DD5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A11-8AE0-404D-B768-0B9C9B97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0F52-14E0-4E47-8A28-EEA75569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ADF0-5616-4429-86EC-90919EEE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3C16-B51C-4A9E-BB72-7D927420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B6A5-20E8-48B1-A979-3092D5DF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30F0-53B8-44FC-8DF4-D9C41FB4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BE93-0FEE-4C80-8496-5BB79CE3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6C99-7E04-4713-BC09-F676F04F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60C-419F-4987-97D7-D7ED77FE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302B-1788-402E-8399-BBB4CBB5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1EBC-606A-4FDF-8403-BC83DFCC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4993-8FB4-4630-AEB3-E8045684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2873-E2B5-4599-8F60-7FE5D318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9C0B-B8E2-4751-B1CB-7EB6F54B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506-BF9B-4E98-A4D0-2665C937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FC3-6A7D-4B9A-9390-007226C0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998-191E-42EC-B921-11EE0252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BC4-FEAB-4F88-8C47-86CA771A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1A5-CB6A-4C87-864F-F7A0CA72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C22-9B10-4296-A2C9-9D0538DD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AAA-45B9-41F5-BCFD-DBBAF1D3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0239-531F-4F4A-8F3D-3881A8103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A6D0-BA43-4371-AE0A-83205619D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700360" y="2565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静夜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788000" y="1989000"/>
            <a:ext cx="43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4788000" y="1197000"/>
            <a:ext cx="435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不识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作白玉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疑瑶台镜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在青云端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859280" y="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古朗月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16720" y="836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2771640" y="189000"/>
            <a:ext cx="6697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明月出天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苍茫云海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403280" y="3213000"/>
            <a:ext cx="6553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举杯邀明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对影成三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P74静夜思">
            <a:hlinkClick r:id="rId1" action="ppaction://hlinksldjump"/>
          </p:cNvPr>
          <p:cNvPicPr/>
          <p:nvPr/>
        </p:nvPicPr>
        <p:blipFill>
          <a:blip r:embed="rId2"/>
          <a:srcRect l="44474" t="11182" r="11106" b="0"/>
          <a:stretch/>
        </p:blipFill>
        <p:spPr>
          <a:xfrm>
            <a:off x="7272360" y="2610000"/>
            <a:ext cx="1871640" cy="424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P75静夜思（月）"/>
          <p:cNvPicPr/>
          <p:nvPr/>
        </p:nvPicPr>
        <p:blipFill>
          <a:blip r:embed="rId3"/>
          <a:srcRect l="0" t="0" r="7818" b="8393"/>
          <a:stretch/>
        </p:blipFill>
        <p:spPr>
          <a:xfrm>
            <a:off x="0" y="0"/>
            <a:ext cx="3166920" cy="1770120"/>
          </a:xfrm>
          <a:prstGeom prst="rect">
            <a:avLst/>
          </a:prstGeom>
          <a:ln w="0">
            <a:noFill/>
          </a:ln>
        </p:spPr>
      </p:pic>
      <p:sp>
        <p:nvSpPr>
          <p:cNvPr id="15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月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162" name="Freeform 29"/>
          <p:cNvSpPr/>
          <p:nvPr/>
        </p:nvSpPr>
        <p:spPr>
          <a:xfrm>
            <a:off x="4500720" y="1681200"/>
            <a:ext cx="258480" cy="229392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0"/>
          <p:cNvSpPr/>
          <p:nvPr/>
        </p:nvSpPr>
        <p:spPr>
          <a:xfrm>
            <a:off x="4056120" y="2143080"/>
            <a:ext cx="287280" cy="32544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1"/>
          <p:cNvSpPr/>
          <p:nvPr/>
        </p:nvSpPr>
        <p:spPr>
          <a:xfrm>
            <a:off x="3551400" y="2666880"/>
            <a:ext cx="1071360" cy="100332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2"/>
          <p:cNvSpPr/>
          <p:nvPr/>
        </p:nvSpPr>
        <p:spPr>
          <a:xfrm>
            <a:off x="4622760" y="2666880"/>
            <a:ext cx="1368360" cy="90324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3"/>
          <p:cNvSpPr/>
          <p:nvPr/>
        </p:nvSpPr>
        <p:spPr>
          <a:xfrm>
            <a:off x="3757680" y="2498760"/>
            <a:ext cx="1700280" cy="32868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4"/>
          <p:cNvSpPr/>
          <p:nvPr/>
        </p:nvSpPr>
        <p:spPr>
          <a:xfrm>
            <a:off x="4830840" y="1957320"/>
            <a:ext cx="504720" cy="46836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图片2"/>
          <p:cNvPicPr/>
          <p:nvPr/>
        </p:nvPicPr>
        <p:blipFill>
          <a:blip r:embed="rId1"/>
          <a:stretch/>
        </p:blipFill>
        <p:spPr>
          <a:xfrm>
            <a:off x="0" y="0"/>
            <a:ext cx="8964720" cy="364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324000" y="3716280"/>
            <a:ext cx="842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外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静夜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背给爸爸妈妈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看看夜晚的天空，把看到的景色画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u=1616958385,1073556860&amp;fm=0&amp;gp=0"/>
          <p:cNvPicPr/>
          <p:nvPr/>
        </p:nvPicPr>
        <p:blipFill>
          <a:blip r:embed="rId1"/>
          <a:stretch/>
        </p:blipFill>
        <p:spPr>
          <a:xfrm>
            <a:off x="2411280" y="692280"/>
            <a:ext cx="3743280" cy="5472000"/>
          </a:xfrm>
          <a:prstGeom prst="rect">
            <a:avLst/>
          </a:prstGeom>
          <a:ln w="0">
            <a:noFill/>
          </a:ln>
        </p:spPr>
      </p:pic>
      <p:sp>
        <p:nvSpPr>
          <p:cNvPr id="1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-1248120"/>
            <a:ext cx="8893080" cy="934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jìng    yè    chu</a:t>
            </a:r>
            <a:r>
              <a:rPr b="1" lang="en-US" sz="44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ng   </a:t>
            </a:r>
            <a:r>
              <a:rPr b="1" lang="en-US" sz="4400" spc="-1" strike="noStrike">
                <a:solidFill>
                  <a:srgbClr val="06561f"/>
                </a:solidFill>
                <a:latin typeface="Arial"/>
              </a:rPr>
              <a:t>guāng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静    夜     床      光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j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</a:rPr>
              <a:t>ǔ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     tóu     w</a:t>
            </a:r>
            <a:r>
              <a:rPr b="1" lang="en-US" sz="48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ng     d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</a:rPr>
              <a:t>ī</a:t>
            </a:r>
            <a:r>
              <a:rPr b="1" lang="en-US" sz="4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举    头      望      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gù       xi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故     乡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shu"/>
          <p:cNvPicPr/>
          <p:nvPr/>
        </p:nvPicPr>
        <p:blipFill>
          <a:blip r:embed="rId1"/>
          <a:stretch/>
        </p:blipFill>
        <p:spPr>
          <a:xfrm>
            <a:off x="179280" y="0"/>
            <a:ext cx="87058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苹果"/>
          <p:cNvPicPr/>
          <p:nvPr/>
        </p:nvPicPr>
        <p:blipFill>
          <a:blip r:embed="rId2"/>
          <a:stretch/>
        </p:blipFill>
        <p:spPr>
          <a:xfrm>
            <a:off x="0" y="0"/>
            <a:ext cx="2195640" cy="1860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苹果"/>
          <p:cNvPicPr/>
          <p:nvPr/>
        </p:nvPicPr>
        <p:blipFill>
          <a:blip r:embed="rId3"/>
          <a:stretch/>
        </p:blipFill>
        <p:spPr>
          <a:xfrm>
            <a:off x="2340000" y="0"/>
            <a:ext cx="2158920" cy="1960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苹果"/>
          <p:cNvPicPr/>
          <p:nvPr/>
        </p:nvPicPr>
        <p:blipFill>
          <a:blip r:embed="rId4"/>
          <a:stretch/>
        </p:blipFill>
        <p:spPr>
          <a:xfrm>
            <a:off x="4572000" y="0"/>
            <a:ext cx="2087640" cy="1859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9280" y="404640"/>
            <a:ext cx="20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安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苹果"/>
          <p:cNvPicPr/>
          <p:nvPr/>
        </p:nvPicPr>
        <p:blipFill>
          <a:blip r:embed="rId5"/>
          <a:stretch/>
        </p:blipFill>
        <p:spPr>
          <a:xfrm>
            <a:off x="2411280" y="2133720"/>
            <a:ext cx="2087640" cy="194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苹果"/>
          <p:cNvPicPr/>
          <p:nvPr/>
        </p:nvPicPr>
        <p:blipFill>
          <a:blip r:embed="rId6"/>
          <a:stretch/>
        </p:blipFill>
        <p:spPr>
          <a:xfrm>
            <a:off x="4716360" y="2349360"/>
            <a:ext cx="2232000" cy="1887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苹果"/>
          <p:cNvPicPr/>
          <p:nvPr/>
        </p:nvPicPr>
        <p:blipFill>
          <a:blip r:embed="rId7"/>
          <a:stretch/>
        </p:blipFill>
        <p:spPr>
          <a:xfrm>
            <a:off x="395280" y="1989000"/>
            <a:ext cx="1908360" cy="1824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苹果"/>
          <p:cNvPicPr/>
          <p:nvPr/>
        </p:nvPicPr>
        <p:blipFill>
          <a:blip r:embed="rId8"/>
          <a:stretch/>
        </p:blipFill>
        <p:spPr>
          <a:xfrm>
            <a:off x="6804000" y="404640"/>
            <a:ext cx="1979640" cy="1965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苹果"/>
          <p:cNvPicPr/>
          <p:nvPr/>
        </p:nvPicPr>
        <p:blipFill>
          <a:blip r:embed="rId9"/>
          <a:stretch/>
        </p:blipFill>
        <p:spPr>
          <a:xfrm>
            <a:off x="6948360" y="3213000"/>
            <a:ext cx="2016360" cy="2000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2484360" y="47628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夜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788000" y="54936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木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6804000" y="90792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光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539640" y="234936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举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2627280" y="26370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低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4932360" y="285264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看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7164360" y="3716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故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页脚占位符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beijing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258920" y="102960"/>
            <a:ext cx="7489800" cy="617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jìng  yè   s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61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静 夜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</a:rPr>
              <a:t>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                   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chu</a:t>
            </a:r>
            <a:r>
              <a:rPr b="1" lang="en-US" sz="20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ng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qi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 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míng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uè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gu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床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前  明  月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光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í      shì     dì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 shu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疑  是  地  上  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j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ǔ 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tóu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ng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míng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u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举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头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望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明  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d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tóu     s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gù 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xi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低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头  思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故  乡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411280" y="0"/>
            <a:ext cx="6085080" cy="69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静夜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李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床 前 明 月 光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疑 是 地 上 霜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举 头 望 明 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低 头 思 故 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 flipH="1">
            <a:off x="4140000" y="2349360"/>
            <a:ext cx="21564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4140000" y="3716280"/>
            <a:ext cx="215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H="1">
            <a:off x="5003640" y="4941720"/>
            <a:ext cx="21600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4066920" y="6021360"/>
            <a:ext cx="215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 flipH="1">
            <a:off x="4140360" y="4869000"/>
            <a:ext cx="287280" cy="79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 flipH="1">
            <a:off x="5148360" y="6093000"/>
            <a:ext cx="71280" cy="57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思乡曲.mp3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0" y="0"/>
            <a:ext cx="3166920" cy="1770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P74静夜思">
            <a:hlinkClick r:id="rId3" action="ppaction://hlinksldjump"/>
          </p:cNvPr>
          <p:cNvPicPr/>
          <p:nvPr/>
        </p:nvPicPr>
        <p:blipFill>
          <a:blip r:embed="rId4"/>
          <a:srcRect l="44474" t="11182" r="11106" b="0"/>
          <a:stretch/>
        </p:blipFill>
        <p:spPr>
          <a:xfrm>
            <a:off x="7272360" y="261000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126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97849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4284720" y="314172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87280" y="4508640"/>
            <a:ext cx="63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床前明月光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疑是地上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665560959970"/>
          <p:cNvPicPr/>
          <p:nvPr/>
        </p:nvPicPr>
        <p:blipFill>
          <a:blip r:embed="rId1"/>
          <a:stretch/>
        </p:blipFill>
        <p:spPr>
          <a:xfrm>
            <a:off x="0" y="0"/>
            <a:ext cx="8893080" cy="4437000"/>
          </a:xfrm>
          <a:prstGeom prst="rect">
            <a:avLst/>
          </a:prstGeom>
          <a:ln w="0">
            <a:noFill/>
          </a:ln>
        </p:spPr>
      </p:pic>
      <p:sp>
        <p:nvSpPr>
          <p:cNvPr id="1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无标题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7617600" y="602136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地上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20090318112028822"/>
          <p:cNvPicPr/>
          <p:nvPr/>
        </p:nvPicPr>
        <p:blipFill>
          <a:blip r:embed="rId1"/>
          <a:stretch/>
        </p:blipFill>
        <p:spPr>
          <a:xfrm>
            <a:off x="0" y="2349360"/>
            <a:ext cx="8893080" cy="4292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2050920" y="836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050920" y="189000"/>
            <a:ext cx="547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举头望明月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低头思故乡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385128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7"/>
          <p:cNvSpPr/>
          <p:nvPr/>
        </p:nvSpPr>
        <p:spPr>
          <a:xfrm>
            <a:off x="3851280" y="76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>
            <a:off x="3851280" y="76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1"/>
          <p:cNvSpPr/>
          <p:nvPr/>
        </p:nvSpPr>
        <p:spPr>
          <a:xfrm>
            <a:off x="4716360" y="90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3780000" y="836640"/>
            <a:ext cx="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2"/>
          <p:cNvSpPr/>
          <p:nvPr/>
        </p:nvSpPr>
        <p:spPr>
          <a:xfrm>
            <a:off x="385128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思乡曲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5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97849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yueli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jingyesi.mp3" descr=""/>
          <p:cNvPicPr/>
          <p:nvPr/>
        </p:nvPicPr>
        <p:blipFill>
          <a:blip r:embed="rId2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25410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2:39:47Z</dcterms:created>
  <dc:creator>微软用户</dc:creator>
  <dc:description/>
  <dc:language>en-US</dc:language>
  <cp:lastModifiedBy>Administrator</cp:lastModifiedBy>
  <dcterms:modified xsi:type="dcterms:W3CDTF">2014-09-02T07:09:31Z</dcterms:modified>
  <cp:revision>9</cp:revision>
  <dc:subject/>
  <dc:title>幻灯片 1</dc:title>
</cp:coreProperties>
</file>