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chimes.wav" ContentType="audio/x-wav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5D8-6D8C-4791-A441-F9BF691B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DD7-E55C-411B-A190-08F7892C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75A-13A1-4B92-BA10-2B765E4C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DCB-5597-430F-B9C9-6A1E16C4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82F2-7DBB-44A3-88FF-D2BBDA25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F451-D4EF-4FE8-9136-C4D95830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2FFD-8817-4480-BC11-31E1F92A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C7CA-1B17-443B-B2C2-EE76E478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FAF4-9AFC-4D3A-A82B-B14442F4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22DB-2786-4E7C-8881-BD5DC2B1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24E7-78AD-4D1F-86F7-F4EE5026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A4B-7116-4963-B233-D0926F57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AD33-2071-4551-B25E-E6959FB6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D92E-5AF2-4AAA-8B4D-8652C24A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D5EE-1897-4738-820A-4724C7C4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C7D2-E344-4CEB-8C9E-1710A505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91C7-08A0-4052-9AEB-6638D8EE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9DF-09FB-48D8-9334-7AAD7C4F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6FF-D654-4D65-8A4C-A8086D8F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03E-1222-4C59-AF14-5A7B8893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E61-AA9F-477D-9742-55A0725B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474-9DA1-4015-AEC5-5576261B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1A2-148F-4CDD-9131-F3C28BC3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2F0-D07E-4F28-9106-6A5CBF51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360" cy="6950160"/>
            <a:chOff x="-86760" y="-93600"/>
            <a:chExt cx="277236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6680" cy="3117600"/>
              <a:chOff x="-1080" y="2601000"/>
              <a:chExt cx="268668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5400"/>
                <a:ext cx="1832760" cy="1663200"/>
                <a:chOff x="852840" y="4055400"/>
                <a:chExt cx="1832760" cy="16632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240" y="3944880"/>
                  <a:ext cx="474480" cy="1216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7760" y="4973400"/>
                  <a:ext cx="108720" cy="4986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36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76AC-1571-4293-981F-842ECEDD7553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38920" y="1037520"/>
              <a:ext cx="1017360" cy="1263240"/>
              <a:chOff x="4138920" y="1037520"/>
              <a:chExt cx="101736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4720" y="10753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39680" y="1609200"/>
                <a:ext cx="48924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099320" y="19670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720" y="296280"/>
              <a:ext cx="888840" cy="833760"/>
              <a:chOff x="5643720" y="296280"/>
              <a:chExt cx="88884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999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3840" y="4795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2760" y="396720"/>
                <a:ext cx="32004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7840" y="431640"/>
              <a:ext cx="1693440" cy="1148040"/>
              <a:chOff x="357840" y="431640"/>
              <a:chExt cx="1693440" cy="114804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0600" y="1050480"/>
                <a:ext cx="35604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6560" y="575280"/>
                <a:ext cx="60948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0280" y="1089720"/>
                <a:ext cx="63720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第一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模板网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D39B-BC4C-4577-AAEB-D803E34858D0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611280" y="1341360"/>
            <a:ext cx="76960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9900"/>
                  </a:solidFill>
                  <a:round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姚体"/>
              </a:rPr>
              <a:t>敬业与乐业</a:t>
            </a:r>
            <a:endParaRPr b="1" lang="en-US" sz="6000" spc="1" strike="noStrike">
              <a:ln w="12600">
                <a:solidFill>
                  <a:srgbClr val="ff9900"/>
                </a:solidFill>
                <a:round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859280" y="3645000"/>
            <a:ext cx="320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99"/>
                </a:solidFill>
                <a:latin typeface="Times New Roman"/>
                <a:ea typeface="隶书"/>
              </a:rPr>
              <a:t>梁启超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295280" y="7621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作者是怎样论述“敬业”的必要性的？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258920" y="21337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、什么叫敬业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116000" y="3284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、为什么要敬业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042920" y="4797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、怎样才能做到敬业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5364720" y="22240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引用朱子的话做理论论据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4354560" y="3284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列举两个地位悬殊的职业作事例论据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4572000" y="4719600"/>
            <a:ext cx="36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引用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庄子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、曾文正、孔子和法国学者的论述做理论论据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380880" y="12952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457200" y="106668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Times New Roman"/>
                <a:ea typeface="华文中宋"/>
              </a:rPr>
              <a:t>作者是怎样论述“乐业”的？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85800" y="20574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  <a:ea typeface="幼圆"/>
              </a:rPr>
              <a:t>明确：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835280" y="2133720"/>
            <a:ext cx="677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33cc"/>
                </a:solidFill>
                <a:latin typeface="隶书"/>
                <a:ea typeface="隶书"/>
              </a:rPr>
              <a:t>、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隶书"/>
                <a:ea typeface="隶书"/>
              </a:rPr>
              <a:t>从劳苦中找出快乐来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”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3581280" y="3200400"/>
            <a:ext cx="1676520" cy="0"/>
          </a:xfrm>
          <a:prstGeom prst="line">
            <a:avLst/>
          </a:prstGeom>
          <a:ln w="15228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5435640" y="263700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乐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1981080" y="419112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33cc"/>
                </a:solidFill>
                <a:latin typeface="隶书"/>
                <a:ea typeface="隶书"/>
              </a:rPr>
              <a:t>、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隶书"/>
                <a:ea typeface="隶书"/>
              </a:rPr>
              <a:t>凡职业都是有趣味的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”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405080" y="50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身入其中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3132360" y="50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奋斗前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4716720" y="50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比较骈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6445440" y="5099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省却烦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2145240" y="177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2216520" y="357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敬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2145240" y="537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乐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195640" y="2421000"/>
            <a:ext cx="485640" cy="1152360"/>
          </a:xfrm>
          <a:prstGeom prst="downArrow">
            <a:avLst>
              <a:gd name="adj1" fmla="val 50000"/>
              <a:gd name="adj2" fmla="val 59311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2268360" y="4292640"/>
            <a:ext cx="486000" cy="976320"/>
          </a:xfrm>
          <a:prstGeom prst="downArrow">
            <a:avLst>
              <a:gd name="adj1" fmla="val 50000"/>
              <a:gd name="adj2" fmla="val 5021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01320" y="76500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  <a:ea typeface="华文行楷"/>
              </a:rPr>
              <a:t>提出问题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3564000" y="76500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  <a:ea typeface="华文行楷"/>
              </a:rPr>
              <a:t>分析问题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7572240" y="83664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  <a:ea typeface="华文行楷"/>
              </a:rPr>
              <a:t>解决问题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13"/>
          <p:cNvSpPr/>
          <p:nvPr/>
        </p:nvSpPr>
        <p:spPr>
          <a:xfrm>
            <a:off x="1908000" y="836640"/>
            <a:ext cx="1656000" cy="485640"/>
          </a:xfrm>
          <a:prstGeom prst="rightArrow">
            <a:avLst>
              <a:gd name="adj1" fmla="val 50000"/>
              <a:gd name="adj2" fmla="val 8523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AutoShape 15"/>
          <p:cNvSpPr/>
          <p:nvPr/>
        </p:nvSpPr>
        <p:spPr>
          <a:xfrm>
            <a:off x="5508720" y="836640"/>
            <a:ext cx="1800000" cy="485640"/>
          </a:xfrm>
          <a:prstGeom prst="rightArrow">
            <a:avLst>
              <a:gd name="adj1" fmla="val 50000"/>
              <a:gd name="adj2" fmla="val 92644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059280" y="155736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孔子   百丈禅师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（ 摆事实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3419640" y="2924280"/>
            <a:ext cx="295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什么叫敬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为什么该敬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怎样敬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（讲道理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AutoShape 18"/>
          <p:cNvSpPr/>
          <p:nvPr/>
        </p:nvSpPr>
        <p:spPr>
          <a:xfrm>
            <a:off x="3059280" y="3357720"/>
            <a:ext cx="223560" cy="1081080"/>
          </a:xfrm>
          <a:custGeom>
            <a:avLst/>
            <a:gdLst>
              <a:gd name="textAreaLeft" fmla="*/ 142920 w 223560"/>
              <a:gd name="textAreaRight" fmla="*/ 223920 w 2235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3570840" y="544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四个理由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73" name="Group 23"/>
          <p:cNvGrpSpPr/>
          <p:nvPr/>
        </p:nvGrpSpPr>
        <p:grpSpPr>
          <a:xfrm>
            <a:off x="395280" y="1916280"/>
            <a:ext cx="1512720" cy="3097080"/>
            <a:chOff x="395280" y="1916280"/>
            <a:chExt cx="1512720" cy="3097080"/>
          </a:xfrm>
        </p:grpSpPr>
        <p:sp>
          <p:nvSpPr>
            <p:cNvPr id="274" name="AutoShape 19"/>
            <p:cNvSpPr/>
            <p:nvPr/>
          </p:nvSpPr>
          <p:spPr>
            <a:xfrm>
              <a:off x="395280" y="1916280"/>
              <a:ext cx="1512720" cy="3097080"/>
            </a:xfrm>
            <a:prstGeom prst="rightArrowCallout">
              <a:avLst>
                <a:gd name="adj1" fmla="val 51188"/>
                <a:gd name="adj2" fmla="val 51184"/>
                <a:gd name="adj3" fmla="val 16662"/>
                <a:gd name="adj4" fmla="val 6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5" name="Rectangle 9"/>
            <p:cNvSpPr/>
            <p:nvPr/>
          </p:nvSpPr>
          <p:spPr>
            <a:xfrm>
              <a:off x="611280" y="2060640"/>
              <a:ext cx="64764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敬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业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与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乐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业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76" name="Group 25"/>
          <p:cNvGrpSpPr/>
          <p:nvPr/>
        </p:nvGrpSpPr>
        <p:grpSpPr>
          <a:xfrm>
            <a:off x="6588000" y="2060640"/>
            <a:ext cx="1584360" cy="2881080"/>
            <a:chOff x="6588000" y="2060640"/>
            <a:chExt cx="1584360" cy="2881080"/>
          </a:xfrm>
        </p:grpSpPr>
        <p:sp>
          <p:nvSpPr>
            <p:cNvPr id="277" name="AutoShape 24"/>
            <p:cNvSpPr/>
            <p:nvPr/>
          </p:nvSpPr>
          <p:spPr>
            <a:xfrm>
              <a:off x="6588000" y="2060640"/>
              <a:ext cx="1584360" cy="2881080"/>
            </a:xfrm>
            <a:prstGeom prst="leftArrowCallout">
              <a:avLst>
                <a:gd name="adj1" fmla="val 24955"/>
                <a:gd name="adj2" fmla="val 54679"/>
                <a:gd name="adj3" fmla="val 24144"/>
                <a:gd name="adj4" fmla="val 56218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8" name="Rectangle 14"/>
            <p:cNvSpPr/>
            <p:nvPr/>
          </p:nvSpPr>
          <p:spPr>
            <a:xfrm>
              <a:off x="7380360" y="2276280"/>
              <a:ext cx="61128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责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任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心  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乐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趣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79" name="WordArt 27"/>
          <p:cNvSpPr txBox="1"/>
          <p:nvPr/>
        </p:nvSpPr>
        <p:spPr>
          <a:xfrm rot="564000">
            <a:off x="514440" y="-100080"/>
            <a:ext cx="227160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ff"/>
                </a:solidFill>
                <a:latin typeface="华文新魏"/>
              </a:rPr>
              <a:t>文章脉络</a:t>
            </a:r>
            <a:endParaRPr b="1" lang="en-US" sz="1800" spc="-1" strike="noStrike">
              <a:ln w="0">
                <a:noFill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</p:spTree>
  </p:cSld>
  <p:transition spd="med">
    <p:random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2"/>
          <p:cNvSpPr txBox="1"/>
          <p:nvPr/>
        </p:nvSpPr>
        <p:spPr>
          <a:xfrm rot="564000">
            <a:off x="225360" y="-196560"/>
            <a:ext cx="228600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ff"/>
                </a:solidFill>
                <a:latin typeface="华文新魏"/>
              </a:rPr>
              <a:t>思考研讨</a:t>
            </a:r>
            <a:endParaRPr b="1" lang="en-US" sz="1800" spc="-1" strike="noStrike">
              <a:ln w="0">
                <a:noFill/>
              </a:ln>
              <a:solidFill>
                <a:srgbClr val="ff00ff"/>
              </a:solidFill>
              <a:latin typeface="华文新魏"/>
              <a:ea typeface="华文新魏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685800" y="914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、梁启超先生在演讲结尾说道：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我深信人类合理的生活总该如此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，结合自身实际，用自己的话说说你认为怎样才能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合理的生活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539640" y="234936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、文中在谈到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有业之必要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时，举了孔子和百丈禅师的两个例子加以说明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（举例子）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；谈到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凡职业都是有趣味的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时，列举了四个原因加以说明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（讲道理）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。参照两种写法，试着为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有业之必要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列举出几条理由或为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凡学习都是有趣味的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提供几个例子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611280" y="50846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课后研讨第四题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4" name="Picture 6" descr="CH899G63ALDf_jdUDs0QtStaN"/>
          <p:cNvPicPr/>
          <p:nvPr/>
        </p:nvPicPr>
        <p:blipFill>
          <a:blip r:embed="rId1"/>
          <a:stretch/>
        </p:blipFill>
        <p:spPr>
          <a:xfrm>
            <a:off x="7648560" y="5143680"/>
            <a:ext cx="1428840" cy="17143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7"/>
          <p:cNvSpPr/>
          <p:nvPr/>
        </p:nvSpPr>
        <p:spPr>
          <a:xfrm>
            <a:off x="1042920" y="581832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课文多处引用古代典籍的论述想想它们的意思和作用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609480" y="6094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、梁启超先生在演讲结尾说道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我深信人类合理的生活总该如此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结合自身实际，用自己的话说说你认为怎样才能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合理的生活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187280" y="198900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有业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—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敬业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—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乐业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8" name="Picture 4" descr="agency"/>
          <p:cNvPicPr/>
          <p:nvPr/>
        </p:nvPicPr>
        <p:blipFill>
          <a:blip r:embed="rId1"/>
          <a:stretch/>
        </p:blipFill>
        <p:spPr>
          <a:xfrm>
            <a:off x="395280" y="4941720"/>
            <a:ext cx="1758960" cy="16066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684360" y="29624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要有一份正当的职业，对于所作的事情要生出敬意，从而认真的做好，并在做事中发现乐趣，而不是一味地发牢骚。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231840" y="352440"/>
            <a:ext cx="53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怎样深入理解“敬业”精神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Line 5"/>
          <p:cNvSpPr/>
          <p:nvPr/>
        </p:nvSpPr>
        <p:spPr>
          <a:xfrm flipH="1">
            <a:off x="6732720" y="6524640"/>
            <a:ext cx="503280" cy="0"/>
          </a:xfrm>
          <a:prstGeom prst="line">
            <a:avLst/>
          </a:prstGeom>
          <a:ln w="7632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50920" y="2101680"/>
            <a:ext cx="876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我们可以结合中国传统文化的特定背景，来深入领会梁启超提倡“敬业与乐业”的良苦用心。中国传统文化是一种有等级色彩的文化，中国人的职业观向来是“万般皆下品，唯有读书高”，人们的读书目的又是“学而优则仕”，“朝为田舍郎，暮登天子堂”。这种官本位的文化，极度蔑视普通职业，尤其是体力劳动，人们纷纷以出人头地，显亲扬名为人生价值的实现。因此，梁氏的“敬业”说，虽有其局限性，但在当时却有着矫正世风、改良国民性的积极作用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250920" y="94788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敬业，就是要热爱自己的事业，要干一行，爱一行，不能蔑视普通职业，尤其体力劳动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152280" y="228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、文中谈到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有业之必要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时，举了孔子和百丈禅师两个例子加以说明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（举例子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；谈到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凡职业都是有趣味的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时，列举了四个原因加以说明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（讲道理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。参照两种写法，试着为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有业之必要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列举几条理由或为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凡学习都是有趣味的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提供几个例子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5" name="Picture 3" descr="employmetn agency"/>
          <p:cNvPicPr/>
          <p:nvPr/>
        </p:nvPicPr>
        <p:blipFill>
          <a:blip r:embed="rId1"/>
          <a:stretch/>
        </p:blipFill>
        <p:spPr>
          <a:xfrm>
            <a:off x="7432560" y="4653000"/>
            <a:ext cx="1635120" cy="18241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250920" y="2063880"/>
            <a:ext cx="8424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例如：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业之必要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经济独立，人格自尊的需要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身心安顿，避免无所事事、烦闷无聊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生活起居规律，健康养生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从业中的挫折磨练意志品性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事业的小小成功均能带来自信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创造性的成就是对生命价值的最高肯定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课后研讨第四题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609480" y="1219320"/>
            <a:ext cx="800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838080"/>
            <a:ext cx="8153640" cy="3015000"/>
          </a:xfrm>
          <a:prstGeom prst="rect">
            <a:avLst/>
          </a:prstGeom>
          <a:noFill/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参考意见：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课文中，作者认为任何职业不分高下，是劝告那些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坐这山，望那山，一事无成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的人，要脚踏实地、勤恳敬业，才有可能把事情做好，进而体会职业的乐趣和人生的价值。只有这样，才能安身立命、获得心灵的宁静与充实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而拿破仑的名言则是为了激励人们树立远大抱负，努力挖掘自身潜能，勇于向命运发出挑战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WordArt 5"/>
          <p:cNvSpPr txBox="1"/>
          <p:nvPr/>
        </p:nvSpPr>
        <p:spPr>
          <a:xfrm>
            <a:off x="1447920" y="4876920"/>
            <a:ext cx="6476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立场不同，建议不同。</a:t>
            </a:r>
            <a:endParaRPr b="1" lang="en-US" sz="1800" spc="-1" strike="noStrike">
              <a:ln w="0">
                <a:noFill/>
              </a:ln>
              <a:solidFill>
                <a:srgbClr val="ff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random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>
            <a:off x="1293120" y="765000"/>
            <a:ext cx="4026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礼记</a:t>
            </a:r>
            <a:r>
              <a:rPr b="1" lang="en-US" sz="2800" spc="-1" strike="noStrike">
                <a:solidFill>
                  <a:srgbClr val="6600cc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：敬业乐群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老子</a:t>
            </a:r>
            <a:r>
              <a:rPr b="1" lang="en-US" sz="2800" spc="-1" strike="noStrike">
                <a:solidFill>
                  <a:srgbClr val="6600cc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：安其居，乐其业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论语</a:t>
            </a:r>
            <a:r>
              <a:rPr b="1" lang="en-US" sz="2800" spc="-1" strike="noStrike">
                <a:solidFill>
                  <a:srgbClr val="6600cc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：饱食终日，无所用心，难矣哉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朱子：主一无适便是敬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庄子</a:t>
            </a:r>
            <a:r>
              <a:rPr b="1" lang="en-US" sz="2800" spc="-1" strike="noStrike">
                <a:solidFill>
                  <a:srgbClr val="6600cc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：佝偻丈人的故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0" y="106200"/>
            <a:ext cx="96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课文多处引用古代典籍的论述想想它们的意思和作用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AutoShape 7"/>
          <p:cNvSpPr/>
          <p:nvPr/>
        </p:nvSpPr>
        <p:spPr>
          <a:xfrm>
            <a:off x="4500720" y="692280"/>
            <a:ext cx="142560" cy="1079280"/>
          </a:xfrm>
          <a:custGeom>
            <a:avLst/>
            <a:gdLst>
              <a:gd name="textAreaLeft" fmla="*/ 0 w 142560"/>
              <a:gd name="textAreaRight" fmla="*/ 100080 w 142560"/>
              <a:gd name="textAreaTop" fmla="*/ 44640 h 1079280"/>
              <a:gd name="textAreaBottom" fmla="*/ 1034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799"/>
                </a:cubicBezTo>
                <a:lnTo>
                  <a:pt x="21600" y="19801"/>
                </a:lnTo>
                <a:cubicBezTo>
                  <a:pt x="21600" y="20701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5527440" y="907920"/>
            <a:ext cx="24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</a:rPr>
              <a:t>提出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</a:rPr>
              <a:t>敬业乐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</a:rPr>
              <a:t>的论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0" y="2565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</a:rPr>
              <a:t>意思是无所事事的人难以培养，从反面论证说明无业的害处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1829520" y="422100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</a:rPr>
              <a:t>意思是专一于某一件事，就是敬。为我们解说什么是敬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1474920" y="566100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</a:rPr>
              <a:t>说明做事专心，就可以达到目的的道理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 rot="564000">
            <a:off x="371520" y="41040"/>
            <a:ext cx="244296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99"/>
                </a:solidFill>
                <a:latin typeface="华文新魏"/>
              </a:rPr>
              <a:t>语言特色</a:t>
            </a:r>
            <a:endParaRPr b="1" lang="en-US" sz="1800" spc="-1" strike="noStrike">
              <a:ln w="0">
                <a:noFill/>
              </a:ln>
              <a:solidFill>
                <a:srgbClr val="000099"/>
              </a:solidFill>
              <a:latin typeface="华文新魏"/>
              <a:ea typeface="华文新魏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11280" y="14130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内容论证方面：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0" y="587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请同学们在写演讲稿的时候特别注意演讲的语言特色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】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2116440" y="4149720"/>
            <a:ext cx="4341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引用古籍名言时，用通俗的口语进行解释；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语言通俗，如话家常；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结合演讲时的情境，注意和听众现场交流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254960" y="3213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演讲语言方面：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035040" y="981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大量引用经典、格言，增强说服力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3890880" y="3141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口语特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203000" y="1628640"/>
            <a:ext cx="2741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举例子证明自己的观点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如：孔子、朱熹、曾国藩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8"/>
          <p:cNvSpPr/>
          <p:nvPr/>
        </p:nvSpPr>
        <p:spPr>
          <a:xfrm>
            <a:off x="6534000" y="2565360"/>
            <a:ext cx="648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58000" y="228600"/>
            <a:ext cx="2057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1763640" y="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作    者    简     介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04920" y="121932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隶书"/>
                <a:ea typeface="隶书"/>
              </a:rPr>
              <a:t>梁启超（</a:t>
            </a:r>
            <a:r>
              <a:rPr b="1" lang="zh-CN" sz="3600" spc="-1" strike="noStrike">
                <a:solidFill>
                  <a:srgbClr val="006699"/>
                </a:solidFill>
                <a:latin typeface="隶书"/>
                <a:ea typeface="隶书"/>
              </a:rPr>
              <a:t>1873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  <a:ea typeface="隶书"/>
              </a:rPr>
              <a:t>—</a:t>
            </a:r>
            <a:r>
              <a:rPr b="1" lang="zh-CN" sz="3600" spc="-1" strike="noStrike">
                <a:solidFill>
                  <a:srgbClr val="006699"/>
                </a:solidFill>
                <a:latin typeface="隶书"/>
                <a:ea typeface="隶书"/>
              </a:rPr>
              <a:t>1929</a:t>
            </a:r>
            <a:r>
              <a:rPr b="1" lang="zh-CN" sz="3600" spc="-1" strike="noStrike">
                <a:solidFill>
                  <a:srgbClr val="006699"/>
                </a:solidFill>
                <a:latin typeface="隶书"/>
                <a:ea typeface="隶书"/>
              </a:rPr>
              <a:t>），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中国近代维新派领袖、学者</a:t>
            </a:r>
            <a:r>
              <a:rPr b="1" lang="zh-CN" sz="3600" spc="-1" strike="noStrike">
                <a:solidFill>
                  <a:srgbClr val="006699"/>
                </a:solidFill>
                <a:latin typeface="隶书"/>
                <a:ea typeface="隶书"/>
              </a:rPr>
              <a:t>。字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卓如</a:t>
            </a:r>
            <a:r>
              <a:rPr b="1" lang="zh-CN" sz="3600" spc="-1" strike="noStrike">
                <a:solidFill>
                  <a:srgbClr val="006699"/>
                </a:solidFill>
                <a:latin typeface="隶书"/>
                <a:ea typeface="隶书"/>
              </a:rPr>
              <a:t>，号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任公</a:t>
            </a:r>
            <a:r>
              <a:rPr b="1" lang="zh-CN" sz="3600" spc="-1" strike="noStrike">
                <a:solidFill>
                  <a:srgbClr val="006699"/>
                </a:solidFill>
                <a:latin typeface="隶书"/>
                <a:ea typeface="隶书"/>
              </a:rPr>
              <a:t>，又号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饮冰室主人</a:t>
            </a:r>
            <a:r>
              <a:rPr b="1" lang="zh-CN" sz="3600" spc="-1" strike="noStrike">
                <a:solidFill>
                  <a:srgbClr val="006699"/>
                </a:solidFill>
                <a:latin typeface="隶书"/>
                <a:ea typeface="隶书"/>
              </a:rPr>
              <a:t>。广东新会人。清光绪举人。其著作编为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《饮冰室合集》</a:t>
            </a:r>
            <a:r>
              <a:rPr b="1" lang="zh-CN" sz="3600" spc="-1" strike="noStrike">
                <a:solidFill>
                  <a:srgbClr val="006699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7" descr="无标题"/>
          <p:cNvPicPr/>
          <p:nvPr/>
        </p:nvPicPr>
        <p:blipFill>
          <a:blip r:embed="rId16"/>
          <a:stretch/>
        </p:blipFill>
        <p:spPr>
          <a:xfrm>
            <a:off x="4788000" y="1197000"/>
            <a:ext cx="3995640" cy="488304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1676520" y="1905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4800600" y="83808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99"/>
                </a:solidFill>
                <a:latin typeface="Times New Roman"/>
                <a:ea typeface="隶书"/>
              </a:rPr>
              <a:t>中心思想：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549360" y="25876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这篇讲演针对听讲者的实际情况，提出了“敬业与乐业”的论题，深入地论述了敬业与乐业的重要性，殷切地希望大家发扬敬业、乐业的精神，去过人类合理的生活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0" y="260280"/>
            <a:ext cx="91440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探究活动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思考：作者在文章中提出了许多有关敬业和乐业的观点，你最信服的是哪一点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?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你有没有不同意见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?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说说你持这种意见的理由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敬业乐业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四个字，是人类生活的不二法门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．人类一面为生活而劳动，一面也是为劳动而生活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．凡职业没有不是神圣的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．凡职业没有不是可敬的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．人生在世，是要天天劳作的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．劳作便是功德，不劳作便是罪恶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．因自己的才能、境地，做一种劳作做到圆满，便是天地间第一等人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4"/>
          <p:cNvSpPr/>
          <p:nvPr/>
        </p:nvSpPr>
        <p:spPr>
          <a:xfrm>
            <a:off x="179280" y="404640"/>
            <a:ext cx="8666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．凡做一件事，便把这件事看作我的生命，无论别的什么好处，到底不肯牺牲我现在做的事来和他交换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．敬业主义，于人生最为必要，又于人生最为有利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．从劳苦中找出快乐来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．凡职业都是有趣味的，只要你肯继续做下去，趣味自然会发生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．每一职业之成就，离不了奋斗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13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．因为每一职业之成就，离不了奋斗；一步一步的奋斗前去，从刻苦中将快乐的分量加增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14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．人生能从自己职业中领略出趣味，生活才有价值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15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．敬业即是责任心，乐业即是趣味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228600" y="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cc"/>
                </a:solidFill>
                <a:latin typeface="Arial"/>
                <a:ea typeface="华文彩云"/>
              </a:rPr>
              <a:t>作业：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609480" y="1295280"/>
            <a:ext cx="84582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体会演讲的特色，以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  <a:ea typeface="楷体_GB2312"/>
              </a:rPr>
              <a:t>              </a:t>
            </a:r>
            <a:r>
              <a:rPr b="1" lang="zh-CN" sz="4800" spc="-1" strike="noStrike">
                <a:solidFill>
                  <a:srgbClr val="cc00cc"/>
                </a:solidFill>
                <a:latin typeface="华文仿宋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敬 学</a:t>
            </a:r>
            <a:r>
              <a:rPr b="1" lang="zh-CN" sz="4800" spc="-1" strike="noStrike">
                <a:solidFill>
                  <a:srgbClr val="cc00cc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cc00cc"/>
                </a:solidFill>
                <a:latin typeface="华文仿宋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cc00cc"/>
                </a:solidFill>
                <a:latin typeface="Arial"/>
                <a:ea typeface="楷体_GB2312"/>
              </a:rPr>
              <a:t>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为话题准备演讲稿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23" name="Picture 4" descr="SS9A_200311412415453358"/>
          <p:cNvPicPr/>
          <p:nvPr/>
        </p:nvPicPr>
        <p:blipFill>
          <a:blip r:embed="rId1"/>
          <a:stretch/>
        </p:blipFill>
        <p:spPr>
          <a:xfrm>
            <a:off x="1066680" y="4648320"/>
            <a:ext cx="6858000" cy="2022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1026"/>
          <p:cNvSpPr txBox="1"/>
          <p:nvPr/>
        </p:nvSpPr>
        <p:spPr>
          <a:xfrm>
            <a:off x="609480" y="304920"/>
            <a:ext cx="244980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背景资料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5" name="Text Box 1027"/>
          <p:cNvSpPr/>
          <p:nvPr/>
        </p:nvSpPr>
        <p:spPr>
          <a:xfrm>
            <a:off x="914400" y="1295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敬业与乐业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是梁启超先生于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多年前在上海中华职业学校为学生所作的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演讲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，对学生进行职业道德启蒙教育，有很强的针对性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1028" descr="F2003080617063400000"/>
          <p:cNvPicPr/>
          <p:nvPr/>
        </p:nvPicPr>
        <p:blipFill>
          <a:blip r:embed="rId1"/>
          <a:stretch/>
        </p:blipFill>
        <p:spPr>
          <a:xfrm>
            <a:off x="152280" y="3276720"/>
            <a:ext cx="2362320" cy="3200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029"/>
          <p:cNvSpPr/>
          <p:nvPr/>
        </p:nvSpPr>
        <p:spPr>
          <a:xfrm>
            <a:off x="2590920" y="28098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* 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上海中华职业学校是中国近现代史上以试验、总结、推广职业教育而著称的一所中等专业学校。该校</a:t>
            </a:r>
            <a:r>
              <a:rPr b="1" lang="en-US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1918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月由黄炎培发起的中华职业教育社创办，校址在上海陆家浜。以黄炎培提出的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敬业乐群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为校训，提倡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手脑并用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双手万能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，着重理论联系实际，重视生产劳动实习和职业道德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0" y="333360"/>
            <a:ext cx="898524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                            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演讲的基本知识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演讲是以口语表达的方式面对听众，就某一问题发表自己观点，阐述某一事理的活动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。演讲不仅是宣传和动员群众的手段，而且还是阐明理论观点、发表学术见解的一种手段，同时又是锻炼和培养青年口才的一种手段。演讲时应注意以下几方面要求：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　　①认清对象，确立主旨。既要有针对性。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　　演讲是直接面对听众交流思想和感情的，所以必须了解听众对象，认清环境场合，明确演讲的主旨。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　　②思路清晰，节奏明快。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　　③感情充沛，例证动人。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　　④语言准确，形象生动。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981080" y="2286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黑体"/>
              </a:rPr>
              <a:t>议论文常识简介：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133720" y="9144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隶书"/>
              </a:rPr>
              <a:t>三要素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514600" y="18288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方正姚体"/>
              </a:rPr>
              <a:t>论  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514600" y="2743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方正姚体"/>
              </a:rPr>
              <a:t>论 据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590920" y="36576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方正姚体"/>
              </a:rPr>
              <a:t>论 证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410080" y="9907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cc"/>
                </a:solidFill>
                <a:latin typeface="Times New Roman"/>
                <a:ea typeface="隶书"/>
              </a:rPr>
              <a:t>结  构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334120" y="1828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  <a:ea typeface="方正姚体"/>
              </a:rPr>
              <a:t>提出问题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5257800" y="37339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方正姚体"/>
              </a:rPr>
              <a:t>解决问题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5334120" y="28195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方正姚体"/>
              </a:rPr>
              <a:t>分析问题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11" descr="cdt007"/>
          <p:cNvPicPr/>
          <p:nvPr/>
        </p:nvPicPr>
        <p:blipFill>
          <a:blip r:embed="rId2"/>
          <a:stretch/>
        </p:blipFill>
        <p:spPr>
          <a:xfrm>
            <a:off x="2362320" y="4952880"/>
            <a:ext cx="6019560" cy="1238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2"/>
          <p:cNvSpPr/>
          <p:nvPr/>
        </p:nvSpPr>
        <p:spPr>
          <a:xfrm>
            <a:off x="7391520" y="2125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6400800" y="23623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6400800" y="342900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8077320" y="243828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8153280" y="335268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7391520" y="2819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方正姚体"/>
                <a:ea typeface="方正姚体"/>
              </a:rPr>
              <a:t>(</a:t>
            </a:r>
            <a:r>
              <a:rPr b="1" lang="zh-CN" sz="3600" spc="-1" strike="noStrike">
                <a:solidFill>
                  <a:srgbClr val="006699"/>
                </a:solidFill>
                <a:latin typeface="方正姚体"/>
                <a:ea typeface="方正姚体"/>
              </a:rPr>
              <a:t>本论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7010280" y="1828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  <a:ea typeface="方正姚体"/>
              </a:rPr>
              <a:t>（引论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7238880" y="37339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  <a:ea typeface="方正姚体"/>
              </a:rPr>
              <a:t>（结论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028"/>
          <p:cNvSpPr/>
          <p:nvPr/>
        </p:nvSpPr>
        <p:spPr>
          <a:xfrm>
            <a:off x="-1119240" y="1747800"/>
            <a:ext cx="966024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_x000b_"/>
                <a:ea typeface="楷体_GB2312"/>
              </a:rPr>
              <a:t>旁</a:t>
            </a:r>
            <a:r>
              <a:rPr b="1" lang="zh-CN" sz="4000" spc="-1" strike="noStrike">
                <a:solidFill>
                  <a:srgbClr val="ff0000"/>
                </a:solidFill>
                <a:latin typeface="_x000b_"/>
                <a:ea typeface="楷体_GB2312"/>
              </a:rPr>
              <a:t>骛</a:t>
            </a:r>
            <a:r>
              <a:rPr b="1" lang="zh-CN" sz="3600" spc="-1" strike="noStrike">
                <a:solidFill>
                  <a:srgbClr val="ff0000"/>
                </a:solidFill>
                <a:latin typeface="_x000b_"/>
                <a:ea typeface="楷体_GB2312"/>
              </a:rPr>
              <a:t>　　          </a:t>
            </a:r>
            <a:r>
              <a:rPr b="1" lang="zh-CN" sz="4000" spc="-1" strike="noStrike">
                <a:solidFill>
                  <a:srgbClr val="ff0000"/>
                </a:solidFill>
                <a:latin typeface="_x000b_"/>
                <a:ea typeface="楷体_GB2312"/>
              </a:rPr>
              <a:t>佝偻</a:t>
            </a:r>
            <a:r>
              <a:rPr b="1" lang="zh-CN" sz="3600" spc="-1" strike="noStrike">
                <a:solidFill>
                  <a:srgbClr val="000000"/>
                </a:solidFill>
                <a:latin typeface="_x000b_"/>
                <a:ea typeface="楷体_GB2312"/>
              </a:rPr>
              <a:t>　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_x000b_"/>
                <a:ea typeface="楷体_GB2312"/>
              </a:rPr>
              <a:t>承</a:t>
            </a:r>
            <a:r>
              <a:rPr b="1" lang="zh-CN" sz="4000" spc="-1" strike="noStrike">
                <a:solidFill>
                  <a:srgbClr val="ff0000"/>
                </a:solidFill>
                <a:latin typeface="_x000b_"/>
                <a:ea typeface="楷体_GB2312"/>
              </a:rPr>
              <a:t>蜩                亵渎</a:t>
            </a:r>
            <a:r>
              <a:rPr b="1" lang="zh-CN" sz="3600" spc="-1" strike="noStrike">
                <a:solidFill>
                  <a:srgbClr val="000000"/>
                </a:solidFill>
                <a:latin typeface="_x000b_"/>
                <a:ea typeface="楷体_GB2312"/>
              </a:rPr>
              <a:t>　　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_x000b_"/>
                <a:ea typeface="楷体_GB2312"/>
              </a:rPr>
              <a:t>骈</a:t>
            </a:r>
            <a:r>
              <a:rPr b="1" lang="zh-CN" sz="4000" spc="-1" strike="noStrike">
                <a:solidFill>
                  <a:srgbClr val="000000"/>
                </a:solidFill>
                <a:latin typeface="_x000b_"/>
                <a:ea typeface="楷体_GB2312"/>
              </a:rPr>
              <a:t>进</a:t>
            </a:r>
            <a:r>
              <a:rPr b="1" lang="zh-CN" sz="3600" spc="-1" strike="noStrike">
                <a:solidFill>
                  <a:srgbClr val="000000"/>
                </a:solidFill>
                <a:latin typeface="_x000b_"/>
                <a:ea typeface="楷体_GB2312"/>
              </a:rPr>
              <a:t>　　           </a:t>
            </a:r>
            <a:r>
              <a:rPr b="1" lang="zh-CN" sz="4000" spc="-1" strike="noStrike">
                <a:solidFill>
                  <a:srgbClr val="ff0000"/>
                </a:solidFill>
                <a:latin typeface="_x000b_"/>
                <a:ea typeface="楷体_GB2312"/>
              </a:rPr>
              <a:t>强聒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Text Box 1030"/>
          <p:cNvSpPr/>
          <p:nvPr/>
        </p:nvSpPr>
        <p:spPr>
          <a:xfrm>
            <a:off x="5145480" y="3684600"/>
            <a:ext cx="31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_x000b_"/>
              </a:rPr>
              <a:t>qi</a:t>
            </a:r>
            <a:r>
              <a:rPr b="1" lang="en-US" sz="3600" spc="-1" strike="noStrike">
                <a:solidFill>
                  <a:srgbClr val="000000"/>
                </a:solidFill>
                <a:latin typeface="_x000b_"/>
                <a:ea typeface="楷体_GB2312"/>
              </a:rPr>
              <a:t>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_x000b_"/>
              </a:rPr>
              <a:t>nggu</a:t>
            </a:r>
            <a:r>
              <a:rPr b="1" lang="en-US" sz="3600" spc="-1" strike="noStrike">
                <a:solidFill>
                  <a:srgbClr val="000000"/>
                </a:solidFill>
                <a:latin typeface="_x000b_"/>
                <a:ea typeface="楷体_GB2312"/>
              </a:rPr>
              <a:t>ō</a:t>
            </a:r>
            <a:r>
              <a:rPr b="1" lang="zh-CN" sz="3600" spc="-1" strike="noStrike">
                <a:solidFill>
                  <a:srgbClr val="000000"/>
                </a:solidFill>
                <a:latin typeface="_x000b_"/>
                <a:ea typeface="楷体_GB2312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1031"/>
          <p:cNvSpPr/>
          <p:nvPr/>
        </p:nvSpPr>
        <p:spPr>
          <a:xfrm>
            <a:off x="1696320" y="2538360"/>
            <a:ext cx="17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iá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1032"/>
          <p:cNvSpPr/>
          <p:nvPr/>
        </p:nvSpPr>
        <p:spPr>
          <a:xfrm>
            <a:off x="1544400" y="3546360"/>
            <a:ext cx="22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iá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Text Box 1033"/>
          <p:cNvSpPr/>
          <p:nvPr/>
        </p:nvSpPr>
        <p:spPr>
          <a:xfrm>
            <a:off x="5050800" y="1746360"/>
            <a:ext cx="238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ōulóu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1034"/>
          <p:cNvSpPr/>
          <p:nvPr/>
        </p:nvSpPr>
        <p:spPr>
          <a:xfrm>
            <a:off x="5145480" y="2682720"/>
            <a:ext cx="18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iè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 Box 1035"/>
          <p:cNvSpPr/>
          <p:nvPr/>
        </p:nvSpPr>
        <p:spPr>
          <a:xfrm>
            <a:off x="1615680" y="1766880"/>
            <a:ext cx="192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ù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WordArt 1036"/>
          <p:cNvSpPr txBox="1"/>
          <p:nvPr/>
        </p:nvSpPr>
        <p:spPr>
          <a:xfrm>
            <a:off x="684360" y="333360"/>
            <a:ext cx="2286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掌握字词</a:t>
            </a:r>
            <a:endParaRPr b="1" lang="en-US" sz="4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1835280" y="333360"/>
            <a:ext cx="480060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朗读课文，思考问题：</a:t>
            </a:r>
            <a:endParaRPr b="1" lang="en-US" sz="6000" spc="-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95280" y="407664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3</a:t>
            </a:r>
            <a:r>
              <a:rPr b="1" lang="zh-CN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、找出本文的中心论点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539640" y="112536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、作者先后谈论了哪几个问题</a:t>
            </a:r>
            <a:r>
              <a:rPr b="1" lang="en-US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1042920" y="1916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有业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;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敬业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;3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乐业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395280" y="249228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、你认为这几个问题的关系怎样</a:t>
            </a:r>
            <a:r>
              <a:rPr b="1" lang="en-US" sz="4400" spc="-1" strike="noStrike">
                <a:solidFill>
                  <a:srgbClr val="006699"/>
                </a:solidFill>
                <a:latin typeface="华文新魏"/>
                <a:ea typeface="华文新魏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08000" y="328464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有业是前提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敬业是基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乐业才是最高境界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6012000" y="494172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敬业乐业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人生法门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684360" y="5086440"/>
            <a:ext cx="5182920" cy="947520"/>
          </a:xfrm>
          <a:prstGeom prst="rightArrowCallout">
            <a:avLst>
              <a:gd name="adj1" fmla="val 24919"/>
              <a:gd name="adj2" fmla="val 13597"/>
              <a:gd name="adj3" fmla="val 39556"/>
              <a:gd name="adj4" fmla="val 7027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礼记</a:t>
            </a:r>
            <a:r>
              <a:rPr b="1" lang="en-US" sz="2800" spc="-1" strike="noStrike">
                <a:solidFill>
                  <a:srgbClr val="6600cc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：敬业乐群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老子</a:t>
            </a:r>
            <a:r>
              <a:rPr b="1" lang="en-US" sz="2800" spc="-1" strike="noStrike">
                <a:solidFill>
                  <a:srgbClr val="6600cc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6600cc"/>
                </a:solidFill>
                <a:latin typeface="Verdana"/>
              </a:rPr>
              <a:t>：安其居，乐其业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309240" y="1523880"/>
            <a:ext cx="911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Times New Roman"/>
                <a:ea typeface="华文中宋"/>
              </a:rPr>
              <a:t>敬业与乐业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295280" y="1600200"/>
            <a:ext cx="304920" cy="4267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0880 h 4267080"/>
              <a:gd name="textAreaBottom" fmla="*/ 415620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676520" y="12952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提出问题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600200" y="32004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分析问题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676520" y="52578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解决问题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2362320" y="1447920"/>
            <a:ext cx="15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6699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6699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2362320" y="3429000"/>
            <a:ext cx="22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6699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黑体"/>
              </a:rPr>
              <a:t>—</a:t>
            </a:r>
            <a:r>
              <a:rPr b="1" lang="zh-CN" sz="4000" spc="-1" strike="noStrike">
                <a:solidFill>
                  <a:srgbClr val="006699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6699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438280" y="5486400"/>
            <a:ext cx="191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6699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6699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657600" y="137160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隶书"/>
              </a:rPr>
              <a:t>揭示全文论述的中心—敬业与乐业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4191120" y="31240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隶书"/>
              </a:rPr>
              <a:t>论述有业、敬业、乐业的重要性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657600" y="52578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隶书"/>
              </a:rPr>
              <a:t>总结全文，勉励人敬业乐业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7924680" y="14479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总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8001000" y="32767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分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7848720" y="52578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总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2133720" y="2514600"/>
            <a:ext cx="0" cy="762120"/>
          </a:xfrm>
          <a:prstGeom prst="line">
            <a:avLst/>
          </a:prstGeom>
          <a:ln w="1206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2133720" y="4419720"/>
            <a:ext cx="0" cy="761760"/>
          </a:xfrm>
          <a:prstGeom prst="line">
            <a:avLst/>
          </a:prstGeom>
          <a:ln w="1206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8534520" y="2743200"/>
            <a:ext cx="0" cy="762120"/>
          </a:xfrm>
          <a:prstGeom prst="line">
            <a:avLst/>
          </a:prstGeom>
          <a:ln w="1206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8534520" y="4419720"/>
            <a:ext cx="0" cy="761760"/>
          </a:xfrm>
          <a:prstGeom prst="line">
            <a:avLst/>
          </a:prstGeom>
          <a:ln w="1206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250920" y="333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、依据议论文的基本结构划分文章结构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468360" y="4046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作者是怎样分析”有业之必要”的</a:t>
            </a:r>
            <a:r>
              <a:rPr b="1" lang="en-US" sz="40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?</a:t>
            </a: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举了哪些例子</a:t>
            </a:r>
            <a:r>
              <a:rPr b="1" lang="en-US" sz="4000" spc="-1" strike="noStrike">
                <a:solidFill>
                  <a:srgbClr val="006699"/>
                </a:solidFill>
                <a:latin typeface="Times New Roman"/>
                <a:ea typeface="华文新魏"/>
              </a:rPr>
              <a:t>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64000" y="50846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用百丈禅师做事实论据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908000" y="19890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先谈有业的原因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：有业是敬业的基础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116720" y="342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无业的害处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3687840" y="285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5292720" y="3429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用孔子的话做理论论据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3132360" y="342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反面论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188360" y="5084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业的重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3132360" y="50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正面论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8T06:52:20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7-09-08T06:55:09Z</dcterms:modified>
  <cp:revision>9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