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D96-1A36-4AD9-9636-9ED62046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BC5F-5FFB-4FA5-AED2-0A85A844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E6D6-F6DF-4C00-A85E-6A20508D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59F7-4DAA-490D-8E23-EC3D07C38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772-478E-4D96-9EA1-C03DEC99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1287-AB1B-46EE-B22B-716C8DA6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ADB-66A6-40D7-91DB-D1E30F53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0529-D303-4FF9-AEF6-5FA84E1B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5801-3A8C-4454-AF1B-8421436F3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916-9E97-4E3C-883C-5385A18F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916-A6D3-4E5B-ABB5-D1B83F90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140A-4D58-4D48-B2B1-793E3C59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0E3D-0587-4F1A-B644-86BB524760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3.jpe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4.jpeg"/><Relationship Id="rId2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1828080" cy="6857640"/>
              <a:chOff x="0" y="0"/>
              <a:chExt cx="1828080" cy="6857640"/>
            </a:xfrm>
          </p:grpSpPr>
          <p:pic>
            <p:nvPicPr>
              <p:cNvPr id="4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7" name=""/>
            <p:cNvGrpSpPr/>
            <p:nvPr/>
          </p:nvGrpSpPr>
          <p:grpSpPr>
            <a:xfrm>
              <a:off x="1828440" y="0"/>
              <a:ext cx="1828440" cy="6857640"/>
              <a:chOff x="1828440" y="0"/>
              <a:chExt cx="1828440" cy="6857640"/>
            </a:xfrm>
          </p:grpSpPr>
          <p:pic>
            <p:nvPicPr>
              <p:cNvPr id="4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284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8284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8284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8284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"/>
            <p:cNvGrpSpPr/>
            <p:nvPr/>
          </p:nvGrpSpPr>
          <p:grpSpPr>
            <a:xfrm>
              <a:off x="3657600" y="0"/>
              <a:ext cx="1828080" cy="6857640"/>
              <a:chOff x="3657600" y="0"/>
              <a:chExt cx="1828080" cy="6857640"/>
            </a:xfrm>
          </p:grpSpPr>
          <p:pic>
            <p:nvPicPr>
              <p:cNvPr id="5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5760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65760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65760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" name=""/>
            <p:cNvGrpSpPr/>
            <p:nvPr/>
          </p:nvGrpSpPr>
          <p:grpSpPr>
            <a:xfrm>
              <a:off x="5486040" y="0"/>
              <a:ext cx="1828080" cy="6857640"/>
              <a:chOff x="5486040" y="0"/>
              <a:chExt cx="1828080" cy="6857640"/>
            </a:xfrm>
          </p:grpSpPr>
          <p:pic>
            <p:nvPicPr>
              <p:cNvPr id="5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48604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48604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48604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48604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"/>
            <p:cNvGrpSpPr/>
            <p:nvPr/>
          </p:nvGrpSpPr>
          <p:grpSpPr>
            <a:xfrm>
              <a:off x="7314840" y="0"/>
              <a:ext cx="1828440" cy="6857640"/>
              <a:chOff x="7314840" y="0"/>
              <a:chExt cx="1828440" cy="6857640"/>
            </a:xfrm>
          </p:grpSpPr>
          <p:pic>
            <p:nvPicPr>
              <p:cNvPr id="6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3148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3148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3148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3148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990720" y="1219320"/>
            <a:ext cx="7162560" cy="5097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92120" y="304920"/>
            <a:ext cx="220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592"/>
                </a:solidFill>
                <a:latin typeface="Times New Roman"/>
                <a:ea typeface="幼圆"/>
              </a:rPr>
              <a:t>2.</a:t>
            </a:r>
            <a:r>
              <a:rPr b="1" lang="zh-CN" sz="4000" spc="-1" strike="noStrike">
                <a:solidFill>
                  <a:srgbClr val="009592"/>
                </a:solidFill>
                <a:latin typeface="Times New Roman"/>
                <a:ea typeface="幼圆"/>
              </a:rPr>
              <a:t>金色的草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些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钓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察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瓣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拢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掌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趣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30480" y="1600200"/>
            <a:ext cx="5422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我要多读几遍课文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把 对草地和蒲公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喜爱的感情读出来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我们交流交流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从课文的哪些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可以看出草地的可爱、蒲公英的有趣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62880" y="0"/>
            <a:ext cx="1581120" cy="15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57560" y="1905120"/>
            <a:ext cx="6130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我把下面的句子抄了下来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你抄了哪些</a:t>
            </a: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花朵张开时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它是金色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草地也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金色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花朵合拢时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金色的花瓣被包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草地就变成绿色的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5283360" cy="19512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848720" y="304920"/>
            <a:ext cx="99036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grpSp>
          <p:nvGrpSpPr>
            <p:cNvPr id="70" name=""/>
            <p:cNvGrpSpPr/>
            <p:nvPr/>
          </p:nvGrpSpPr>
          <p:grpSpPr>
            <a:xfrm>
              <a:off x="0" y="0"/>
              <a:ext cx="1828080" cy="6857640"/>
              <a:chOff x="0" y="0"/>
              <a:chExt cx="1828080" cy="6857640"/>
            </a:xfrm>
          </p:grpSpPr>
          <p:pic>
            <p:nvPicPr>
              <p:cNvPr id="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5" name=""/>
            <p:cNvGrpSpPr/>
            <p:nvPr/>
          </p:nvGrpSpPr>
          <p:grpSpPr>
            <a:xfrm>
              <a:off x="1828440" y="0"/>
              <a:ext cx="1828440" cy="6857640"/>
              <a:chOff x="1828440" y="0"/>
              <a:chExt cx="1828440" cy="6857640"/>
            </a:xfrm>
          </p:grpSpPr>
          <p:pic>
            <p:nvPicPr>
              <p:cNvPr id="7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284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8284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8284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8284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"/>
            <p:cNvGrpSpPr/>
            <p:nvPr/>
          </p:nvGrpSpPr>
          <p:grpSpPr>
            <a:xfrm>
              <a:off x="3657600" y="0"/>
              <a:ext cx="1828080" cy="6857640"/>
              <a:chOff x="3657600" y="0"/>
              <a:chExt cx="1828080" cy="6857640"/>
            </a:xfrm>
          </p:grpSpPr>
          <p:pic>
            <p:nvPicPr>
              <p:cNvPr id="8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65760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65760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65760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65760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5" name=""/>
            <p:cNvGrpSpPr/>
            <p:nvPr/>
          </p:nvGrpSpPr>
          <p:grpSpPr>
            <a:xfrm>
              <a:off x="5486040" y="0"/>
              <a:ext cx="1828080" cy="6857640"/>
              <a:chOff x="5486040" y="0"/>
              <a:chExt cx="1828080" cy="6857640"/>
            </a:xfrm>
          </p:grpSpPr>
          <p:pic>
            <p:nvPicPr>
              <p:cNvPr id="8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486040" y="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486040" y="1714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486040" y="342864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5486040" y="5143320"/>
                <a:ext cx="1828080" cy="1714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0" name=""/>
            <p:cNvGrpSpPr/>
            <p:nvPr/>
          </p:nvGrpSpPr>
          <p:grpSpPr>
            <a:xfrm>
              <a:off x="7314840" y="0"/>
              <a:ext cx="1828440" cy="6857640"/>
              <a:chOff x="7314840" y="0"/>
              <a:chExt cx="1828440" cy="6857640"/>
            </a:xfrm>
          </p:grpSpPr>
          <p:pic>
            <p:nvPicPr>
              <p:cNvPr id="9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314840" y="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7314840" y="1714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7314840" y="342864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7314840" y="5143320"/>
                <a:ext cx="1828440" cy="1714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95" name="" descr=""/>
          <p:cNvPicPr/>
          <p:nvPr/>
        </p:nvPicPr>
        <p:blipFill>
          <a:blip r:embed="rId22"/>
          <a:stretch/>
        </p:blipFill>
        <p:spPr>
          <a:xfrm>
            <a:off x="762120" y="1066680"/>
            <a:ext cx="772164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857520" cy="857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058840" y="662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  <a:ea typeface="华文琥珀"/>
              </a:rPr>
              <a:t>我会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92640" y="2438280"/>
            <a:ext cx="5895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钓   拢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93840" y="1627200"/>
            <a:ext cx="4816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3399"/>
                </a:solidFill>
                <a:latin typeface="Times New Roman"/>
              </a:rPr>
              <a:t>diào              lǒng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" y="304920"/>
            <a:ext cx="1523880" cy="1261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058840" y="68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Times New Roman"/>
                <a:ea typeface="华文琥珀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057400" y="1295280"/>
          <a:ext cx="4952880" cy="447048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3354480" y="91440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耍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装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劲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绒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假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057400" y="1219320"/>
          <a:ext cx="4952880" cy="4470120"/>
        </p:xfrm>
        <a:graphic>
          <a:graphicData uri="http://schemas.openxmlformats.org/drawingml/2006/table">
            <a:tbl>
              <a:tblPr/>
              <a:tblGrid>
                <a:gridCol w="2476080"/>
                <a:gridCol w="2476800"/>
              </a:tblGrid>
              <a:tr h="22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430440" y="8380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朝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4T03:55:41Z</dcterms:created>
  <dc:creator>微软系统</dc:creator>
  <dc:description>3edu教育网【www.3edu.net】</dc:description>
  <cp:keywords>3edu教育网【www.3edu.net】教学课件、教学试题、教案学案、教学素材</cp:keywords>
  <dc:language>en-US</dc:language>
  <cp:lastModifiedBy>微软用户</cp:lastModifiedBy>
  <dcterms:modified xsi:type="dcterms:W3CDTF">2014-03-31T13:50:18Z</dcterms:modified>
  <cp:revision>6</cp:revision>
  <dc:subject>3edu教育网【www.3edu.net】教师助手，学生帮手，家长朋友，三星数学</dc:subject>
  <dc:title>幻灯片 1</dc:title>
</cp:coreProperties>
</file>