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5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2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5916-4DF0-4646-B7DE-18DEA35F5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78CB-FD71-424C-80E2-880C1138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455D-4152-4205-B778-5649A0A3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0AE9-A198-484E-AA86-09665DB6B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42B8-C9CD-42C8-9521-65C9938EF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E23D-48E9-4037-AB58-24C4BA30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E576-CF57-45F4-992D-82D11E86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638E-E667-43BE-9960-A6AC663B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866A-0DBF-48D8-8EF0-0DF677C4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3261-FE35-43B3-AC73-1D27E690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C3C5-696F-4AD9-A443-3FBD76E0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30A0-FEA4-480F-B601-11AC5418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31B7-8DCA-4D18-AAED-CA927A31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CB0F-553D-454C-85AB-1C22FF44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5464-0C8E-4DCE-BEDB-4B2CD8FE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B014-530F-4D3F-A6D8-7ECEC249C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0892-AA34-4BB8-B552-9D906F83A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82BC0-AC77-45C0-A46E-F2D4DBE11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CF683-F692-4A1C-A6A4-3C1C3347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1EA7E-2F47-4324-B118-29BC9C45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1A732-2A06-48CE-BE03-6C988637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4E82F-4EC5-4A31-A59A-60E0742E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CAB9-8E04-4A5A-80D4-93438563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8CF0C-B594-4D43-A5A1-A36BC218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C3D0A-10F5-468A-88FA-3E1BEAB2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F4B93-E688-4CCC-BB0D-57498016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940E8-23B8-46AA-9B80-D586C679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F08BB-F198-4B4C-BA6D-6FB7E94A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202FA-915E-4EFA-B43E-4B060296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0E903-36DF-4D62-AA16-6D045915B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0B3F-1728-4C85-B2E2-AA12DCB8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23A1-B299-4153-A9E6-C7BC3A94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8016-A89F-4C27-A87F-258298BB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3829-E4BA-402F-8D64-178E369B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28A4-57FA-4DF3-816F-84E42065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D36F-DF3E-4AC2-A650-59764CDC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92ED-09B3-4936-AF65-46840D5CFC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22DB-9D1C-4C66-8E77-50FA7DA8DCE3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81A0-0F92-407C-8AAB-ED6D4AA06976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6045120"/>
            <a:ext cx="1692360" cy="81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400538.com/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www.yak.pw/" TargetMode="External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859320" y="260280"/>
            <a:ext cx="219132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6600" spc="-1" strike="noStrike">
                <a:solidFill>
                  <a:srgbClr val="006633"/>
                </a:solidFill>
                <a:latin typeface="Times New Roman"/>
              </a:rPr>
              <a:t>你会读吗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47640" y="549360"/>
            <a:ext cx="7596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狐假虎威  狐朋狗友  兔死狐悲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狗党狐朋  篝火狐鸣 一狐之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2133720"/>
            <a:ext cx="78120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黄鼠狼和狐狸结亲——臭味相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狐狸吃刺猬——下不了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狐狸打马蜂——不知道厉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狐狸的尾巴——藏不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狐狸吃不到的葡萄——全是酸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62120" y="5105520"/>
            <a:ext cx="6862680" cy="960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68360" y="148428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再读课文，想想哪些地方最让你感动，把它画出来，并把自己的感受或见解写下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33336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阅读汇报二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62120" y="5105520"/>
            <a:ext cx="6862680" cy="960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268360" y="47628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句子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148428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只见一只大狐狸正</a:t>
            </a: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冲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着秋田狗</a:t>
            </a: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大摇大摆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地走过来，它嘴里叼着一只哆哆嗦嗦的鸡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62120" y="5105520"/>
            <a:ext cx="6862680" cy="9604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68360" y="141300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5400" spc="-1" strike="noStrike">
                <a:solidFill>
                  <a:srgbClr val="0066ff"/>
                </a:solidFill>
                <a:latin typeface="Times New Roman"/>
              </a:rPr>
              <a:t>他费力地睁开眼，蒙眬中看见一只大狐狸正在不停的舔他的脸颊和嘴唇。另一只蹲在他的胸脯上，温暖着他的身子…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33336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句子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62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835280" y="4508640"/>
            <a:ext cx="70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迎着耀眼的阳光，狐狸的脚印闪着金色的光芒，一直延伸到密林深处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50920" y="342900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句子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826920" y="5373720"/>
            <a:ext cx="6863040" cy="960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1476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99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6699"/>
                </a:solidFill>
                <a:latin typeface="Times New Roman"/>
              </a:rPr>
              <a:t>金色的脚印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面意思是阳光照耀下，印在雪地上狐狸的脚印。其实它却有更深一层的含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狐狸一家能得到人们的关心而合家团聚、回到密林中去，这是最美好、最有意义的一件事，因而用“金色的脚印”来赞美这件事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狐狸一家虽是动物，但它们也和人一样，它们的生命同样珍贵，那回归山林的脚印正是珍惜生命的象征，这脚印中，饱含着人类对其他生命的珍重与爱护，体现着人类美好的思想感情，所以它是金色的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这“金色的脚印”中，体现着狐狸一家生死相依的浓浓亲情以及它们对人类的友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此“金色的脚印”既是对全文的概括，也是对美好、崇高情感的赞美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68360" y="144360"/>
            <a:ext cx="2379600" cy="17877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rcRect l="0" t="0" r="9843" b="11161"/>
          <a:stretch/>
        </p:blipFill>
        <p:spPr>
          <a:xfrm>
            <a:off x="3203640" y="71280"/>
            <a:ext cx="2004840" cy="1865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468360" y="2205000"/>
            <a:ext cx="5553000" cy="15177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rcRect l="0" t="0" r="2740" b="14307"/>
          <a:stretch/>
        </p:blipFill>
        <p:spPr>
          <a:xfrm>
            <a:off x="5796000" y="0"/>
            <a:ext cx="2043000" cy="21654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rcRect l="0" t="0" r="19295" b="0"/>
          <a:stretch/>
        </p:blipFill>
        <p:spPr>
          <a:xfrm>
            <a:off x="5796000" y="2205000"/>
            <a:ext cx="3813120" cy="26780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7"/>
          <a:srcRect l="0" t="14309" r="0" b="0"/>
          <a:stretch/>
        </p:blipFill>
        <p:spPr>
          <a:xfrm>
            <a:off x="5796000" y="4984920"/>
            <a:ext cx="1982880" cy="1873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1835280" y="4076640"/>
            <a:ext cx="3308400" cy="23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932360" y="1484280"/>
            <a:ext cx="360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大自然是人和动物共同的家园，人们要和动物和谐相处，这个世界才更加美丽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900000" y="1628640"/>
            <a:ext cx="38894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62120" y="5105520"/>
            <a:ext cx="6862680" cy="9604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979640" y="692280"/>
            <a:ext cx="295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小练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08000" y="2133720"/>
            <a:ext cx="8136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续写故事</a:t>
            </a: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《相亲相爱的狐狸一家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916360" y="2133720"/>
            <a:ext cx="4155840" cy="21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再见！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以上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课件由教师论坛提供下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老师您辛苦了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613600" y="2349360"/>
            <a:ext cx="40212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课件演示完毕，老师您辛苦了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7760" y="1268280"/>
            <a:ext cx="9066240" cy="39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ff0000"/>
                </a:solidFill>
                <a:latin typeface="Times New Roman"/>
                <a:ea typeface="隶书"/>
              </a:rPr>
              <a:t>狐狸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黑体"/>
              </a:rPr>
              <a:t>：一种哺乳动物，形状有点像狼，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黑体"/>
              </a:rPr>
              <a:t>但形体比狼要小一些。狐狸嘴尖面长，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黑体"/>
              </a:rPr>
              <a:t>脸呈三角形，耳朵也是三角形的，尾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黑体"/>
              </a:rPr>
              <a:t>巴蓬松且长，毛色一般为赤黄色。这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黑体"/>
              </a:rPr>
              <a:t>种动物生性狡猾多疑，常昼伏夜出，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黑体"/>
              </a:rPr>
              <a:t>以鼠类、鸟类或家禽为食。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62120" y="5105520"/>
            <a:ext cx="6862680" cy="960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4000" y="26028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Times New Roman"/>
              </a:rPr>
              <a:t>认识狐狸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rcRect l="12205" t="-930" r="5121" b="8914"/>
          <a:stretch/>
        </p:blipFill>
        <p:spPr>
          <a:xfrm>
            <a:off x="684360" y="907920"/>
            <a:ext cx="3411360" cy="5040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572000" y="907920"/>
            <a:ext cx="338148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rcRect l="0" t="0" r="1805" b="3806"/>
          <a:stretch/>
        </p:blipFill>
        <p:spPr>
          <a:xfrm>
            <a:off x="684360" y="549360"/>
            <a:ext cx="729900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rcRect l="0" t="0" r="10316" b="9052"/>
          <a:stretch/>
        </p:blipFill>
        <p:spPr>
          <a:xfrm>
            <a:off x="395280" y="260280"/>
            <a:ext cx="93790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979640" y="836640"/>
            <a:ext cx="4724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latin typeface="隶书"/>
              </a:rPr>
              <a:t>金色的脚印</a:t>
            </a:r>
            <a:endParaRPr b="1" lang="en-US" sz="2400" spc="1" strike="noStrike">
              <a:ln w="9360">
                <a:solidFill>
                  <a:srgbClr val="ff3300"/>
                </a:solidFill>
                <a:miter/>
              </a:ln>
              <a:solidFill>
                <a:srgbClr val="ffff00"/>
              </a:solidFill>
              <a:latin typeface="隶书"/>
              <a:ea typeface="隶书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124000" y="2924280"/>
            <a:ext cx="5488200" cy="3568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332000" y="4046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华文中宋"/>
                <a:ea typeface="华文中宋"/>
              </a:rPr>
              <a:t>人教新课标  六年级  语文  上册  第七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62120" y="5105520"/>
            <a:ext cx="6862680" cy="9604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187280" y="620640"/>
            <a:ext cx="53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Times New Roman"/>
              </a:rPr>
              <a:t>阅读汇报一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2060640"/>
            <a:ext cx="7632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一边读一边想，你读懂了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95280" y="1341360"/>
            <a:ext cx="7848720" cy="43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缘故     黯淡    消瘦     知觉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光秃秃    冷清清    直勾勾    孤零零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湿漉漉    慢腾腾    热乎乎    炸豆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摇大摆      无影无踪     目不转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漫不经心      踱来踱去      漫不经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轻松自在      兴高采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9960" y="1989000"/>
            <a:ext cx="9115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会读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8:04:45Z</dcterms:created>
  <dc:creator>教师论坛 www.400538.com</dc:creator>
  <dc:description>教师论坛 www.400538.com</dc:description>
  <cp:keywords>教师论坛 www.400538.com</cp:keywords>
  <dc:language>en-US</dc:language>
  <cp:lastModifiedBy>User</cp:lastModifiedBy>
  <dcterms:modified xsi:type="dcterms:W3CDTF">2014-08-27T10:32:28Z</dcterms:modified>
  <cp:revision>31</cp:revision>
  <dc:subject>教师论坛 www.400538.com</dc:subject>
  <dc:title>教师论坛 www.400538.com</dc:title>
</cp:coreProperties>
</file>