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voltage.wav" ContentType="audio/x-wav"/>
  <Override PartName="/ppt/media/chimes.wav" ContentType="audio/x-wav"/>
  <Override PartName="/ppt/media/image6.jpeg" ContentType="image/jpeg"/>
  <Override PartName="/ppt/media/image13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1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10.jpeg" ContentType="image/jpeg"/>
  <Override PartName="/ppt/media/image12.jpeg" ContentType="image/jpeg"/>
  <Override PartName="/ppt/media/cashreg.wav" ContentType="audio/x-wav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70D-CEC0-481E-9483-BF1A36105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B09-6580-4212-BE57-3B92C844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4D3F-216B-4643-9093-F6251C81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26A5-DA1D-4F67-9E2C-6E1511DA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D5D7-AADD-4321-ABDE-2931BD04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395F-9968-40F6-B97A-6E2B7702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EA77-69BC-465E-BB65-C21425D8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366D-5BEE-489D-9A95-FB4924AB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0F81-52FB-4815-9C39-9BAB3C19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6884-D6D1-4738-9E02-490385C1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D6F3-C74B-4B97-BC06-979F4EC2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ED5-FAB1-4976-992C-DEC2DB51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E07E-D237-4D8A-AAAF-ACBDF24D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736D-D47B-4DB7-B514-91B79165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98F4-F90D-4EB1-9482-017DE0F7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D45B-BD83-455D-B619-44B75AD3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8163-5FE3-46D0-A421-B0F741F2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0951B-5353-476A-A67F-7463C13F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93A25-5E71-41B7-9D3E-8CF456E8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75626-7AC5-4EB3-BD21-35D46A33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3362A-A28C-4A96-8431-76AF96DE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B8CE9-F669-4F2F-832E-90849F39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8191-FD22-4FDB-A66C-34D0F92B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BC3E8-640E-4511-8EAE-6D2357EA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16BD4-9D36-4916-BFF9-85F2C227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6BA58-6678-41D6-85C8-59EA7EA7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C1BFF-D282-41F5-9D69-A37F4462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0831E-B3BC-414B-B620-C5012B01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9EFB8-0354-4A46-95E2-B4CEFB8F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63144-FC79-458D-9649-A836010A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34C49-98C1-4668-911E-E7D7AE8B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9102C-6477-4F94-9306-7281B2B3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072A8-F09F-40B0-8F67-B16D513B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46CC-F6C2-4EF3-A93C-949B82A1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6AD55-043C-4C20-82A6-DB140D96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00E61-8C57-49A4-8A89-359AABD4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D1598-310A-4463-AC9B-4F2E9CB0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338C7-44B9-43F9-904C-AE7C4ED6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E9B30-380C-49C0-B6FB-1979BD7A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18351-8152-4EF6-A6C8-AE7ABCFF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210C9-3641-479C-91F9-3DAFF228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CEE51-32BC-4CFB-A96E-1AF780B6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30B5D-4AA3-4E05-897F-B17C8A47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41571-C0C2-410A-B277-3097CEC0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1A40-DFD3-4E78-A389-F8CAC679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A85E1-CD09-489E-AFDC-A000FD20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02C6F-27AB-422F-B6D3-CF4E71BA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C883A-B160-4688-829F-4B646D55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95C05-B6DE-48D1-BF89-342B559A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7F9E4-B442-41CA-9F1D-043FCD1B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19B08-6788-43EF-8024-38E9D5D5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1D13F-EF19-423C-96C7-089225C0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3936B-F8D8-4E20-A700-5ACA3743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A9CB5-5004-4A1D-BFB0-7A71840D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4FC62-6E07-4E2C-9E28-F256528B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FB8E-BFC7-49F0-8182-4026C426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D7D79-FD26-4A0E-B78B-E73B26A7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55927-283D-4704-A6F1-F98157CF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A842E-9DA8-4679-A951-7E8F296C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7375E-880E-4029-BC2E-9B52BA28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EB6E6-BFFA-4DFE-9D77-32A5CFDC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E28A6-510C-4D96-B452-AADFB4CA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32121-3F7C-4DD7-AD01-720BE6E6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BB505-4CE5-4B0B-97D1-A920A723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81D68-3CCB-4E0B-A584-67D9EF19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D77DA-0122-4282-B763-FA3E6558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CF46-4BF5-4B81-8CFC-9CB2DD82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D4062-FA60-497F-B466-B8D23969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6935D-0F4C-4EDE-B4C1-39C37241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AB92D-F43F-4018-8280-B4C0D7CE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B8D3-2F2A-4F41-A40E-A1845E47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9FA-866D-4A37-8274-48FA1699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72F4-4867-4067-A61A-21109EAE5BAC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95E0-1EAA-4312-A6B0-CD3381E5B5E4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92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94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9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5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9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13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7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314A-558C-4479-8FCC-6C2918978378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6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7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1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5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9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3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7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A68E-5033-423C-8330-78471BF096F0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3AE5-A071-4BED-9841-3884E39D24BB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7A0B-957E-4AA4-B6AE-3CAE8ABD781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400538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yak.pw/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7.xml"/><Relationship Id="rId7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" Target="slide2.xml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2411280" y="3141720"/>
            <a:ext cx="3657600" cy="2838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2340000" y="1989000"/>
            <a:ext cx="403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金色的脚印</a:t>
            </a:r>
            <a:endParaRPr b="0" lang="en-US" sz="6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44" name=""/>
          <p:cNvSpPr/>
          <p:nvPr/>
        </p:nvSpPr>
        <p:spPr>
          <a:xfrm>
            <a:off x="1187280" y="836640"/>
            <a:ext cx="71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华文中宋"/>
              </a:rPr>
              <a:t>人教新课标  六年级  语文  上册  第七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华文中宋"/>
              </a:rPr>
              <a:t>比较阅读：读下面两段话，你有什么感受？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光秃秃的柞树林上边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露出冷清清的月亮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小狐狸孤零零地坐在窝里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仰起子嚎叫着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那是一种清脆的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悲伤的声音。</a:t>
            </a: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小狐狸刚跑出十几米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老狐狸不知从什么地方一齐奔了过来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兴高采烈地在小狐狸周围跳来跳去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然后一起嗖地朝树林深处跑去了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755640" y="5734080"/>
            <a:ext cx="6862680" cy="9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2"/>
          <a:srcRect l="0" t="0" r="0" b="10096"/>
          <a:stretch/>
        </p:blipFill>
        <p:spPr>
          <a:xfrm>
            <a:off x="755640" y="1557360"/>
            <a:ext cx="2706840" cy="25192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684360" y="4221000"/>
            <a:ext cx="6443640" cy="17622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rcRect l="0" t="0" r="1965" b="14307"/>
          <a:stretch/>
        </p:blipFill>
        <p:spPr>
          <a:xfrm>
            <a:off x="4859280" y="1484280"/>
            <a:ext cx="2417760" cy="25621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2"/>
          <a:srcRect l="0" t="0" r="20070" b="0"/>
          <a:stretch/>
        </p:blipFill>
        <p:spPr>
          <a:xfrm>
            <a:off x="1042920" y="1700280"/>
            <a:ext cx="2693880" cy="189216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14309" r="0" b="0"/>
          <a:stretch/>
        </p:blipFill>
        <p:spPr>
          <a:xfrm>
            <a:off x="4067280" y="1557360"/>
            <a:ext cx="2544480" cy="24051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4427640" y="4149720"/>
            <a:ext cx="2638440" cy="18637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971640" y="4005360"/>
            <a:ext cx="2200320" cy="1996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042920" y="177336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大自然是人和动物共同的家园，人们要和动物和谐相处，这个世界才更加美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2050920" y="3933720"/>
            <a:ext cx="7871040" cy="23036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826920" y="549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感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2843280" y="2924280"/>
            <a:ext cx="3724200" cy="15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再见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800000"/>
                </a:solidFill>
                <a:latin typeface="Arial"/>
              </a:rPr>
              <a:t>以上</a:t>
            </a:r>
            <a:r>
              <a:rPr b="0" lang="zh-CN" sz="3800" spc="-1" strike="noStrike">
                <a:solidFill>
                  <a:srgbClr val="800000"/>
                </a:solidFill>
                <a:latin typeface="Arial"/>
              </a:rPr>
              <a:t>ppt</a:t>
            </a:r>
            <a:r>
              <a:rPr b="0" lang="zh-CN" sz="3800" spc="-1" strike="noStrike">
                <a:solidFill>
                  <a:srgbClr val="800000"/>
                </a:solidFill>
                <a:latin typeface="Arial"/>
              </a:rPr>
              <a:t>课件由教师论坛提供下载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老师您辛苦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2613600" y="2349360"/>
            <a:ext cx="40212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课件演示完毕，老师您辛苦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755640" y="5229360"/>
            <a:ext cx="6862680" cy="9604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50920" y="1557360"/>
            <a:ext cx="88930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055d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太郎对狐狸之间的情感从</a:t>
            </a:r>
            <a:r>
              <a:rPr b="0" lang="zh-CN" sz="2800" spc="-1" strike="noStrike" u="sng">
                <a:solidFill>
                  <a:srgbClr val="996600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同情、可怜</a:t>
            </a:r>
            <a:r>
              <a:rPr b="1" lang="zh-CN" sz="2800" spc="-1" strike="noStrike">
                <a:solidFill>
                  <a:srgbClr val="ec149f"/>
                </a:solidFill>
                <a:latin typeface="楷体_GB2312"/>
                <a:ea typeface="楷体_GB2312"/>
              </a:rPr>
              <a:t>→</a:t>
            </a:r>
            <a:r>
              <a:rPr b="0" lang="zh-CN" sz="2800" spc="-1" strike="noStrike" u="sng">
                <a:solidFill>
                  <a:srgbClr val="996600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关心、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996600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助</a:t>
            </a:r>
            <a:r>
              <a:rPr b="1" lang="zh-CN" sz="2800" spc="-1" strike="noStrike">
                <a:solidFill>
                  <a:srgbClr val="ec149f"/>
                </a:solidFill>
                <a:latin typeface="楷体_GB2312"/>
                <a:ea typeface="楷体_GB2312"/>
              </a:rPr>
              <a:t>→</a:t>
            </a:r>
            <a:r>
              <a:rPr b="0" lang="zh-CN" sz="2800" spc="-1" strike="noStrike" u="sng">
                <a:solidFill>
                  <a:srgbClr val="996600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真正理解、放归自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会有这样的变化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71480" y="385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8360" y="3789360"/>
            <a:ext cx="867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默读画出正太郎语言、动作、神态、心理活动和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狸动作、神态的词语、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抓重点词语批注自己的感受。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分钟至少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处。</a:t>
            </a:r>
            <a:r>
              <a:rPr b="0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4360" y="404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阅读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4360" y="2924280"/>
            <a:ext cx="29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学习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971640" y="836640"/>
            <a:ext cx="71625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光秃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柞树林上边，露出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清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月亮。小狐狸</a:t>
            </a:r>
            <a:r>
              <a:rPr b="1" lang="zh-CN" sz="3600" spc="-1" strike="noStrike">
                <a:solidFill>
                  <a:srgbClr val="ec149f"/>
                </a:solidFill>
                <a:latin typeface="楷体_GB2312"/>
                <a:ea typeface="楷体_GB2312"/>
              </a:rPr>
              <a:t>孤零零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坐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窝里，</a:t>
            </a:r>
            <a:r>
              <a:rPr b="1" lang="zh-CN" sz="3600" spc="-1" strike="noStrike">
                <a:solidFill>
                  <a:srgbClr val="ec149f"/>
                </a:solidFill>
                <a:latin typeface="楷体_GB2312"/>
                <a:ea typeface="楷体_GB2312"/>
              </a:rPr>
              <a:t>仰起脖子嚎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。那是一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149f"/>
                </a:solidFill>
                <a:latin typeface="楷体_GB2312"/>
                <a:ea typeface="楷体_GB2312"/>
              </a:rPr>
              <a:t>清脆的、悲伤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762120" y="5105520"/>
            <a:ext cx="6862680" cy="960480"/>
          </a:xfrm>
          <a:prstGeom prst="rect">
            <a:avLst/>
          </a:prstGeom>
          <a:ln w="0">
            <a:noFill/>
          </a:ln>
        </p:spPr>
      </p:pic>
      <p:sp>
        <p:nvSpPr>
          <p:cNvPr id="353" name="">
            <a:hlinkClick r:id="" action="ppaction://hlinkshowjump?jump=previousslide"/>
          </p:cNvPr>
          <p:cNvSpPr/>
          <p:nvPr/>
        </p:nvSpPr>
        <p:spPr>
          <a:xfrm>
            <a:off x="7885080" y="6165720"/>
            <a:ext cx="611280" cy="466920"/>
          </a:xfrm>
          <a:custGeom>
            <a:avLst/>
            <a:gdLst>
              <a:gd name="textAreaLeft" fmla="*/ 30240 w 611280"/>
              <a:gd name="textAreaRight" fmla="*/ 581040 w 61128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28273" h="21600">
                <a:moveTo>
                  <a:pt x="0" y="0"/>
                </a:moveTo>
                <a:lnTo>
                  <a:pt x="28273" y="0"/>
                </a:lnTo>
                <a:lnTo>
                  <a:pt x="28273" y="21600"/>
                </a:lnTo>
                <a:lnTo>
                  <a:pt x="0" y="21600"/>
                </a:lnTo>
                <a:close/>
              </a:path>
              <a:path fill="lightenLess" w="28273" h="21600">
                <a:moveTo>
                  <a:pt x="0" y="0"/>
                </a:moveTo>
                <a:lnTo>
                  <a:pt x="28273" y="0"/>
                </a:lnTo>
                <a:lnTo>
                  <a:pt x="26873" y="1400"/>
                </a:lnTo>
                <a:lnTo>
                  <a:pt x="1400" y="1400"/>
                </a:lnTo>
                <a:close/>
              </a:path>
              <a:path fill="darken" w="28273" h="21600">
                <a:moveTo>
                  <a:pt x="28273" y="0"/>
                </a:moveTo>
                <a:lnTo>
                  <a:pt x="28273" y="21600"/>
                </a:lnTo>
                <a:lnTo>
                  <a:pt x="26873" y="20200"/>
                </a:lnTo>
                <a:lnTo>
                  <a:pt x="26873" y="1400"/>
                </a:lnTo>
                <a:close/>
              </a:path>
              <a:path fill="darkenLess" w="28273" h="21600">
                <a:moveTo>
                  <a:pt x="282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3" y="20200"/>
                </a:lnTo>
                <a:close/>
              </a:path>
              <a:path fill="lighten" w="282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3" h="21600">
                <a:moveTo>
                  <a:pt x="1413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8273" h="21600">
                <a:moveTo>
                  <a:pt x="1413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8273" h="21600">
                <a:moveTo>
                  <a:pt x="11560" y="8224"/>
                </a:moveTo>
                <a:lnTo>
                  <a:pt x="15425" y="8224"/>
                </a:lnTo>
                <a:lnTo>
                  <a:pt x="15425" y="15221"/>
                </a:lnTo>
                <a:lnTo>
                  <a:pt x="16713" y="15221"/>
                </a:lnTo>
                <a:lnTo>
                  <a:pt x="16713" y="16144"/>
                </a:lnTo>
                <a:lnTo>
                  <a:pt x="11560" y="16144"/>
                </a:lnTo>
                <a:lnTo>
                  <a:pt x="11560" y="15221"/>
                </a:lnTo>
                <a:lnTo>
                  <a:pt x="12848" y="15221"/>
                </a:lnTo>
                <a:lnTo>
                  <a:pt x="12848" y="9129"/>
                </a:lnTo>
                <a:lnTo>
                  <a:pt x="11560" y="912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5690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每逢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家里做过油肉，炸豆腐什么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正太郎就留一些，扔进地板下面，并且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天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把一杯牛奶倒在一只铁碗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762120" y="5105520"/>
            <a:ext cx="6862680" cy="960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3" name="voltage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050920" y="893880"/>
            <a:ext cx="3430800" cy="25113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50920" y="364500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过了一个月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老狐狸和正太郎熟悉了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小狐狸一见正太郎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也会用它那粗糙的粉红色的舌头柔和地舔他的手。有时家里没有别人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正太郎的屋门就会轻轻地响一声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那两只狐狸从稍稍拉开的门缝进来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舔正太郎的手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轻松自在地在屋里踱来踱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8424720" y="6354720"/>
            <a:ext cx="719280" cy="50328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64" h="21600">
                <a:moveTo>
                  <a:pt x="0" y="0"/>
                </a:moveTo>
                <a:lnTo>
                  <a:pt x="30864" y="0"/>
                </a:lnTo>
                <a:lnTo>
                  <a:pt x="30864" y="21600"/>
                </a:lnTo>
                <a:lnTo>
                  <a:pt x="0" y="21600"/>
                </a:lnTo>
                <a:close/>
              </a:path>
              <a:path fill="lightenLess" w="30864" h="21600">
                <a:moveTo>
                  <a:pt x="0" y="0"/>
                </a:moveTo>
                <a:lnTo>
                  <a:pt x="30864" y="0"/>
                </a:lnTo>
                <a:lnTo>
                  <a:pt x="29464" y="1400"/>
                </a:lnTo>
                <a:lnTo>
                  <a:pt x="1400" y="1400"/>
                </a:lnTo>
                <a:close/>
              </a:path>
              <a:path fill="darken" w="30864" h="21600">
                <a:moveTo>
                  <a:pt x="30864" y="0"/>
                </a:moveTo>
                <a:lnTo>
                  <a:pt x="30864" y="21600"/>
                </a:lnTo>
                <a:lnTo>
                  <a:pt x="29464" y="20200"/>
                </a:lnTo>
                <a:lnTo>
                  <a:pt x="29464" y="1400"/>
                </a:lnTo>
                <a:close/>
              </a:path>
              <a:path fill="darkenLess" w="30864" h="21600">
                <a:moveTo>
                  <a:pt x="30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4" y="20200"/>
                </a:lnTo>
                <a:close/>
              </a:path>
              <a:path fill="lighten" w="30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4" h="21600">
                <a:moveTo>
                  <a:pt x="1543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0864" h="21600">
                <a:moveTo>
                  <a:pt x="1543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0864" h="21600">
                <a:moveTo>
                  <a:pt x="12856" y="8224"/>
                </a:moveTo>
                <a:lnTo>
                  <a:pt x="16720" y="8224"/>
                </a:lnTo>
                <a:lnTo>
                  <a:pt x="16720" y="15221"/>
                </a:lnTo>
                <a:lnTo>
                  <a:pt x="18008" y="15221"/>
                </a:lnTo>
                <a:lnTo>
                  <a:pt x="18008" y="16144"/>
                </a:lnTo>
                <a:lnTo>
                  <a:pt x="12856" y="16144"/>
                </a:lnTo>
                <a:lnTo>
                  <a:pt x="12856" y="15221"/>
                </a:lnTo>
                <a:lnTo>
                  <a:pt x="14144" y="15221"/>
                </a:lnTo>
                <a:lnTo>
                  <a:pt x="14144" y="9129"/>
                </a:lnTo>
                <a:lnTo>
                  <a:pt x="12856" y="912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755640" y="5734080"/>
            <a:ext cx="6862680" cy="960480"/>
          </a:xfrm>
          <a:prstGeom prst="rect">
            <a:avLst/>
          </a:prstGeom>
          <a:ln w="0">
            <a:noFill/>
          </a:ln>
        </p:spPr>
      </p:pic>
      <p:sp>
        <p:nvSpPr>
          <p:cNvPr id="360" name="">
            <a:hlinkClick r:id="rId3" action="ppaction://hlinksldjump"/>
          </p:cNvPr>
          <p:cNvSpPr/>
          <p:nvPr/>
        </p:nvSpPr>
        <p:spPr>
          <a:xfrm>
            <a:off x="8388360" y="6308640"/>
            <a:ext cx="433440" cy="35892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6080" h="21600">
                <a:moveTo>
                  <a:pt x="0" y="0"/>
                </a:moveTo>
                <a:lnTo>
                  <a:pt x="26080" y="0"/>
                </a:lnTo>
                <a:lnTo>
                  <a:pt x="26080" y="21600"/>
                </a:lnTo>
                <a:lnTo>
                  <a:pt x="0" y="21600"/>
                </a:lnTo>
                <a:close/>
              </a:path>
              <a:path fill="lightenLess" w="26080" h="21600">
                <a:moveTo>
                  <a:pt x="0" y="0"/>
                </a:moveTo>
                <a:lnTo>
                  <a:pt x="26080" y="0"/>
                </a:lnTo>
                <a:lnTo>
                  <a:pt x="24680" y="1400"/>
                </a:lnTo>
                <a:lnTo>
                  <a:pt x="1400" y="1400"/>
                </a:lnTo>
                <a:close/>
              </a:path>
              <a:path fill="darken" w="26080" h="21600">
                <a:moveTo>
                  <a:pt x="26080" y="0"/>
                </a:moveTo>
                <a:lnTo>
                  <a:pt x="26080" y="21600"/>
                </a:lnTo>
                <a:lnTo>
                  <a:pt x="24680" y="20200"/>
                </a:lnTo>
                <a:lnTo>
                  <a:pt x="24680" y="1400"/>
                </a:lnTo>
                <a:close/>
              </a:path>
              <a:path fill="darkenLess" w="26080" h="21600">
                <a:moveTo>
                  <a:pt x="2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0" y="20200"/>
                </a:lnTo>
                <a:close/>
              </a:path>
              <a:path fill="lighten" w="2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0" h="21600">
                <a:moveTo>
                  <a:pt x="1304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080" h="21600">
                <a:moveTo>
                  <a:pt x="1304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080" h="21600">
                <a:moveTo>
                  <a:pt x="10464" y="8224"/>
                </a:moveTo>
                <a:lnTo>
                  <a:pt x="14328" y="8224"/>
                </a:lnTo>
                <a:lnTo>
                  <a:pt x="14328" y="15221"/>
                </a:lnTo>
                <a:lnTo>
                  <a:pt x="15616" y="15221"/>
                </a:lnTo>
                <a:lnTo>
                  <a:pt x="15616" y="16144"/>
                </a:lnTo>
                <a:lnTo>
                  <a:pt x="10464" y="16144"/>
                </a:lnTo>
                <a:lnTo>
                  <a:pt x="10464" y="15221"/>
                </a:lnTo>
                <a:lnTo>
                  <a:pt x="11752" y="15221"/>
                </a:lnTo>
                <a:lnTo>
                  <a:pt x="11752" y="9129"/>
                </a:lnTo>
                <a:lnTo>
                  <a:pt x="10464" y="9129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00000" y="1052640"/>
            <a:ext cx="777744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0c5c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a0c5c"/>
                </a:solidFill>
                <a:latin typeface="Arial"/>
                <a:ea typeface="楷体_GB2312"/>
              </a:rPr>
              <a:t>不知过了多长时间，他费力地睁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0c5c"/>
                </a:solidFill>
                <a:latin typeface="Arial"/>
                <a:ea typeface="楷体_GB2312"/>
              </a:rPr>
              <a:t>眼，朦胧中看见一只大狐狸正在不停地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0c5c"/>
                </a:solidFill>
                <a:latin typeface="Arial"/>
                <a:ea typeface="楷体_GB2312"/>
              </a:rPr>
              <a:t>他的脸颊和嘴唇。另一只狐狸蹲在他的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0c5c"/>
                </a:solidFill>
                <a:latin typeface="Arial"/>
                <a:ea typeface="楷体_GB2312"/>
              </a:rPr>
              <a:t>脯上，温暖着他的身子</a:t>
            </a:r>
            <a:r>
              <a:rPr b="1" lang="zh-CN" sz="3200" spc="-1" strike="noStrike">
                <a:solidFill>
                  <a:srgbClr val="0a0c5c"/>
                </a:solidFill>
                <a:latin typeface="Arial"/>
                <a:ea typeface="华文中宋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  <p:sndAc>
      <p:stSnd>
        <p:snd r:embed="rId4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79280" y="333360"/>
            <a:ext cx="882036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小狐狸刚跑出十几米远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老狐狸不知从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地方一齐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奔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了过来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兴高采烈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地在小狐狸周围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来跳去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然后一起嗖地朝树林深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跑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去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迎着耀眼的阳光，狐狸的脚印闪着金色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光芒，一直延伸到密林深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755640" y="5734080"/>
            <a:ext cx="6862680" cy="9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11280" y="5493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迎着耀眼的阳光，狐狸的脚印闪着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金色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光芒，一直延伸到密林深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84360" y="1700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金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！</a:t>
            </a:r>
            <a:r>
              <a:rPr b="1" lang="zh-CN" sz="3200" spc="-1" strike="noStrike">
                <a:solidFill>
                  <a:srgbClr val="cccc00"/>
                </a:solidFill>
                <a:latin typeface="Arial"/>
              </a:rPr>
              <a:t>金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来形容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11720" y="4054320"/>
            <a:ext cx="58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狐狸的脚印闪着金色的光芒”赞扬了 ———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79280" y="2421000"/>
            <a:ext cx="8675640" cy="794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金色一般用来形容十分珍贵、有意义或值得纪念的东西，小狐狸一家人能得到人们的关心而合家团聚、回到树林中，这是最美好、最有意义的一件事；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9640" y="4797360"/>
            <a:ext cx="835344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赞扬正太郎对狐狸一家的爱，老狐狸对小狐狸的爱，老狐狸对正太郎的救护之情，因而用“狐狸的脚印闪着金色的光芒”来赞美这样的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755640" y="5734080"/>
            <a:ext cx="6862680" cy="96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2411280" y="2924280"/>
            <a:ext cx="4005360" cy="2604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900000" y="1341360"/>
            <a:ext cx="755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迎着耀眼的阳光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狐狸的脚印闪着金色的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芒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一直延伸到密林深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755640" y="5734080"/>
            <a:ext cx="6862680" cy="96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0:48:31Z</dcterms:created>
  <dc:creator>教师论坛 www.400538.com</dc:creator>
  <dc:description>教师论坛 www.400538.com</dc:description>
  <cp:keywords>教师论坛 www.400538.com</cp:keywords>
  <dc:language>en-US</dc:language>
  <cp:lastModifiedBy>User</cp:lastModifiedBy>
  <dcterms:modified xsi:type="dcterms:W3CDTF">2014-08-27T10:32:27Z</dcterms:modified>
  <cp:revision>6</cp:revision>
  <dc:subject>教师论坛 www.400538.com</dc:subject>
  <dc:title>教师论坛 www.400538.com</dc:title>
</cp:coreProperties>
</file>