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chimes.wav" ContentType="audio/x-wav"/>
  <Override PartName="/ppt/media/image11.jpeg" ContentType="image/jpeg"/>
  <Override PartName="/ppt/media/image9.gif" ContentType="image/gif"/>
  <Override PartName="/ppt/media/image10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65C-B5BD-4800-9585-BA9C783D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D7E1-3D40-4640-8802-8C0A0348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43239-BC3D-4D76-BA03-C2A5453D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3BE96-8E3C-4B11-B84A-8AA04F1B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19C55-6B67-4443-B888-15C15ACF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BFDA7-A9B7-4D7C-B651-602A1981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D6FB2-6D0A-4E0E-B22D-37114DF2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2520D-CD67-4597-B901-E3EEDB51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3495E-548F-42FD-97A7-45CC09C7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94DEE-8C67-49C3-B680-890A77E1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5B54C-22F1-432D-8939-AF122C72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DDE-99DA-436D-B293-000764AE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FBE2-9F7B-44EB-A1FE-BB2BD101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E1B7-EC5C-4373-B3A6-6A816FB0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A5E0-8015-47D6-8919-5EF0A849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97C2-6880-4297-BCA7-F9131BB2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4275-C7B4-47F5-8939-C53E7BB1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1B37-3D33-44C3-ACFC-D23BE1D0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8F75-19A1-486E-8894-32B2B702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8E92-F365-4F70-9597-E7C9BA67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1B56-C602-4279-AD74-B4F7DE09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B357-606C-4AB0-AB77-EA5CCAD5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7C74-667D-4734-98A8-52EBF74E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186D-DE3B-4218-A391-86ADA5D6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732B-D994-48DF-85EE-A0406C7E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EF2A-EB01-40E1-9CB3-D2179FC7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2C8EB-61C1-4A60-B486-867A0883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65605-0E01-452E-8E84-C112072E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5402C-626E-4F5A-A50F-47FFA28F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B44E2-4628-4A00-847E-8FCC2EAA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9A731-1D4C-4EA8-949B-7193587D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E539-E974-4F94-A774-EE08AB0A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91657-37A8-46B9-82AC-72DFB9BE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F22B5-013A-466E-B99D-41D116A7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758A7-BBAF-4F2A-A622-484B7047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94816-23E1-428D-A856-FD894FB5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2783F-1437-4D26-B53E-A6A0D84E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ACC4D-4566-4B95-A156-4FAE1501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DB792-29D4-489E-8CA5-EBAD558C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21DEF-5659-487A-9BF6-AD8D02FE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67822-2BFD-45BA-9CA7-AB422AEE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64F69-A2EC-4CCF-BF1C-66ACA57A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FE1-8FBA-4788-8C29-F3952A62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EAAB7-8E8C-40F8-AA86-2E15F8EC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43F49-3A4A-4139-8EF7-4AB0AAAF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B346B-7FC7-4C45-9466-ED0ED285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E3E9C-0483-4148-82CF-B54F8917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35F8A-62FA-48A1-B545-8D1E1378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993FE-970C-4D99-BF9E-7EE96E6F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C2E01-01FC-4324-9045-18A10836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AC8FC-AA2D-4841-9F3F-27D89807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295AA-491D-4FF7-A7FA-0D79E552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256EE-2282-4AE1-A6E5-36A3F377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E11-E52F-46C9-92F0-501ECC6E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7FD67-BE9D-4CD0-AB19-53E50608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2131D-333E-4EBF-8A71-5B18EAE3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4AB21-D20D-4D55-90F1-D2F38753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B4BC8-C7CA-4D4B-82CF-6F629938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9E89F-AA67-4DD7-870F-5E499B0E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EF878-8A83-4731-B250-512937AB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43093-E7A5-49ED-A948-9D410451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107EF-2AA7-4ECF-B1E1-5A89BA13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48AA0-3D61-474D-B33D-8E9AE450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25B05-254A-4230-934E-47CAC66C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CC3E-EED8-4B46-AEA7-BE106EA9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2AB27-E564-4479-87A5-8565B760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19FF5-458D-4CC5-9C66-41D5D814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32B05-C9C3-4A94-AA07-795DA0D0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2B972-CB81-40E4-B672-8418C505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FDD19-445D-46CA-A44E-2C22B1FE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1E9F2-FB51-4A10-A74A-5652025B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6CF75-58F2-4EF3-9A31-6DD42465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F36FB-AA34-4312-8460-391FEBE6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26769-75FA-4314-8C33-B4A14775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E01EF-C74E-4B54-96E6-166B42A4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D1C5-7858-406E-8472-4617C6B6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B15B8-DEDE-46D6-A179-16F28199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B7414-5123-41F1-A215-B9EDBB24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42EBC-2F46-4B68-921A-28D54007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DE3BF-9774-475D-BF85-0D7B1FF2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34D3D-E305-4700-B53A-570FF2C3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37573-2954-4823-9F21-AA120843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82487-0319-40EF-844A-B8D0B6C0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E48BF-C574-4195-BFB0-99D360BD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155B1-84DC-4DE7-9DB2-9DD9533F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D9938-0325-4667-BC2B-FA362C14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E03D-F04B-43A0-8946-4A5F4503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9669A-7A99-452F-A4C8-6B5E4AE8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5827E-46DB-4969-B789-AB3D8F47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7B5EE-FA3E-432B-B478-897368E5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8CE44-F004-4D6A-B24D-3489D224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35991-C4E7-42CE-8B66-DFF953C5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AF997-95DD-4308-9326-1C1D9285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7E047-AA9E-4278-A029-EA9AC637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F7028-15EB-4669-9BB9-AD8956A0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7500D-C912-4BDD-8C79-8A72DD59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27FE4-2E04-491E-8933-EDFA5EF9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5C75-B138-4663-B0E8-F114018D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297C4-EFFF-4F3A-A759-4EEEA7DE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64497-4DF6-4CBC-AC70-DE71B1C9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AC746-84DD-4D71-BE36-08C99976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78620-5099-486E-891F-0DF4BC74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22E10-84C5-4617-BA92-2421A121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F9D24-3043-4C59-B108-C121705D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BC288-B0E8-41AB-BD8B-51BF509E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2DDD9-D886-4E7F-905D-55DC82D1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D0EAD-252C-48DE-9229-6AAA205C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DB363-8AD8-429F-B399-C0DF05ED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C177-98FF-474F-9BE8-2A8FDAAAD6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2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328F-BF54-4BB4-BF0F-7E5C809A80DC}" type="slidenum">
              <a:rPr b="0" lang="zh-CN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93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8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9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0865-1F90-4370-97FE-D780F934E97B}" type="slidenum">
              <a:rPr b="0" lang="zh-CN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2520" cy="66261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568A-4150-48A0-A70A-6310E152D0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09C9-7CF8-466C-BB05-090091F5BD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A6C8-48AE-4902-B619-B230F58FB6B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38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5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68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69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71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9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C2DA-ED99-45B3-98CD-A110FBB3003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22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26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32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36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1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50EC-9DD9-42FE-802E-35DC48A7BA3F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887B-3BF0-47E4-8A15-161E8D0F65E2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400538.com/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www.yak.pw/" TargetMode="External"/><Relationship Id="rId5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2024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2133720" y="1295280"/>
            <a:ext cx="52578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金色的脚印</a:t>
            </a:r>
            <a:endParaRPr b="1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7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人教新课标）六年级语文上册第七单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7640" cy="685800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2286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5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-252360" y="260280"/>
            <a:ext cx="878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这篇课文赞美了人与动物之间互相信任、互相帮助、和谐相处的美好关系，也展现了动物之间生死相依的浓浓亲情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468360" y="476280"/>
            <a:ext cx="698508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隶书"/>
              </a:rPr>
              <a:t>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色的母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母爱是伟大的、无私的，“血色的母爱”更是震撼人心的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95280" y="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大自然是人和动物共同的家园，人们要和动物和谐相处，这个世界才更加美丽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130428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840680" y="1986120"/>
            <a:ext cx="234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亡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补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000040" y="1882800"/>
            <a:ext cx="201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到成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057400" y="2057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59280" y="198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16000" y="206064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43400" y="2743200"/>
            <a:ext cx="31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犬不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893480" y="3389400"/>
            <a:ext cx="192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目寸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47920" y="28954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弹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891680" y="3998880"/>
            <a:ext cx="203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腾虎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371600" y="4267080"/>
            <a:ext cx="305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画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添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104920" y="4832280"/>
            <a:ext cx="30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人怕出名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怕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3581280"/>
            <a:ext cx="27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仗人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942440" y="263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85200" y="342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3505320"/>
            <a:ext cx="5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057400" y="419112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蛇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800600" y="40384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635280" y="47973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84200" y="765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填上有关动物的词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以上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课件由教师论坛提供下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00"/>
                </a:solidFill>
                <a:latin typeface="Times New Roman"/>
              </a:rPr>
              <a:t>老师您辛苦了！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2613600" y="2349360"/>
            <a:ext cx="40212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课件演示完毕，老师您辛苦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0"/>
            <a:ext cx="96267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200" spc="-1" strike="noStrike">
                <a:solidFill>
                  <a:srgbClr val="ff0000"/>
                </a:solidFill>
                <a:latin typeface="Times New Roman"/>
                <a:ea typeface="隶书"/>
              </a:rPr>
              <a:t>狐狸</a:t>
            </a:r>
            <a:r>
              <a:rPr b="0" lang="zh-CN" sz="43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zh-CN" sz="4700" spc="-1" strike="noStrike">
                <a:solidFill>
                  <a:srgbClr val="000000"/>
                </a:solidFill>
                <a:latin typeface="Times New Roman"/>
                <a:ea typeface="黑体"/>
              </a:rPr>
              <a:t>一种哺乳动物，形状有点像狼，但形体比狼要小一些。狐狸嘴尖面长，脸呈三角形，耳朵也是三角形的，尾巴蓬松且长，毛色一般为赤黄色。这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700" spc="-1" strike="noStrike">
                <a:solidFill>
                  <a:srgbClr val="000000"/>
                </a:solidFill>
                <a:latin typeface="Times New Roman"/>
                <a:ea typeface="黑体"/>
              </a:rPr>
              <a:t>种动物生性狡猾多疑，常昼伏夜出，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700" spc="-1" strike="noStrike">
                <a:solidFill>
                  <a:srgbClr val="000000"/>
                </a:solidFill>
                <a:latin typeface="Times New Roman"/>
                <a:ea typeface="黑体"/>
              </a:rPr>
              <a:t>以鼠类、鸟类或家禽为食。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762120" y="4724280"/>
            <a:ext cx="138859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828800" y="12952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楷体_GB2312"/>
              </a:rPr>
              <a:t>男佣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28800" y="26668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楷体_GB2312"/>
              </a:rPr>
              <a:t>光秃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28800" y="396252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楷体_GB2312"/>
              </a:rPr>
              <a:t>正太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828800" y="53341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楷体_GB2312"/>
              </a:rPr>
              <a:t>湿漉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0" y="868320"/>
            <a:ext cx="17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zypyyb"/>
                <a:ea typeface="zypyyb"/>
              </a:rPr>
              <a:t>yō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11280" y="19890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zypyyb"/>
                <a:ea typeface="zypyyb"/>
              </a:rPr>
              <a:t>t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43200" y="3505320"/>
            <a:ext cx="154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zypyyb"/>
                <a:ea typeface="zypyyb"/>
              </a:rPr>
              <a:t>lá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38280" y="49528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zypyyb"/>
                <a:ea typeface="zypyyb"/>
              </a:rPr>
              <a:t>l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19720" y="129528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楷体_GB2312"/>
              </a:rPr>
              <a:t>柞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266688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楷体_GB2312"/>
              </a:rPr>
              <a:t>嗥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419720" y="39625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楷体_GB2312"/>
              </a:rPr>
              <a:t>仓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19720" y="530208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楷体_GB2312"/>
              </a:rPr>
              <a:t>哆哆嗦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19720" y="868320"/>
            <a:ext cx="11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zypyyb"/>
                <a:ea typeface="zypyyb"/>
              </a:rPr>
              <a:t>zu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19720" y="2239920"/>
            <a:ext cx="11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zypyyb"/>
                <a:ea typeface="zypyyb"/>
              </a:rPr>
              <a:t>há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3400" y="350532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zypyyb"/>
                <a:ea typeface="zypyyb"/>
              </a:rPr>
              <a:t>cā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56000" y="4724280"/>
            <a:ext cx="11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zypyyb"/>
                <a:ea typeface="zypyyb"/>
              </a:rPr>
              <a:t>du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51640" y="4653000"/>
            <a:ext cx="11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zypyyb"/>
                <a:ea typeface="zypyyb"/>
              </a:rPr>
              <a:t>su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705720" y="129528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楷体_GB2312"/>
              </a:rPr>
              <a:t>蹭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05720" y="266688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楷体_GB2312"/>
              </a:rPr>
              <a:t>拽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05720" y="39625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楷体_GB2312"/>
              </a:rPr>
              <a:t>咔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868320"/>
            <a:ext cx="16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zypyyb"/>
                <a:ea typeface="zypyyb"/>
              </a:rPr>
              <a:t>cè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516720" y="220500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zypyyb"/>
                <a:ea typeface="zypyyb"/>
              </a:rPr>
              <a:t>zhuà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781680" y="35053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zypyyb"/>
                <a:ea typeface="zypyyb"/>
              </a:rPr>
              <a:t>k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828800" y="164628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瞪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676520" y="304812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脸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419720" y="164628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惦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419720" y="30178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28800" y="4389480"/>
            <a:ext cx="41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踱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来踱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705720" y="1646280"/>
            <a:ext cx="213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铁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705720" y="30481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219320" y="380880"/>
            <a:ext cx="792468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秃秃 冷清清 孤零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湿漉漉 直勾勾 热乎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2971800"/>
            <a:ext cx="7924680" cy="33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不转睛  大摇大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莫名其妙  漫不经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影无踪  兴高采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302280" y="189000"/>
            <a:ext cx="442512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7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5100" spc="-1" strike="noStrike">
                <a:solidFill>
                  <a:srgbClr val="000000"/>
                </a:solidFill>
                <a:latin typeface="Times New Roman"/>
              </a:rPr>
              <a:t>正太郎家的佣人从山里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00"/>
                </a:solidFill>
                <a:latin typeface="Times New Roman"/>
              </a:rPr>
              <a:t>捉回一只小狐狸。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47640" y="184464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正太郎从邻居家要回小狐狸，和爸爸一起把它放回山里，狐狸一家终于团聚并回到了树林中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179280" y="53341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3"/>
          <a:stretch/>
        </p:blipFill>
        <p:spPr>
          <a:xfrm>
            <a:off x="7020000" y="5219640"/>
            <a:ext cx="1638360" cy="16383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0" y="260280"/>
            <a:ext cx="226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起因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2637000"/>
            <a:ext cx="187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结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3300"/>
                </a:solidFill>
                <a:latin typeface="Times New Roman"/>
                <a:ea typeface="隶书"/>
              </a:rPr>
              <a:t>经过：</a:t>
            </a:r>
            <a:r>
              <a:rPr b="1" lang="zh-CN" sz="4700" spc="-1" strike="noStrike">
                <a:solidFill>
                  <a:srgbClr val="3333cc"/>
                </a:solidFill>
                <a:latin typeface="Times New Roman"/>
              </a:rPr>
              <a:t>两只老狐狸想尽办法要救小狐狸出去，冒着生命危险住在正太郎家的地板下面照顾小狐狸，并和十分同情小狐狸，并偷偷给老狐狸喂食的正太郎建立了亲密信任的关系。后来，小狐狸被送给邻居，正太郎为要回小狐狸，不慎掉下悬崖，两只老狐狸救护了严寒中昏迷的正太郎。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91440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老狐狸为了救小狐狸都做了哪些事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正太郎是怎样做的，狐狸和正太郎之间发生了哪些变化，为什么会有这些变化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说说你读了课文后的感受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24000" y="380880"/>
            <a:ext cx="770400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0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“我”为什么要帮助救狐狸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0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课文结尾及题目有什么含义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8:04:45Z</dcterms:created>
  <dc:creator>教师论坛 www.400538.com</dc:creator>
  <dc:description>教师论坛 www.400538.com</dc:description>
  <cp:keywords>教师论坛 www.400538.com</cp:keywords>
  <dc:language>en-US</dc:language>
  <cp:lastModifiedBy>User</cp:lastModifiedBy>
  <dcterms:modified xsi:type="dcterms:W3CDTF">2014-08-27T10:32:31Z</dcterms:modified>
  <cp:revision>30</cp:revision>
  <dc:subject>教师论坛 www.400538.com</dc:subject>
  <dc:title>教师论坛 www.400538.com</dc:title>
</cp:coreProperties>
</file>