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37A-D6FB-4038-AB85-7C524B4E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EE6-12B2-4855-8B0C-304C7288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DE8-CD6A-427C-AA2C-954AD0B5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891-E747-4371-8B7F-EDBACE81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E1EF-9D92-415C-B9D5-802B883E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06CD-7C92-4E48-B1C3-4AC24F3B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431F-69A2-4A28-A4A7-40E9D262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3955-61AD-4634-B558-6FE4D7B5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9DF2-6139-4AD7-8548-9C68BB07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769D-0F06-47A0-B35B-945BF000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C7E3-5189-46D1-A147-8C53749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8A13-8552-4424-B39E-2D4F7A05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7373-7BD3-44FC-9F28-5A500559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7F2A-687C-4BE4-B071-D2EBA990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7490-530D-4BF2-B879-9A798748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01E6-35F9-44B7-84B7-86F28E6A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C9F8-4D92-429D-BCA2-3CBE9016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D71-CA39-4ADE-8A6E-8853818A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3A5-B29A-4752-81CA-9CDEFB39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F3A-6B06-439E-9BAC-87503384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5B2-D21C-4705-98AE-F37F8FAF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3055-7B5E-46F2-831A-59E2FA74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7D5-FC48-470C-BE9B-80EFF126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11E-4E36-4520-9385-9AB155E4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看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7237-8E9A-4DD9-9836-A796E00682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02DC-2A17-435C-B4C5-050989D2B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baike.baidu.com/view/157454.htm" TargetMode="External"/><Relationship Id="rId4" Type="http://schemas.openxmlformats.org/officeDocument/2006/relationships/hyperlink" Target="http://baike.baidu.com/view/3106168.htm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dministrator\Desktop\8132de77570ae00d4469391782ecb05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0" y="1428840"/>
            <a:ext cx="9906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宋体"/>
              </a:rPr>
              <a:t>江畔独步寻花</a:t>
            </a:r>
            <a:endParaRPr b="1" lang="en-US" sz="66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宋体"/>
              </a:rPr>
              <a:t>            </a:t>
            </a:r>
            <a:endParaRPr b="1" lang="en-US" sz="6600" spc="-1" strike="noStrike">
              <a:solidFill>
                <a:srgbClr val="000000"/>
              </a:solidFill>
              <a:latin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宋体"/>
              </a:rPr>
              <a:t>        </a:t>
            </a:r>
            <a:r>
              <a:rPr b="1" lang="zh-CN" sz="6600" spc="-1" strike="noStrike">
                <a:solidFill>
                  <a:srgbClr val="000099"/>
                </a:solidFill>
                <a:latin typeface="宋体"/>
              </a:rPr>
              <a:t>（唐）杜甫</a:t>
            </a:r>
            <a:endParaRPr b="1" lang="en-US" sz="6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小学语文2"/>
          <p:cNvPicPr/>
          <p:nvPr/>
        </p:nvPicPr>
        <p:blipFill>
          <a:blip r:embed="rId1"/>
          <a:stretch/>
        </p:blipFill>
        <p:spPr>
          <a:xfrm>
            <a:off x="-322200" y="-241200"/>
            <a:ext cx="9752040" cy="7313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476360" y="386064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7" name="黄师塔前的.wav" descr=""/>
          <p:cNvPicPr/>
          <p:nvPr/>
        </p:nvPicPr>
        <p:blipFill>
          <a:blip r:embed="rId2"/>
          <a:stretch/>
        </p:blipFill>
        <p:spPr>
          <a:xfrm>
            <a:off x="5651640" y="670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924360" y="333360"/>
            <a:ext cx="442764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杜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字子美，自号少陵野老，汉族，巩县（今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宋体"/>
                <a:hlinkClick r:id="rId3"/>
              </a:rPr>
              <a:t>河南巩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人。唐代最伟大的现实主义诗人。他忧国忧民，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宋体"/>
                <a:hlinkClick r:id="rId4"/>
              </a:rPr>
              <a:t>人格高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他的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诗歌被保留了下来，诗艺精湛，他在中国古典诗歌中的影响非常深远，被后世尊称为“诗圣”，他的诗也被称为“诗史”。杜甫与李白并称 “大李杜”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9" name="Picture 6" descr="c9fcc3cec3fdfc033ee3f6b8d43f8794a4c22612"/>
          <p:cNvPicPr/>
          <p:nvPr/>
        </p:nvPicPr>
        <p:blipFill>
          <a:blip r:embed="rId5"/>
          <a:stretch/>
        </p:blipFill>
        <p:spPr>
          <a:xfrm>
            <a:off x="-322200" y="0"/>
            <a:ext cx="4051080" cy="602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小学语文2"/>
          <p:cNvPicPr/>
          <p:nvPr/>
        </p:nvPicPr>
        <p:blipFill>
          <a:blip r:embed="rId1"/>
          <a:stretch/>
        </p:blipFill>
        <p:spPr>
          <a:xfrm>
            <a:off x="-395280" y="-241200"/>
            <a:ext cx="9752040" cy="7313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1476360" y="386064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84360" y="1125360"/>
            <a:ext cx="74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杜甫在经历了“安史之乱”以后，来到了成都，建起草堂，有了自己的住所，感到十分欣慰。春暖花开，他独自沿江散步，看到江畔的美丽景色，写下了《江畔独步寻花》一组七首绝句。这是其中的第五首，题目中的“江”，指成都的锦江，“寻花”是赏花的意思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1280" y="260280"/>
            <a:ext cx="20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背景展示</a:t>
            </a:r>
            <a:endParaRPr b="1" lang="en-US" sz="4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小学语文2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826920" y="907920"/>
            <a:ext cx="707580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江畔独步寻花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杜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师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塔前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江水东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春光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∕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困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∕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风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桃花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簇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开无主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爱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深红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爱浅红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476360" y="386064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7" name="第一首.wav" descr=""/>
          <p:cNvPicPr/>
          <p:nvPr/>
        </p:nvPicPr>
        <p:blipFill>
          <a:blip r:embed="rId2"/>
          <a:stretch/>
        </p:blipFill>
        <p:spPr>
          <a:xfrm>
            <a:off x="558000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108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小学语文2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460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042920" y="1484280"/>
            <a:ext cx="7274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读：读准字音，读出节奏，读懂大意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悟：悟诗句意境，悟诗人表达的情感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赏：欣赏妙词佳句，欣赏相关诗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1332000" y="206064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1332000" y="3213000"/>
            <a:ext cx="0" cy="57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33280" y="260280"/>
            <a:ext cx="25736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欣赏古诗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小学语文2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384200" y="692280"/>
            <a:ext cx="700416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江畔独步寻花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杜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师塔前江水东， 春光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懒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困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微风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桃花一簇开无主， 可爱深红爱浅红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386064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60360" y="3429000"/>
            <a:ext cx="691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黑体"/>
                <a:ea typeface="黑体"/>
              </a:rPr>
              <a:t>圈一圈，想一想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黑体"/>
                <a:ea typeface="黑体"/>
              </a:rPr>
              <a:t>这首诗写了谁、在什么时间、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黑体"/>
                <a:ea typeface="黑体"/>
              </a:rPr>
              <a:t>么地点寻花？寻到了什么样的花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8" name="从春光.wav" descr=""/>
          <p:cNvPicPr/>
          <p:nvPr/>
        </p:nvPicPr>
        <p:blipFill>
          <a:blip r:embed="rId2"/>
          <a:stretch/>
        </p:blipFill>
        <p:spPr>
          <a:xfrm>
            <a:off x="543564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408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小学语文2"/>
          <p:cNvPicPr/>
          <p:nvPr/>
        </p:nvPicPr>
        <p:blipFill>
          <a:blip r:embed="rId1"/>
          <a:stretch/>
        </p:blipFill>
        <p:spPr>
          <a:xfrm>
            <a:off x="-322200" y="0"/>
            <a:ext cx="975204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476360" y="386064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3922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499840" y="1413000"/>
            <a:ext cx="34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黄师塔前江水东， 春光懒困倚微风。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453320" y="4724280"/>
            <a:ext cx="5438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：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在黄师塔前，锦江水静静地向东流去，春光把人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得又懒又困，我倚仗在暖洋洋的春风里游玩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45200" y="2852640"/>
            <a:ext cx="1468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黄师塔：一位姓黄的僧人的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倚：倚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小学语文2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476360" y="386064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7" name="唉3.wav" descr=""/>
          <p:cNvPicPr/>
          <p:nvPr/>
        </p:nvPicPr>
        <p:blipFill>
          <a:blip r:embed="rId2"/>
          <a:stretch/>
        </p:blipFill>
        <p:spPr>
          <a:xfrm>
            <a:off x="5508720" y="670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529000" y="1341360"/>
            <a:ext cx="3690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桃花一簇开无主， 可爱深红爱浅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861920" y="2800440"/>
            <a:ext cx="1924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簇：一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主：不知主人是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041560" y="4313160"/>
            <a:ext cx="5133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桃花一簇簇开放，像是没有主人，你究竟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爱深红色的桃花，还是喜爱浅红色的桃花呢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8272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小学语文2"/>
          <p:cNvPicPr/>
          <p:nvPr/>
        </p:nvPicPr>
        <p:blipFill>
          <a:blip r:embed="rId1"/>
          <a:stretch/>
        </p:blipFill>
        <p:spPr>
          <a:xfrm>
            <a:off x="-322200" y="0"/>
            <a:ext cx="97520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684360" y="765000"/>
            <a:ext cx="70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业设计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76360" y="386064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669760" y="2637000"/>
            <a:ext cx="3637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 有感情地朗读古诗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二 背诵默写这首古诗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5:36:44Z</dcterms:created>
  <dc:creator>USER</dc:creator>
  <dc:description/>
  <dc:language>en-US</dc:language>
  <cp:lastModifiedBy>User</cp:lastModifiedBy>
  <cp:lastPrinted>1899-12-30T00:00:00Z</cp:lastPrinted>
  <dcterms:modified xsi:type="dcterms:W3CDTF">2015-07-09T10:03:44Z</dcterms:modified>
  <cp:revision>3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05</vt:lpwstr>
  </property>
</Properties>
</file>