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6BB-70CF-45D0-8735-5F672529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7B6-AF6C-4F18-A90F-4FEBE4ED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3A2-564D-427B-842C-2BE975FF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821-E14C-4416-B777-72FA8C4F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5F5-7999-4879-A390-066A92C1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B01-0DD8-45C8-B4F7-C903C155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688-37F2-492D-A96D-2FAA81EE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09A-CBC7-4D33-B27A-55C489D2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D32-D760-48D4-B361-DE105412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5FD-9609-4F1E-9D03-93250B30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A10-66C6-4DEE-934F-FF25C4A7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99A-049E-49F8-A198-192D9C52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92BF-4360-49E6-838F-A9EAD30A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620640"/>
            <a:ext cx="5904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江畔独步寻花</a:t>
            </a:r>
            <a:endParaRPr b="1" lang="en-US" sz="1800" spc="-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333360"/>
            <a:ext cx="691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黄四娘家花满蹊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黄四娘家的小路上鲜花盛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千朵万朵压枝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许许多多的花儿开满枝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把树枝都压弯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35080" y="692280"/>
            <a:ext cx="570528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诗的前两面句写出了一个怎样的景色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/>
          <p:nvPr/>
        </p:nvSpPr>
        <p:spPr>
          <a:xfrm>
            <a:off x="1899720" y="2133720"/>
            <a:ext cx="16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花多花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02848 1.03588 E">
                                      <p:cBhvr>
                                        <p:cTn id="174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89000"/>
            <a:ext cx="57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留连戏蝶时时舞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自在娇莺恰恰啼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蝶儿在花间飞舞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舍不得离去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娇小美丽的莺儿在花间自由自在地啼叫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7489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的前两句写花多花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两句中蝴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莺儿的飞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啼叫写出了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花多花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9000"/>
            <a:ext cx="525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黄四娘家的小路上鲜花盛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许许多多的花儿开满枝头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把树枝都压弯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蝶儿在花间飞舞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舍不得离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娇小美丽的莺儿在花间自由自在地啼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189000"/>
            <a:ext cx="58975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又学习了杜甫的一首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他的诗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可以感受到春天来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到处一片春暖花香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杜甫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2360" y="1486080"/>
            <a:ext cx="878544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杜甫是唐代诗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写的诗多是反映生活的苦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们称他为现实主义诗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17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640" y="404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&lt;&lt;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江畔独步寻花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&gt;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9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6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0" y="261720"/>
            <a:ext cx="5364360" cy="37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江边一个人散步寻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728352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掌握生字词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蹊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ī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: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指小路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娇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ī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g) :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娇小可爱的黄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恰恰啼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í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: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和谐动听地叫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留连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舍不得离开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7056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江畔独步寻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唐 杜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黄四娘家花满蹊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千朵万朵压枝低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留连戏蝶时时舞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自在娇莺恰恰啼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6562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江畔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独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寻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唐   杜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黄四娘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花满蹊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千朵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万朵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压枝低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留连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戏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时时舞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自在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娇莺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恰恰啼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7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7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7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7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7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7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572000" y="4265640"/>
            <a:ext cx="180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2:51:48Z</dcterms:created>
  <dc:creator>为您服务教育网　http://www.wsbedu.com/</dc:creator>
  <dc:description/>
  <cp:keywords/>
  <dc:language>en-US</dc:language>
  <cp:lastModifiedBy>User</cp:lastModifiedBy>
  <dcterms:modified xsi:type="dcterms:W3CDTF">2015-07-09T10:03:51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