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E9E-E755-453D-8A10-8839E8B7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915-AB4F-41D3-92A0-44C3DBED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15E-8E36-4DC9-B322-D0148F12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97B-3B5F-4156-A4FF-ACE0E7A8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3CA-FD2F-4566-8C92-B605D683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CA4-BE80-4330-8025-978C898F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887A-58F9-47EB-92CB-F66FF308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B8E-EA8C-4E16-8920-E06EA864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C95-0F36-4F36-8847-66EB3CB2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557-CEBC-4D90-A60A-9CF2148A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CF8-21AF-49A0-AEEF-FCB4DFAD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6FE-D688-4E99-A21C-53CE9482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0073-4A38-4FAD-BBFC-3EC3A2799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2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8920" y="689040"/>
            <a:ext cx="8555040" cy="119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江畔独步寻花（其六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9440" y="2298600"/>
            <a:ext cx="2281320" cy="581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唐）杜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969160"/>
            <a:ext cx="42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11  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号  何婷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:\个人\网络图片\壁纸\360壁纸_5207417.jpg360壁纸_5207417" descr=""/>
          <p:cNvPicPr/>
          <p:nvPr/>
        </p:nvPicPr>
        <p:blipFill>
          <a:blip r:embed="rId1"/>
          <a:srcRect l="0" t="7704" r="-240" b="3726"/>
          <a:stretch/>
        </p:blipFill>
        <p:spPr>
          <a:xfrm>
            <a:off x="-146160" y="-93600"/>
            <a:ext cx="9409320" cy="6933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87440" y="176040"/>
            <a:ext cx="527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46160" y="907920"/>
            <a:ext cx="539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黄 四 娘 家 花 满 蹊</a:t>
            </a:r>
            <a:r>
              <a:rPr b="0" lang="zh-CN" sz="4400" spc="-1" strike="noStrike">
                <a:solidFill>
                  <a:srgbClr val="f00c7d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46160" y="2035080"/>
            <a:ext cx="51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千 朵 万 朵 压 枝 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31760" y="3164040"/>
            <a:ext cx="519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留 连 戏 蝶 时 时 舞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33200" y="4290840"/>
            <a:ext cx="53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 在 娇 莺 恰 恰 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1760" y="54288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uáng    sì      niáng    jiā       huā     mǎn       x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760" y="1670040"/>
            <a:ext cx="47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qiān    dǔn      wàn     dǔn     yā       zhī       d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760" y="2797200"/>
            <a:ext cx="47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ú       lián        xì      dié      shí      shí       w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600" y="3925800"/>
            <a:ext cx="49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zì      zài         jiāo     yīng      qià      qià       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13960" y="201600"/>
            <a:ext cx="200916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江 畔 独 步 寻 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14480" y="-20520"/>
            <a:ext cx="9328320" cy="6879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622200" y="1049400"/>
            <a:ext cx="20091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杜 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14480" y="-20520"/>
            <a:ext cx="715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杜牧（公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唐代，字牧之，号樊川居士，汉族，京兆万年（今陕西西安）人。杜牧是唐代杰出的诗人、散文家。因晚年居长安南樊川别墅，故后世称“杜樊川”，著有《樊川文集》。杜牧的诗歌以七言绝句著称，内容以咏史抒怀为主，其诗英发俊爽，多切经世之物，在晚唐成就颇高。杜牧人称“小杜”，以别于杜甫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杜“。与李商隐并称“小李杜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2520" y="73080"/>
            <a:ext cx="5149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独步：一个人行走，这里指的步指散步，全意为一边散步一边赏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寻花：赏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xī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小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留连：即留恋，舍不得离去。本诗句用来形容蝴蝶在花丛中飞来飞去，恋恋不舍的样子。“留连”是个“联绵词”。构成联绵词的两个字仅仅是这个词读音的记录，而与词义无关，所以一个联绵词可能有几种不同的书写形式，如“留连”也写作“流连”，词的意义仍然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时：时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在：自由自在，无拘无束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娇：婉转动听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啼：（某些鸟兽）叫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江畔：江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戏：嬉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02:18:24Z</dcterms:created>
  <dc:creator>Administrator</dc:creator>
  <dc:description/>
  <dc:language>en-US</dc:language>
  <cp:lastModifiedBy/>
  <dcterms:modified xsi:type="dcterms:W3CDTF">2014-10-19T06:16:1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