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5.wmf" ContentType="image/x-wm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19.jpeg" ContentType="image/jpeg"/>
  <Override PartName="/ppt/media/image6.png" ContentType="image/png"/>
  <Override PartName="/ppt/media/image31.wmf" ContentType="image/x-wmf"/>
  <Override PartName="/ppt/media/image7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6.jpeg" ContentType="image/jpeg"/>
  <Override PartName="/ppt/media/image18.jpeg" ContentType="image/jpeg"/>
  <Override PartName="/ppt/media/image20.jpeg" ContentType="image/jpeg"/>
  <Override PartName="/ppt/media/image3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652-6AD1-464F-9A3C-6DDB1B38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4FD-08C1-4A4F-A497-3188888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F71-891D-4912-BFC1-AD89C8C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E49-4A7B-4039-AAAE-07D8708D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962F-ACFC-4F8B-A9DF-B31F1E76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56AF-A057-46AD-95A9-CB356D5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1AE-206F-4AC4-A59F-F7CD242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D4BB-8835-443A-A2E8-F258593B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888E-8B40-4BC4-9374-2AFD2A4E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C4C8-9412-42F1-88BF-C77C378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72F8-D521-4911-9A68-D7BFAA2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68F-8968-402D-B2CF-444DFB0D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CE3D-5A15-4181-B453-5078801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D3A-A320-4DF7-9D92-4343866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A5E4-0465-4B16-9B3D-0A79D53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672-D4C1-41E0-AB1C-8E869D7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80A4-B582-43B4-AB89-1D849FC0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6A4-323F-4875-9090-49D445E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7C-F728-47E4-8297-7CE1D3D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70B-D3A6-4963-BE02-20031F4C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F96-01B8-4C3C-A852-FCAFD52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87B-312B-40D3-90BA-27F18EA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06B-E06F-4351-B608-520BB09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8D8-5866-4F5D-88FC-9C4D2B9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8763-F139-4FCE-8C7E-1464EC56E1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6F4-FC46-4C51-AE48-EA01D232300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3%EA%CC%EC&amp;in=8399&amp;cl=2&amp;cm=1&amp;sc=0&amp;lm=-1&amp;pn=1&amp;rn=1&amp;di=117916205&amp;ln=2000&amp;fr=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qq%B1%ED%C7%E9&#930;&#1062;%B5%C4&#892;&#428;&amp;in=23854&amp;cl=2&amp;cm=1&amp;sc=0&amp;lm=-1&amp;pn=117&amp;rn=1&amp;di=2401343888&amp;ln=732&amp;fr=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908000" y="3213000"/>
            <a:ext cx="575964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假如没有灰尘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2" name="Picture 3" descr="MP00640_"/>
          <p:cNvPicPr/>
          <p:nvPr/>
        </p:nvPicPr>
        <p:blipFill>
          <a:blip r:embed="rId1"/>
          <a:stretch/>
        </p:blipFill>
        <p:spPr>
          <a:xfrm>
            <a:off x="539640" y="907920"/>
            <a:ext cx="2521080" cy="2449800"/>
          </a:xfrm>
          <a:prstGeom prst="rect">
            <a:avLst/>
          </a:prstGeom>
          <a:ln w="0">
            <a:noFill/>
          </a:ln>
        </p:spPr>
      </p:pic>
      <p:sp>
        <p:nvSpPr>
          <p:cNvPr id="93" name="矩形 6"/>
          <p:cNvSpPr/>
          <p:nvPr/>
        </p:nvSpPr>
        <p:spPr>
          <a:xfrm>
            <a:off x="3273840" y="602136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9760" y="15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检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368640" y="914400"/>
            <a:ext cx="7967160" cy="2151360"/>
            <a:chOff x="368640" y="914400"/>
            <a:chExt cx="7967160" cy="2151360"/>
          </a:xfrm>
        </p:grpSpPr>
        <p:sp>
          <p:nvSpPr>
            <p:cNvPr id="127" name="Rectangle 3"/>
            <p:cNvSpPr/>
            <p:nvPr/>
          </p:nvSpPr>
          <p:spPr>
            <a:xfrm>
              <a:off x="368640" y="990720"/>
              <a:ext cx="66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762120" y="914400"/>
              <a:ext cx="757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本文第</a:t>
              </a:r>
              <a:r>
                <a:rPr b="1" lang="en-US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1</a:t>
              </a:r>
              <a:r>
                <a:rPr b="1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段提出的一个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想问题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685800" y="1600200"/>
              <a:ext cx="755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85800" y="236232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1" name="Rectangle 10"/>
          <p:cNvSpPr/>
          <p:nvPr/>
        </p:nvSpPr>
        <p:spPr>
          <a:xfrm>
            <a:off x="609480" y="31240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228600" y="3048120"/>
            <a:ext cx="8286840" cy="3370320"/>
            <a:chOff x="228600" y="3048120"/>
            <a:chExt cx="8286840" cy="3370320"/>
          </a:xfrm>
        </p:grpSpPr>
        <p:sp>
          <p:nvSpPr>
            <p:cNvPr id="133" name="Rectangle 9"/>
            <p:cNvSpPr/>
            <p:nvPr/>
          </p:nvSpPr>
          <p:spPr>
            <a:xfrm>
              <a:off x="228600" y="3200400"/>
              <a:ext cx="56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Rectangle 11"/>
            <p:cNvSpPr/>
            <p:nvPr/>
          </p:nvSpPr>
          <p:spPr>
            <a:xfrm>
              <a:off x="609480" y="3048120"/>
              <a:ext cx="78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假如大气中没有灰尘，强烈的阳光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533520" y="3809880"/>
              <a:ext cx="79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将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944640" y="44197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其原因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33520" y="5029200"/>
              <a:ext cx="798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603720" y="5715000"/>
              <a:ext cx="78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216000" y="152280"/>
            <a:ext cx="7877160" cy="2760840"/>
            <a:chOff x="216000" y="152280"/>
            <a:chExt cx="7877160" cy="2760840"/>
          </a:xfrm>
        </p:grpSpPr>
        <p:sp>
          <p:nvSpPr>
            <p:cNvPr id="140" name="Rectangle 2"/>
            <p:cNvSpPr/>
            <p:nvPr/>
          </p:nvSpPr>
          <p:spPr>
            <a:xfrm>
              <a:off x="216000" y="228600"/>
              <a:ext cx="66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3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Rectangle 3"/>
            <p:cNvSpPr/>
            <p:nvPr/>
          </p:nvSpPr>
          <p:spPr>
            <a:xfrm>
              <a:off x="2071080" y="152280"/>
              <a:ext cx="47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如大气中没有灰尘，天空将变成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1033560" y="838080"/>
              <a:ext cx="482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  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其原因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681120" y="1523880"/>
              <a:ext cx="654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457200" y="2209680"/>
              <a:ext cx="763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152280" y="2971800"/>
            <a:ext cx="8356680" cy="3218040"/>
            <a:chOff x="152280" y="2971800"/>
            <a:chExt cx="8356680" cy="3218040"/>
          </a:xfrm>
        </p:grpSpPr>
        <p:sp>
          <p:nvSpPr>
            <p:cNvPr id="146" name="Rectangle 7"/>
            <p:cNvSpPr/>
            <p:nvPr/>
          </p:nvSpPr>
          <p:spPr>
            <a:xfrm>
              <a:off x="152280" y="30481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Rectangle 9"/>
            <p:cNvSpPr/>
            <p:nvPr/>
          </p:nvSpPr>
          <p:spPr>
            <a:xfrm>
              <a:off x="842400" y="358128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物将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2609280" y="3581280"/>
              <a:ext cx="51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；地球上的水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1435320" y="4267080"/>
              <a:ext cx="593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越来越少，最后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;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生物就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533520" y="4952880"/>
              <a:ext cx="480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不能生存。其原因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304920" y="5486400"/>
              <a:ext cx="820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2071080" y="2971800"/>
              <a:ext cx="47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如大气中没有灰尘，地面上的万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6"/>
          <p:cNvGrpSpPr/>
          <p:nvPr/>
        </p:nvGrpSpPr>
        <p:grpSpPr>
          <a:xfrm>
            <a:off x="0" y="457200"/>
            <a:ext cx="7769880" cy="1312920"/>
            <a:chOff x="0" y="457200"/>
            <a:chExt cx="7769880" cy="1312920"/>
          </a:xfrm>
        </p:grpSpPr>
        <p:sp>
          <p:nvSpPr>
            <p:cNvPr id="154" name="Rectangle 2"/>
            <p:cNvSpPr/>
            <p:nvPr/>
          </p:nvSpPr>
          <p:spPr>
            <a:xfrm>
              <a:off x="0" y="533520"/>
              <a:ext cx="7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Rectangle 3"/>
            <p:cNvSpPr/>
            <p:nvPr/>
          </p:nvSpPr>
          <p:spPr>
            <a:xfrm>
              <a:off x="699480" y="457200"/>
              <a:ext cx="7070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宇宙形成气象万千的自然景色的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原因是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63720" y="2362320"/>
            <a:ext cx="8470800" cy="3484440"/>
            <a:chOff x="63720" y="2362320"/>
            <a:chExt cx="8470800" cy="3484440"/>
          </a:xfrm>
        </p:grpSpPr>
        <p:sp>
          <p:nvSpPr>
            <p:cNvPr id="157" name="Rectangle 4"/>
            <p:cNvSpPr/>
            <p:nvPr/>
          </p:nvSpPr>
          <p:spPr>
            <a:xfrm>
              <a:off x="63720" y="2438280"/>
              <a:ext cx="66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6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533520" y="2362320"/>
              <a:ext cx="8001000" cy="34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灰尘的作用告诉我们，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，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我们应正确认识，才能趋利避害，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造福人类。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检测题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57200" y="12193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dac41"/>
                </a:solidFill>
                <a:latin typeface="Times New Roman"/>
                <a:ea typeface="隶书"/>
              </a:rPr>
              <a:t>假如大气中没有灰尘，我们将面临怎样的境地呢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38080" y="33526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使人无法睁开眼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80880" y="4724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阳光经过灰尘的反射，强度大大弱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52280" y="5486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因而变得柔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0" y="685800"/>
            <a:ext cx="8305920" cy="1998720"/>
            <a:chOff x="0" y="685800"/>
            <a:chExt cx="8305920" cy="1998720"/>
          </a:xfrm>
        </p:grpSpPr>
        <p:sp>
          <p:nvSpPr>
            <p:cNvPr id="165" name="Text Box 3"/>
            <p:cNvSpPr/>
            <p:nvPr/>
          </p:nvSpPr>
          <p:spPr>
            <a:xfrm>
              <a:off x="457200" y="68580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本文第</a:t>
              </a:r>
              <a:r>
                <a:rPr b="1" lang="en-US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1</a:t>
              </a:r>
              <a:r>
                <a:rPr b="1" lang="zh-CN" sz="4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段提出的一个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想问题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0" y="7621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380880" y="1295280"/>
              <a:ext cx="792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228600" y="1981080"/>
              <a:ext cx="556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9" name="Text Box 28"/>
          <p:cNvSpPr/>
          <p:nvPr/>
        </p:nvSpPr>
        <p:spPr>
          <a:xfrm>
            <a:off x="533520" y="5326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304920" y="4784760"/>
            <a:ext cx="838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Group 67"/>
          <p:cNvGrpSpPr/>
          <p:nvPr/>
        </p:nvGrpSpPr>
        <p:grpSpPr>
          <a:xfrm>
            <a:off x="76320" y="2803680"/>
            <a:ext cx="8534160" cy="3462480"/>
            <a:chOff x="76320" y="2803680"/>
            <a:chExt cx="8534160" cy="3462480"/>
          </a:xfrm>
        </p:grpSpPr>
        <p:sp>
          <p:nvSpPr>
            <p:cNvPr id="172" name="Text Box 7"/>
            <p:cNvSpPr/>
            <p:nvPr/>
          </p:nvSpPr>
          <p:spPr>
            <a:xfrm>
              <a:off x="76320" y="287964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3" name="Group 66"/>
            <p:cNvGrpSpPr/>
            <p:nvPr/>
          </p:nvGrpSpPr>
          <p:grpSpPr>
            <a:xfrm>
              <a:off x="152280" y="2803680"/>
              <a:ext cx="8458200" cy="3462480"/>
              <a:chOff x="152280" y="2803680"/>
              <a:chExt cx="8458200" cy="3462480"/>
            </a:xfrm>
          </p:grpSpPr>
          <p:sp>
            <p:nvSpPr>
              <p:cNvPr id="174" name="Text Box 4"/>
              <p:cNvSpPr/>
              <p:nvPr/>
            </p:nvSpPr>
            <p:spPr>
              <a:xfrm>
                <a:off x="533520" y="2803680"/>
                <a:ext cx="80769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隶书"/>
                    <a:ea typeface="隶书"/>
                  </a:rPr>
                  <a:t>假如大气中没有灰尘，强烈的阳光将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___________________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304920" y="4098960"/>
                <a:ext cx="25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其原因是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6" name="Text Box 20"/>
              <p:cNvSpPr/>
              <p:nvPr/>
            </p:nvSpPr>
            <p:spPr>
              <a:xfrm>
                <a:off x="152280" y="5562720"/>
                <a:ext cx="3733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____________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Text Box 37"/>
              <p:cNvSpPr/>
              <p:nvPr/>
            </p:nvSpPr>
            <p:spPr>
              <a:xfrm>
                <a:off x="304920" y="4952880"/>
                <a:ext cx="800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———————————————</a:t>
                </a:r>
                <a:endParaRPr b="0" lang="en-US" sz="4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9"/>
          <p:cNvGrpSpPr/>
          <p:nvPr/>
        </p:nvGrpSpPr>
        <p:grpSpPr>
          <a:xfrm>
            <a:off x="0" y="3276720"/>
            <a:ext cx="8915400" cy="3218040"/>
            <a:chOff x="0" y="3276720"/>
            <a:chExt cx="8915400" cy="3218040"/>
          </a:xfrm>
        </p:grpSpPr>
        <p:sp>
          <p:nvSpPr>
            <p:cNvPr id="179" name="Text Box 10"/>
            <p:cNvSpPr/>
            <p:nvPr/>
          </p:nvSpPr>
          <p:spPr>
            <a:xfrm>
              <a:off x="2057400" y="396252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；地球上的水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380880" y="525780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不能生存。其原因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33520" y="327672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如大气中没有灰尘，地面上的万物将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533520" y="4648320"/>
              <a:ext cx="8381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越来越少，最后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;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生物就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533520" y="5791320"/>
              <a:ext cx="556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0" y="3429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533520" y="1143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白茫茫的一片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6" name="Group 30"/>
          <p:cNvGrpSpPr/>
          <p:nvPr/>
        </p:nvGrpSpPr>
        <p:grpSpPr>
          <a:xfrm>
            <a:off x="0" y="228600"/>
            <a:ext cx="8458200" cy="3370320"/>
            <a:chOff x="0" y="228600"/>
            <a:chExt cx="8458200" cy="3370320"/>
          </a:xfrm>
        </p:grpSpPr>
        <p:sp>
          <p:nvSpPr>
            <p:cNvPr id="187" name="Rectangle 6"/>
            <p:cNvSpPr/>
            <p:nvPr/>
          </p:nvSpPr>
          <p:spPr>
            <a:xfrm>
              <a:off x="380880" y="167652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609480" y="2286000"/>
              <a:ext cx="704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Text Box 2"/>
            <p:cNvSpPr/>
            <p:nvPr/>
          </p:nvSpPr>
          <p:spPr>
            <a:xfrm>
              <a:off x="457200" y="228600"/>
              <a:ext cx="80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假如大气中没有灰尘，天空将变成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Text Box 3"/>
            <p:cNvSpPr/>
            <p:nvPr/>
          </p:nvSpPr>
          <p:spPr>
            <a:xfrm>
              <a:off x="609480" y="1219320"/>
              <a:ext cx="685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  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其原因是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0" y="304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3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2" name="Text Box 17"/>
          <p:cNvSpPr/>
          <p:nvPr/>
        </p:nvSpPr>
        <p:spPr>
          <a:xfrm>
            <a:off x="533520" y="1676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灰尘易吸收光波较长的色光，反射光波较短的紫兰青的色光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286000" y="3962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湿漉漉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4114800" y="4648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完全干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57200" y="57150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灰尘大多具有吸湿性能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033"/>
          <p:cNvGrpSpPr/>
          <p:nvPr/>
        </p:nvGrpSpPr>
        <p:grpSpPr>
          <a:xfrm>
            <a:off x="0" y="685800"/>
            <a:ext cx="8229600" cy="1312920"/>
            <a:chOff x="0" y="685800"/>
            <a:chExt cx="8229600" cy="1312920"/>
          </a:xfrm>
        </p:grpSpPr>
        <p:sp>
          <p:nvSpPr>
            <p:cNvPr id="197" name="Text Box 1027"/>
            <p:cNvSpPr/>
            <p:nvPr/>
          </p:nvSpPr>
          <p:spPr>
            <a:xfrm>
              <a:off x="457200" y="685800"/>
              <a:ext cx="7772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宇宙形成气象万千的自然景色的原因是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。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" name="Text Box 1029"/>
            <p:cNvSpPr/>
            <p:nvPr/>
          </p:nvSpPr>
          <p:spPr>
            <a:xfrm>
              <a:off x="0" y="762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5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Group 1034"/>
          <p:cNvGrpSpPr/>
          <p:nvPr/>
        </p:nvGrpSpPr>
        <p:grpSpPr>
          <a:xfrm>
            <a:off x="0" y="2819520"/>
            <a:ext cx="8229600" cy="1922400"/>
            <a:chOff x="0" y="2819520"/>
            <a:chExt cx="8229600" cy="1922400"/>
          </a:xfrm>
        </p:grpSpPr>
        <p:sp>
          <p:nvSpPr>
            <p:cNvPr id="200" name="Text Box 1028"/>
            <p:cNvSpPr/>
            <p:nvPr/>
          </p:nvSpPr>
          <p:spPr>
            <a:xfrm>
              <a:off x="609480" y="2819520"/>
              <a:ext cx="7620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灰尘的作用告诉我们，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____________________________</a:t>
              </a: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，我们应正确认识，才能趋利避害，造福人类。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" name="Text Box 1030"/>
            <p:cNvSpPr/>
            <p:nvPr/>
          </p:nvSpPr>
          <p:spPr>
            <a:xfrm>
              <a:off x="0" y="29718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6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、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2" name="Text Box 1031"/>
          <p:cNvSpPr/>
          <p:nvPr/>
        </p:nvSpPr>
        <p:spPr>
          <a:xfrm>
            <a:off x="2057400" y="12193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水滴对阳光的折射作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Text Box 1032"/>
          <p:cNvSpPr/>
          <p:nvPr/>
        </p:nvSpPr>
        <p:spPr>
          <a:xfrm>
            <a:off x="609480" y="3429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ac41"/>
                </a:solidFill>
                <a:latin typeface="Times New Roman"/>
                <a:ea typeface="隶书"/>
              </a:rPr>
              <a:t>任何事物都有它的两面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04920" y="44956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假如大气中没有灰尘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04920" y="1523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f0081e"/>
                </a:solidFill>
                <a:latin typeface="Times New Roman"/>
                <a:ea typeface="隶书"/>
              </a:rPr>
              <a:t>强烈的阳光将使人无法睁开眼睛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28600" y="10666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0" i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假如大气中没有灰尘，天空将变成？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14400" y="36576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白茫茫的一片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8991720" cy="32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地面上的万物都将湿漉漉的。更严重的是地球上的水会越来越少，最后完全干涸，生物不能生存。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33520" y="38088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i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假如大气中没有灰尘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62120" y="5638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036"/>
                </a:solidFill>
                <a:latin typeface="Times New Roman"/>
                <a:ea typeface="隶书"/>
              </a:rPr>
              <a:t>夕阳无限好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1908000" y="1862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2" descr="f1a80e2dc37aadcd8b139927"/>
          <p:cNvPicPr/>
          <p:nvPr/>
        </p:nvPicPr>
        <p:blipFill>
          <a:blip r:embed="rId1"/>
          <a:stretch/>
        </p:blipFill>
        <p:spPr>
          <a:xfrm>
            <a:off x="539640" y="1052640"/>
            <a:ext cx="3210120" cy="4797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103640" y="1844640"/>
            <a:ext cx="50403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Arial"/>
              </a:rPr>
              <a:t>时时勤拂拭，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Arial"/>
              </a:rPr>
              <a:t>勿使染尘埃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2362320" y="533412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e052d6"/>
                </a:solidFill>
                <a:latin typeface="Times New Roman"/>
                <a:ea typeface="隶书"/>
              </a:rPr>
              <a:t>闲云迷雾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905120" y="54864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dac41"/>
                </a:solidFill>
                <a:latin typeface="Times New Roman"/>
                <a:ea typeface="隶书"/>
              </a:rPr>
              <a:t>长虹贯日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081e"/>
                </a:solidFill>
                <a:latin typeface="Times New Roman"/>
                <a:ea typeface="楷体_GB2312"/>
              </a:rPr>
              <a:t>调和天色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14" name="Picture 3" descr="云1"/>
          <p:cNvPicPr/>
          <p:nvPr/>
        </p:nvPicPr>
        <p:blipFill>
          <a:blip r:embed="rId1"/>
          <a:stretch/>
        </p:blipFill>
        <p:spPr>
          <a:xfrm>
            <a:off x="539640" y="1628640"/>
            <a:ext cx="3311640" cy="2376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a2b983e14cb9a703498aaf4b5acdbe01"/>
          <p:cNvPicPr/>
          <p:nvPr/>
        </p:nvPicPr>
        <p:blipFill>
          <a:blip r:embed="rId2"/>
          <a:stretch/>
        </p:blipFill>
        <p:spPr>
          <a:xfrm>
            <a:off x="4716360" y="1628640"/>
            <a:ext cx="3384720" cy="230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692623lantianbaiyun2_130"/>
          <p:cNvPicPr/>
          <p:nvPr/>
        </p:nvPicPr>
        <p:blipFill>
          <a:blip r:embed="rId3"/>
          <a:stretch/>
        </p:blipFill>
        <p:spPr>
          <a:xfrm>
            <a:off x="539640" y="4437000"/>
            <a:ext cx="3311640" cy="2121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2008811912382"/>
          <p:cNvPicPr/>
          <p:nvPr/>
        </p:nvPicPr>
        <p:blipFill>
          <a:blip r:embed="rId4"/>
          <a:stretch/>
        </p:blipFill>
        <p:spPr>
          <a:xfrm>
            <a:off x="4716360" y="4365720"/>
            <a:ext cx="3384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补充句子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9280" y="1484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假如大气中没有灰尘，＿＿＿＿＿＿＿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假如大气中没有灰尘，＿＿＿＿＿＿＿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假如大气中没有灰尘，＿＿＿＿＿＿＿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假如大气中没有灰尘，＿＿＿＿＿＿＿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0" name="Picture 4" descr="u=2819773995,1945077562&amp;fm=3&amp;gp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292640"/>
            <a:ext cx="2303280" cy="159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367_34647"/>
          <p:cNvPicPr/>
          <p:nvPr/>
        </p:nvPicPr>
        <p:blipFill>
          <a:blip r:embed="rId3"/>
          <a:stretch/>
        </p:blipFill>
        <p:spPr>
          <a:xfrm>
            <a:off x="395280" y="4292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iecool"/>
          <p:cNvPicPr/>
          <p:nvPr/>
        </p:nvPicPr>
        <p:blipFill>
          <a:blip r:embed="rId4"/>
          <a:stretch/>
        </p:blipFill>
        <p:spPr>
          <a:xfrm>
            <a:off x="3132000" y="4221000"/>
            <a:ext cx="2376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3"/>
          <p:cNvSpPr txBox="1"/>
          <p:nvPr/>
        </p:nvSpPr>
        <p:spPr>
          <a:xfrm>
            <a:off x="609480" y="914400"/>
            <a:ext cx="7086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假如空气中没有灰尘，大自然将多么单调啊！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2895480" y="2590920"/>
            <a:ext cx="1752840" cy="914400"/>
            <a:chOff x="2895480" y="2590920"/>
            <a:chExt cx="1752840" cy="914400"/>
          </a:xfrm>
        </p:grpSpPr>
        <p:sp>
          <p:nvSpPr>
            <p:cNvPr id="225" name="AutoShape 4"/>
            <p:cNvSpPr/>
            <p:nvPr/>
          </p:nvSpPr>
          <p:spPr>
            <a:xfrm>
              <a:off x="2895480" y="2590920"/>
              <a:ext cx="304920" cy="609480"/>
            </a:xfrm>
            <a:prstGeom prst="upArrow">
              <a:avLst>
                <a:gd name="adj1" fmla="val 50000"/>
                <a:gd name="adj2" fmla="val 49970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AutoShape 5"/>
            <p:cNvSpPr/>
            <p:nvPr/>
          </p:nvSpPr>
          <p:spPr>
            <a:xfrm>
              <a:off x="3657600" y="28954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AutoShape 6"/>
            <p:cNvSpPr/>
            <p:nvPr/>
          </p:nvSpPr>
          <p:spPr>
            <a:xfrm>
              <a:off x="4343400" y="2590920"/>
              <a:ext cx="304920" cy="533160"/>
            </a:xfrm>
            <a:prstGeom prst="upArrow">
              <a:avLst>
                <a:gd name="adj1" fmla="val 50000"/>
                <a:gd name="adj2" fmla="val 43713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28" name="Picture 7" descr="C:\Program Files\Common Files\Microsoft Shared\Clipart\cagcat50\PE02097_.wmf"/>
          <p:cNvPicPr/>
          <p:nvPr/>
        </p:nvPicPr>
        <p:blipFill>
          <a:blip r:embed="rId2"/>
          <a:stretch/>
        </p:blipFill>
        <p:spPr>
          <a:xfrm>
            <a:off x="2057400" y="3809880"/>
            <a:ext cx="358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1219320" y="152280"/>
            <a:ext cx="3952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灰尘的另一面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1143000"/>
            <a:ext cx="85201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52d6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e052d6"/>
                </a:solidFill>
                <a:latin typeface="Times New Roman"/>
                <a:ea typeface="隶书"/>
              </a:rPr>
              <a:t>据新华社报道：名为“智能灰尘”的项目由美国国防高级研究计划局资助“智能灰尘”，使用微电子机械系统技术设计，能够通过飞机散播到敌方公路、阵地上。以电池驱动的“智能灰尘”能够感应到敌方的活动。并能把得到的信息传送回总部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066680" y="45720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彩云"/>
              </a:rPr>
              <a:t>灰尘的两面性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彩云"/>
              <a:ea typeface="华文彩云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152280" y="2286000"/>
            <a:ext cx="7972560" cy="1285920"/>
            <a:chOff x="152280" y="2286000"/>
            <a:chExt cx="7972560" cy="1285920"/>
          </a:xfrm>
        </p:grpSpPr>
        <p:sp>
          <p:nvSpPr>
            <p:cNvPr id="233" name="AutoShape 3"/>
            <p:cNvSpPr/>
            <p:nvPr/>
          </p:nvSpPr>
          <p:spPr>
            <a:xfrm>
              <a:off x="152280" y="2286000"/>
              <a:ext cx="762120" cy="685800"/>
            </a:xfrm>
            <a:prstGeom prst="sun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WordArt 4"/>
            <p:cNvSpPr txBox="1"/>
            <p:nvPr/>
          </p:nvSpPr>
          <p:spPr>
            <a:xfrm>
              <a:off x="1066680" y="2819520"/>
              <a:ext cx="7058160" cy="75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3333cc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</a:rPr>
                <a:t>有碍环境卫生，危害人体健康。</a:t>
              </a:r>
              <a:endParaRPr b="1" lang="en-US" sz="40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152280" y="3962520"/>
            <a:ext cx="7925040" cy="2209680"/>
            <a:chOff x="152280" y="3962520"/>
            <a:chExt cx="7925040" cy="2209680"/>
          </a:xfrm>
        </p:grpSpPr>
        <p:sp>
          <p:nvSpPr>
            <p:cNvPr id="236" name="AutoShape 5"/>
            <p:cNvSpPr/>
            <p:nvPr/>
          </p:nvSpPr>
          <p:spPr>
            <a:xfrm>
              <a:off x="152280" y="3962520"/>
              <a:ext cx="762120" cy="685800"/>
            </a:xfrm>
            <a:prstGeom prst="sun">
              <a:avLst>
                <a:gd name="adj" fmla="val 2500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37" name="Group 8"/>
            <p:cNvGrpSpPr/>
            <p:nvPr/>
          </p:nvGrpSpPr>
          <p:grpSpPr>
            <a:xfrm>
              <a:off x="1143000" y="4267080"/>
              <a:ext cx="6934320" cy="1905120"/>
              <a:chOff x="1143000" y="4267080"/>
              <a:chExt cx="6934320" cy="1905120"/>
            </a:xfrm>
          </p:grpSpPr>
          <p:sp>
            <p:nvSpPr>
              <p:cNvPr id="238" name="WordArt 6"/>
              <p:cNvSpPr txBox="1"/>
              <p:nvPr/>
            </p:nvSpPr>
            <p:spPr>
              <a:xfrm>
                <a:off x="1143000" y="4267080"/>
                <a:ext cx="693432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1" strike="noStrike">
                    <a:ln w="12600">
                      <a:solidFill>
                        <a:srgbClr val="3333cc"/>
                      </a:solidFill>
                      <a:miter/>
                    </a:ln>
                    <a:blipFill rotWithShape="0">
                      <a:blip r:embed="rId8"/>
                      <a:srcRect/>
                      <a:stretch/>
                    </a:blip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华文行楷"/>
                  </a:rPr>
                  <a:t>对人类、地球的生存及大自然，</a:t>
                </a:r>
                <a:endParaRPr b="1" lang="en-US" sz="4000" spc="1" strike="noStrike">
                  <a:ln w="12600">
                    <a:solidFill>
                      <a:srgbClr val="3333cc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  <a:ea typeface="华文行楷"/>
                </a:endParaRPr>
              </a:p>
            </p:txBody>
          </p:sp>
          <p:sp>
            <p:nvSpPr>
              <p:cNvPr id="239" name="WordArt 7"/>
              <p:cNvSpPr txBox="1"/>
              <p:nvPr/>
            </p:nvSpPr>
            <p:spPr>
              <a:xfrm>
                <a:off x="1143000" y="5486400"/>
                <a:ext cx="46483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1" strike="noStrike">
                    <a:ln w="12600">
                      <a:solidFill>
                        <a:srgbClr val="3333cc"/>
                      </a:solidFill>
                      <a:miter/>
                    </a:ln>
                    <a:blipFill rotWithShape="0">
                      <a:blip r:embed="rId10"/>
                      <a:srcRect/>
                      <a:stretch/>
                    </a:blip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华文行楷"/>
                  </a:rPr>
                  <a:t>都具有巨大的作用。</a:t>
                </a:r>
                <a:endParaRPr b="1" lang="en-US" sz="4000" spc="1" strike="noStrike">
                  <a:ln w="12600">
                    <a:solidFill>
                      <a:srgbClr val="3333cc"/>
                    </a:solidFill>
                    <a:miter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行楷"/>
                  <a:ea typeface="华文行楷"/>
                </a:endParaRPr>
              </a:p>
            </p:txBody>
          </p:sp>
        </p:grp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457200" y="2895480"/>
            <a:ext cx="2590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7"/>
          <p:cNvGrpSpPr/>
          <p:nvPr/>
        </p:nvGrpSpPr>
        <p:grpSpPr>
          <a:xfrm>
            <a:off x="5334120" y="533520"/>
            <a:ext cx="2209680" cy="6172200"/>
            <a:chOff x="5334120" y="533520"/>
            <a:chExt cx="2209680" cy="6172200"/>
          </a:xfrm>
        </p:grpSpPr>
        <p:sp>
          <p:nvSpPr>
            <p:cNvPr id="242" name="WordArt 4"/>
            <p:cNvSpPr txBox="1"/>
            <p:nvPr/>
          </p:nvSpPr>
          <p:spPr>
            <a:xfrm rot="5400000">
              <a:off x="4343040" y="3505320"/>
              <a:ext cx="5486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中宋"/>
                </a:rPr>
                <a:t>任何事物都有</a:t>
              </a:r>
              <a:endParaRPr b="1" i="1" lang="en-US" sz="4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  <a:ea typeface="华文中宋"/>
              </a:endParaRPr>
            </a:p>
          </p:txBody>
        </p:sp>
        <p:sp>
          <p:nvSpPr>
            <p:cNvPr id="243" name="WordArt 5"/>
            <p:cNvSpPr txBox="1"/>
            <p:nvPr/>
          </p:nvSpPr>
          <p:spPr>
            <a:xfrm rot="5400000">
              <a:off x="3314520" y="2552760"/>
              <a:ext cx="487656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中宋"/>
                </a:rPr>
                <a:t>它的两面性。</a:t>
              </a:r>
              <a:endParaRPr b="1" i="1" lang="en-US" sz="4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  <a:ea typeface="华文中宋"/>
              </a:endParaRPr>
            </a:p>
          </p:txBody>
        </p:sp>
      </p:grpSp>
      <p:sp>
        <p:nvSpPr>
          <p:cNvPr id="244" name="WordArt 6"/>
          <p:cNvSpPr txBox="1"/>
          <p:nvPr/>
        </p:nvSpPr>
        <p:spPr>
          <a:xfrm>
            <a:off x="762120" y="762120"/>
            <a:ext cx="2743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宋体"/>
              </a:rPr>
              <a:t>结论</a:t>
            </a:r>
            <a:endParaRPr b="0" lang="en-US" sz="60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5"/>
          <p:cNvGrpSpPr/>
          <p:nvPr/>
        </p:nvGrpSpPr>
        <p:grpSpPr>
          <a:xfrm>
            <a:off x="228600" y="762120"/>
            <a:ext cx="7848720" cy="4650480"/>
            <a:chOff x="228600" y="762120"/>
            <a:chExt cx="7848720" cy="4650480"/>
          </a:xfrm>
        </p:grpSpPr>
        <p:sp>
          <p:nvSpPr>
            <p:cNvPr id="246" name="Text Box 3"/>
            <p:cNvSpPr/>
            <p:nvPr/>
          </p:nvSpPr>
          <p:spPr>
            <a:xfrm>
              <a:off x="228600" y="762120"/>
              <a:ext cx="784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        </a:t>
              </a: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更严重的是，天空不可能有云雾，也不可能形成雨、雪来调节气候，从地面上蒸发到上空的水也就不可能再回到地面上来。假如地球上的水越来越少，最后</a:t>
              </a:r>
              <a:r>
                <a:rPr b="1" i="1" lang="zh-CN" sz="4400" spc="-1" strike="noStrike">
                  <a:solidFill>
                    <a:srgbClr val="f8702c"/>
                  </a:solidFill>
                  <a:latin typeface="Times New Roman"/>
                </a:rPr>
                <a:t>完全 </a:t>
              </a: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干涸，生物就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1647360" y="4648320"/>
              <a:ext cx="453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不能生存。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19320" y="457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体会用词的准确性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1676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、理解上下文的内容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33520" y="26668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、理解词语的意义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09480" y="3657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、运用去词比较法深入体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33520" y="4572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4</a:t>
            </a: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、运用换词比较法深入体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他 们 眼 中 的 灰 尘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8240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家电维修人员：</a:t>
            </a:r>
            <a:r>
              <a:rPr b="0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市场上近２５％的影碟机返修品故障原因是由灰尘引起的。在干燥、沙尘严重地区及重污染城市，这一比例更高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一位从事微机操作的小姐：</a:t>
            </a:r>
            <a:r>
              <a:rPr b="0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脸上起红斑到医院就诊，被告知这是由于电脑屏幕产生的静电吸引了大量悬浮的灰尘，使面部受到刺激引起的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医务人员：</a:t>
            </a:r>
            <a:r>
              <a:rPr b="0" lang="zh-CN" sz="2400" spc="-1" strike="noStrike">
                <a:solidFill>
                  <a:srgbClr val="f0081e"/>
                </a:solidFill>
                <a:latin typeface="楷体_GB2312"/>
                <a:ea typeface="楷体_GB2312"/>
              </a:rPr>
              <a:t>入夏以来导致空调病的原因除了空调环境下引起的人体不适外，还有可能是由于空调长期不清洗而积存了大量灰尘、污垢，这些灰尘又含有霉菌、螨虫等细菌，人体吸入这些带细菌的空气后，呼吸道容易受刺激而出现胸闷头晕等症状。有些空调的灰尘还可能引致肺部感染，甚至肺炎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运用去词比较法深入体会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54" name="Group 20"/>
          <p:cNvGrpSpPr/>
          <p:nvPr/>
        </p:nvGrpSpPr>
        <p:grpSpPr>
          <a:xfrm>
            <a:off x="380880" y="1757520"/>
            <a:ext cx="8229600" cy="4289400"/>
            <a:chOff x="380880" y="1757520"/>
            <a:chExt cx="8229600" cy="4289400"/>
          </a:xfrm>
        </p:grpSpPr>
        <p:sp>
          <p:nvSpPr>
            <p:cNvPr id="255" name="Text Box 11"/>
            <p:cNvSpPr/>
            <p:nvPr/>
          </p:nvSpPr>
          <p:spPr>
            <a:xfrm>
              <a:off x="685800" y="1757520"/>
              <a:ext cx="792468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4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隶书"/>
                  <a:ea typeface="隶书"/>
                </a:rPr>
                <a:t>灰尘颗粒的直径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一般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在万分之一 到百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万分之一毫米之间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灰尘的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主要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来源是土壤和岩石。 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阳光经过灰尘的反射，强度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大大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削弱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地面上的万物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都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将湿漉漉的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任何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事物都有它的两面性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56" name="Picture 15" descr="C:\Documents and Settings\Administrator\My Documents\fengtao\005.gif"/>
            <p:cNvPicPr/>
            <p:nvPr/>
          </p:nvPicPr>
          <p:blipFill>
            <a:blip r:embed="rId2"/>
            <a:stretch/>
          </p:blipFill>
          <p:spPr>
            <a:xfrm>
              <a:off x="38088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6" descr="C:\Documents and Settings\Administrator\My Documents\fengtao\005.gif"/>
            <p:cNvPicPr/>
            <p:nvPr/>
          </p:nvPicPr>
          <p:blipFill>
            <a:blip r:embed="rId3"/>
            <a:stretch/>
          </p:blipFill>
          <p:spPr>
            <a:xfrm>
              <a:off x="380880" y="3429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7" descr="C:\Documents and Settings\Administrator\My Documents\fengtao\005.gif"/>
            <p:cNvPicPr/>
            <p:nvPr/>
          </p:nvPicPr>
          <p:blipFill>
            <a:blip r:embed="rId4"/>
            <a:stretch/>
          </p:blipFill>
          <p:spPr>
            <a:xfrm>
              <a:off x="380880" y="4191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" descr="C:\Documents and Settings\Administrator\My Documents\fengtao\005.gif"/>
            <p:cNvPicPr/>
            <p:nvPr/>
          </p:nvPicPr>
          <p:blipFill>
            <a:blip r:embed="rId5"/>
            <a:stretch/>
          </p:blipFill>
          <p:spPr>
            <a:xfrm>
              <a:off x="380880" y="48769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9" descr="C:\Documents and Settings\Administrator\My Documents\fengtao\005.gif"/>
            <p:cNvPicPr/>
            <p:nvPr/>
          </p:nvPicPr>
          <p:blipFill>
            <a:blip r:embed="rId6"/>
            <a:stretch/>
          </p:blipFill>
          <p:spPr>
            <a:xfrm>
              <a:off x="380880" y="556272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969920" y="3808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702c"/>
                </a:solidFill>
                <a:latin typeface="Times New Roman"/>
                <a:ea typeface="隶书"/>
              </a:rPr>
              <a:t>运用换词比较法深入体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2" name="Group 9"/>
          <p:cNvGrpSpPr/>
          <p:nvPr/>
        </p:nvGrpSpPr>
        <p:grpSpPr>
          <a:xfrm>
            <a:off x="152280" y="1523880"/>
            <a:ext cx="8458200" cy="4289400"/>
            <a:chOff x="152280" y="1523880"/>
            <a:chExt cx="8458200" cy="4289400"/>
          </a:xfrm>
        </p:grpSpPr>
        <p:sp>
          <p:nvSpPr>
            <p:cNvPr id="263" name="Rectangle 4"/>
            <p:cNvSpPr/>
            <p:nvPr/>
          </p:nvSpPr>
          <p:spPr>
            <a:xfrm>
              <a:off x="609480" y="1523880"/>
              <a:ext cx="800100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隶书"/>
                  <a:ea typeface="隶书"/>
                </a:rPr>
                <a:t>灰尘颗粒的直径</a:t>
              </a:r>
              <a:r>
                <a:rPr b="1" i="1" lang="zh-CN" sz="3200" spc="-1" strike="noStrike">
                  <a:solidFill>
                    <a:srgbClr val="f0081e"/>
                  </a:solidFill>
                  <a:latin typeface="隶书"/>
                  <a:ea typeface="隶书"/>
                </a:rPr>
                <a:t>一般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在万分之一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到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百万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分之一毫米之间。（换为“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”、“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或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”）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灰尘颗粒和其它有机颗粒一起在空中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飘浮 </a:t>
              </a:r>
              <a:r>
                <a:rPr b="1" i="1" lang="zh-CN" sz="2800" spc="-1" strike="noStrike">
                  <a:solidFill>
                    <a:srgbClr val="f0081e"/>
                  </a:solidFill>
                  <a:latin typeface="隶书"/>
                  <a:ea typeface="隶书"/>
                </a:rPr>
                <a:t>。（</a:t>
              </a:r>
              <a:r>
                <a:rPr b="1" i="1" lang="zh-CN" sz="3200" spc="-1" strike="noStrike">
                  <a:solidFill>
                    <a:srgbClr val="f0081e"/>
                  </a:solidFill>
                  <a:latin typeface="隶书"/>
                  <a:ea typeface="隶书"/>
                </a:rPr>
                <a:t>换为</a:t>
              </a:r>
              <a:r>
                <a:rPr b="1" i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“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漂浮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 ”）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由于这些小水滴对阳光的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折射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作用。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（换为“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反射 </a:t>
              </a:r>
              <a:r>
                <a:rPr b="1" lang="zh-CN" sz="3200" spc="-1" strike="noStrike">
                  <a:solidFill>
                    <a:srgbClr val="f0081e"/>
                  </a:solidFill>
                  <a:latin typeface="Times New Roman"/>
                  <a:ea typeface="隶书"/>
                </a:rPr>
                <a:t>”）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64" name="Picture 5" descr="C:\Documents and Settings\Administrator\My Documents\fengtao\005.gif"/>
            <p:cNvPicPr/>
            <p:nvPr/>
          </p:nvPicPr>
          <p:blipFill>
            <a:blip r:embed="rId2"/>
            <a:stretch/>
          </p:blipFill>
          <p:spPr>
            <a:xfrm>
              <a:off x="152280" y="16765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" descr="C:\Documents and Settings\Administrator\My Documents\fengtao\005.gif"/>
            <p:cNvPicPr/>
            <p:nvPr/>
          </p:nvPicPr>
          <p:blipFill>
            <a:blip r:embed="rId3"/>
            <a:stretch/>
          </p:blipFill>
          <p:spPr>
            <a:xfrm>
              <a:off x="152280" y="31240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C:\Documents and Settings\Administrator\My Documents\fengtao\005.gif"/>
            <p:cNvPicPr/>
            <p:nvPr/>
          </p:nvPicPr>
          <p:blipFill>
            <a:blip r:embed="rId4"/>
            <a:stretch/>
          </p:blipFill>
          <p:spPr>
            <a:xfrm>
              <a:off x="152280" y="4572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1628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3" descr="20080716185513917"/>
          <p:cNvPicPr/>
          <p:nvPr/>
        </p:nvPicPr>
        <p:blipFill>
          <a:blip r:embed="rId1"/>
          <a:stretch/>
        </p:blipFill>
        <p:spPr>
          <a:xfrm>
            <a:off x="324000" y="765000"/>
            <a:ext cx="1241280" cy="1241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971640" y="177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请同学们自由轻声读课文，注意读准字音，读通课文，边读边想：自己刚才的想法与课文的内容是不是一样？有哪些异同点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面的词语字音你都能读准吗？赶快试试吧！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模样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     朝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z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晖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直径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ng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     削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xu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ē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散射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ǎ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　 较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j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短　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可恶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ù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　  干涸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单调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    尘埃（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调（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节气候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4" descr="u=2751450448,666447092&amp;fm=0&amp;gp=-8">
            <a:hlinkClick r:id="rId1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476360" y="134136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24000" y="1568520"/>
            <a:ext cx="83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勿       拂拭      尘埃      然而    面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颗粒      来源      漂浮     削弱    性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依附     稳定     朝晖      单调   日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湿漉漉    庞然大物     气象万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908000" y="189000"/>
            <a:ext cx="3597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日积月累</a:t>
            </a:r>
            <a:endParaRPr b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00000" y="17733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  <a:ea typeface="楷体_GB2312"/>
              </a:rPr>
              <a:t>默读课文，看看灰尘有什么特点？用“</a:t>
            </a:r>
            <a:r>
              <a:rPr b="1" lang="en-US" sz="4400" spc="-1" strike="noStrike">
                <a:solidFill>
                  <a:srgbClr val="5b5249"/>
                </a:solidFill>
                <a:latin typeface="Arial"/>
                <a:ea typeface="楷体_GB2312"/>
              </a:rPr>
              <a:t>——”</a:t>
            </a:r>
            <a:r>
              <a:rPr b="1" lang="zh-CN" sz="4400" spc="-1" strike="noStrike">
                <a:solidFill>
                  <a:srgbClr val="5b5249"/>
                </a:solidFill>
                <a:latin typeface="Arial"/>
                <a:ea typeface="楷体_GB2312"/>
              </a:rPr>
              <a:t>画下来。灰尘有什么作用？用“～～～”画下来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684360" y="333360"/>
            <a:ext cx="20574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主学习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11280" y="1125360"/>
          <a:ext cx="8353440" cy="4064040"/>
        </p:xfrm>
        <a:graphic>
          <a:graphicData uri="http://schemas.openxmlformats.org/drawingml/2006/table">
            <a:tbl>
              <a:tblPr/>
              <a:tblGrid>
                <a:gridCol w="3168720"/>
                <a:gridCol w="2943000"/>
                <a:gridCol w="2241720"/>
              </a:tblGrid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灰尘的特点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灰尘的作用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说明的方法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826920" y="170028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04292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Arial"/>
              </a:rPr>
              <a:t>细小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539640" y="31021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不加选择地散射七色阳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755640" y="4508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具有吸湿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3780000" y="22017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削弱阳光的强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3851280" y="3068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使天空呈现灰白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3995640" y="41623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调节气候  气象万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7093080" y="206064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列数字 做假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7093080" y="335772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做假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6948360" y="429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做假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228600" y="0"/>
            <a:ext cx="8077320" cy="3352680"/>
          </a:xfrm>
          <a:prstGeom prst="cloudCallout">
            <a:avLst>
              <a:gd name="adj1" fmla="val -31074"/>
              <a:gd name="adj2" fmla="val 6136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8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228600" y="3809880"/>
            <a:ext cx="3581280" cy="3108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380880" y="76212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隶书"/>
              </a:rPr>
              <a:t>假如自然界真的没有灰尘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隶书"/>
              </a:rPr>
              <a:t>我们将面临怎样的境地呢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32:36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8T03:52:38Z</dcterms:modified>
  <cp:revision>1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