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EEBF-CD1B-46B7-9766-EFD592AA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D7A6-2646-421E-860D-EE8F8B26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F478-2B10-4134-BEE3-D87973654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2D03-4467-4F69-8E78-DA2EA99D1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7859-86DF-4BD7-8A8C-9B39FD0F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B1B9-3532-4C6C-A26F-E34A0F26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87F7-71AF-4621-AD5A-F1D96148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9BBC-ADEE-4DCB-BE87-AC4A7BAE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4FAF-F151-4977-8FBC-F4D28570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2474-B9BD-45F6-9E3C-F34BBDAE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CDC4-64B9-4C83-BD4B-AB626521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95AB-D885-4751-BA6E-8B17A2FA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0"/>
            <a:ext cx="9144000" cy="1506600"/>
            <a:chOff x="0" y="0"/>
            <a:chExt cx="9144000" cy="1506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4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9"/>
            <p:cNvSpPr/>
            <p:nvPr/>
          </p:nvSpPr>
          <p:spPr>
            <a:xfrm>
              <a:off x="0" y="0"/>
              <a:ext cx="9144000" cy="1447920"/>
            </a:xfrm>
            <a:prstGeom prst="rect">
              <a:avLst/>
            </a:prstGeom>
            <a:gradFill rotWithShape="0">
              <a:gsLst>
                <a:gs pos="0">
                  <a:srgbClr val="3891a7"/>
                </a:gs>
                <a:gs pos="100000">
                  <a:srgbClr val="e8eef1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7"/>
            <p:cNvSpPr/>
            <p:nvPr/>
          </p:nvSpPr>
          <p:spPr>
            <a:xfrm>
              <a:off x="0" y="1428840"/>
              <a:ext cx="9144000" cy="1440"/>
            </a:xfrm>
            <a:prstGeom prst="line">
              <a:avLst/>
            </a:prstGeom>
            <a:ln w="38160">
              <a:solidFill>
                <a:srgbClr val="307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8"/>
            <p:cNvSpPr/>
            <p:nvPr/>
          </p:nvSpPr>
          <p:spPr>
            <a:xfrm>
              <a:off x="0" y="1505160"/>
              <a:ext cx="91440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Segoe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75E8-0037-4229-97AA-88BB213B4ADD}" type="slidenum">
              <a:rPr b="0" lang="zh-CN" sz="1200" spc="-1" strike="noStrike">
                <a:solidFill>
                  <a:srgbClr val="ffffff"/>
                </a:solidFill>
                <a:latin typeface="Segoe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8"/>
          <p:cNvGrpSpPr/>
          <p:nvPr/>
        </p:nvGrpSpPr>
        <p:grpSpPr>
          <a:xfrm>
            <a:off x="-1440" y="0"/>
            <a:ext cx="9144000" cy="6858000"/>
            <a:chOff x="-1440" y="0"/>
            <a:chExt cx="9144000" cy="6858000"/>
          </a:xfrm>
        </p:grpSpPr>
        <p:pic>
          <p:nvPicPr>
            <p:cNvPr id="47" name="Rectangle 6" descr=""/>
            <p:cNvPicPr/>
            <p:nvPr/>
          </p:nvPicPr>
          <p:blipFill>
            <a:blip r:embed="rId2">
              <a:lum bright="-10000"/>
            </a:blip>
            <a:stretch/>
          </p:blipFill>
          <p:spPr>
            <a:xfrm>
              <a:off x="-1440" y="380880"/>
              <a:ext cx="9144000" cy="60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Rectangle 10"/>
            <p:cNvSpPr/>
            <p:nvPr/>
          </p:nvSpPr>
          <p:spPr>
            <a:xfrm>
              <a:off x="-1440" y="0"/>
              <a:ext cx="9144000" cy="304560"/>
            </a:xfrm>
            <a:prstGeom prst="rect">
              <a:avLst/>
            </a:prstGeom>
            <a:solidFill>
              <a:srgbClr val="4f2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Rectangle 11"/>
            <p:cNvSpPr/>
            <p:nvPr/>
          </p:nvSpPr>
          <p:spPr>
            <a:xfrm>
              <a:off x="-1440" y="6553440"/>
              <a:ext cx="9144000" cy="304560"/>
            </a:xfrm>
            <a:prstGeom prst="rect">
              <a:avLst/>
            </a:prstGeom>
            <a:solidFill>
              <a:srgbClr val="4f2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14"/>
            <p:cNvSpPr/>
            <p:nvPr/>
          </p:nvSpPr>
          <p:spPr>
            <a:xfrm>
              <a:off x="-1440" y="380880"/>
              <a:ext cx="9144000" cy="1440"/>
            </a:xfrm>
            <a:prstGeom prst="line">
              <a:avLst/>
            </a:prstGeom>
            <a:ln w="38160">
              <a:solidFill>
                <a:srgbClr val="307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16"/>
            <p:cNvSpPr/>
            <p:nvPr/>
          </p:nvSpPr>
          <p:spPr>
            <a:xfrm>
              <a:off x="-1440" y="6477120"/>
              <a:ext cx="9144000" cy="1440"/>
            </a:xfrm>
            <a:prstGeom prst="line">
              <a:avLst/>
            </a:prstGeom>
            <a:ln w="38160">
              <a:solidFill>
                <a:srgbClr val="307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8"/>
          <p:cNvGrpSpPr/>
          <p:nvPr/>
        </p:nvGrpSpPr>
        <p:grpSpPr>
          <a:xfrm>
            <a:off x="-1440" y="0"/>
            <a:ext cx="9145440" cy="6858000"/>
            <a:chOff x="-1440" y="0"/>
            <a:chExt cx="9145440" cy="6858000"/>
          </a:xfrm>
        </p:grpSpPr>
        <p:pic>
          <p:nvPicPr>
            <p:cNvPr id="91" name="Rectangle 17" descr=""/>
            <p:cNvPicPr/>
            <p:nvPr/>
          </p:nvPicPr>
          <p:blipFill>
            <a:blip r:embed="rId2"/>
            <a:stretch/>
          </p:blipFill>
          <p:spPr>
            <a:xfrm>
              <a:off x="0" y="380880"/>
              <a:ext cx="9144000" cy="609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9"/>
            <p:cNvSpPr/>
            <p:nvPr/>
          </p:nvSpPr>
          <p:spPr>
            <a:xfrm>
              <a:off x="-1440" y="0"/>
              <a:ext cx="9144000" cy="304560"/>
            </a:xfrm>
            <a:prstGeom prst="rect">
              <a:avLst/>
            </a:prstGeom>
            <a:solidFill>
              <a:srgbClr val="4f2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Rectangle 14"/>
            <p:cNvSpPr/>
            <p:nvPr/>
          </p:nvSpPr>
          <p:spPr>
            <a:xfrm>
              <a:off x="-1440" y="6553440"/>
              <a:ext cx="9144000" cy="304560"/>
            </a:xfrm>
            <a:prstGeom prst="rect">
              <a:avLst/>
            </a:prstGeom>
            <a:solidFill>
              <a:srgbClr val="4f2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Straight Connector 15"/>
            <p:cNvSpPr/>
            <p:nvPr/>
          </p:nvSpPr>
          <p:spPr>
            <a:xfrm>
              <a:off x="-1440" y="380880"/>
              <a:ext cx="9144000" cy="1440"/>
            </a:xfrm>
            <a:prstGeom prst="line">
              <a:avLst/>
            </a:prstGeom>
            <a:ln w="38160">
              <a:solidFill>
                <a:srgbClr val="307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Straight Connector 16"/>
            <p:cNvSpPr/>
            <p:nvPr/>
          </p:nvSpPr>
          <p:spPr>
            <a:xfrm>
              <a:off x="-1440" y="6477120"/>
              <a:ext cx="9144000" cy="1440"/>
            </a:xfrm>
            <a:prstGeom prst="line">
              <a:avLst/>
            </a:prstGeom>
            <a:ln w="38160">
              <a:solidFill>
                <a:srgbClr val="307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f271c"/>
                </a:solidFill>
                <a:latin typeface="Segoe Condensed"/>
                <a:ea typeface="宋体"/>
              </a:rPr>
              <a:t>欢迎同学！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704880" y="44956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</a:rPr>
              <a:t>Teacher’s Name – X Grade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数学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简要说明今年学习的数学课程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科学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简要说明今年学习的科学内容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社会学习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简要说明今年学习的社会学习课程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音乐和艺术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简要说明今年学习的音乐和艺术课程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22160" y="45050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我们的教室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Teacher’s Name – X Grade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课堂守则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我们是一个大家庭。在这个家庭中，我们制订规则来使我们融洽相处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我们的课堂守则是：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相互尊重，负责可靠。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组织有序，服从安排。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守时。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准备到位。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家庭作业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每晚会布置大约 </a:t>
            </a: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45 </a:t>
            </a: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分钟的家庭作业。其中包括 </a:t>
            </a: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20 </a:t>
            </a: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分钟的阅读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必须在星期五上午之前完成所有的家庭作业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如果需要在家庭作业上花费额外的时间，请抽出休息时间到家庭作业俱乐部完成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迟到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上课时间是上午 </a:t>
            </a: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9:05</a:t>
            </a: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如果在第二次响铃之后到达教室，请首先到学校办公室签到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如果迟到四次，学校将通知您的父母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社会活动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我们在这一年里安排了许多有趣的社会活动！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我们将在剧场观看两次戏剧，作为阅读学习的一部分。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我们将参观一个公园并在河水中提取水样，作为在科学研究中研究环境的一部分。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我们将参观一个面包店，作为社区社会学习的一部分。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2160" y="45050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新年新成就！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欢迎加入 </a:t>
            </a: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x </a:t>
            </a: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年级！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我现在向您介绍 </a:t>
            </a: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x </a:t>
            </a: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年级和我们的教室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如果在我演示的过程中有任何问题，请举手等待点名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关于我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我的背景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我在城市或乡村长大。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我曾就读于小学名称、中学名称和大学名称。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我的经历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我已经任教 </a:t>
            </a: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x </a:t>
            </a: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年。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我同时教 </a:t>
            </a: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x </a:t>
            </a: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年级和 </a:t>
            </a: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x </a:t>
            </a: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年级，但我最喜欢教 </a:t>
            </a: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x </a:t>
            </a: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年级。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我的家庭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我的丈夫</a:t>
            </a: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妻子</a:t>
            </a: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伴侣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名称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我的孩子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Daughters’ Names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Sons’ Names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我们的宠物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Dogs’ Names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Cats’ Names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我的目标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教给你们升入 </a:t>
            </a: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x </a:t>
            </a: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年级所需的知识和社会技能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营造团结互助和愉悦的教室氛围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使大家成为朋友并发现新的兴趣爱好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22160" y="45050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教学科目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Teacher’s Name – X Grade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教学科目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我们在 </a:t>
            </a: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x </a:t>
            </a: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年级将要学习的科目包括：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阅读和写作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数学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科学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社会学习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音乐和艺术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阅读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简要说明今年将要学习的阅读课程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写作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简要说明今年将要学习的写作课程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21:42:26Z</dcterms:created>
  <dc:creator/>
  <dc:description/>
  <dc:language>en-US</dc:language>
  <cp:lastModifiedBy>wuhan</cp:lastModifiedBy>
  <dcterms:modified xsi:type="dcterms:W3CDTF">2017-10-12T04:46:46Z</dcterms:modified>
  <cp:revision>3</cp:revision>
  <dc:subject/>
  <dc:title>Teacher’s Name – X Grad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8</vt:lpwstr>
  </property>
  <property fmtid="{D5CDD505-2E9C-101B-9397-08002B2CF9AE}" pid="3" name="_TemplateID">
    <vt:lpwstr>TC101659612052</vt:lpwstr>
  </property>
</Properties>
</file>