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55E4-7FD2-4517-9B76-1217A4A2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F03-E5A6-42EB-8497-5565AD00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549-3CC1-4381-8C5F-F03C8D0F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7A3-C9C2-407E-BE56-952C879C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78A-7669-4295-9624-9E9EFD9F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056-9EDA-4A9F-9C5A-66AE5C7C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89A9-9094-4C89-B05D-D124D204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0DB9-7F69-448E-AC1F-058CA50B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11A6-5337-486F-BB7F-D3B090B8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42B-2297-41AE-85F7-830CC9EC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FE91-6718-4316-B38C-47925F895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ACAD-BA46-47B9-97A0-6CEFCB4C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3509-7060-4D1B-B934-ABDD7E4691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1080" y="2209680"/>
            <a:ext cx="518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cc99"/>
                </a:solidFill>
                <a:latin typeface="Times New Roman"/>
                <a:ea typeface="华文隶书"/>
              </a:rPr>
              <a:t>开国大典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24120" y="6553080"/>
            <a:ext cx="36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r>
              <a:rPr b="1" lang="zh-CN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64824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8200" y="6167520"/>
            <a:ext cx="533520" cy="517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85800" y="3124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开国大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1447920"/>
            <a:ext cx="152280" cy="144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1066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宣布开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1828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升旗鸣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2558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宣读公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1828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开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3321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阅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3876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游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213372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397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检阅   欢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44640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天上    地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262560"/>
            <a:ext cx="457200" cy="443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676520" y="1073160"/>
            <a:ext cx="5715000" cy="467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99072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协商  汇集  宣布  电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25290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瞻仰  旗帜  领袖  毛泽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397656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城楼檐  徐徐上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42448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诞生   聂荣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533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x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533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hu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501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533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n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20574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z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ā</a:t>
            </a: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0257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z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057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x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20257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z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34732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3473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49975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4997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ni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5000" y="49975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z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ē</a:t>
            </a:r>
            <a:r>
              <a:rPr b="1" lang="zh-CN" sz="3600" spc="-1" strike="noStrike">
                <a:solidFill>
                  <a:srgbClr val="000000"/>
                </a:solidFill>
                <a:latin typeface="zypyyb"/>
                <a:ea typeface="zypyyb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262560"/>
            <a:ext cx="457200" cy="44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16398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协（    ） 檐（    ） 钮（    ） 泽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胁（    ） 瞻（    ） 扭（    ） 择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宣（    ） 帜（    ） 袖（    ） 徐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喧（    ） 织（    ） 抽（    ） 除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262560"/>
            <a:ext cx="457200" cy="443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1639800"/>
            <a:ext cx="8381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协（    ） 檐（    ） 钮（    ） 泽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胁（    ） 瞻（    ） 扭（    ） 择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宣（    ） 帜（    ） 袖（    ） 徐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喧（    ） 织（    ） 抽（    ） 除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1614600"/>
            <a:ext cx="99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协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威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564000"/>
            <a:ext cx="99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宣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喧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165888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屋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瞻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1658880"/>
            <a:ext cx="99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按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扭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165888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润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356400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旗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纺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564000"/>
            <a:ext cx="99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衣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抽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356400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徐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解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党和国家领导人参加开国大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4644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宣读公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72000" cy="3459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阅兵游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81080" y="6095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北京四中的学生参加开国大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030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523880" y="5562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董希文美术作品《开国大典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262560"/>
            <a:ext cx="457200" cy="443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00:48:48Z</dcterms:created>
  <dc:creator>wangliping</dc:creator>
  <dc:description/>
  <dc:language>en-US</dc:language>
  <cp:lastModifiedBy>User</cp:lastModifiedBy>
  <dcterms:modified xsi:type="dcterms:W3CDTF">2015-07-01T14:18:02Z</dcterms:modified>
  <cp:revision>13</cp:revision>
  <dc:subject/>
  <dc:title>PowerPoint 演示文稿</dc:title>
</cp:coreProperties>
</file>