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D160-10D8-41C5-B91F-F3D9CA78CBB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B51-ECAA-495C-A3FF-E42B8494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547-1DB3-489E-95A3-A1948EE6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B65F-70A2-48D5-9F6F-98E3F2D4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6277-E5A3-45D4-ABE3-15028ADB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7DDA-B85D-4EE3-BB7A-7A9213648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3286-09B7-4638-A239-8ECAD1857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3CEC-C8B2-47B1-99FE-9497A6C5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E634-0687-4960-BCFF-052FABA7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743F-F34C-4025-B6B5-53CEBE92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AC7E-B00E-4D8A-84AD-EDBB80E7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7AB2-36CF-4451-98DB-AF650B9D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7449-9B11-49D9-B201-34C0F09A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3A29-82F8-41A1-A785-83F2411F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01325-53F7-4203-B039-B8F985AA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CEF-4734-4650-8D6E-0C8689A9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28A8-7AA7-4AA3-81F6-5D19B0F1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A963-4712-4209-A407-9E917FC3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A27-E421-4F02-AE93-3AA495D3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9E1E-C1AB-4715-BA57-63560E98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877-C90C-4D1F-9806-33BB2FA8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1CF7-6C2F-4C96-A2AB-08C8362A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F85B-91C0-4069-8B4A-CF3A598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34C-41D1-4424-B7F5-4A9E5DF5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CEA-EA7B-4893-B9AD-5CD7B3D8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767A-4C93-46E0-AB28-46A0629F6CB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49C-4390-440A-8ADA-50AB33A2C87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685800"/>
            <a:ext cx="6248160" cy="244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开国大典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33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476360" y="1268280"/>
            <a:ext cx="587376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676908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429000" y="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80280" y="457200"/>
            <a:ext cx="1278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歌曲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209680"/>
            <a:ext cx="3124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东方红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太阳升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国出了个毛泽东；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为人民谋幸福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儿咳哟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是人民大救星。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毛主席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爱人民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是我们的带路人；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了建设新中国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儿咳哟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领导我们向前进。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　　　　　　　　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48720" y="2057400"/>
            <a:ext cx="180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共产党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像太阳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照到哪里哪里亮；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哪里有了共产党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儿咳哟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哪里人民得解放。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哪里有了共产党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儿咳哟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哪里人民得解放。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14920" y="12952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东方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80280" y="457200"/>
            <a:ext cx="1278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歌曲欣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8620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07520" y="2666880"/>
            <a:ext cx="2454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北京的金山上光芒照四方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毛主席就是那金色的太阳。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么温暖！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么慈祥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翻身农奴的心儿照亮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迈步走在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社会主义幸福的大道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咳，巴扎咳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69720" y="13716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北京的金山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565640" y="685800"/>
            <a:ext cx="3472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国大典珍贵历史资料观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958760" y="228600"/>
            <a:ext cx="552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电影《开国大典》片断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7488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827640" y="380880"/>
            <a:ext cx="1278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导入新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2952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4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下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整，盛大而隆重的开国典礼开始了，新中国的一代开国元勋们站在天安门城楼，毛泽东同志神情庄重地亲手按下电钮，升起了中华人民共和国的第一面五星红旗。与此同时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门礼炮齐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响，在这举世瞩目激动人心的时刻，毛泽东同志用响亮的声音向全世界宣告：“中华人民共和国成立了！中国人民从此站起来了！”这是电影《开国大典》中最为神圣庄严的一个场面，它宣告了中华人民共和国的诞生，宣告了中华民族的新生，它展现了一个无产阶级革命领袖的光辉形象。这是一个开创者和缔造者的形象，这是一个伟人的形象。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我们今天要学习的电影文学《开国大典》（节选）却从生活的多个角度，展现了毛泽东作为一个普通人的形象，他同样具有令人感动的魅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558960" y="304920"/>
            <a:ext cx="4032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读课文，完成下列学习任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371600"/>
            <a:ext cx="725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字词积累：参见课后“字词积累”部分的词语。然后把阅读过程中遇见的新生词再归纳进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思考和讨论：剧中写道的四个小故事分别是什么？请用最简练的语言进行归纳概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思考和讨论：从这四件事中可以看出毛泽东是一个怎样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533520" y="1219320"/>
            <a:ext cx="6933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剧中写道的四个小故事分别是什么？请用最简练的语言进行归纳概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从这四件事中可以看出毛泽东是一个怎样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56760" y="380880"/>
            <a:ext cx="21009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思考讨论和概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3640" y="2306520"/>
            <a:ext cx="65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剧中的四个小故事是：吃羊肉泡馍、宴请程潜、接待乡亲、与儿子交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4419720"/>
            <a:ext cx="687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这四件事中可以看出毛泽东生活俭朴、团结友人（与党外人士团结合作）、平易近人、不徇私情、公私分明、实事求是、严于律己等特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6000" y="304920"/>
            <a:ext cx="182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精彩片断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106668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阅读赏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剧中的“九叔”非常有特点，找出文中描写这个人物言行的有关语句，分析作者刻画这个人物有什么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2514600"/>
            <a:ext cx="733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剧中对山羊胡子老人的刻画，也十分细致生动。这位韶山冲的元老，带着乡亲们来到京城“打秋风”，把毛泽东当成皇帝，“迈出方步，准备下跪”；把中国革命取得胜利，看成了“毛家人坐天下”，还说“这江山，我们得替你看着点”；他关心的是“年号”，是封官。作者通过几个典型细节，通过人物独特的言谈举止，表现了这个农村老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淳朴而带有浓厚封建意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特点，给人留下深深地思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43840" y="380880"/>
            <a:ext cx="15523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1600200"/>
            <a:ext cx="62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毛泽东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89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97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伟大的马克思主义者，无产阶级革命家、战略家和理论家，中国共产党、中国人民解放军和中华人民共和国的主要缔造者和领导人。湖南湘潭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50920" y="4221000"/>
            <a:ext cx="1828800" cy="2319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68360" y="4221000"/>
            <a:ext cx="1870200" cy="2319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284720" y="4221000"/>
            <a:ext cx="1849320" cy="2286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770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36000" y="304920"/>
            <a:ext cx="182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精彩片断赏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1295280"/>
            <a:ext cx="72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表演赏析：请同学们分角色表演“接待相亲”一段戏，再次体会毛泽东平易近人、不徇私情、公私分明、实事求是的品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36000" y="457200"/>
            <a:ext cx="18266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深入拓展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们从文中找出最令自己感动的平凡小事和细节作分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2438280"/>
            <a:ext cx="725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示例：这位叱咤风云、领导中国革命的伟人，在生活中是如此平凡、普通。有两处细节描写特别富有生活气息：一处是写毛泽东“坐在长板凳上王大海碗里掰、馍”，“埋头大吃”，同时倾听着普通市民的聊天，当听到有趣之处，毛泽东竟笑得差点喷饭。另一处……请大家马上找找看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609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另一处是写毛泽东吃晚饭准备结账的时候，却发现没有带钱。“他有点慌神了，摸遍了所有的口袋，除了那半包烟，一文不名”，他难堪极了。这里我们看到的是一个平凡朴实、可亲甚至有些可爱的毛泽东，是一个真实可信的人物形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3048120"/>
            <a:ext cx="70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者还从小事入手，展现毛泽东作为一个国家领导人的伟大形象。写他画长成一个普通人，驱车缓慢行驶在熙熙攘攘、槐花飘香的街头，观察了解百姓生活；写他对于“率部起义”的党外人士“程老前辈”非常尊重，“亲往车站迎接”，并且不计前嫌，关心当年得罪自己的张干校长，表现出无产阶级革命家的“大家风度”，以及与党外人士团结合作的诚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827640" y="457200"/>
            <a:ext cx="1278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板书设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44080" y="13190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国大典（节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8240" y="22860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街头吃馍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91960" y="23065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平民本色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25680" y="2286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生活俭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42400" y="316548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宴请程潜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91960" y="32209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领袖风范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01640" y="3200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肝胆相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8720" y="407988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待乡亲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52440" y="407988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人民公仆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01640" y="4038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不徇私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5040" y="5146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子交谈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8400" y="5146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慈父良友—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8080" y="512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严于律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3640" y="59119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54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月，毛泽东和程潜（右二）、程星龄（右一）、表兄王季范（左一）在北京十三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68832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84360" y="6035760"/>
            <a:ext cx="173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49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月，毛泽东和毛岸英、刘松林、李讷在香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096920" y="1022400"/>
            <a:ext cx="69501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1920" y="6216480"/>
            <a:ext cx="123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62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春，毛泽东和毛岸青、邵华合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48992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56707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62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春，毛泽东和毛岸青等在中南海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左起：毛岸青、张少林、毛泽东、刘松林、邵华、杨茂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701676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567072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58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月，毛泽东在广东农具改革展览会上观看新式渔网。右一为陶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663408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5670720"/>
            <a:ext cx="67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60</a:t>
            </a:r>
            <a:r>
              <a:rPr b="1" lang="zh-CN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，毛泽东亲切会见著名作家老舍、著名京剧艺术家梅兰芳、著名剧作家田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992160"/>
            <a:ext cx="59580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44360" y="228600"/>
            <a:ext cx="23752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的音容笑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5791320"/>
            <a:ext cx="47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1958</a:t>
            </a:r>
            <a:r>
              <a:rPr b="1" lang="zh-CN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年，毛泽东和陈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322280" y="1395360"/>
            <a:ext cx="64994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5:27:51Z</dcterms:created>
  <dc:creator>21世纪教育网</dc:creator>
  <dc:description>21世纪教育网</dc:description>
  <dc:language>en-US</dc:language>
  <cp:lastModifiedBy>User</cp:lastModifiedBy>
  <dcterms:modified xsi:type="dcterms:W3CDTF">2015-07-01T14:18:53Z</dcterms:modified>
  <cp:revision>8</cp:revision>
  <dc:subject/>
  <dc:title>21世纪教育网</dc:title>
</cp:coreProperties>
</file>