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22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759-3EC7-4AA3-A2F0-E4D8C08AF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DE5-5DE3-4FBE-8424-E9108279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80EC-CF16-4503-B3CC-F6D06C39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961-E8A4-4BFE-A1F3-4AF4DC45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A71-79B2-4235-9709-11AD2925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878-7932-4068-BD76-96E8DB82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95F4-E18B-496D-B7CA-79B10DD2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251-1F28-4498-9B1A-5FE37D21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231B-DD0C-4F0C-8F79-451C076E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C776-54AA-497D-B342-91F4B559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4259-64C5-499E-9A96-3EC51CC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E3D-A820-4B48-80B6-42A58DF3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748F-9C63-4615-BDA1-864477904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24.xml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image" Target="../media/image4.gi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228600"/>
            <a:ext cx="701028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未来教师职业技能大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课大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24120" y="6553080"/>
            <a:ext cx="36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00"/>
                </a:solidFill>
                <a:latin typeface="Comic Sans MS"/>
              </a:rPr>
              <a:t>21</a:t>
            </a:r>
            <a:r>
              <a:rPr b="1" lang="zh-CN" sz="1400" spc="-1" strike="noStrike">
                <a:solidFill>
                  <a:srgbClr val="333300"/>
                </a:solidFill>
                <a:latin typeface="Comic Sans MS"/>
              </a:rPr>
              <a:t>教学资源网整理发布： </a:t>
            </a:r>
            <a:r>
              <a:rPr b="1" lang="zh-CN" sz="1400" spc="-1" strike="noStrike">
                <a:solidFill>
                  <a:srgbClr val="3333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66680" y="1600200"/>
            <a:ext cx="7010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主学习体验，提高学生参与度是教学设计的亮点。学生们能够边看边学，真正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进去学习理解，自主地以另一种方式体验，达到自我感情的升华，而不是教师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强加。设计中增加大量的读，充分的读，树立语文教学的“阅读本位”的思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924680" y="5410080"/>
            <a:ext cx="1067040" cy="1067040"/>
            <a:chOff x="7924680" y="5410080"/>
            <a:chExt cx="1067040" cy="1067040"/>
          </a:xfrm>
        </p:grpSpPr>
        <p:sp>
          <p:nvSpPr>
            <p:cNvPr id="98" name=""/>
            <p:cNvSpPr/>
            <p:nvPr/>
          </p:nvSpPr>
          <p:spPr>
            <a:xfrm>
              <a:off x="7924680" y="6019920"/>
              <a:ext cx="99072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8001000" y="5410080"/>
              <a:ext cx="99072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教法学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1371600"/>
            <a:ext cx="632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本课的教与学中，教师充当一名时空转换员，一个引导者的身份参与。教师利用情景教学法、情感朗读教学法、“学导式”教学法等设计出教学流程、提出学习目的，让学生进行自我体验学习和合作交流学习，教师对学生学习过程中存在的一些问题进行合理指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362320" y="1523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生根据学习目的来自主学习、交流学习，在几大教学环节中都是学生自己通过课文、图片、影像资料，通过读、看、想、说、评等方式去感受和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229600" y="5791320"/>
            <a:ext cx="1066320" cy="1066320"/>
            <a:chOff x="8229600" y="5791320"/>
            <a:chExt cx="1066320" cy="1066320"/>
          </a:xfrm>
        </p:grpSpPr>
        <p:sp>
          <p:nvSpPr>
            <p:cNvPr id="106" name="">
              <a:hlinkClick r:id="rId2" action="ppaction://hlinksldjump"/>
            </p:cNvPr>
            <p:cNvSpPr/>
            <p:nvPr/>
          </p:nvSpPr>
          <p:spPr>
            <a:xfrm>
              <a:off x="8229600" y="6400800"/>
              <a:ext cx="99036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3"/>
            <a:stretch/>
          </p:blipFill>
          <p:spPr>
            <a:xfrm>
              <a:off x="8305560" y="5791320"/>
              <a:ext cx="99036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教学准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19810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影像、图片、课件、背景音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0120" y="5105520"/>
            <a:ext cx="1066320" cy="1066320"/>
            <a:chOff x="7620120" y="5105520"/>
            <a:chExt cx="1066320" cy="1066320"/>
          </a:xfrm>
        </p:grpSpPr>
        <p:sp>
          <p:nvSpPr>
            <p:cNvPr id="112" name=""/>
            <p:cNvSpPr/>
            <p:nvPr/>
          </p:nvSpPr>
          <p:spPr>
            <a:xfrm>
              <a:off x="7620120" y="5715000"/>
              <a:ext cx="99036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7696080" y="5105520"/>
              <a:ext cx="99036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教学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295280"/>
            <a:ext cx="51051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精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整体回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拓展与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981080" y="21337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79720" y="2201760"/>
            <a:ext cx="500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81952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3880" y="3962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设计理念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兴趣学习为先导，这是一篇讲读课文，记录了新中国成立这件历史大事，站在文本学习的基础上，在学习新课文之前应该让学生了解这一划世纪大事件的历史背景，这将有利于学生对课文文本的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14300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播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周年国庆大典剪   辑影像，联 系这次大典谈话引出课文《开国大典》，激发学生       兴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2895480"/>
            <a:ext cx="55627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课题，了解课题含义，了   解新中国成立背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57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情境谈话导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124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133720" y="30492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整体感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990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读课文，教师提出学习目的，学生整体感知课文。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1981080"/>
            <a:ext cx="6477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交流展示学习成果，分基础知识展示与课文理解展示两部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403848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设计理念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培养学生自学能力。其中学习目的体现了语文学习的系统化原则。对课文整体感知，理顺课文结构，了解课文有祥有略的表达方式，这也是对课文难点的突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971800"/>
            <a:ext cx="533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28954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阅读。分段阅读，找出自己认为感人的段落朗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-3124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666880" y="3049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精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1143000"/>
            <a:ext cx="6705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理解课文第一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课文第一、二、三、四自然段。各段分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写了什么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哪些地方看出这是“大典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根据课文内容画出会场布置的平面图。（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师出示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演示会场的布置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习理解本段重点词句。（迎风招展、直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擎着 ，等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-327672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05120" y="914400"/>
            <a:ext cx="72388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理解课文第二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名分段朗读，并进行评价。各段分别写了什么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一理典礼的过程。典礼是按什么顺序写的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了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由读并划出反映人们心情的句子，感受人民群众的心情，在理解基础上练习朗读。 （激动、兴奋、喜悦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描写人民群众的心情，课文用了哪些描写方法？ （比喻：排山倒海的掌声；轰雷似的掌声。排比：四个“传到”。体会排比气势，朗读排比句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-3124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133720" y="762120"/>
            <a:ext cx="6858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习理解本段重点词句，随机点拨句、联系造句、表演理解。例如：这五星红旗升起来了，表示中国人民从此站起来了。表演毛主席宣布新中国成立时的情景，等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哪几个自然段写了阅兵式？齐读阅兵式场面。点拨此为课文内容详写部分。为什么要详写？（持续时间长，阅兵场面精彩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一个词概括阅兵式的特点，划出写人民群众观看阅兵式心情的句子。重点理解表达人民心情的句子。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班交流讨论。欢喜和激动的心情表达了怎样的感情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66680" y="-3024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7400" y="5335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教材及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33720" y="2286000"/>
            <a:ext cx="167616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教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4876920"/>
            <a:ext cx="167652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教学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9810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课流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14800" y="380880"/>
            <a:ext cx="304920" cy="1067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114800" y="1981080"/>
            <a:ext cx="304920" cy="1067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380988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4572000" y="2286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教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3" action="ppaction://hlinksldjump"/>
          </p:cNvPr>
          <p:cNvSpPr/>
          <p:nvPr/>
        </p:nvSpPr>
        <p:spPr>
          <a:xfrm>
            <a:off x="4572000" y="8380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4" action="ppaction://hlinksldjump"/>
          </p:cNvPr>
          <p:cNvSpPr/>
          <p:nvPr/>
        </p:nvSpPr>
        <p:spPr>
          <a:xfrm>
            <a:off x="4572000" y="18288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5" action="ppaction://hlinksldjump"/>
          </p:cNvPr>
          <p:cNvSpPr/>
          <p:nvPr/>
        </p:nvSpPr>
        <p:spPr>
          <a:xfrm>
            <a:off x="4572000" y="25146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难重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6" action="ppaction://hlinksldjump"/>
          </p:cNvPr>
          <p:cNvSpPr/>
          <p:nvPr/>
        </p:nvSpPr>
        <p:spPr>
          <a:xfrm>
            <a:off x="4572000" y="35812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计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7" action="ppaction://hlinksldjump"/>
          </p:cNvPr>
          <p:cNvSpPr/>
          <p:nvPr/>
        </p:nvSpPr>
        <p:spPr>
          <a:xfrm>
            <a:off x="4572000" y="42670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法与学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8" action="ppaction://hlinksldjump"/>
          </p:cNvPr>
          <p:cNvSpPr/>
          <p:nvPr/>
        </p:nvSpPr>
        <p:spPr>
          <a:xfrm>
            <a:off x="4572000" y="495288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准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5562720"/>
            <a:ext cx="1828800" cy="5331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流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2800" y="990720"/>
            <a:ext cx="228600" cy="4114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9" action="ppaction://hlinksldjump"/>
          </p:cNvPr>
          <p:cNvSpPr/>
          <p:nvPr/>
        </p:nvSpPr>
        <p:spPr>
          <a:xfrm>
            <a:off x="4572000" y="6172200"/>
            <a:ext cx="182880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板书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-3124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5120" y="228600"/>
            <a:ext cx="6781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习理解课文第三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默读课文第三节。理解各段分别写了什么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② 朗读第十五自然段，读出欢乐的气氛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结尾两句，领会句子的意思。“两股红流”指什么？这样比喻写出了什么？“光明”指什么？象征什么？读好这两句话，读出内含的意思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体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384480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设计理念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通过交流、不同方式的读、以及对重点词句的深入理解来开展。在课文理解这一环节里，对重点词句的理解，穿插了大量的读和练习以及表演体会，例如：词语填空、这个词语换一换行不行？你会表演像战士们一样挺着胸站在战车上吗？通过表演毛主席宣告这一节你体会到什么？等等，引领学生正确领会课文思想，这也体现了教学的重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-3124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905120" y="457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、回归全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1143000"/>
            <a:ext cx="64771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连起来说说课文记叙了几个场面。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课文中人民群众的心情是怎样的？（激动、兴奋、喜悦） 这表达了怎样的思想感情？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假如你是当时在场的一名记者，你会拍下哪些难忘的镜头？分组交流解说镜头，并进行评价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时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体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观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开国大典影像，学会有感情地朗读课文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体现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51055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设计理念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主要是通过：评、说、看、读相结合开展。多方式，多元化的课文回归能够更好地吸收全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-312408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09680" y="30492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、知识的拓展与延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62320" y="990720"/>
            <a:ext cx="5943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讲一讲开国大典背后的故事。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联系两次大典以及中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的发展变化即兴演讲自己的感触。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最后进行小练笔。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我站在天安门广场上…”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体现教学目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4419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设计理念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坚持语文课内学习与课外学习相协调的原则”，培养学生创造性思维的原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52680" y="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教学流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914400"/>
            <a:ext cx="8915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总的来说，本堂课流程设计体现了阅读教学的整体观原则，综合运用多种教学方法，贯彻教学中“教师主导作用”和“学生主体作用”相结合的原则，倡导学生自主学习合作学习理念，注重提高教学的全面质量，即使学生的知识、能力、智力三位一体，协调发展。在注重培养学生阅读能力上通过初读—细读—精读—品读的过程从“读出意，读出义，读出形，读出情”到“比用语，比章法，品出味，悟出效”双向阅读心理过程，树立了语文学习的“阅读本位思想” 。精读部分注重“精讲多练，读写结合”，融语言训练，人文情感熏陶及感悟写法于一体；最后回到语言形式，学写场面，很好地体现了“鱼和熊掌兼得”（语言与人文兼得）读写结合的特点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8077320" y="5791320"/>
            <a:ext cx="1066320" cy="1066320"/>
            <a:chOff x="8077320" y="5791320"/>
            <a:chExt cx="1066320" cy="1066320"/>
          </a:xfrm>
        </p:grpSpPr>
        <p:sp>
          <p:nvSpPr>
            <p:cNvPr id="153" name="">
              <a:hlinkClick r:id="rId2" action="ppaction://hlinksldjump"/>
            </p:cNvPr>
            <p:cNvSpPr/>
            <p:nvPr/>
          </p:nvSpPr>
          <p:spPr>
            <a:xfrm>
              <a:off x="8077320" y="6400800"/>
              <a:ext cx="99036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3"/>
            <a:stretch/>
          </p:blipFill>
          <p:spPr>
            <a:xfrm>
              <a:off x="8153280" y="5791320"/>
              <a:ext cx="99036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板书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427040"/>
            <a:ext cx="800100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地点和参与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典礼前     会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                      群众入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                      典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典       典礼时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阅兵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群众游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典礼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光明充满北京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激动、兴奋、喜悦）表达了人民群众热爱党、热爱领袖、热爱新中国的思想感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057400"/>
            <a:ext cx="304920" cy="3124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676520"/>
            <a:ext cx="304920" cy="914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3429000"/>
            <a:ext cx="304560" cy="838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19520" y="4724280"/>
            <a:ext cx="304560" cy="838440"/>
          </a:xfrm>
          <a:custGeom>
            <a:avLst/>
            <a:gdLst>
              <a:gd name="textAreaLeft" fmla="*/ 194760 w 304560"/>
              <a:gd name="textAreaRight" fmla="*/ 304920 w 3045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962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（详写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38862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（详写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24382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42670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 rot="5400000">
            <a:off x="5104800" y="2895480"/>
            <a:ext cx="5562360" cy="1295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48670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楷体_GB2312"/>
              </a:rPr>
              <a:t>谢谢观赏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cc00"/>
                  </a:gs>
                  <a:gs pos="100000">
                    <a:srgbClr val="48670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920" y="304920"/>
            <a:ext cx="2286000" cy="914400"/>
          </a:xfrm>
          <a:prstGeom prst="ellipse">
            <a:avLst/>
          </a:prstGeom>
          <a:gradFill rotWithShape="0">
            <a:gsLst>
              <a:gs pos="0">
                <a:srgbClr val="fd598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自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19320" y="1523880"/>
            <a:ext cx="815328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Arial"/>
                <a:ea typeface="黑体"/>
              </a:rPr>
              <a:t> 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＊通读课文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2-3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遍，利用字典自己学会字词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cccc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＊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划出课文中解释课题的一句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598c"/>
                </a:solidFill>
                <a:latin typeface="Arial"/>
                <a:ea typeface="黑体"/>
              </a:rPr>
              <a:t>（课文第一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af92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＊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黑体"/>
              </a:rPr>
              <a:t>课文是按照怎样的顺序描写开国大典盛况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d598c"/>
                </a:solidFill>
                <a:latin typeface="Arial"/>
                <a:ea typeface="黑体"/>
              </a:rPr>
              <a:t>（按事情发展的顺序描写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7af92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37af92"/>
                </a:solidFill>
                <a:latin typeface="Arial"/>
                <a:ea typeface="黑体"/>
              </a:rPr>
              <a:t>＊</a:t>
            </a:r>
            <a:r>
              <a:rPr b="0" lang="zh-CN" sz="2400" spc="-1" strike="noStrike">
                <a:solidFill>
                  <a:srgbClr val="37af92"/>
                </a:solidFill>
                <a:latin typeface="Arial"/>
                <a:ea typeface="黑体"/>
              </a:rPr>
              <a:t>思考：课文写了哪几个大场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af92"/>
                </a:solidFill>
                <a:latin typeface="Arial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37af92"/>
                </a:solidFill>
                <a:latin typeface="Arial"/>
                <a:ea typeface="黑体"/>
              </a:rPr>
              <a:t>几个场面描写有什么不一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af92"/>
                </a:solidFill>
                <a:latin typeface="Arial"/>
                <a:ea typeface="黑体"/>
              </a:rPr>
              <a:t>                 </a:t>
            </a:r>
            <a:r>
              <a:rPr b="0" lang="zh-CN" sz="2400" spc="-1" strike="noStrike">
                <a:solidFill>
                  <a:srgbClr val="37af92"/>
                </a:solidFill>
                <a:latin typeface="Arial"/>
                <a:ea typeface="黑体"/>
              </a:rPr>
              <a:t>每个场面分别写了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7af92"/>
                </a:solidFill>
                <a:latin typeface="Arial"/>
                <a:ea typeface="黑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267080" y="5105520"/>
            <a:ext cx="213372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我能行！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2" name=""/>
          <p:cNvSpPr/>
          <p:nvPr/>
        </p:nvSpPr>
        <p:spPr>
          <a:xfrm>
            <a:off x="8001000" y="6248520"/>
            <a:ext cx="76212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 rot="20978400">
            <a:off x="7848720" y="5638320"/>
            <a:ext cx="1447560" cy="1052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971800" y="68580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学习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781680" y="5638680"/>
            <a:ext cx="1067040" cy="1067040"/>
            <a:chOff x="6781680" y="5638680"/>
            <a:chExt cx="1067040" cy="1067040"/>
          </a:xfrm>
        </p:grpSpPr>
        <p:sp>
          <p:nvSpPr>
            <p:cNvPr id="176" name=""/>
            <p:cNvSpPr/>
            <p:nvPr/>
          </p:nvSpPr>
          <p:spPr>
            <a:xfrm>
              <a:off x="6781680" y="6248520"/>
              <a:ext cx="99072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5"/>
            <a:stretch/>
          </p:blipFill>
          <p:spPr>
            <a:xfrm>
              <a:off x="6858000" y="5638680"/>
              <a:ext cx="99072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rcRect l="17028" t="46013" r="8470" b="9461"/>
          <a:stretch/>
        </p:blipFill>
        <p:spPr>
          <a:xfrm>
            <a:off x="5029200" y="1523880"/>
            <a:ext cx="4724280" cy="40500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6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319480" cy="2895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rcRect l="0" t="42841" r="0" b="31258"/>
          <a:stretch/>
        </p:blipFill>
        <p:spPr>
          <a:xfrm>
            <a:off x="2514600" y="304920"/>
            <a:ext cx="6400800" cy="38098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666880" y="4419720"/>
            <a:ext cx="3581640" cy="1371600"/>
          </a:xfrm>
          <a:custGeom>
            <a:avLst/>
            <a:gdLst>
              <a:gd name="textAreaLeft" fmla="*/ 1193760 w 3581640"/>
              <a:gd name="textAreaRight" fmla="*/ 3067560 w 358164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643280" cy="665784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7924680" y="5638680"/>
            <a:ext cx="1067040" cy="1067040"/>
            <a:chOff x="7924680" y="5638680"/>
            <a:chExt cx="1067040" cy="1067040"/>
          </a:xfrm>
        </p:grpSpPr>
        <p:sp>
          <p:nvSpPr>
            <p:cNvPr id="185" name=""/>
            <p:cNvSpPr/>
            <p:nvPr/>
          </p:nvSpPr>
          <p:spPr>
            <a:xfrm>
              <a:off x="7924680" y="6248520"/>
              <a:ext cx="99072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8001000" y="5638680"/>
              <a:ext cx="99072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教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1600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国大典》是小学语文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教材中第十一册第二单元第一篇讲读课文。本单元以“爱我中华”为主题，以感受炽热爱国情怀，领略文章的表达方法，体会课文中重点语句所表达的思想感情为重点，安排了《开国大典》、《望大陆》、《明天更辉煌》、《山海关》、《太阳与士兵》五篇文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478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478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4782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720" y="47520"/>
            <a:ext cx="4749840" cy="681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90720" y="47520"/>
            <a:ext cx="4749840" cy="681048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7086600" y="5562720"/>
            <a:ext cx="1066320" cy="1066320"/>
            <a:chOff x="7086600" y="5562720"/>
            <a:chExt cx="1066320" cy="1066320"/>
          </a:xfrm>
        </p:grpSpPr>
        <p:sp>
          <p:nvSpPr>
            <p:cNvPr id="198" name=""/>
            <p:cNvSpPr/>
            <p:nvPr/>
          </p:nvSpPr>
          <p:spPr>
            <a:xfrm>
              <a:off x="7086600" y="6172200"/>
              <a:ext cx="99036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3"/>
            <a:stretch/>
          </p:blipFill>
          <p:spPr>
            <a:xfrm>
              <a:off x="7162560" y="5562720"/>
              <a:ext cx="99036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90720" y="14479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《开国大典》是一篇较长课文、讲读课文、龙头课文，题材珍贵、陌生但并不难理解。作者按事情发展的顺序记叙了１９４９年１０月１日首都北京举行开国大典的盛况，以典礼时场面为写作重点，几个场面的描写详略有当。表达了人民群众热爱党、热爱领袖、热爱新中国的思想感情。文章文笔流畅，层次清楚，场面描写与抒发感情相结合非常到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7848720" y="5486400"/>
            <a:ext cx="1066320" cy="1066320"/>
            <a:chOff x="7848720" y="5486400"/>
            <a:chExt cx="1066320" cy="1066320"/>
          </a:xfrm>
        </p:grpSpPr>
        <p:sp>
          <p:nvSpPr>
            <p:cNvPr id="68" name="">
              <a:hlinkClick r:id="rId2" action="ppaction://hlinksldjump"/>
            </p:cNvPr>
            <p:cNvSpPr/>
            <p:nvPr/>
          </p:nvSpPr>
          <p:spPr>
            <a:xfrm>
              <a:off x="7848720" y="6095880"/>
              <a:ext cx="990360" cy="456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" descr=""/>
            <p:cNvPicPr/>
            <p:nvPr/>
          </p:nvPicPr>
          <p:blipFill>
            <a:blip r:embed="rId3"/>
            <a:stretch/>
          </p:blipFill>
          <p:spPr>
            <a:xfrm>
              <a:off x="7924680" y="5486400"/>
              <a:ext cx="990360" cy="7142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说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1219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年龄段学生处于少年心理向青年心理过渡期，既带有少年的天真，有时常表现出青年人的成熟。随着知识的积累和对事物体验的深化，学生除了注意事物外表的形式之外，更注意对事物的分析和主观体会，对很多问题都可以做出自己的回答。另外由于年代较久，学生对新中国诞生前后的历史背景知识了解不全面 ，所以尽量多的提供史料，更有助于对课文的理解和拓宽知识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7696080" y="5410080"/>
            <a:ext cx="1067040" cy="1067040"/>
            <a:chOff x="7696080" y="5410080"/>
            <a:chExt cx="1067040" cy="1067040"/>
          </a:xfrm>
        </p:grpSpPr>
        <p:sp>
          <p:nvSpPr>
            <p:cNvPr id="74" name="">
              <a:hlinkClick r:id="rId2" action="ppaction://hlinksldjump"/>
            </p:cNvPr>
            <p:cNvSpPr/>
            <p:nvPr/>
          </p:nvSpPr>
          <p:spPr>
            <a:xfrm>
              <a:off x="7696080" y="6019920"/>
              <a:ext cx="99072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7772400" y="5410080"/>
              <a:ext cx="99072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教学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19810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67652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通过有学习目的的自读自学方式，了解课文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容，会读会写“防、耸、旗、诞生”等生字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在一定的语言环境中理解“擎着、排山倒海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徐徐上升、瞻仰”等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在朗读和交流中，体会文章按照事情发展顺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叙以及揣摩文章有详有略的表达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在体验摄影记者活动以及知识拓展活动中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习场面描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7924680" y="5410080"/>
            <a:ext cx="1067040" cy="1067040"/>
            <a:chOff x="7924680" y="5410080"/>
            <a:chExt cx="1067040" cy="1067040"/>
          </a:xfrm>
        </p:grpSpPr>
        <p:sp>
          <p:nvSpPr>
            <p:cNvPr id="82" name="">
              <a:hlinkClick r:id="rId2" action="ppaction://hlinksldjump"/>
            </p:cNvPr>
            <p:cNvSpPr/>
            <p:nvPr/>
          </p:nvSpPr>
          <p:spPr>
            <a:xfrm>
              <a:off x="7924680" y="6019920"/>
              <a:ext cx="99072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8001000" y="5410080"/>
              <a:ext cx="99072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"/>
          <p:cNvSpPr/>
          <p:nvPr/>
        </p:nvSpPr>
        <p:spPr>
          <a:xfrm>
            <a:off x="914400" y="533520"/>
            <a:ext cx="70102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通过各种有感情地朗读以及交流、角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体会等方式，理解文章含义较深刻的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，并能够背诵第七自然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完成合作互动交流、汇报展示，体会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习带来的喜悦，培养语文学科兴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锻炼学习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了解新中国成立意义，联系新中国的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展，激发热爱祖国，建设祖国的热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648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设计理念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从新课程标准要求出发，教学目标涵盖三个维度，即：知识与能力、方法与过程、情感态度与价值观。教学目标具体、操作性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教学难重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219320"/>
            <a:ext cx="79246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重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课文的表达方式以及场面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写，正确领会课文的思想感 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本课文本的自身要求、单元（“爱我中华”）的单元重点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难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课文中含义比较深刻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句子，学习文章详略有当的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达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课文离学生的生活实际较远，学生了解甚少。学生的年龄特点，由学生认知情况而决定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4680" y="5410080"/>
            <a:ext cx="1067040" cy="1067040"/>
            <a:chOff x="7924680" y="5410080"/>
            <a:chExt cx="1067040" cy="1067040"/>
          </a:xfrm>
        </p:grpSpPr>
        <p:sp>
          <p:nvSpPr>
            <p:cNvPr id="90" name="">
              <a:hlinkClick r:id="rId2" action="ppaction://hlinksldjump"/>
            </p:cNvPr>
            <p:cNvSpPr/>
            <p:nvPr/>
          </p:nvSpPr>
          <p:spPr>
            <a:xfrm>
              <a:off x="7924680" y="6019920"/>
              <a:ext cx="990720" cy="457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8001000" y="5410080"/>
              <a:ext cx="990720" cy="7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0880" y="304920"/>
            <a:ext cx="2210040" cy="8380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设计思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44792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开国大典是学生们所没有经历过的，但是今年国庆六十周年大典学生们都亲身体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过。我联系这两次大典，通过图片、影像等资料，引领学生走进开国大典，了解新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成立。利用图片和影像真实地还原了开国大典当时的情景，让同学们进行移情学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每个画面场景以镜头的方式，学生情境体验以摄影记者的身份参与文章的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5-07-01T14:19:23Z</dcterms:modified>
  <cp:revision>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