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364B-7D8A-4610-A011-B14F3E04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2C1-4F06-4D09-B3A6-5A3E78C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D13-556F-41E2-9866-1F8AC391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844-0C9E-4368-930B-239B3F0F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472-A43D-4AE4-B4CA-051D308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C84-BB98-4C12-AFD4-41DAA49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171-A797-4231-90DD-B1D5C0F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E1D-AEC0-4BF8-86EB-92FBEE3A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096-A599-445F-AE35-1F8E0AF1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222-C2BF-4EC1-8ABA-F5E8956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EF-FA74-4707-A163-CD7D4C16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AA7-8572-49EA-B18A-6186C934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97F-1ECD-4EE7-A35F-B3A86BC90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TV SERV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fault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1:     admin 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2           ptz   p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3       mobile 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界面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5987880"/>
            <a:ext cx="121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2169800" cy="85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aramter1.inf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857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TZ SE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5440" y="1600200"/>
            <a:ext cx="82803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otion s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Z settings. This set PTZ protocol. Note that you can first test is available. And then OK. Head only with a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8640" y="1558800"/>
            <a:ext cx="77169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42920" y="1270080"/>
            <a:ext cx="136065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PATH S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etwork settings. (HTV ip and port set up a network application note. UPNP po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440" y="1600200"/>
            <a:ext cx="7993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1:31:46Z</dcterms:created>
  <dc:creator>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