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3.jpeg" ContentType="image/jpeg"/>
  <Override PartName="/ppt/media/image8.jpeg" ContentType="image/jpeg"/>
  <Override PartName="/ppt/media/projctor.wav" ContentType="audio/x-wav"/>
  <Override PartName="/ppt/media/image1.jpeg" ContentType="image/jpeg"/>
  <Override PartName="/ppt/media/image2.jpeg" ContentType="image/jpeg"/>
  <Override PartName="/ppt/media/image4.jpeg" ContentType="image/jpeg"/>
  <Override PartName="/ppt/media/image9.wmf" ContentType="image/x-wmf"/>
  <Override PartName="/ppt/media/image5.jpeg" ContentType="image/jpeg"/>
  <Override PartName="/ppt/media/CHIMES.WAV" ContentType="audio/x-wav"/>
  <Override PartName="/ppt/media/image11.wmf" ContentType="image/x-wmf"/>
  <Override PartName="/ppt/media/image10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1AB6-5DF8-4984-82DD-9A8F9C82D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5FE4-6C55-4E13-BAA1-A2000DEC2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A211-2A68-4B9D-A022-C2EFEDA79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19EB-598C-48A2-A721-44529ECBA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B37F-5955-4680-A4B3-DF861061FE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2645E-9044-4460-B657-32A12E8F0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3510-B325-4F71-8137-ACDC4D972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A3ED-DD6C-497F-A3B8-DC045E926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B4E2-B609-4444-B6E9-0F2D23260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2AF3-78EC-4F2D-86CB-71ADAA678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4909-30D2-412D-8DDE-1D753725A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A51E2-41AA-46D2-81EA-114121677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5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F345D09-97AF-4CE8-BDED-DFC89377ED91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2049" descr="5-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CHIMES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hina356.com/ProductDetailzyr.asp?ProductNO=815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5121"/>
          <p:cNvSpPr/>
          <p:nvPr/>
        </p:nvSpPr>
        <p:spPr>
          <a:xfrm>
            <a:off x="611280" y="1125360"/>
            <a:ext cx="81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66"/>
                </a:solidFill>
                <a:latin typeface="Times New Roman"/>
                <a:ea typeface="隶书"/>
              </a:rPr>
              <a:t>汉字书法五体是什么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文本框 5122"/>
          <p:cNvSpPr/>
          <p:nvPr/>
        </p:nvSpPr>
        <p:spPr>
          <a:xfrm>
            <a:off x="1908000" y="465300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真（楷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文本框 5123"/>
          <p:cNvSpPr/>
          <p:nvPr/>
        </p:nvSpPr>
        <p:spPr>
          <a:xfrm>
            <a:off x="3851280" y="328464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文本框 5124"/>
          <p:cNvSpPr/>
          <p:nvPr/>
        </p:nvSpPr>
        <p:spPr>
          <a:xfrm>
            <a:off x="1187280" y="328464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5125"/>
          <p:cNvSpPr/>
          <p:nvPr/>
        </p:nvSpPr>
        <p:spPr>
          <a:xfrm>
            <a:off x="6443640" y="328464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5126"/>
          <p:cNvSpPr/>
          <p:nvPr/>
        </p:nvSpPr>
        <p:spPr>
          <a:xfrm>
            <a:off x="5869080" y="46530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Arial"/>
                <a:ea typeface="隶书"/>
              </a:rPr>
              <a:t>关于序的体裁知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887120"/>
            <a:ext cx="84960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序的体裁，有的近似论说文，有的近似记叙文，后代有的还很像是抒情散文。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抒情成分较多的序，多半是为诗歌唱和的集子而作。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王羲之的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兰亭集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李白的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夜宴从弟桃李园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这种序的抒情，</a:t>
            </a:r>
            <a:r>
              <a:rPr b="0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也都离不开议论和叙事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对象 14339" descr=""/>
          <p:cNvPicPr/>
          <p:nvPr/>
        </p:nvPicPr>
        <p:blipFill>
          <a:blip r:embed="rId1"/>
          <a:stretch/>
        </p:blipFill>
        <p:spPr>
          <a:xfrm>
            <a:off x="2590920" y="1486080"/>
            <a:ext cx="376848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99"/>
                </a:solidFill>
                <a:latin typeface="Arial"/>
                <a:ea typeface="隶书"/>
              </a:rPr>
              <a:t>“</a:t>
            </a:r>
            <a:r>
              <a:rPr b="1" i="1" lang="zh-CN" sz="3000" spc="-1" strike="noStrike">
                <a:solidFill>
                  <a:srgbClr val="000099"/>
                </a:solidFill>
                <a:latin typeface="Arial"/>
                <a:ea typeface="隶书"/>
              </a:rPr>
              <a:t>序”  与   “跋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序”也写做“叙”或称“引”，犹如今日的“引言”、“前言”。</a:t>
            </a:r>
            <a:r>
              <a:rPr b="1" lang="zh-CN" sz="2000" spc="-1" strike="noStrike" u="sng">
                <a:solidFill>
                  <a:srgbClr val="0000ff"/>
                </a:solidFill>
                <a:uFillTx/>
                <a:latin typeface="Arial"/>
                <a:ea typeface="隶书"/>
              </a:rPr>
              <a:t>是说明书籍著述或出版意旨、编次体例和作者情况的文章。也有对作者作品的评论和对有关问题的研究阐发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隶书"/>
              </a:rPr>
              <a:t>  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“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序”一般写在文章前面，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隶书"/>
              </a:rPr>
              <a:t>列于书后称为“跋”或“后序”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隶书"/>
              </a:rPr>
              <a:t>（文天祥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隶书"/>
              </a:rPr>
              <a:t>&lt;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隶书"/>
              </a:rPr>
              <a:t>《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隶书"/>
              </a:rPr>
              <a:t>指南录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隶书"/>
              </a:rPr>
              <a:t>》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隶书"/>
              </a:rPr>
              <a:t>后序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隶书"/>
              </a:rPr>
              <a:t>&gt;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隶书"/>
              </a:rPr>
              <a:t>）。这类文章，按内容分别属于说明文或议论文；以叙事为主、夹叙夹议的，不多见；</a:t>
            </a: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隶书"/>
              </a:rPr>
              <a:t>抒情成分较多的序，多半是为诗歌唱和的集子而作，例如本文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  <a:ea typeface="华文行楷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79214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预习是自主的事情。不会预习、不知道预习的人只是学习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奴隶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而非学习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主人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在学习上，你愿意是奴隶还是主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6386"/>
          <p:cNvSpPr/>
          <p:nvPr/>
        </p:nvSpPr>
        <p:spPr>
          <a:xfrm>
            <a:off x="2195640" y="549360"/>
            <a:ext cx="53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预习情况检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齐读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7410"/>
          <p:cNvSpPr/>
          <p:nvPr/>
        </p:nvSpPr>
        <p:spPr>
          <a:xfrm>
            <a:off x="539640" y="919080"/>
            <a:ext cx="8280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注意下列句子中加粗的字的字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岁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gu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ǐ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丑　        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稽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ku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事也               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清流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tu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ā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sh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ā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曲水　     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游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ch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ě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ù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言一室之内     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放浪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á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i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舍万殊          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知老之将至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ē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兴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ī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之由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临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ji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悼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彭殇（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sh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ā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彭，彭祖，借指长寿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殇，夭折，借指短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18433"/>
          <p:cNvSpPr/>
          <p:nvPr/>
        </p:nvSpPr>
        <p:spPr>
          <a:xfrm>
            <a:off x="838080" y="990720"/>
            <a:ext cx="366264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修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事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茂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竹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况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短随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列坐其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丝竹管弦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俯察品类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所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目骋怀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所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兴怀，其致一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足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听之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夫人之相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文本框 18434"/>
          <p:cNvSpPr/>
          <p:nvPr/>
        </p:nvSpPr>
        <p:spPr>
          <a:xfrm>
            <a:off x="2987640" y="9651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古代的一种风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文本框 18435"/>
          <p:cNvSpPr/>
          <p:nvPr/>
        </p:nvSpPr>
        <p:spPr>
          <a:xfrm>
            <a:off x="2987640" y="1371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文本框 18436"/>
          <p:cNvSpPr/>
          <p:nvPr/>
        </p:nvSpPr>
        <p:spPr>
          <a:xfrm>
            <a:off x="2987640" y="184464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文本框 18437"/>
          <p:cNvSpPr/>
          <p:nvPr/>
        </p:nvSpPr>
        <p:spPr>
          <a:xfrm>
            <a:off x="3273480" y="2438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旁边，水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文本框 18438"/>
          <p:cNvSpPr/>
          <p:nvPr/>
        </p:nvSpPr>
        <p:spPr>
          <a:xfrm>
            <a:off x="3851280" y="31240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热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文本框 18439"/>
          <p:cNvSpPr/>
          <p:nvPr/>
        </p:nvSpPr>
        <p:spPr>
          <a:xfrm>
            <a:off x="3835440" y="35575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繁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文本框 18440"/>
          <p:cNvSpPr/>
          <p:nvPr/>
        </p:nvSpPr>
        <p:spPr>
          <a:xfrm>
            <a:off x="4716360" y="4191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用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文本框 18441"/>
          <p:cNvSpPr/>
          <p:nvPr/>
        </p:nvSpPr>
        <p:spPr>
          <a:xfrm>
            <a:off x="4643280" y="46483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原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文本框 18442"/>
          <p:cNvSpPr/>
          <p:nvPr/>
        </p:nvSpPr>
        <p:spPr>
          <a:xfrm>
            <a:off x="4211640" y="52578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动词，穷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文本框 18443"/>
          <p:cNvSpPr/>
          <p:nvPr/>
        </p:nvSpPr>
        <p:spPr>
          <a:xfrm>
            <a:off x="4356000" y="5867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交   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矩形 18444"/>
          <p:cNvSpPr/>
          <p:nvPr/>
        </p:nvSpPr>
        <p:spPr>
          <a:xfrm>
            <a:off x="611280" y="0"/>
            <a:ext cx="77724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重点字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文本框 19457"/>
          <p:cNvSpPr/>
          <p:nvPr/>
        </p:nvSpPr>
        <p:spPr>
          <a:xfrm>
            <a:off x="179280" y="765000"/>
            <a:ext cx="547236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或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取诸怀抱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晤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言一室之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曾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不知老之将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况修短随化，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期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于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未尝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临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文嗟悼，不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喻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之于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死生为虚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彭殇为妄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每览昔人兴感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由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后之视今，亦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由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今之视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后之览者，亦将有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于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斯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19458"/>
          <p:cNvSpPr/>
          <p:nvPr/>
        </p:nvSpPr>
        <p:spPr>
          <a:xfrm>
            <a:off x="5435640" y="727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的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 会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19459"/>
          <p:cNvSpPr/>
          <p:nvPr/>
        </p:nvSpPr>
        <p:spPr>
          <a:xfrm>
            <a:off x="4500720" y="130320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乃，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曾”常与不连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文本框 19460"/>
          <p:cNvSpPr/>
          <p:nvPr/>
        </p:nvSpPr>
        <p:spPr>
          <a:xfrm>
            <a:off x="5734080" y="19875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动词，至，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文本框 19461"/>
          <p:cNvSpPr/>
          <p:nvPr/>
        </p:nvSpPr>
        <p:spPr>
          <a:xfrm>
            <a:off x="5715000" y="2600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面对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明白，懂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文本框 19462"/>
          <p:cNvSpPr/>
          <p:nvPr/>
        </p:nvSpPr>
        <p:spPr>
          <a:xfrm>
            <a:off x="3851280" y="32828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本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数词做动词，看作一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文本框 19463"/>
          <p:cNvSpPr/>
          <p:nvPr/>
        </p:nvSpPr>
        <p:spPr>
          <a:xfrm>
            <a:off x="5200560" y="3892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动词，等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文本框 19464"/>
          <p:cNvSpPr/>
          <p:nvPr/>
        </p:nvSpPr>
        <p:spPr>
          <a:xfrm>
            <a:off x="5581800" y="45021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文本框 19465"/>
          <p:cNvSpPr/>
          <p:nvPr/>
        </p:nvSpPr>
        <p:spPr>
          <a:xfrm>
            <a:off x="4932360" y="5141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犹”，如同，好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文本框 19466"/>
          <p:cNvSpPr/>
          <p:nvPr/>
        </p:nvSpPr>
        <p:spPr>
          <a:xfrm>
            <a:off x="5429160" y="571824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；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  文  讲  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-360" y="2417760"/>
            <a:ext cx="889308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永和九年”是用年号纪年法纪年，即：使用帝王确立的年号加上序数词纪年；“癸丑”是用干支纪年法纪年，即使用十天干（甲乙丙丁戊己庚辛壬癸）和十二地支（子丑寅卯辰巳午未申酉戌亥）进行依次组合（甲子－乙丑－丙寅－等）来纪年；这一年为东晋穆帝确立“永和”这一年号的第九年，也是“癸丑”年。两种纪年方法一般单用，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这里叠用有清晰纪年的作用，但更重要的要算是音韵上的作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暮春”是用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孟仲暮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纪月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纪月，即：三月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于会稽山阴之兰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状语后置。“禊”为古代春秋两季在水边举行的清除不祥的祭祀。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兰亭集序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还有个别称叫“禊帖”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1506"/>
          <p:cNvSpPr/>
          <p:nvPr/>
        </p:nvSpPr>
        <p:spPr>
          <a:xfrm>
            <a:off x="395280" y="907920"/>
            <a:ext cx="82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文：永和九年，岁在癸丑，暮春之初，会于会稽山阴之兰亭，修禊事也。 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翻译：永和九年，也就是癸丑年，（在）三月上旬（的某一天），在会稽郡山阴县的兰亭聚会，举行祓禊活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矩形 21507"/>
          <p:cNvSpPr/>
          <p:nvPr/>
        </p:nvSpPr>
        <p:spPr>
          <a:xfrm>
            <a:off x="755640" y="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隶书"/>
              </a:rPr>
              <a:t>第一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100160"/>
            <a:ext cx="7989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原文：群贤毕至，少长咸集。 </a:t>
            </a:r>
            <a:br>
              <a:rPr sz="3200"/>
            </a:b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翻译：有贤德的人都来（到这里），年轻的、年长的都（在这里）会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303640"/>
            <a:ext cx="82072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八字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写尽来人，更写尽修禊之盛事</a:t>
            </a: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2531"/>
          <p:cNvSpPr/>
          <p:nvPr/>
        </p:nvSpPr>
        <p:spPr>
          <a:xfrm>
            <a:off x="611280" y="3645000"/>
            <a:ext cx="8208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原文：此地有崇山峻岭，茂林修竹；又有清流激湍，映带左右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楷体_GB2312"/>
              </a:rPr>
              <a:t>翻译：这里有高大险峻的山岭，茂盛高密的树林和竹丛；又有清澈激荡的水流，（在亭的）左右辉映环绕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矩形 22532"/>
          <p:cNvSpPr/>
          <p:nvPr/>
        </p:nvSpPr>
        <p:spPr>
          <a:xfrm>
            <a:off x="684360" y="6157800"/>
            <a:ext cx="7772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二十字写尽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环境之幽美</a:t>
            </a: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原文：引以为流觞曲水，列坐其次，虽无丝竹管弦之盛，一觞一咏，亦足以畅叙幽情。 </a:t>
            </a:r>
            <a:br>
              <a:rPr sz="2000"/>
            </a:br>
            <a:r>
              <a:rPr b="0" lang="zh-CN" sz="2000" spc="-1" strike="noStrike">
                <a:solidFill>
                  <a:srgbClr val="006666"/>
                </a:solidFill>
                <a:latin typeface="Arial"/>
                <a:ea typeface="楷体_GB2312"/>
              </a:rPr>
              <a:t>翻译：（把水）引来作为飘传酒杯的环形渠水，（人们）在它旁边排列而坐，虽然没有管弦齐奏的盛况，（可是）饮一杯酒，赋一首诗，也足够用来痛快地表达幽雅的情怀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三十字写尽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饮酒赋诗之盛况</a:t>
            </a: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。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5676840" cy="584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6666"/>
                </a:solidFill>
                <a:latin typeface="华文新魏"/>
                <a:ea typeface="华文新魏"/>
              </a:rPr>
              <a:t>在中国书法艺术的发展史上，魏晋时期具有承前起后的重要作用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一方面汉隶发展至魏晋，基本奠定了汉字形态；另一方面，真、行、草书又得到长足发展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就在这一时期，诞生了一位中国历史上最伟大的书法家，被后世誉为“书圣”。他写的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《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兰亭集序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》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被后世书法家誉 为“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天下第一行书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”，他就是王羲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6148" descr="王羲之1"/>
          <p:cNvPicPr/>
          <p:nvPr/>
        </p:nvPicPr>
        <p:blipFill>
          <a:blip r:embed="rId1"/>
          <a:stretch/>
        </p:blipFill>
        <p:spPr>
          <a:xfrm>
            <a:off x="6400800" y="457200"/>
            <a:ext cx="22636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dur="indefinite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dur="indefinite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dur="indefinite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原文：是日也，天朗气清，惠风和畅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zh-CN" sz="2000" spc="-1" strike="noStrike">
                <a:solidFill>
                  <a:srgbClr val="006666"/>
                </a:solidFill>
                <a:latin typeface="Arial"/>
                <a:ea typeface="楷体_GB2312"/>
              </a:rPr>
              <a:t>翻译：这一天，天气晴朗，空气清新，微风和暖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原文：仰观宇宙之大，俯察品类之盛，所以游目骋怀，足以极视听之娱，信可乐也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zh-CN" sz="2000" spc="-1" strike="noStrike">
                <a:solidFill>
                  <a:srgbClr val="006666"/>
                </a:solidFill>
                <a:latin typeface="Arial"/>
                <a:ea typeface="楷体_GB2312"/>
              </a:rPr>
              <a:t>翻译：抬头观望辽廓的宇宙，低头品察繁盛的事物，所用来放眼四望、舒展胸怀的（景观），（都）足够用来让人尽情享受视听的欢乐，实在快乐啊！ </a:t>
            </a:r>
            <a:br>
              <a:rPr sz="2000"/>
            </a:br>
            <a:r>
              <a:rPr b="0" lang="zh-CN" sz="2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鉴赏：此为“游”，有景物、有游踪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26625"/>
          <p:cNvSpPr/>
          <p:nvPr/>
        </p:nvSpPr>
        <p:spPr>
          <a:xfrm>
            <a:off x="685800" y="7459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文章的三个自然段分别侧重于写景还是叙事？议论还是抒情，请分别找出原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文本框 26626"/>
          <p:cNvSpPr/>
          <p:nvPr/>
        </p:nvSpPr>
        <p:spPr>
          <a:xfrm>
            <a:off x="5562720" y="2361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文本框 26627"/>
          <p:cNvSpPr/>
          <p:nvPr/>
        </p:nvSpPr>
        <p:spPr>
          <a:xfrm>
            <a:off x="0" y="191088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段：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叙事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何时、何人、因何事、在何地、做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写景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周围环境如何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在叙事和写景的基础上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抒情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此事、此景让人产生何种感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27649"/>
          <p:cNvSpPr/>
          <p:nvPr/>
        </p:nvSpPr>
        <p:spPr>
          <a:xfrm>
            <a:off x="-391680" y="990720"/>
            <a:ext cx="1277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兰亭集会的盛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文本框 27650"/>
          <p:cNvSpPr/>
          <p:nvPr/>
        </p:nvSpPr>
        <p:spPr>
          <a:xfrm>
            <a:off x="1143000" y="15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隶书"/>
              </a:rPr>
              <a:t>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文本框 27651"/>
          <p:cNvSpPr/>
          <p:nvPr/>
        </p:nvSpPr>
        <p:spPr>
          <a:xfrm>
            <a:off x="2971800" y="2286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永和九年，岁在癸丑，暮春之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文本框 27652"/>
          <p:cNvSpPr/>
          <p:nvPr/>
        </p:nvSpPr>
        <p:spPr>
          <a:xfrm>
            <a:off x="1143000" y="914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隶书"/>
              </a:rPr>
              <a:t>地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文本框 27653"/>
          <p:cNvSpPr/>
          <p:nvPr/>
        </p:nvSpPr>
        <p:spPr>
          <a:xfrm>
            <a:off x="3352680" y="990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会稽山阴之兰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文本框 27654"/>
          <p:cNvSpPr/>
          <p:nvPr/>
        </p:nvSpPr>
        <p:spPr>
          <a:xfrm>
            <a:off x="1143000" y="1700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隶书"/>
              </a:rPr>
              <a:t>事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文本框 27655"/>
          <p:cNvSpPr/>
          <p:nvPr/>
        </p:nvSpPr>
        <p:spPr>
          <a:xfrm>
            <a:off x="3352680" y="17762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修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直接连接符 27656"/>
          <p:cNvSpPr/>
          <p:nvPr/>
        </p:nvSpPr>
        <p:spPr>
          <a:xfrm>
            <a:off x="2133720" y="457200"/>
            <a:ext cx="990360" cy="0"/>
          </a:xfrm>
          <a:prstGeom prst="line">
            <a:avLst/>
          </a:prstGeom>
          <a:ln w="38160">
            <a:solidFill>
              <a:srgbClr val="ff8a15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直接连接符 27657"/>
          <p:cNvSpPr/>
          <p:nvPr/>
        </p:nvSpPr>
        <p:spPr>
          <a:xfrm>
            <a:off x="2133720" y="1295280"/>
            <a:ext cx="990360" cy="0"/>
          </a:xfrm>
          <a:prstGeom prst="line">
            <a:avLst/>
          </a:prstGeom>
          <a:ln w="38160">
            <a:solidFill>
              <a:srgbClr val="ff8a15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直接连接符 27658"/>
          <p:cNvSpPr/>
          <p:nvPr/>
        </p:nvSpPr>
        <p:spPr>
          <a:xfrm>
            <a:off x="2057400" y="2060640"/>
            <a:ext cx="1066680" cy="0"/>
          </a:xfrm>
          <a:prstGeom prst="line">
            <a:avLst/>
          </a:prstGeom>
          <a:ln w="38160">
            <a:solidFill>
              <a:srgbClr val="ff8a15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文本框 27659"/>
          <p:cNvSpPr/>
          <p:nvPr/>
        </p:nvSpPr>
        <p:spPr>
          <a:xfrm>
            <a:off x="1143000" y="29624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隶书"/>
              </a:rPr>
              <a:t>环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文本框 27660"/>
          <p:cNvSpPr/>
          <p:nvPr/>
        </p:nvSpPr>
        <p:spPr>
          <a:xfrm>
            <a:off x="3352680" y="227664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崇山峻岭，茂林修竹，又有清流急湍，映带左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27661"/>
          <p:cNvSpPr/>
          <p:nvPr/>
        </p:nvSpPr>
        <p:spPr>
          <a:xfrm>
            <a:off x="3429000" y="50706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引以为流觞曲水，列坐其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27662"/>
          <p:cNvSpPr/>
          <p:nvPr/>
        </p:nvSpPr>
        <p:spPr>
          <a:xfrm>
            <a:off x="3352680" y="35719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天朗气清，惠风和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直接连接符 27663"/>
          <p:cNvSpPr/>
          <p:nvPr/>
        </p:nvSpPr>
        <p:spPr>
          <a:xfrm flipV="1">
            <a:off x="2057400" y="2885760"/>
            <a:ext cx="1143000" cy="304920"/>
          </a:xfrm>
          <a:prstGeom prst="line">
            <a:avLst/>
          </a:prstGeom>
          <a:ln w="28440">
            <a:solidFill>
              <a:srgbClr val="ff8a15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直接连接符 27664"/>
          <p:cNvSpPr/>
          <p:nvPr/>
        </p:nvSpPr>
        <p:spPr>
          <a:xfrm>
            <a:off x="2057400" y="3343320"/>
            <a:ext cx="1066680" cy="457200"/>
          </a:xfrm>
          <a:prstGeom prst="line">
            <a:avLst/>
          </a:prstGeom>
          <a:ln w="28440">
            <a:solidFill>
              <a:srgbClr val="ff8a15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左大括号 27665"/>
          <p:cNvSpPr/>
          <p:nvPr/>
        </p:nvSpPr>
        <p:spPr>
          <a:xfrm>
            <a:off x="838080" y="533520"/>
            <a:ext cx="381240" cy="5848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152280 h 5848200"/>
              <a:gd name="textAreaBottom" fmla="*/ 5695920 h 584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文本框 27666"/>
          <p:cNvSpPr/>
          <p:nvPr/>
        </p:nvSpPr>
        <p:spPr>
          <a:xfrm>
            <a:off x="1116000" y="43610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隶书"/>
              </a:rPr>
              <a:t>人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文本框 27667"/>
          <p:cNvSpPr/>
          <p:nvPr/>
        </p:nvSpPr>
        <p:spPr>
          <a:xfrm>
            <a:off x="4267080" y="54100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文本框 27668"/>
          <p:cNvSpPr/>
          <p:nvPr/>
        </p:nvSpPr>
        <p:spPr>
          <a:xfrm>
            <a:off x="3352680" y="5862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一觞一咏，亦足以畅叙幽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直接连接符 27669"/>
          <p:cNvSpPr/>
          <p:nvPr/>
        </p:nvSpPr>
        <p:spPr>
          <a:xfrm flipV="1">
            <a:off x="2050920" y="4673160"/>
            <a:ext cx="1301760" cy="47880"/>
          </a:xfrm>
          <a:prstGeom prst="line">
            <a:avLst/>
          </a:prstGeom>
          <a:ln w="28440">
            <a:solidFill>
              <a:srgbClr val="ff8a15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直接连接符 27670"/>
          <p:cNvSpPr/>
          <p:nvPr/>
        </p:nvSpPr>
        <p:spPr>
          <a:xfrm>
            <a:off x="2124000" y="5805360"/>
            <a:ext cx="1143000" cy="165240"/>
          </a:xfrm>
          <a:prstGeom prst="line">
            <a:avLst/>
          </a:prstGeom>
          <a:ln w="28440">
            <a:solidFill>
              <a:srgbClr val="ff8a15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右大括号 27671"/>
          <p:cNvSpPr/>
          <p:nvPr/>
        </p:nvSpPr>
        <p:spPr>
          <a:xfrm>
            <a:off x="8153280" y="457200"/>
            <a:ext cx="228600" cy="5867280"/>
          </a:xfrm>
          <a:custGeom>
            <a:avLst/>
            <a:gdLst>
              <a:gd name="textAreaLeft" fmla="*/ 0 w 228600"/>
              <a:gd name="textAreaRight" fmla="*/ 82440 w 228600"/>
              <a:gd name="textAreaTop" fmla="*/ 152640 h 5867280"/>
              <a:gd name="textAreaBottom" fmla="*/ 5714640 h 58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文本框 27672"/>
          <p:cNvSpPr/>
          <p:nvPr/>
        </p:nvSpPr>
        <p:spPr>
          <a:xfrm>
            <a:off x="7988760" y="1981080"/>
            <a:ext cx="1155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信  可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  <a:ea typeface="隶书"/>
              </a:rPr>
              <a:t>    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文本框 27673"/>
          <p:cNvSpPr/>
          <p:nvPr/>
        </p:nvSpPr>
        <p:spPr>
          <a:xfrm>
            <a:off x="3276720" y="429264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群贤毕至，少长咸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直接连接符 27674"/>
          <p:cNvSpPr/>
          <p:nvPr/>
        </p:nvSpPr>
        <p:spPr>
          <a:xfrm flipV="1">
            <a:off x="2119320" y="5277960"/>
            <a:ext cx="1157400" cy="166680"/>
          </a:xfrm>
          <a:prstGeom prst="line">
            <a:avLst/>
          </a:prstGeom>
          <a:ln w="28440">
            <a:solidFill>
              <a:srgbClr val="ff8a15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文本框 27675"/>
          <p:cNvSpPr/>
          <p:nvPr/>
        </p:nvSpPr>
        <p:spPr>
          <a:xfrm>
            <a:off x="1042920" y="52974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隶书"/>
              </a:rPr>
              <a:t>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文本框 28673"/>
          <p:cNvSpPr/>
          <p:nvPr/>
        </p:nvSpPr>
        <p:spPr>
          <a:xfrm>
            <a:off x="228600" y="3351240"/>
            <a:ext cx="81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左大括号 28674"/>
          <p:cNvSpPr/>
          <p:nvPr/>
        </p:nvSpPr>
        <p:spPr>
          <a:xfrm>
            <a:off x="1600200" y="1293840"/>
            <a:ext cx="304920" cy="5105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2840 h 5105520"/>
              <a:gd name="textAreaBottom" fmla="*/ 4972680 h 510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ffcc00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文本框 28675"/>
          <p:cNvSpPr/>
          <p:nvPr/>
        </p:nvSpPr>
        <p:spPr>
          <a:xfrm>
            <a:off x="2057400" y="1217520"/>
            <a:ext cx="68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群贤云集</a:t>
            </a: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：群贤毕至，少长咸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文本框 28676"/>
          <p:cNvSpPr/>
          <p:nvPr/>
        </p:nvSpPr>
        <p:spPr>
          <a:xfrm>
            <a:off x="1905120" y="205596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地胜景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：崇山峻岭，茂林修竹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清流急湍，映带左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文本框 28677"/>
          <p:cNvSpPr/>
          <p:nvPr/>
        </p:nvSpPr>
        <p:spPr>
          <a:xfrm>
            <a:off x="2209680" y="3960720"/>
            <a:ext cx="610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事趣兴雅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：流觞曲水，一觞一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文本框 28678"/>
          <p:cNvSpPr/>
          <p:nvPr/>
        </p:nvSpPr>
        <p:spPr>
          <a:xfrm>
            <a:off x="2209680" y="4951440"/>
            <a:ext cx="65390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时美辰良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：天朗气清，惠风和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文本框 28679"/>
          <p:cNvSpPr/>
          <p:nvPr/>
        </p:nvSpPr>
        <p:spPr>
          <a:xfrm>
            <a:off x="1828800" y="6018120"/>
            <a:ext cx="66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赏心悦目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：仰观俯察，游目骋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文本框 28680"/>
          <p:cNvSpPr/>
          <p:nvPr/>
        </p:nvSpPr>
        <p:spPr>
          <a:xfrm>
            <a:off x="250920" y="260280"/>
            <a:ext cx="63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总结：乐从何来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0764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新魏"/>
              </a:rPr>
              <a:t>写兰亭集会的盛况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新魏"/>
              </a:rPr>
              <a:t>      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新魏"/>
              </a:rPr>
              <a:t>在本段中，作者着重突出了一个“乐”字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新魏"/>
              </a:rPr>
              <a:t>      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新魏"/>
              </a:rPr>
              <a:t>心情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欢乐过后会转成什么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Arial"/>
              </a:rPr>
              <a:t>第一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1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7,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1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7,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1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7,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1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7,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-2556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隶书"/>
              </a:rPr>
              <a:t>第二段：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原文：夫人之相与，俯仰一世。 </a:t>
            </a:r>
            <a:br>
              <a:rPr sz="2800"/>
            </a:br>
            <a:r>
              <a:rPr b="0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翻译：人们彼此相处，俯仰之间（就是）一生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讲解：“夫”</a:t>
            </a:r>
            <a:r>
              <a:rPr b="1" lang="zh-CN" sz="2400" spc="-1" strike="noStrike">
                <a:solidFill>
                  <a:srgbClr val="6600cc"/>
                </a:solidFill>
                <a:latin typeface="隶书"/>
                <a:ea typeface="隶书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f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ú</a:t>
            </a:r>
            <a:r>
              <a:rPr b="1" lang="zh-CN" sz="2400" spc="-1" strike="noStrike">
                <a:solidFill>
                  <a:srgbClr val="6600cc"/>
                </a:solidFill>
                <a:latin typeface="隶书"/>
                <a:ea typeface="隶书"/>
              </a:rPr>
              <a:t>），发语词</a:t>
            </a:r>
            <a:r>
              <a:rPr b="1" lang="zh-CN" sz="2400" spc="-1" strike="noStrike">
                <a:solidFill>
                  <a:srgbClr val="6600cc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译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“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之”主谓之间的结构助词，不译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“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俯仰”用两个动作表示时间短暂。 </a:t>
            </a:r>
            <a:br>
              <a:rPr sz="2400"/>
            </a:b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鉴赏：所有的生命感悟实自一“夫”字始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原文：或取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诸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怀抱，晤言一室之内；或因寄所托，放浪形骸之外。 </a:t>
            </a:r>
            <a:br>
              <a:rPr sz="2800"/>
            </a:br>
            <a:r>
              <a:rPr b="0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翻译：有的人从自己的情趣思想中取出一些东西，在室内（跟朋友）面对面地交谈；有的人把感情寄托在自己喜好的事物上，不拘行迹，放纵逍遥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诸：兼词，相当于“之于”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   晤：面对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因寄所托：“因”与“寄”意思相近，依托，依凭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楷体_GB2312"/>
              </a:rPr>
              <a:t>放浪形骸：放浪，放纵无拘；形骸，形体，此指礼法规矩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496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原文：虽趋舍万殊，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静躁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不同，当其欣于所遇，暂得于己，快然自足，曾不知老之将至；及其所之既倦，情随事迁，感慨系之矣。 </a:t>
            </a:r>
            <a:br>
              <a:rPr sz="2800"/>
            </a:br>
            <a:r>
              <a:rPr b="0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翻译：虽然（人们的人生）取舍千差万别，好静好动，也不相同，但是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当他们对所接触的事物感到高兴时，暂时得意，快乐自足，竟不知道衰老即将到来；</a:t>
            </a:r>
            <a:r>
              <a:rPr b="0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待到他对于自己所到达的地方感到厌倦，心情随着当前的境况而变化，感慨就会随之而来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趣”有两解，一为“趋”，一为“取”。这里取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趋”意，追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静躁：分别对应上句的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晤言一室之内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放浪形骸之外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欣于所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”为典型的介宾短语作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状语后置句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“所遇”为名词性的所字短语。 </a:t>
            </a:r>
            <a:br>
              <a:rPr sz="2400"/>
            </a:br>
            <a:r>
              <a:rPr b="1" lang="zh-CN" sz="2400" spc="-1" strike="noStrike">
                <a:solidFill>
                  <a:srgbClr val="6600cc"/>
                </a:solidFill>
                <a:latin typeface="隶书"/>
                <a:ea typeface="隶书"/>
              </a:rPr>
              <a:t>鉴赏：此境而有此感，古今同也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我们自己有没有相似的心理体验呢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1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7,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1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7,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1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7,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1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7,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79280" y="44280"/>
            <a:ext cx="8964720" cy="666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原文：向之所欣，俯仰之间，已为陈迹，犹不能不以之兴怀；况修短随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化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终期于尽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翻译：以前感到欢快的事俯仰之间已经变为陈迹，仍然不能不因此产生感慨，何况人寿的长短随着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造化</a:t>
            </a:r>
            <a:r>
              <a:rPr b="0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而定，最后终将以生命的结束为最终结局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华文新魏"/>
              </a:rPr>
              <a:t>修”为形容词“长”，与“短”相对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华文新魏"/>
              </a:rPr>
              <a:t>期”为“以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华文新魏"/>
              </a:rPr>
              <a:t>……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华文新魏"/>
              </a:rPr>
              <a:t>为最终结局”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华文新魏"/>
              </a:rPr>
              <a:t>尽”为“生命的结束”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鉴赏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“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好花美丽不常开，好景宜人不常在”。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美好的事物总是那么短暂难留，它们的消逝常常引起人们的追怀。况且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人生有限，“人生亦不过百代之过客耳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”，</a:t>
            </a:r>
            <a:r>
              <a:rPr b="0" lang="zh-CN" sz="28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寿命长短完全不由自己做主，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不论生前所拥有的际遇、地位、财富等东西如何迥异，最终都无一例外地要走向死亡。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死亡是任谁也无法摆脱的宿命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生命之痛感由此而出也！</a:t>
            </a:r>
            <a:r>
              <a:rPr b="1" lang="zh-CN" sz="2400" spc="-1" strike="noStrike">
                <a:solidFill>
                  <a:srgbClr val="6600cc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56908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原文：古人云：“死生亦大矣。” </a:t>
            </a:r>
            <a:br>
              <a:rPr sz="3600"/>
            </a:br>
            <a:r>
              <a:rPr b="0" lang="zh-CN" sz="3600" spc="-1" strike="noStrike">
                <a:solidFill>
                  <a:srgbClr val="006666"/>
                </a:solidFill>
                <a:latin typeface="Arial"/>
                <a:ea typeface="楷体_GB2312"/>
              </a:rPr>
              <a:t>翻译：古人说：“死和生也是件大事啊！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zh-CN" sz="2000" spc="-1" strike="noStrike">
                <a:solidFill>
                  <a:srgbClr val="6600cc"/>
                </a:solidFill>
                <a:latin typeface="隶书"/>
                <a:ea typeface="隶书"/>
              </a:rPr>
              <a:t>鉴赏：千古同此一叹！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原文：岂不痛哉！ </a:t>
            </a:r>
            <a:br>
              <a:rPr sz="3600"/>
            </a:br>
            <a:r>
              <a:rPr b="0" lang="zh-CN" sz="3600" spc="-1" strike="noStrike">
                <a:solidFill>
                  <a:srgbClr val="006666"/>
                </a:solidFill>
                <a:latin typeface="Arial"/>
                <a:ea typeface="楷体_GB2312"/>
              </a:rPr>
              <a:t>翻译：怎能不悲痛呢？ </a:t>
            </a:r>
            <a:br>
              <a:rPr sz="3600"/>
            </a:br>
            <a:r>
              <a:rPr b="1" lang="zh-CN" sz="2000" spc="-1" strike="noStrike">
                <a:solidFill>
                  <a:srgbClr val="6600cc"/>
                </a:solidFill>
                <a:latin typeface="隶书"/>
                <a:ea typeface="隶书"/>
              </a:rPr>
              <a:t>鉴赏：此痛感为文学史上最初的痛感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隶书"/>
                <a:ea typeface="隶书"/>
              </a:rPr>
              <a:t>      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魏晋时期是一个文学自觉的时代。人们开始关注和思考自身的一些问题，并在文学作品中表达自己的思悟所得。生与死也是当时人谈论的一个重要问题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7169" descr="lanting.jpg (28593 bytes)"/>
          <p:cNvPicPr/>
          <p:nvPr/>
        </p:nvPicPr>
        <p:blipFill>
          <a:blip r:embed="rId1"/>
          <a:stretch/>
        </p:blipFill>
        <p:spPr>
          <a:xfrm>
            <a:off x="2987640" y="104760"/>
            <a:ext cx="6095880" cy="56293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7170"/>
          <p:cNvSpPr/>
          <p:nvPr/>
        </p:nvSpPr>
        <p:spPr>
          <a:xfrm>
            <a:off x="1263600" y="228960"/>
            <a:ext cx="118584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Times New Roman"/>
                <a:ea typeface="隶书"/>
              </a:rPr>
              <a:t>兰亭集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7171"/>
          <p:cNvSpPr/>
          <p:nvPr/>
        </p:nvSpPr>
        <p:spPr>
          <a:xfrm>
            <a:off x="615600" y="446004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Times New Roman"/>
                <a:ea typeface="华文行楷"/>
              </a:rPr>
              <a:t>王羲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34817"/>
          <p:cNvSpPr/>
          <p:nvPr/>
        </p:nvSpPr>
        <p:spPr>
          <a:xfrm>
            <a:off x="5562720" y="2361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图片 34818" descr="book9"/>
          <p:cNvPicPr/>
          <p:nvPr/>
        </p:nvPicPr>
        <p:blipFill>
          <a:blip r:embed="rId1"/>
          <a:stretch/>
        </p:blipFill>
        <p:spPr>
          <a:xfrm>
            <a:off x="6477120" y="4916520"/>
            <a:ext cx="1981080" cy="1641600"/>
          </a:xfrm>
          <a:prstGeom prst="rect">
            <a:avLst/>
          </a:prstGeom>
          <a:ln w="0">
            <a:noFill/>
          </a:ln>
        </p:spPr>
      </p:pic>
      <p:sp>
        <p:nvSpPr>
          <p:cNvPr id="193" name="文本框 34819"/>
          <p:cNvSpPr/>
          <p:nvPr/>
        </p:nvSpPr>
        <p:spPr>
          <a:xfrm>
            <a:off x="1044720" y="134064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矩形 34820"/>
          <p:cNvSpPr/>
          <p:nvPr/>
        </p:nvSpPr>
        <p:spPr>
          <a:xfrm>
            <a:off x="179280" y="2585880"/>
            <a:ext cx="8713800" cy="31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作者由宴会盛况转到对什么的思考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由此引发何种感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作者的感情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由上一段的“乐”转到了这一段的“痛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这样的转变突然吗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矩形 34821"/>
          <p:cNvSpPr/>
          <p:nvPr/>
        </p:nvSpPr>
        <p:spPr>
          <a:xfrm>
            <a:off x="3368880" y="13604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议论、抒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文本框 35841"/>
          <p:cNvSpPr/>
          <p:nvPr/>
        </p:nvSpPr>
        <p:spPr>
          <a:xfrm>
            <a:off x="-102600" y="990720"/>
            <a:ext cx="1155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隶书"/>
              </a:rPr>
              <a:t>感      慨      人      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左大括号 35842"/>
          <p:cNvSpPr/>
          <p:nvPr/>
        </p:nvSpPr>
        <p:spPr>
          <a:xfrm>
            <a:off x="1981080" y="1143000"/>
            <a:ext cx="228600" cy="457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文本框 35843"/>
          <p:cNvSpPr/>
          <p:nvPr/>
        </p:nvSpPr>
        <p:spPr>
          <a:xfrm>
            <a:off x="2362320" y="533520"/>
            <a:ext cx="64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取诸怀抱，晤言一室之内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一种人生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文本框 35844"/>
          <p:cNvSpPr/>
          <p:nvPr/>
        </p:nvSpPr>
        <p:spPr>
          <a:xfrm>
            <a:off x="2209680" y="5638680"/>
            <a:ext cx="65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因寄所托，放浪形骸之外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另一种人生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文本框 35845"/>
          <p:cNvSpPr/>
          <p:nvPr/>
        </p:nvSpPr>
        <p:spPr>
          <a:xfrm>
            <a:off x="1222920" y="1371600"/>
            <a:ext cx="667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夫人之相与，俯仰一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右大括号 35846"/>
          <p:cNvSpPr/>
          <p:nvPr/>
        </p:nvSpPr>
        <p:spPr>
          <a:xfrm>
            <a:off x="6934320" y="1828800"/>
            <a:ext cx="304560" cy="3581280"/>
          </a:xfrm>
          <a:custGeom>
            <a:avLst/>
            <a:gdLst>
              <a:gd name="textAreaLeft" fmla="*/ 0 w 304560"/>
              <a:gd name="textAreaRight" fmla="*/ 109800 w 30456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文本框 35847"/>
          <p:cNvSpPr/>
          <p:nvPr/>
        </p:nvSpPr>
        <p:spPr>
          <a:xfrm>
            <a:off x="7377480" y="2133720"/>
            <a:ext cx="11552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途虽殊   感却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文本框 35848"/>
          <p:cNvSpPr/>
          <p:nvPr/>
        </p:nvSpPr>
        <p:spPr>
          <a:xfrm>
            <a:off x="2438280" y="243828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欣于所遇，暂得于己，快然自足</a:t>
            </a:r>
            <a:r>
              <a:rPr b="0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曾不知老之将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及其所知既倦，情随事迁，感慨系之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下箭头 35849"/>
          <p:cNvSpPr/>
          <p:nvPr/>
        </p:nvSpPr>
        <p:spPr>
          <a:xfrm>
            <a:off x="4343400" y="1219320"/>
            <a:ext cx="380880" cy="1066680"/>
          </a:xfrm>
          <a:prstGeom prst="downArrow">
            <a:avLst>
              <a:gd name="adj1" fmla="val 50000"/>
              <a:gd name="adj2" fmla="val 70014"/>
            </a:avLst>
          </a:prstGeom>
          <a:noFill/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上箭头 35850"/>
          <p:cNvSpPr/>
          <p:nvPr/>
        </p:nvSpPr>
        <p:spPr>
          <a:xfrm>
            <a:off x="4343400" y="4495680"/>
            <a:ext cx="380880" cy="1143000"/>
          </a:xfrm>
          <a:prstGeom prst="upArrow">
            <a:avLst>
              <a:gd name="adj1" fmla="val 50000"/>
              <a:gd name="adj2" fmla="val 75024"/>
            </a:avLst>
          </a:prstGeom>
          <a:noFill/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文本框 36865"/>
          <p:cNvSpPr/>
          <p:nvPr/>
        </p:nvSpPr>
        <p:spPr>
          <a:xfrm>
            <a:off x="914400" y="29376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华文行楷"/>
              </a:rPr>
              <a:t>人之相与俯仰一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右箭头 36866"/>
          <p:cNvSpPr/>
          <p:nvPr/>
        </p:nvSpPr>
        <p:spPr>
          <a:xfrm>
            <a:off x="4284720" y="596880"/>
            <a:ext cx="976320" cy="866880"/>
          </a:xfrm>
          <a:prstGeom prst="rightArrow">
            <a:avLst>
              <a:gd name="adj1" fmla="val 50000"/>
              <a:gd name="adj2" fmla="val 2815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文本框 36867"/>
          <p:cNvSpPr/>
          <p:nvPr/>
        </p:nvSpPr>
        <p:spPr>
          <a:xfrm>
            <a:off x="5651640" y="291960"/>
            <a:ext cx="34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33ff"/>
                </a:solidFill>
                <a:latin typeface="Tahoma"/>
                <a:ea typeface="华文行楷"/>
              </a:rPr>
              <a:t>两种</a:t>
            </a:r>
            <a:r>
              <a:rPr b="0" lang="zh-CN" sz="4400" spc="-1" strike="noStrike">
                <a:solidFill>
                  <a:srgbClr val="33cc33"/>
                </a:solidFill>
                <a:latin typeface="Tahoma"/>
                <a:ea typeface="华文行楷"/>
              </a:rPr>
              <a:t>不同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cc33"/>
                </a:solidFill>
                <a:latin typeface="Tahoma"/>
                <a:ea typeface="华文行楷"/>
              </a:rPr>
              <a:t>生活方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下箭头 36868"/>
          <p:cNvSpPr/>
          <p:nvPr/>
        </p:nvSpPr>
        <p:spPr>
          <a:xfrm>
            <a:off x="7386480" y="1589040"/>
            <a:ext cx="714600" cy="1128600"/>
          </a:xfrm>
          <a:prstGeom prst="downArrow">
            <a:avLst>
              <a:gd name="adj1" fmla="val 50000"/>
              <a:gd name="adj2" fmla="val 39476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文本框 36869"/>
          <p:cNvSpPr/>
          <p:nvPr/>
        </p:nvSpPr>
        <p:spPr>
          <a:xfrm>
            <a:off x="6922440" y="32018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华文行楷"/>
              </a:rPr>
              <a:t>老之将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任意多边形 36870"/>
          <p:cNvSpPr/>
          <p:nvPr/>
        </p:nvSpPr>
        <p:spPr>
          <a:xfrm>
            <a:off x="6626160" y="4683240"/>
            <a:ext cx="1690920" cy="10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428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8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文本框 36871"/>
          <p:cNvSpPr/>
          <p:nvPr/>
        </p:nvSpPr>
        <p:spPr>
          <a:xfrm>
            <a:off x="3776760" y="477360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华文行楷"/>
              </a:rPr>
              <a:t>由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  <a:ea typeface="华文行楷"/>
              </a:rPr>
              <a:t>生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华文行楷"/>
              </a:rPr>
              <a:t>到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  <a:ea typeface="华文行楷"/>
              </a:rPr>
              <a:t>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文本框 36872"/>
          <p:cNvSpPr/>
          <p:nvPr/>
        </p:nvSpPr>
        <p:spPr>
          <a:xfrm>
            <a:off x="3548160" y="55357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华文行楷"/>
              </a:rPr>
              <a:t>（</a:t>
            </a:r>
            <a:r>
              <a:rPr b="0" lang="zh-CN" sz="4000" spc="-1" strike="noStrike">
                <a:solidFill>
                  <a:srgbClr val="9933ff"/>
                </a:solidFill>
                <a:latin typeface="Tahoma"/>
                <a:ea typeface="华文行楷"/>
              </a:rPr>
              <a:t>终期于尽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华文行楷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左箭头 36873"/>
          <p:cNvSpPr/>
          <p:nvPr/>
        </p:nvSpPr>
        <p:spPr>
          <a:xfrm>
            <a:off x="2803680" y="5078520"/>
            <a:ext cx="976320" cy="838080"/>
          </a:xfrm>
          <a:prstGeom prst="leftArrow">
            <a:avLst>
              <a:gd name="adj1" fmla="val 50000"/>
              <a:gd name="adj2" fmla="val 2911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文本框 36874"/>
          <p:cNvSpPr/>
          <p:nvPr/>
        </p:nvSpPr>
        <p:spPr>
          <a:xfrm>
            <a:off x="3492360" y="2236680"/>
            <a:ext cx="23036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ahoma"/>
                <a:ea typeface="华文行楷"/>
              </a:rPr>
              <a:t>死生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华文行楷"/>
              </a:rPr>
              <a:t>亦大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文本框 36875"/>
          <p:cNvSpPr/>
          <p:nvPr/>
        </p:nvSpPr>
        <p:spPr>
          <a:xfrm>
            <a:off x="780120" y="2421000"/>
            <a:ext cx="19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ahoma"/>
                <a:ea typeface="华文行楷"/>
              </a:rPr>
              <a:t>岂不</a:t>
            </a:r>
            <a:r>
              <a:rPr b="0" lang="zh-CN" sz="6000" spc="-1" strike="noStrike">
                <a:solidFill>
                  <a:srgbClr val="0000ff"/>
                </a:solidFill>
                <a:latin typeface="Tahoma"/>
                <a:ea typeface="华文行楷"/>
              </a:rPr>
              <a:t>痛</a:t>
            </a:r>
            <a:r>
              <a:rPr b="0" lang="zh-CN" sz="4400" spc="-1" strike="noStrike">
                <a:solidFill>
                  <a:srgbClr val="0000ff"/>
                </a:solidFill>
                <a:latin typeface="Tahoma"/>
                <a:ea typeface="华文行楷"/>
              </a:rPr>
              <a:t>哉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文本框 36876"/>
          <p:cNvSpPr/>
          <p:nvPr/>
        </p:nvSpPr>
        <p:spPr>
          <a:xfrm>
            <a:off x="0" y="4813200"/>
            <a:ext cx="288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33ff"/>
                </a:solidFill>
                <a:latin typeface="Tahoma"/>
                <a:ea typeface="华文行楷"/>
              </a:rPr>
              <a:t>一种</a:t>
            </a:r>
            <a:r>
              <a:rPr b="0" lang="zh-CN" sz="4000" spc="-1" strike="noStrike">
                <a:solidFill>
                  <a:srgbClr val="33cc33"/>
                </a:solidFill>
                <a:latin typeface="Tahoma"/>
                <a:ea typeface="华文行楷"/>
              </a:rPr>
              <a:t>相同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cc33"/>
                </a:solidFill>
                <a:latin typeface="Tahoma"/>
                <a:ea typeface="华文行楷"/>
              </a:rPr>
              <a:t>人生结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左箭头 36877"/>
          <p:cNvSpPr/>
          <p:nvPr/>
        </p:nvSpPr>
        <p:spPr>
          <a:xfrm rot="5400000">
            <a:off x="958680" y="3978000"/>
            <a:ext cx="863640" cy="838080"/>
          </a:xfrm>
          <a:prstGeom prst="leftArrow">
            <a:avLst>
              <a:gd name="adj1" fmla="val 50000"/>
              <a:gd name="adj2" fmla="val 2575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0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再探讨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“痛”的原因还有那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271520"/>
            <a:ext cx="215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俯仰一世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37891"/>
          <p:cNvSpPr/>
          <p:nvPr/>
        </p:nvSpPr>
        <p:spPr>
          <a:xfrm>
            <a:off x="2987640" y="156672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矩形 37892"/>
          <p:cNvSpPr/>
          <p:nvPr/>
        </p:nvSpPr>
        <p:spPr>
          <a:xfrm>
            <a:off x="6732720" y="1206360"/>
            <a:ext cx="17269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生命短暂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矩形 37893"/>
          <p:cNvSpPr/>
          <p:nvPr/>
        </p:nvSpPr>
        <p:spPr>
          <a:xfrm>
            <a:off x="684360" y="2214720"/>
            <a:ext cx="489564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向之所欣，俯仰间已为陈迹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直接连接符 37894"/>
          <p:cNvSpPr/>
          <p:nvPr/>
        </p:nvSpPr>
        <p:spPr>
          <a:xfrm>
            <a:off x="5580000" y="2503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矩形 37895"/>
          <p:cNvSpPr/>
          <p:nvPr/>
        </p:nvSpPr>
        <p:spPr>
          <a:xfrm>
            <a:off x="684360" y="3151080"/>
            <a:ext cx="4032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修短随化 ，终期于尽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直接连接符 37896"/>
          <p:cNvSpPr/>
          <p:nvPr/>
        </p:nvSpPr>
        <p:spPr>
          <a:xfrm flipV="1">
            <a:off x="5076720" y="3440160"/>
            <a:ext cx="938160" cy="6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矩形 37897"/>
          <p:cNvSpPr/>
          <p:nvPr/>
        </p:nvSpPr>
        <p:spPr>
          <a:xfrm>
            <a:off x="6732720" y="2214720"/>
            <a:ext cx="17269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世事无常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矩形 37898"/>
          <p:cNvSpPr/>
          <p:nvPr/>
        </p:nvSpPr>
        <p:spPr>
          <a:xfrm>
            <a:off x="6804000" y="3224160"/>
            <a:ext cx="1800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生死难料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矩形 37899"/>
          <p:cNvSpPr/>
          <p:nvPr/>
        </p:nvSpPr>
        <p:spPr>
          <a:xfrm>
            <a:off x="6804000" y="2863800"/>
            <a:ext cx="1800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天命难测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矩形 37900"/>
          <p:cNvSpPr/>
          <p:nvPr/>
        </p:nvSpPr>
        <p:spPr>
          <a:xfrm>
            <a:off x="6804000" y="3591000"/>
            <a:ext cx="1800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人生虚无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左大括号 37901"/>
          <p:cNvSpPr/>
          <p:nvPr/>
        </p:nvSpPr>
        <p:spPr>
          <a:xfrm>
            <a:off x="6732720" y="2863800"/>
            <a:ext cx="71280" cy="1150920"/>
          </a:xfrm>
          <a:custGeom>
            <a:avLst/>
            <a:gdLst>
              <a:gd name="textAreaLeft" fmla="*/ 45720 w 71280"/>
              <a:gd name="textAreaRight" fmla="*/ 71640 w 7128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矩形 37902"/>
          <p:cNvSpPr/>
          <p:nvPr/>
        </p:nvSpPr>
        <p:spPr>
          <a:xfrm>
            <a:off x="324000" y="4221000"/>
            <a:ext cx="85690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再探讨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由乐转痛的内在思路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矩形 37903"/>
          <p:cNvSpPr/>
          <p:nvPr/>
        </p:nvSpPr>
        <p:spPr>
          <a:xfrm>
            <a:off x="0" y="5157720"/>
            <a:ext cx="896472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眼前虽有良辰美景，群贤集会，风雅高趣，但最终都会风流云散，灰飞烟灭，荡然无存。况且人生短暂，谁也不能超越生死的界限。这些怎么不让人心痛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1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7,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1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7,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1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7,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1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7,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隶书"/>
              </a:rPr>
              <a:t>第三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原文：每览昔人兴感之由，若合一契，未尝不临文嗟悼，不能喻之于怀。 </a:t>
            </a:r>
            <a:br>
              <a:rPr sz="2000"/>
            </a:br>
            <a:r>
              <a:rPr b="0" lang="zh-CN" sz="2000" spc="-1" strike="noStrike">
                <a:solidFill>
                  <a:srgbClr val="006666"/>
                </a:solidFill>
                <a:latin typeface="Arial"/>
                <a:ea typeface="楷体_GB2312"/>
              </a:rPr>
              <a:t>翻译：每当我看到前人发生感慨的原由，（跟我所感慨的）如同符契那样相合，没有不面对着（他们的）文章而嗟叹感伤的，在心里（又）不能清楚地说明。 </a:t>
            </a:r>
            <a:br>
              <a:rPr sz="2000"/>
            </a:b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“合契”：古代的契分为两半，各执其一，相合为信。“喻”为动词“说明”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  “</a:t>
            </a: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于怀”介宾短语作后置状语（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于怀喻之</a:t>
            </a: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-360" y="1412640"/>
            <a:ext cx="88930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原文：固知一死生为虚诞，齐彭殇为妄作。 </a:t>
            </a:r>
            <a:br>
              <a:rPr sz="2000"/>
            </a:br>
            <a:r>
              <a:rPr b="0" lang="zh-CN" sz="2000" spc="-1" strike="noStrike">
                <a:solidFill>
                  <a:srgbClr val="006666"/>
                </a:solidFill>
                <a:latin typeface="Arial"/>
                <a:ea typeface="楷体_GB2312"/>
              </a:rPr>
              <a:t>翻译：（我）本来就知道，把生和死同等看待是荒诞的，把长寿和短命同等看待是妄造的。</a:t>
            </a:r>
            <a:r>
              <a:rPr b="0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br>
              <a:rPr sz="2000"/>
            </a:br>
            <a:r>
              <a:rPr b="0" lang="zh-CN" sz="20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讲解：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“一”“齐”</a:t>
            </a: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为意动用法，意为“把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隶书"/>
              </a:rPr>
              <a:t>……</a:t>
            </a: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看作一样”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鉴赏：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生命之痛更加重一层哲学意味</a:t>
            </a: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！ 自己并不能超然于生死之上，并不能将寿命长短等同视之，焉得不再悲伤哀痛？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-360" y="692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原文：后之视今，亦犹今之视昔，悲夫！ </a:t>
            </a:r>
            <a:br>
              <a:rPr sz="2000"/>
            </a:br>
            <a:r>
              <a:rPr b="0" lang="zh-CN" sz="2000" spc="-1" strike="noStrike">
                <a:solidFill>
                  <a:srgbClr val="006666"/>
                </a:solidFill>
                <a:latin typeface="Arial"/>
                <a:ea typeface="楷体_GB2312"/>
              </a:rPr>
              <a:t>翻译：后人看待今天，也像今人看待从前一样，真是可悲啊！ </a:t>
            </a:r>
            <a:br>
              <a:rPr sz="2000"/>
            </a:b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讲解：“之”为主谓之间的结构助词，不译。 </a:t>
            </a:r>
            <a:br>
              <a:rPr sz="2800"/>
            </a:b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鉴赏：生命之痛更加一层厚重的历史感矣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        </a:t>
            </a:r>
            <a:r>
              <a:rPr b="1" lang="zh-CN" sz="2000" spc="-1" strike="noStrike">
                <a:solidFill>
                  <a:srgbClr val="ff0000"/>
                </a:solidFill>
                <a:latin typeface="隶书"/>
                <a:ea typeface="隶书"/>
              </a:rPr>
              <a:t>站在历史的制高点上抚今追昔念来者，发现不单单是自己，就连后人也无法跳出这个永恒的范畴。这怎么不令人再生一种彻头彻尾的悲凉？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755640" y="765000"/>
            <a:ext cx="77738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原文：故列叙时人，录其所述。 </a:t>
            </a:r>
            <a:br>
              <a:rPr sz="2000"/>
            </a:br>
            <a:r>
              <a:rPr b="0" lang="zh-CN" sz="2000" spc="-1" strike="noStrike">
                <a:solidFill>
                  <a:srgbClr val="006666"/>
                </a:solidFill>
                <a:latin typeface="Arial"/>
                <a:ea typeface="楷体_GB2312"/>
              </a:rPr>
              <a:t>翻译：因此我一一记下参加这次聚会的人，抄录了他们的诗作。 </a:t>
            </a:r>
            <a:br>
              <a:rPr sz="2000"/>
            </a:b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 “时”为“当时的”， “时人”指“参加这次聚会的人”；“其”为人称代词“他们的”。 </a:t>
            </a:r>
            <a:br>
              <a:rPr sz="2800"/>
            </a:b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鉴赏：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补叙兰亭集之成因，实因生命之感，实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因修禊事也！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       </a:t>
            </a:r>
            <a:r>
              <a:rPr b="0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魏晋之人竟至于如此敏感，你呢？你是不是生活中的那个“有心人”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1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7,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1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7,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7724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原文：虽世殊事异，所以兴怀，其致一也。 </a:t>
            </a:r>
            <a:br>
              <a:rPr sz="2000"/>
            </a:br>
            <a:r>
              <a:rPr b="0" lang="zh-CN" sz="2000" spc="-1" strike="noStrike">
                <a:solidFill>
                  <a:srgbClr val="006666"/>
                </a:solidFill>
                <a:latin typeface="Arial"/>
                <a:ea typeface="楷体_GB2312"/>
              </a:rPr>
              <a:t>翻译：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即使时代不同情况不同，但使人们产生感慨的情致却是一样的。</a:t>
            </a:r>
            <a:r>
              <a:rPr b="0" lang="zh-CN" sz="2000" spc="-1" strike="noStrike">
                <a:solidFill>
                  <a:srgbClr val="006666"/>
                </a:solidFill>
                <a:latin typeface="Arial"/>
                <a:ea typeface="楷体_GB2312"/>
              </a:rPr>
              <a:t> </a:t>
            </a:r>
            <a:br>
              <a:rPr sz="2000"/>
            </a:b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鉴赏：补叙兰亭集之理论依托。 </a:t>
            </a:r>
            <a:br>
              <a:rPr sz="2800"/>
            </a:br>
            <a:r>
              <a:rPr b="1" lang="zh-CN" sz="2800" spc="-1" strike="noStrike">
                <a:solidFill>
                  <a:srgbClr val="6600cc"/>
                </a:solidFill>
                <a:latin typeface="隶书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原文：后之览者，亦将有感于斯文。 </a:t>
            </a:r>
            <a:br>
              <a:rPr sz="2000"/>
            </a:br>
            <a:r>
              <a:rPr b="0" lang="zh-CN" sz="2000" spc="-1" strike="noStrike">
                <a:solidFill>
                  <a:srgbClr val="006666"/>
                </a:solidFill>
                <a:latin typeface="Arial"/>
                <a:ea typeface="楷体_GB2312"/>
              </a:rPr>
              <a:t>翻译：后代的读者读这本诗集也将有感于生死这件大事吧。 </a:t>
            </a:r>
            <a:br>
              <a:rPr sz="2000"/>
            </a:b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鉴赏：补录兰亭集序之目的，其间显示着极其强大的自信心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第二部分     小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3576240"/>
            <a:ext cx="84247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华文新魏"/>
              </a:rPr>
              <a:t>抒写兰亭集会后的感慨，补记作序的缘由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8193" descr="l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45057"/>
          <p:cNvSpPr/>
          <p:nvPr/>
        </p:nvSpPr>
        <p:spPr>
          <a:xfrm>
            <a:off x="468360" y="333360"/>
            <a:ext cx="813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思考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你认为作者写序的缘由有哪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矩形 45058"/>
          <p:cNvSpPr/>
          <p:nvPr/>
        </p:nvSpPr>
        <p:spPr>
          <a:xfrm>
            <a:off x="0" y="1844640"/>
            <a:ext cx="8964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记录兰亭盛况，让与会者诗作与名字传扬后世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矩形 45059"/>
          <p:cNvSpPr/>
          <p:nvPr/>
        </p:nvSpPr>
        <p:spPr>
          <a:xfrm>
            <a:off x="36360" y="2708280"/>
            <a:ext cx="8425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明死生之大，否定“齐死生”的观点，劝人惜时进取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矩形 45060"/>
          <p:cNvSpPr/>
          <p:nvPr/>
        </p:nvSpPr>
        <p:spPr>
          <a:xfrm>
            <a:off x="0" y="4005360"/>
            <a:ext cx="8893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发前人未发之语，以飨后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24000" y="1773000"/>
            <a:ext cx="8424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永和九年，即癸丑年，三月之初，（名士们）在会稽郡山阴县的兰亭聚会，为的是到水边进行消灾求福的活动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许多有声望有才气的人都来了，有年轻的，也有年长的。</a:t>
            </a:r>
            <a:r>
              <a:rPr b="0" lang="zh-CN" sz="2800" spc="-1" strike="noStrike">
                <a:solidFill>
                  <a:srgbClr val="006666"/>
                </a:solidFill>
                <a:latin typeface="Arial"/>
                <a:ea typeface="楷体_GB2312"/>
              </a:rPr>
              <a:t>这里有高大的山和险峻的岭，有茂密的树林和高高的竹子，又有清水急流，（在亭的）左右辉映环绕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把水引到（亭中）的环形水渠里来，让酒杯飘流水上（供人们取饮）。人们在曲水旁边排列而坐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虽然没有管弦齐奏的盛况，（可是）一边饮酒一边赋诗，也足以痛快地表达各自幽雅的情怀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这一天，天气晴朗，和风轻轻吹来。向上看，天空广大无边，向下看，地上事物如此繁多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这样来纵展眼力，开阔胸怀，穷尽视和听的享受，实在快乐啊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46082"/>
          <p:cNvSpPr/>
          <p:nvPr/>
        </p:nvSpPr>
        <p:spPr>
          <a:xfrm>
            <a:off x="179280" y="47628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华文新魏"/>
              </a:rPr>
              <a:t>试着逐段翻译全文，注意重点语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人们彼此交往，一生很快就度过。</a:t>
            </a:r>
            <a:r>
              <a:rPr b="0" lang="zh-CN" sz="2800" spc="-1" strike="noStrike">
                <a:solidFill>
                  <a:srgbClr val="9933ff"/>
                </a:solidFill>
                <a:latin typeface="Arial"/>
                <a:ea typeface="楷体_GB2312"/>
              </a:rPr>
              <a:t>有的人喜欢讲自己的志趣抱负，在室内（跟朋友）面对面地交谈；有的人就着自己所爱好的事物寄托情怀，不受任何约束，放纵地生活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尽管人们的爱好千差万别，或好静，或好动，也不相同，（可是又都有这样的体验：）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当他们对所接触的事物感到高兴时，一时间很自得，快乐而自足，竟不觉得衰老即将到来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待到对于自己所喜爱的事物感到厌倦，心情随着当前的境况而变化，感慨油然而生，以前感到欢快的事顷刻之间变为陈迹了，仍然不能不因此感慨不已；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何况人寿的长短随着造化而定，最后一切都化为乌有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古人说：“死和生也是件大事啊！”怎能不悲痛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497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楷体_GB2312"/>
              </a:rPr>
              <a:t>每当我看到前人发生感慨的原由，（跟我所感慨的）如同符契那样相合，总是面对着（他们的）文章而嗟叹感伤，心里又不明白为什么会这样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。（我）这才知道，把生和死同等看待是荒诞的，把长寿和短命同等看待是妄造的。后人看待今天，也像今人看待从前一样，真是可悲啊！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楷体_GB2312"/>
              </a:rPr>
              <a:t>因此我一一记下参加这次聚会的人，抄录了他们的诗作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尽管时代不同情况不同，但人们的情致却是一样的。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楷体_GB2312"/>
              </a:rPr>
              <a:t>后代的读者读这本诗集也将有感于生死这件大事吧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文本框 49153"/>
          <p:cNvSpPr/>
          <p:nvPr/>
        </p:nvSpPr>
        <p:spPr>
          <a:xfrm>
            <a:off x="838080" y="54612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思考：结尾部分从“临文嗟悼”说到“一死生为虚诞，齐彭殇为妄作”，表达了作者怎样的思想感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文本框 49154"/>
          <p:cNvSpPr/>
          <p:nvPr/>
        </p:nvSpPr>
        <p:spPr>
          <a:xfrm>
            <a:off x="539640" y="211608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黑体"/>
              </a:rPr>
              <a:t>作者认为生就是死，死就是生，二者不得等量齐观。暗含有生之年应当做些实事，不宜空谈玄理之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文本框 49155"/>
          <p:cNvSpPr/>
          <p:nvPr/>
        </p:nvSpPr>
        <p:spPr>
          <a:xfrm>
            <a:off x="755640" y="34948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者的感情是积极的还是消极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文本框 49156"/>
          <p:cNvSpPr/>
          <p:nvPr/>
        </p:nvSpPr>
        <p:spPr>
          <a:xfrm>
            <a:off x="457200" y="474372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作品对生死这样的哲学问题展开了独特的思考，虽有人生短暂、盛事难再之悲凉，但却包含有惜时进取的积极因素。这跟东晋时名流高士空谈玄理、不务实际的世风有本质区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讨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3800"/>
            </a:br>
            <a:r>
              <a:rPr b="1" lang="zh-CN" sz="3800" spc="-1" strike="noStrike">
                <a:solidFill>
                  <a:srgbClr val="6600ff"/>
                </a:solidFill>
                <a:latin typeface="Arial"/>
              </a:rPr>
              <a:t>人应该用什么态度去面对生活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0560" y="2914560"/>
            <a:ext cx="849636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★</a:t>
            </a:r>
            <a:r>
              <a:rPr b="0" lang="zh-CN" sz="2000" spc="-1" strike="noStrike">
                <a:solidFill>
                  <a:srgbClr val="3333ff"/>
                </a:solidFill>
                <a:latin typeface="Arial"/>
                <a:ea typeface="楷体_GB2312"/>
              </a:rPr>
              <a:t>吃一段萝卜擦一段泥，当一天和尚撞一天钟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50179"/>
          <p:cNvSpPr/>
          <p:nvPr/>
        </p:nvSpPr>
        <p:spPr>
          <a:xfrm>
            <a:off x="549720" y="3782880"/>
            <a:ext cx="376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好死不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赖活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矩形 50180"/>
          <p:cNvSpPr/>
          <p:nvPr/>
        </p:nvSpPr>
        <p:spPr>
          <a:xfrm>
            <a:off x="1867320" y="4646520"/>
            <a:ext cx="55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★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人吃饭是为了活着，但人活着并不是为了吃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矩形 50181"/>
          <p:cNvSpPr/>
          <p:nvPr/>
        </p:nvSpPr>
        <p:spPr>
          <a:xfrm>
            <a:off x="2982600" y="5657760"/>
            <a:ext cx="8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★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好好活着，因为你将死得很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矩形 50182"/>
          <p:cNvSpPr/>
          <p:nvPr/>
        </p:nvSpPr>
        <p:spPr>
          <a:xfrm>
            <a:off x="250920" y="1916280"/>
            <a:ext cx="84963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华文细黑"/>
              </a:rPr>
              <a:t>★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世界抛弃了我，我也抛弃了整个世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1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7,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1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7,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6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1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1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7,7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1,-118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7,7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矩形 51201"/>
          <p:cNvSpPr/>
          <p:nvPr/>
        </p:nvSpPr>
        <p:spPr>
          <a:xfrm>
            <a:off x="1690560" y="2565360"/>
            <a:ext cx="5977080" cy="33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生时何须久睡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死后自会长眠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萧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矩形 51202"/>
          <p:cNvSpPr/>
          <p:nvPr/>
        </p:nvSpPr>
        <p:spPr>
          <a:xfrm>
            <a:off x="468360" y="26028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黑体"/>
              </a:rPr>
              <a:t>你如何看待人的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黑体"/>
              </a:rPr>
              <a:t>和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死</a:t>
            </a: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黑体"/>
              </a:rPr>
              <a:t>的问题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52225"/>
          <p:cNvSpPr/>
          <p:nvPr/>
        </p:nvSpPr>
        <p:spPr>
          <a:xfrm>
            <a:off x="228600" y="173052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下列句子中与“虽无</a:t>
            </a:r>
            <a:r>
              <a:rPr b="1" lang="zh-CN" sz="2400" spc="-1" strike="noStrike">
                <a:solidFill>
                  <a:srgbClr val="ff0000"/>
                </a:solidFill>
                <a:latin typeface="_x000b__x000c_"/>
                <a:ea typeface="黑体"/>
              </a:rPr>
              <a:t>丝竹管弦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之盛，一觞一咏，亦足以畅叙幽情”一句中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丝竹管弦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”的修辞手法相同的一顶是：   </a:t>
            </a: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．每览昔人兴感之由，若</a:t>
            </a:r>
            <a:r>
              <a:rPr b="1" lang="zh-CN" sz="2400" spc="-1" strike="noStrike">
                <a:solidFill>
                  <a:srgbClr val="0000ff"/>
                </a:solidFill>
                <a:latin typeface="_x000b__x000c_"/>
                <a:ea typeface="黑体"/>
              </a:rPr>
              <a:t>合一契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．如今人为</a:t>
            </a:r>
            <a:r>
              <a:rPr b="1" lang="zh-CN" sz="2400" spc="-1" strike="noStrike">
                <a:solidFill>
                  <a:srgbClr val="0000ff"/>
                </a:solidFill>
                <a:latin typeface="_x000b__x000c_"/>
                <a:ea typeface="黑体"/>
              </a:rPr>
              <a:t>刀俎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，我为</a:t>
            </a:r>
            <a:r>
              <a:rPr b="1" lang="zh-CN" sz="2400" spc="-1" strike="noStrike">
                <a:solidFill>
                  <a:srgbClr val="0000ff"/>
                </a:solidFill>
                <a:latin typeface="_x000b__x000c_"/>
                <a:ea typeface="黑体"/>
              </a:rPr>
              <a:t>鱼肉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，何辞为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．我令人望其气，皆为</a:t>
            </a:r>
            <a:r>
              <a:rPr b="1" lang="zh-CN" sz="2400" spc="-1" strike="noStrike">
                <a:solidFill>
                  <a:srgbClr val="0000ff"/>
                </a:solidFill>
                <a:latin typeface="_x000b__x000c_"/>
                <a:ea typeface="黑体"/>
              </a:rPr>
              <a:t>龙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_x000b__x000c_"/>
                <a:ea typeface="黑体"/>
              </a:rPr>
              <a:t>一夫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作难而七庙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文本框 52226"/>
          <p:cNvSpPr/>
          <p:nvPr/>
        </p:nvSpPr>
        <p:spPr>
          <a:xfrm>
            <a:off x="3708360" y="35114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借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文本框 52227"/>
          <p:cNvSpPr/>
          <p:nvPr/>
        </p:nvSpPr>
        <p:spPr>
          <a:xfrm>
            <a:off x="716436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黑体"/>
                <a:ea typeface="黑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文本框 52228"/>
          <p:cNvSpPr/>
          <p:nvPr/>
        </p:nvSpPr>
        <p:spPr>
          <a:xfrm>
            <a:off x="4643280" y="32241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借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文本框 52229"/>
          <p:cNvSpPr/>
          <p:nvPr/>
        </p:nvSpPr>
        <p:spPr>
          <a:xfrm>
            <a:off x="5724360" y="27907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借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文本框 52230"/>
          <p:cNvSpPr/>
          <p:nvPr/>
        </p:nvSpPr>
        <p:spPr>
          <a:xfrm>
            <a:off x="5003640" y="24321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借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矩形 52231"/>
          <p:cNvSpPr/>
          <p:nvPr/>
        </p:nvSpPr>
        <p:spPr>
          <a:xfrm>
            <a:off x="75564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课  堂  练  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53249"/>
          <p:cNvSpPr/>
          <p:nvPr/>
        </p:nvSpPr>
        <p:spPr>
          <a:xfrm>
            <a:off x="533520" y="243828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_x000b__x000c_"/>
              </a:rPr>
              <a:t>3</a:t>
            </a:r>
            <a:r>
              <a:rPr b="1" lang="zh-CN" sz="2400" spc="-1" strike="noStrike">
                <a:solidFill>
                  <a:srgbClr val="006666"/>
                </a:solidFill>
                <a:latin typeface="_x000b__x000c_"/>
              </a:rPr>
              <a:t>．下列各句翻译正确的一项是：          </a:t>
            </a:r>
            <a:r>
              <a:rPr b="1" lang="en-US" sz="2400" spc="-1" strike="noStrike">
                <a:solidFill>
                  <a:srgbClr val="006666"/>
                </a:solidFill>
                <a:latin typeface="_x000b__x000c_"/>
              </a:rPr>
              <a:t>[</a:t>
            </a:r>
            <a:r>
              <a:rPr b="1" lang="zh-CN" sz="2400" spc="-1" strike="noStrike">
                <a:solidFill>
                  <a:srgbClr val="006666"/>
                </a:solidFill>
                <a:latin typeface="_x000b__x000c_"/>
              </a:rPr>
              <a:t>　　　</a:t>
            </a:r>
            <a:r>
              <a:rPr b="1" lang="en-US" sz="2400" spc="-1" strike="noStrike">
                <a:solidFill>
                  <a:srgbClr val="006666"/>
                </a:solidFill>
                <a:latin typeface="_x000b__x000c_"/>
              </a:rPr>
              <a:t> </a:t>
            </a:r>
            <a:r>
              <a:rPr b="1" lang="en-US" sz="2400" spc="-1" strike="noStrike">
                <a:solidFill>
                  <a:srgbClr val="006666"/>
                </a:solidFill>
                <a:latin typeface="_x000b__x000c_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向之所欣，俯仰之间，已为陈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译：</a:t>
            </a:r>
            <a:r>
              <a:rPr b="1" lang="zh-CN" sz="2400" spc="-1" strike="noStrike">
                <a:solidFill>
                  <a:srgbClr val="0000ff"/>
                </a:solidFill>
                <a:latin typeface="_x000b__x000c_"/>
                <a:ea typeface="黑体"/>
              </a:rPr>
              <a:t>面对</a:t>
            </a:r>
            <a:r>
              <a:rPr b="1" lang="zh-CN" sz="2400" spc="-1" strike="noStrike">
                <a:solidFill>
                  <a:srgbClr val="9933ff"/>
                </a:solidFill>
                <a:latin typeface="_x000b__x000c_"/>
                <a:ea typeface="仿宋_GB2312"/>
              </a:rPr>
              <a:t>着欢乐的事，顷刻之间就成为过去的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固知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死生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虚诞，齐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彭殇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妄作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译：</a:t>
            </a:r>
            <a:r>
              <a:rPr b="1" lang="zh-CN" sz="2400" spc="-1" strike="noStrike">
                <a:solidFill>
                  <a:srgbClr val="9933ff"/>
                </a:solidFill>
                <a:latin typeface="_x000b__x000c_"/>
                <a:ea typeface="仿宋_GB2312"/>
              </a:rPr>
              <a:t>本来就知道把死和生看作一样是荒诞的，把长寿和短命看作一样也是虚妄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夫人之相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与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俯仰一世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译：</a:t>
            </a:r>
            <a:r>
              <a:rPr b="1" lang="zh-CN" sz="2400" spc="-1" strike="noStrike">
                <a:solidFill>
                  <a:srgbClr val="9933ff"/>
                </a:solidFill>
                <a:latin typeface="_x000b__x000c_"/>
                <a:ea typeface="仿宋_GB2312"/>
              </a:rPr>
              <a:t>人与人相</a:t>
            </a:r>
            <a:r>
              <a:rPr b="1" lang="zh-CN" sz="2400" spc="-1" strike="noStrike">
                <a:solidFill>
                  <a:srgbClr val="0000ff"/>
                </a:solidFill>
                <a:latin typeface="_x000b__x000c_"/>
                <a:ea typeface="仿宋_GB2312"/>
              </a:rPr>
              <a:t>亲近</a:t>
            </a:r>
            <a:r>
              <a:rPr b="1" lang="zh-CN" sz="2400" spc="-1" strike="noStrike">
                <a:solidFill>
                  <a:srgbClr val="9933ff"/>
                </a:solidFill>
                <a:latin typeface="_x000b__x000c_"/>
                <a:ea typeface="仿宋_GB2312"/>
              </a:rPr>
              <a:t>，</a:t>
            </a:r>
            <a:r>
              <a:rPr b="1" lang="zh-CN" sz="2400" spc="-1" strike="noStrike">
                <a:solidFill>
                  <a:srgbClr val="ff00ff"/>
                </a:solidFill>
                <a:latin typeface="华文新魏"/>
                <a:ea typeface="华文新魏"/>
              </a:rPr>
              <a:t>在俯身和抬头之间</a:t>
            </a:r>
            <a:r>
              <a:rPr b="1" lang="zh-CN" sz="2400" spc="-1" strike="noStrike">
                <a:solidFill>
                  <a:srgbClr val="9933ff"/>
                </a:solidFill>
                <a:latin typeface="_x000b__x000c_"/>
                <a:ea typeface="仿宋_GB2312"/>
              </a:rPr>
              <a:t>就度过一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后之视今，亦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由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今之视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译：</a:t>
            </a:r>
            <a:r>
              <a:rPr b="1" lang="zh-CN" sz="2400" spc="-1" strike="noStrike">
                <a:solidFill>
                  <a:srgbClr val="9933ff"/>
                </a:solidFill>
                <a:latin typeface="_x000b__x000c_"/>
                <a:ea typeface="仿宋_GB2312"/>
              </a:rPr>
              <a:t>后人看待我们今天的人，也要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根据</a:t>
            </a:r>
            <a:r>
              <a:rPr b="1" lang="zh-CN" sz="2400" spc="-1" strike="noStrike">
                <a:solidFill>
                  <a:srgbClr val="9933ff"/>
                </a:solidFill>
                <a:latin typeface="_x000b__x000c_"/>
                <a:ea typeface="仿宋_GB2312"/>
              </a:rPr>
              <a:t>我们今天的人看待前人的情况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矩形 53250"/>
          <p:cNvSpPr/>
          <p:nvPr/>
        </p:nvSpPr>
        <p:spPr>
          <a:xfrm>
            <a:off x="457200" y="38088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．与“信可乐也”中的“信”相同的一句是：  </a:t>
            </a: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_x000b__x000c_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信言不美，美言不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言必信，行必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文信美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世儒学者好信师而是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文本框 53251"/>
          <p:cNvSpPr/>
          <p:nvPr/>
        </p:nvSpPr>
        <p:spPr>
          <a:xfrm>
            <a:off x="6846840" y="457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文本框 53252"/>
          <p:cNvSpPr/>
          <p:nvPr/>
        </p:nvSpPr>
        <p:spPr>
          <a:xfrm>
            <a:off x="4343400" y="762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  <a:ea typeface="黑体"/>
              </a:rPr>
              <a:t>言语真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文本框 53253"/>
          <p:cNvSpPr/>
          <p:nvPr/>
        </p:nvSpPr>
        <p:spPr>
          <a:xfrm>
            <a:off x="4427640" y="1125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  <a:ea typeface="黑体"/>
              </a:rPr>
              <a:t>讲信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文本框 53254"/>
          <p:cNvSpPr/>
          <p:nvPr/>
        </p:nvSpPr>
        <p:spPr>
          <a:xfrm>
            <a:off x="4495680" y="1523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  <a:ea typeface="黑体"/>
              </a:rPr>
              <a:t>实在，的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文本框 53255"/>
          <p:cNvSpPr/>
          <p:nvPr/>
        </p:nvSpPr>
        <p:spPr>
          <a:xfrm>
            <a:off x="44956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  <a:ea typeface="黑体"/>
              </a:rPr>
              <a:t>相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文本框 53256"/>
          <p:cNvSpPr/>
          <p:nvPr/>
        </p:nvSpPr>
        <p:spPr>
          <a:xfrm>
            <a:off x="6372360" y="24670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9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4" dur="2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9" dur="2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54273" descr="image/img173489_4.jpg"/>
          <p:cNvPicPr/>
          <p:nvPr/>
        </p:nvPicPr>
        <p:blipFill>
          <a:blip r:embed="rId1"/>
          <a:stretch/>
        </p:blipFill>
        <p:spPr>
          <a:xfrm>
            <a:off x="0" y="0"/>
            <a:ext cx="792468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8" dur="1" fill="hold"/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9217" descr="06881"/>
          <p:cNvPicPr/>
          <p:nvPr/>
        </p:nvPicPr>
        <p:blipFill>
          <a:blip r:embed="rId1"/>
          <a:stretch/>
        </p:blipFill>
        <p:spPr>
          <a:xfrm>
            <a:off x="152280" y="228600"/>
            <a:ext cx="4876920" cy="632448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9218"/>
          <p:cNvSpPr/>
          <p:nvPr/>
        </p:nvSpPr>
        <p:spPr>
          <a:xfrm>
            <a:off x="5029200" y="0"/>
            <a:ext cx="4114800" cy="227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王羲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8a15"/>
                </a:solidFill>
                <a:latin typeface="Times New Roman"/>
                <a:ea typeface="黑体"/>
              </a:rPr>
              <a:t>（</a:t>
            </a:r>
            <a:r>
              <a:rPr b="0" lang="en-US" sz="2000" spc="-1" strike="noStrike">
                <a:solidFill>
                  <a:srgbClr val="ff8a15"/>
                </a:solidFill>
                <a:latin typeface="Times New Roman"/>
                <a:ea typeface="黑体"/>
              </a:rPr>
              <a:t>303-361</a:t>
            </a:r>
            <a:r>
              <a:rPr b="0" lang="zh-CN" sz="2000" spc="-1" strike="noStrike">
                <a:solidFill>
                  <a:srgbClr val="ff8a15"/>
                </a:solidFill>
                <a:latin typeface="Times New Roman"/>
                <a:ea typeface="黑体"/>
              </a:rPr>
              <a:t>，一作</a:t>
            </a:r>
            <a:r>
              <a:rPr b="0" lang="en-US" sz="2000" spc="-1" strike="noStrike">
                <a:solidFill>
                  <a:srgbClr val="ff8a15"/>
                </a:solidFill>
                <a:latin typeface="Times New Roman"/>
                <a:ea typeface="黑体"/>
              </a:rPr>
              <a:t>321-379</a:t>
            </a:r>
            <a:r>
              <a:rPr b="0" lang="zh-CN" sz="2000" spc="-1" strike="noStrike">
                <a:solidFill>
                  <a:srgbClr val="ff8a15"/>
                </a:solidFill>
                <a:latin typeface="Times New Roman"/>
                <a:ea typeface="黑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东晋书法家，字逸少。</a:t>
            </a:r>
            <a:r>
              <a:rPr b="0" lang="zh-CN" sz="2400" spc="-1" strike="noStrike">
                <a:solidFill>
                  <a:srgbClr val="000099"/>
                </a:solidFill>
                <a:latin typeface="隶书"/>
                <a:ea typeface="隶书"/>
              </a:rPr>
              <a:t>原籍琅琊人</a:t>
            </a:r>
            <a:r>
              <a:rPr b="0" lang="en-US" sz="2400" spc="-1" strike="noStrike">
                <a:solidFill>
                  <a:srgbClr val="000099"/>
                </a:solidFill>
                <a:latin typeface="隶书"/>
                <a:ea typeface="隶书"/>
              </a:rPr>
              <a:t>(</a:t>
            </a:r>
            <a:r>
              <a:rPr b="0" lang="zh-CN" sz="2400" spc="-1" strike="noStrike">
                <a:solidFill>
                  <a:srgbClr val="000099"/>
                </a:solidFill>
                <a:latin typeface="隶书"/>
                <a:ea typeface="隶书"/>
              </a:rPr>
              <a:t>今属山东临沂</a:t>
            </a:r>
            <a:r>
              <a:rPr b="0" lang="en-US" sz="2400" spc="-1" strike="noStrike">
                <a:solidFill>
                  <a:srgbClr val="000099"/>
                </a:solidFill>
                <a:latin typeface="隶书"/>
                <a:ea typeface="隶书"/>
              </a:rPr>
              <a:t>)</a:t>
            </a:r>
            <a:r>
              <a:rPr b="0" lang="zh-CN" sz="2400" spc="-1" strike="noStrike">
                <a:solidFill>
                  <a:srgbClr val="000099"/>
                </a:solidFill>
                <a:latin typeface="隶书"/>
                <a:ea typeface="隶书"/>
              </a:rPr>
              <a:t>，居会稽山阴（浙江绍兴）。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官至右军将军，会稽内史，人称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“王右军”</a:t>
            </a:r>
            <a:r>
              <a:rPr b="0" lang="zh-CN" sz="2400" spc="-1" strike="noStrike">
                <a:solidFill>
                  <a:srgbClr val="ff0000"/>
                </a:solidFill>
                <a:latin typeface="隶书"/>
                <a:ea typeface="隶书"/>
              </a:rPr>
              <a:t>。</a:t>
            </a:r>
            <a:r>
              <a:rPr b="0" lang="zh-CN" sz="2400" spc="-1" strike="noStrike">
                <a:solidFill>
                  <a:srgbClr val="000099"/>
                </a:solidFill>
                <a:latin typeface="隶书"/>
                <a:ea typeface="隶书"/>
              </a:rPr>
              <a:t>他出身于两晋的名门望族。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的祖父王正为尚书郎。他的父亲王旷为淮南太守，曾倡议晋室渡江，于江左称制，建立东晋王朝。王羲之的伯父王导更是名闻于世，是东晋的丞相。而他的另一位伯父王敦是东晋的军事统帅。琅琊王氏在东晋可谓权倾一时，炽盛隆贵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行楷"/>
              </a:rPr>
              <a:t>王羲之轶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王羲之爱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鹅换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晋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羲之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记载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羲之性爱鹅。会稽有孤姥，养一鹅善鸣，求市未得，遂携亲友命驾就观。姥闻羲之将至，烹以待之，羲之叹惜弥日 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焚琴煮鹤：喻煞风景的事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          又山阴有一道士好养鹅。羲之往观焉，意甚悦，固求市之。道士云：“为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道德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当举群相赠耳。”羲之欣然写毕，笼鹅而归，甚以为乐，其任率如此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题扇助卖（课后断句练习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华文新魏"/>
              </a:rPr>
              <a:t>东床坦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王羲之因为这样的出身，一出仕便为秘书郎，后为庾亮的参军，再迁宁远将军、江州刺史，最后做到右军将军、会稽内史。所以人们又称他为“王右军”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王羲之为人坦率，不拘礼节，从小就不慕荣利。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世说新语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里载有王羲之“东床坦腹”的美谈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晋代的另一大士族郗鉴欲与王氏家族联姻，就派了门生到王家去择婿。王导让来人到东厢下逐一观察他的子侄。门生回去后对郗鉴汇报说：王氏的诸少年都不错。他们听说来人是郗家派来选女婿的，都一个个神态矜持。只有一个人在东床上坦胸露腹地吃东西，好像不知道有这回事一样。郗鉴听了，说：“这就是我要找的佳婿。”后来一打听，知道坦腹而食的人是王羲之，就把女儿嫁给了他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这则逸事上看，王羲之从小就具有旷达的性格，很少为一些小事戚戚于心。也许这就是他的书法雄浑开阔，具有自由气象、潇洒神态的原因之一罢。也因为这个典故，后来人们就把“东床坦腹”、“东床”作为女婿的美称，或称呼他人的女婿叫“令坦”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496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羲之从小爱好书法。幼年时他曾跟随姨母，著名的女书法家卫夫人学过书法。渡江后，他又学习了前辈书法大师李斯、曹喜、张芝、张昶、蔡邕、锺繇和梁鹄等人的书法。这使他的书法融合各家所长，自成一家。再加上他的家族中擅长书法的人济济一堂，父辈王导、王旷、王异等都是高手，这对他的书法学习的帮助也是极为显着的。</a:t>
            </a:r>
            <a:br>
              <a:rPr sz="2600"/>
            </a:b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羲之对真书、草、行诸体书法造诣都很深。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的真书势形巧密，开辟了一种新的境界；他的草长浓纤折衷；他的行书遒媚劲健。</a:t>
            </a:r>
            <a:r>
              <a:rPr b="0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人们称他的字“飘若浮云，矫若惊龙”；“龙跳天门，虎卧凤阁”，“天机流布，挺然秀出”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羲之还善于绘画，是历史上比较早的兼精绘画的书法家之一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的夫人郗氏和他的七个儿子都善于书法，是一个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闻名于世的书法世家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在中国古代历史上也是不多见的。尤其是他的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儿子王献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继承父学，且进一步独创天地，字画秀媚，妙绝时伦，以至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父齐名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人称“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266"/>
          <p:cNvSpPr/>
          <p:nvPr/>
        </p:nvSpPr>
        <p:spPr>
          <a:xfrm>
            <a:off x="684360" y="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微软雅黑"/>
              </a:rPr>
              <a:t>王羲之的书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456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羲之的书法刻本很多，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乐毅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庭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方朔画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楷书作品，在中国古代书法史上都占有重要位置。他的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行草书传世墨宝有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寒切贴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姨母帖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初月帖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等十余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些墨宝虽然是唐人双勾廓填摹本，但也都不失为难得的珍品。他的行书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雪时晴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有二十四个字，被清乾隆列为“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希帖”（王羲之的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快雪时晴贴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王献之的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秋贴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王珣的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伯远帖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之首。 </a:t>
            </a:r>
            <a:br>
              <a:rPr sz="2400"/>
            </a:br>
            <a:r>
              <a:rPr b="0" lang="zh-CN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　　</a:t>
            </a:r>
            <a:r>
              <a:rPr b="0" lang="en-US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兰亭序</a:t>
            </a:r>
            <a:r>
              <a:rPr b="0" lang="en-US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是王羲之最著名的代表作。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文学的角度，它文字优美，情感旷达闲逸，是千古绝妙的好文章。</a:t>
            </a:r>
            <a:r>
              <a:rPr b="0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从书法的角度，它被誉为法贴之冠，被各代名家悉心钻研。</a:t>
            </a:r>
            <a:r>
              <a:rPr b="0" lang="zh-CN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真迹已经失传，当年唐太宗李世民十分喜爱王右军的书法，据说他把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兰亭集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迹埋入昭陵作为陪葬品。现在所见到的摹本很多，其中最出名的是唐太宗时的书法家冯承素的“神龙本”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华文新魏"/>
              </a:rPr>
              <a:t>王羲之书法作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7280" y="188640"/>
            <a:ext cx="431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写作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内容占位符 13314" descr=""/>
          <p:cNvPicPr/>
          <p:nvPr/>
        </p:nvPicPr>
        <p:blipFill>
          <a:blip r:embed="rId1"/>
          <a:stretch/>
        </p:blipFill>
        <p:spPr>
          <a:xfrm flipH="1">
            <a:off x="692280" y="5823000"/>
            <a:ext cx="77760" cy="101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63640" y="1599840"/>
            <a:ext cx="538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晋穆帝永和九年（公元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53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）农历三月初三日</a:t>
            </a:r>
            <a:r>
              <a:rPr b="0" lang="zh-CN" sz="2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，这天天朗气清，惠风和畅。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王羲之与谢安、孙绰、许询及王羲之子侄献之、凝之、涣之、元之等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1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位文人墨客在兰亭修禊雅集。</a:t>
            </a:r>
            <a:r>
              <a:rPr b="0" lang="zh-CN" sz="2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王羲之、孙绰等</a:t>
            </a:r>
            <a:r>
              <a:rPr b="0" lang="en-US" sz="2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26</a:t>
            </a:r>
            <a:r>
              <a:rPr b="0" lang="zh-CN" sz="2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人当场赋诗，共得</a:t>
            </a:r>
            <a:r>
              <a:rPr b="0" lang="en-US" sz="2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37</a:t>
            </a:r>
            <a:r>
              <a:rPr b="0" lang="zh-CN" sz="2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篇。王羲之将这些诗句汇集起来，编辑成一本</a:t>
            </a:r>
            <a:r>
              <a:rPr b="0" lang="en-US" sz="2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兰亭集</a:t>
            </a:r>
            <a:r>
              <a:rPr b="0" lang="en-US" sz="2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，并为此集作了一篇序，共</a:t>
            </a:r>
            <a:r>
              <a:rPr b="0" lang="en-US" sz="2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324</a:t>
            </a:r>
            <a:r>
              <a:rPr b="0" lang="zh-CN" sz="2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羲之为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兰亭集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的序文，原来无题目，今题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兰亭集序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后人所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3316" descr="lanting"/>
          <p:cNvPicPr/>
          <p:nvPr/>
        </p:nvPicPr>
        <p:blipFill>
          <a:blip r:embed="rId2"/>
          <a:stretch/>
        </p:blipFill>
        <p:spPr>
          <a:xfrm>
            <a:off x="0" y="620640"/>
            <a:ext cx="39117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5:40:14Z</dcterms:created>
  <dc:creator>百度文库为您呈献！</dc:creator>
  <dc:description>百度文库为您呈献！</dc:description>
  <cp:keywords>百度文库为您呈献！</cp:keywords>
  <dc:language>en-US</dc:language>
  <cp:lastModifiedBy>admin</cp:lastModifiedBy>
  <dcterms:modified xsi:type="dcterms:W3CDTF">2017-09-04T08:57:20Z</dcterms:modified>
  <cp:revision>2</cp:revision>
  <dc:subject>百度文库为您呈献！</dc:subject>
  <dc:title>百度文库为您呈献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