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E62-7F2E-4710-A09E-9B129B87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EC7-3024-4E5A-88DF-4A690430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13B-890B-42A5-8DD6-F4CCB5F4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E3C-A1A1-4587-8879-DEAF89B7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7A9-6DAC-454B-AAD9-F5040236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A15-CB70-46EB-B7C0-3BC78CA6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48B-E4A8-4EFA-B0FB-490FA7A9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B5B-EA1E-40B8-968C-1E6815B1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F3B-782A-43B0-BB7B-BA79EBD3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098-155A-44B9-ABCD-90B08E78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5FF-3658-467A-B3B0-31250BC7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332B-AA31-417F-9224-16B113B0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D191-287E-43B6-84D6-8A15B5DA4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657600"/>
            <a:ext cx="8229600" cy="18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序以帖传乎，帖以序传乎，一序一帖双绝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亭因人名焉，人因亭名焉，斯亭斯人两奇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914400"/>
            <a:ext cx="3962520" cy="17089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兰亭集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羲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152280"/>
            <a:ext cx="85345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者是如何记叙这次兰亭聚会的盛况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066680"/>
            <a:ext cx="1224000" cy="50616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天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48160" y="102816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永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癸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暮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2560" y="175176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兰亭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3240" y="23914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修禊事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59040" y="297108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群贤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少长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38440" y="3656880"/>
            <a:ext cx="27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此地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又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86480" y="4266360"/>
            <a:ext cx="23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引以为流觞曲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82720" y="495216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朗气清，惠风和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1680" y="556200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信可乐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n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兰亭集序.jpg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47920" y="304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华文琥珀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59092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者为什么会有“信可乐也”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n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28600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文章第三段论述的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问题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3808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华文琥珀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n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76520" y="2057400"/>
            <a:ext cx="7467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的情感是怎样起伏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种变化表达了作者对人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怎样的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808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华文琥珀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tn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26668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生死为虚诞，齐彭殇为妄作”表达了作者怎样的生死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3808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华文琥珀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n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06881"/>
          <p:cNvPicPr/>
          <p:nvPr/>
        </p:nvPicPr>
        <p:blipFill>
          <a:blip r:embed="rId2"/>
          <a:stretch/>
        </p:blipFill>
        <p:spPr>
          <a:xfrm>
            <a:off x="250920" y="1989000"/>
            <a:ext cx="4249800" cy="458172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228600" y="228600"/>
            <a:ext cx="4191120" cy="13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王羲之</a:t>
            </a:r>
            <a:endParaRPr b="1" i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7" name="Picture 5" descr="wangxz"/>
          <p:cNvPicPr/>
          <p:nvPr/>
        </p:nvPicPr>
        <p:blipFill>
          <a:blip r:embed="rId3"/>
          <a:stretch/>
        </p:blipFill>
        <p:spPr>
          <a:xfrm>
            <a:off x="4716360" y="907920"/>
            <a:ext cx="4105440" cy="568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羲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，字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逸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东晋伟大的书法家，被后人尊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出身世家大族，初为秘书郎，后迁参军、长史，官至右军将军、会稽内史，世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右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会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他的儿子王献之书法也很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称他们父子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作品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右军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962520"/>
            <a:ext cx="5410080" cy="21049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飘若浮云，矫若惊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铁书银钩，冠绝古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贵越群品，古今莫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solidFill>
            <a:srgbClr val="008000">
              <a:alpha val="1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兰亭集序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章法、结构、笔法都很完美，是王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岁时得意之作。历代推为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下行书第一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（米芾），后人评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右军字体，古法一变。其雄秀之气，出于天然，故古今以为师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表现了他书法艺术的最高境界。他的气度、风神、襟怀、情愫得到充分表现。可惜被酷爱书法的唐太宗作为殉葬品入昭陵，从此真迹永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"/>
          <p:cNvSpPr/>
          <p:nvPr/>
        </p:nvSpPr>
        <p:spPr>
          <a:xfrm>
            <a:off x="380880" y="-25560"/>
            <a:ext cx="3048120" cy="764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文体知识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228600" y="1219320"/>
            <a:ext cx="8610480" cy="150120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兰亭集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篇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，文体名，又名“序言”“前言”“引言”，序在古代多放在书的后面，现在一般放在著作正文之前，是对书籍和文章举其纲要、论其大旨的一种文字。可以分为赠序和书序两种。前者多是对所赠亲友的赞许、推重或勉励之辞。后者一般写在书或文集的前面，内容多是介绍书的内容和特色、成书的经过、写书目的等。语言表达方式比较灵活，可以以一种表达方式为主，也可以综合运用多种表达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1082160" y="0"/>
            <a:ext cx="1786680" cy="703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背景介绍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250920" y="914400"/>
            <a:ext cx="8740800" cy="1501200"/>
          </a:xfrm>
          <a:prstGeom prst="rect">
            <a:avLst/>
          </a:prstGeom>
          <a:solidFill>
            <a:srgbClr val="ffffff">
              <a:alpha val="32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东晋在中国文学史上是一个特殊的时期，因政治和玄学的影响，这个时期的士人不关心现实，他们寄情山水，举止风流潇洒，言谈诙谐随意。浙江的会稽山水清幽、风景秀美，因此不少名士隐居在这里，谈玄论道，放浪形骸，王羲之即为其一。他随出身高门，却淡薄宦情，好隐居，与清谈名士交游，以山水吟咏为乐，为人率直、洒脱。常与朋友们徜徉于会稽的明山秀水之间，逍遥度日。东晋穆帝永和九年三月三日，王羲之和当时名士谢安、孙绰等四十一人在兰亭集会，他们曲水流觞，赋诗抒怀，集结成集，最后由王羲之作序一篇，总述其事，这就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兰亭集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n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圖片9"/>
          <p:cNvPicPr/>
          <p:nvPr/>
        </p:nvPicPr>
        <p:blipFill>
          <a:blip r:embed="rId2"/>
          <a:stretch/>
        </p:blipFill>
        <p:spPr>
          <a:xfrm>
            <a:off x="5454720" y="533520"/>
            <a:ext cx="3689280" cy="5333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0904051904459013.jpg"/>
          <p:cNvPicPr/>
          <p:nvPr/>
        </p:nvPicPr>
        <p:blipFill>
          <a:blip r:embed="rId3"/>
          <a:stretch/>
        </p:blipFill>
        <p:spPr>
          <a:xfrm>
            <a:off x="0" y="380880"/>
            <a:ext cx="5738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315360" y="571680"/>
            <a:ext cx="1399320" cy="28573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生词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2571840" y="428760"/>
            <a:ext cx="40003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丑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会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（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（       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激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流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怀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放浪形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舍万殊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嗟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彭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921120" y="5716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ɡu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165200" y="1071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kuài j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65560" y="1609560"/>
            <a:ext cx="4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x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3850560" y="21430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tuān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3784320" y="271476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shā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3821760" y="32860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chěn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4560840" y="37861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h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4537440" y="435780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q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4014360" y="489600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q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3793320" y="54291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jiē dà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3822480" y="600084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shā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tn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952880" y="304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华文琥珀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文共四个自然段，可以分为几层？从文中找出标志每层作者感情基调的字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5T00:24:37Z</dcterms:created>
  <dc:creator/>
  <dc:description/>
  <cp:keywords/>
  <dc:language>en-US</dc:language>
  <cp:lastModifiedBy>Lenovo User</cp:lastModifiedBy>
  <dcterms:modified xsi:type="dcterms:W3CDTF">2014-01-06T11:15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Version">
    <vt:r8>1</vt:r8>
  </property>
</Properties>
</file>