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6AA-4FDE-418C-99A4-BBE5F9A8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AC3-60FA-46B5-BED3-2759E459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A73-DC60-4192-933A-EAE86E2C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5EB-88A5-495C-97E8-4FFC52CD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365-1E79-4104-B0DF-016D784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780-F042-4522-8167-AD0392E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CC6-1069-4956-A1BF-DD5B18CA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3E7-5017-4D0B-9275-2358197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55C-6B56-4B62-8BCE-BCF1FCC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A15-2256-4E38-8287-39D129B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DCE-6852-4BD2-B637-2F2E229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38B-C92C-423F-A0B4-A5DC4F34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104-C242-460B-91CA-6D7DC4BD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212040" cy="69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821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mbria Math"/>
              </a:rPr>
              <a:t>写作背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341360"/>
            <a:ext cx="810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老人与海》写的是老渔夫圣地亚哥在海上的捕鱼经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老人制服大鱼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返航途中又同鲨鱼进行惊险的搏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而作品中的形象却具有很强的象征意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用马林鱼象征人生的理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鲨鱼象征无法摆脱的悲剧命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大海象征变化无常的人类社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而狮子则为勇武健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仇视邪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创造奇迹的象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桑提亚哥则是人类中的勇于与强大势力搏斗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硬汉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捕鱼的不幸遭遇象征人类总是与厄运不断抗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《老人与海》这部小说是根据真人真事写的。第一次世界大战结束后，海明威移居古巴，认识了老渔民格雷戈里奥•富恩特斯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海明威乘的船在暴风雨中遇难，富恩特斯搭救了海明威。从此，海明威与富恩特斯结下了深厚的友谊，并经常一起出海捕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圣诞节后不久，海明威产生了极强的创作欲，在古巴哈瓦那郊区的别墅“观景社”，他开始动笔写《老人与海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起初名为《现有的海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就完成了初稿，前后仅用了八周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份海明威把手稿送给去古巴访问他的友人们传阅，博得了一致的赞美。海明威本人也认为这是他“这一辈子所能写得最好的一部作品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后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提亚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tiag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是个可怜的老头——看上去似乎是的。海明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emingwa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以自己精炼的语言塑造了这个形象，可以说，海明威并没有给予老人成功，却赋予老人在压力下优雅而坚韧的形象。 老渔夫在海上一无所获地漂流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后钓到了一条巨大无比的马林鱼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l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这是一条比他的渔船还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尺的鱼，是在拖着渔船整整两天两夜之后才被刺死的。老人的命运似乎并不成功，他又遭遇了鲨鱼，经过殊死的搏斗，马林鱼只剩下一副骨架。 骨骼是精神的支柱，海明威看似没有让老人桑提亚哥成功，却以光秃秃的骨骼奏出了老人生命的硬度。 “我和你奉陪到死”——这个硬汉面对挑战如是说。暗喻他自身的英雄主义所在，还有他趋向坚韧的力量。故事的头尾，都出现了名叫明诺林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ol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男孩——他希望继承老人的事业。何止捕鱼的事业要被传承，这副铮铮铁骨又何尝不为我们所崇敬、所供奉、所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1680" y="1440"/>
            <a:ext cx="92120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后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老人的故事里为什么有这个孩子的出现？年轻，象征着力量和希望，即便是老人，他的内心同样是年轻的。文中多次描写到狮子，阿非利加海滩上，狮子在笑闹嬉戏，它们浮现在老人的梦中，一直在老人的心中，同样揭示了老人永远不会老的意志。 海明威的这部小说荣获了诺贝尔文学奖和普利策奖。这个骨头里留有几百块弹片的硬汉作家，恰当地写出了生命的强度，告诉我们怎么去面对生、老、病、死，告诉我们心该有多宽，如海一般。老人是孤独的，他是在理想的道路上前行的旅人，但他又是不孤独的，因为他的意志是那样的坚强。 不妨将鲨鱼看作打击，吃掉你的成功和幸福。但正如那孩子说的：“它没有打败你，它没有。”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He didn't beat you. Not the fish.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一个真正的强者，只能被摧毁而不能被击败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 man can be destroyed but not defeated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永不言败，这就是《老人与海》告诉我们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6840"/>
            <a:ext cx="9325080" cy="6983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彩语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一天都是一个新的日子。走远当然是好的，不过我情愿做到分毫不差。这样，运气来的时候，你就有所准备了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very day is a new day. It is better to be lucky. But I would rather be exact. Then when luck comes you are ready.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3480" y="3240"/>
            <a:ext cx="9215640" cy="688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彩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不是去想缺少什么的时候，该想一想凭现有的东西你能做什么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 is no time to think of what you do not have. Think of what you can do with what there is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9684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彩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不是去想缺少什么的时候，该想一想凭现有的东西你能做什么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w is no time to think of what you do not have. Think of what you can do with what there is.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要荣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历史的百部经典之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美国历史上里程碑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书之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获普利策奖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获诺贝尔文学奖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法国《读书》杂志推荐的理想藏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内卖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本，销量排名第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3480" y="1440"/>
            <a:ext cx="92138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3:49:47Z</dcterms:created>
  <dc:creator>BeniMiori_XLP</dc:creator>
  <dc:description/>
  <dc:language>en-US</dc:language>
  <cp:lastModifiedBy>BeniMiori_XLP</cp:lastModifiedBy>
  <cp:lastPrinted>1899-12-30T00:00:00Z</cp:lastPrinted>
  <dcterms:modified xsi:type="dcterms:W3CDTF">2010-02-24T13:53:4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