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8.png" ContentType="image/png"/>
  <Override PartName="/ppt/media/image6.jpeg" ContentType="image/jpeg"/>
  <Override PartName="/ppt/media/image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7.png" ContentType="image/png"/>
  <Override PartName="/ppt/media/image4.jpeg" ContentType="image/jpeg"/>
  <Override PartName="/ppt/media/image14.jpeg" ContentType="image/jpeg"/>
  <Override PartName="/ppt/media/image1.jpeg" ContentType="image/jpeg"/>
  <Override PartName="/ppt/media/image22.jpeg" ContentType="image/jpeg"/>
  <Override PartName="/ppt/media/image23.jpeg" ContentType="image/jpeg"/>
  <Override PartName="/ppt/media/image2.jpeg" ContentType="image/jpeg"/>
  <Override PartName="/ppt/media/image3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4AB0-EFB0-470D-9B73-A3BC547A07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D8990-9EE8-4403-9331-B7EEF2D93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D61F1-69EA-4582-A59E-DB0A1360F9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F9606-5010-4792-A92A-8FDE80E7BE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85500-0ADE-4D22-9061-2CF970A982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0D59-A5CB-46AA-B941-6DE6B9BF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539B8-449F-4051-A30D-5183D6215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6EFB6-4BEA-4454-AFB5-93836D4C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912F2-6F6E-41C1-9334-25C5B6915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8A652-A66C-497C-855C-5EA545DBE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25152-4F67-4FE3-876F-87DBDC2A1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FB9ED-61F5-4490-B2C3-3796328D7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BC8FA0-72B1-4968-92BD-C7951D5E48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2"/>
          <a:srcRect l="441" t="0" r="0" b="388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2268360" y="0"/>
            <a:ext cx="4648320" cy="1219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楷体_GB2312"/>
              </a:rPr>
              <a:t>人与动物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4" descr="4b13840502001hgz"/>
          <p:cNvPicPr/>
          <p:nvPr/>
        </p:nvPicPr>
        <p:blipFill>
          <a:blip r:embed="rId2"/>
          <a:stretch/>
        </p:blipFill>
        <p:spPr>
          <a:xfrm>
            <a:off x="0" y="0"/>
            <a:ext cx="9144000" cy="4967280"/>
          </a:xfrm>
          <a:prstGeom prst="rect">
            <a:avLst/>
          </a:prstGeom>
          <a:ln w="0">
            <a:noFill/>
          </a:ln>
        </p:spPr>
      </p:pic>
      <p:sp>
        <p:nvSpPr>
          <p:cNvPr id="55" name="Text Box 5"/>
          <p:cNvSpPr/>
          <p:nvPr/>
        </p:nvSpPr>
        <p:spPr>
          <a:xfrm>
            <a:off x="374760" y="5157720"/>
            <a:ext cx="8769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据说， 吴庆恒老人病逝后，人们清点的遗物中，最值钱的家当，居然只有六个鸡蛋，而那是他准备第二天为海鸥制作鸡蛋饼干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5634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初读课文，说说课文的主要内容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250920" y="121140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把课文分成两部分，应该怎么分？分别写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7"/>
          <p:cNvSpPr/>
          <p:nvPr/>
        </p:nvSpPr>
        <p:spPr>
          <a:xfrm>
            <a:off x="250920" y="200340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课文主要讲的是一位普通的老人与海鸥之间建立的深厚的感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8"/>
          <p:cNvSpPr/>
          <p:nvPr/>
        </p:nvSpPr>
        <p:spPr>
          <a:xfrm>
            <a:off x="179280" y="3156120"/>
            <a:ext cx="89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一部分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(1—13)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通过老人为海鸥、呼唤海鸥的名字、与海鸥亲切地说话等事例表现了老人对海鸥无私的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9"/>
          <p:cNvSpPr/>
          <p:nvPr/>
        </p:nvSpPr>
        <p:spPr>
          <a:xfrm>
            <a:off x="179280" y="4811760"/>
            <a:ext cx="878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第二部分（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4—19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人死后，海鸥在遗像前翻飞、盘旋、肃立、鸣叫等悲壮画面，展示了海鸥对老人那份令人震撼的情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Text Box 4"/>
          <p:cNvSpPr/>
          <p:nvPr/>
        </p:nvSpPr>
        <p:spPr>
          <a:xfrm>
            <a:off x="755640" y="1628640"/>
            <a:ext cx="755964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再读课文，让我们走进老人与海鸥的世界，去感受动物与人的真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从课文的哪些地方你能体会到老人与海鸥之间的深厚感情，勾画出相关的语句，进行批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4"/>
          <p:cNvSpPr/>
          <p:nvPr/>
        </p:nvSpPr>
        <p:spPr>
          <a:xfrm>
            <a:off x="395280" y="2997360"/>
            <a:ext cx="835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他背已经驼了，穿一身褪色的过时布衣，背一个褪色的蓝布包，连装鸟食的大塑料袋也用得褪了色。朋友告诉我，这位老人每天步行二十余里，从城郊赶到翠湖，只为了给海鸥送餐，跟海鸥相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6" descr="200641903473759097"/>
          <p:cNvPicPr/>
          <p:nvPr/>
        </p:nvPicPr>
        <p:blipFill>
          <a:blip r:embed="rId2"/>
          <a:stretch/>
        </p:blipFill>
        <p:spPr>
          <a:xfrm>
            <a:off x="0" y="0"/>
            <a:ext cx="9144000" cy="3068640"/>
          </a:xfrm>
          <a:prstGeom prst="rect">
            <a:avLst/>
          </a:prstGeom>
          <a:ln w="0">
            <a:noFill/>
          </a:ln>
        </p:spPr>
      </p:pic>
      <p:sp>
        <p:nvSpPr>
          <p:cNvPr id="64" name="Text Box 7"/>
          <p:cNvSpPr/>
          <p:nvPr/>
        </p:nvSpPr>
        <p:spPr>
          <a:xfrm>
            <a:off x="179280" y="5589720"/>
            <a:ext cx="864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这是一个十分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简朴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的老人，是一个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爱海鸥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的老人。这段话体现了老人对海鸥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无私的爱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65400" y="2276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外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914400" y="990720"/>
            <a:ext cx="7042320" cy="21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朋友告诉我，这位老人每天步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二十余里，从城郊赶到翠湖，只为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给海鸥送餐，跟海鸥相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083400" y="3789360"/>
            <a:ext cx="257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里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=5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143000" y="2438280"/>
            <a:ext cx="1371600" cy="152640"/>
            <a:chOff x="1143000" y="2438280"/>
            <a:chExt cx="1371600" cy="152640"/>
          </a:xfrm>
        </p:grpSpPr>
        <p:grpSp>
          <p:nvGrpSpPr>
            <p:cNvPr id="69" name=""/>
            <p:cNvGrpSpPr/>
            <p:nvPr/>
          </p:nvGrpSpPr>
          <p:grpSpPr>
            <a:xfrm>
              <a:off x="1143000" y="2438280"/>
              <a:ext cx="914400" cy="152640"/>
              <a:chOff x="1143000" y="2438280"/>
              <a:chExt cx="914400" cy="152640"/>
            </a:xfrm>
          </p:grpSpPr>
          <p:sp>
            <p:nvSpPr>
              <p:cNvPr id="70" name=""/>
              <p:cNvSpPr/>
              <p:nvPr/>
            </p:nvSpPr>
            <p:spPr>
              <a:xfrm>
                <a:off x="1143000" y="2438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1523880" y="2438280"/>
                <a:ext cx="15264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1905120" y="2438280"/>
                <a:ext cx="152280" cy="152640"/>
              </a:xfrm>
              <a:prstGeom prst="ellipse">
                <a:avLst/>
              </a:prstGeom>
              <a:solidFill>
                <a:srgbClr val="ff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2362320" y="2438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4" name=""/>
          <p:cNvSpPr/>
          <p:nvPr/>
        </p:nvSpPr>
        <p:spPr>
          <a:xfrm>
            <a:off x="617220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6629400" y="1752480"/>
            <a:ext cx="152280" cy="152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6" name=""/>
          <p:cNvGrpSpPr/>
          <p:nvPr/>
        </p:nvGrpSpPr>
        <p:grpSpPr>
          <a:xfrm>
            <a:off x="6400800" y="2438280"/>
            <a:ext cx="914400" cy="152640"/>
            <a:chOff x="6400800" y="2438280"/>
            <a:chExt cx="914400" cy="152640"/>
          </a:xfrm>
        </p:grpSpPr>
        <p:sp>
          <p:nvSpPr>
            <p:cNvPr id="77" name=""/>
            <p:cNvSpPr/>
            <p:nvPr/>
          </p:nvSpPr>
          <p:spPr>
            <a:xfrm>
              <a:off x="6400800" y="2438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781680" y="2438280"/>
              <a:ext cx="15264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7162920" y="2438280"/>
              <a:ext cx="152280" cy="152640"/>
            </a:xfrm>
            <a:prstGeom prst="ellipse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Text Box 4"/>
          <p:cNvSpPr/>
          <p:nvPr/>
        </p:nvSpPr>
        <p:spPr>
          <a:xfrm>
            <a:off x="324000" y="476280"/>
            <a:ext cx="41036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老人把饼干丁很小心地放在湖边的围栏上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退开一步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撮起嘴向鸥群呼唤。立刻便有一群海鸥应声而来，几下就扫得干干净净，老人顺着栏杆边走边放，海鸥依他的节奏起起落落，排成一片翻飞的白色，飞成一篇有声有色的乐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6" descr="图片1.jpg"/>
          <p:cNvPicPr/>
          <p:nvPr/>
        </p:nvPicPr>
        <p:blipFill>
          <a:blip r:embed="rId2"/>
          <a:stretch/>
        </p:blipFill>
        <p:spPr>
          <a:xfrm>
            <a:off x="4859280" y="0"/>
            <a:ext cx="4284720" cy="645336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186120" y="18900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动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836640"/>
            <a:ext cx="806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在海鸥的鸣叫声里，老人抑扬顿挫地唱着什么。侧耳细听，原来是亲昵得变了调的地方话——“独脚”、“灰头”、“红嘴”、“老沙”、“公主”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39640" y="3860640"/>
            <a:ext cx="8066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99"/>
                </a:solidFill>
                <a:latin typeface="黑体"/>
                <a:ea typeface="黑体"/>
              </a:rPr>
              <a:t>    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透过一个个朴实的名字，我们看到的是老人对海鸥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亲昵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，对海鸥的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爱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。老人亲昵而自然地呼唤着一只只海鸥，就像在呼唤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自己的儿女</a:t>
            </a:r>
            <a:r>
              <a:rPr b="1" lang="zh-CN" sz="36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65400" y="26028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语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5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0" y="-49320"/>
            <a:ext cx="9144000" cy="690732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1268280"/>
            <a:ext cx="8459640" cy="311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谈起海鸥，老人的眼神立刻生动起来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爱海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</a:t>
            </a:r>
            <a:r>
              <a:rPr b="1" lang="zh-CN" sz="4800" spc="-1" strike="noStrike">
                <a:solidFill>
                  <a:srgbClr val="0000ff"/>
                </a:solidFill>
                <a:latin typeface="Arial"/>
              </a:rPr>
              <a:t>海鸥听见老人唤，马上飞了过来，把他团团围住。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ff"/>
                </a:solidFill>
                <a:latin typeface="Arial"/>
              </a:rPr>
              <a:t>       </a:t>
            </a:r>
            <a:r>
              <a:rPr b="1" lang="en-US" sz="4800" spc="-1" strike="noStrike">
                <a:solidFill>
                  <a:srgbClr val="ff0000"/>
                </a:solidFill>
                <a:latin typeface="Arial"/>
              </a:rPr>
              <a:t>——</a:t>
            </a:r>
            <a:r>
              <a:rPr b="1" lang="zh-CN" sz="4800" spc="-1" strike="noStrike">
                <a:solidFill>
                  <a:srgbClr val="ff0000"/>
                </a:solidFill>
                <a:latin typeface="Arial"/>
              </a:rPr>
              <a:t>爱老人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8" dur="2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1619280" y="2637000"/>
            <a:ext cx="7200720" cy="30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老人望着高空盘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的鸥群，眼睛里带着企盼。他想： </a:t>
            </a:r>
            <a:r>
              <a:rPr b="0" lang="en-US" sz="4800" spc="-1" strike="noStrike">
                <a:solidFill>
                  <a:srgbClr val="0000ff"/>
                </a:solidFill>
                <a:latin typeface="Arial"/>
              </a:rPr>
              <a:t>————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4"/>
          <p:cNvSpPr/>
          <p:nvPr/>
        </p:nvSpPr>
        <p:spPr>
          <a:xfrm>
            <a:off x="324000" y="4221000"/>
            <a:ext cx="865476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c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意想不到的事情发生了——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群海鸥突然飞来，围着老人的遗像翻飞盘旋，连声鸣叫，叫声和姿势与平时大不一样，像是发生了什么大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6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41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4"/>
          <p:cNvSpPr/>
          <p:nvPr/>
        </p:nvSpPr>
        <p:spPr>
          <a:xfrm>
            <a:off x="684360" y="414972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过了一会儿，海鸥纷纷落地，竟在老人遗像前后站成了两行。他们肃立不动，像是为老人守灵的白翼天使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4"/>
          <p:cNvSpPr/>
          <p:nvPr/>
        </p:nvSpPr>
        <p:spPr>
          <a:xfrm>
            <a:off x="250920" y="5877000"/>
            <a:ext cx="86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黑体"/>
                <a:ea typeface="黑体"/>
              </a:rPr>
              <a:t>　　</a:t>
            </a:r>
            <a:r>
              <a:rPr b="1" lang="zh-CN" sz="3200" spc="-1" strike="noStrike">
                <a:solidFill>
                  <a:srgbClr val="000099"/>
                </a:solidFill>
                <a:latin typeface="黑体"/>
                <a:ea typeface="黑体"/>
              </a:rPr>
              <a:t>海鸥也像人一样，它们有着人一样的情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3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5002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1514880" y="3716280"/>
            <a:ext cx="367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Calibri"/>
              </a:rPr>
              <a:t>更意想不到的事情发生了</a:t>
            </a:r>
            <a:r>
              <a:rPr b="1" lang="en-US" sz="3200" spc="-1" strike="noStrike">
                <a:solidFill>
                  <a:srgbClr val="ff0000"/>
                </a:solidFill>
                <a:latin typeface="Calibri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3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Picture 2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97" name="矩形 2"/>
          <p:cNvSpPr/>
          <p:nvPr/>
        </p:nvSpPr>
        <p:spPr>
          <a:xfrm>
            <a:off x="395280" y="907920"/>
            <a:ext cx="8497800" cy="244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最意想不到的事情发生了</a:t>
            </a:r>
            <a:r>
              <a:rPr b="1" lang="en-US" sz="4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——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当我们不得不去收起遗像时候，海鸥们像炸了营似的朝遗像扑过来。它们大声鸣叫着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翅膀扑得那样近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,</a:t>
            </a:r>
            <a:r>
              <a:rPr b="1" lang="zh-CN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们好不容易才从这片飞动的白色漩涡中脱出身来</a:t>
            </a:r>
            <a:r>
              <a:rPr b="1" lang="en-US" sz="4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4"/>
          <p:cNvSpPr/>
          <p:nvPr/>
        </p:nvSpPr>
        <p:spPr>
          <a:xfrm>
            <a:off x="755640" y="112536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它们大声鸣叫着，翅膀扑得那样近，我们好不容易才从这片飞动的白色漩涡中脱出身来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684360" y="3392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cc"/>
                </a:solidFill>
                <a:latin typeface="Arial"/>
              </a:rPr>
              <a:t>　　</a:t>
            </a:r>
            <a:r>
              <a:rPr b="1" lang="zh-CN" sz="4000" spc="-1" strike="noStrike">
                <a:solidFill>
                  <a:srgbClr val="0000cc"/>
                </a:solidFill>
                <a:latin typeface="黑体"/>
                <a:ea typeface="黑体"/>
              </a:rPr>
              <a:t>海鸥们是那么不舍得离开老人，它们在用自己的特殊方式表达对老人的留恋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30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4" descr="24664b890cd564bb0e24445c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5"/>
          <p:cNvSpPr/>
          <p:nvPr/>
        </p:nvSpPr>
        <p:spPr>
          <a:xfrm>
            <a:off x="0" y="5516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如今，在翠湖边，市民们为了纪念这位关爱动物的老人，为他修建了一座铜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4" descr="13ab8aa1bf71198346106470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4" descr="20F1BCEEE498A808F8FF6EF1E7B774CE"/>
          <p:cNvPicPr/>
          <p:nvPr/>
        </p:nvPicPr>
        <p:blipFill>
          <a:blip r:embed="rId2"/>
          <a:stretch/>
        </p:blipFill>
        <p:spPr>
          <a:xfrm>
            <a:off x="0" y="0"/>
            <a:ext cx="9144000" cy="5661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5"/>
          <p:cNvSpPr/>
          <p:nvPr/>
        </p:nvSpPr>
        <p:spPr>
          <a:xfrm>
            <a:off x="324000" y="566100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每到海鸥飞临翠湖的季节，就会有许多市民像当年的老人一样，给它们喂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4" descr="9804940fd49d90e5aa64577e"/>
          <p:cNvPicPr/>
          <p:nvPr/>
        </p:nvPicPr>
        <p:blipFill>
          <a:blip r:embed="rId2"/>
          <a:stretch/>
        </p:blipFill>
        <p:spPr>
          <a:xfrm>
            <a:off x="0" y="0"/>
            <a:ext cx="9144000" cy="537372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5"/>
          <p:cNvSpPr/>
          <p:nvPr/>
        </p:nvSpPr>
        <p:spPr>
          <a:xfrm>
            <a:off x="250920" y="5373720"/>
            <a:ext cx="8302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华文楷体"/>
                <a:ea typeface="华文楷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老人虽已故去，但他关爱动物的善举将永远在人们中间传承下去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Rectangle 4"/>
          <p:cNvSpPr/>
          <p:nvPr/>
        </p:nvSpPr>
        <p:spPr>
          <a:xfrm>
            <a:off x="684360" y="836640"/>
            <a:ext cx="75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00"/>
                </a:solidFill>
                <a:latin typeface="黑体"/>
                <a:ea typeface="黑体"/>
              </a:rPr>
              <a:t>　　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找出文中的省略号，并说说它的作用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2"/>
          <p:cNvSpPr/>
          <p:nvPr/>
        </p:nvSpPr>
        <p:spPr>
          <a:xfrm>
            <a:off x="1258920" y="2349360"/>
            <a:ext cx="734544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引文或引述的话有所省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相同词语的省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③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列举的省略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④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静默或思考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⑤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说话断断续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语言的中断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⑦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表示语意未尽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57200" y="260280"/>
            <a:ext cx="8218440" cy="633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                        </a:t>
            </a: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永远在一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能忘，那为了海鸥的每一个冬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怎能忘，那天地间有声有色的乐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肃立不动的守护，却留不住往日的欢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翻飞盘旋的漩涡，却挽不回亲人的脚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对老人深情地说一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您，放心吧！一路走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对海鸥深情地说一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你们别太悲伤，因为还有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对围观的人深情地说一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我们心里永远铭刻下这动人的一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对地球上所有的人和动物说一句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我们就像亲人一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让我们永远在一起、在一起…</a:t>
            </a:r>
            <a:r>
              <a:rPr b="0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611280" y="404640"/>
            <a:ext cx="237636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华文新魏"/>
              </a:rPr>
              <a:t>小练笔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916280"/>
            <a:ext cx="712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老人与海鸥之间深厚感情真是感人。如果海鸥会说话，当它们肃立在老人遗像前时，会说些什么呢？请你想象一下，并写下来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2"/>
          <a:srcRect l="0" t="0" r="0" b="333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 txBox="1"/>
          <p:nvPr/>
        </p:nvSpPr>
        <p:spPr>
          <a:xfrm rot="532800">
            <a:off x="3348000" y="333000"/>
            <a:ext cx="518148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楷体_GB2312"/>
              </a:rPr>
              <a:t>老人与海鸥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b95f3ad1b05f99db562c845f"/>
          <p:cNvPicPr/>
          <p:nvPr/>
        </p:nvPicPr>
        <p:blipFill>
          <a:blip r:embed="rId2"/>
          <a:stretch/>
        </p:blipFill>
        <p:spPr>
          <a:xfrm>
            <a:off x="0" y="0"/>
            <a:ext cx="9144000" cy="45086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5"/>
          <p:cNvSpPr/>
          <p:nvPr/>
        </p:nvSpPr>
        <p:spPr>
          <a:xfrm>
            <a:off x="71280" y="4653000"/>
            <a:ext cx="896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　　这位老人叫吴庆恒，他被昆明市民亲切的称为海鸥老人。吴庆恒老人生前孤身一人，海鸥是他唯一的寄托。每当海鸥驾临，老人每天步行二十多里进城给它们喂食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4" descr="64b598d39d742a3c960a167b"/>
          <p:cNvPicPr/>
          <p:nvPr/>
        </p:nvPicPr>
        <p:blipFill>
          <a:blip r:embed="rId2"/>
          <a:stretch/>
        </p:blipFill>
        <p:spPr>
          <a:xfrm>
            <a:off x="0" y="0"/>
            <a:ext cx="9144000" cy="42210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5"/>
          <p:cNvSpPr/>
          <p:nvPr/>
        </p:nvSpPr>
        <p:spPr>
          <a:xfrm>
            <a:off x="179280" y="4179960"/>
            <a:ext cx="896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　　和它们嬉戏，风雨无阻。老人每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08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元的退休工资有一半以上都是用来给海鸥买吃的，为此，老人平时几乎舍不得花一分钱坐公交车。四元五角一斤的饼干，老人毫不吝惜的买给海鸥，他知道那是海鸥最喜欢的美食，他还经常买来鸡蛋、面粉为海鸥制作鸡蛋饼干，而他自己，唯一的奢侈品是两毛钱一包的香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1-22T04:30:07Z</dcterms:created>
  <dc:creator>Lenovo User</dc:creator>
  <dc:description/>
  <dc:language>en-US</dc:language>
  <cp:lastModifiedBy>Lenovo User</cp:lastModifiedBy>
  <dcterms:modified xsi:type="dcterms:W3CDTF">2012-11-22T06:21:27Z</dcterms:modified>
  <cp:revision>2</cp:revision>
  <dc:subject/>
  <dc:title>幻灯片 1</dc:title>
</cp:coreProperties>
</file>