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4.gif" ContentType="image/gif"/>
  <Override PartName="/ppt/media/image20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34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6.png" ContentType="image/png"/>
  <Override PartName="/ppt/media/image5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3.png" ContentType="image/png"/>
  <Override PartName="/ppt/media/image26.png" ContentType="image/png"/>
  <Override PartName="/ppt/media/image14.jpeg" ContentType="image/jpeg"/>
  <Override PartName="/ppt/media/image23.gif" ContentType="image/gif"/>
  <Override PartName="/ppt/media/image16.png" ContentType="image/pn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16B1-93AB-4D43-9C87-F48532F3C0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E03D-68A1-4ACE-9548-22C3E9DFB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3300-6D9A-4062-96A0-827F66671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0BE4-FC5E-438A-8F07-7281D1739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C0E1-9829-4571-A70A-C98C5C604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CC35-A32E-49E8-BCB2-BE88069D1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599C-2CBA-4116-A693-861D14C5C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94DE-136E-4965-B86B-210C835CF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7D36-D2F8-4F85-AE88-810905AA5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4239-7D7A-40DE-AE3E-006F233D2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684-0A06-4522-9FAF-4A032C2C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0B0-9631-4608-9EBE-0BC0464C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84F6E-390C-4610-98D2-C1FCD395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7679D-17EA-40D1-AE8D-D0965A27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8E83B-2F10-469D-AFD2-D22C34A1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F3B5F-EB6A-47FF-9C09-AE636881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51DD7-DF40-4FD3-B1F7-CCC6A53A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5C0A1-2BD7-4B46-B670-F09A08FC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A3674-D5A0-4D2A-853C-80D7EB9C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30120-CB1D-4E2C-8E42-7DFCE261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AA4DF-F8FA-4B64-934F-FD7000B4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316-A5D8-45BB-A922-5FBB9DF0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55C-34EE-48DB-AB5A-AA3190C1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DBA3-F380-4934-BF66-14C197A8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F691-2A5D-4A79-A829-9ECD8474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3A88-33B1-4B11-A1BC-A5D3AFB7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BDDD-E7B5-495B-9213-AF643D24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7437-320A-4023-9AD3-A8ED331B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DC1E-8E57-4C03-810A-91B1AEB6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6B47-0674-4AE3-89C9-F77A736C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4D6-F899-4489-BAEE-AEB9CC6D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2385-9FFC-4A73-86D6-A12DE0D0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1788-B12C-4C80-86D9-4372AA9E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5F0A-F932-4372-8267-A37E4296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0677-0757-427E-AE4C-3AF9B644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B307-6D5B-4AFC-A18D-2BD51C08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93270-9AEE-485E-9ABA-41D7677F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7140A-2F63-41D5-B7F4-DC9479C6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69100-BD84-41E7-A2EF-8B9CF4FA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28671-4F30-4BB8-9F46-3EB51571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3964E-4887-4DD2-A58A-32D34083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EBAB-DA01-410E-BB3A-45E1A5DE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8BEEA-B3EA-4146-8FAE-EBB15FD3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15DDA-F565-4D00-8D19-B645F964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855C7-8D26-4782-8FD2-28C7BBFE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C925D-4C62-4A36-92CA-CD9BCAF3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15780-A450-4A3F-953B-76481966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FC9E9-7098-49B6-AF17-DC682A03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2CFB2-4294-44AB-83E9-A3AA2458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B91B3-0CA2-404E-B736-FAFBE630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C7EDB-DBDF-403B-BC9D-21A16498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B2F40-869E-442E-8A8E-F79DCEC3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6276-5A51-4CEC-B439-5FFE9345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29601-709C-4237-AD1B-B75BB254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41E89-6CF1-425D-81E4-9547642C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1D243-33D2-4CE6-85BA-86609643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8B667-E4E9-4651-937E-3A0E0F6C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D88A5-F1C5-457A-B052-2D2A853B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CA00D-15EE-4B85-8738-0B2D1E6B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5C1A0-6ABF-40BF-B14F-E1CCCF87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C2AE0-4DC1-412F-AAB2-A3337D4C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0F2B9-9DBD-452D-80D8-87B3FF56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2E4A8-DF71-4038-B2B0-8A93784A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96C-A808-4EFA-8127-C0341AE9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6382B-3BA5-400E-8D54-B19E7570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2D829-60B0-48B5-8119-D8281881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82F6E-06EF-4317-BC30-63CFD646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6F2F2-8862-4213-B49F-1F774055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6E17C-5C4E-4ACD-8271-FF9BC5D2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E2DB6-078D-44E3-A452-D1C1DD29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45640-2375-4AD7-AE24-0FE29C33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162C8-1BE9-4A8F-8FAA-E10ACCA6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42AB1-FFD7-41DA-BFEF-B1644616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A1A1F-3536-4D77-9E2D-C2B740F1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210-C522-456B-A0E7-A4D44EA5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C4B1E-B32A-4B36-9D34-9DBC8165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6BF5F-8B92-495A-9CCF-1FADBE11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1EB12-B86E-49E4-87BD-BAA41C85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5CB69-768D-43F3-9C05-7B584DDC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73AE9-5F2A-44B2-9B16-D4E6C575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6096E-1372-4159-BB94-5F5A1A39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7F0CA-8A01-4A7B-9AD6-04647522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0F1D9-F59B-45A4-A0DF-D1D0BF16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EE692-9035-45C0-A7E5-27B7D0E7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858AB-426E-469E-98B2-C3B6BC80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FE3-8E14-47FD-A8E2-2C3EB0B7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ABDBE-11C0-4BDC-AF15-AE7ABF8D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ABD94-66BF-49F6-91FA-1297C08D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A96B9-9EBA-4E3E-B6E7-8A39B376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59E2E-FB80-4996-B3D4-12AE1941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0684B-F325-4A42-B6DC-5993AB12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70471-0F8B-4A7B-8FD0-C751DB98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50EAB-24E6-49E9-9965-24F3C5EF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0D468-B4F9-404D-B635-7347E45F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3F436-E791-4E51-8829-803DF9DA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B7D77-CDA2-4488-A5DD-47F1949E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816-E3AE-4800-A647-823E3984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02DDA-E9D2-4CC0-893B-51BB1DE0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D72CC-6C70-498D-9E27-408AD3DB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A6897-A5F4-432F-917C-A98EDB34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62F11-F7C6-4D9D-A84D-F0B21B12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8305C-7DAC-46C5-8954-12D7E7C2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5EFF0-13AD-4C90-AD19-2728309D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90C1D-D79B-4362-B0A6-B406E91A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2BF50-B299-400F-8BCC-1861CF92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5D193-AA76-4610-9D48-788AFF68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F8CCA-5AC2-42E9-BBAA-14AF63D5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335C-C3CD-4410-BB96-47382A25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4CDB3-0051-4F85-A38F-642E13D9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9739F-78AF-40B6-9521-BAB00C8E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38E7C-9291-4B79-A53D-84D3F15E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16169-EA2C-4629-8E85-46049703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7A101-B2BD-47AF-8A4C-56362C18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D2DE4-8755-4609-BFEB-76EC7DE8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39EB3-AB09-4AF9-8AB5-B591AAAF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B1FAF-1B32-438C-B3FB-674000A1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E9708-755C-4356-BF06-7F4A86CB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638F2-6217-4873-B14B-ADED803B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5524-4983-4B2B-B047-469EB72F41B9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85C9-828F-4AD6-8802-DA6206476E0F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794F-FB8E-4811-8EDB-944ED6718613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9A02-0FE0-4B00-A977-C48BCA430C41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9B63-BB32-41BF-ACB7-97D701B2DE3F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C184-149F-43C8-BDE9-C19264420852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DCE1-C0AD-41D4-A705-874A01187FD9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B222-3F58-43EF-B570-011A4269B494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AB81-0F5E-498E-822D-BFAD966DFBEC}" type="slidenum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roujin_khGmwyIs3VF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Franklin Gothic Medium"/>
              </a:rPr>
              <a:t>老人与海</a:t>
            </a:r>
            <a:endParaRPr b="0" lang="en-US" sz="8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5508720" y="364500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33cc33"/>
                </a:solidFill>
                <a:latin typeface="Franklin Gothic Book"/>
                <a:ea typeface="华文楷体"/>
              </a:rPr>
              <a:t>海明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23760" y="1695600"/>
            <a:ext cx="8796240" cy="35416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" descr="HaoSc25_1065_200525115329734"/>
          <p:cNvPicPr/>
          <p:nvPr/>
        </p:nvPicPr>
        <p:blipFill>
          <a:blip r:embed="rId2"/>
          <a:stretch/>
        </p:blipFill>
        <p:spPr>
          <a:xfrm>
            <a:off x="7885080" y="4869000"/>
            <a:ext cx="666720" cy="139068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8"/>
          <p:cNvSpPr/>
          <p:nvPr/>
        </p:nvSpPr>
        <p:spPr>
          <a:xfrm>
            <a:off x="1357920" y="353880"/>
            <a:ext cx="287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Franklin Gothic Book"/>
                <a:ea typeface="隶书"/>
              </a:rPr>
              <a:t>海明威</a:t>
            </a:r>
            <a:r>
              <a:rPr b="1" i="1" lang="en-US" sz="4400" spc="-1" strike="noStrike">
                <a:solidFill>
                  <a:srgbClr val="006600"/>
                </a:solidFill>
                <a:latin typeface="Franklin Gothic Book"/>
                <a:ea typeface="隶书"/>
              </a:rPr>
              <a:t>《</a:t>
            </a:r>
            <a:r>
              <a:rPr b="1" i="1" lang="zh-CN" sz="4400" spc="-1" strike="noStrike">
                <a:solidFill>
                  <a:srgbClr val="006600"/>
                </a:solidFill>
                <a:latin typeface="Franklin Gothic Book"/>
                <a:ea typeface="隶书"/>
              </a:rPr>
              <a:t>谈创作</a:t>
            </a:r>
            <a:r>
              <a:rPr b="1" i="1" lang="en-US" sz="4400" spc="-1" strike="noStrike">
                <a:solidFill>
                  <a:srgbClr val="006600"/>
                </a:solidFill>
                <a:latin typeface="Franklin Gothic Book"/>
                <a:ea typeface="隶书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826920" y="2637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华文楷体"/>
              </a:rPr>
              <a:t>           </a:t>
            </a:r>
            <a:r>
              <a:rPr b="1" lang="zh-CN" sz="3600" spc="-1" strike="noStrike">
                <a:solidFill>
                  <a:srgbClr val="cc00ff"/>
                </a:solidFill>
                <a:latin typeface="Tahoma"/>
                <a:ea typeface="华文楷体"/>
              </a:rPr>
              <a:t>他始终抱着一个信念：捕到鱼，并顺利返回，他充满自信，虽没有达到目的，却战胜了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HaoSc25_1066_200525115419360"/>
          <p:cNvPicPr/>
          <p:nvPr/>
        </p:nvPicPr>
        <p:blipFill>
          <a:blip r:embed="rId1"/>
          <a:stretch/>
        </p:blipFill>
        <p:spPr>
          <a:xfrm>
            <a:off x="755640" y="260280"/>
            <a:ext cx="1728720" cy="1584360"/>
          </a:xfrm>
          <a:prstGeom prst="rect">
            <a:avLst/>
          </a:prstGeom>
          <a:ln w="0">
            <a:noFill/>
          </a:ln>
        </p:spPr>
      </p:pic>
      <p:sp>
        <p:nvSpPr>
          <p:cNvPr id="467" name="矩形 4"/>
          <p:cNvSpPr/>
          <p:nvPr/>
        </p:nvSpPr>
        <p:spPr>
          <a:xfrm>
            <a:off x="1357200" y="471492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Franklin Gothic Book"/>
                <a:ea typeface="华文楷体"/>
              </a:rPr>
              <a:t>老人在精神的挣扎中体现了自我的人格尊严和魅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WordArt 3"/>
          <p:cNvSpPr txBox="1"/>
          <p:nvPr/>
        </p:nvSpPr>
        <p:spPr>
          <a:xfrm>
            <a:off x="826920" y="907920"/>
            <a:ext cx="393408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分析人物形象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1166760" y="1994040"/>
            <a:ext cx="729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桑地亚哥是位身体强壮的老人，是位有旺盛的精力和惊人的毅力的老人，是位聪明的老人，是位有着丰富打鱼经验的老人，是位临危不乱的老人，是位勇敢的老人，是位坚强的老人，是位果断的老人，是位善良的老人，是位幽默的老人，是位乐观的老人，是位永不放弃的老人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5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4"/>
          <p:cNvSpPr/>
          <p:nvPr/>
        </p:nvSpPr>
        <p:spPr>
          <a:xfrm>
            <a:off x="539640" y="1413000"/>
            <a:ext cx="7993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海明威笔下的人物大多是百折不弯的硬汉形象，尤以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老人与海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中的桑地亚哥最为典型。请大家在课文中找出一句可以概括这类硬汉的性格特点的话，在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个回合中分别找出一个可以验证这种硬汉性格的细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矩形 1"/>
          <p:cNvSpPr/>
          <p:nvPr/>
        </p:nvSpPr>
        <p:spPr>
          <a:xfrm>
            <a:off x="1071720" y="1071720"/>
            <a:ext cx="600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老渔夫虽然老了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倒霉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失败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但他仍旧坚持努力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而能在失败的风度上赢得胜利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这部小说表现了一种奋斗的人生观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即使面对的是不可征服的大自然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但人仍然可以得到精神上的胜利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也许结果是失败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但在奋斗的过程中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我们可以看到一个人如何成为一个顶天立地的大丈夫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1403280" y="206064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4e3b30"/>
                </a:solidFill>
                <a:latin typeface="Tahoma"/>
                <a:ea typeface="华文楷体"/>
              </a:rPr>
              <a:t>通过这些情节，我们可以看出老人桑地亚哥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楷体"/>
              </a:rPr>
              <a:t>坚强、刚毅、勇敢、无畏</a:t>
            </a:r>
            <a:r>
              <a:rPr b="1" lang="zh-CN" sz="3200" spc="-1" strike="noStrike">
                <a:solidFill>
                  <a:srgbClr val="4e3b30"/>
                </a:solidFill>
                <a:latin typeface="Tahoma"/>
                <a:ea typeface="华文楷体"/>
              </a:rPr>
              <a:t>地面对痛苦和死亡，我们还可以通过老人的内心独白发现老人在困难面前，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楷体"/>
              </a:rPr>
              <a:t>不胆怯、勇于挑战、自信、自强、决不屈服的硬汉子</a:t>
            </a:r>
            <a:r>
              <a:rPr b="1" lang="zh-CN" sz="3200" spc="-1" strike="noStrike">
                <a:solidFill>
                  <a:srgbClr val="4e3b30"/>
                </a:solidFill>
                <a:latin typeface="Tahoma"/>
                <a:ea typeface="华文楷体"/>
              </a:rPr>
              <a:t>形象，在和鲨鱼的搏斗中，</a:t>
            </a:r>
            <a:r>
              <a:rPr b="1" lang="zh-CN" sz="3200" spc="-1" strike="noStrike">
                <a:solidFill>
                  <a:srgbClr val="ff3300"/>
                </a:solidFill>
                <a:latin typeface="Franklin Gothic Book"/>
                <a:ea typeface="华文楷体"/>
              </a:rPr>
              <a:t>表现出了无与伦比的力量和勇气，不失人的尊严，是精神上的胜利者</a:t>
            </a:r>
            <a:r>
              <a:rPr b="1" lang="zh-CN" sz="3200" spc="-1" strike="noStrike">
                <a:solidFill>
                  <a:srgbClr val="4e3b30"/>
                </a:solidFill>
                <a:latin typeface="Tahoma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WordArt 3"/>
          <p:cNvSpPr txBox="1"/>
          <p:nvPr/>
        </p:nvSpPr>
        <p:spPr>
          <a:xfrm>
            <a:off x="826920" y="907920"/>
            <a:ext cx="393408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分析人物形象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diamond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标题 1" descr=""/>
          <p:cNvPicPr/>
          <p:nvPr/>
        </p:nvPicPr>
        <p:blipFill>
          <a:blip r:embed="rId1"/>
          <a:stretch/>
        </p:blipFill>
        <p:spPr>
          <a:xfrm>
            <a:off x="103320" y="444600"/>
            <a:ext cx="8894520" cy="121284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214200" y="114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不是为失败而生的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说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个人可以被毁灭，但不能被打败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428760" y="342900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行楷"/>
                <a:ea typeface="华文行楷"/>
              </a:rPr>
              <a:t>通过自由联想的方式，真实的展现了老人的思想和感受。不仅深刻的揭示了主人公内心的自豪感、坚毅以及寻求帮助的孤独感，而且闪烁着深邃丰富的哲理光彩。也真实的显示了老人的内心世界和人生追求，把一个百折不弯的“硬汉”形象展示在了读者面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圆角矩形标注 4"/>
          <p:cNvSpPr/>
          <p:nvPr/>
        </p:nvSpPr>
        <p:spPr>
          <a:xfrm>
            <a:off x="1000080" y="2500200"/>
            <a:ext cx="1857600" cy="785880"/>
          </a:xfrm>
          <a:prstGeom prst="wedgeRoundRectCallout">
            <a:avLst>
              <a:gd name="adj1" fmla="val -13138"/>
              <a:gd name="adj2" fmla="val -87500"/>
              <a:gd name="adj3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小说的核心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285840" y="49968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讨论探究：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华文行楷"/>
                <a:ea typeface="华文行楷"/>
              </a:rPr>
              <a:t>  </a:t>
            </a:r>
            <a:r>
              <a:rPr b="0" lang="zh-CN" sz="3200" spc="-1" strike="noStrike">
                <a:solidFill>
                  <a:srgbClr val="0070c0"/>
                </a:solidFill>
                <a:latin typeface="华文行楷"/>
                <a:ea typeface="华文行楷"/>
              </a:rPr>
              <a:t>老人乐观和不屈不挠的精神无疑是值得肯定的，但是，面对注定的失败，如此不屈不挠有意义吗？从第一条鲨鱼的出现，老人就意识到保住马林鱼的希望十分渺茫。 后来老人拼得筋疲力尽，几近死亡，大马林鱼还是被吃得只剩下一副骨架。</a:t>
            </a:r>
            <a:r>
              <a:rPr b="0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老人这样做值得吗？他最后是失败？还是成功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zh-CN" sz="4000" spc="-1" strike="noStrike">
                <a:solidFill>
                  <a:srgbClr val="4e3b30"/>
                </a:solidFill>
                <a:latin typeface="Franklin Gothic Book"/>
              </a:rPr>
              <a:t>第一句话：</a:t>
            </a:r>
            <a:r>
              <a:rPr b="1" lang="zh-CN" sz="4000" spc="-1" strike="noStrike">
                <a:solidFill>
                  <a:srgbClr val="ff0000"/>
                </a:solidFill>
                <a:latin typeface="Franklin Gothic Book"/>
              </a:rPr>
              <a:t>过程远比结果重要</a:t>
            </a:r>
            <a:r>
              <a:rPr b="1" lang="zh-CN" sz="4000" spc="-1" strike="noStrike">
                <a:solidFill>
                  <a:srgbClr val="4e3b30"/>
                </a:solidFill>
                <a:latin typeface="Franklin Gothic Book"/>
              </a:rPr>
              <a:t>。</a:t>
            </a:r>
            <a:r>
              <a:rPr b="0" lang="zh-CN" sz="4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611280" y="301212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第二句话：</a:t>
            </a:r>
            <a:r>
              <a:rPr b="1" lang="zh-CN" sz="40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只要有百分之一的希望就要尽百分之百的努力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标题 1" descr=""/>
          <p:cNvPicPr/>
          <p:nvPr/>
        </p:nvPicPr>
        <p:blipFill>
          <a:blip r:embed="rId1"/>
          <a:stretch/>
        </p:blipFill>
        <p:spPr>
          <a:xfrm>
            <a:off x="1414440" y="1006560"/>
            <a:ext cx="8925120" cy="13651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Franklin Gothic Book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Franklin Gothic Book"/>
              </a:rPr>
              <a:t>一个胜利的失败者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Franklin Gothic Book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Franklin Gothic Book"/>
              </a:rPr>
              <a:t>一个失败的英雄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3" name="Picture 4" descr="u=2137267441,3600257464&amp;fm=3&amp;gp=1"/>
          <p:cNvPicPr/>
          <p:nvPr/>
        </p:nvPicPr>
        <p:blipFill>
          <a:blip r:embed="rId2"/>
          <a:stretch/>
        </p:blipFill>
        <p:spPr>
          <a:xfrm>
            <a:off x="0" y="2000160"/>
            <a:ext cx="2592360" cy="485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84" name="右大括号 4"/>
          <p:cNvSpPr/>
          <p:nvPr/>
        </p:nvSpPr>
        <p:spPr>
          <a:xfrm>
            <a:off x="7000920" y="2786040"/>
            <a:ext cx="500040" cy="157176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571760"/>
              <a:gd name="textAreaBottom" fmla="*/ 155880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7"/>
                  <a:pt x="10800" y="573"/>
                </a:cubicBezTo>
                <a:lnTo>
                  <a:pt x="10800" y="10227"/>
                </a:lnTo>
                <a:cubicBezTo>
                  <a:pt x="10800" y="10514"/>
                  <a:pt x="16200" y="10800"/>
                  <a:pt x="21600" y="10800"/>
                </a:cubicBezTo>
                <a:cubicBezTo>
                  <a:pt x="16200" y="10800"/>
                  <a:pt x="10800" y="11087"/>
                  <a:pt x="10800" y="11373"/>
                </a:cubicBezTo>
                <a:lnTo>
                  <a:pt x="10800" y="21027"/>
                </a:lnTo>
                <a:cubicBezTo>
                  <a:pt x="10800" y="21314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5"/>
          <p:cNvSpPr/>
          <p:nvPr/>
        </p:nvSpPr>
        <p:spPr>
          <a:xfrm>
            <a:off x="7512120" y="1000080"/>
            <a:ext cx="85068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Franklin Gothic Book"/>
                <a:ea typeface="华文楷体"/>
              </a:rPr>
              <a:t>无与伦比的勇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4711680" y="762120"/>
            <a:ext cx="4256280" cy="56260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7"/>
          <p:cNvSpPr/>
          <p:nvPr/>
        </p:nvSpPr>
        <p:spPr>
          <a:xfrm>
            <a:off x="5435640" y="6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4" descr="196398"/>
          <p:cNvPicPr/>
          <p:nvPr/>
        </p:nvPicPr>
        <p:blipFill>
          <a:blip r:embed="rId2"/>
          <a:stretch/>
        </p:blipFill>
        <p:spPr>
          <a:xfrm>
            <a:off x="324000" y="404640"/>
            <a:ext cx="2376360" cy="3529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12" name="Text Box 15"/>
          <p:cNvSpPr/>
          <p:nvPr/>
        </p:nvSpPr>
        <p:spPr>
          <a:xfrm>
            <a:off x="2916360" y="372960"/>
            <a:ext cx="5987880" cy="2531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欧内斯特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米勒尔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海明威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Ernest Hemingway 1899—1961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），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Franklin Gothic Book"/>
                <a:ea typeface="华文行楷"/>
              </a:rPr>
              <a:t>美国小说家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他于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1899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年生于芝加哥附近的一个乡村医生家庭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，排行老二。曾参加第一次世界大战，后担任驻欧洲记者，并以记者身份参加了第二次世界大战和西班牙内战。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</a:rPr>
              <a:t>1954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</a:rPr>
              <a:t>年获诺贝尔文学奖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。晚年患多种疾病，精神抑郁，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1961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年自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468360" y="501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Franklin Gothic Book"/>
                <a:ea typeface="黑体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e3b30"/>
                </a:solidFill>
                <a:latin typeface="华文行楷"/>
                <a:ea typeface="华文行楷"/>
              </a:rPr>
              <a:t>台湾作家李湃曾说过：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e3b30"/>
                </a:solidFill>
                <a:latin typeface="华文行楷"/>
                <a:ea typeface="华文行楷"/>
              </a:rPr>
              <a:t>我在想，男人的骨子里缺少一点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什么</a:t>
            </a:r>
            <a:r>
              <a:rPr b="0" lang="zh-CN" sz="4000" spc="-1" strike="noStrike">
                <a:solidFill>
                  <a:srgbClr val="4e3b30"/>
                </a:solidFill>
                <a:latin typeface="华文行楷"/>
                <a:ea typeface="华文行楷"/>
              </a:rPr>
              <a:t>的时候，就自然会想到海明威。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TextBox 2"/>
          <p:cNvSpPr/>
          <p:nvPr/>
        </p:nvSpPr>
        <p:spPr>
          <a:xfrm>
            <a:off x="928800" y="4143240"/>
            <a:ext cx="55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什么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”</a:t>
            </a:r>
            <a:r>
              <a:rPr b="0" lang="zh-CN" sz="4000" spc="-1" strike="noStrike">
                <a:solidFill>
                  <a:srgbClr val="4e3b30"/>
                </a:solidFill>
                <a:latin typeface="华文行楷"/>
                <a:ea typeface="华文行楷"/>
              </a:rPr>
              <a:t>到底指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3"/>
          <p:cNvSpPr/>
          <p:nvPr/>
        </p:nvSpPr>
        <p:spPr>
          <a:xfrm>
            <a:off x="1500120" y="5000760"/>
            <a:ext cx="50720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勇气、、、、、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195120" y="969840"/>
            <a:ext cx="8485200" cy="19814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753840" y="3000240"/>
            <a:ext cx="838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Franklin Gothic Book"/>
              </a:rPr>
              <a:t>勇气</a:t>
            </a:r>
            <a:r>
              <a:rPr b="1" lang="zh-CN" sz="4000" spc="-1" strike="noStrike">
                <a:solidFill>
                  <a:srgbClr val="4e3b30"/>
                </a:solidFill>
                <a:latin typeface="Franklin Gothic Book"/>
              </a:rPr>
              <a:t>是海明威的中心主题。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2066760" y="-291960"/>
            <a:ext cx="8240760" cy="148104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3"/>
          <p:cNvSpPr/>
          <p:nvPr/>
        </p:nvSpPr>
        <p:spPr>
          <a:xfrm>
            <a:off x="5076720" y="2896920"/>
            <a:ext cx="378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明知是个死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也要宝剑出鞘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这叫亮剑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没这个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楷体"/>
              </a:rPr>
              <a:t>勇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你就别当剑客。倒在对手剑下算不上丢脸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那叫虽败犹荣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要是不敢亮剑，你以后就别在江湖上混啦。咱独立团不当孬种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鬼子来一个小队，咱亮剑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来一个大队也照样亮剑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8" descr="0bcb62d39ae07af5a8ec9a6e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1323720" y="2062080"/>
            <a:ext cx="7140600" cy="29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99"/>
                </a:solidFill>
                <a:latin typeface="Franklin Gothic Book"/>
                <a:ea typeface="华文行楷"/>
              </a:rPr>
              <a:t>从他身上你获得什么启发或者感悟？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Franklin Gothic Book"/>
                <a:ea typeface="华文行楷"/>
              </a:rPr>
              <a:t>  </a:t>
            </a:r>
            <a:r>
              <a:rPr b="1" lang="zh-CN" sz="3400" spc="-1" strike="noStrike">
                <a:solidFill>
                  <a:srgbClr val="ff3300"/>
                </a:solidFill>
                <a:latin typeface="Franklin Gothic Book"/>
                <a:ea typeface="华文行楷"/>
              </a:rPr>
              <a:t>如果有一天厄运来临，我、、、、、、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华文行楷"/>
                <a:ea typeface="华文行楷"/>
              </a:rPr>
              <a:t>我的感悟和启示：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0" y="164304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1" lang="en-US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*</a:t>
            </a:r>
            <a:r>
              <a:rPr b="1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一个人的成功并不在于他获得了什么，重要的是在这个过程中体现出来的勇敢、坚强、执着的精神。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*</a:t>
            </a:r>
            <a:r>
              <a:rPr b="1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试着把困难和挫折当做一顿难吃的早餐，咽一咽总会吞下去的。记住，难吃的背后意味着营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*</a:t>
            </a:r>
            <a:r>
              <a:rPr b="1" lang="zh-CN" sz="3200" spc="-1" strike="noStrike">
                <a:solidFill>
                  <a:srgbClr val="ff0066"/>
                </a:solidFill>
                <a:latin typeface="华文行楷"/>
                <a:ea typeface="华文行楷"/>
              </a:rPr>
              <a:t>努力不一定会成功，但不努力一定不会成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611280" y="2060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b0f0"/>
                </a:solidFill>
                <a:latin typeface="华文行楷"/>
                <a:ea typeface="华文行楷"/>
              </a:rPr>
              <a:t>当我们在自己的人生路上遇到前所未有的苦难的时候，让我们回想一下这个孤独的老人，想想那在大海上孤独地与强敌战斗的“硬汉”。这样，我们是不是就会发现其实有很多困难并没有想象中的那么不可战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285840" y="785880"/>
            <a:ext cx="1119240" cy="76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寄语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http://www.cic-ghc.com/upload/2009-08-18/12505704791146.jpg"/>
          <p:cNvPicPr/>
          <p:nvPr/>
        </p:nvPicPr>
        <p:blipFill>
          <a:blip r:embed="rId1"/>
          <a:stretch/>
        </p:blipFill>
        <p:spPr>
          <a:xfrm>
            <a:off x="-66600" y="-357120"/>
            <a:ext cx="92106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标题 1" descr=""/>
          <p:cNvPicPr/>
          <p:nvPr/>
        </p:nvPicPr>
        <p:blipFill>
          <a:blip r:embed="rId1"/>
          <a:stretch/>
        </p:blipFill>
        <p:spPr>
          <a:xfrm>
            <a:off x="103320" y="444600"/>
            <a:ext cx="8894520" cy="12128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214200" y="114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      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1.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每一天都是一个新的日子。走运当然是好。不过我情愿做到分毫不差。这样，运气来的时候，你就有所准备了。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(Every day is a new day. It is better to be lucky. But I would rather be exact. Then when luck comes you are ready.) 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　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       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2.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不过话得说回来，没有一桩事是容易的。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(But, then, nothing is easy.)</a:t>
            </a:r>
            <a:br>
              <a:rPr sz="2400"/>
            </a:b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　　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3.“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不过人不是为失败而生的，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”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他说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,“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一个人可以被毁灭，但不能被打败。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”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。（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But man is not made for defeat, a man can be destroyed but not defeated.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）</a:t>
            </a:r>
            <a:br>
              <a:rPr sz="2400"/>
            </a:b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　　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4.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现在不是去想缺少什么的时候，该想一想凭现有的东西你能做什么。。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(Now is no time to think of what you do not have. Think of what you can do with what there is.)</a:t>
            </a:r>
            <a:br>
              <a:rPr sz="2400"/>
            </a:b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       5.</a:t>
            </a:r>
            <a:r>
              <a:rPr b="1" lang="zh-CN" sz="2400" spc="-1" strike="noStrike">
                <a:solidFill>
                  <a:srgbClr val="7030a0"/>
                </a:solidFill>
                <a:latin typeface="Franklin Gothic Book"/>
              </a:rPr>
              <a:t>人不抱希望是很傻的。</a:t>
            </a:r>
            <a:r>
              <a:rPr b="1" lang="en-US" sz="2400" spc="-1" strike="noStrike">
                <a:solidFill>
                  <a:srgbClr val="7030a0"/>
                </a:solidFill>
                <a:latin typeface="Franklin Gothic Book"/>
              </a:rPr>
              <a:t>( It is silly not to hope, he thought.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愿同学们铭记这些闪烁着人类智慧和勇气光芒的精彩语句，并把它们化作直面人生、战胜困难的精神力量！ </a:t>
            </a:r>
            <a:br>
              <a:rPr sz="3600"/>
            </a:b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　　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3" descr="老人与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WordArt 14"/>
          <p:cNvSpPr txBox="1"/>
          <p:nvPr/>
        </p:nvSpPr>
        <p:spPr>
          <a:xfrm>
            <a:off x="2916360" y="198900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out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Hemimgway in Spanish Civil War"/>
          <p:cNvPicPr/>
          <p:nvPr/>
        </p:nvPicPr>
        <p:blipFill>
          <a:blip r:embed="rId1"/>
          <a:stretch/>
        </p:blipFill>
        <p:spPr>
          <a:xfrm>
            <a:off x="4572000" y="476280"/>
            <a:ext cx="3268800" cy="2446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Hemingway with marlin catch"/>
          <p:cNvPicPr/>
          <p:nvPr/>
        </p:nvPicPr>
        <p:blipFill>
          <a:blip r:embed="rId2"/>
          <a:stretch/>
        </p:blipFill>
        <p:spPr>
          <a:xfrm>
            <a:off x="4572000" y="3716280"/>
            <a:ext cx="3257640" cy="25606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海明威高中畢業照"/>
          <p:cNvPicPr/>
          <p:nvPr/>
        </p:nvPicPr>
        <p:blipFill>
          <a:blip r:embed="rId3"/>
          <a:stretch/>
        </p:blipFill>
        <p:spPr>
          <a:xfrm>
            <a:off x="755640" y="765000"/>
            <a:ext cx="2849400" cy="38102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5"/>
          <p:cNvSpPr/>
          <p:nvPr/>
        </p:nvSpPr>
        <p:spPr>
          <a:xfrm>
            <a:off x="1116000" y="479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青年时代的海明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5219640" y="3068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参战的海明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5669640" y="630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捕获马林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3"/>
          <p:cNvSpPr/>
          <p:nvPr/>
        </p:nvSpPr>
        <p:spPr>
          <a:xfrm>
            <a:off x="214200" y="2858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补充：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老人与海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象征意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285840" y="928800"/>
            <a:ext cx="8001000" cy="3080160"/>
          </a:xfrm>
          <a:prstGeom prst="rect">
            <a:avLst/>
          </a:prstGeom>
          <a:noFill/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这个的形象意义：这部小说是根据一位古巴渔夫的真实经历创作的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以摄象机般的写实手法记录了圣地亚哥老人捕鱼的全过程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塑造了一个在重压下仍然保持幽雅风度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在精神上永远不可战胜的老人形象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用马林鱼象征人生的理想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用鲨鱼象征无法摆脱的悲剧命运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用大海象征变化无常的人类社会，而桑提亚哥则是人类中的勇于与强大势力搏斗的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硬汉子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代表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他那捕鱼的不幸遭遇象征人类总是与厄运不断抗争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304920" y="152280"/>
            <a:ext cx="196344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Franklin Gothic Book"/>
                <a:ea typeface="黑体"/>
              </a:rPr>
              <a:t>作品地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304920" y="1066680"/>
            <a:ext cx="83818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1952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年海明威的中篇小说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老人与海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出版，仅仅４８小时就销量惊人，当年获得了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Franklin Gothic Book"/>
                <a:ea typeface="华文行楷"/>
              </a:rPr>
              <a:t>普利策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文学奖。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1954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年，海明威因为“</a:t>
            </a:r>
            <a:r>
              <a:rPr b="1" i="1" lang="zh-CN" sz="3200" spc="-1" strike="noStrike" u="sng">
                <a:solidFill>
                  <a:srgbClr val="0033cc"/>
                </a:solidFill>
                <a:uFillTx/>
                <a:latin typeface="Franklin Gothic Book"/>
                <a:ea typeface="华文行楷"/>
              </a:rPr>
              <a:t>精通于叙事艺术，突出地表现在他的近著</a:t>
            </a:r>
            <a:r>
              <a:rPr b="1" i="1" lang="en-US" sz="3200" spc="-1" strike="noStrike" u="sng">
                <a:solidFill>
                  <a:srgbClr val="0033cc"/>
                </a:solidFill>
                <a:uFillTx/>
                <a:latin typeface="Franklin Gothic Book"/>
                <a:ea typeface="华文行楷"/>
              </a:rPr>
              <a:t>《</a:t>
            </a:r>
            <a:r>
              <a:rPr b="1" i="1" lang="zh-CN" sz="3200" spc="-1" strike="noStrike" u="sng">
                <a:solidFill>
                  <a:srgbClr val="0033cc"/>
                </a:solidFill>
                <a:uFillTx/>
                <a:latin typeface="Franklin Gothic Book"/>
                <a:ea typeface="华文行楷"/>
              </a:rPr>
              <a:t>老人与海</a:t>
            </a:r>
            <a:r>
              <a:rPr b="1" i="1" lang="en-US" sz="3200" spc="-1" strike="noStrike" u="sng">
                <a:solidFill>
                  <a:srgbClr val="0033cc"/>
                </a:solidFill>
                <a:uFillTx/>
                <a:latin typeface="Franklin Gothic Book"/>
                <a:ea typeface="华文行楷"/>
              </a:rPr>
              <a:t>》</a:t>
            </a:r>
            <a:r>
              <a:rPr b="1" i="1" lang="zh-CN" sz="3200" spc="-1" strike="noStrike" u="sng">
                <a:solidFill>
                  <a:srgbClr val="0033cc"/>
                </a:solidFill>
                <a:uFillTx/>
                <a:latin typeface="Franklin Gothic Book"/>
                <a:ea typeface="华文行楷"/>
              </a:rPr>
              <a:t>之中；同时也因为他在当代风格中所发挥的影响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”而获得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诺贝尔文学奖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老人与海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是海明威全部创作中的瑰宝，是美国历史上里程碑式的３２本书之一，也是世界文学宝库中的珍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1371600" y="5334120"/>
            <a:ext cx="7086600" cy="520560"/>
          </a:xfrm>
          <a:prstGeom prst="rect">
            <a:avLst/>
          </a:prstGeom>
          <a:noFill/>
          <a:ln w="7632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每一句话和每一段落，都要尽量写得简洁。”这是海明威写作的信条之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228600" y="228600"/>
            <a:ext cx="3657600" cy="947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Franklin Gothic Book"/>
                <a:ea typeface="黑体"/>
              </a:rPr>
              <a:t>中外学人对海明威的评价及纪念文章选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380880" y="1447920"/>
            <a:ext cx="8077320" cy="977400"/>
          </a:xfrm>
          <a:prstGeom prst="rect">
            <a:avLst/>
          </a:prstGeom>
          <a:noFill/>
          <a:ln w="7632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老人与海</a:t>
            </a:r>
            <a:r>
              <a:rPr b="1" lang="en-US" sz="3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是一首田园诗，大海就是大海，不是拜伦式的，不是麦尔维尔式的，好比荷马的手笔；行文又沉着又动人，犹如荷马的诗。真正的艺术家既不象征化，也不寓言化</a:t>
            </a:r>
            <a:r>
              <a:rPr b="1" lang="en-US" sz="3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--</a:t>
            </a:r>
            <a:r>
              <a:rPr b="1" lang="zh-CN" sz="3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海明威是一位真正的艺术家</a:t>
            </a:r>
            <a:r>
              <a:rPr b="1" lang="en-US" sz="3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--</a:t>
            </a:r>
            <a:r>
              <a:rPr b="1" lang="zh-CN" sz="30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但是任何一部真正的艺术品都能散发出象征和寓言的意味，这一部短小但并不渺小的杰作也是如此。 </a:t>
            </a:r>
            <a:br>
              <a:rPr sz="30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美国艺术史家 　　贝瑞孙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1447920" y="914400"/>
            <a:ext cx="70866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麦尔维尔的作品大多以海洋和海岛生活为内容，以描写奇异的海上历险和海岛风土人情来反映社会现实、表明思想态度。他的小说往往流露出对现代西方文明的憎恨、对下层人民的同情和对正义的人道主义的追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250920" y="1268280"/>
            <a:ext cx="8534160" cy="1373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可以失败，但不可以被击败，外在的肉体可以接受折磨，但是内在的意志却是神圣不可侵犯的，这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老人与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再强调的论点。真正的大师都是用最简单的语言来表达最深刻的道理，真正的好作品都是用生命的历练做题材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老人与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刻画出来的正是海明威的一辈子最好的画像，正如海明威所说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一直读过２００多遍，每读一次，我就多一份收获，好像我最后得到了我这一生辛苦工作所欲得到的东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台湾学者 陈人孝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838080" y="1447920"/>
            <a:ext cx="7543800" cy="1556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海明威的作品把叙事的准确性与简洁性统一起来，但是主题却异常深刻地印在读者的脑海里。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老人与海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是中国读者中阅读最多的诺贝尔获奖作品，是海明威的经典之作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青年作家 李  湃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14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2_28-3-326_2002011593310"/>
          <p:cNvPicPr/>
          <p:nvPr/>
        </p:nvPicPr>
        <p:blipFill>
          <a:blip r:embed="rId1"/>
          <a:stretch/>
        </p:blipFill>
        <p:spPr>
          <a:xfrm>
            <a:off x="250920" y="549360"/>
            <a:ext cx="3097080" cy="511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17" name="Text Box 4"/>
          <p:cNvSpPr/>
          <p:nvPr/>
        </p:nvSpPr>
        <p:spPr>
          <a:xfrm>
            <a:off x="4284720" y="404640"/>
            <a:ext cx="33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00de"/>
                </a:solidFill>
                <a:latin typeface="Times New Roman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3100de"/>
                </a:solidFill>
                <a:latin typeface="Times New Roman"/>
                <a:ea typeface="华文楷体"/>
              </a:rPr>
              <a:t>老人与海</a:t>
            </a:r>
            <a:r>
              <a:rPr b="1" lang="en-US" sz="2800" spc="-1" strike="noStrike">
                <a:solidFill>
                  <a:srgbClr val="3100de"/>
                </a:solidFill>
                <a:latin typeface="Times New Roman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3100de"/>
                </a:solidFill>
                <a:latin typeface="Times New Roman"/>
                <a:ea typeface="华文楷体"/>
              </a:rPr>
              <a:t>原型人物佛恩特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3635280" y="2133720"/>
            <a:ext cx="489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海明威经典小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老人与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he old man and the se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一书中的主人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Santiag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 据说灵感即是得自好友佛恩特斯。佛恩特斯被认为是书中主角“老人”，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0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岁高龄辞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Ernest Hemingway receiving the Nobel Prize"/>
          <p:cNvPicPr/>
          <p:nvPr/>
        </p:nvPicPr>
        <p:blipFill>
          <a:blip r:embed="rId1"/>
          <a:stretch/>
        </p:blipFill>
        <p:spPr>
          <a:xfrm>
            <a:off x="5508720" y="2708280"/>
            <a:ext cx="2828880" cy="31240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Hemingway at writing desk"/>
          <p:cNvPicPr/>
          <p:nvPr/>
        </p:nvPicPr>
        <p:blipFill>
          <a:blip r:embed="rId2"/>
          <a:stretch/>
        </p:blipFill>
        <p:spPr>
          <a:xfrm>
            <a:off x="684360" y="404640"/>
            <a:ext cx="3809880" cy="43434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4"/>
          <p:cNvSpPr/>
          <p:nvPr/>
        </p:nvSpPr>
        <p:spPr>
          <a:xfrm>
            <a:off x="1476360" y="494172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写作时的海明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6084720" y="1916280"/>
            <a:ext cx="21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获诺贝尔奖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http://news.xinhuanet.com/world/2005-07/27/xinsrc_432070227080181226901.jpg"/>
          <p:cNvPicPr/>
          <p:nvPr/>
        </p:nvPicPr>
        <p:blipFill>
          <a:blip r:embed="rId1"/>
          <a:stretch/>
        </p:blipFill>
        <p:spPr>
          <a:xfrm>
            <a:off x="5929200" y="2643120"/>
            <a:ext cx="3214800" cy="4214880"/>
          </a:xfrm>
          <a:prstGeom prst="rect">
            <a:avLst/>
          </a:prstGeom>
          <a:ln w="0">
            <a:noFill/>
          </a:ln>
        </p:spPr>
      </p:pic>
      <p:sp>
        <p:nvSpPr>
          <p:cNvPr id="425" name="TextBox 5"/>
          <p:cNvSpPr/>
          <p:nvPr/>
        </p:nvSpPr>
        <p:spPr>
          <a:xfrm>
            <a:off x="6658560" y="0"/>
            <a:ext cx="1155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Franklin Gothic Book"/>
                <a:ea typeface="华文楷体"/>
              </a:rPr>
              <a:t>海明威主要作品</a:t>
            </a:r>
            <a:r>
              <a:rPr b="1" lang="en-US" sz="3200" spc="-1" strike="noStrike">
                <a:solidFill>
                  <a:srgbClr val="ff3300"/>
                </a:solidFill>
                <a:latin typeface="Franklin Gothic Book"/>
                <a:ea typeface="华文楷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285840" y="664920"/>
            <a:ext cx="6429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太阳照常升起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The Sun Also Ri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永别了，武器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A Farewell to A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五纵队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西班牙大地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The fifth columns, Spain the ear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曙光示真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True at First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固定的圣节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A Moveable Fe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过河入林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Across the River and into the Tre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丧钟为谁而鸣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For Whom the Bell To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危险的夏天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Dangerous sum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老人与海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The Old Man and the S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伊甸园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The Garden of E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死在午后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Die in the afternoon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岛在湾流中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Island in the Gulf 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钱人和没钱人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A Rich man and no mon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乞力马扎罗的雪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The Snows of Kilimanja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条好汉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A 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Man of the World)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4e3b30"/>
                </a:solidFill>
                <a:latin typeface="华文行楷"/>
                <a:ea typeface="华文行楷"/>
              </a:rPr>
              <a:t>老人</a:t>
            </a:r>
            <a:r>
              <a:rPr b="0" lang="zh-CN" sz="4000" spc="-1" strike="noStrike">
                <a:solidFill>
                  <a:srgbClr val="4e3b30"/>
                </a:solidFill>
                <a:latin typeface="华文行楷"/>
                <a:ea typeface="华文行楷"/>
              </a:rPr>
              <a:t>与</a:t>
            </a:r>
            <a:r>
              <a:rPr b="0" lang="zh-TW" sz="4000" spc="-1" strike="noStrike">
                <a:solidFill>
                  <a:srgbClr val="4e3b30"/>
                </a:solidFill>
                <a:latin typeface="华文行楷"/>
                <a:ea typeface="华文行楷"/>
              </a:rPr>
              <a:t>海</a:t>
            </a:r>
            <a:br>
              <a:rPr sz="4000"/>
            </a:br>
            <a:r>
              <a:rPr b="0" lang="en-US" sz="4000" spc="-1" strike="noStrike">
                <a:solidFill>
                  <a:srgbClr val="4e3b30"/>
                </a:solidFill>
                <a:latin typeface="华文行楷"/>
                <a:ea typeface="华文行楷"/>
              </a:rPr>
              <a:t>The Old Man and the S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Franklin Gothic Book"/>
                <a:ea typeface="微軟正黑體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古巴老渔民桑地亚哥已经八十四天没有捕到鱼了。这一天碰上了好运气，他捕到了一条特大的马林鱼，他把六盘绳子拧在一起拖鱼都险些把绳子绷断。正当老人高兴地返航时却遇到了鲨鱼的来袭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oldman2s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WordArt 6" descr=""/>
          <p:cNvPicPr/>
          <p:nvPr/>
        </p:nvPicPr>
        <p:blipFill>
          <a:blip r:embed="rId2"/>
          <a:stretch/>
        </p:blipFill>
        <p:spPr>
          <a:xfrm>
            <a:off x="476280" y="146160"/>
            <a:ext cx="1779480" cy="63039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3" descr="13"/>
          <p:cNvPicPr/>
          <p:nvPr/>
        </p:nvPicPr>
        <p:blipFill>
          <a:blip r:embed="rId3"/>
          <a:stretch/>
        </p:blipFill>
        <p:spPr>
          <a:xfrm>
            <a:off x="6948360" y="765000"/>
            <a:ext cx="1219320" cy="525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4"/>
          <p:cNvSpPr/>
          <p:nvPr/>
        </p:nvSpPr>
        <p:spPr>
          <a:xfrm>
            <a:off x="3799800" y="189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请大家快速阅读课文，填写下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539640" y="907920"/>
          <a:ext cx="7920000" cy="5616720"/>
        </p:xfrm>
        <a:graphic>
          <a:graphicData uri="http://schemas.openxmlformats.org/drawingml/2006/table">
            <a:tbl>
              <a:tblPr/>
              <a:tblGrid>
                <a:gridCol w="1236600"/>
                <a:gridCol w="1319400"/>
                <a:gridCol w="1341360"/>
                <a:gridCol w="1341360"/>
                <a:gridCol w="1339920"/>
                <a:gridCol w="1341360"/>
              </a:tblGrid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d1f1f"/>
                          </a:solidFill>
                          <a:latin typeface="Comic Sans MS"/>
                        </a:rPr>
                        <a:t>第一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d1f1f"/>
                          </a:solidFill>
                          <a:latin typeface="Comic Sans MS"/>
                        </a:rPr>
                        <a:t>第二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d1f1f"/>
                          </a:solidFill>
                          <a:latin typeface="Comic Sans MS"/>
                        </a:rPr>
                        <a:t>第三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d1f1f"/>
                          </a:solidFill>
                          <a:latin typeface="Comic Sans MS"/>
                        </a:rPr>
                        <a:t>第四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d1f1f"/>
                          </a:solidFill>
                          <a:latin typeface="Comic Sans MS"/>
                        </a:rPr>
                        <a:t>第五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4e3b30"/>
                          </a:solidFill>
                          <a:latin typeface="Comic Sans MS"/>
                        </a:rPr>
                        <a:t>攻 击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4e3b30"/>
                          </a:solidFill>
                          <a:latin typeface="Comic Sans MS"/>
                        </a:rPr>
                        <a:t>数 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作 战工 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结 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Text Box 69"/>
          <p:cNvSpPr/>
          <p:nvPr/>
        </p:nvSpPr>
        <p:spPr>
          <a:xfrm>
            <a:off x="5416560" y="6732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70"/>
          <p:cNvSpPr/>
          <p:nvPr/>
        </p:nvSpPr>
        <p:spPr>
          <a:xfrm>
            <a:off x="1908000" y="2205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鲭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1"/>
          <p:cNvSpPr/>
          <p:nvPr/>
        </p:nvSpPr>
        <p:spPr>
          <a:xfrm>
            <a:off x="3276720" y="220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星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2"/>
          <p:cNvSpPr/>
          <p:nvPr/>
        </p:nvSpPr>
        <p:spPr>
          <a:xfrm>
            <a:off x="1908000" y="3284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一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3"/>
          <p:cNvSpPr/>
          <p:nvPr/>
        </p:nvSpPr>
        <p:spPr>
          <a:xfrm>
            <a:off x="1908000" y="43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鱼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4"/>
          <p:cNvSpPr/>
          <p:nvPr/>
        </p:nvSpPr>
        <p:spPr>
          <a:xfrm>
            <a:off x="1835280" y="515772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杀死鲭鲨，大鱼被吃掉四十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6"/>
          <p:cNvSpPr/>
          <p:nvPr/>
        </p:nvSpPr>
        <p:spPr>
          <a:xfrm>
            <a:off x="3276720" y="3284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两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77"/>
          <p:cNvSpPr/>
          <p:nvPr/>
        </p:nvSpPr>
        <p:spPr>
          <a:xfrm>
            <a:off x="3203640" y="422100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绑着刀子的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9"/>
          <p:cNvSpPr/>
          <p:nvPr/>
        </p:nvSpPr>
        <p:spPr>
          <a:xfrm>
            <a:off x="3132000" y="515772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杀死两条星鲨，大鱼被吃掉四分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0"/>
          <p:cNvSpPr/>
          <p:nvPr/>
        </p:nvSpPr>
        <p:spPr>
          <a:xfrm>
            <a:off x="4427640" y="2205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犁头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81"/>
          <p:cNvSpPr/>
          <p:nvPr/>
        </p:nvSpPr>
        <p:spPr>
          <a:xfrm>
            <a:off x="4572000" y="328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一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4"/>
          <p:cNvSpPr/>
          <p:nvPr/>
        </p:nvSpPr>
        <p:spPr>
          <a:xfrm>
            <a:off x="4572000" y="4221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绑着刀子的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5"/>
          <p:cNvSpPr/>
          <p:nvPr/>
        </p:nvSpPr>
        <p:spPr>
          <a:xfrm>
            <a:off x="4427640" y="515772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杀死犁头鲨，刀子被折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6"/>
          <p:cNvSpPr/>
          <p:nvPr/>
        </p:nvSpPr>
        <p:spPr>
          <a:xfrm>
            <a:off x="5940360" y="220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星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7"/>
          <p:cNvSpPr/>
          <p:nvPr/>
        </p:nvSpPr>
        <p:spPr>
          <a:xfrm>
            <a:off x="5940360" y="32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两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8"/>
          <p:cNvSpPr/>
          <p:nvPr/>
        </p:nvSpPr>
        <p:spPr>
          <a:xfrm>
            <a:off x="594036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短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9"/>
          <p:cNvSpPr/>
          <p:nvPr/>
        </p:nvSpPr>
        <p:spPr>
          <a:xfrm>
            <a:off x="5724360" y="5157720"/>
            <a:ext cx="15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两条星鲨受重伤，大鱼的半个身子都被咬烂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90"/>
          <p:cNvSpPr/>
          <p:nvPr/>
        </p:nvSpPr>
        <p:spPr>
          <a:xfrm>
            <a:off x="7308720" y="2205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鲨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91"/>
          <p:cNvSpPr/>
          <p:nvPr/>
        </p:nvSpPr>
        <p:spPr>
          <a:xfrm>
            <a:off x="7308720" y="3068640"/>
            <a:ext cx="10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成群结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2"/>
          <p:cNvSpPr/>
          <p:nvPr/>
        </p:nvSpPr>
        <p:spPr>
          <a:xfrm>
            <a:off x="7308720" y="414972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短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舵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93"/>
          <p:cNvSpPr/>
          <p:nvPr/>
        </p:nvSpPr>
        <p:spPr>
          <a:xfrm>
            <a:off x="7164360" y="515772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Franklin Gothic Book"/>
                <a:ea typeface="华文楷体"/>
              </a:rPr>
              <a:t>老人被打败了，大鱼只剩下残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标题 1" descr=""/>
          <p:cNvPicPr/>
          <p:nvPr/>
        </p:nvPicPr>
        <p:blipFill>
          <a:blip r:embed="rId1"/>
          <a:stretch/>
        </p:blipFill>
        <p:spPr>
          <a:xfrm>
            <a:off x="103320" y="444600"/>
            <a:ext cx="8894520" cy="12128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http://image.wangchao.net.cn/baike/1262053917587.jpg"/>
          <p:cNvPicPr/>
          <p:nvPr/>
        </p:nvPicPr>
        <p:blipFill>
          <a:blip r:embed="rId2"/>
          <a:stretch/>
        </p:blipFill>
        <p:spPr>
          <a:xfrm>
            <a:off x="1928880" y="1143000"/>
            <a:ext cx="5181480" cy="5214960"/>
          </a:xfrm>
          <a:prstGeom prst="rect">
            <a:avLst/>
          </a:prstGeom>
          <a:ln w="0">
            <a:noFill/>
          </a:ln>
        </p:spPr>
      </p:pic>
      <p:sp>
        <p:nvSpPr>
          <p:cNvPr id="458" name="TextBox 9"/>
          <p:cNvSpPr/>
          <p:nvPr/>
        </p:nvSpPr>
        <p:spPr>
          <a:xfrm>
            <a:off x="618120" y="500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星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图片 10" descr="00.jpg"/>
          <p:cNvPicPr/>
          <p:nvPr/>
        </p:nvPicPr>
        <p:blipFill>
          <a:blip r:embed="rId3"/>
          <a:stretch/>
        </p:blipFill>
        <p:spPr>
          <a:xfrm>
            <a:off x="1928880" y="1143000"/>
            <a:ext cx="5429160" cy="5143680"/>
          </a:xfrm>
          <a:prstGeom prst="rect">
            <a:avLst/>
          </a:prstGeom>
          <a:ln w="0">
            <a:noFill/>
          </a:ln>
        </p:spPr>
      </p:pic>
      <p:sp>
        <p:nvSpPr>
          <p:cNvPr id="460" name="TextBox 11"/>
          <p:cNvSpPr/>
          <p:nvPr/>
        </p:nvSpPr>
        <p:spPr>
          <a:xfrm>
            <a:off x="609120" y="5000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犁头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图片 13" descr="000.jpg"/>
          <p:cNvPicPr/>
          <p:nvPr/>
        </p:nvPicPr>
        <p:blipFill>
          <a:blip r:embed="rId4"/>
          <a:stretch/>
        </p:blipFill>
        <p:spPr>
          <a:xfrm>
            <a:off x="1785960" y="928800"/>
            <a:ext cx="6000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20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500"/>
                            </p:stCondLst>
                            <p:childTnLst>
                              <p:par>
                                <p:cTn id="31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10-23T01:44:26Z</dcterms:modified>
  <cp:revision>78</cp:revision>
  <dc:subject/>
  <dc:title>幻灯片 1</dc:title>
</cp:coreProperties>
</file>