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7304-2BDF-4F67-8571-B879CDC0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A59-83B2-4953-9361-93E76819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997-19EE-445E-ADC7-849E3826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D13-0640-4046-BAD5-FDC7126A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03B1-E408-49A8-9BBC-2C0B484F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28A9-6CC9-4CE9-88E3-10B6F35D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01D-C976-40F2-BB97-F682B516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A55-0F97-4D10-9822-22F77A0A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B8E-E1EC-4144-899B-5E6C5B7C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B07-D432-419A-92BF-B2646495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995-BDC0-46AE-9542-1FC5FAB3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F61-2D1A-4F6F-825E-D80923FA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55F0-D7CF-4F97-85A5-1502F2836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050920" y="2349360"/>
            <a:ext cx="4105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雷 雨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2771640" y="7700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忽然一阵大风，吹得树枝乱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862280" y="1635120"/>
            <a:ext cx="72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只蜘蛛从网上垂下来，逃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116000" y="2492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闪电越来越亮，雷声越来越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3059280" y="115920"/>
            <a:ext cx="61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满天的乌云，黑沉沉地压下来。树上的叶子一动不动，蝉一声也不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700360" y="259380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忽然一阵大风，吹得树枝乱摆。一只蜘蛛从网上垂下来，逃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529080" y="450540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闪电越来越亮，雷声越来越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24000" y="669960"/>
            <a:ext cx="88200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乌云，（   　）地压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上的叶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4000" y="2517840"/>
            <a:ext cx="88200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一阵大风，吹得树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一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蜘蛛从网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来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42920" y="4365720"/>
            <a:ext cx="77058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闪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雷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24000" y="669960"/>
            <a:ext cx="88200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乌云，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黑沉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地压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上的叶子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动不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声也不叫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24000" y="2517840"/>
            <a:ext cx="88200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忽然一阵大风，吹得树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乱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一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蜘蛛从网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来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逃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042920" y="4365720"/>
            <a:ext cx="77058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闪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来越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雷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越来越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2700360" y="1557360"/>
            <a:ext cx="3384360" cy="3384360"/>
            <a:chOff x="2700360" y="1557360"/>
            <a:chExt cx="3384360" cy="3384360"/>
          </a:xfrm>
        </p:grpSpPr>
        <p:sp>
          <p:nvSpPr>
            <p:cNvPr id="104" name="Rectangle 6"/>
            <p:cNvSpPr/>
            <p:nvPr/>
          </p:nvSpPr>
          <p:spPr>
            <a:xfrm>
              <a:off x="2700360" y="1557360"/>
              <a:ext cx="3384360" cy="33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7"/>
            <p:cNvSpPr/>
            <p:nvPr/>
          </p:nvSpPr>
          <p:spPr>
            <a:xfrm>
              <a:off x="2700360" y="328428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"/>
            <p:cNvSpPr/>
            <p:nvPr/>
          </p:nvSpPr>
          <p:spPr>
            <a:xfrm>
              <a:off x="4427640" y="1557360"/>
              <a:ext cx="0" cy="338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6"/>
          <p:cNvSpPr/>
          <p:nvPr/>
        </p:nvSpPr>
        <p:spPr>
          <a:xfrm>
            <a:off x="3502080" y="134136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垂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84360" y="700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hui"/>
          <p:cNvPicPr/>
          <p:nvPr/>
        </p:nvPicPr>
        <p:blipFill>
          <a:blip r:embed="rId1"/>
          <a:stretch/>
        </p:blipFill>
        <p:spPr>
          <a:xfrm>
            <a:off x="1763640" y="477720"/>
            <a:ext cx="5451480" cy="626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1"/>
          <p:cNvPicPr/>
          <p:nvPr/>
        </p:nvPicPr>
        <p:blipFill>
          <a:blip r:embed="rId2"/>
          <a:stretch/>
        </p:blipFill>
        <p:spPr>
          <a:xfrm>
            <a:off x="1766880" y="519120"/>
            <a:ext cx="5460840" cy="5962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2"/>
          <p:cNvPicPr/>
          <p:nvPr/>
        </p:nvPicPr>
        <p:blipFill>
          <a:blip r:embed="rId3"/>
          <a:stretch/>
        </p:blipFill>
        <p:spPr>
          <a:xfrm>
            <a:off x="1749600" y="431640"/>
            <a:ext cx="5543280" cy="642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3"/>
          <p:cNvPicPr/>
          <p:nvPr/>
        </p:nvPicPr>
        <p:blipFill>
          <a:blip r:embed="rId4"/>
          <a:stretch/>
        </p:blipFill>
        <p:spPr>
          <a:xfrm>
            <a:off x="1763640" y="506520"/>
            <a:ext cx="5502240" cy="619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4"/>
          <p:cNvPicPr/>
          <p:nvPr/>
        </p:nvPicPr>
        <p:blipFill>
          <a:blip r:embed="rId5"/>
          <a:stretch/>
        </p:blipFill>
        <p:spPr>
          <a:xfrm>
            <a:off x="1781280" y="546120"/>
            <a:ext cx="5468760" cy="6119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5"/>
          <p:cNvPicPr/>
          <p:nvPr/>
        </p:nvPicPr>
        <p:blipFill>
          <a:blip r:embed="rId6"/>
          <a:stretch/>
        </p:blipFill>
        <p:spPr>
          <a:xfrm>
            <a:off x="1895400" y="549360"/>
            <a:ext cx="5254560" cy="604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6"/>
          <p:cNvPicPr/>
          <p:nvPr/>
        </p:nvPicPr>
        <p:blipFill>
          <a:blip r:embed="rId7"/>
          <a:stretch/>
        </p:blipFill>
        <p:spPr>
          <a:xfrm>
            <a:off x="1620720" y="490680"/>
            <a:ext cx="5783400" cy="624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7"/>
          <p:cNvPicPr/>
          <p:nvPr/>
        </p:nvPicPr>
        <p:blipFill>
          <a:blip r:embed="rId8"/>
          <a:stretch/>
        </p:blipFill>
        <p:spPr>
          <a:xfrm>
            <a:off x="1889280" y="561960"/>
            <a:ext cx="5200560" cy="5977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8"/>
          <p:cNvPicPr/>
          <p:nvPr/>
        </p:nvPicPr>
        <p:blipFill>
          <a:blip r:embed="rId9"/>
          <a:stretch/>
        </p:blipFill>
        <p:spPr>
          <a:xfrm>
            <a:off x="1738440" y="460440"/>
            <a:ext cx="55767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2700360" y="1557360"/>
            <a:ext cx="3384360" cy="3384360"/>
            <a:chOff x="2700360" y="1557360"/>
            <a:chExt cx="3384360" cy="3384360"/>
          </a:xfrm>
        </p:grpSpPr>
        <p:sp>
          <p:nvSpPr>
            <p:cNvPr id="121" name="Rectangle 3"/>
            <p:cNvSpPr/>
            <p:nvPr/>
          </p:nvSpPr>
          <p:spPr>
            <a:xfrm>
              <a:off x="2700360" y="1557360"/>
              <a:ext cx="3384360" cy="33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"/>
            <p:cNvSpPr/>
            <p:nvPr/>
          </p:nvSpPr>
          <p:spPr>
            <a:xfrm>
              <a:off x="2700360" y="328428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4427640" y="1557360"/>
              <a:ext cx="0" cy="338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6"/>
          <p:cNvSpPr/>
          <p:nvPr/>
        </p:nvSpPr>
        <p:spPr>
          <a:xfrm>
            <a:off x="3502080" y="134136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垂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84360" y="7002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20072414135346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428400" y="266760"/>
            <a:ext cx="23752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会用“垂”说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20072414135346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1459080" y="6048360"/>
            <a:ext cx="58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春天到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柳树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着长长的枝条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真漂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28400" y="266760"/>
            <a:ext cx="23752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会用“垂”说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6019920" y="763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476360" y="2205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往窗外望去，树哇，房子啊，都看不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484360" y="29185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y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28" descr="图片3"/>
          <p:cNvPicPr/>
          <p:nvPr/>
        </p:nvPicPr>
        <p:blipFill>
          <a:blip r:embed="rId1"/>
          <a:stretch/>
        </p:blipFill>
        <p:spPr>
          <a:xfrm>
            <a:off x="0" y="3284640"/>
            <a:ext cx="4537080" cy="3573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29" descr="图片4"/>
          <p:cNvPicPr/>
          <p:nvPr/>
        </p:nvPicPr>
        <p:blipFill>
          <a:blip r:embed="rId2"/>
          <a:stretch/>
        </p:blipFill>
        <p:spPr>
          <a:xfrm>
            <a:off x="2411280" y="0"/>
            <a:ext cx="5256360" cy="324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30" descr="图片1"/>
          <p:cNvPicPr/>
          <p:nvPr/>
        </p:nvPicPr>
        <p:blipFill>
          <a:blip r:embed="rId3"/>
          <a:stretch/>
        </p:blipFill>
        <p:spPr>
          <a:xfrm>
            <a:off x="4643280" y="3284640"/>
            <a:ext cx="4500720" cy="3573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34"/>
          <p:cNvSpPr/>
          <p:nvPr/>
        </p:nvSpPr>
        <p:spPr>
          <a:xfrm>
            <a:off x="6853320" y="2277360"/>
            <a:ext cx="82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35"/>
          <p:cNvSpPr/>
          <p:nvPr/>
        </p:nvSpPr>
        <p:spPr>
          <a:xfrm>
            <a:off x="3685680" y="5950800"/>
            <a:ext cx="130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36"/>
          <p:cNvSpPr/>
          <p:nvPr/>
        </p:nvSpPr>
        <p:spPr>
          <a:xfrm>
            <a:off x="8294400" y="5950800"/>
            <a:ext cx="130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图片3"/>
          <p:cNvPicPr/>
          <p:nvPr/>
        </p:nvPicPr>
        <p:blipFill>
          <a:blip r:embed="rId1"/>
          <a:stretch/>
        </p:blipFill>
        <p:spPr>
          <a:xfrm>
            <a:off x="1979640" y="0"/>
            <a:ext cx="5689440" cy="321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图片4"/>
          <p:cNvPicPr/>
          <p:nvPr/>
        </p:nvPicPr>
        <p:blipFill>
          <a:blip r:embed="rId2"/>
          <a:stretch/>
        </p:blipFill>
        <p:spPr>
          <a:xfrm>
            <a:off x="0" y="328464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图片1"/>
          <p:cNvPicPr/>
          <p:nvPr/>
        </p:nvPicPr>
        <p:blipFill>
          <a:blip r:embed="rId3"/>
          <a:stretch/>
        </p:blipFill>
        <p:spPr>
          <a:xfrm>
            <a:off x="4643280" y="3284640"/>
            <a:ext cx="4500720" cy="357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"/>
          <p:cNvSpPr/>
          <p:nvPr/>
        </p:nvSpPr>
        <p:spPr>
          <a:xfrm>
            <a:off x="6084720" y="115920"/>
            <a:ext cx="15526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雷雨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4720" y="3357720"/>
            <a:ext cx="16560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雷雨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451640" y="3349800"/>
            <a:ext cx="16923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雷雨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6865920" y="2275560"/>
            <a:ext cx="82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3685680" y="5950800"/>
            <a:ext cx="130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②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8294400" y="5950800"/>
            <a:ext cx="130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③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95280" y="148428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满天的乌云，黑沉沉地压下来。树上的叶子一动不动，蝉一声也不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95292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12164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6858360" y="539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8010720" y="604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95280" y="148428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满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乌云，黑沉沉地压下来。树上的叶子一动不动，蝉一声也不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5280" y="148428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满天的乌云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黑沉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地压下来。树上的叶子一动不动，蝉一声也不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028"/>
          <p:cNvSpPr/>
          <p:nvPr/>
        </p:nvSpPr>
        <p:spPr>
          <a:xfrm>
            <a:off x="395280" y="1484280"/>
            <a:ext cx="835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满天的乌云，黑沉沉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下来。树上的叶子一动不动，蝉一声也不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835280" y="170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忽然一阵大风，吹得树枝乱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风声.mp3" descr=""/>
          <p:cNvPicPr/>
          <p:nvPr/>
        </p:nvPicPr>
        <p:blipFill>
          <a:blip r:embed="rId1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3893400" y="27813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蜘蛛从网上垂下来，逃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7040880" y="1708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乱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4140360" y="2781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垂下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884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11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07:42:03Z</dcterms:created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7-09-06T03:46:53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