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825-92FC-48F0-8D4D-C1B970F2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7F2-D285-4B83-827D-E87BA402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9E6-02C3-4E9A-947A-E58D052D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0E5-3845-4783-8C9F-03A1F3C4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7FF-4300-4112-9CE9-9770F44A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BCE-D5A6-4CAB-A219-61B4B6D0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EFF-310D-4325-A436-EA554B7B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474-F4CC-4515-9940-F7B89DC4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099-C192-40B9-B1FF-2C06D07D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FE9-9745-4E24-9CBB-9631A0B9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5AD-89EC-4089-80DE-9DB77FED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BD2-DC07-4ABD-8E12-7A1D3AFE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A5DD-503A-4783-B372-BA7B8CD37B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848360" cy="765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逍遥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译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5840" y="1143000"/>
            <a:ext cx="8677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抟扶摇而上者九万里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去以六月息者也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它乘着旋风环旋而上几万里的高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凭借着六月的大风离开了北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天之苍苍，其正色也？其远而无所至极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天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深蓝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它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真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颜色吗？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还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因为天高地远而看不到它的尽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且夫水之积也不厚，则其负大舟也无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再说如果水的积聚不深厚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那么它负载的大船就没有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覆杯水于坳堂之上，则芥为之舟，置杯焉则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，水浅而舟大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倒一杯水在堂上低洼的地方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那么就只能用小草做它的船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放上一只杯子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贴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了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是水太浅而船太大的缘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3071880"/>
            <a:ext cx="88930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下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起飞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碰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榆枋树木就停下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58920" y="357120"/>
            <a:ext cx="8785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风之积也不厚，则其负大翼也无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风的积聚如果不大，那么它承载巨大的翅膀就没有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我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决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起而飞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抢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榆枋而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571680" y="3929040"/>
            <a:ext cx="75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不及大知，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不及大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64296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智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赶不上大智慧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寿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短的比不上寿命长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1000080" y="571680"/>
            <a:ext cx="61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长</a:t>
            </a:r>
            <a:r>
              <a:rPr b="0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太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掩涕</a:t>
            </a:r>
            <a:r>
              <a:rPr b="0" lang="zh-CN" sz="28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兮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哀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民生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之多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928800" y="164304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长叹息地禁不住要洒下眼泪，我哀怜着人民的生涯多么艰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071720" y="3105000"/>
            <a:ext cx="65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伏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清白以死直兮，固前圣之所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857160" y="414324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伏清白之志而死忠贞之节，本是前代的圣人之所称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3573000" y="50004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亦余心之所善兮，虽九死其尤未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"/>
          <p:cNvSpPr/>
          <p:nvPr/>
        </p:nvSpPr>
        <p:spPr>
          <a:xfrm>
            <a:off x="785880" y="192888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到头是我自己的情愿而心甘，纵使是死上九回我也不肯悔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1143000" y="3105000"/>
            <a:ext cx="80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怨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灵修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之</a:t>
            </a:r>
            <a:r>
              <a:rPr b="0" lang="zh-CN" sz="3200" spc="-1" strike="noStrike" u="sng">
                <a:solidFill>
                  <a:srgbClr val="c00000"/>
                </a:solidFill>
                <a:uFillTx/>
                <a:latin typeface="黑体"/>
                <a:ea typeface="黑体"/>
              </a:rPr>
              <a:t>浩荡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兮，终不察夫民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500040" y="4786200"/>
            <a:ext cx="86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怨恨君心荒唐啊，始终不能体察民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928800" y="42876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民生各有所乐兮，余独好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修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为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857160" y="200016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世上的人们任凭他各有所好，而我的习惯是专于爱好修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1000080" y="3214800"/>
            <a:ext cx="63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鸷鸟之不群兮，自前世而固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928800" y="471492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鹰和隼不能够和凡鸟同群，原来是自古以来就是这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2:38:33Z</dcterms:created>
  <dc:creator>USER</dc:creator>
  <dc:description>www.beikeba.com</dc:description>
  <cp:keywords>《备课吧》免费下载</cp:keywords>
  <dc:language>en-US</dc:language>
  <cp:lastModifiedBy>user</cp:lastModifiedBy>
  <dcterms:modified xsi:type="dcterms:W3CDTF">2015-12-24T08:06:52Z</dcterms:modified>
  <cp:revision>153</cp:revision>
  <dc:subject/>
  <dc:title>逍   遥   游 （庄子）</dc:title>
</cp:coreProperties>
</file>