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projctor.wav" ContentType="audio/x-wav"/>
  <Override PartName="/ppt/media/image24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35.jpeg" ContentType="image/jpeg"/>
  <Override PartName="/ppt/media/whoosh.wav" ContentType="audio/x-wav"/>
  <Override PartName="/ppt/media/image8.jpeg" ContentType="image/jpeg"/>
  <Override PartName="/ppt/media/image30.png" ContentType="image/png"/>
  <Override PartName="/ppt/media/image32.png" ContentType="image/png"/>
  <Override PartName="/ppt/media/image25.jpeg" ContentType="image/jpeg"/>
  <Override PartName="/ppt/media/image31.jpeg" ContentType="image/jpeg"/>
  <Override PartName="/ppt/media/image26.jpeg" ContentType="image/jpeg"/>
  <Override PartName="/ppt/media/image9.gif" ContentType="image/gif"/>
  <Override PartName="/ppt/media/image27.jpeg" ContentType="image/jpeg"/>
  <Override PartName="/ppt/media/image37.gif" ContentType="image/gif"/>
  <Override PartName="/ppt/media/image12.png" ContentType="image/png"/>
  <Override PartName="/ppt/media/image23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drumroll.wav" ContentType="audio/x-wav"/>
  <Override PartName="/ppt/media/image28.png" ContentType="image/png"/>
  <Override PartName="/ppt/media/image5.gif" ContentType="image/gif"/>
  <Override PartName="/ppt/media/carbrake.wav" ContentType="audio/x-wav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6.jpeg" ContentType="image/jpeg"/>
  <Override PartName="/ppt/media/type.wav" ContentType="audio/x-wav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798-1598-41C3-AD68-B7AB15A9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BD5-EC16-4E06-AD18-6166806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3C0-E785-4A37-A136-A19477EB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D0A-EEBB-4E52-B3A1-5FA67626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47C-5907-48AF-A583-2A17DBC1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8A28-C698-4042-B475-4C8A6F5A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F08-3BD1-46EB-9A8F-9FD59AA6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F9B4-6ECA-4FB5-93B2-76A9E058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FF73-61EE-4E81-B510-8ACB167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DD3-0B55-4E2D-8B71-E1A98FC6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DEDB-DCCE-49A2-8F42-2903DB4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BB3-E00E-4D43-96AB-5E040E1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E6D7-4E35-4B15-96E9-1E90400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ACBF-B46A-41BC-ACB0-00B11A1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C2FD-0F16-456E-B51E-94680664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9657-4EEA-4EA6-9E44-30D251D8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9624-362B-4A08-AE4C-BC5E22CE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DF8-5D8D-4A7C-807A-927F4A3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0E2-891B-466E-861C-4E97698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F62-B1D5-4CE9-97A8-B21AA3D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8CB-95F1-4C78-B49D-DDAB8B5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4A1-9EA2-4630-914F-B18348E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978-4559-4399-AA57-6548165F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B94-A7AA-41AB-9CC3-2AD7C76F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3F0-6AB4-465C-9A71-B5E0BF9F46A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70A-0A1C-4729-A517-732F2DB0010C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zh.ayfly.com/viewthread-70724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3.png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.duniu.com/photoentry/19547/745.html?login=no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.duniu.com/photoentry/19547/745.html?login=no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216000" y="1844280"/>
            <a:ext cx="936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《水浒传》之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林教头风雪山神庙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160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作者：施耐庵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ssh3-5a"/>
          <p:cNvPicPr/>
          <p:nvPr/>
        </p:nvPicPr>
        <p:blipFill>
          <a:blip r:embed="rId2"/>
          <a:stretch/>
        </p:blipFill>
        <p:spPr>
          <a:xfrm>
            <a:off x="4932360" y="5013360"/>
            <a:ext cx="3960720" cy="140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ac"/>
          <p:cNvPicPr/>
          <p:nvPr/>
        </p:nvPicPr>
        <p:blipFill>
          <a:blip r:embed="rId3"/>
          <a:stretch/>
        </p:blipFill>
        <p:spPr>
          <a:xfrm>
            <a:off x="0" y="620640"/>
            <a:ext cx="952560" cy="564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16440" y="1413000"/>
            <a:ext cx="21913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隶书"/>
              </a:rPr>
              <a:t>作者简介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1052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施耐庵（</a:t>
            </a: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1296~1370</a:t>
            </a:r>
            <a:r>
              <a:rPr b="1" lang="zh-CN" sz="40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98900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原名耳，又名子安，字耐庵，祖籍兴化，生于平江（苏州），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1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岁中秀才，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29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岁中举人，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35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岁中进士。曾在钱塘一带做过几年官，其余时间一直以教书为业，著名小说家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罗贯中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，即为他的门生。他在教书期间根据民间传说与话本戏曲，编著了一部著名的长篇小说《水浒》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050920" y="18900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创作背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197964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24000" y="1249200"/>
            <a:ext cx="6842160" cy="1038240"/>
          </a:xfrm>
          <a:prstGeom prst="rect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  <a:ea typeface="黑体"/>
              </a:rPr>
              <a:t>北宋末年，封建统治者昏聩淫逸，外族入侵，加之连年自然灾害，民不聊生，于是大大小小的农民起义接连地爆发。宋元时，女真、蒙古贵族先后南侵，广大人民处于阶级和民族双重压迫之下。他们把自己的生活经验和美好理想，寄寓于“劫富济贫”、“扶危济困”的起义英雄形象中。于是关于水浒的故事，便越流传越丰富。</a:t>
            </a: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作者在表现水浒故事的民间传说、话本、杂剧等多种艺术形式创作的基础上，加工编写成了《水浒传》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40720" y="18900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《水浒》作品介绍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仿宋_GB2312"/>
              </a:rPr>
              <a:t>《水浒》是我国文学史上第一部以农民起义为题材的优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长篇小说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仿宋_GB2312"/>
              </a:rPr>
              <a:t>，是古典小说四大名著之一。这部书是作者在民间传说话本、杂剧的基础上创作而成的，它艺术地再现了梁山泊农民起义的产生、发展、经过直至失败的过程，</a:t>
            </a:r>
            <a:r>
              <a:rPr b="1" i="1" lang="zh-CN" sz="3600" spc="-1" strike="noStrike">
                <a:solidFill>
                  <a:srgbClr val="660066"/>
                </a:solidFill>
                <a:latin typeface="Arial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官逼民反，替天行道</a:t>
            </a: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”是主线，歌颂了农民的反抗精神，总结了农民起义失败的教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836640"/>
            <a:ext cx="80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林教头风雪山神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ff"/>
                </a:solidFill>
                <a:latin typeface="Arial"/>
              </a:rPr>
              <a:t>                 </a:t>
            </a:r>
            <a:r>
              <a:rPr b="1" i="1" lang="zh-CN" sz="4400" spc="-1" strike="noStrike">
                <a:solidFill>
                  <a:srgbClr val="3399ff"/>
                </a:solidFill>
                <a:latin typeface="Arial"/>
              </a:rPr>
              <a:t>陆虞候火烧草料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6360" y="333360"/>
            <a:ext cx="3582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解题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268280"/>
            <a:ext cx="8388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“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林教头风雪山神庙”节选自《水浒》七十一回本第十回。本文是清初金圣叹的删节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37000"/>
            <a:ext cx="946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林教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林冲，原是北宋京城八十万禁军枪棒教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3429000"/>
            <a:ext cx="800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②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风雪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指故事发生的天气环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292640"/>
            <a:ext cx="746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③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山神庙”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指故事发生的地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Picture 4" descr="ssh3-5a"/>
          <p:cNvPicPr/>
          <p:nvPr/>
        </p:nvPicPr>
        <p:blipFill>
          <a:blip r:embed="rId2"/>
          <a:stretch/>
        </p:blipFill>
        <p:spPr>
          <a:xfrm>
            <a:off x="5076720" y="5013360"/>
            <a:ext cx="3708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1484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水浒传》中的英雄们都是被逼上梁山的，而其中最具有典型意义的就是林冲。他原是东京八十万禁军教头，地位不低，又有一个贤惠的妻子和美满的家庭，使他对封建统治者和自身的前途抱有幻想。他虽然武艺高强，对“屈沉在小人之下”有满腔怨愤，却也养成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逆来顺受、忍辱妥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性格。像他这样的人是很不容易加入农民起义队伍的，然而他偏偏被逼上梁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125360"/>
            <a:ext cx="8839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关章节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六回    花和尚倒拔垂杨柳   豹子头误入白虎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七回    林教头刺配沧州道    鲁智深大闹野猪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八回    柴进门招天下客        林冲棒打洪教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九回    林教头风雪山神庙    陆虞侯火烧草料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十回    朱贵水亭施号箭        林冲雪夜上梁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十一回  梁山泊林冲落草       汴京城杨志卖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4" descr="ssh3-5a"/>
          <p:cNvPicPr/>
          <p:nvPr/>
        </p:nvPicPr>
        <p:blipFill>
          <a:blip r:embed="rId2"/>
          <a:stretch/>
        </p:blipFill>
        <p:spPr>
          <a:xfrm>
            <a:off x="5076720" y="5013360"/>
            <a:ext cx="370836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情的起因是：他妻子往岳庙烧香还愿，遇上高太尉（高俅）的义子高衙内。高衙内看上了他的妻子，便进行调戏。他闻讯赶来，于怒喝声中举拳欲打时，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一看是上司的儿子，“先自手软了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但自己不敢打，甚至阻拦鲁智深去追高衙内，说是“自古道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怕官，只怕管。权且让他这一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这里，第一次显示出林冲屈辱忍让的性格。但是逆来顺受并不能使林冲摆脱困境。陆谦与高衙内进一步设下陷阱，让林冲误入白虎堂，刺配沧州道，遇险野猪林……在一个接一个的打击迫害下，林冲的反抗性格逐步强化。尽管如此，他依然想从妥协退让中寻求苟安，没有放弃“挣扎着回来”的幻想。林冲这种矛盾心理，在本课中达到高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964720" cy="59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（    ） 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辱（ 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样（    ）酒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尴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连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须（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（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） 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解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尖刀（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盘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（      ）仓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 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（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笠 （  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祐（佑）（    ） 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察（     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倒 （       ）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） 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91080" y="6094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j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21000" y="3429000"/>
            <a:ext cx="7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áo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560" y="1143000"/>
            <a:ext cx="14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Verdana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zhuà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9480" y="16765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gāng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0760" y="213372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z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97680" y="52293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Verdana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měi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79840" y="580536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</a:rPr>
              <a:t>shu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5800" y="198900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d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84080" y="1143000"/>
            <a:ext cx="8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m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609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b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è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609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di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à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83840" y="256536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hà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56280" y="393372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zhuài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21337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97360" y="4437000"/>
            <a:ext cx="5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bì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1752480"/>
            <a:ext cx="990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lěi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256536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sh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35920" y="2997360"/>
            <a:ext cx="19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p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á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ch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á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47720" y="342900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t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ó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61200" y="3933720"/>
            <a:ext cx="11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zh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ā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87040" y="443700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zh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ǒ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u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21800" y="48690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du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37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á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6760" y="5805360"/>
            <a:ext cx="6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g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573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w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ā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1360" y="-64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通读全文，梳理情节，正音正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84520" y="350028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shu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5720" y="2421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w</a:t>
            </a: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à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5909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沧州遇旧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2514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密谋害林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买刀寻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514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草场交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278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出门沽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6278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刺杀仇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19720" y="3505320"/>
            <a:ext cx="2361960" cy="2801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2590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209680" y="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553080" y="0"/>
            <a:ext cx="221004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0" y="3352680"/>
            <a:ext cx="1981080" cy="2895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4343400" y="0"/>
            <a:ext cx="2057400" cy="2590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2209680" y="3429000"/>
            <a:ext cx="1924200" cy="2819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6934320" y="3352680"/>
            <a:ext cx="1966680" cy="2890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16120" y="627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亲闻阴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40400" y="627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逼上梁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124080"/>
            <a:ext cx="495324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结合图片，理清情节结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47640" y="2060640"/>
            <a:ext cx="57675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一课时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223200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情节结构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668880" y="1219320"/>
            <a:ext cx="162612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4700" spc="-1" strike="noStrike">
                <a:solidFill>
                  <a:srgbClr val="9900ff"/>
                </a:solidFill>
                <a:latin typeface="黑体"/>
                <a:ea typeface="黑体"/>
              </a:rPr>
              <a:t>林教头风雪山神庙</a:t>
            </a:r>
            <a:endParaRPr b="0" lang="en-US" sz="4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2280" y="574560"/>
            <a:ext cx="57456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00" y="1058760"/>
            <a:ext cx="160200" cy="5238720"/>
          </a:xfrm>
          <a:custGeom>
            <a:avLst/>
            <a:gdLst>
              <a:gd name="textAreaLeft" fmla="*/ 102240 w 160200"/>
              <a:gd name="textAreaRight" fmla="*/ 160560 w 160200"/>
              <a:gd name="textAreaTop" fmla="*/ 136440 h 5238720"/>
              <a:gd name="textAreaBottom" fmla="*/ 5102280 h 523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1606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58880"/>
            <a:ext cx="1828800" cy="56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（序幕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开端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发展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（高潮、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500" spc="-1" strike="noStrike">
                <a:solidFill>
                  <a:srgbClr val="ff0000"/>
                </a:solidFill>
                <a:latin typeface="黑体"/>
                <a:ea typeface="黑体"/>
              </a:rPr>
              <a:t>结局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7920" y="682560"/>
            <a:ext cx="2971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400" spc="-1" strike="noStrike">
                <a:solidFill>
                  <a:srgbClr val="1606e4"/>
                </a:solidFill>
                <a:latin typeface="黑体"/>
                <a:ea typeface="黑体"/>
              </a:rPr>
              <a:t>沧州遇旧知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29240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143000"/>
            <a:ext cx="2498760" cy="5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黑体"/>
                <a:ea typeface="黑体"/>
              </a:rPr>
              <a:t>酒店密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1596960"/>
            <a:ext cx="28224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3.</a:t>
            </a: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小二生疑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1978200"/>
            <a:ext cx="30639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4.</a:t>
            </a: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询问实情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2435400"/>
            <a:ext cx="29829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5.</a:t>
            </a:r>
            <a:r>
              <a:rPr b="1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买刀寻敌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9840" y="3349800"/>
            <a:ext cx="57492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3273480"/>
            <a:ext cx="92160" cy="1395360"/>
          </a:xfrm>
          <a:custGeom>
            <a:avLst/>
            <a:gdLst>
              <a:gd name="textAreaLeft" fmla="*/ 59040 w 92160"/>
              <a:gd name="textAreaRight" fmla="*/ 92520 w 92160"/>
              <a:gd name="textAreaTop" fmla="*/ 36360 h 1395360"/>
              <a:gd name="textAreaBottom" fmla="*/ 1359000 h 13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578400"/>
            <a:ext cx="2498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接管草料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425760"/>
            <a:ext cx="24987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黑体"/>
                <a:ea typeface="黑体"/>
              </a:rPr>
              <a:t>7.</a:t>
            </a:r>
            <a:r>
              <a:rPr b="1" lang="zh-CN" sz="3000" spc="-1" strike="noStrike">
                <a:solidFill>
                  <a:srgbClr val="008000"/>
                </a:solidFill>
                <a:latin typeface="黑体"/>
                <a:ea typeface="黑体"/>
              </a:rPr>
              <a:t>草厅交割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4340160"/>
            <a:ext cx="23385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黑体"/>
                <a:ea typeface="黑体"/>
              </a:rPr>
              <a:t>9.</a:t>
            </a:r>
            <a:r>
              <a:rPr b="1" lang="zh-CN" sz="3000" spc="-1" strike="noStrike">
                <a:solidFill>
                  <a:srgbClr val="008000"/>
                </a:solidFill>
                <a:latin typeface="黑体"/>
                <a:ea typeface="黑体"/>
              </a:rPr>
              <a:t>身寒沽酒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828800"/>
            <a:ext cx="2662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密谋害林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5181480"/>
            <a:ext cx="2743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山神庙杀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873680"/>
            <a:ext cx="76320" cy="1299960"/>
          </a:xfrm>
          <a:custGeom>
            <a:avLst/>
            <a:gdLst>
              <a:gd name="textAreaLeft" fmla="*/ 48960 w 76320"/>
              <a:gd name="textAreaRight" fmla="*/ 76320 w 76320"/>
              <a:gd name="textAreaTop" fmla="*/ 33840 h 1299960"/>
              <a:gd name="textAreaBottom" fmla="*/ 126612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b0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800600"/>
            <a:ext cx="32004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1606e4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10.</a:t>
            </a: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庙里借宿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181480"/>
            <a:ext cx="26607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11.</a:t>
            </a: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偶听真相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635800"/>
            <a:ext cx="266220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12.</a:t>
            </a:r>
            <a:r>
              <a:rPr b="1" lang="zh-CN" sz="3000" spc="-1" strike="noStrike">
                <a:solidFill>
                  <a:srgbClr val="fb00dc"/>
                </a:solidFill>
                <a:latin typeface="黑体"/>
                <a:ea typeface="黑体"/>
              </a:rPr>
              <a:t>奋起杀敌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1292400"/>
            <a:ext cx="152280" cy="738000"/>
          </a:xfrm>
          <a:prstGeom prst="downArrow">
            <a:avLst>
              <a:gd name="adj1" fmla="val 50000"/>
              <a:gd name="adj2" fmla="val 12115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590920"/>
            <a:ext cx="574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2435400"/>
            <a:ext cx="176040" cy="1296720"/>
          </a:xfrm>
          <a:prstGeom prst="downArrow">
            <a:avLst>
              <a:gd name="adj1" fmla="val 50000"/>
              <a:gd name="adj2" fmla="val 184151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284720"/>
            <a:ext cx="57492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4340160"/>
            <a:ext cx="242640" cy="885960"/>
          </a:xfrm>
          <a:prstGeom prst="downArrow">
            <a:avLst>
              <a:gd name="adj1" fmla="val 50000"/>
              <a:gd name="adj2" fmla="val 9128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152280"/>
            <a:ext cx="2130120" cy="64771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：这些情节体现林冲怎样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性格？他的性格有没有变化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17720" y="3862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8.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用心照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17720" y="302436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重拨差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6825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1913"/>
                </a:solidFill>
                <a:latin typeface="黑体"/>
                <a:ea typeface="黑体"/>
              </a:rPr>
              <a:t>１沧州遇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908000" y="1989000"/>
            <a:ext cx="6235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二课时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3640" y="188640"/>
            <a:ext cx="352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人物形象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140000" y="1196640"/>
            <a:ext cx="5003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林冲是《水浒》里一个有代表性的人物，是一个由安于现状的小官吏被逼上梁山的典型。在《水浒传》当中是刻画得最成功的一个艺术形象。他在小说中思想性格的转变刻画的是最细腻和最动人的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81952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657600" y="3048120"/>
            <a:ext cx="54864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正直善良，扶危济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忍辱求安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委曲求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软弱动摇、不思反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3804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沧州遇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5360" y="132552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林冲性格</a:t>
            </a:r>
            <a:r>
              <a:rPr b="1" lang="zh-CN" sz="32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90080" y="205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表现手法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32360" y="1981080"/>
            <a:ext cx="252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语言描写（恶了高太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自称罪囚，恐玷辱小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夫妻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90080" y="2514600"/>
            <a:ext cx="12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性格特点</a:t>
            </a:r>
            <a:r>
              <a:rPr b="1" lang="zh-CN" sz="28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7640" y="54936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交代主要人物，事情的起因，点明林与高的尖锐矛盾，林李亲密关系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814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93480" y="129528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林冲性格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205740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表现手法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441972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性格特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80880" y="60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黑体"/>
              </a:rPr>
              <a:t>买刀寻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07120" y="1981080"/>
            <a:ext cx="2314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语言描写（那泼贱贼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叫他骨肉为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今日又无事。）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动作描写（买刀，寻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团团寻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19840" y="4508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激起怒火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急躁刚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29928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04920" y="223344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现手法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219320"/>
            <a:ext cx="20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林冲性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377820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性格特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4160" y="5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看守草料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78640" y="2133720"/>
            <a:ext cx="31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心理描写（这屋如何过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冬……修理。神明庇佑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语言描写（与我好差使……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06760" y="3933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思反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遇而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2664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表现手法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75840" y="404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夜宿山神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106668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林冲性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6000" y="1676520"/>
            <a:ext cx="188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动作描写（拽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门，锁了。入庙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掩门，掇将来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石头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心理描写（且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那里宿一夜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67280" y="4653000"/>
            <a:ext cx="28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性格特点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8440" y="48164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细心谨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随遇而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663360" y="677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结局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77880" y="144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林冲性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25800" y="685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雪夜复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43280" y="227664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表现手法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5480" y="429264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性格特点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22520" y="2205000"/>
            <a:ext cx="171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动作描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掇、挺、拽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cc"/>
                </a:solidFill>
                <a:uFillTx/>
                <a:latin typeface="Times New Roman"/>
                <a:ea typeface="黑体"/>
              </a:rPr>
              <a:t>喝、搠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、提、丢、踏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cc"/>
                </a:solidFill>
                <a:uFillTx/>
                <a:latin typeface="Times New Roman"/>
                <a:ea typeface="黑体"/>
              </a:rPr>
              <a:t>骂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、扯、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Times New Roman"/>
                <a:ea typeface="黑体"/>
              </a:rPr>
              <a:t>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黑体"/>
              </a:rPr>
              <a:t>语言描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（三喝一骂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9400" y="44370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英勇果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愤而抗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635280" y="1341360"/>
            <a:ext cx="5086440" cy="4654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黑体"/>
                <a:ea typeface="黑体"/>
              </a:rPr>
              <a:t>善良细心  侠义济困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细黑"/>
              </a:rPr>
              <a:t>忍辱求安    委曲求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细黑"/>
              </a:rPr>
              <a:t>急躁刚烈    随遇而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华文细黑"/>
              </a:rPr>
              <a:t>英勇果敢    愤而抗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3208320" cy="4953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92720" y="112536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</a:rPr>
              <a:t>林冲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48720" y="692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从以上分析概括林冲的性格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方法点拨：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概括人物性格的方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从情节发展变化中概括人物性格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抓住人物的言行、心理等细节描写概括人物性格（正面描写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通过其他人的评价或者作者的评价（侧面描写）概括人物性格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环境对人物的烘托（侧面描写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明清古典小说是中华的一朵奇葩，是继唐诗宋词元曲之后中国艺术发展的又一高峰。在她长长的人物画廊里，有神仙，有凡人；有才子佳人的辛酸离合，也有忠烈奸佞的殊死搏斗，更有冲天一怒、天地震颤的英雄豪侠、铁血壮士。《水浒传》就是这样一部英雄颂歌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2" descr="ssh3-5a"/>
          <p:cNvPicPr/>
          <p:nvPr/>
        </p:nvPicPr>
        <p:blipFill>
          <a:blip r:embed="rId2"/>
          <a:stretch/>
        </p:blipFill>
        <p:spPr>
          <a:xfrm>
            <a:off x="5580000" y="5445000"/>
            <a:ext cx="309744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ac"/>
          <p:cNvPicPr/>
          <p:nvPr/>
        </p:nvPicPr>
        <p:blipFill>
          <a:blip r:embed="rId3"/>
          <a:stretch/>
        </p:blipFill>
        <p:spPr>
          <a:xfrm>
            <a:off x="0" y="620640"/>
            <a:ext cx="95256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1385640"/>
            <a:ext cx="9144000" cy="3679200"/>
            <a:chOff x="0" y="1385640"/>
            <a:chExt cx="9144000" cy="3679200"/>
          </a:xfrm>
        </p:grpSpPr>
        <p:sp>
          <p:nvSpPr>
            <p:cNvPr id="267" name=""/>
            <p:cNvSpPr/>
            <p:nvPr/>
          </p:nvSpPr>
          <p:spPr>
            <a:xfrm>
              <a:off x="0" y="4859640"/>
              <a:ext cx="1800360" cy="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506600" y="2099520"/>
              <a:ext cx="1130400" cy="296532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59080" y="2323080"/>
              <a:ext cx="1728720" cy="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8440" y="2131920"/>
              <a:ext cx="1244520" cy="280800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8280" y="4745160"/>
              <a:ext cx="1738440" cy="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227640" y="1385640"/>
              <a:ext cx="1368720" cy="357012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08720" y="1591560"/>
              <a:ext cx="1835280" cy="0"/>
            </a:xfrm>
            <a:prstGeom prst="line">
              <a:avLst/>
            </a:prstGeom>
            <a:ln w="635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-36360" y="4594320"/>
            <a:ext cx="2017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沧州遇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395600">
            <a:off x="1227960" y="2700000"/>
            <a:ext cx="11552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陆谦到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40000" y="2003400"/>
            <a:ext cx="1905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买刀寻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20110200">
            <a:off x="3678840" y="2823840"/>
            <a:ext cx="1155240" cy="196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不见消耗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44514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接管草料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390800">
            <a:off x="6009120" y="2298600"/>
            <a:ext cx="11552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亲闻阴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309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雪夜复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2781360"/>
            <a:ext cx="22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初步反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并不坚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67800" y="1471680"/>
            <a:ext cx="1735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急躁刚烈）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64880" y="5243400"/>
            <a:ext cx="1735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随遇而安）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83920" y="836640"/>
            <a:ext cx="1735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奋起反抗）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33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从情节看林冲性格的发展变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390800">
            <a:off x="6663240" y="2600280"/>
            <a:ext cx="11552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忍无可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395600">
            <a:off x="781560" y="2408760"/>
            <a:ext cx="1033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大惊大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716280"/>
            <a:ext cx="826920" cy="790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47640" y="1413000"/>
            <a:ext cx="720720" cy="7207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48360" y="5805360"/>
            <a:ext cx="792000" cy="792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3640" y="1341360"/>
            <a:ext cx="720720" cy="64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53400" y="5373720"/>
            <a:ext cx="13298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忍辱求安 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委曲求全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3886200"/>
            <a:ext cx="434340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黑体"/>
              <a:ea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黑体"/>
              <a:ea typeface="黑体"/>
            </a:endParaRPr>
          </a:p>
        </p:txBody>
      </p:sp>
      <p:pic>
        <p:nvPicPr>
          <p:cNvPr id="2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33520" y="685800"/>
            <a:ext cx="79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《水浒传》人物的绰号往往体现人物的性格。如“黑旋风”李逵、“及时雨”宋江、“金枪将”徐宁、“玉麒麟”卢俊义等，众所周知林冲在故事里又叫“林教头”，绰号“豹子头”。这两个称呼是同一个人，他们有什么区别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0194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89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1341360"/>
            <a:ext cx="3581280" cy="2895840"/>
          </a:xfrm>
          <a:prstGeom prst="cloudCallout">
            <a:avLst>
              <a:gd name="adj1" fmla="val -61171"/>
              <a:gd name="adj2" fmla="val 79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8800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文章什么地方体现了“豹子头”的特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4019400"/>
            <a:ext cx="499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明确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林教头”是一个表明身份的称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豹子头”，是像猎豹一样的凶猛、狠、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50507"/>
                </a:solidFill>
                <a:latin typeface="Arial"/>
                <a:ea typeface="黑体"/>
              </a:rPr>
              <a:t>敢，体现了林冲的性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rcRect l="31417" t="10711" r="0" b="14735"/>
          <a:stretch/>
        </p:blipFill>
        <p:spPr>
          <a:xfrm>
            <a:off x="6372360" y="1989000"/>
            <a:ext cx="3124080" cy="5158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65721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读了林冲杀陆谦三人的文字，你有怎样的感受？是什么原因使一个善忍之人变成一个至狠之人的？你可以用一个字概括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53352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探讨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250920" y="1557360"/>
            <a:ext cx="201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幸福者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48360" y="1484280"/>
            <a:ext cx="219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华文新魏"/>
              </a:rPr>
              <a:t>反抗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华文新魏"/>
              <a:ea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492360" y="260280"/>
            <a:ext cx="158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逼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9640" y="3716280"/>
            <a:ext cx="100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妻子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位子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银子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房子</a:t>
            </a:r>
            <a:endParaRPr b="0" lang="en-US" sz="1800" spc="1" strike="noStrike">
              <a:ln w="9360">
                <a:solidFill>
                  <a:srgbClr val="cc0066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492360" y="1557360"/>
            <a:ext cx="223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不幸者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867280" y="3933720"/>
            <a:ext cx="1225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华文新魏"/>
              </a:rPr>
              <a:t>妻遭辱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华文新魏"/>
              </a:rPr>
              <a:t>己遭陷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华文新魏"/>
              </a:rPr>
              <a:t>命遭杀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华文新魏"/>
              <a:ea typeface="华文新魏"/>
            </a:endParaRPr>
          </a:p>
        </p:txBody>
      </p:sp>
      <p:sp>
        <p:nvSpPr>
          <p:cNvPr id="313" name=""/>
          <p:cNvSpPr/>
          <p:nvPr/>
        </p:nvSpPr>
        <p:spPr>
          <a:xfrm>
            <a:off x="684360" y="2852640"/>
            <a:ext cx="1008000" cy="64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67280" y="2924280"/>
            <a:ext cx="115236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308720" y="3860640"/>
            <a:ext cx="1600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华文新魏"/>
              </a:rPr>
              <a:t>家破妻亡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华文新魏"/>
              </a:rPr>
              <a:t>走投无路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latin typeface="华文新魏"/>
              </a:rPr>
              <a:t>忍无可忍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latin typeface="华文新魏"/>
              <a:ea typeface="华文新魏"/>
            </a:endParaRPr>
          </a:p>
        </p:txBody>
      </p:sp>
      <p:sp>
        <p:nvSpPr>
          <p:cNvPr id="316" name=""/>
          <p:cNvSpPr/>
          <p:nvPr/>
        </p:nvSpPr>
        <p:spPr>
          <a:xfrm>
            <a:off x="7451640" y="2924280"/>
            <a:ext cx="108108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1844640"/>
            <a:ext cx="976320" cy="1152720"/>
          </a:xfrm>
          <a:custGeom>
            <a:avLst/>
            <a:gdLst>
              <a:gd name="textAreaLeft" fmla="*/ 152280 w 976320"/>
              <a:gd name="textAreaRight" fmla="*/ 854280 w 97632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11280" y="1700280"/>
            <a:ext cx="976320" cy="1152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288000 h 1152360"/>
              <a:gd name="textAreaBottom" fmla="*/ 864360 h 115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48520" y="54738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四逼火烧草场断后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42400" y="364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一逼东岳庙里辱娇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48520" y="42544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逼白虎堂上设奸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48520" y="48639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逼野猪林中谋性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4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4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4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4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4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4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4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2560" y="2276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忍</a:t>
            </a:r>
            <a:r>
              <a:rPr b="1" lang="zh-CN" sz="2000" spc="-1" strike="noStrike">
                <a:solidFill>
                  <a:srgbClr val="cc0066"/>
                </a:solidFill>
                <a:latin typeface="Arial"/>
              </a:rPr>
              <a:t>（林教头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72360" y="220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狠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豹子头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2492280"/>
            <a:ext cx="2736720" cy="432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2000" y="177336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官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逼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民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02800" y="292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社会黑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50920" y="549360"/>
            <a:ext cx="3166920" cy="1077120"/>
            <a:chOff x="250920" y="549360"/>
            <a:chExt cx="3166920" cy="1077120"/>
          </a:xfrm>
        </p:grpSpPr>
        <p:grpSp>
          <p:nvGrpSpPr>
            <p:cNvPr id="329" name=""/>
            <p:cNvGrpSpPr/>
            <p:nvPr/>
          </p:nvGrpSpPr>
          <p:grpSpPr>
            <a:xfrm>
              <a:off x="250920" y="549360"/>
              <a:ext cx="2735280" cy="933480"/>
              <a:chOff x="250920" y="549360"/>
              <a:chExt cx="2735280" cy="933480"/>
            </a:xfrm>
          </p:grpSpPr>
          <p:pic>
            <p:nvPicPr>
              <p:cNvPr id="3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549360"/>
                <a:ext cx="73332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1114560" y="1125720"/>
                <a:ext cx="1871640" cy="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1041480" y="693720"/>
              <a:ext cx="237636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课文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 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小结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203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主题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42480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细黑"/>
                <a:ea typeface="华文细黑"/>
              </a:rPr>
              <a:t>    “</a:t>
            </a:r>
            <a:r>
              <a:rPr b="1" lang="zh-CN" sz="3200" spc="-1" strike="noStrike">
                <a:solidFill>
                  <a:srgbClr val="a50021"/>
                </a:solidFill>
                <a:latin typeface="华文细黑"/>
                <a:ea typeface="华文细黑"/>
              </a:rPr>
              <a:t>官逼民反”、“乱自上起”是小说《水浒传》的主题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908000" y="1989000"/>
            <a:ext cx="62359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第三课时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45840" y="620640"/>
            <a:ext cx="7597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林冲这一文学形象对于我们认识当时的社会有什么意义？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252360" y="1628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林冲当时在东京是保卫京城的八十万禁军教头，有身份，有地位，尚且被逼起来反抗自己的阶级。那么在同样黑暗、腐败的封建社会里，那些被压在最底层的百姓是怎么个活法？那么，走投无路，揭竿而起的人又何止林冲一个？所以我们说，林冲是封建社会官逼民反的最典型的例子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这一文学形象有两方面的意义：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一是了解当时社会的黑暗、腐败；二是认识封建社会人民群众奋起反抗统治者的必然性</a:t>
            </a:r>
            <a:r>
              <a:rPr b="1" lang="zh-CN" sz="3600" spc="-1" strike="noStrike">
                <a:solidFill>
                  <a:srgbClr val="3399ff"/>
                </a:solidFill>
                <a:latin typeface="仿宋_GB2312"/>
                <a:ea typeface="仿宋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-324000" y="333360"/>
            <a:ext cx="2159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思考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9640" y="191628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小说中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景物描写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往往能够起到烘托渲染的作用，同故事情节的发展也有直接关系，课文中多次写到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朔风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大雪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，请结合小说中的具体内容，分析小说是如何对风雪进行描写的，其作用又是什么？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457200"/>
            <a:ext cx="65530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探讨研究：环境描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49200" y="0"/>
            <a:ext cx="57470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　环境描写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．环境描写是对人物活动的环境描写和事情发生的背景的描写，它包括自然环境描写和社会环境描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．自然环境描写，也叫做景物描写，主要是对人物活动的时间、地点、季节、气候以及花鸟虫鱼等场景的描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．社会环境描写，主要是对人物活动的具体环境、处所、氛围以及人际关系的描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．环境描写的作用主要有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交待故事发生的时间、地点。为人物活动提供具体的背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渲染气氛、烘托人物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）有些环境描写还起着推动情节发展的作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8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2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76360" y="155736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提示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）直接描写风雪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）侧面描写风雪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      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2590920" cy="53337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590920" y="836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找找本文有几处描写风雪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4005360"/>
            <a:ext cx="58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风雪的描写有什么作用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说文体知识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569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小说是以塑造（人物形象）为中心，通过完整的（故事情节）的叙述和（环境）的描写来反映现实生活，所以构成小说的三要素是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（人物）、（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情节）、（环境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4" descr="ssh3-5a"/>
          <p:cNvPicPr/>
          <p:nvPr/>
        </p:nvPicPr>
        <p:blipFill>
          <a:blip r:embed="rId2"/>
          <a:stretch/>
        </p:blipFill>
        <p:spPr>
          <a:xfrm>
            <a:off x="4788000" y="5084640"/>
            <a:ext cx="403200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lp2"/>
          <p:cNvPicPr/>
          <p:nvPr/>
        </p:nvPicPr>
        <p:blipFill>
          <a:blip r:embed="rId3"/>
          <a:stretch/>
        </p:blipFill>
        <p:spPr>
          <a:xfrm>
            <a:off x="0" y="0"/>
            <a:ext cx="781200" cy="7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19320" y="609480"/>
            <a:ext cx="571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雪（环境描写）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836640"/>
            <a:ext cx="896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正是严冬天气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彤云密布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朔风渐起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却早纷纷扬扬卷下一天大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56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57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仰面看那草屋时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四下里崩坏了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又被朔风吹撼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摇振得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628640"/>
            <a:ext cx="4308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那雪正下得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1989000"/>
            <a:ext cx="61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那雪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到晚越下得紧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2997360"/>
            <a:ext cx="52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57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那两间草厅已被雪压倒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3429000"/>
            <a:ext cx="61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572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火盆内火种都被雪水浸灭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48360" y="14842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直接描写风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00720" y="2924280"/>
            <a:ext cx="4643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侧面描写衬托风雪（通过环境描写衬托风雪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4005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林冲“向了一回火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觉得身上寒冷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4437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林冲出了大门“信步投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雪地里踏着碎琼乱玉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迤逦背着北风而行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522936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林冲踏着那瑞雪迎着那北风飞也是的奔到草场门口”……是用人物动作衬托风雪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11640" y="4581360"/>
            <a:ext cx="4932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侧面描写衬托风雪（通过人的动作、感觉衬托风雪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19320" y="609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76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风雪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自然环境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作用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1413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渲染气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71640" y="5300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推动情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2920" y="414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烘托人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43280" y="1484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（渲染了悲凉的气氛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59280" y="429264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（烘托出林冲孤独，悲壮，勇敢的英雄形象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43280" y="537372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（推动情节发展，为下文做铺垫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2205000"/>
            <a:ext cx="8280360" cy="1944720"/>
          </a:xfrm>
          <a:prstGeom prst="wedgeRoundRectCallout">
            <a:avLst>
              <a:gd name="adj1" fmla="val -1916"/>
              <a:gd name="adj2" fmla="val -66898"/>
              <a:gd name="adj3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烘托了林冲杀敌报仇，走上反抗道路的悲壮气氛</a:t>
            </a: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,</a:t>
            </a: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北风呼啸</a:t>
            </a: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,</a:t>
            </a:r>
            <a:r>
              <a:rPr b="1" lang="zh-CN" sz="2400" spc="-1" strike="noStrike">
                <a:solidFill>
                  <a:srgbClr val="ff33cc"/>
                </a:solidFill>
                <a:latin typeface="宋体-PUA"/>
                <a:ea typeface="宋体-PUA"/>
              </a:rPr>
              <a:t>大雪纷飞，草料场烈焰腾空。山神庙前，雪地上溅满鲜血。这时，林冲毅然决然地顺大路投东而去，奔上梁山，这是多么悲壮的情景啊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50920" y="54936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风雪是怎样推动情节发展的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900720" y="990720"/>
            <a:ext cx="8008200" cy="4751640"/>
            <a:chOff x="900720" y="990720"/>
            <a:chExt cx="8008200" cy="4751640"/>
          </a:xfrm>
        </p:grpSpPr>
        <p:grpSp>
          <p:nvGrpSpPr>
            <p:cNvPr id="374" name=""/>
            <p:cNvGrpSpPr/>
            <p:nvPr/>
          </p:nvGrpSpPr>
          <p:grpSpPr>
            <a:xfrm>
              <a:off x="1427040" y="3124800"/>
              <a:ext cx="5790960" cy="351360"/>
              <a:chOff x="1427040" y="3124800"/>
              <a:chExt cx="5790960" cy="351360"/>
            </a:xfrm>
          </p:grpSpPr>
          <p:sp>
            <p:nvSpPr>
              <p:cNvPr id="375" name=""/>
              <p:cNvSpPr/>
              <p:nvPr/>
            </p:nvSpPr>
            <p:spPr>
              <a:xfrm>
                <a:off x="1427040" y="3124800"/>
                <a:ext cx="761760" cy="351360"/>
              </a:xfrm>
              <a:prstGeom prst="rightArrow">
                <a:avLst>
                  <a:gd name="adj1" fmla="val 50000"/>
                  <a:gd name="adj2" fmla="val 54201"/>
                </a:avLst>
              </a:prstGeom>
              <a:solidFill>
                <a:srgbClr val="ccec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798640" y="3124800"/>
                <a:ext cx="761760" cy="351360"/>
              </a:xfrm>
              <a:prstGeom prst="rightArrow">
                <a:avLst>
                  <a:gd name="adj1" fmla="val 50000"/>
                  <a:gd name="adj2" fmla="val 54201"/>
                </a:avLst>
              </a:prstGeom>
              <a:solidFill>
                <a:srgbClr val="ccec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93920" y="3124800"/>
                <a:ext cx="762120" cy="351360"/>
              </a:xfrm>
              <a:prstGeom prst="rightArrow">
                <a:avLst>
                  <a:gd name="adj1" fmla="val 50000"/>
                  <a:gd name="adj2" fmla="val 54226"/>
                </a:avLst>
              </a:prstGeom>
              <a:solidFill>
                <a:srgbClr val="ccec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89200" y="3124800"/>
                <a:ext cx="685800" cy="351360"/>
              </a:xfrm>
              <a:prstGeom prst="rightArrow">
                <a:avLst>
                  <a:gd name="adj1" fmla="val 50000"/>
                  <a:gd name="adj2" fmla="val 48796"/>
                </a:avLst>
              </a:prstGeom>
              <a:solidFill>
                <a:srgbClr val="ccec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08520" y="3124800"/>
                <a:ext cx="609480" cy="351360"/>
              </a:xfrm>
              <a:prstGeom prst="rightArrow">
                <a:avLst>
                  <a:gd name="adj1" fmla="val 50000"/>
                  <a:gd name="adj2" fmla="val 43366"/>
                </a:avLst>
              </a:prstGeom>
              <a:solidFill>
                <a:srgbClr val="ccec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770600" y="3124800"/>
              <a:ext cx="609480" cy="351720"/>
            </a:xfrm>
            <a:prstGeom prst="rightArrow">
              <a:avLst>
                <a:gd name="adj1" fmla="val 50000"/>
                <a:gd name="adj2" fmla="val 43321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900720" y="990720"/>
              <a:ext cx="8008200" cy="4751640"/>
              <a:chOff x="900720" y="990720"/>
              <a:chExt cx="8008200" cy="475164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900720" y="990720"/>
                <a:ext cx="8008200" cy="4751640"/>
                <a:chOff x="900720" y="990720"/>
                <a:chExt cx="8008200" cy="47516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0720" y="990720"/>
                  <a:ext cx="789840" cy="47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风  雪</a:t>
                  </a:r>
                  <a:endParaRPr b="0" lang="en-US" sz="4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509600" y="1958400"/>
                  <a:ext cx="1399320" cy="281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66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zh-CN" sz="40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隔门 偷听</a:t>
                  </a:r>
                  <a:r>
                    <a:rPr b="1" lang="zh-CN" sz="4000" spc="-1" strike="noStrike">
                      <a:solidFill>
                        <a:srgbClr val="006600"/>
                      </a:solidFill>
                      <a:latin typeface="黑体"/>
                      <a:ea typeface="黑体"/>
                    </a:rPr>
                    <a:t> </a:t>
                  </a:r>
                  <a:endParaRPr b="0" lang="en-US" sz="40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85" name=""/>
              <p:cNvGraphicFramePr/>
              <p:nvPr/>
            </p:nvGraphicFramePr>
            <p:xfrm>
              <a:off x="2266920" y="1430280"/>
              <a:ext cx="533520" cy="3607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266920" y="1430280"/>
                        <a:ext cx="533520" cy="360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7" name=""/>
              <p:cNvGraphicFramePr/>
              <p:nvPr/>
            </p:nvGraphicFramePr>
            <p:xfrm>
              <a:off x="3562200" y="1430280"/>
              <a:ext cx="533520" cy="3607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8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562200" y="1430280"/>
                        <a:ext cx="533520" cy="360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9" name=""/>
              <p:cNvGraphicFramePr/>
              <p:nvPr/>
            </p:nvGraphicFramePr>
            <p:xfrm>
              <a:off x="4857840" y="1430280"/>
              <a:ext cx="514080" cy="360792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857840" y="1430280"/>
                        <a:ext cx="514080" cy="360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1" name=""/>
              <p:cNvGraphicFramePr/>
              <p:nvPr/>
            </p:nvGraphicFramePr>
            <p:xfrm>
              <a:off x="6076800" y="1430280"/>
              <a:ext cx="514440" cy="36079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9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076800" y="1430280"/>
                        <a:ext cx="514440" cy="360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3" name=""/>
              <p:cNvGraphicFramePr/>
              <p:nvPr/>
            </p:nvGraphicFramePr>
            <p:xfrm>
              <a:off x="7219800" y="1382760"/>
              <a:ext cx="514440" cy="36082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7219800" y="1382760"/>
                        <a:ext cx="514440" cy="360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95" name=""/>
          <p:cNvSpPr/>
          <p:nvPr/>
        </p:nvSpPr>
        <p:spPr>
          <a:xfrm>
            <a:off x="1820160" y="1905120"/>
            <a:ext cx="232632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途 中 见 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1240" y="1905120"/>
            <a:ext cx="171684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压 倒  草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96880" y="1905120"/>
            <a:ext cx="171684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投 宿  庙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86680" y="1565280"/>
            <a:ext cx="7938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90560" y="1828800"/>
            <a:ext cx="78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大 石 倚 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37680" y="1828800"/>
            <a:ext cx="78984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身 寒 沽 酒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981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１、开头细致描写了陆虞侯等人鬼鬼祟祟的言谈举止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99736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２、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对草料场的细节描写“将炭火盖了……把两扇草场门反拽上锁”，“恐怕火盆内有火炭延燃起来……去摸时，火盆内的火种都被雪水浸灭了”，这才“把门拽上，锁了”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1628640"/>
            <a:ext cx="9144000" cy="550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推动了情节的发展，引出小二为林冲报信，林冲寻敌复仇的情节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4941720"/>
            <a:ext cx="9144000" cy="550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草场失火是人为的。林冲一盖火盆，二寻火种，说明他细心缜密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76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本文还有哪些细节描写？这些细节有什么作用？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95280" y="4581360"/>
            <a:ext cx="8172360" cy="550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符合林冲禁军教头的身份，又表明他细心谨慎的性格特点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5280" y="1700280"/>
            <a:ext cx="8459640" cy="10076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为下文“用手推门，却被石头靠住了”埋下伏笔，致使陆虞候等人站在庙外边肆无忌惮地言语，林冲躲在庙内听得一清二楚，知道了事情真相，完成性格上的转变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549360"/>
            <a:ext cx="896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３、对山神庙的细节描写，“入得庙门，再把门掩上。旁边止有一块大石头，掇将过来靠了门”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3933720"/>
            <a:ext cx="708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４、关于刀枪、武器不离身的细节描写。</a:t>
            </a:r>
            <a:endParaRPr b="0" lang="en-US" sz="3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8380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关于方向位置的细节描写。沧州城东十五里有草料场，草料场东三二里有市井，草料场和市井中间有一座山神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680" y="2895480"/>
            <a:ext cx="911232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林冲买酒到山神庙，往东走，陆虞候放火从西面而来，双方不可能在路上相遇。使情节发展合情合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3260880" cy="4032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26920" y="549360"/>
            <a:ext cx="648036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华文新魏"/>
              </a:rPr>
              <a:t>总结全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              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Times New Roman"/>
                <a:ea typeface="华文新魏"/>
              </a:rPr>
              <a:t>主题思想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21337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整个故事情节以林冲思想性格变化为主要线索，林冲的性格表现为由安于现状、委曲求全到丢掉幻想、毅然杀死仇敌，走上反抗道路的变化过程。有力地表现了北宋王朝的黑暗腐败和受压迫者反抗的必然性。突出了“逼上梁山”这个主题，透辟地说明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官逼民反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深刻道理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新魏"/>
              </a:rPr>
              <a:t>                     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Times New Roman"/>
                <a:ea typeface="华文新魏"/>
              </a:rPr>
              <a:t>线索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主线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林冲由忍辱负重到奋起反抗的性格转变过程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一忍再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忍无可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副线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是反动统治者设计陷害林冲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逼再逼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逼到死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712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总结全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0336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Times New Roman"/>
                <a:ea typeface="华文新魏"/>
              </a:rPr>
              <a:t>写作特点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情节波澜，起伏有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刻画人物，鲜明生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成功的景物描写和细节描写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11120" y="98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总结全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282920" cy="6858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4356000" y="-36000"/>
            <a:ext cx="525636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572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漫天风雪，无尽悲伤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壶浊酒，十分惆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义已死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苍天，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路在何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熊熊烈火，长天茫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壮士心，英雄泪，空飞扬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把刀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杆枪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江湖走尽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再彷徨！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3872520"/>
            <a:ext cx="37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  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让我们一起来欣赏两首诗歌吧，也算是对这篇文章，对这个悲剧的英雄人物作一小结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4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2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2000"/>
                                        <p:tgtEl>
                                          <p:spTgt spid="4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2000"/>
                                        <p:tgtEl>
                                          <p:spTgt spid="4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说的特点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故事情节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完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二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人物个性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鲜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三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环境描写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逼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四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主题思想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深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构思角度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精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我们在阅读小说时就应该从这些方面入手，捕捉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答题技巧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Picture 4" descr="ssh3-5a"/>
          <p:cNvPicPr/>
          <p:nvPr/>
        </p:nvPicPr>
        <p:blipFill>
          <a:blip r:embed="rId2"/>
          <a:stretch/>
        </p:blipFill>
        <p:spPr>
          <a:xfrm>
            <a:off x="5580000" y="5445000"/>
            <a:ext cx="320364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00720" y="764640"/>
            <a:ext cx="4464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也曾流泪，凄凄惶惶；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壮志雄心都付与校马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忍千古奇冤， 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为那名利红颜 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怎知我魂断肠？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豪杰聚首，英雄一堂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此后，我去也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换一方天地，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轰轰烈烈干一场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好男儿，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就应该志四方！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28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57480" y="741240"/>
            <a:ext cx="842904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拓展练习：</a:t>
            </a:r>
            <a:br>
              <a:rPr sz="4000"/>
            </a:b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请你根据文章内容为林冲写副对联！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举例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课文《药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华家买药广大民众愚昧麻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夏家成药革命志士寂寞悲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课文《项链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爱慕虚荣换来十载苦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巧设情节留下百年美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6000" y="3716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华夏举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08720" y="5157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24360" y="5229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一段佳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4854600" cy="5761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980400" y="1052640"/>
            <a:ext cx="1277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英雄末路怎能安家乐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040" y="1052640"/>
            <a:ext cx="127764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世道凄凉何不揭竿而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1640" y="260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逼  上  梁  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金圣叹说《水浒》是：“无美不归绿林，无恶不归朝廷。”梁山泊上的一个个英雄是那样爱憎分明，嫉恶如仇，为了平等和正义，哪怕赴汤蹈火也在所不辞。当我们耳畔再次响起刘欢唱的《好汉歌》时，心中怎能不为顶天立地的英雄也献上一曲赞歌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播放（主题歌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">
            <a:hlinkClick r:id="rId2"/>
          </p:cNvPr>
          <p:cNvSpPr/>
          <p:nvPr/>
        </p:nvSpPr>
        <p:spPr>
          <a:xfrm>
            <a:off x="1332000" y="530064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8406"/>
                </a:moveTo>
                <a:lnTo>
                  <a:pt x="13556" y="8406"/>
                </a:lnTo>
                <a:lnTo>
                  <a:pt x="17978" y="3794"/>
                </a:lnTo>
                <a:lnTo>
                  <a:pt x="17978" y="17806"/>
                </a:lnTo>
                <a:lnTo>
                  <a:pt x="13556" y="13194"/>
                </a:lnTo>
                <a:lnTo>
                  <a:pt x="9126" y="13194"/>
                </a:lnTo>
                <a:close/>
              </a:path>
              <a:path fill="darken" w="32266" h="21600">
                <a:moveTo>
                  <a:pt x="19632" y="10800"/>
                </a:moveTo>
                <a:lnTo>
                  <a:pt x="23139" y="10800"/>
                </a:lnTo>
              </a:path>
              <a:path fill="darken" w="32266" h="21600">
                <a:moveTo>
                  <a:pt x="19632" y="8406"/>
                </a:moveTo>
                <a:lnTo>
                  <a:pt x="23139" y="5639"/>
                </a:lnTo>
              </a:path>
              <a:path fill="darken" w="32266" h="21600">
                <a:moveTo>
                  <a:pt x="19632" y="13194"/>
                </a:moveTo>
                <a:lnTo>
                  <a:pt x="23139" y="1596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1778040" cy="419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作   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写一篇文学评论，参考题目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林冲思想性格变化浅谈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②“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逼上梁山”－读《林教头风雪山神庙》有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990000"/>
                </a:solidFill>
                <a:latin typeface="黑体"/>
                <a:ea typeface="黑体"/>
              </a:rPr>
              <a:t>小议《林教头风雪山神庙》中的景物描写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9280" y="836640"/>
            <a:ext cx="661536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64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篇农民起义的悲壮史诗</a:t>
            </a:r>
            <a:endParaRPr b="1" lang="en-US" sz="4000" spc="1" strike="noStrike">
              <a:ln w="64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95640" y="4724280"/>
            <a:ext cx="66150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64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曲农民起义的雄浑颂歌</a:t>
            </a:r>
            <a:endParaRPr b="1" lang="en-US" sz="4000" spc="1" strike="noStrike">
              <a:ln w="64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2708280"/>
            <a:ext cx="661500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648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《水浒传》</a:t>
            </a:r>
            <a:endParaRPr b="0" lang="en-US" sz="4000" spc="1" strike="noStrike">
              <a:ln w="648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876920" y="228240"/>
            <a:ext cx="30477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行楷简体"/>
              </a:rPr>
              <a:t>水浒传与施耐庵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464832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43000" y="-901800"/>
            <a:ext cx="670572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762120"/>
            <a:ext cx="87631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3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施耐庵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时期的小说家，生平事迹缺乏可靠记载。其作品《水浒传》是我国文学史上第一部以 </a:t>
            </a:r>
            <a:r>
              <a:rPr b="0" lang="zh-CN" sz="1800" spc="-1" strike="noStrike">
                <a:solidFill>
                  <a:srgbClr val="0000cc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    为题材的优秀长篇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体小说。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9880" y="698400"/>
            <a:ext cx="2590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元末明初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00200" y="3213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农民起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467480" y="3137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章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676520" y="3898800"/>
            <a:ext cx="1800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7543800" y="3822840"/>
            <a:ext cx="990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文学常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504720" y="4508640"/>
            <a:ext cx="96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《水浒》也称          ，中国四大古典名著之一，你知道另外三部小说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《水浒传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5661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《红楼梦》、《三国演义》、《西游记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90760" cy="18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91440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方正姚体"/>
                <a:ea typeface="方正姚体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古代小说之最</a:t>
            </a: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: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罗贯中的《三国演义》——</a:t>
            </a:r>
            <a:r>
              <a:rPr b="1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施耐庵的《水浒》——</a:t>
            </a:r>
            <a:r>
              <a:rPr b="1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吴承恩的《西游记》——</a:t>
            </a:r>
            <a:r>
              <a:rPr b="1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方正姚体"/>
                <a:ea typeface="方正姚体"/>
              </a:rPr>
              <a:t>曹雪芹的《红楼梦》——</a:t>
            </a:r>
            <a:r>
              <a:rPr b="1" lang="zh-CN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4" descr="ssh3-5a"/>
          <p:cNvPicPr/>
          <p:nvPr/>
        </p:nvPicPr>
        <p:blipFill>
          <a:blip r:embed="rId2"/>
          <a:stretch/>
        </p:blipFill>
        <p:spPr>
          <a:xfrm>
            <a:off x="4932360" y="5013360"/>
            <a:ext cx="3960720" cy="1403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3:30:43Z</dcterms:created>
  <dc:creator>china</dc:creator>
  <dc:description/>
  <dc:language>en-US</dc:language>
  <cp:lastModifiedBy>china</cp:lastModifiedBy>
  <dcterms:modified xsi:type="dcterms:W3CDTF">2012-09-06T02:45:01Z</dcterms:modified>
  <cp:revision>70</cp:revision>
  <dc:subject/>
  <dc:title>《水浒传》之  《林教头风雪山神庙》 </dc:title>
</cp:coreProperties>
</file>