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7F5B-DACE-4702-AE38-747A30CC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B205-171F-4FEA-97BB-762566E5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7F96-1B03-45AF-8CFC-6B6912F0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FF81-77D8-4FC4-82F9-701DDC34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1BC2-60A7-45BF-BA9D-DED6BEC3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44C4-EABE-4113-95FD-52CBCBCA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AD07-B12D-4D73-9F1B-ED48F4A5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66B7-B204-4615-96A4-A7495480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1F41-8257-4912-9DBC-59DA7F8B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967E-99F0-49E0-BABB-F0FF7B07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A5B9-E49C-4BE2-A685-261CEDC7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CD8A-44C8-4C8F-901E-B9135AD6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8B4D-F7D0-452B-8EC2-61E76864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45AA-D406-4558-8520-9CFE3560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C393-20C5-4D56-8266-365B9124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5DE2-B4B7-4E74-BF32-D3BE275F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8296-3AE7-4E30-BD16-D5D0823B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6A8D-7165-4928-837C-47257B56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21E0-8C7F-46C8-AF41-C15A0D37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DFDC-F5C1-4B3C-B4B7-8465051D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8BA9-3586-4846-9C23-C698927F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96B-3126-4E0D-BD31-42831931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05FC-D24B-42DE-AF89-2744B777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59E5-7A7C-4E28-A768-A4E261F9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6CB9-732A-4EAD-B067-4DCEB99814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01AE-CA18-47AE-8770-22611F2F11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54380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209680" y="1676520"/>
            <a:ext cx="46101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latin typeface="宋体"/>
              </a:rPr>
              <a:t>山 中 访 友</a:t>
            </a:r>
            <a:endParaRPr b="0" lang="en-US" sz="66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00ff">
                  <a:alpha val="50000"/>
                </a:srgbClr>
              </a:solidFill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752480" y="4648320"/>
            <a:ext cx="121932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云雀——弟弟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010331030316202c2ba9_1" descr=""/>
          <p:cNvPicPr/>
          <p:nvPr/>
        </p:nvPicPr>
        <p:blipFill>
          <a:blip r:embed="rId1"/>
          <a:stretch/>
        </p:blipFill>
        <p:spPr>
          <a:xfrm>
            <a:off x="-15228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609480" y="6094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石头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990720" y="1066680"/>
            <a:ext cx="914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落叶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267080" y="2400480"/>
            <a:ext cx="9144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小花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010402030205008c918_1" descr=""/>
          <p:cNvPicPr/>
          <p:nvPr/>
        </p:nvPicPr>
        <p:blipFill>
          <a:blip r:embed="rId1"/>
          <a:stretch/>
        </p:blipFill>
        <p:spPr>
          <a:xfrm>
            <a:off x="-15228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828800" y="5257800"/>
            <a:ext cx="914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阵雨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030301021003117_1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886200" y="32004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老柏树</a:t>
            </a:r>
            <a:endParaRPr b="0" lang="en-US" sz="24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124080" y="76212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蚂蚁——小弟弟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86200" y="457200"/>
            <a:ext cx="525780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古桥——老朋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树林——知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山泉——姐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溪流——妹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白云——大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瀑布——大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悬崖——爷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云雀——弟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石头、落叶、小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阵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老柏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蚂蚁小弟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 rot="5400000">
            <a:off x="168840" y="2723400"/>
            <a:ext cx="2247840" cy="1519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山中访友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685800" y="533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  <a:ea typeface="隶书"/>
              </a:rPr>
              <a:t>       </a:t>
            </a:r>
            <a:r>
              <a:rPr b="0" lang="zh-CN" sz="4400" spc="-1" strike="noStrike">
                <a:solidFill>
                  <a:srgbClr val="221304"/>
                </a:solidFill>
                <a:latin typeface="Times New Roman"/>
                <a:ea typeface="隶书"/>
              </a:rPr>
              <a:t>品一品  说一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58676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所说的山中访友，不就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中看景吗，那我把题目改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中看景”，你觉得怎么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848720" y="5791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914400" y="609480"/>
            <a:ext cx="1828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朗读比赛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456840"/>
            <a:ext cx="5562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0060d"/>
                </a:solidFill>
                <a:latin typeface="Times New Roman"/>
              </a:rPr>
              <a:t>（分甲乙两组，每组选派一名选手，读完后请两组派代表进行点评）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-609480" y="33526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点评参考（一分为二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、吐字清晰，语音准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、语速适中，语气舒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、轻重音处理以及停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、课文感情韵味的把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</a:rPr>
              <a:t>放声自由朗读，而后小组研讨</a:t>
            </a:r>
            <a:r>
              <a:rPr b="0" lang="zh-CN" sz="5400" spc="-1" strike="noStrike">
                <a:solidFill>
                  <a:srgbClr val="ff66cc"/>
                </a:solidFill>
                <a:latin typeface="Times New Roman"/>
              </a:rPr>
              <a:t>：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2590560"/>
            <a:ext cx="7429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5f9d8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d5f9d8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d5f9d8"/>
                </a:solidFill>
                <a:latin typeface="Times New Roman"/>
              </a:rPr>
              <a:t>、扫清朗读时遇到的文字障碍 ， 小组中仍未能解决的请上来写到黑板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5f9d8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d5f9d8"/>
                </a:solidFill>
                <a:latin typeface="Times New Roman"/>
              </a:rPr>
              <a:t>、找一找作者拜访了哪些朋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  <a:ea typeface="隶书"/>
              </a:rPr>
              <a:t>写一写   说一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采用的是说话方式向他的大自然朋友打招呼，我们也尝试一下用“你好”写一句话，向我们的大自然朋友打一下招呼，好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比如松树、小草、白鹭……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55897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838440" y="1447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Times New Roman"/>
              </a:rPr>
              <a:t>学习收获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523520" y="274284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5f9d8"/>
                </a:solidFill>
                <a:latin typeface="Times New Roman"/>
              </a:rPr>
              <a:t>作者进山看景，像是走到了亲朋好友当中，他为什么把山林当成家，他想告诉我们什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8384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  <a:ea typeface="隶书"/>
              </a:rPr>
              <a:t>作业布置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00200" y="1980720"/>
            <a:ext cx="678168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选一个好天气，与好友结伴到郊外走走，去触摸大自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假如你是某一景物，面对来往形形色色的游人，你对游人说说心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有感情地朗读《山中访友》两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小桥流水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124080" y="53352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ff66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latin typeface="宋体"/>
              </a:rPr>
              <a:t>古桥——老朋友</a:t>
            </a:r>
            <a:endParaRPr b="0" lang="en-US" sz="2400" spc="1" strike="noStrike">
              <a:ln cap="sq" w="9360">
                <a:solidFill>
                  <a:srgbClr val="ff6600"/>
                </a:solidFill>
                <a:miter/>
              </a:ln>
              <a:solidFill>
                <a:srgbClr val="ff6600">
                  <a:alpha val="50000"/>
                </a:srgbClr>
              </a:solidFill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a1bd6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natureqqi6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2895480" y="533412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树林——知己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a1bd6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4120" y="4876920"/>
            <a:ext cx="27432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山泉——姐姐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19807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cc"/>
                </a:solidFill>
                <a:latin typeface="Times New Roman"/>
              </a:rPr>
              <a:t>溪流——妹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010501030321062c2c25_1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914400" y="594360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白云——大嫂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81680" y="380880"/>
            <a:ext cx="1905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380520"/>
            <a:ext cx="55627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5562720" cy="2666880"/>
          </a:xfrm>
          <a:prstGeom prst="rect">
            <a:avLst/>
          </a:prstGeom>
          <a:ln w="0">
            <a:noFill/>
          </a:ln>
        </p:spPr>
      </p:pic>
      <p:pic>
        <p:nvPicPr>
          <p:cNvPr id="113" name="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0" y="5335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瀑布大哥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743200" y="304920"/>
            <a:ext cx="27432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悬崖——爷爷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4:36:26Z</dcterms:created>
  <dc:creator>Tomas</dc:creator>
  <dc:description/>
  <dc:language>en-US</dc:language>
  <cp:lastModifiedBy>微软用户</cp:lastModifiedBy>
  <dcterms:modified xsi:type="dcterms:W3CDTF">2010-06-20T04:10:28Z</dcterms:modified>
  <cp:revision>59</cp:revision>
  <dc:subject/>
  <dc:title>山中访友</dc:title>
</cp:coreProperties>
</file>