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himes.wav" ContentType="audio/x-wav"/>
  <Override PartName="/ppt/media/image13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projctor.wav" ContentType="audio/x-wav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62FF-BF6B-461B-AE1F-7CBA38FE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510-DE66-4994-B782-078584B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76F-3251-4F1C-9D75-8AC50799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79B-A986-48D2-9DAB-9B1F2902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E73B-F3B4-4D65-B09E-60BC6B86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5D68-803B-4320-A290-032BB5A6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811D-F8CA-45B5-A84D-6E11E112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93D6-E8E2-44E9-88A1-73135010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CD8B-0754-481E-BB07-2AE32BC5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204D-8ADA-4057-851E-4FA90364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53D4-DF91-4129-AF7C-AF94586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0E0-6EE9-4B8B-B7C7-44BD8999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15E9-9918-4797-A5AE-47E3CFA6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2189-8F9B-4BC8-B850-80EC6361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1861-1570-49AC-B952-EB5430D7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3172-E134-4E74-A893-039A0AA1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7EC1-621C-453D-AEA7-0B37F80C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C716E-1ABA-4649-A73B-F3CB9C63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9DD4-ADB9-4E87-9729-CF41C3C8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DC8D-B8C6-4629-81F0-EF8CA156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8910-D7BF-4366-9F25-D644F82B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DA13-F8B5-40FA-99F4-CA7B01A4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601-484E-4C3A-9D7F-1B464F1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5A62-B7FB-4609-8AF0-93F8DD39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FD0B-B038-47E4-8423-F94605BB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E9CA-D561-4BC1-965A-87E58F1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59935-0775-4A4D-A408-E049905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02A8-DF82-4B25-863F-AE3E7D9C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94F6-C370-473C-925B-55279E18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3C93-23FC-45F1-B89A-8C5CE68C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6FF-355E-4849-BE73-2C7D201B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B6E-C4FF-4CAD-8535-985763FC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B7C-4D5F-4C20-8B2F-3A9279C8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B4F-2D0F-4EB6-BB42-C7D2B9A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278-764A-4B47-A123-8ACA0D3C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541-14B9-45CA-B42B-76387843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1DAB-70CE-4D3E-AB79-A96A302DBE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D536-0A9C-462B-AAC3-3D3C7C795C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AE55-4FA9-4EFE-A44C-82C0A98AE6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547640" y="1268280"/>
            <a:ext cx="583884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大瀑布的葬礼</a:t>
            </a:r>
            <a:endParaRPr b="1" lang="en-US" sz="8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9144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860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它在群山之中</a:t>
            </a:r>
            <a:r>
              <a:rPr b="1" lang="zh-CN" sz="5400" spc="-1" strike="noStrike" u="sng">
                <a:solidFill>
                  <a:srgbClr val="660033"/>
                </a:solidFill>
                <a:uFillTx/>
                <a:latin typeface="Times New Roman"/>
                <a:ea typeface="黑体"/>
              </a:rPr>
              <a:t>无奈地垂下了头，像生命垂危的老人一般，形容枯槁，奄奄一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46748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438280"/>
            <a:ext cx="8076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这一闻名世界的大瀑布是怎样被葬送的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6200" y="189000"/>
            <a:ext cx="2489400" cy="2160360"/>
            <a:chOff x="106200" y="189000"/>
            <a:chExt cx="2489400" cy="216036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06200" y="189000"/>
              <a:ext cx="187992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22160" y="828720"/>
              <a:ext cx="18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小组学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804960"/>
            <a:ext cx="800100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主要原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、建水电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　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、水资源浪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　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、破坏森林、乱砍滥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2133720"/>
            <a:ext cx="76327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几年过去，塞特凯达斯大瀑布逐渐枯竭，即使在汛期，也见不到昔日雄奇的气势。它在群山之中无奈地垂下了头，像生命垂危的老人，形容枯槁，奄奄一息。游人们常常乘兴而来，失望而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200240" y="990720"/>
            <a:ext cx="6972120" cy="13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昔日     雄伟壮观 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00240" y="2971800"/>
            <a:ext cx="68292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隶书"/>
              </a:rPr>
              <a:t>如今     逐渐枯竭 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4800600"/>
            <a:ext cx="7886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保护生态环境  保护地球 </a:t>
            </a:r>
            <a:endParaRPr b="1" lang="en-US" sz="54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836640"/>
            <a:ext cx="77040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塞特凯达斯大瀑布曾经是怎样一条瀑布？现在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这样气魄雄伟的瀑布为什么会被葬送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巴西总统为什么要亲自主持葬礼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为大瀑布举行葬礼有什么重要意义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14400" y="156996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让塞特凯达斯大瀑布的悲剧不再重演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5229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533520"/>
            <a:ext cx="8686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塞特凯达斯大瀑布曾经是世界上流量最大的瀑布，汹涌的河水紧贴悬崖咆哮而下，滔滔不绝，一泻千里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533520"/>
            <a:ext cx="86868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塞特凯达斯大瀑布曾经是世界上流量最大的瀑布，汹涌的河水紧贴悬崖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咆哮而下，滔滔不绝，一泻千里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7621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每秒钟有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万立方米的水从几十米的高处飞流直下，落地撞开万朵莲花，溅起的水雾飘飘洒洒，水声震耳欲聋。据说在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30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公里外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瀑布的巨响还清晰可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762120"/>
            <a:ext cx="8610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每秒钟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万立方米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的水从几十米的高处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飞流直下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，落地撞开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万朵莲花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，溅起的水雾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飘飘洒洒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，水声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震耳欲聋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。据说在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30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公里外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瀑布的巨响还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清晰可闻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53352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水以立方米为计量单位，即长、宽、高皆为一米。相当于一千公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立方米的水净重一吨或一千公斤。如果把家里的浴缸灌满水五次，所耗用的水量便约为一立方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457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以来，塞特凯达斯瀑布一直是巴西和巴拉圭人民的骄傲。世界各地的观光者纷至沓来，在这从天而降的巨大水帘面前，置身于细细的水雾中，感受着这世外桃源的清新空气，游客们常常为此陶醉不已，流连往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9144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54936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它在群山之中无奈地垂下了头，像生命垂危的老人一般，形容枯槁，奄奄一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4:18:57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8:31Z</dcterms:modified>
  <cp:revision>43</cp:revision>
  <dc:subject>六十铺中小学教育网http://www.lspjy.com</dc:subject>
  <dc:title>六十铺中小学教育网http://www.lspjy.com</dc:title>
</cp:coreProperties>
</file>