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037-AB22-44D7-BBD3-A10D2BD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84C-C725-4065-84C6-927316A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8B6-5B64-40FD-ADC8-3BEA69B9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F44-F07B-451F-B2A9-90DFB21B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69D-9985-4AF6-ACAF-888B4879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CB0-1B6A-4B81-AB3B-FCFDC89E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375-7654-4DC8-839C-521FD5C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BC9-2A88-4FE0-A586-44CF05F1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68E-096C-49B9-9283-3CB2AE15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B6C-2A8C-4F78-80EB-EB2B7B0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440-6FEC-42F3-BB1A-A9341E4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D1A-9AAA-473A-B5D1-02C211F0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542E-656D-4B8B-94B4-8032DEF9F9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349360"/>
            <a:ext cx="3918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怀念母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——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0" y="1181160"/>
            <a:ext cx="1695600" cy="4495320"/>
            <a:chOff x="6858000" y="1181160"/>
            <a:chExt cx="1695600" cy="449532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6858000" y="323820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“生身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48Z</dcterms:modified>
  <cp:revision>270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