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D5F-7FC9-4F48-93EA-3CCE9F16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9A5-C097-4051-8B17-5520CED0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D69-69EC-425B-8F2C-45870BA4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24E-136A-4341-A7D3-C12F35DF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F60-0E46-4ED2-9E21-7E75EE9F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5C1-C0A4-41B7-AB30-57C5956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5B9-FF9C-431E-8956-38418690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FBF-D973-4933-AC6D-2464072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C1B-95A9-4FCF-A415-9D052B4C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6CB-A196-465C-BA3E-9BBC69CA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B9C-16C4-4D21-861F-CCB1352F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11E-05AA-4657-9E69-9DA8258F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C25A-5BFF-45A8-A13F-BE8A7C0B2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4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12193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4191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列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9520" y="2117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。把最使你感动的地方画下来，写上几句自己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34131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文中提出几个不懂的或感兴趣的问题，跟大家讨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句子，联系上下文说说从加红的词语中体会到了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637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她的心跳得很厉害，自己也不知道为什么要这样做，但是觉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非这样做不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哦，我们，我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能熬过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！快去！别等他们醒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1905120"/>
            <a:ext cx="5029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有感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交流一下：怎样才能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好桑娜忐忑不安的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描写和她与渔夫的对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1800" y="5335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8120"/>
            <a:ext cx="8077320" cy="642600"/>
            <a:chOff x="380880" y="3048120"/>
            <a:chExt cx="8077320" cy="642600"/>
          </a:xfrm>
        </p:grpSpPr>
        <p:sp>
          <p:nvSpPr>
            <p:cNvPr id="53" name=""/>
            <p:cNvSpPr/>
            <p:nvPr/>
          </p:nvSpPr>
          <p:spPr>
            <a:xfrm>
              <a:off x="38088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桑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1520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渔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4400" y="2590920"/>
            <a:ext cx="2666880" cy="1525320"/>
            <a:chOff x="914400" y="2590920"/>
            <a:chExt cx="2666880" cy="1525320"/>
          </a:xfrm>
        </p:grpSpPr>
        <p:sp>
          <p:nvSpPr>
            <p:cNvPr id="56" name=""/>
            <p:cNvSpPr/>
            <p:nvPr/>
          </p:nvSpPr>
          <p:spPr>
            <a:xfrm>
              <a:off x="182880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等待丈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心惊肉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14400" y="3733200"/>
              <a:ext cx="914400" cy="228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1" stAng="10800000" swAng="5400000"/>
                  <a:lnTo>
                    <a:pt x="15150" y="2899"/>
                  </a:lnTo>
                  <a:lnTo>
                    <a:pt x="15150" y="0"/>
                  </a:lnTo>
                  <a:lnTo>
                    <a:pt x="21600" y="6079"/>
                  </a:lnTo>
                  <a:lnTo>
                    <a:pt x="15150" y="12158"/>
                  </a:lnTo>
                  <a:lnTo>
                    <a:pt x="15150" y="9259"/>
                  </a:lnTo>
                  <a:lnTo>
                    <a:pt x="12427" y="9259"/>
                  </a:lnTo>
                  <a:arcTo wR="6067" hR="2901" stAng="16200000" swAng="-5400000"/>
                  <a:lnTo>
                    <a:pt x="636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4400" y="2819520"/>
              <a:ext cx="914400" cy="228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29000" y="2590920"/>
            <a:ext cx="2057400" cy="1525320"/>
            <a:chOff x="3429000" y="2590920"/>
            <a:chExt cx="2057400" cy="1525320"/>
          </a:xfrm>
        </p:grpSpPr>
        <p:sp>
          <p:nvSpPr>
            <p:cNvPr id="61" name=""/>
            <p:cNvSpPr/>
            <p:nvPr/>
          </p:nvSpPr>
          <p:spPr>
            <a:xfrm>
              <a:off x="373392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抱回孩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忐忑不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28195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809880"/>
              <a:ext cx="380880" cy="152640"/>
            </a:xfrm>
            <a:prstGeom prst="rightArrow">
              <a:avLst>
                <a:gd name="adj1" fmla="val 50000"/>
                <a:gd name="adj2" fmla="val 62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34120" y="2590920"/>
            <a:ext cx="2666520" cy="1525320"/>
            <a:chOff x="5334120" y="2590920"/>
            <a:chExt cx="2666520" cy="1525320"/>
          </a:xfrm>
        </p:grpSpPr>
        <p:sp>
          <p:nvSpPr>
            <p:cNvPr id="66" name=""/>
            <p:cNvSpPr/>
            <p:nvPr/>
          </p:nvSpPr>
          <p:spPr>
            <a:xfrm>
              <a:off x="5638680" y="25909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催促桑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38680" y="35956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平静下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2819520"/>
              <a:ext cx="380880" cy="152280"/>
            </a:xfrm>
            <a:prstGeom prst="lef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809880"/>
              <a:ext cx="380880" cy="152640"/>
            </a:xfrm>
            <a:prstGeom prst="leftArrow">
              <a:avLst>
                <a:gd name="adj1" fmla="val 50000"/>
                <a:gd name="adj2" fmla="val 62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238160" y="2743200"/>
              <a:ext cx="762120" cy="30492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7238160" y="3733200"/>
              <a:ext cx="762120" cy="2286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195640" y="4653000"/>
            <a:ext cx="53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善良   乐于助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-7632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1111320"/>
            <a:ext cx="29718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俄国著名作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81952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23540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穷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3:14:5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6:24Z</dcterms:modified>
  <cp:revision>4</cp:revision>
  <dc:subject/>
  <dc:title>六十铺中小学教育网http://www.lspjy.com</dc:title>
</cp:coreProperties>
</file>