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AD97A-A82F-46BF-8366-1DB7E4C26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8F366-461F-40FE-8758-53DB06D03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B3E88-BA8A-4CD3-AC81-D22683ED2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CBB8F-9B15-403B-B785-882F2CBED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70120-5058-4CA6-8786-6DF84FA7B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A4659-0555-4B9B-B414-171CF314D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B584A-8441-4C4E-B7FC-098D29ADE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60C5F-DAA2-4761-9E16-4DB2D80B9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F9A6B-1115-445D-B849-FD79921D9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D2F76-6584-4CBE-843F-0BBD6D0A5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A9D30-37A7-47B5-9184-5F319EE74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DD306-28D6-48FD-91E4-2DD7EA7BB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1A43D-3BAC-444D-8C1E-6C63B3116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A2313-861E-49CA-B619-ABD234BEF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E9707-3EA7-463B-A1F6-C0B287A22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ED3F2-337E-436E-823C-D3B71D07D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6FC74-40EC-4362-BCCA-0A8287DB2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26F59-D3DA-4893-A1E7-8A4578C3D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A93EC-80E5-4155-943F-1AAF3E716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A48C6-3380-4F20-8F1D-23CBF54FD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41161-AC2B-4C20-AC63-78E4F1BA6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D9AB2-152C-437D-93C4-D00C04C5F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C304C-7D1A-4B22-83B2-1E83FC954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750BD-4D04-4D34-B5B1-8E66E77F5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07BAB-7892-430D-BDAE-00C01C7F26EF}" type="slidenum">
              <a:rPr b="0" lang="zh-CN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13C41-B1D3-46F3-BA4E-64FFAC442DC5}" type="slidenum">
              <a:rPr b="0" lang="zh-CN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990720" y="1981080"/>
            <a:ext cx="73152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7a77"/>
                </a:solidFill>
                <a:latin typeface="Arial"/>
              </a:rPr>
              <a:t>16</a:t>
            </a:r>
            <a:r>
              <a:rPr b="1" lang="zh-CN" sz="8000" spc="-1" strike="noStrike">
                <a:solidFill>
                  <a:srgbClr val="007a77"/>
                </a:solidFill>
                <a:latin typeface="Arial"/>
              </a:rPr>
              <a:t>*  </a:t>
            </a:r>
            <a:r>
              <a:rPr b="1" lang="zh-CN" sz="8000" spc="-1" strike="noStrike">
                <a:solidFill>
                  <a:srgbClr val="007a77"/>
                </a:solidFill>
                <a:latin typeface="Arial"/>
              </a:rPr>
              <a:t>青山不老</a:t>
            </a:r>
            <a:endParaRPr b="0" lang="en-US" sz="80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457360" y="4038480"/>
            <a:ext cx="462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d2a0f"/>
                </a:solidFill>
                <a:latin typeface="Arial"/>
              </a:rPr>
              <a:t>马坡岭小学　　谭世伟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898560" y="1295280"/>
            <a:ext cx="7026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7a77"/>
                </a:solidFill>
                <a:latin typeface="Arial"/>
              </a:rPr>
              <a:t>       </a:t>
            </a:r>
            <a:r>
              <a:rPr b="1" lang="zh-CN" sz="4800" spc="-1" strike="noStrike">
                <a:solidFill>
                  <a:srgbClr val="007a77"/>
                </a:solidFill>
                <a:latin typeface="Arial"/>
              </a:rPr>
              <a:t>作为一个山野老农，他就这样来实现自己的价值。他已经将自己的生命转化为另一种东西。他是真正与山川共存、与日月同辉了。 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533520" y="1798560"/>
            <a:ext cx="838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7a77"/>
                </a:solidFill>
                <a:latin typeface="Arial"/>
              </a:rPr>
              <a:t>课堂小练笔：以“青山是不会老的”写一段自己的感想。</a:t>
            </a:r>
            <a:endParaRPr b="0" lang="en-US" sz="7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1905120" y="2209680"/>
            <a:ext cx="54864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652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谢谢指导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94" name=""/>
          <p:cNvSpPr/>
          <p:nvPr/>
        </p:nvSpPr>
        <p:spPr>
          <a:xfrm>
            <a:off x="4419720" y="57913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更多全套免费课件下载地址：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六十铺中小学教育网</a:t>
            </a: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http://www.lspjy.com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457200" y="914400"/>
            <a:ext cx="792468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a77"/>
                </a:solidFill>
                <a:latin typeface="Arial"/>
              </a:rPr>
              <a:t>阅读提示</a:t>
            </a:r>
            <a:r>
              <a:rPr b="1" lang="zh-CN" sz="4400" spc="-1" strike="noStrike">
                <a:solidFill>
                  <a:srgbClr val="007a77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a77"/>
                </a:solidFill>
                <a:latin typeface="Arial"/>
              </a:rPr>
              <a:t>1</a:t>
            </a:r>
            <a:r>
              <a:rPr b="1" lang="zh-CN" sz="4400" spc="-1" strike="noStrike">
                <a:solidFill>
                  <a:srgbClr val="007a77"/>
                </a:solidFill>
                <a:latin typeface="Arial"/>
              </a:rPr>
              <a:t>、默读课文</a:t>
            </a:r>
            <a:r>
              <a:rPr b="1" lang="zh-CN" sz="4400" spc="-1" strike="noStrike">
                <a:solidFill>
                  <a:srgbClr val="007a77"/>
                </a:solidFill>
                <a:latin typeface="Arial"/>
              </a:rPr>
              <a:t>,</a:t>
            </a:r>
            <a:r>
              <a:rPr b="1" lang="zh-CN" sz="4400" spc="-1" strike="noStrike">
                <a:solidFill>
                  <a:srgbClr val="007a77"/>
                </a:solidFill>
                <a:latin typeface="Arial"/>
              </a:rPr>
              <a:t>思考</a:t>
            </a:r>
            <a:r>
              <a:rPr b="1" lang="zh-CN" sz="4400" spc="-1" strike="noStrike">
                <a:solidFill>
                  <a:srgbClr val="007a77"/>
                </a:solidFill>
                <a:latin typeface="Arial"/>
              </a:rPr>
              <a:t>:</a:t>
            </a:r>
            <a:r>
              <a:rPr b="1" lang="zh-CN" sz="4400" spc="-1" strike="noStrike">
                <a:solidFill>
                  <a:srgbClr val="007a77"/>
                </a:solidFill>
                <a:latin typeface="Arial"/>
              </a:rPr>
              <a:t>这位老人创造了怎样的奇迹？这一奇迹是在什么样的情况下创造的？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a77"/>
                </a:solidFill>
                <a:latin typeface="Arial"/>
              </a:rPr>
              <a:t>2</a:t>
            </a:r>
            <a:r>
              <a:rPr b="1" lang="zh-CN" sz="4400" spc="-1" strike="noStrike">
                <a:solidFill>
                  <a:srgbClr val="007a77"/>
                </a:solidFill>
                <a:latin typeface="Arial"/>
              </a:rPr>
              <a:t>、联系课文想一想：作者为什么说“青山是不会老的”？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0" y="533520"/>
            <a:ext cx="914400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六十铺中小学教育网http://www.lspjy.com</dc:creator>
  <dc:description>六十铺中小学教育网http://www.lspjy.com</dc:description>
  <cp:keywords>六十铺中小学教育网http://www.lspjy.com</cp:keywords>
  <dc:language>en-US</dc:language>
  <cp:lastModifiedBy>微软用户</cp:lastModifiedBy>
  <dcterms:modified xsi:type="dcterms:W3CDTF">2010-07-10T10:00:03Z</dcterms:modified>
  <cp:revision>8</cp:revision>
  <dc:subject>六十铺中小学教育网http://www.lspjy.com</dc:subject>
  <dc:title>六十铺中小学教育网http://www.lspjy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