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wmf" ContentType="image/x-wmf"/>
  <Override PartName="/ppt/media/image8.wmf" ContentType="image/x-wmf"/>
  <Override PartName="/ppt/media/image11.jpeg" ContentType="image/jpeg"/>
  <Override PartName="/ppt/media/chimes.wav" ContentType="audio/x-wav"/>
  <Override PartName="/ppt/media/image16.gif" ContentType="image/gif"/>
  <Override PartName="/ppt/media/image14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A52-CB82-4B83-A344-800413BF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B8A-F070-4F79-8447-1416258B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EFC-2E2C-4310-8D2E-74B839C4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FD1-9ED9-4B8A-A217-C3F947CB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B1FF-F751-4878-ACF5-A47F5A54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52EC-2145-465F-A3AC-81BFC9A0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F253-24C6-4BB4-8178-033902A5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3CC6-2032-4CBF-9AD3-47DFE24C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24AA-1F00-4690-932D-CEB47F4B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013A-7E83-44EE-A271-8CB073F4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5E49-7EF1-429C-9055-E25918B4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BC8-9C3C-42A3-BFBB-67C2D097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361F-4D59-4C86-B1B1-FC4E2B6F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B07A-02A9-4E6F-8002-919AB41F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1D87-713D-44CA-911C-4D981100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2105-3665-4B1F-8660-4CFB85F4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0A84-21F1-4C16-8987-3D6E1D7A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8C5C9-9CA1-449B-B5F8-5AB9C244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B8D75-402F-499B-945C-2FDBB2EE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D6611-95BD-405F-BC66-08CA813D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82B92-2AFA-4880-A1A9-33B323C3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5CDAC-EDEC-49CA-8AD9-788378A2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80F-91D6-4AC3-9180-44323B99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C3C2-9CB1-45B9-98F9-6CBA72F4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2D47A-F298-4BFB-A118-7E48FB95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A5897-F73A-4B61-872A-4CEEEF64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3F902-E696-48A6-B7E0-0138F2CC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B6B90-8E57-46AA-AE50-2689E469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8879-9920-4B52-B204-3FC38592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5CFBB-2E05-4430-8632-536352EE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438DC-8FBB-41DE-B37E-93EC0891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1BA32-0117-4B8B-B976-5415BB19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5AB5C-1B8B-4380-9A18-BDCE240A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A49-B2EA-4D87-B594-9555B603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58F39-78D4-4D71-A8D4-FB98B990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C84FE-A378-4DB9-A96B-12EA5AE0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451B0-9CAE-45A1-A511-25F3FCF9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D26E5-4EC2-4FA1-BA97-66354100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C2C85-80C3-44EF-91D8-C33EFCC9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71ECC-E660-41F1-9217-2C8D03A2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7D0BE-71EB-4A4D-9407-31C695C1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F3C9-A7D7-49D8-AEA0-EDC9D783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9BCFC-A6BE-4C15-9633-81D761AE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15F-ADD5-43D3-9BEF-9345FF19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937-E6BA-4FC0-ADD5-7B013573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12C-F8CF-4355-A22C-4E8DAC34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09E-8485-45C3-9955-A5C82097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441-C481-47B9-A56D-C3AE220B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9C78-7D11-4036-B3ED-A17FB3609E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ED66-8A3E-4612-A13C-D722C9E032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AEA0-501C-4EFD-90FC-546955F9EE26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7921-83BA-42DD-9269-C4A332B990B1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195640" y="1268280"/>
            <a:ext cx="388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一面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19280" y="3860640"/>
            <a:ext cx="5616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前面是一条路，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先生没有走完就倒下了，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我们只有踏着他的血的足印，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继续前进。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16000" y="1557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精读课文第一部分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2781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、课文对鲁迅先生几次肖像描写？重点写他什么特征？为什么这样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4149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、怎样理解“同志、朋友、父亲、师傅、战士”的含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906560" y="20606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作者阿累只是一个普通汽车售票员，可鲁迅先生亲自接待并价卖书、赠书，可见鲁迅先生对进步青年的关心爱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47640" y="588960"/>
            <a:ext cx="28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总 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708360" y="549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自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73280" y="126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鲁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60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拓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90440" y="198288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运交华盖欲何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03320" y="27781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未敢翻身已碰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03320" y="35701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破帽遮颜过闹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47520" y="436248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漏船载酒泛中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52920" y="1986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横眉冷对千夫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21240" y="2778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俯首甘为孺子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71040" y="3570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躲进小楼成一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76880" y="43624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管他冬夏与春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14400" y="5562720"/>
            <a:ext cx="7009920" cy="837360"/>
            <a:chOff x="914400" y="5562720"/>
            <a:chExt cx="7009920" cy="837360"/>
          </a:xfrm>
        </p:grpSpPr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7316640" y="5562720"/>
              <a:ext cx="6076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6343920" y="5614920"/>
              <a:ext cx="60768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4"/>
            <a:stretch/>
          </p:blipFill>
          <p:spPr>
            <a:xfrm>
              <a:off x="5290200" y="5614920"/>
              <a:ext cx="60768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5"/>
            <a:stretch/>
          </p:blipFill>
          <p:spPr>
            <a:xfrm>
              <a:off x="4237200" y="5614920"/>
              <a:ext cx="60732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6"/>
            <a:stretch/>
          </p:blipFill>
          <p:spPr>
            <a:xfrm>
              <a:off x="3062160" y="5614920"/>
              <a:ext cx="60732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7"/>
            <a:stretch/>
          </p:blipFill>
          <p:spPr>
            <a:xfrm>
              <a:off x="1886760" y="5614920"/>
              <a:ext cx="60768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914400" y="5614920"/>
              <a:ext cx="607680" cy="78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2050920" y="486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28800" y="48006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339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867280" y="422100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1881-1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213372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浙江绍兴人。文学家，思想家，革命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187280" y="1052640"/>
            <a:ext cx="2138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作者介绍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2205000"/>
            <a:ext cx="65530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e0000"/>
                </a:solidFill>
                <a:latin typeface="Tahoma"/>
              </a:rPr>
              <a:t>     </a:t>
            </a:r>
            <a:r>
              <a:rPr b="1" lang="zh-CN" sz="3000" spc="-1" strike="noStrike">
                <a:solidFill>
                  <a:srgbClr val="ee0000"/>
                </a:solidFill>
                <a:latin typeface="Tahoma"/>
              </a:rPr>
              <a:t>阿累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，真名朱凡，原名朱一苇，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09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月生，江苏涟水人。在南京金陵大学附中、上海立达学园、同文书院学习过，毕业与上海艺术大学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参加反帝大同盟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参加 “右翼剧联”， 同年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月考进上海英商公共汽车公司当售票员，不久加入中国共产党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因参加工人罢工被捕判刑，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5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经人保释出狱，旋赴马来西亚，参加马来西亚共产党活动，被官方侦悉，迫令出境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6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复返上海，从事写作和翻译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7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，抗战开始，参加新四军。此后一直在部队和地方做文教和行政工作。解放后，历任湖南革命大学副校长、省文教厅厅长、省委宣传部长、湖南大学校长等职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8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离休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089320" cy="473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2637000"/>
            <a:ext cx="5041800" cy="466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763640" y="3309840"/>
            <a:ext cx="5484960" cy="406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768320" y="3946680"/>
            <a:ext cx="5180040" cy="419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724280" y="15159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1892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i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6000" y="1892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iǒ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81360" y="2637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u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05360" y="2637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3284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ā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21360" y="321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390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3860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ǒ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4495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óuch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1763640" y="4581360"/>
            <a:ext cx="5616720" cy="398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620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注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089320" cy="473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835280" y="2637000"/>
            <a:ext cx="5041800" cy="46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763640" y="3309840"/>
            <a:ext cx="5484960" cy="406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768320" y="3946680"/>
            <a:ext cx="5180040" cy="419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24280" y="15159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892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i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1892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iǒ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81360" y="2637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u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05360" y="2637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5480" y="3284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ā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21360" y="321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16360" y="390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3860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ǒ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4495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óuch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1763640" y="4581360"/>
            <a:ext cx="5616720" cy="398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5640" y="620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注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76360" y="1197000"/>
            <a:ext cx="693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课文中表示时间的词语有那些？根据这些词语，我们可以判定本文本文采用了那种写作顺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292428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你认为可把课文划分为几个层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初读课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76360" y="3789360"/>
            <a:ext cx="496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、分组讨论下列“镜头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）书店全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）书架一角的近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）一本书特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99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3" dur="1" fill="hold"/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4500720" cy="4608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42512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9" dur="1" fill="hold"/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260280"/>
            <a:ext cx="67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复述课文，弄清事情的六要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1268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时间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24000" y="1268280"/>
            <a:ext cx="27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秋天的一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191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地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24000" y="1916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山书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25401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人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95560" y="25401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，鲁迅，内山完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7080" y="3213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起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0920" y="3213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因接班还要等半个钟头，到内山书店躲雨、歇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933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翻看书籍，内山老板殷勤接待，买书缺钱，与鲁迅会面、交谈并接受赠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2280" y="5157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结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68480" y="5157720"/>
            <a:ext cx="57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“一面”中受到巨大的鼓舞和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4200" y="39085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经过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16:08:08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2:04Z</dcterms:modified>
  <cp:revision>16</cp:revision>
  <dc:subject>六十铺中小学教育网http://www.lspjy.com</dc:subject>
  <dc:title>六十铺中小学教育网http://www.lspjy.com</dc:title>
</cp:coreProperties>
</file>