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26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938-4D62-4223-9119-9A6C3A1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422-454E-4A42-80FE-583E4A6D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13DB-3EBE-4B30-BDCE-43B6C406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FA6-C353-4785-9787-16081A30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BB9C-FFF1-45DC-A8D5-C890B086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54D8-88F0-4815-836F-DC27A5B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BF4E-5A6D-4F9C-B6ED-5F5A38E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8D25-98FA-46BB-BE2F-E15D1B6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0FEC-5DE9-4D4D-A30E-5317C1D4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2053-EE84-446E-835E-4526D65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A7D-C134-4019-9FEC-CFB3E6B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0B3-52E6-4B67-B577-5D2BF13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9428-F639-43A5-832F-5ED1DD64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21FB-D222-4753-9303-A925770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0E43-5088-4424-9EDF-FAE6160B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B99-B3FB-4E7B-BCBD-2D0A5158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C040-5AE8-4273-99C7-7B43EFF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597-C203-411B-ABBB-77BFBBA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A10-C2A2-48E1-A1FA-97FE41F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9E5-4F17-465C-A8C7-65CFCAF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38D-D027-48A6-AC36-954D50B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029-015B-498D-89C4-4B7CE67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CEC-2177-46CB-B30E-8DB2399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F50-D138-47AF-83C1-DFF9F9A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6BC8-2C7C-40CC-BD42-EF748749E2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F95-85EF-4EEE-8F17-9FB4DF5CD1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33720" y="23623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华少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44193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春天的故事”响彻大江南北，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句诗写到了什么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3623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啊！是七月的星火，南湖的航船，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505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本句涉及到的是哪一次重要的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9880" y="1295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9051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57200" y="1219320"/>
            <a:ext cx="2286000" cy="1981080"/>
            <a:chOff x="457200" y="1219320"/>
            <a:chExt cx="2286000" cy="19810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03520" y="2613240"/>
              <a:ext cx="169704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33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中共一大</a:t>
              </a:r>
              <a:endParaRPr b="1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中华少年的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0477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仿宋"/>
                <a:ea typeface="华文仿宋"/>
              </a:rPr>
              <a:t>          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这是中华少年的铿锵誓言，表达了中华少年建设中华的坚强决心。这组排比句和前面四个“不”字句形成鲜明对比，再加上押“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an”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字韵，读起来琅琅上口，一气呵成，中华少年的爱国之心、自豪之情尽情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219320"/>
            <a:ext cx="236232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6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7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5400000">
            <a:off x="7124040" y="33145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1447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做旗舰去长风破浪，要做火箭去推动飞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像利剑把贫穷斩断，要用爱心把世界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15238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8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整首诗表达了什么样的思想感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诗人以新时代中华少年的视角热情赞美了祖国，抒发了作为中华少年的由衷的自豪感，同时也表达了中华少年建设中华的坚强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371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总结全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0120" y="5029200"/>
            <a:ext cx="1218960" cy="88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97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09480" y="4419720"/>
            <a:ext cx="3353040" cy="2057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甲：藏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乙：高山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丙：蒙古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丁：汉族的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181480" y="1143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表演朗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cover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中宋"/>
              </a:rPr>
              <a:t>课前准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预习课文，找一找，你可以从诗中找出哪些有所了解的景物、人物和事件？搜集相关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1219320"/>
            <a:ext cx="2895840" cy="5105160"/>
            <a:chOff x="380880" y="1219320"/>
            <a:chExt cx="2895840" cy="5105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0"/>
              <a:ext cx="24386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210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80880" y="2666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72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带有生字、新词的句子请多读几遍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、划出你觉得最难读好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600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由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莽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立地顶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蹒跚学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强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阳关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阳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原野辽阔，无边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438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作“顶天立地”，形容形象高大，气概雄伟豪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学走路时摇摆不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114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强壮勇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6483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比喻有光明前途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257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指明媚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86600" y="5410080"/>
            <a:ext cx="1790640" cy="10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9072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76920" y="4190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分角色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全班同学分成四个大组，分别承担“甲、乙、丙、丁”四个角色，一齐分角色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600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划分结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一）总起全诗：我们都是中华少年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二）写祖国锦绣河山哺育了中华少年，悠久的文化滋润了中华少年，特有的民族传统风俗滋养了中华少年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三）回顾中华母亲的艰难历程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四）写中华少年的誓言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五）总结全诗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7524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90512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这一节诗中出现了哪些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原──雪莲”、“宝岛──乳燕”、“草原──雏鹰”、“黄土坡──山丹丹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透过这些词语，你分别可以联想到什么？把四组词语联系起来想一想，你又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少年的化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都是中华少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5334120"/>
            <a:ext cx="7543800" cy="1009440"/>
            <a:chOff x="762120" y="5334120"/>
            <a:chExt cx="7543800" cy="10094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553080" y="5334120"/>
              <a:ext cx="17528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0" y="5334120"/>
              <a:ext cx="1828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66880" y="5334120"/>
              <a:ext cx="17528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76212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562720"/>
            <a:ext cx="35053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这三节诗中，出现了哪些你熟悉的人和事物呢？请给大家简要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200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锦绣河山、悠久历史、民族传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219320"/>
            <a:ext cx="8153280" cy="1676160"/>
            <a:chOff x="457200" y="1219320"/>
            <a:chExt cx="8153280" cy="16761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43828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4419720" y="1219320"/>
              <a:ext cx="1981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6553080" y="1219320"/>
              <a:ext cx="205740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民族艰难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细读这两句，展开想象，把你“看到”的场景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954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黄河的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14Z</dcterms:modified>
  <cp:revision>2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