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gif" ContentType="image/gif"/>
  <Override PartName="/ppt/media/image11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C3E-70AA-44DF-A329-6FDCDE2D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AF7-F7F1-4154-A512-445B8AF2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38D-1DC1-43BD-A9F4-691E36D1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004-280C-4F0E-8554-E632DBBE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9DC-F84F-459F-9692-3A18D950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2EB-A2DE-432E-995E-2F1366DC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634-63A1-4872-B085-352C7008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C59-A98B-4AF4-93DA-5B2C1AD2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81D-DEA0-49D3-9B9C-AA85EAD7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1D0-0B21-4A2A-B56C-E42547E2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55A-5C6C-456C-95E1-2964A4B6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272-B3ED-4485-884E-2E1DB15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F290-6176-49E8-B691-0C08D7107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39680"/>
            <a:ext cx="8610480" cy="5410080"/>
            <a:chOff x="304920" y="139680"/>
            <a:chExt cx="8610480" cy="54100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04920" y="13968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0" y="3339720"/>
              <a:ext cx="2057400" cy="2057040"/>
            </a:xfrm>
            <a:prstGeom prst="wedgeEllipseCallout">
              <a:avLst>
                <a:gd name="adj1" fmla="val -73226"/>
                <a:gd name="adj2" fmla="val -4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7162920" y="3720960"/>
              <a:ext cx="1371600" cy="12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 txBox="1"/>
          <p:nvPr/>
        </p:nvSpPr>
        <p:spPr>
          <a:xfrm>
            <a:off x="3200400" y="1143000"/>
            <a:ext cx="3429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别饿坏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那匹马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6520" y="5791320"/>
            <a:ext cx="597672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课标版小学语文六年级上册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父    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书页中分明多了几张毛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晚上，父亲对我说：“打你不为别的事，都像你这样白看书，人家怎么过日子？搬运队的马车夫需要马草，你可以扯马草换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父亲——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0" name="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91504"/>
                <a:gd name="adj2" fmla="val 5163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语言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7080" y="5105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碧  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仿宋"/>
              </a:rPr>
              <a:t>姑娘接过我的马草，提进了里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碧云——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6" name="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119069"/>
                <a:gd name="adj2" fmla="val -1863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动作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124080" y="32000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几次写到了“别饿坏了那匹马”，其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00400" y="19810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探讨问题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2952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它在文中出现了三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次是“我”把马草卖给残疾青年，离开书摊时，青年嘱咐“我”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次是青年看见“我”背着马草走向书摊时，吩咐妹妹碧云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次是“我”对青年说的话。“我”担心误了喂马时间而饿着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2209680"/>
            <a:ext cx="468360" cy="2619360"/>
            <a:chOff x="609480" y="2209680"/>
            <a:chExt cx="468360" cy="261936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09480" y="2209680"/>
              <a:ext cx="439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609480" y="3276360"/>
              <a:ext cx="4683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609480" y="4343400"/>
              <a:ext cx="4665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 txBox="1"/>
          <p:nvPr/>
        </p:nvSpPr>
        <p:spPr>
          <a:xfrm>
            <a:off x="4419720" y="5791320"/>
            <a:ext cx="3047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善意的谎言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别饿坏了那匹马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”既是课文的题目，也是推动故事发生的关键句。文章用“别饿坏了那匹马”贯穿全文，起到了层层推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057400" y="4648320"/>
            <a:ext cx="1752480" cy="180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76920" y="4572000"/>
            <a:ext cx="3124080" cy="1828800"/>
          </a:xfrm>
          <a:prstGeom prst="wedgeEllipseCallout">
            <a:avLst>
              <a:gd name="adj1" fmla="val -79930"/>
              <a:gd name="adj2" fmla="val -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486400" y="48769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拓展训练：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”推开了木板房的门，真相终于大白。“我”站在那一堆枯黄的马草前，脑海中也许会浮现出一幕幕往事；耳畔也许还会回响着守摊的残疾青年说过的每一句话；也许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…</a:t>
            </a:r>
            <a:r>
              <a:rPr b="0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 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我”在这一刻都会想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请发挥你的想象，把它写下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543800" y="5029200"/>
            <a:ext cx="1295280" cy="131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95480" y="3682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826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刻骨铭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毛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一如既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瞥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尴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282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形容记忆深刻，永远不忘。多用于对别人的感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2273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口语，就是面值一角的人民币纸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806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334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跟过去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873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一眼看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40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处境困难，不好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315200" y="44830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1752480" cy="1724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主要写了酷爱读书的“我”在失去看书机会时，摆书摊的残疾青年谎称家中有马，买下“我”的马草，让“我”得以继续看书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467480" y="5562720"/>
            <a:ext cx="10479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72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文中出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这些人物分别有什么样的性格特点呢？请从文中找出有关的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28800" y="22096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速读课文，回答问题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52320" y="9140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残疾青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25142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依然宽厚地对我一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瞥见轮椅上的他正定定地看着我，“坐下慢慢看吧！”他说着指了指身旁的一只小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别打孩子！”年轻人竭力想从轮椅上挣扎起来阻止我父亲，“孩子看书不是坏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447920"/>
            <a:ext cx="1524240" cy="2057400"/>
          </a:xfrm>
          <a:prstGeom prst="wedgeRoundRectCallout">
            <a:avLst>
              <a:gd name="adj1" fmla="val 74166"/>
              <a:gd name="adj2" fmla="val -425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先是一愣，继而眼睛一亮，笑着对我说：“过来，让我看看你的马草。”他认真地看过马草后，冲里屋叫道：“碧云，你出来一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别别别……”他急了，“碧云！碧云！”他用双手拼命摇着轮椅，想挡住我的路，“你放下！等碧云来拿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回来！”他在身后喊道，“那马会踢伤你的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残疾青年——宽厚、善良、善解人意，用心良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语言、动作、神态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599840"/>
            <a:ext cx="54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上小学五年级那年，学校不远处的书摊是我放学后流连忘返的地方。可是更多的时候，手无分文的我只能装作选书的样子，偷看几则小故事，然后溜之大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攥着马草换来的毛票，我立即奔向书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我”——喜爱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1690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620120" y="1295280"/>
            <a:ext cx="838080" cy="2362320"/>
            <a:chOff x="7620120" y="1295280"/>
            <a:chExt cx="838080" cy="2362320"/>
          </a:xfrm>
        </p:grpSpPr>
        <p:sp>
          <p:nvSpPr>
            <p:cNvPr id="79" name=""/>
            <p:cNvSpPr/>
            <p:nvPr/>
          </p:nvSpPr>
          <p:spPr>
            <a:xfrm>
              <a:off x="7620120" y="1295280"/>
              <a:ext cx="838080" cy="2362320"/>
            </a:xfrm>
            <a:prstGeom prst="wedgeRoundRectCallout">
              <a:avLst>
                <a:gd name="adj1" fmla="val -60037"/>
                <a:gd name="adj2" fmla="val 6223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1371600"/>
              <a:ext cx="68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动作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05520" y="1295280"/>
            <a:ext cx="2971800" cy="914400"/>
          </a:xfrm>
          <a:prstGeom prst="wedgeRoundRectCallout">
            <a:avLst>
              <a:gd name="adj1" fmla="val -68856"/>
              <a:gd name="adj2" fmla="val 9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76560" y="1371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是迟了！我已经走进他家的后院，看见了一堆枯蔫焦黄的马草──这些日子我卖给他的所有的马草！那匹马呢？那匹香甜地吃着我的马草的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800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这段话通过两个感叹句、两个问句写出了“我”见到马草后的震惊与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6:47Z</dcterms:modified>
  <cp:revision>261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