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gif" ContentType="image/gif"/>
  <Override PartName="/ppt/media/image10.jpeg" ContentType="image/jpeg"/>
  <Override PartName="/ppt/media/image11.gif" ContentType="image/gif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356E-633F-44A2-8DAE-8C24408B1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02C4-8AC3-4C74-95F5-574B99C5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810F-C618-4719-A31D-AB082A967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26D0-A6E6-41C7-98F6-4F76CCCA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0F0B-DC36-4A5E-8F9A-105EDD91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EBDE-FF1A-4157-97A6-BDDEAF50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FF00-0DBB-42F6-88CC-27454FCA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FF65-7621-4E49-8097-2FCB6AF8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AA5B-9FAE-4EE4-A9A8-A2B8A2CF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A57C-6558-4D3E-8CA5-888991C8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5DCF-9049-4268-B017-60846C4C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E4D8-93C7-4EC5-A172-B838D063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F05C-833F-4BBC-8072-8079E9E1A1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6377;&#30340;&#20154;&#26391;&#35829;.ram" TargetMode="External"/><Relationship Id="rId3" Type="http://schemas.openxmlformats.org/officeDocument/2006/relationships/hyperlink" Target="file:///&#26377;&#30340;&#20154;&#26391;&#35829;.ram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565360"/>
            <a:ext cx="77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Times New Roman"/>
                <a:ea typeface="隶书"/>
              </a:rPr>
              <a:t>我好像是牛，吃的是草，挤出的是牛奶和血</a:t>
            </a:r>
            <a:r>
              <a:rPr b="1" lang="en-US" sz="7200" spc="-1" strike="noStrike">
                <a:solidFill>
                  <a:srgbClr val="ff0066"/>
                </a:solidFill>
                <a:latin typeface="Times New Roman"/>
                <a:ea typeface="隶书"/>
              </a:rPr>
              <a:t>……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765000"/>
            <a:ext cx="33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名言欣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841280" y="0"/>
            <a:ext cx="41216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交华盖欲何求，未敢翻身已碰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破帽遮颜过闹市，漏船载酒泛中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横眉冷对千夫指，俯首甘为孺子牛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躲进小楼成一统，管他冬夏与春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自嘲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1382760"/>
            <a:ext cx="8381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“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我自爱我的野草，但我憎恶这以野草作装饰的地面。地火在地下运行，奔突；熔岩一旦喷出，将烧尽一切野草，以及一切乔木，于是并且无可朽腐。”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         ——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《野草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题辞》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3738600" cy="4321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924360" y="1341360"/>
            <a:ext cx="5029200" cy="31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隶书"/>
                <a:ea typeface="隶书"/>
              </a:rPr>
              <a:t>你走完了艰苦的行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隶书"/>
                <a:ea typeface="隶书"/>
              </a:rPr>
              <a:t>艰苦中只有路旁的小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隶书"/>
                <a:ea typeface="隶书"/>
              </a:rPr>
              <a:t>曾经引出你希望的微笑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——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冯至《鲁迅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447920" y="0"/>
            <a:ext cx="7696080" cy="43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死的是肉体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你的精神已向大众心底去投生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《喇叭的喉咙——吊                                           鲁迅先生》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2205000"/>
            <a:ext cx="40449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280" y="1522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华文彩云"/>
              </a:rPr>
              <a:t>讨论与交流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584360"/>
            <a:ext cx="784872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请将诗歌二至四节中的“有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人”用自己的语言替换成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某一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小组讨论后，推选代表，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全班交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5670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全套免费课件下载地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六十铺中小学教育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633320" y="304920"/>
            <a:ext cx="394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baseline="8000">
                <a:solidFill>
                  <a:srgbClr val="000000"/>
                </a:solidFill>
                <a:latin typeface="Times New Roman"/>
              </a:rPr>
              <a:t>你还知道哪些为人民服务的典范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400800" y="1523880"/>
            <a:ext cx="2282760" cy="3124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276080" y="46483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袁隆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96120" y="4724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王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6960" y="46483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李素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657600" y="1523880"/>
            <a:ext cx="2149560" cy="3048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457200" y="1981080"/>
            <a:ext cx="2666880" cy="2314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178520" y="556272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大搞科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兴国利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26640" y="556272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关键时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勇于献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38600" y="556272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全心全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做好本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5335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905120"/>
            <a:ext cx="487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过了本诗，你心中一定会涌起许多的感受吧，对自己的，对人生的，对社会的。那么，就拿起笔来吧，把你的感受写一写，副标题嘛，就叫做“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的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感”，主标题就要自己拟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629400" y="4267080"/>
            <a:ext cx="2133720" cy="1766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867280" y="205740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记住以前学过的读后感的写法是什么了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62720" y="21337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68960" y="1211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85000" y="1219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8880" y="1219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33120" y="1219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304920"/>
            <a:ext cx="8381880" cy="68580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拿起笔来，写一写你自己的感受吧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036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91320" y="144792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19160" y="762120"/>
            <a:ext cx="2191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0033"/>
                </a:solidFill>
                <a:latin typeface="隶书"/>
                <a:ea typeface="隶书"/>
              </a:rPr>
              <a:t>有 的 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89280" y="1700280"/>
            <a:ext cx="15210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纪念鲁迅有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66680" y="1676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404640"/>
            <a:ext cx="8381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鲁迅的骨头是最硬的，他没有丝毫的奴颜和媚骨。这是殖民地半殖民地人民最可宝贵的性格。鲁迅是在文化战线上代表全民族的大多数向着敌人冲锋陷阵的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隶书"/>
              </a:rPr>
              <a:t>最正确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隶书"/>
              </a:rPr>
              <a:t>最勇敢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隶书"/>
              </a:rPr>
              <a:t>最坚决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隶书"/>
              </a:rPr>
              <a:t>最忠实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隶书"/>
              </a:rPr>
              <a:t>最热忱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的空前的民族英雄。鲁迅的方向就是中华民族新文化的方向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                            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隶书"/>
              </a:rPr>
              <a:t>—— 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隶书"/>
              </a:rPr>
              <a:t>毛泽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476280"/>
            <a:ext cx="8424720" cy="41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1936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年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10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19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日，鲁迅先生不幸病逝于上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隶书"/>
              </a:rPr>
              <a:t>“</a:t>
            </a: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隶书"/>
              </a:rPr>
              <a:t>赶快收殓，埋掉，拉倒”，“忘记我，管自己的生活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81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臧克家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，现代著名诗人，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东省诸城人。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1933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年出版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一部诗集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烙印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。深受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大群众的喜爱。以后又相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出版了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呜咽的云烟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泥土的歌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春风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欢呼集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及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臧克家诗选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等诗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1949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年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10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月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19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日，是鲁迅先生逝世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13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周年纪念日，诗人臧克家亲自参加了首都人民的纪念活动，写下了这首深情的赞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875200" y="0"/>
            <a:ext cx="32688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549360"/>
            <a:ext cx="8497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隶书"/>
                <a:ea typeface="隶书"/>
              </a:rPr>
              <a:t>学习目标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、理解诗歌哲理性的深刻的内涵，学习鲁迅的伟大精神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、了解诗歌中对比手法运用的特点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、尝试有感情的朗读并背诵诗歌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16000" y="0"/>
            <a:ext cx="7596360" cy="69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0" lang="zh-CN" sz="4000" spc="-1" strike="noStrike" u="sng">
                <a:solidFill>
                  <a:srgbClr val="cc00cc"/>
                </a:solidFill>
                <a:uFillTx/>
                <a:latin typeface="华文新魏"/>
                <a:ea typeface="华文新魏"/>
                <a:hlinkClick r:id="rId2"/>
              </a:rPr>
              <a:t>有的人</a:t>
            </a:r>
            <a:r>
              <a:rPr b="0" lang="zh-CN" sz="1900" spc="-1" strike="noStrike" u="sng">
                <a:solidFill>
                  <a:srgbClr val="cc00cc"/>
                </a:solidFill>
                <a:uFillTx/>
                <a:latin typeface="宋体"/>
                <a:ea typeface="华文新魏"/>
                <a:hlinkClick r:id="rId3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                            </a:t>
            </a:r>
            <a:r>
              <a:rPr b="1" lang="zh-CN" sz="2400" spc="-1" strike="noStrike">
                <a:solidFill>
                  <a:srgbClr val="990033"/>
                </a:solidFill>
                <a:latin typeface="宋体"/>
              </a:rPr>
              <a:t>臧克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有的人活着，他已经死了；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有的人死了，他还活着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有的人，骑在人民头上：“啊，我多伟大！”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有的人，俯下身子给人民当牛马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有的人，把名字刻入石头，想“不朽”！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有的人，情愿作野草，等着地下的火烧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有的人，他活着别人就不能活；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有的人，他活着为了多数人更好地活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骑在人民头上的，人民把他摔垮；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给人民作牛马的，人民永远记住他！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把名字刻入石头的，名字比尸首烂得更早；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只要春风吹到的地方，到处是青青的野草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他活着别人就不能活的人，他的下场可以看到；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他活着为了多数人更好地活着的人，群众把他抬举得很高，很高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943600" y="0"/>
            <a:ext cx="3200400" cy="4724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2280" y="442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华文彩云"/>
              </a:rPr>
              <a:t>听读与感悟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266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华文彩云"/>
              </a:rPr>
              <a:t>示例导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518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有的人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活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他已经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死了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有的人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死了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他还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活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932360" y="619560"/>
            <a:ext cx="4211640" cy="1513080"/>
          </a:xfrm>
          <a:prstGeom prst="wedgeRectCallout">
            <a:avLst>
              <a:gd name="adj1" fmla="val -82115"/>
              <a:gd name="adj2" fmla="val -4276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活”－－肉体还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死”－－精神已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03640" y="2781360"/>
            <a:ext cx="4140360" cy="1511280"/>
          </a:xfrm>
          <a:prstGeom prst="wedgeRectCallout">
            <a:avLst>
              <a:gd name="adj1" fmla="val -86388"/>
              <a:gd name="adj2" fmla="val 266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死－－肉体不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活－－精神永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515772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隶书"/>
              </a:rPr>
              <a:t>运用对比，爱憎分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2280" y="7632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华文彩云"/>
              </a:rPr>
              <a:t>合作与研究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676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1268280"/>
            <a:ext cx="76201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提示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理解句子深刻含义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领悟诗句思想感情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评点诗人炼字艺术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品评诗歌表现手法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0666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分组讨论，研读课文，交流心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10:02:37Z</dcterms:modified>
  <cp:revision>66</cp:revision>
  <dc:subject>六十铺中小学教育网http://www.lspjy.com</dc:subject>
  <dc:title>六十铺中小学教育网http://www.lspjy.com</dc:title>
</cp:coreProperties>
</file>