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FF7-4C22-484A-BB12-217A08FB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40C-C1B2-4738-A38A-0EEB0A81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5E2-D98A-44DD-AC35-4CE8B329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7BD-2F0A-4AE6-A3B4-B9710047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3C74-4CC2-4DF6-AF00-BF6A4312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2519-44D5-4C73-9F57-886A9DB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0F06-3A05-4D57-BF3F-7EDA5384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2A0-2F5C-4782-94AC-6735BCD7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2B6-96D6-4803-A1D8-2D7B34E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17D1-98C7-4F0D-80BF-8F1B0C2D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851-0934-40C7-B87E-67078001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943-03CC-422B-AA11-76C5F11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ECFC-A24C-4741-A9B4-13D528B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31E-3CD2-48C4-A4AC-02760EE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E1D2-CA2F-4C0F-85C5-35CD1C5F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F710-0423-491A-A5BA-DFC2CAB8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68F8-33F8-435D-8D0D-EE1FD5B1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12F-69F9-4C47-BC9F-E8B0AB6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F59-A582-44DE-B086-5F9F357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316-DE95-4A00-8BEB-33D864AB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064-587D-4F01-9DF9-D684C71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EE3-3995-494F-B81E-5304612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C23-AE08-431F-9851-CA350A0D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ABF-9BEA-4A49-A586-F78FAF5E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9F6A-5CF2-4F7D-9921-490C65BB5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E651-A93F-4F2B-ABE6-0272C1B35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99172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13840" y="0"/>
            <a:ext cx="789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    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来得突然——跟着一阵阵湿润的山风，跟着一缕缕轻盈的云雾，雨，悄悄地来了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像一曲无字的歌谣，神奇地从四面八方飘然而起，逐渐清晰起来，响亮起来，由远而近，由远而近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43200" y="990720"/>
            <a:ext cx="60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飘飘洒洒的雨丝是无数轻捷柔软的手指，弹奏出一首又一首优雅的小曲，每一个音符都带着幻想的色彩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066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所有的色彩都融化在水淋淋的嫩绿之中，绿得耀眼，绿得透明。这清新的绿色仿佛在雨雾中流动，流进我的眼睛，流进我的心胸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课件下载地址：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57800" y="762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雨，悄悄地停了。风，也屏住了呼吸，山中一下变得非常幽静。远处，一只不知名的鸟儿开始啼啭起来，仿佛在倾吐着浴后的欢跃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多美的文章啊！为什么不用你灵巧的手绘制出一幅如诗如画的山雨图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14:12Z</dcterms:created>
  <dc:creator>lixiaolong</dc:creator>
  <dc:description/>
  <dc:language>en-US</dc:language>
  <cp:lastModifiedBy>微软用户</cp:lastModifiedBy>
  <dcterms:modified xsi:type="dcterms:W3CDTF">2010-06-21T13:49:30Z</dcterms:modified>
  <cp:revision>2</cp:revision>
  <dc:subject/>
  <dc:title>PowerPoint 演示文稿</dc:title>
</cp:coreProperties>
</file>