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A5AB-776B-4BE1-8895-2B656878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072-B2E2-4E7D-AD9B-D6259E5C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0EB1-FDC1-4015-A3D6-5213ADE2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89B-77EC-4535-A795-035902E3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038B-AC02-4525-B6AF-8D6BDCD7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7FE6-9DB9-4C7C-AFD0-FDF2D5C0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B795-54C4-4F4E-B84A-A80E52C9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D31C-9F03-481E-8305-A6630B8C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967F-A39D-4368-8C95-B248EEC2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2C68-B855-41C8-8102-4BDC7EDB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A239-1132-4EB9-B714-2B16C8D0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BDE-9C73-4D4F-9B4A-9EEB137F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B90E-4E13-456B-9AE9-1EC5F8AB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341C-28F5-4294-AA93-6DAAE4BE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3C44-E2F2-4A8F-87E6-76399631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EB0A-0D54-447E-BB66-85B053F1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CBF4-AC8E-47C1-A276-5C2F9555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104A-414A-45AB-BB2E-A25C4607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609-F05D-41FF-B28B-B0E29CD2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25B-4DCF-46A4-A68A-CE3281A3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97F-77EC-4E4E-B32C-51798D7E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069-F22D-4FB4-80A5-AC0A43A1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BC8-1C71-4946-AA0E-3EF344D9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BC43-E826-42E9-813A-ED08707E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框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DE56-779E-4576-8DEA-DDD69DE2D0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紙角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EB86-60C8-49ED-8F6A-77C8930167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523880" y="1828800"/>
            <a:ext cx="4876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金色的脚印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4343400"/>
            <a:ext cx="4419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艳春小学   王艳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1447920"/>
            <a:ext cx="7010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提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看看狐狸是什么样子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老狐狸为了救小狐狸都做了哪些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正太郎是怎样做的，狐狸和正太郎之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间发生了哪些变化，为什么会有这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说说你读了课文后的感受。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281952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迎着耀眼的阳光，狐狸们的脚印，闪着金色的光芒，一直延伸到密林深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0020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中心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0040" y="213372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亡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补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13640" y="2057400"/>
            <a:ext cx="17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2057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1981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2236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27432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犬不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37320" y="3505320"/>
            <a:ext cx="17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目寸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895480"/>
            <a:ext cx="222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弹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35520" y="41148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腾虎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4267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添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4979880"/>
            <a:ext cx="22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怕出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怕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3581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仗人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61520" y="2666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342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3505320"/>
            <a:ext cx="5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19112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蛇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40384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4876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41520" y="10666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填上有关动物的词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90720" y="1219320"/>
            <a:ext cx="60958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色的母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母爱是伟大的、无私的，“血色的母爱”更是震撼人心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7617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曾听到一位老农讲了一个黄鼠狼脱皮哺子故事：三年困难时期，他一家人经常找不到吃的。好在他会下夹子，偶尔也会夹到狐狸、黄鼠狼什么的。一天清晨，他去收夹子，见夹到一只黄鼠狼，拿起一看大吃一惊，手里是一张皮，黄鼠狼脱皮逃掉了。他想，没有皮的黄鼠狼肯定死在不远的什么地方。于是，他沿着血迹寻去，在河沟里发现黄鼠狼藏身的地洞，挖开一看，他被眼前的情景惊呆了：一窝还未睁眼的小黄鼠狼，正趴在脱了皮的已经僵硬了的母黄鼠狼身上，不断地吸吮着奶头。他呆了许久，把那张皮盖在母黄鼠狼身上，才含悲而去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从此，这位老农不在下夹子捕兽了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8380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762120"/>
            <a:ext cx="777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1430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另一个故事是一位母亲断指哺儿。唐山大地震中，一对母子被深深压在废墟下，母亲半个身子被混凝土板卡着动弹不得。七八月大的婴孩在她的身下安然无恙。几天后，救助人员挖洞接近这对母子时，母亲刚刚咽下最后一口气，而那婴孩口里还含着母亲的食指，抱着孩子的生命，乳汁吸干了。她拼命咬断自己的指头，用鲜血让孩子存活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1066680"/>
            <a:ext cx="72392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第三个故事是一本杂志上刊登的。东欧有对母女感情上有了裂痕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岁的女儿一直认为是母亲的卑微地位，使她在人前抬不起头。母亲终日忙碌辛苦，也不能使女儿快乐起来。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月，母亲邀女儿去阿尔卑斯山滑雪。母女在滑雪中，由于缺乏经验偏离滑雪道迷路了，又遭遇了可怕的雪崩。母女俩在雪山中挣扎了两天两夜，几次看见前来搜寻他们的直升机，都因他们身穿的是银灰色滑雪装，而未被发现。终于，女儿因体力不支昏迷过去，醒来时发现自己躺在医院里，而母亲已不在人事了。医生告诉她，是她的母亲用生命酒了她。原来，是母亲割断了自己的动脉在雪地里爬行，用自己的鲜血染红了一片白雪，直升机因此发现了目标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这则“血色母爱”的故事曾让一个伟大的母亲把她的肾脏献给患尿毒症的女儿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2286000"/>
            <a:ext cx="723888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冰心奶奶曾说过：“世界上若没有女性，这世界至少要失去十分之五的真，十分之六的善，十分之七的美。”是的，这世界就是因为有了女性，有了母亲，有了母爱，才如此亮丽灿烂、多姿多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4941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4:11:31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6:06Z</dcterms:modified>
  <cp:revision>13</cp:revision>
  <dc:subject>六十铺中小学教育网http://www.lspjy.com</dc:subject>
  <dc:title>六十铺中小学教育网http://www.lspjy.com</dc:title>
</cp:coreProperties>
</file>