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F47-D2AD-4E81-BBA6-26FB8732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36A-EDDB-4261-8FDB-6B6265EB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392-1C54-44A6-BEEF-15DCAE7C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332-91DE-458A-824A-24903B79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3D75-84C8-4987-8B5F-5C5EA5C1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7939-75EC-41CF-BC9C-A9F8EB76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643A-5AA1-41AB-BE90-EF08B68E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62F1-73C4-4581-A966-502CD1C5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EEF5-BA39-47EA-A4D5-2D735253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A6B5-B765-45DE-B886-92EF4A59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E035-A13C-4FAA-8801-1C19A7DE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5CE-24BA-4A6F-972E-8CDBE8CA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0FFD-358D-4620-916D-E8E295C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9B52-4C5A-465D-B0EE-117ECA8F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281F-E289-4EBD-8716-89B29F7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E2A5-B3A3-4CAF-97DA-C9612074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0CC6-39CC-46DF-85A8-B785A4B6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884-9C59-4DDF-99B9-AB6D46EE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332-0A84-4031-8E3D-F85CAF21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6F1-AD79-4BEE-9460-FEBBB30A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77B-73C4-4DC0-9C75-87E98DB2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059-9409-40F4-9D71-04EAC1EB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22E-8B8B-4DB9-88DE-64C4FCD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DBD-CD5E-4A64-8BB9-4C68940A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2C7-B793-4490-B9B8-09C1098F94D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2632-CDEB-4A45-A23B-13E3BCE2028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2637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岳林之秋”语文教学活动实践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708280"/>
            <a:ext cx="66978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奉化岳林中心小学         沈   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伯牙作为楚国著名的宫廷乐师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名满天下，虽然听者众多，但听到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都是那些毫无价值的、没有意义的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空虚的、肤浅的赞美，他始终觉得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人真正听懂他的琴声，所以独自一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来到山间排遣内心的孤独和寂寞，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万万没想到，此时，此地，此人，钟子期，一个山野村夫却能听得懂他的琴声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740640" y="4941720"/>
            <a:ext cx="165708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8036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鼓琴，志在高山，钟子期曰：“善哉，峨峨兮／若／泰山！”志在流水，  钟子期曰：“善哉，洋洋兮／若／江河！”伯牙／所念，钟子期／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560" y="54864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子期死，伯牙谓世再无知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乃破琴绝弦，终身不复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451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63953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伯牙绝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善鼓琴，钟子期善听。伯牙鼓琴，志在高山，钟子期曰：“善哉，峨峨兮若泰山！”志在流水，钟子期曰：“善哉，洋洋兮若江河！”伯牙所念，钟子期必得之。子期死，伯牙谓世再无知音，乃破琴绝弦，终身不复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谢谢！ 老师们辛苦了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429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484280"/>
            <a:ext cx="79200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炊烟袅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清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风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明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春雨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白雪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芳草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杨柳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云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霞光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832120"/>
            <a:ext cx="79218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潇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萋萋                  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蒙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92720" y="2832120"/>
            <a:ext cx="1764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皎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皑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依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灼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伯牙绝弦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伯牙绝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／善／鼓琴，钟子期／善听。伯牙鼓琴，志在高山，钟子期曰：“善哉，峨峨兮／若／泰山！”志在流水，  钟子期曰：“善哉，洋洋兮／若／江河！”伯牙／所念，钟子期／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子期死，伯牙／谓／世／再无知音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乃／破琴／绝弦，终身／不复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6280" y="1268280"/>
            <a:ext cx="459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72440" y="981000"/>
            <a:ext cx="7898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伯牙善鼓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7240" y="981000"/>
            <a:ext cx="789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钟子期善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1280" y="51804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伯牙鼓琴，志在高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钟子期曰：“善哉，峨峨兮若泰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11720" y="83664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志在流水，钟子期曰：“善哉，洋洋兮若江河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32000" y="2349360"/>
            <a:ext cx="6985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清风徐徐           明月皎皎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芳草萋萋           杨柳依依     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春雨潇潇           白雪皑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云雾蒙蒙           霞光灼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93000" y="1484280"/>
            <a:ext cx="458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549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伯牙鼓琴，志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钟子期曰：“ 善哉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！”志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钟子期曰 ：“善哉，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！”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所念，钟子期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28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4:04:06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6:59Z</dcterms:modified>
  <cp:revision>36</cp:revision>
  <dc:subject>六十铺中小学教育网http://www.lspjy.com</dc:subject>
  <dc:title>六十铺中小学教育网http://www.lspjy.com</dc:title>
</cp:coreProperties>
</file>