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035-453C-4873-BFB3-1F192C3F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A83-C419-4966-90BE-07B6B369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530-FBEE-4175-92A1-CF1B7778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7CB-964F-4DDC-BC4D-54C45E2A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DA7-23B2-4AB7-8CCD-2109E92A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6B9-5772-4886-9435-C604724B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448-9EA8-40BC-8773-4663CD7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835-8B09-40CF-84E0-32EB71C1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0C7-864D-4F63-8F8A-A9867212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AB3-01A9-4F9D-89DA-20F7302E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161-C880-4635-AAE8-FCED74C4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2E4-9DAD-4479-B259-0D3F568B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1E7A-FAC1-4062-9EAC-159F0723B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38360" y="2998800"/>
            <a:ext cx="416736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月光曲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09840" y="93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文分两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8080" y="18669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段（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5760" y="18432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5600" y="182880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简单介绍著名的钢琴曲——《月光曲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德国音乐家贝多芬谱写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61960" y="2816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段（         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30280" y="28162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3520" y="2743200"/>
            <a:ext cx="4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详细介绍贝多芬谱写《月光曲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个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2880" y="36194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55240" y="35956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在散步时听到有人弹他的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18800" y="4052880"/>
            <a:ext cx="21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51600" y="40528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走进茅屋，为盲姑娘弹了两首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8160" y="4510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3000" y="45100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根据记忆谱成了著名的《月光曲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2520" y="3276720"/>
            <a:ext cx="7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42880" y="103176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“断断续续”的钢琴声，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60600" y="17175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断续续”的钢琴声，说明盲姑娘喜欢贝多芬的曲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弹得不熟练；还说明贝多芬听到有人弹他得曲子，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熟练，菜走进茅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8680" y="3241800"/>
            <a:ext cx="35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真是“随便说说”的吗？她为什么要对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这么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78200" y="4308480"/>
            <a:ext cx="39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便说说罢了”是盲姑娘对她哥哥的劝慰。她怕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为买不起音乐会的入场券而心里难过，所以这样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实她很想“听一听贝多芬自己是怎样弹的”，这表明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姑娘非常体谅哥哥的难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3560" y="91440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能听出贝多芬钢琴弹得纯熟，感情深，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什么？“您，您……”表达了盲姑娘怎样的感情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0840" y="1828800"/>
            <a:ext cx="72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盲姑娘能听出贝多芬钢琴弹得纯熟，感情深，说明盲姑娘不仅爱音乐而且懂音乐。她从琴声中体会出演奏者的“感情多深”，从“纯熟”的演奏技巧中猜到演奏者就是贝多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85200" y="359712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从课文中哪些词句可以看出兄妹俩被美妙的琴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陶醉”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04120" y="460368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皮鞋匠静静地听着。”“月光正照在她那恬静地脸上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他们苏醒过来，贝多芬早已离开了茅屋。”从这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句可以看出兄妹俩被美妙的琴声“陶醉”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06120" y="16002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贝多芬坐在钢琴前面，弹起盲姑娘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那首曲子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2120" y="21747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飞奔回客店，花了一夜工夫，把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曲子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月光曲》记录了下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8160" y="9558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两个句子中的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”分别指什么时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2000" y="324180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听到盲姑娘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她哥哥的谈话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2000" y="446076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为盲姑娘弹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一首曲子，盲姑娘听出他是贝多芬之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15960" y="14158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为什么贝多芬要给盲姑娘弹钢琴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421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听到盲姑娘在弹他的曲子，十分渴望能听到他的演奏，可是家境贫苦，买不起音乐会的入场券，但她很懂事，体谅哥哥的难处，所以贝多芬决定亲自给盲姑娘弹钢琴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67760" y="14158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弹完一首，为什么又弹一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421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弹完一首，盲姑娘竟猜出他就是贝多芬。他见盲姑娘不仅爱音乐而且懂音乐，自己遇到了知音，于是即兴再为盲姑娘弹了一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59600" y="14158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是怎样吧第二首曲子记录下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2421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即兴弹完第二首曲子后心情十分激动，飞奔回客店，连夜记录下了《月光曲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72160" y="882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再读课文，归纳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7280" y="1676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借助课题《月光曲》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8520" y="2286000"/>
            <a:ext cx="10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《月光曲》这首乐曲是谁谱写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《月光曲》这首乐曲是怎样谱写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6200" y="3678120"/>
            <a:ext cx="83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《月光曲》这个故事的人物、起因、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结果，连起来说说，归纳课文主要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62680" y="982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3480" y="2098800"/>
            <a:ext cx="679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99ff"/>
                </a:solidFill>
                <a:latin typeface="Times New Roman"/>
              </a:rPr>
              <a:t>课文主要写贝多芬在散步时听到盲姑娘兄妹的谈话，就给盲姑娘弹了一首钢琴曲，盲姑娘猜出他就是贝多芬，他又即兴为盲姑娘弹了一曲，并飞奔回客店连夜记录了下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40080" y="1163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68960" y="1793880"/>
            <a:ext cx="20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语抄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意抄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背诵课文第九自然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9172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现在，让我们来欣赏一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04520" y="211788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《月光曲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38160" y="3505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在曲子里听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0080" y="48006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听出贝多芬的心声了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240" y="1752480"/>
            <a:ext cx="4124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下课</a:t>
            </a:r>
            <a:endParaRPr b="1" i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530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贝多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177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出生于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德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波恩一个音乐家的家庭。从小学习钢琴和小提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举行首次公开演奏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开始作曲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定居维也纳。当时正是奥地利封建统治最黑暗的时代。他十分憎恨专权暴政，极其蔑视封建贵族的褊狭庸俗。他早年受到启蒙运动和法国资产阶级革命影响，毕生追求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“自由、平等、博爱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理想，不少作品反映了当时资产阶级反封建、争民主的革命热情及其理想中的英雄性格。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时，两耳失聪仍坚持创作。他一生谱写了许多著名的乐曲，主要作品有交响曲九部、钢琴奏鸣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。他的音乐创作，集古典派的大成，开浪漫派的先河，对欧洲音乐艺术的革新与发展，有着极其重要的影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贝多芬在奥地利维也纳逝世，终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。贝多芬是欧洲音乐史上最伟大的音乐家，被人们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乐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他的所有作品在世界各地广为传诵，他的成功完全来之自身的艰苦奋斗，直到今日还被人们视为奋斗的楷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978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贝多芬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17524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文中提到的《月光曲》是贝多芬创作的一首著名的钢琴奏鸣曲。课文写的是关于贝多芬谱写《月光曲》的一个传说。“传说”是民间流传的故事，不一定确有其事。但是，民间传说能够反映出人民群众的愿望和好恶。从贝多芬谱写《月光曲》的传说中，我们可以看到贝多芬是怎样一位音乐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16720" y="91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词语注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1320" y="1447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幽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52720" y="14698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优雅寂静。课文中形容小路很偏僻，很清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1320" y="1927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琴键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5880" y="1905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风琴、钢琴等上面装置的白色或黑色的供演奏时按动的部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2132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霎时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7000" y="2362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极短的一点时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7040" y="2917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莱茵河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9401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欧洲一条大河。源出瑞士境内的阿尔卑斯山，流经奥地利、法国、德国、荷兰等国。全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32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213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谱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65520" y="3672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写（歌曲或乐曲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276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水天相接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85640" y="43578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水面广阔，远远看去，好像和天连接在一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1276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波涛汹涌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2720" y="5029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大浪猛烈地向上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12760" y="563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断断续续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5638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会儿中断，一会儿继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61200" y="207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06668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600" y="167652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7600" y="251460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53200" y="1676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6640" y="25146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704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8840" y="259092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93080" y="32004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3800" y="40384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72320" y="3200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232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44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160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4444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4444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635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子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351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78960" y="18702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90960" y="1828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9920" y="28605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616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0104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多音字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0992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3720" y="38926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3840" y="385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0840" y="11844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恬静——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有表示心里平静的意思。不同的是，“恬静”往往用于人的内心感到舒适而表露出一种平静的神态；“安静”除了表示心理活动，还可以用来描写环境没有声音的干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1960" y="4191120"/>
            <a:ext cx="22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夜深了，周围（            ）极了，一切都再沉睡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姑娘那（           ）的脸上嵌着一双水汪汪的大眼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70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33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恬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幽静——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者都有表示环境很静的意思。不同的是，“幽静”是优雅寂静，“静”有安静的意思；“清幽”是秀丽而幽静，“清”含有秀丽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0840" y="3657600"/>
            <a:ext cx="54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春天的樱花公园，（            ）的林中小道上不时走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三两两的游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这片树林远离大路，树木茂盛，显得很（   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923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064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苏醒——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指醒过来，结束了原来好像睡着一样的糊涂状态。但“觉醒”指觉悟，用在思想上，表示认识问题从不清楚到清楚；“苏醒”原来的意思是昏迷后醒过来，指人失去知觉后得到恢复。也可以像课文中那样，用来描写出神后的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1320" y="4191120"/>
            <a:ext cx="50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巨大的教育攻势下，他终于（            ）了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民政府交待自己的罪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他刚（           ）过来，就忙问：‘“那些书受损失吗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162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63560" y="525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苏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3:29:1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7:55Z</dcterms:modified>
  <cp:revision>15</cp:revision>
  <dc:subject>六十铺中小学教育网http://www.lspjy.com</dc:subject>
  <dc:title>六十铺中小学教育网http://www.lspjy.com</dc:title>
</cp:coreProperties>
</file>