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4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4628-541D-4A82-BC49-6D3F21974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909B-8BDF-491C-AADA-EDF27168C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9B60-7353-4FED-8871-8A7665A1A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2967-3E1B-4C4B-B1D0-25200B6BC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1351-2380-48EA-9E8D-0819DD4F9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9EFB-0C81-4D99-936B-E980EF3E5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EAE3-664F-4819-A35F-85A81E2FB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ED16-660B-4BD7-BA02-ED221DB80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08B8-CD7D-42A4-B8D3-BC4B57C34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DC39-D006-451D-856D-5FEDE093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062C-5C2A-4730-B885-D2077C2D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E401-836B-4B6E-9CDD-78DB962A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BF96D-08EE-424B-8DEC-F724F541BD7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" Target="slide17.xml"/><Relationship Id="rId5" Type="http://schemas.openxmlformats.org/officeDocument/2006/relationships/slide" Target="slide18.xml"/><Relationship Id="rId6" Type="http://schemas.openxmlformats.org/officeDocument/2006/relationships/slide" Target="slide19.xml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" Target="slide16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" Target="slide16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" Target="slide20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35280" y="2852640"/>
            <a:ext cx="619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99"/>
                </a:solidFill>
                <a:latin typeface="黑体"/>
                <a:ea typeface="黑体"/>
              </a:rPr>
              <a:t>5 </a:t>
            </a:r>
            <a:r>
              <a:rPr b="1" lang="zh-CN" sz="9600" spc="-1" strike="noStrike">
                <a:solidFill>
                  <a:srgbClr val="000099"/>
                </a:solidFill>
                <a:latin typeface="黑体"/>
                <a:ea typeface="黑体"/>
              </a:rPr>
              <a:t>詹天佑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140360" y="1125360"/>
            <a:ext cx="31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勘测线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40360" y="249228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开凿隧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284720" y="443700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设计“人”字形线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2637000"/>
            <a:ext cx="20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修筑铁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24360" y="1700280"/>
            <a:ext cx="216000" cy="3168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82440 h 3168720"/>
              <a:gd name="textAreaBottom" fmla="*/ 3086280 h 31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839880" y="981000"/>
            <a:ext cx="769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詹天佑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不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困难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也不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嘲笑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毅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接受了任务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马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开始勘测线路。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哪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要开山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哪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要架桥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哪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要把陡坡铲平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哪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要把弯度改小，都要经过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勘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进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周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计算。詹天佑经常勉励工作人员说：“我们的工作首先要精密，不能有一点儿马虎。‘大概’、‘差不多’，这类说法不应该出自工程人员之口。”他亲自带着学生和工人，扛着标杆，背着经纬仪，在峭壁上定点、测绘。塞外常常狂风怒号，黄沙满天，一不小心还有坠入深谷的危险。不管条件怎样恶劣，詹天佑始终坚持在野外工作。白天，他翻山越岭，勘测线路；晚上，他就在油灯下绘图，计算。为了寻找一条合适的线路，他常常请教当地的农民。遇到困难，他总是想：这是中国人修筑的第一条铁路，一定要把它修好；否则，不但惹外国人讥笑，还会使中国的工程师失掉信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2" action="ppaction://hlinksldjump"/>
          </p:cNvPr>
          <p:cNvSpPr/>
          <p:nvPr/>
        </p:nvSpPr>
        <p:spPr>
          <a:xfrm>
            <a:off x="3657600" y="64771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3" action="ppaction://hlinksldjump"/>
          </p:cNvPr>
          <p:cNvSpPr/>
          <p:nvPr/>
        </p:nvSpPr>
        <p:spPr>
          <a:xfrm>
            <a:off x="4495680" y="64771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4" action="ppaction://hlinksldjump"/>
          </p:cNvPr>
          <p:cNvSpPr/>
          <p:nvPr/>
        </p:nvSpPr>
        <p:spPr>
          <a:xfrm>
            <a:off x="5486400" y="64771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381880" y="64771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187280" y="2349360"/>
            <a:ext cx="7772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詹天佑经常勉励工作人员说：“我们的工作首先要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精密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不能有一点儿马虎。‘大概’、‘差不多’，这类说法不应该出自工程人员之口。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75720" y="5562720"/>
            <a:ext cx="1268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403280" y="1052640"/>
            <a:ext cx="70041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他亲自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带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生和工人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扛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标杆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背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经纬仪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在峭壁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定点、测绘。塞外常常狂风怒号，黄沙满天，一不小心还有坠入深谷的危险。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不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条件怎样恶劣，詹天佑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始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坚持在野外工作。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白天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他翻山越岭，勘测线路；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晚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他就在油灯下绘图，计算。为了寻找一条合适的线路，他常常请教当地的农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75720" y="5562720"/>
            <a:ext cx="1268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835280" y="1916280"/>
            <a:ext cx="631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遇到困难，他总是想：这是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中国人自己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修筑的第一条铁路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一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要把它修好；否则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不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惹外国人讥笑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还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使中国的工程师失掉信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75720" y="5562720"/>
            <a:ext cx="1268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209680" y="533520"/>
            <a:ext cx="63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铁路要经过很多高山，就不得不开凿隧道，其中数居庸关隧道和八达岭两个隧道的工程最艰巨。居庸关山势高，岩层厚，詹天佑决定采用从两端同时向中间凿进的办法。山顶的泉水往下渗，隧道里满是泥浆。工地上没有抽水机，詹天佑就带头挑着水桶去排水。他常常跟工人们同吃同住，不离开工地。八达岭隧道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1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多米，有居庸关隧道的三倍长。他跟老工人一起商量，决定采用中部凿井法。先从山顶往下打一口竖井，再分别向两头开凿，两头也同时施工，把工期缩短一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195640" y="549360"/>
            <a:ext cx="632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铁路要经过很多高山，就不得不开凿隧道，其中数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居庸关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隧道和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八达岭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两个隧道的工程最艰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6477120"/>
            <a:ext cx="1828800" cy="380880"/>
          </a:xfrm>
          <a:custGeom>
            <a:avLst/>
            <a:gdLst>
              <a:gd name="textAreaLeft" fmla="*/ 24480 w 1828800"/>
              <a:gd name="textAreaRight" fmla="*/ 1804320 w 1828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03635" h="21600">
                <a:moveTo>
                  <a:pt x="0" y="0"/>
                </a:moveTo>
                <a:lnTo>
                  <a:pt x="103635" y="0"/>
                </a:lnTo>
                <a:lnTo>
                  <a:pt x="103635" y="21600"/>
                </a:lnTo>
                <a:lnTo>
                  <a:pt x="0" y="21600"/>
                </a:lnTo>
                <a:close/>
              </a:path>
              <a:path fill="lightenLess" w="103635" h="21600">
                <a:moveTo>
                  <a:pt x="0" y="0"/>
                </a:moveTo>
                <a:lnTo>
                  <a:pt x="103635" y="0"/>
                </a:lnTo>
                <a:lnTo>
                  <a:pt x="102235" y="1400"/>
                </a:lnTo>
                <a:lnTo>
                  <a:pt x="1400" y="1400"/>
                </a:lnTo>
                <a:close/>
              </a:path>
              <a:path fill="darken" w="103635" h="21600">
                <a:moveTo>
                  <a:pt x="103635" y="0"/>
                </a:moveTo>
                <a:lnTo>
                  <a:pt x="103635" y="21600"/>
                </a:lnTo>
                <a:lnTo>
                  <a:pt x="102235" y="20200"/>
                </a:lnTo>
                <a:lnTo>
                  <a:pt x="102235" y="1400"/>
                </a:lnTo>
                <a:close/>
              </a:path>
              <a:path fill="darkenLess" w="103635" h="21600">
                <a:moveTo>
                  <a:pt x="103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2235" y="20200"/>
                </a:lnTo>
                <a:close/>
              </a:path>
              <a:path fill="lighten" w="103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人”字形线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80880" y="1695600"/>
            <a:ext cx="3124440" cy="43243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505320" y="3048120"/>
            <a:ext cx="5181480" cy="25905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523880" y="9907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Times New Roman"/>
              </a:rPr>
              <a:t>居庸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562720" y="2895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Times New Roman"/>
              </a:rPr>
              <a:t>八达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4" action="ppaction://hlinksldjump"/>
          </p:cNvPr>
          <p:cNvSpPr/>
          <p:nvPr/>
        </p:nvSpPr>
        <p:spPr>
          <a:xfrm>
            <a:off x="4038480" y="6400800"/>
            <a:ext cx="838440" cy="304920"/>
          </a:xfrm>
          <a:custGeom>
            <a:avLst/>
            <a:gdLst>
              <a:gd name="textAreaLeft" fmla="*/ 19440 w 838440"/>
              <a:gd name="textAreaRight" fmla="*/ 819000 w 8384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9349" h="21600">
                <a:moveTo>
                  <a:pt x="0" y="0"/>
                </a:moveTo>
                <a:lnTo>
                  <a:pt x="59349" y="0"/>
                </a:lnTo>
                <a:lnTo>
                  <a:pt x="59349" y="21600"/>
                </a:lnTo>
                <a:lnTo>
                  <a:pt x="0" y="21600"/>
                </a:lnTo>
                <a:close/>
              </a:path>
              <a:path fill="lightenLess" w="59349" h="21600">
                <a:moveTo>
                  <a:pt x="0" y="0"/>
                </a:moveTo>
                <a:lnTo>
                  <a:pt x="59349" y="0"/>
                </a:lnTo>
                <a:lnTo>
                  <a:pt x="57949" y="1400"/>
                </a:lnTo>
                <a:lnTo>
                  <a:pt x="1400" y="1400"/>
                </a:lnTo>
                <a:close/>
              </a:path>
              <a:path fill="darken" w="59349" h="21600">
                <a:moveTo>
                  <a:pt x="59349" y="0"/>
                </a:moveTo>
                <a:lnTo>
                  <a:pt x="59349" y="21600"/>
                </a:lnTo>
                <a:lnTo>
                  <a:pt x="57949" y="20200"/>
                </a:lnTo>
                <a:lnTo>
                  <a:pt x="57949" y="1400"/>
                </a:lnTo>
                <a:close/>
              </a:path>
              <a:path fill="darkenLess" w="59349" h="21600">
                <a:moveTo>
                  <a:pt x="593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49" y="20200"/>
                </a:lnTo>
                <a:close/>
              </a:path>
              <a:path fill="lighten" w="593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居庸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5" action="ppaction://hlinksldjump"/>
          </p:cNvPr>
          <p:cNvSpPr/>
          <p:nvPr/>
        </p:nvSpPr>
        <p:spPr>
          <a:xfrm>
            <a:off x="5181480" y="6400800"/>
            <a:ext cx="838440" cy="304920"/>
          </a:xfrm>
          <a:custGeom>
            <a:avLst/>
            <a:gdLst>
              <a:gd name="textAreaLeft" fmla="*/ 19440 w 838440"/>
              <a:gd name="textAreaRight" fmla="*/ 819000 w 8384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9349" h="21600">
                <a:moveTo>
                  <a:pt x="0" y="0"/>
                </a:moveTo>
                <a:lnTo>
                  <a:pt x="59349" y="0"/>
                </a:lnTo>
                <a:lnTo>
                  <a:pt x="59349" y="21600"/>
                </a:lnTo>
                <a:lnTo>
                  <a:pt x="0" y="21600"/>
                </a:lnTo>
                <a:close/>
              </a:path>
              <a:path fill="lightenLess" w="59349" h="21600">
                <a:moveTo>
                  <a:pt x="0" y="0"/>
                </a:moveTo>
                <a:lnTo>
                  <a:pt x="59349" y="0"/>
                </a:lnTo>
                <a:lnTo>
                  <a:pt x="57949" y="1400"/>
                </a:lnTo>
                <a:lnTo>
                  <a:pt x="1400" y="1400"/>
                </a:lnTo>
                <a:close/>
              </a:path>
              <a:path fill="darken" w="59349" h="21600">
                <a:moveTo>
                  <a:pt x="59349" y="0"/>
                </a:moveTo>
                <a:lnTo>
                  <a:pt x="59349" y="21600"/>
                </a:lnTo>
                <a:lnTo>
                  <a:pt x="57949" y="20200"/>
                </a:lnTo>
                <a:lnTo>
                  <a:pt x="57949" y="1400"/>
                </a:lnTo>
                <a:close/>
              </a:path>
              <a:path fill="darkenLess" w="59349" h="21600">
                <a:moveTo>
                  <a:pt x="593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49" y="20200"/>
                </a:lnTo>
                <a:close/>
              </a:path>
              <a:path fill="lighten" w="593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八达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6" action="ppaction://hlinksldjump"/>
          </p:cNvPr>
          <p:cNvSpPr/>
          <p:nvPr/>
        </p:nvSpPr>
        <p:spPr>
          <a:xfrm>
            <a:off x="6400800" y="6400800"/>
            <a:ext cx="838080" cy="304920"/>
          </a:xfrm>
          <a:custGeom>
            <a:avLst/>
            <a:gdLst>
              <a:gd name="textAreaLeft" fmla="*/ 19440 w 838080"/>
              <a:gd name="textAreaRight" fmla="*/ 818640 w 838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9324" h="21600">
                <a:moveTo>
                  <a:pt x="0" y="0"/>
                </a:moveTo>
                <a:lnTo>
                  <a:pt x="59324" y="0"/>
                </a:lnTo>
                <a:lnTo>
                  <a:pt x="59324" y="21600"/>
                </a:lnTo>
                <a:lnTo>
                  <a:pt x="0" y="21600"/>
                </a:lnTo>
                <a:close/>
              </a:path>
              <a:path fill="lightenLess" w="59324" h="21600">
                <a:moveTo>
                  <a:pt x="0" y="0"/>
                </a:moveTo>
                <a:lnTo>
                  <a:pt x="59324" y="0"/>
                </a:lnTo>
                <a:lnTo>
                  <a:pt x="57924" y="1400"/>
                </a:lnTo>
                <a:lnTo>
                  <a:pt x="1400" y="1400"/>
                </a:lnTo>
                <a:close/>
              </a:path>
              <a:path fill="darken" w="59324" h="21600">
                <a:moveTo>
                  <a:pt x="59324" y="0"/>
                </a:moveTo>
                <a:lnTo>
                  <a:pt x="59324" y="21600"/>
                </a:lnTo>
                <a:lnTo>
                  <a:pt x="57924" y="20200"/>
                </a:lnTo>
                <a:lnTo>
                  <a:pt x="57924" y="1400"/>
                </a:lnTo>
                <a:close/>
              </a:path>
              <a:path fill="darkenLess" w="59324" h="21600">
                <a:moveTo>
                  <a:pt x="593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24" y="20200"/>
                </a:lnTo>
                <a:close/>
              </a:path>
              <a:path fill="lighten" w="593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比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2971800" y="5334120"/>
            <a:ext cx="3351960" cy="485640"/>
            <a:chOff x="2971800" y="5334120"/>
            <a:chExt cx="3351960" cy="485640"/>
          </a:xfrm>
        </p:grpSpPr>
        <p:sp>
          <p:nvSpPr>
            <p:cNvPr id="94" name=""/>
            <p:cNvSpPr/>
            <p:nvPr/>
          </p:nvSpPr>
          <p:spPr>
            <a:xfrm>
              <a:off x="2971800" y="5334120"/>
              <a:ext cx="1507320" cy="485640"/>
            </a:xfrm>
            <a:prstGeom prst="rightArrow">
              <a:avLst>
                <a:gd name="adj1" fmla="val 50000"/>
                <a:gd name="adj2" fmla="val 77595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33360" y="5334120"/>
              <a:ext cx="1490400" cy="485640"/>
            </a:xfrm>
            <a:prstGeom prst="leftArrow">
              <a:avLst>
                <a:gd name="adj1" fmla="val 50000"/>
                <a:gd name="adj2" fmla="val 76723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133720" y="1828800"/>
            <a:ext cx="4733640" cy="4324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0"/>
            <a:ext cx="3505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居庸关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76720" y="99072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两端同时向中间凿进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875720" y="5562720"/>
            <a:ext cx="1268280" cy="1295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990720" y="1905120"/>
            <a:ext cx="7238880" cy="36194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267080" y="3276720"/>
            <a:ext cx="457200" cy="1981080"/>
          </a:xfrm>
          <a:prstGeom prst="downArrow">
            <a:avLst>
              <a:gd name="adj1" fmla="val 50000"/>
              <a:gd name="adj2" fmla="val 108327"/>
            </a:avLst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219320" y="4800600"/>
            <a:ext cx="6933960" cy="533520"/>
            <a:chOff x="1219320" y="4800600"/>
            <a:chExt cx="6933960" cy="533520"/>
          </a:xfrm>
        </p:grpSpPr>
        <p:sp>
          <p:nvSpPr>
            <p:cNvPr id="103" name=""/>
            <p:cNvSpPr/>
            <p:nvPr/>
          </p:nvSpPr>
          <p:spPr>
            <a:xfrm>
              <a:off x="1219320" y="4800600"/>
              <a:ext cx="1447560" cy="533520"/>
            </a:xfrm>
            <a:prstGeom prst="rightArrow">
              <a:avLst>
                <a:gd name="adj1" fmla="val 50000"/>
                <a:gd name="adj2" fmla="val 6783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705720" y="4800600"/>
              <a:ext cx="1447560" cy="533520"/>
            </a:xfrm>
            <a:prstGeom prst="leftArrow">
              <a:avLst>
                <a:gd name="adj1" fmla="val 50000"/>
                <a:gd name="adj2" fmla="val 6783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2971800" y="4800600"/>
            <a:ext cx="3200400" cy="533520"/>
            <a:chOff x="2971800" y="4800600"/>
            <a:chExt cx="3200400" cy="533520"/>
          </a:xfrm>
        </p:grpSpPr>
        <p:sp>
          <p:nvSpPr>
            <p:cNvPr id="106" name=""/>
            <p:cNvSpPr/>
            <p:nvPr/>
          </p:nvSpPr>
          <p:spPr>
            <a:xfrm>
              <a:off x="2971800" y="4800600"/>
              <a:ext cx="1295280" cy="533520"/>
            </a:xfrm>
            <a:prstGeom prst="leftArrow">
              <a:avLst>
                <a:gd name="adj1" fmla="val 50000"/>
                <a:gd name="adj2" fmla="val 4552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724280" y="4800600"/>
              <a:ext cx="1447920" cy="533520"/>
            </a:xfrm>
            <a:prstGeom prst="rightArrow">
              <a:avLst>
                <a:gd name="adj1" fmla="val 50000"/>
                <a:gd name="adj2" fmla="val 67848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0" y="152280"/>
            <a:ext cx="4419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9933"/>
                </a:solidFill>
                <a:latin typeface="Times New Roman"/>
                <a:ea typeface="楷体_GB2312"/>
              </a:rPr>
              <a:t>八达岭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190512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中部凿井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875720" y="5562720"/>
            <a:ext cx="1268280" cy="1295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52280" y="1695600"/>
            <a:ext cx="3124440" cy="43243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3962520" y="3048120"/>
            <a:ext cx="5181480" cy="25905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219320" y="9907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Times New Roman"/>
              </a:rPr>
              <a:t>居庸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62720" y="2895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Times New Roman"/>
              </a:rPr>
              <a:t>八达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85800" y="5257800"/>
            <a:ext cx="2285640" cy="457200"/>
            <a:chOff x="685800" y="5257800"/>
            <a:chExt cx="2285640" cy="457200"/>
          </a:xfrm>
        </p:grpSpPr>
        <p:sp>
          <p:nvSpPr>
            <p:cNvPr id="116" name=""/>
            <p:cNvSpPr/>
            <p:nvPr/>
          </p:nvSpPr>
          <p:spPr>
            <a:xfrm>
              <a:off x="685800" y="5257800"/>
              <a:ext cx="1027800" cy="457200"/>
            </a:xfrm>
            <a:prstGeom prst="rightArrow">
              <a:avLst>
                <a:gd name="adj1" fmla="val 50000"/>
                <a:gd name="adj2" fmla="val 5620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55160" y="5257800"/>
              <a:ext cx="1016280" cy="457200"/>
            </a:xfrm>
            <a:prstGeom prst="leftArrow">
              <a:avLst>
                <a:gd name="adj1" fmla="val 50000"/>
                <a:gd name="adj2" fmla="val 5557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5410080" y="5257800"/>
            <a:ext cx="2285640" cy="457200"/>
            <a:chOff x="5410080" y="5257800"/>
            <a:chExt cx="2285640" cy="457200"/>
          </a:xfrm>
        </p:grpSpPr>
        <p:sp>
          <p:nvSpPr>
            <p:cNvPr id="119" name=""/>
            <p:cNvSpPr/>
            <p:nvPr/>
          </p:nvSpPr>
          <p:spPr>
            <a:xfrm>
              <a:off x="5410080" y="5257800"/>
              <a:ext cx="925200" cy="457200"/>
            </a:xfrm>
            <a:prstGeom prst="leftArrow">
              <a:avLst>
                <a:gd name="adj1" fmla="val 50000"/>
                <a:gd name="adj2" fmla="val 37943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661800" y="5257800"/>
              <a:ext cx="1033920" cy="457200"/>
            </a:xfrm>
            <a:prstGeom prst="rightArrow">
              <a:avLst>
                <a:gd name="adj1" fmla="val 50000"/>
                <a:gd name="adj2" fmla="val 56535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6324480" y="4038480"/>
            <a:ext cx="381240" cy="1447920"/>
          </a:xfrm>
          <a:prstGeom prst="downArrow">
            <a:avLst>
              <a:gd name="adj1" fmla="val 50000"/>
              <a:gd name="adj2" fmla="val 94948"/>
            </a:avLst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191120" y="5257800"/>
            <a:ext cx="4800240" cy="457200"/>
            <a:chOff x="4191120" y="5257800"/>
            <a:chExt cx="4800240" cy="457200"/>
          </a:xfrm>
        </p:grpSpPr>
        <p:sp>
          <p:nvSpPr>
            <p:cNvPr id="123" name=""/>
            <p:cNvSpPr/>
            <p:nvPr/>
          </p:nvSpPr>
          <p:spPr>
            <a:xfrm>
              <a:off x="4191120" y="5257800"/>
              <a:ext cx="1001880" cy="457200"/>
            </a:xfrm>
            <a:prstGeom prst="rightArrow">
              <a:avLst>
                <a:gd name="adj1" fmla="val 50000"/>
                <a:gd name="adj2" fmla="val 54783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989480" y="5257800"/>
              <a:ext cx="1001880" cy="457200"/>
            </a:xfrm>
            <a:prstGeom prst="leftArrow">
              <a:avLst>
                <a:gd name="adj1" fmla="val 50000"/>
                <a:gd name="adj2" fmla="val 54783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5867280" y="6019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中部凿井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60958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两端同时向中间凿进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971640" y="907920"/>
            <a:ext cx="2220840" cy="2832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492360" y="620640"/>
            <a:ext cx="525636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詹天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出生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86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日，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919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日逝世，享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岁。广东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南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，居住在湖南省，他是中国首位铁路工程师，负责修建了京张铁路（北京——张家口）等铁路工程，有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“中国铁路之父”、“中国近代工程之父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之称。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195640" y="1268280"/>
            <a:ext cx="64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铁路经过青龙桥附近，坡度特别大。火车怎么才能爬上这样的坡度呢？詹天佑顺着山势，设计一种“人”字形线路。北上的列车到了南口就用两个火车头，一个在前面拉，一个在后面推。过青龙桥，列车向东北前进，过了“人”字形线路的岔道口就倒过来，原先推的火车头拉，原先拉的火车头推，使列车折向西北前进，这样一来，火车上山就容易得多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95640" y="1268280"/>
            <a:ext cx="670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铁路经过青龙桥附近，坡度特别大。火车怎么才能爬上这样的坡度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38480" y="6400800"/>
            <a:ext cx="1981440" cy="304920"/>
          </a:xfrm>
          <a:custGeom>
            <a:avLst/>
            <a:gdLst>
              <a:gd name="textAreaLeft" fmla="*/ 19440 w 1981440"/>
              <a:gd name="textAreaRight" fmla="*/ 1962000 w 19814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40222" h="21600">
                <a:moveTo>
                  <a:pt x="0" y="0"/>
                </a:moveTo>
                <a:lnTo>
                  <a:pt x="140222" y="0"/>
                </a:lnTo>
                <a:lnTo>
                  <a:pt x="140222" y="21600"/>
                </a:lnTo>
                <a:lnTo>
                  <a:pt x="0" y="21600"/>
                </a:lnTo>
                <a:close/>
              </a:path>
              <a:path fill="lightenLess" w="140222" h="21600">
                <a:moveTo>
                  <a:pt x="0" y="0"/>
                </a:moveTo>
                <a:lnTo>
                  <a:pt x="140222" y="0"/>
                </a:lnTo>
                <a:lnTo>
                  <a:pt x="138822" y="1400"/>
                </a:lnTo>
                <a:lnTo>
                  <a:pt x="1400" y="1400"/>
                </a:lnTo>
                <a:close/>
              </a:path>
              <a:path fill="darken" w="140222" h="21600">
                <a:moveTo>
                  <a:pt x="140222" y="0"/>
                </a:moveTo>
                <a:lnTo>
                  <a:pt x="140222" y="21600"/>
                </a:lnTo>
                <a:lnTo>
                  <a:pt x="138822" y="20200"/>
                </a:lnTo>
                <a:lnTo>
                  <a:pt x="138822" y="1400"/>
                </a:lnTo>
                <a:close/>
              </a:path>
              <a:path fill="darkenLess" w="140222" h="21600">
                <a:moveTo>
                  <a:pt x="1402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822" y="20200"/>
                </a:lnTo>
                <a:close/>
              </a:path>
              <a:path fill="lighten" w="1402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人”字形线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77120" y="640080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523880" y="487692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南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14600" y="52578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467480" y="327672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213372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17524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西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772400" y="33526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青龙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23880" y="1981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228680" y="990720"/>
            <a:ext cx="7915320" cy="53719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523880" y="487692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南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14600" y="52578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7480" y="327672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76520" y="213372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17524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西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33526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青龙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23880" y="1981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875720" y="5562720"/>
            <a:ext cx="1268280" cy="12952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553080" y="6324480"/>
            <a:ext cx="533520" cy="38124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28820" y="1400"/>
                </a:lnTo>
                <a:lnTo>
                  <a:pt x="1400" y="1400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28820" y="20200"/>
                </a:lnTo>
                <a:lnTo>
                  <a:pt x="28820" y="1400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0" y="20200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推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533520" y="304920"/>
            <a:ext cx="8229600" cy="52005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447920" y="5683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北上的列车到了南口就用两个火车头，一个在前面拉，一个在后面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81280" y="4572000"/>
            <a:ext cx="60984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733920" y="0"/>
            <a:ext cx="60948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1752480"/>
            <a:ext cx="60948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610480" y="1676520"/>
            <a:ext cx="60984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8381880" cy="4572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990720" y="48769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过青龙桥，列车向东北前进，过了“人”字形线路的岔道口就倒过来，原先推的火车头拉，原先拉的火车推，使列车折向西北前进，这样一来，火车上山就容易得多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4038480"/>
            <a:ext cx="60984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0"/>
            <a:ext cx="60984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1676520"/>
            <a:ext cx="60948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534520" y="1981080"/>
            <a:ext cx="60948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979640" y="1495440"/>
            <a:ext cx="576108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476360" y="2637000"/>
            <a:ext cx="69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这条铁路不满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年就全线竣工了，比原来的计划提早两年。这件事给了藐视中国的帝国主义者一个有力的回击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76360" y="2637000"/>
            <a:ext cx="70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这条铁路不满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年就全线竣工了，比原来的计划提早两年。这件事给了藐视中国的帝国主义者一个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有力的回击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1280" y="59500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更多全套免费课件下载地址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六十铺中小学教育网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905120" y="449568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今天，我们乘火车去八达岭，过青龙桥车站，可以看到一座铜像，就是詹天佑。许多到中国来游览的外宾，看到詹天佑留下的伟大工程，都赞叹不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05120" y="449568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今天，我们乘火车去八达岭，过青龙桥车站，可以看到一座铜像，就是詹天佑。许多到中国来游览的外宾，看到詹天佑留下的伟大工程，都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赞叹不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3492360" y="404640"/>
            <a:ext cx="2505240" cy="37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611280" y="765000"/>
            <a:ext cx="2367000" cy="35053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048120" y="1295280"/>
            <a:ext cx="563868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詹天佑是我国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杰出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爱国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工程师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28600" y="4586400"/>
            <a:ext cx="8381880" cy="1358640"/>
            <a:chOff x="228600" y="4586400"/>
            <a:chExt cx="8381880" cy="1358640"/>
          </a:xfrm>
        </p:grpSpPr>
        <p:sp>
          <p:nvSpPr>
            <p:cNvPr id="172" name=""/>
            <p:cNvSpPr/>
            <p:nvPr/>
          </p:nvSpPr>
          <p:spPr>
            <a:xfrm>
              <a:off x="228600" y="4586400"/>
              <a:ext cx="8305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詹天佑，你……  ……您真是一位</a:t>
              </a: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</a:rPr>
                <a:t>杰出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的工程师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！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28600" y="5424480"/>
              <a:ext cx="8381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詹天佑，你……  ……您的</a:t>
              </a: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</a:rPr>
                <a:t>爱国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精神令人敬佩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！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75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819520" y="1143000"/>
            <a:ext cx="5638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仿照本文布局谋篇的方法练习写作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7924680" y="6019920"/>
            <a:ext cx="1067040" cy="679320"/>
          </a:xfrm>
          <a:prstGeom prst="rect">
            <a:avLst/>
          </a:prstGeom>
          <a:ln w="0">
            <a:noFill/>
          </a:ln>
        </p:spPr>
      </p:pic>
      <p:grpSp>
        <p:nvGrpSpPr>
          <p:cNvPr id="176" name=""/>
          <p:cNvGrpSpPr/>
          <p:nvPr/>
        </p:nvGrpSpPr>
        <p:grpSpPr>
          <a:xfrm>
            <a:off x="762120" y="533520"/>
            <a:ext cx="2743200" cy="1752120"/>
            <a:chOff x="762120" y="533520"/>
            <a:chExt cx="2743200" cy="1752120"/>
          </a:xfrm>
        </p:grpSpPr>
        <p:pic>
          <p:nvPicPr>
            <p:cNvPr id="177" name="" descr=""/>
            <p:cNvPicPr/>
            <p:nvPr/>
          </p:nvPicPr>
          <p:blipFill>
            <a:blip r:embed="rId3"/>
            <a:stretch/>
          </p:blipFill>
          <p:spPr>
            <a:xfrm>
              <a:off x="762120" y="706320"/>
              <a:ext cx="1904760" cy="157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1523880" y="533520"/>
              <a:ext cx="1981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3333cc"/>
                  </a:solidFill>
                  <a:latin typeface="Times New Roman"/>
                </a:rPr>
                <a:t>小练笔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611280" y="4292640"/>
            <a:ext cx="7695720" cy="1630440"/>
            <a:chOff x="611280" y="4292640"/>
            <a:chExt cx="7695720" cy="1630440"/>
          </a:xfrm>
        </p:grpSpPr>
        <p:sp>
          <p:nvSpPr>
            <p:cNvPr id="180" name=""/>
            <p:cNvSpPr/>
            <p:nvPr/>
          </p:nvSpPr>
          <p:spPr>
            <a:xfrm>
              <a:off x="2668320" y="5237280"/>
              <a:ext cx="5638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课外收集我国铁路建设方面的新成就，与同学们交流。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611280" y="4292640"/>
              <a:ext cx="2133360" cy="1630440"/>
              <a:chOff x="611280" y="4292640"/>
              <a:chExt cx="2133360" cy="1630440"/>
            </a:xfrm>
          </p:grpSpPr>
          <p:pic>
            <p:nvPicPr>
              <p:cNvPr id="18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11280" y="4292640"/>
                <a:ext cx="1752480" cy="163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" name=""/>
              <p:cNvSpPr/>
              <p:nvPr/>
            </p:nvSpPr>
            <p:spPr>
              <a:xfrm>
                <a:off x="992160" y="4856400"/>
                <a:ext cx="1752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cc"/>
                    </a:solidFill>
                    <a:latin typeface="Times New Roman"/>
                  </a:rPr>
                  <a:t>小实践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4" name=""/>
          <p:cNvGrpSpPr/>
          <p:nvPr/>
        </p:nvGrpSpPr>
        <p:grpSpPr>
          <a:xfrm>
            <a:off x="2743200" y="3048120"/>
            <a:ext cx="5790960" cy="1676160"/>
            <a:chOff x="2743200" y="3048120"/>
            <a:chExt cx="5790960" cy="1676160"/>
          </a:xfrm>
        </p:grpSpPr>
        <p:sp>
          <p:nvSpPr>
            <p:cNvPr id="185" name=""/>
            <p:cNvSpPr/>
            <p:nvPr/>
          </p:nvSpPr>
          <p:spPr>
            <a:xfrm>
              <a:off x="2743200" y="3048120"/>
              <a:ext cx="426708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</a:rPr>
                <a:t>我的同学李进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是个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</a:rPr>
                <a:t>勤学好问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的人。</a:t>
              </a:r>
              <a:r>
                <a:rPr b="0" lang="zh-CN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781680" y="335268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200400" y="3809880"/>
              <a:ext cx="533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047760" y="4267080"/>
              <a:ext cx="548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047760" y="4724280"/>
              <a:ext cx="548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2743200" y="3048120"/>
            <a:ext cx="5790960" cy="1676160"/>
            <a:chOff x="2743200" y="3048120"/>
            <a:chExt cx="5790960" cy="1676160"/>
          </a:xfrm>
        </p:grpSpPr>
        <p:sp>
          <p:nvSpPr>
            <p:cNvPr id="191" name=""/>
            <p:cNvSpPr/>
            <p:nvPr/>
          </p:nvSpPr>
          <p:spPr>
            <a:xfrm>
              <a:off x="2743200" y="3048120"/>
              <a:ext cx="426708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我的同学李进是个勤学好问的人。</a:t>
              </a:r>
              <a:r>
                <a:rPr b="0" lang="zh-CN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781680" y="335268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200400" y="3809880"/>
              <a:ext cx="533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047760" y="4267080"/>
              <a:ext cx="548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047760" y="4724280"/>
              <a:ext cx="548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55640" y="189000"/>
            <a:ext cx="1655640" cy="907920"/>
          </a:xfrm>
          <a:prstGeom prst="cloudCallout">
            <a:avLst>
              <a:gd name="adj1" fmla="val -42615"/>
              <a:gd name="adj2" fmla="val 69930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19280" y="765000"/>
            <a:ext cx="684036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本文记叙了詹天佑在主持修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                       ）的过程中，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怕帝国主义者（                    ）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克服工程中的千难万险，提前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成修筑任务的事迹，表现了詹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佑是一位（　　）的（　　）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程师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55736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京张铁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003640" y="234936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要挟嘲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67280" y="486900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杰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27640" y="486900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爱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26920" y="404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预习检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835280" y="907920"/>
            <a:ext cx="684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</a:rPr>
              <a:t>wěi    jùn    miǎo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349360"/>
            <a:ext cx="60498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纬度    竣工    藐视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经纬            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92360" y="1989000"/>
            <a:ext cx="65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7200" spc="-1" strike="noStrike">
                <a:solidFill>
                  <a:srgbClr val="ff0000"/>
                </a:solidFill>
                <a:latin typeface="Times New Roman"/>
              </a:rPr>
              <a:t>纬     竣     藐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979640" y="76500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yòu    miè   cháo    kān    pān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50920" y="364500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jī    jiāng    chà      tó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63640" y="1628640"/>
            <a:ext cx="61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佑      蔑     嘲       勘      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4000" y="4292640"/>
            <a:ext cx="51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讥     浆      岔      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24000" y="2349360"/>
            <a:ext cx="6696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保佑    轻蔑   嘲笑    勘探     攀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佑护    蔑视   嘲讽    勘察     攀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08000" y="5157720"/>
            <a:ext cx="6120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讥讽    泥浆    打岔      铜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讥笑    糖浆    岔路      铜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771640" y="1341360"/>
            <a:ext cx="460872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蔑    藐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勘    攀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692360" y="1125360"/>
            <a:ext cx="712944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联结     阻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挠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修筑    控制     争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要挟    轻蔑    居庸关   高山深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悬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崖峭壁   嘲笑  毅然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勘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测   勉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经纬   大概   狂风怒号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山越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讥笑   开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凿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隧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道   泥浆    岔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藐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视   铜像   赞叹不已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332000" y="4005360"/>
            <a:ext cx="738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詹天佑是我国杰出的爱国工程师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366920" y="4005360"/>
            <a:ext cx="777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詹天佑是我国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杰出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爱国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工程师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09480" y="152280"/>
            <a:ext cx="30290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75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75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835280" y="227664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从北京到张家口这一段铁路，最早是在他的主持下修筑成功的。这是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第一条完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由我国的工程技术人员设计施工的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铁路干线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635280" y="5300640"/>
            <a:ext cx="30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意义重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5T02:22:06Z</dcterms:created>
  <dc:creator>六十铺中小学教育网http://www.lspjy.com</dc:creator>
  <dc:description>六十铺中小学教育网http://www.lspjy.com</dc:description>
  <cp:keywords>六十铺中小学教育网http://www.lspjy.com</cp:keywords>
  <dc:language>en-US</dc:language>
  <cp:lastModifiedBy>微软用户</cp:lastModifiedBy>
  <dcterms:modified xsi:type="dcterms:W3CDTF">2010-07-10T04:36:09Z</dcterms:modified>
  <cp:revision>42</cp:revision>
  <dc:subject/>
  <dc:title>六十铺中小学教育网http://www.lspjy.com</dc:title>
</cp:coreProperties>
</file>