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5.gif" ContentType="image/gif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836C-825F-4A70-BE66-1C6F5B53F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475C-DC74-4E36-990D-75CC765F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AE51-3FA7-41DB-9D02-E58B3A842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F287-58CC-4940-8A60-5A738B372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0A60-A06D-455A-98FB-5F44345A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4E1D-BB58-439E-AD0F-14C47DFA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F4B6-2F5B-45DC-88AF-14E495E1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61B9-8A35-4D4C-9D87-00FD2E23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F130-0F4F-4EC9-9160-DBA40993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272B-CBB9-4DA0-B22B-62758D02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F602-429D-4D9F-9B8A-853929C1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75A6-E3C0-49AB-894E-BD0E7EF3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97BB-1CE5-4C25-A54F-C234B787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2C15-E899-40D5-B6D0-000F187D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75B6-9A63-44B6-80FE-E7FE79EF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5780-87AC-4FA1-AA90-66907E110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6751-E3A0-46AE-ACB0-243DF5893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9AF8-2DC8-497B-A0E8-476465FE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185C-B624-44E7-9262-E629B974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EC38-DA3F-429F-AC8F-061835F0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1B0F-9F25-40E1-AF09-0A0BF94E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AB7F-CE7D-40DB-9DC7-AB19086E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65F1-AD98-497C-877D-8833D1F3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29E2-FA1C-41B1-91F5-BF019042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17A1-97F9-4DDA-B5FD-874E855208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DFE7-F5BA-42C3-B373-00A5B5F974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990720" y="2362320"/>
            <a:ext cx="40701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彩色的翅膀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16000" y="333360"/>
            <a:ext cx="4608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人教版语文六年级</a:t>
            </a: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(</a:t>
            </a: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上</a:t>
            </a: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)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媒体课件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360" y="510552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课文为什么要以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“彩色的翅膀”</a:t>
            </a: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为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仿宋"/>
              </a:rPr>
              <a:t>课题有两层含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仿宋"/>
              </a:rPr>
              <a:t>一是以彩色的翅膀借代蝴蝶等小昆虫，强调了这些小昆虫在改造海岛环境、丰富战士生活方面所起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仿宋"/>
              </a:rPr>
              <a:t>二是以彩色的翅膀象征战士丰富多彩、富于革命理想的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086600" y="1371600"/>
            <a:ext cx="1676520" cy="3505320"/>
            <a:chOff x="7086600" y="1371600"/>
            <a:chExt cx="1676520" cy="3505320"/>
          </a:xfrm>
        </p:grpSpPr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7086600" y="1371600"/>
              <a:ext cx="167652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7086600" y="3200400"/>
              <a:ext cx="1676520" cy="167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762120" y="1676520"/>
            <a:ext cx="32763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黑体"/>
              </a:rPr>
              <a:t>请你欣赏</a:t>
            </a: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黑体"/>
              </a:rPr>
              <a:t>: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5" name=""/>
          <p:cNvSpPr/>
          <p:nvPr/>
        </p:nvSpPr>
        <p:spPr>
          <a:xfrm>
            <a:off x="1600200" y="30481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中宋"/>
              </a:rPr>
              <a:t>《军港之夜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343040" y="1371600"/>
            <a:ext cx="3352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布置作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86200" y="2819160"/>
            <a:ext cx="46483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仿宋"/>
                <a:ea typeface="华文仿宋"/>
              </a:rPr>
              <a:t>1</a:t>
            </a:r>
            <a:r>
              <a:rPr b="1" lang="zh-CN" sz="3200" spc="-1" strike="noStrike">
                <a:solidFill>
                  <a:srgbClr val="008000"/>
                </a:solidFill>
                <a:latin typeface="华文仿宋"/>
                <a:ea typeface="华文仿宋"/>
              </a:rPr>
              <a:t>．摘录精彩语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仿宋"/>
                <a:ea typeface="华文仿宋"/>
              </a:rPr>
              <a:t>2</a:t>
            </a:r>
            <a:r>
              <a:rPr b="1" lang="zh-CN" sz="3200" spc="-1" strike="noStrike">
                <a:solidFill>
                  <a:srgbClr val="008000"/>
                </a:solidFill>
                <a:latin typeface="华文仿宋"/>
                <a:ea typeface="华文仿宋"/>
              </a:rPr>
              <a:t>．给宝石岛的战士写一封信，可以刊登在黑板报上，也可以投稿给编辑部，有条件的可以把信发布在网站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3124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28600" y="2285640"/>
            <a:ext cx="28195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碧空如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矮墩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水落石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精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819520" y="1447920"/>
            <a:ext cx="2971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词语积累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23623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仿宋"/>
              </a:rPr>
              <a:t>青蓝色的天空像洗过一样明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66880" y="289548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仿宋"/>
              </a:rPr>
              <a:t>形容矮而粗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66880" y="3429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水落下去，石头就露出来。比喻真相大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46483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仿宋"/>
              </a:rPr>
              <a:t>机警聪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172200" y="4495680"/>
            <a:ext cx="2590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362320" y="2076480"/>
            <a:ext cx="457200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自读课文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,</a:t>
            </a: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理解大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3429000"/>
            <a:ext cx="6781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故事发生在什么地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课文主要讲述了哪几件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91960" y="189000"/>
            <a:ext cx="6782040" cy="1508040"/>
            <a:chOff x="291960" y="189000"/>
            <a:chExt cx="6782040" cy="1508040"/>
          </a:xfrm>
        </p:grpSpPr>
        <p:sp>
          <p:nvSpPr>
            <p:cNvPr id="95" name=""/>
            <p:cNvSpPr/>
            <p:nvPr/>
          </p:nvSpPr>
          <p:spPr>
            <a:xfrm>
              <a:off x="291960" y="1622520"/>
              <a:ext cx="6782040" cy="74520"/>
            </a:xfrm>
            <a:prstGeom prst="rect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3" descr="我会读pic_227543"/>
            <p:cNvPicPr/>
            <p:nvPr/>
          </p:nvPicPr>
          <p:blipFill>
            <a:blip r:embed="rId2"/>
            <a:stretch/>
          </p:blipFill>
          <p:spPr>
            <a:xfrm>
              <a:off x="407880" y="189000"/>
              <a:ext cx="1619280" cy="13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 txBox="1"/>
            <p:nvPr/>
          </p:nvSpPr>
          <p:spPr>
            <a:xfrm>
              <a:off x="2273400" y="785880"/>
              <a:ext cx="244800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隶书"/>
                </a:rPr>
                <a:t>读一读</a:t>
              </a:r>
              <a:endParaRPr b="1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867280" y="1143000"/>
            <a:ext cx="2514600" cy="2590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62120" y="3657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故事发生在去宝石岛的路上和宝石岛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447920" y="1905120"/>
            <a:ext cx="30477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故事地点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029200" y="2666520"/>
            <a:ext cx="609480" cy="1143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4648320"/>
            <a:ext cx="914400" cy="9144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791320" y="3809880"/>
            <a:ext cx="23619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971800" y="1219320"/>
            <a:ext cx="2895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主要事件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85800" y="2743200"/>
            <a:ext cx="3657600" cy="3429000"/>
            <a:chOff x="685800" y="2743200"/>
            <a:chExt cx="3657600" cy="3429000"/>
          </a:xfrm>
        </p:grpSpPr>
        <p:sp>
          <p:nvSpPr>
            <p:cNvPr id="106" name=""/>
            <p:cNvSpPr/>
            <p:nvPr/>
          </p:nvSpPr>
          <p:spPr>
            <a:xfrm>
              <a:off x="685800" y="27432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（一）战士小高探亲回来带小昆虫上岛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4"/>
            <a:stretch/>
          </p:blipFill>
          <p:spPr>
            <a:xfrm>
              <a:off x="838080" y="3886200"/>
              <a:ext cx="3276720" cy="228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"/>
          <p:cNvGrpSpPr/>
          <p:nvPr/>
        </p:nvGrpSpPr>
        <p:grpSpPr>
          <a:xfrm>
            <a:off x="4800600" y="2743200"/>
            <a:ext cx="3505320" cy="3457440"/>
            <a:chOff x="4800600" y="2743200"/>
            <a:chExt cx="3505320" cy="3457440"/>
          </a:xfrm>
        </p:grpSpPr>
        <p:sp>
          <p:nvSpPr>
            <p:cNvPr id="109" name=""/>
            <p:cNvSpPr/>
            <p:nvPr/>
          </p:nvSpPr>
          <p:spPr>
            <a:xfrm>
              <a:off x="4800600" y="274320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（二）岛上战士开尝瓜会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5"/>
            <a:stretch/>
          </p:blipFill>
          <p:spPr>
            <a:xfrm>
              <a:off x="5029200" y="3886200"/>
              <a:ext cx="3276720" cy="2314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121932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结识战士“小高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7239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他把他的大提包</a:t>
            </a: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扔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在一边，怀里紧紧地</a:t>
            </a: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抱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着一只纸箱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3429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仿宋"/>
              </a:rPr>
              <a:t>海面上波涛起伏，船身前后晃荡，小高担心纸箱被损坏，纸箱里装着的小昆虫不能上岛，心中着急，所以把纸箱抱在怀里。这句话有力地说明了小昆虫在小高心中的重要地位，也为下文揭开小高的秘密作了铺垫。句中“扔”与“抱”形成了鲜明的对比，突出了小高的品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13716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1447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他笑嘻嘻地说：“我就不相信，这些小精灵会不爱我们祖国的海岛，会不愿在这里安居乐业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99840" y="2971800"/>
            <a:ext cx="7086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仿宋_GB2312"/>
              </a:rPr>
              <a:t>    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仿宋_GB2312"/>
              </a:rPr>
              <a:t>小高相信，经过战士们的努力，岛上环境条件差、生活艰苦的面貌一定会改变；他也相信，小昆虫一定会在海岛上安居乐业。这句话表面上是赞扬小昆虫，实际上是小高内心的表白：自己热爱祖国海岛，决心用自己的双手把海岛建设成美丽的家园。这句话点明了文章的中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895480"/>
            <a:ext cx="1295280" cy="3048120"/>
            <a:chOff x="457200" y="2895480"/>
            <a:chExt cx="1295280" cy="3048120"/>
          </a:xfrm>
        </p:grpSpPr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457200" y="2895480"/>
              <a:ext cx="129528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3"/>
            <a:stretch/>
          </p:blipFill>
          <p:spPr>
            <a:xfrm>
              <a:off x="457200" y="4419720"/>
              <a:ext cx="1295280" cy="1523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19520" y="14475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黑体"/>
              </a:rPr>
              <a:t>海岛“尝瓜会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289548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仿宋_GB2312"/>
              </a:rPr>
              <a:t>战士们都笑着，用两个指头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捏起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仿宋_GB2312"/>
              </a:rPr>
              <a:t>一小片来，细细地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端详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仿宋_GB2312"/>
              </a:rPr>
              <a:t>着，轻轻地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闻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仿宋_GB2312"/>
              </a:rPr>
              <a:t>着，慢慢地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咬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仿宋_GB2312"/>
              </a:rPr>
              <a:t>着，不住发出啧啧的赞叹声。好像有一股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甘泉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仿宋_GB2312"/>
              </a:rPr>
              <a:t>，流进了每个战士的心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19810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3429000"/>
            <a:ext cx="67816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仿宋"/>
              </a:rPr>
              <a:t>这里写出了战士们收获西瓜后喜悦、激动、自豪的心情，表现了他们对自己劳动成果的珍爱。战士的感情用“捏起”“端详”“闻”“咬”等一连串动词表现了出来。当中好像有一股甘泉，流进了他们的心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914400" y="1752480"/>
            <a:ext cx="7086600" cy="1219320"/>
            <a:chOff x="914400" y="1752480"/>
            <a:chExt cx="7086600" cy="1219320"/>
          </a:xfrm>
        </p:grpSpPr>
        <p:sp>
          <p:nvSpPr>
            <p:cNvPr id="125" name=""/>
            <p:cNvSpPr/>
            <p:nvPr/>
          </p:nvSpPr>
          <p:spPr>
            <a:xfrm>
              <a:off x="2209680" y="1752480"/>
              <a:ext cx="57913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901"/>
                </a:spcBef>
                <a:buClr>
                  <a:srgbClr val="3333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Arial"/>
                </a:rPr>
                <a:t>作者为什么把战士们吃瓜的情景写得那么详细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914400" y="1828800"/>
              <a:ext cx="1143000" cy="103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"/>
          <p:cNvSpPr/>
          <p:nvPr/>
        </p:nvSpPr>
        <p:spPr>
          <a:xfrm>
            <a:off x="4572000" y="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全套免费课件下载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六十铺中小学教育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04:37:02Z</dcterms:modified>
  <cp:revision>21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