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408-7B85-4547-A768-DD466301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6ED-6B3B-4AAB-ABF8-E6C5A74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77C-9F58-461C-87B0-865EAFBC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AC0-6CF5-40CA-B1E6-6C231017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1C2-9B32-46C4-8791-6BFF5261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308-F953-4309-8221-9AFCDEA0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9BB-6B84-40E1-A484-5F29EA7A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45A-3A53-44DB-9043-37F48A27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903-4707-4336-9F84-4AEC1649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E91-D48A-4AC6-8CB1-FA88EE0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D7B-3B5F-4E12-8F99-7D4CC41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3B4-56FD-4A2E-8A7E-5DC0F931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FED0-A9B2-4B8C-A72B-663291408B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YW0918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876920"/>
            <a:ext cx="72392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52480" y="50292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汉鼎简姚体"/>
              </a:rPr>
              <a:t>我的伯父鲁迅先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13500000"/>
              </a:gradFill>
              <a:latin typeface="汉鼎简姚体"/>
              <a:ea typeface="汉鼎简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70760" y="83808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03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的确，伯父就是这样的一个人，他为自己想的少，为别人想得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那时侯，我有点惊异了，为什么伯父得到这么人的爱戴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下面句子，并说一说，哪个句子写得好？为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心　里非常悲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想到我就要永远见不到伯父的面了，听不到他的声音了，也得不到他的爱抚了，泪珠就一滴一滴地掉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5720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an0008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361600">
            <a:off x="5830920" y="-68400"/>
            <a:ext cx="2954160" cy="3429000"/>
          </a:xfrm>
          <a:prstGeom prst="cloudCallout">
            <a:avLst>
              <a:gd name="adj1" fmla="val -59601"/>
              <a:gd name="adj2" fmla="val 43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28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哈哈，还是我的记性好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119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，四周围黑洞洞的，还不容易碰壁吗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057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周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0574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洞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805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碰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484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8:44:2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1:31Z</dcterms:modified>
  <cp:revision>12</cp:revision>
  <dc:subject>六十铺中小学教育网http://www.lspjy.com</dc:subject>
  <dc:title>六十铺中小学教育网http://www.lspjy.com</dc:title>
</cp:coreProperties>
</file>