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656D-0737-4203-BBEC-F2BB5419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1631-2DE6-4C5F-85B9-A0A11A82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7D54-E21F-4F44-8015-0770AEAE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9EAD-8560-423C-B61C-B15A81D2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788A-82D2-4F65-BB5C-062956FB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F9EB-A5A7-4E64-8849-A7B92ABA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2B5D-54BE-42D9-A214-FDE5F208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996D-D60E-4297-891F-99515558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9FEE-7BCE-4693-8B46-2B2B989A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2F87-203D-4F0A-8D80-3829E1A6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18BF-92E8-4A87-AC3F-7C604BB2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283C-D00E-4C43-83EB-814C57D7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AC19-E38A-4126-B77F-23E93A70E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225334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1523880" y="5334120"/>
            <a:ext cx="86868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银雀山中心小学：王艳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3962520" y="1066680"/>
            <a:ext cx="4572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少年闰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5" descr="0Vol_060_CL087以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508640"/>
            <a:ext cx="9144000" cy="2349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971640" y="0"/>
            <a:ext cx="7777080" cy="39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我离开故乡的这么多年，只要一想到闰土，我的脑海中就会忽地闪出一幅神异的画面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深蓝的天空中挂着一轮金黄的圆月，下面是海边的沙地，都种着一望无际的碧绿的西瓜。其间有一个十一二岁的少年，项带银圈，手捏一柄钢叉，向一匹猹尽力地刺去。那猹却将身一扭，反从他的胯下逃走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当我回到故乡的那一刹那，母亲对我说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：“闰土他每次到我们家来的时候，总是问起你，说很想见你一面。”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好听的歌曲给一种想象的天空.wma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322597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8" descr="p-karar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WordArt 5" descr=""/>
          <p:cNvPicPr/>
          <p:nvPr/>
        </p:nvPicPr>
        <p:blipFill>
          <a:blip r:embed="rId2"/>
          <a:stretch/>
        </p:blipFill>
        <p:spPr>
          <a:xfrm>
            <a:off x="517680" y="517680"/>
            <a:ext cx="2768400" cy="7444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755640" y="177336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我与闰土见面后却发现：我们之间已经隔了一层厚厚的、可悲的、无法逾越的屏障，让我对故乡，对故乡的一切不再感到留恋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我只觉得我四面有着看不见的高墙，将我隔成孤身，使我非常气闷；而那西瓜地上带银项圈的少年，却在我心中忽地变得模糊起来，使我感到了一种来自于内心深处的悲凉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方正姚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shenmihuayuan纸船和风筝.mp3" descr=""/>
          <p:cNvPicPr/>
          <p:nvPr/>
        </p:nvPicPr>
        <p:blipFill>
          <a:blip r:embed="rId3"/>
          <a:stretch/>
        </p:blipFill>
        <p:spPr>
          <a:xfrm>
            <a:off x="759636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9700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20060625095249809_S"/>
          <p:cNvPicPr/>
          <p:nvPr/>
        </p:nvPicPr>
        <p:blipFill>
          <a:blip r:embed="rId1"/>
          <a:stretch/>
        </p:blipFill>
        <p:spPr>
          <a:xfrm>
            <a:off x="250920" y="3860640"/>
            <a:ext cx="3200400" cy="2667240"/>
          </a:xfrm>
          <a:prstGeom prst="rect">
            <a:avLst/>
          </a:prstGeom>
          <a:ln w="0">
            <a:noFill/>
          </a:ln>
        </p:spPr>
      </p:pic>
      <p:sp>
        <p:nvSpPr>
          <p:cNvPr id="75" name="WordArt 4"/>
          <p:cNvSpPr txBox="1"/>
          <p:nvPr/>
        </p:nvSpPr>
        <p:spPr>
          <a:xfrm>
            <a:off x="609480" y="762120"/>
            <a:ext cx="3962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阅读推荐：</a:t>
            </a:r>
            <a:endParaRPr b="0" lang="en-US" sz="3200" spc="1" strike="noStrike">
              <a:ln w="1908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   </a:t>
            </a:r>
            <a:endParaRPr b="0" lang="en-US" sz="3200" spc="1" strike="noStrike">
              <a:ln w="1908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     </a:t>
            </a:r>
            <a:endParaRPr b="0" lang="en-US" sz="3200" spc="1" strike="noStrike">
              <a:ln w="1908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6" name="WordArt 6" descr=""/>
          <p:cNvPicPr/>
          <p:nvPr/>
        </p:nvPicPr>
        <p:blipFill>
          <a:blip r:embed="rId2"/>
          <a:stretch/>
        </p:blipFill>
        <p:spPr>
          <a:xfrm>
            <a:off x="4413240" y="2766960"/>
            <a:ext cx="3724200" cy="1354320"/>
          </a:xfrm>
          <a:prstGeom prst="rect">
            <a:avLst/>
          </a:prstGeom>
          <a:ln w="0">
            <a:noFill/>
          </a:ln>
        </p:spPr>
      </p:pic>
      <p:sp>
        <p:nvSpPr>
          <p:cNvPr id="77" name="Line 8"/>
          <p:cNvSpPr/>
          <p:nvPr/>
        </p:nvSpPr>
        <p:spPr>
          <a:xfrm>
            <a:off x="3581280" y="5229360"/>
            <a:ext cx="556272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5670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未命名"/>
          <p:cNvPicPr/>
          <p:nvPr/>
        </p:nvPicPr>
        <p:blipFill>
          <a:blip r:embed="rId1"/>
          <a:stretch/>
        </p:blipFill>
        <p:spPr>
          <a:xfrm>
            <a:off x="395280" y="692280"/>
            <a:ext cx="5689440" cy="56386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4067280" y="765000"/>
            <a:ext cx="4643280" cy="204372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阅读提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快速默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文，做到入眼看得快，入脑想得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边读边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闰土给我讲了哪些事？把自己印象最深、最感兴趣的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画一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品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物的语言、动作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体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物的性格特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>
            <a:hlinkClick r:id="rId2" action="ppaction://hlinksldjump"/>
          </p:cNvPr>
          <p:cNvSpPr/>
          <p:nvPr/>
        </p:nvSpPr>
        <p:spPr>
          <a:xfrm>
            <a:off x="7956720" y="623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685800" y="1600200"/>
            <a:ext cx="7848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沙地上，下了雪，我扫出一块空地来，用短棒支起一个大竹匾，撒下秕谷，看鸟雀来吃时，我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远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地将缚在棒上的绳子一拉，那鸟雀就罩在竹匾下面了。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什么都有：稻鸡，角鸡，鹁鸪，蓝背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300720" y="162864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924360" y="2133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7596360" y="2133720"/>
            <a:ext cx="54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4356000" y="3284640"/>
            <a:ext cx="5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838080" y="3124080"/>
            <a:ext cx="7543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深蓝的天空中挂着一轮金黄的圆月，下面是海边的沙地，都种着一望无际的碧绿的西瓜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其间有一个十一二岁的少年，项带银圈，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一柄钢叉，向一匹猹尽力地刺去。那猹却将身一扭，反从他的胯下逃走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少年闰土0001"/>
          <p:cNvPicPr/>
          <p:nvPr/>
        </p:nvPicPr>
        <p:blipFill>
          <a:blip r:embed="rId1"/>
          <a:stretch/>
        </p:blipFill>
        <p:spPr>
          <a:xfrm>
            <a:off x="2771640" y="189000"/>
            <a:ext cx="36007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200662916315485498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1187280" y="1125360"/>
            <a:ext cx="3313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深蓝的天空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挂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一轮金黄的圆月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下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是海边的沙地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都种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一望无际的碧绿的西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788000" y="189000"/>
            <a:ext cx="350496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有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十一二岁的少年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项带银圈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手捏一柄钢叉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向一匹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尽力地刺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那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却将身一扭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反从他的胯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逃走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pic_270744b"/>
          <p:cNvPicPr/>
          <p:nvPr/>
        </p:nvPicPr>
        <p:blipFill>
          <a:blip r:embed="rId1"/>
          <a:stretch/>
        </p:blipFill>
        <p:spPr>
          <a:xfrm>
            <a:off x="468360" y="1143000"/>
            <a:ext cx="365760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5219640" y="1125360"/>
            <a:ext cx="3505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深蓝的天空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挂着一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面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种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间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项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手捏一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向一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那猹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p-kara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971640" y="2349360"/>
            <a:ext cx="7561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啊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闰土的心里有无穷无尽的希奇的事，都是我往常的朋友所不知道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990720" y="34290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1403280" y="3573360"/>
            <a:ext cx="532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971640" y="3573360"/>
            <a:ext cx="7345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他们不知道一些事，闰土在海边时，他们都和我一样只看见院子里高墙上的四角的天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henmihuayuan纸船和风筝.mp3" descr=""/>
          <p:cNvPicPr/>
          <p:nvPr/>
        </p:nvPicPr>
        <p:blipFill>
          <a:blip r:embed="rId1"/>
          <a:stretch/>
        </p:blipFill>
        <p:spPr>
          <a:xfrm>
            <a:off x="84582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0"/>
          <p:cNvSpPr/>
          <p:nvPr/>
        </p:nvSpPr>
        <p:spPr>
          <a:xfrm>
            <a:off x="971640" y="249228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急得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大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他也躲到厨房里，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哭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肯出门，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终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被他父亲带走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4643280" y="30686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终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2T07:07:00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0:33Z</dcterms:modified>
  <cp:revision>151</cp:revision>
  <dc:subject>六十铺中小学教育网http://www.lspjy.com</dc:subject>
  <dc:title>六十铺中小学教育网http://www.lspjy.com</dc:title>
</cp:coreProperties>
</file>