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1AD-D86F-4C87-92A6-A275F9F5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841-95B8-4B30-A8C8-99C36969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2E7-0F01-4ABB-A725-B0AFA414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C31-7E56-4EA9-A114-0F936347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480-2616-4FA2-8940-88A547EE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900-2FE3-4C48-9B4E-B7B862F7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FEC-5B22-42E5-8592-550C72A2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947-CF31-4BAB-AB74-C16679F9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A24-E099-4F8B-9E39-C65F6DC2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DC9-722F-4073-A4B6-1371FFD8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AD2-D814-467F-8275-1E37D889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E87-B1A9-43BA-A4E9-780850CC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C526-8A15-4852-B7D5-03DE671AE8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112536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草虫的村落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1413000"/>
            <a:ext cx="792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此时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这是虫子们能演奏出来的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此时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这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有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虫子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才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能演奏出来的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13352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大街小巷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花色斑斓的小圆虫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披着俏丽的彩衣。在这些粗壮的黑甲虫中间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它们好像南国的少女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逗得多少虫子驻足痴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71640" y="10573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　蜥蜴面前围拢了一群黑甲虫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这庞然大物投以好奇的目光。它们友好地交流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好像攀谈得很投机似的。看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蜥蜴好像忘记了旅途的劳倦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它背着几个小黑甲虫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到处参观远房亲戚的住宅。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105264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现在它们归来了，每一个都用前肢推着大过身体两三倍的食物，行色匆匆地赶着路。是什么力量是它们这么勤勉地奔忙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640" y="126828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看见测气候者忙于观察气象，工程师忙于建筑设计……各种不同的工作，都有专门的虫子担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956720" y="0"/>
            <a:ext cx="118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52704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多全套免费课件下载地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十铺中小学教育网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7351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今天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又躺在田野里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无限的静谧中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忘了世界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也忘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3954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　　我悠悠忽忽地漫游了一个下午，直至夕阳亲吻着西山的时候，红鸠鸟的歌声才把我的心灵唤回来。我发现了草丛中小虫子的快乐天地。我多么得意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8830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　　我愿意牵着你的手，一起到草虫的村落里去散散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59280" y="364500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人与自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8985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珍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144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生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108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平等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144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和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6922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76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  <a:ea typeface="楷体_GB2312"/>
              </a:rPr>
              <a:t>　　　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草虫的村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302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我目光追随着爬行的的小虫，做了一次奇异的游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54952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我发现了草丛中小虫子的快乐天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课题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第一句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63025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第二句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76500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094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今天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我又躺在田野里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在无限的静谧中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忘了世界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也忘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3781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我悠悠忽忽地漫游了一个下午，直至夕阳亲吻着西山的时候，红鸠鸟的歌声才把我的心灵唤回来。我发现了草丛中小虫子的快乐天地。我多么得意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1055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我愿意牵着你的手，一起到草虫的村落里去散散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55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小虫子的世界中，究竟蕴藏着什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交往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63025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交往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演奏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劳动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分工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回应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4400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拓展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升华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9079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5640" y="765000"/>
            <a:ext cx="7488360" cy="1820520"/>
            <a:chOff x="755640" y="765000"/>
            <a:chExt cx="7488360" cy="1820520"/>
          </a:xfrm>
        </p:grpSpPr>
        <p:sp>
          <p:nvSpPr>
            <p:cNvPr id="67" name=""/>
            <p:cNvSpPr/>
            <p:nvPr/>
          </p:nvSpPr>
          <p:spPr>
            <a:xfrm>
              <a:off x="755640" y="765000"/>
              <a:ext cx="74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Arial"/>
                  <a:ea typeface="楷体_GB2312"/>
                </a:rPr>
                <a:t>　　空间在我眼前扩大了，细密的草茎组成了茂盛的森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5640" y="1197000"/>
              <a:ext cx="72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　　　　　　一只小虫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一只生着坚硬黑甲的小虫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迷失在这座森林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6920" y="1638360"/>
              <a:ext cx="741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　　　　　　　　　　　我想它一定是游侠吧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!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你看它虽然迷了路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仍傲然地前进着。它不断地左冲右撞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终于走出一条路。我的目光跟着它的脚步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它走着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走着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一路上遇到不少同伴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它们互相打着招呼。我真想也跟它们　　一下，可惜我不懂它们的语言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788000" y="2133720"/>
            <a:ext cx="338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256536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2997360"/>
            <a:ext cx="432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932360" y="4508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3440" y="4508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6720" y="33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1197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只英勇的黑甲虫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走进了村子。我看见在许多同类虫子中间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只娇小的从洞里跑出来迎接远归者。它们意味深长地对视良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然后一齐欢跃地走回洞穴里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4360" y="15699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原来，在小虫子的世界中，蕴藏着多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5699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在我眼中，草虫的村落就是 </a:t>
            </a:r>
            <a:r>
              <a:rPr b="1" lang="zh-CN" sz="3600" spc="-1" strike="noStrike">
                <a:solidFill>
                  <a:srgbClr val="001e00"/>
                </a:solidFill>
                <a:latin typeface="黑体"/>
                <a:ea typeface="黑体"/>
              </a:rPr>
              <a:t>_________</a:t>
            </a:r>
            <a:r>
              <a:rPr b="1" lang="zh-CN" sz="3200" spc="-1" strike="noStrike">
                <a:solidFill>
                  <a:srgbClr val="001e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981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　甲虫音乐家们全神贯注地振着翅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优美的音韵，像灵泉一般流了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1413000"/>
            <a:ext cx="784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　　　　　　　　　　　    此时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只有虫子们才能演奏出来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324480" y="2438280"/>
            <a:ext cx="1526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438280"/>
            <a:ext cx="761760" cy="243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429000" y="2438280"/>
            <a:ext cx="26668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438280"/>
            <a:ext cx="1219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2:02:4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4:54Z</dcterms:modified>
  <cp:revision>38</cp:revision>
  <dc:subject>六十铺中小学教育网http://www.lspjy.com</dc:subject>
  <dc:title>六十铺中小学教育网http://www.lspjy.com</dc:title>
</cp:coreProperties>
</file>