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wmf" ContentType="image/x-wmf"/>
  <Override PartName="/ppt/media/image13.png" ContentType="image/png"/>
  <Override PartName="/ppt/media/image16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7.jpeg" ContentType="image/jpeg"/>
  <Override PartName="/ppt/media/image15.gif" ContentType="image/gif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4E3-EF5B-4E54-B6C1-796F486C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15D-5491-4050-86D2-B892C4A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8CEA-00B5-4067-B9B0-A89F9F46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585-71CE-4359-8D25-38ADF57A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4102-76D3-4C75-AED0-DBE1BD27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7BE0-F17E-406A-B22F-717B6320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110D-8439-4729-A6D7-D9577F9E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F788-3081-4C7C-B1AF-3562094F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5F3B-8AE1-4F6B-8FAE-DA25D39F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12A1-40E8-4DBE-90C1-DA9E2FA0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62E7-0504-482D-A8B5-046A885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FC8-F3BA-4052-A743-A0086629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A92B-CFD9-4521-9FC2-C600052D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B8C-DC03-46DE-A9FA-6392A792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9575-0465-4A26-A509-3C20DF6D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74EE-150F-42EB-A7FE-02015D3F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4741-972A-41D0-AEFF-EAD1480B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DA7-606C-489D-922E-52AD4B23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F47-82EB-4759-87B4-7D07A2A8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670-1473-4D69-8F45-6DDDAAAB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277-6B65-4767-92E0-98BB679E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98D-A94E-4B5D-A838-46FB896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8D3-7E1D-463A-AF47-6545470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E7E-863B-4DAA-818D-D50D8BEF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EA05-091B-4ECF-8B80-117B03156D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DBD8-ED11-46E8-8352-0B328BD389E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flipH="1">
            <a:off x="8101080" y="404640"/>
            <a:ext cx="48744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71600" y="685800"/>
            <a:ext cx="792000" cy="61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flipH="1">
            <a:off x="1828800" y="3886200"/>
            <a:ext cx="287280" cy="228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059280" y="404640"/>
            <a:ext cx="307800" cy="16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274920" y="620640"/>
            <a:ext cx="308160" cy="16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505320" y="4005360"/>
            <a:ext cx="380880" cy="10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79640" y="2421000"/>
            <a:ext cx="547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唯一的听众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63640" y="333360"/>
            <a:ext cx="4608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779400" cy="779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2209680"/>
            <a:ext cx="84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感情的朗读下面的短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研究相关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0160" y="990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探究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52280"/>
            <a:ext cx="883908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  灵   有  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小女孩因为长得又矮又瘦而被老师排除在合唱团之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躲在公园里伤心地流泪。她想：我为什么不能去唱歌呢？难道我真的唱得很难听吗？想着想着，小女孩就低声唱了起来，她唱了一支又一支，直到唱累了为止。“唱得真好！” 一个声音响了起来，“谢谢你，小姑娘，你让我渡过了一个愉快的下午。”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这时小姑娘惊呆了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话的老人说完就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第二天下午再去时，那老人还坐在原来的位置上，满脸慈祥地看着她微笑。小女孩又唱起来，老人聚精会神地听着，一副陶醉其中的表情。最后他大声喝彩，说：“谢谢你，小姑娘，你唱得太棒了！”说完又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过去了许多年后，小女孩成了大女孩，而且成了有名的歌星。但她忘不了公园里那个慈祥的老人。一个冬日的下午，她特意去公园找老人，令她失望的是那里只有一张小小的孤独的靠椅。后来才知道，老人早死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是个聋子，都聋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了！”一个知情人告诉她。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姑娘惊呆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22096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章两次写到小姑娘惊呆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别说说 她“惊呆”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809880"/>
            <a:ext cx="82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短文中的老人与《唯一的听众》中的老人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68200" y="1030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ahoma"/>
                <a:ea typeface="华文彩云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29600" y="1143000"/>
            <a:ext cx="609480" cy="61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6922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99072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创新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781360"/>
            <a:ext cx="799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同学们，你在成长的过程中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定也得到过许多人的帮助和关怀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选择一件写一写，表达你的感激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字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flipH="1">
            <a:off x="7391520" y="1219320"/>
            <a:ext cx="838080" cy="728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1295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990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Tahoma"/>
                <a:ea typeface="华文彩云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观察你身边最亲近人的一天，以《爱在我身边》为主题写一篇作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67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25702" dir="1234696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今天，我们能强健而正直地生活着，我们应该对那些在我们生命历程中用关爱扶持我们的人，用智慧启迪我们的人，用美德陶冶我们的人，用真情沐浴我们的人，心存感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733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多一份感激，就少一份冷漠；多一份感激，就少一份虚荣；多一份感激，就多一份奉献</a:t>
            </a: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存感激，是一种明朗的心境，一种人性的光辉，天空因此而变得湛蓝，空气因此而变得湿润，美好的事物因此而变得离我们很近很近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76212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ahoma"/>
                <a:ea typeface="华文彩云"/>
              </a:rPr>
              <a:t>心 存 感 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976320" cy="121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2520" cy="32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24280" y="4876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495680" y="0"/>
              <a:ext cx="464832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0" y="3505320"/>
              <a:ext cx="449568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4495680" y="3505320"/>
              <a:ext cx="464832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4495680" cy="350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819520"/>
            <a:ext cx="2286000" cy="1950840"/>
          </a:xfrm>
          <a:custGeom>
            <a:avLst/>
            <a:gdLst>
              <a:gd name="textAreaLeft" fmla="*/ 537120 w 2286000"/>
              <a:gd name="textAreaRight" fmla="*/ 1747080 w 2286000"/>
              <a:gd name="textAreaTop" fmla="*/ 229320 h 1950840"/>
              <a:gd name="textAreaBottom" fmla="*/ 1223640 h 1950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2600" y="2770200"/>
            <a:ext cx="3814920" cy="2608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48760" y="1009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Arial"/>
                <a:ea typeface="华文彩云"/>
              </a:rPr>
              <a:t>巩固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153280" y="1143000"/>
            <a:ext cx="631800" cy="63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6920" y="2276640"/>
            <a:ext cx="80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你理解下列词的含义吗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请把它们连成一段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华文中宋"/>
              </a:rPr>
              <a:t>蹑手蹑脚、懊恼、羞愧、抱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22050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会心理活动推动情节发展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正面和侧面相结合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文中的老人不计名利、默默奉献的精      神；培养学生有自信、有毅力的品质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44200" y="1009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华文彩云"/>
                <a:ea typeface="华文彩云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64320" y="533520"/>
            <a:ext cx="1579680" cy="1579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96480" y="1009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自主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7432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209680"/>
            <a:ext cx="80773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段中， “我”刚看见老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时， “我”有怎样的心理活动？第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段中， “我”又有怎样的心理活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我”的前后变化说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0120" y="1066680"/>
            <a:ext cx="1216080" cy="717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1752480"/>
            <a:ext cx="86011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你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想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人的心理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天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久以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来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0160" y="1035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彩云"/>
                <a:ea typeface="华文彩云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110016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1066680"/>
            <a:ext cx="1212840" cy="717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72800" y="1019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彩云"/>
                <a:ea typeface="华文彩云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37360" y="2057400"/>
            <a:ext cx="54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认为这篇课文的中心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80988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中妹妹的角色是必须有的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怎样理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比一比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思考一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我一直珍藏着一位老人美好的心灵”这句话中“美好的心灵”的含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1:09:45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7:06Z</dcterms:modified>
  <cp:revision>57</cp:revision>
  <dc:subject>六十铺中小学教育网http://www.lspjy.com</dc:subject>
  <dc:title>六十铺中小学教育网http://www.lspjy.com</dc:title>
</cp:coreProperties>
</file>