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DB2-3B5B-4B94-9CBA-853F072E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953-B9DE-492A-9724-D61F480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D60-CB83-4E29-96B9-24B992BE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1ED-BEEB-4BE7-9CB2-F4572CEB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CEE-B8B1-4370-95E2-D275F3C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9C7-719E-447E-97F0-B6E6DFCE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56F-3F8F-4DAA-A0CB-DB6C7859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254-DD6A-4940-9D8E-E04C7631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CD6-7601-4284-8CD5-277BF25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F1B-0D01-4DE1-869A-3016F05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368-5FE5-48FB-BB70-0D1F62CD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947-88D8-4E65-A646-E0694AC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C10-63E3-4EC0-98B8-AC71ACA27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916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最 后 一 头 战 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1360" y="692280"/>
            <a:ext cx="511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土坑约有三米深，嘎羧卧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坑底，侧着脸，鼻子盘在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弯，一只眼睛睁得老大，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望着天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风凛凛   排山倒海   势不可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焦躁不安   漫不经心   久别重逢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恍然大悟   泣不成声   震耳欲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炯炯有神   长途跋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7336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49360"/>
            <a:ext cx="8748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认真读课文，找出描写嘎羧行为、神态的句子，体会嘎羧的高尚情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有感情地朗读课文，感受深情地语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835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提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默读课文相应部分，用“—”画出描写嘎羧行为、神态的句子，把体会写在旁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有感情地朗读课文，并体会嘎羧的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907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没想到，嘎羧见了，一下子安静下来，用鼻子呼呼吹去上面的灰尘，鼻尖久久地在上面摩挲着，眼睛里泪光闪闪，像是见到久别重逢的老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981000"/>
            <a:ext cx="8893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老人和孩子捧着香蕉、甘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和糯米粑粑，送到嘎羧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边，它什么也没吃，只喝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点水，绕着寨子走了三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嘎羧走了整整一夜，天亮时，来到打洛江畔。它站在江滩的卵石上，久久凝望着清波荡漾的江面。然后，它踩着哗哗流淌的江水，走到一块龟形礁石上亲了又亲，许久又昂起头来，向着天边那轮火红的朝阳，发出震耳欲聋的吼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549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年，象兵在西双版纳打洛江畔和日寇打了一仗。战斗结束后，鬼子扔下了七十多具尸体，我方八十多头战象全部中弹倒地。人们在打洛江边挖了一个巨坑，隆重埋葬阵亡的战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嘎羧久久的凝望里，它一定看到了二十六年前惊心动魄的一幕：威武雄壮的战象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日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最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了又亲的礁石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它的吼声里听出，它在深情呼唤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灵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诉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告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19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5:28Z</dcterms:modified>
  <cp:revision>28</cp:revision>
  <dc:subject>六十铺中小学教育网http://www.lspjy.com</dc:subject>
  <dc:title>六十铺中小学教育网http://www.lspjy.com</dc:title>
</cp:coreProperties>
</file>