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B00-16BE-40A2-9846-6B27C599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F32-E771-40B8-A9D0-23599E93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F2E-5BA0-480A-9217-6B2D0B78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502-A72F-4FE1-AB7E-D5B9E62A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14794-56CB-42CC-A072-94D94CC5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16861-8905-4B32-AA21-CBEB3AA4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62F9F-550B-4A1D-9B27-CA5B9E61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7D2E2-0481-475F-89E2-6E6AFBD2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D409D-C26C-41C9-BE1D-47B4F508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5637C-6E0F-4775-A998-ECBB134A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31F40-D95F-4CF6-8865-511D260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360-FBF7-4DEB-AA05-7FE89252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2140A-A04F-42DB-AEA5-5807950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FABD4-9C44-4151-8E5B-8A47F118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20F09-86B7-49FD-AAD5-8DE64B57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D189C-D856-40A4-8EC0-9B559195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60E5C-A561-4BB1-862D-4E609C6D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985D-EAB0-44F6-A1E5-1DD145E5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6568-3D56-4300-95E6-BFF7B06A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82872-A6AA-4E01-ACD4-5AEC1F9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1EB2-0D78-471D-B9A8-F652769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EAE7-CE07-4036-879A-250D50E6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46B-04CE-45B0-A5CC-DC2D3AC4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D232-C26C-45D0-9DE1-1844AE84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8C484-6CA7-4BD2-90DB-36ADDB4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A0D6-4639-4215-86A2-F032ED18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7FFB-C438-4052-8418-FC4E273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E547B-E069-491E-ADDA-1722FE5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E6BC-C87B-4E5B-B7CF-FD486D45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BC5F-BF93-45A3-8FD7-B55A4B86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078-2822-4FA4-9E15-DD6FB065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A54-F671-48F6-90B2-553562CE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151-0B1C-450C-801B-D4B13C57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3F9-1A0E-4F14-A03C-66D343D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D65-8F58-4864-BF65-80691569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C4D-6BB1-4360-A2BC-F991C65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E023-B936-47DA-B771-2EA949596B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FD82-6796-4626-A08B-EE8167EE9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34C4-BD25-402C-9A29-D7EB008A25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572040" y="1079640"/>
            <a:ext cx="21913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195640" y="5589720"/>
            <a:ext cx="419076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索溪峪的水</a:t>
            </a:r>
            <a:endParaRPr b="0" lang="en-US" sz="6600" spc="-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5120" y="628812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黄      龙      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756760" y="404640"/>
            <a:ext cx="2861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行楷"/>
              </a:rPr>
              <a:t>定海神针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57400" y="790560"/>
            <a:ext cx="21913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索溪峪的野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80360" cy="6264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228600"/>
            <a:ext cx="77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索溪峪的山，是天然的美，是野性的美。这种美，是一种惊险的美：几十丈高的断壁悬崖拔地而起，半边悬空的巨石在山风中摇摇晃晃，游人仰头而掉帽，望石而惊心。什么“一线天”，什么“百丈峡”，闻名就使人胆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黑体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惊险的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几十丈高的悬崖拔地而起，半边悬空的巨石在山风中摇摇晃晃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使人望而生畏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什么“一线天”什么“百丈峡”听着名字就让人胆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2373120" cy="2167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078280" cy="263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12000" y="602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华文行楷"/>
              </a:rPr>
              <a:t>一线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华文行楷"/>
              </a:rPr>
              <a:t>百丈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92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92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92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92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126828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19162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Tahoma"/>
              </a:rPr>
              <a:t>．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350028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中宋"/>
              </a:rPr>
              <a:t>磅礴的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07920"/>
            <a:ext cx="37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4290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不是一峰独秀．也不是三五峰呼应，而是千峰万仞绵亘蜿蜒，“十里画廊”，“西海峰林”，令而浩气长舒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708360" cy="234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067280" y="981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十里画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233880" cy="257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410680" y="4814640"/>
            <a:ext cx="4237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西海峰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5280" y="47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-171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Tahoma"/>
                <a:ea typeface="华文中宋"/>
              </a:rPr>
              <a:t>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476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中宋"/>
              </a:rPr>
              <a:t>随心所欲，不拘一格的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13413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或直插云天，或横拦绿水，旁逸斜出，崛起巍巍“斜山”；相对相依，宛如“热恋情人”；婷婷玉立，则好似“窈窕淑女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16720" y="4292640"/>
            <a:ext cx="3527280" cy="2451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42920" y="5950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直插云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429000"/>
            <a:ext cx="23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横拦绿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65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15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65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15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211640" cy="327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211640" cy="357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5003640" cy="357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49240" y="1844640"/>
            <a:ext cx="109476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中宋"/>
              </a:rPr>
              <a:t>千峰竞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18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水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484280"/>
            <a:ext cx="30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197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索溪就像一个从深山中蹦跳而出的野孩子，一会儿绕着山奔跑，一会儿撅着屁股，赌着气又自个儿闹去了．它尤其爱跟山路哥哥闹着玩：一会儿手牵手，并肩而行；一会横铲一脚，将山路拦腰截断。山路哥哥倒不觉得这有什么了不起，它请树木大树帮忙，几棵大树往索溪身上一搭，反从它身上跨过去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3559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15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42920" y="260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33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水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1413000"/>
            <a:ext cx="49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山路哥哥还找石头弟弟帮忙，几块石头一垫，山路便化成一条虚线，一跳一跳地从水中过去了。山路还有更巧妙的办法，它在河床上垫一排大卵石，从水底下一个猛子扎过去，这样的“路”还可以过汽车——汽车吼叫着，车身摇晃着，卵石挤碰着，水花四溅，我们的心也怦怦直跳……平生没走过这么“野”的路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924360" cy="49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35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动物是野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2192400"/>
            <a:ext cx="741852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山上的野物当然更是“野”性十足了。那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大大小小的猴子，在我们头上的树枝间跳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跳去，亲热的劲头难以言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当我们一行中的的一位年轻女同志从树下经过时，一只小猴子竟恶作剧地撒起尿来，吓得这位女同胞惊叫一声，慌忙逃走了。而那个调皮的小家伙，却快活的叫着，跳到另一棵树上去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36096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99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98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998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998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998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573408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ahoma"/>
              </a:rPr>
              <a:t>树枝间跳来跳去的猴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496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在这样的山水间行走，我们也渐渐变得“野”了起来。城里戴眼镜的姑娘，一边攀缘，一边嚼着煮熟的玉米棒；年过花甲的老人，在石块间蹦来蹦去，温习着儿时的功课。遇上突然横在面前的山溪，一队人手提皮鞋、丝袜，踩着乱石，从平膝的水中蹚过去…… 满山的嘻嘻哈哈，满溪的亲亲热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74760" y="1258920"/>
            <a:ext cx="509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191628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508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26920" y="1052640"/>
            <a:ext cx="640908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在这山水中返璞归真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73720" y="260280"/>
            <a:ext cx="4586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4120" y="189000"/>
            <a:ext cx="13993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　线　天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　内景　外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81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51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56000" y="407664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百仗峡</a:t>
            </a:r>
            <a:endParaRPr b="0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4049640"/>
            <a:ext cx="784872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3311640" cy="3673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4560" y="0"/>
            <a:ext cx="3889440" cy="414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859320" y="404640"/>
            <a:ext cx="2191320" cy="5472360"/>
          </a:xfrm>
          <a:prstGeom prst="rect">
            <a:avLst/>
          </a:prstGeom>
          <a:solidFill>
            <a:srgbClr val="00ff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十里画廊游览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229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700360" y="5373720"/>
            <a:ext cx="45194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西海峰林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333360"/>
            <a:ext cx="44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天然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62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野性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924280"/>
            <a:ext cx="40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惊险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14972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磅礴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5300640"/>
            <a:ext cx="63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随心所欲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不拘一格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13480" y="1295280"/>
            <a:ext cx="119088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5760" y="1295280"/>
            <a:ext cx="2191320" cy="458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宝  峰  湖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08464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0" y="4005360"/>
            <a:ext cx="423864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索溪峪的水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43280" y="515772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5300640"/>
            <a:ext cx="41911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索溪峪的水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52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5:43Z</dcterms:modified>
  <cp:revision>14</cp:revision>
  <dc:subject>六十铺中小学教育网http://www.lspjy.com</dc:subject>
  <dc:title>六十铺中小学教育网http://www.lspjy.com</dc:title>
</cp:coreProperties>
</file>