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9BE37-7E12-4A1E-98ED-54FC26056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65571-193F-4A8B-9C99-31007B13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F9030-8361-429F-894D-ADE4BEA39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8CCC-0B3B-451F-A903-73F074154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EFA57-A66A-4AEB-8FD1-9A788E26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F1D0-DF26-4DEE-B6B9-E1F322F8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0E53A-0E2F-4FFE-AC73-0D6138F4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C4701-F83A-4A2E-AC52-AEF383122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4B19-930E-489A-8251-B14C5745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B06A4-4908-4A9D-B9E2-3910E4BA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A1A08-6A7D-404F-9503-7C03B250C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EE64-9608-4CDD-9F0C-90B5E4295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E361-612E-4191-AFD4-9AC0051E3DF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海鸥　海鸥是人类最熟悉的海鸟，有</a:t>
            </a:r>
            <a:r>
              <a:rPr b="1" lang="zh-CN"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zh-CN"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克至</a:t>
            </a:r>
            <a:r>
              <a:rPr b="1" lang="zh-CN" sz="3200" spc="-1" strike="noStrike">
                <a:solidFill>
                  <a:srgbClr val="000000"/>
                </a:solidFill>
                <a:latin typeface="楷体_GB2312"/>
                <a:ea typeface="楷体_GB2312"/>
              </a:rPr>
              <a:t>2 000</a:t>
            </a:r>
            <a:r>
              <a:rPr b="1" lang="zh-CN" sz="3200" spc="-1" strike="noStrike">
                <a:solidFill>
                  <a:srgbClr val="000000"/>
                </a:solidFill>
                <a:latin typeface="楷体_GB2312"/>
                <a:ea typeface="楷体_GB2312"/>
              </a:rPr>
              <a:t>克。</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
          <p:cNvSpPr txBox="1"/>
          <p:nvPr/>
        </p:nvSpPr>
        <p:spPr>
          <a:xfrm>
            <a:off x="2771640" y="404640"/>
            <a:ext cx="4105440" cy="172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21 </a:t>
            </a: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老人与海鸥</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4360" y="6922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24000" y="260280"/>
            <a:ext cx="8316720" cy="6337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
        <p:nvSpPr>
          <p:cNvPr id="72"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178920" y="980640"/>
            <a:ext cx="8458200" cy="5877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27280" y="-1295280"/>
            <a:ext cx="12598560" cy="944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89000"/>
            <a:ext cx="3203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50" name="PlaceHolder 2"/>
          <p:cNvSpPr>
            <a:spLocks noGrp="1"/>
          </p:cNvSpPr>
          <p:nvPr>
            <p:ph/>
          </p:nvPr>
        </p:nvSpPr>
        <p:spPr>
          <a:xfrm>
            <a:off x="179280" y="907920"/>
            <a:ext cx="896472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①</a:t>
            </a:r>
            <a:r>
              <a:rPr b="1" lang="zh-CN" sz="44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400" spc="-1" strike="noStrike">
              <a:solidFill>
                <a:srgbClr val="000000"/>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4360" y="1125000"/>
            <a:ext cx="7772400" cy="4751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3:14Z</dcterms:modified>
  <cp:revision>48</cp:revision>
  <dc:subject>六十铺中小学教育网http://www.lspjy.com</dc:subject>
  <dc:title>六十铺中小学教育网http://www.lspjy.com</dc:title>
</cp:coreProperties>
</file>