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A09-EB74-4ABD-BFE0-1F0D7880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2F1-5E9F-458B-A4E4-3DA9F9D5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A3C-0511-4BA9-835F-85152912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937-5936-459F-9AD7-5DA9DE0C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0D9-296C-40BB-B931-3F62F52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243-3277-4025-B6C3-257E4CD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E297-AECA-469A-A894-DC8CF885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E785-190B-4F19-B882-8D9245C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16C-030A-4AE9-B3DF-FFA208A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157-FA20-4FA4-BD02-F6EF885C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817-6339-4D84-B512-90866CFF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3D0-1184-4826-BD23-87FC2B68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55D-6FF5-4612-ABC0-6529F6639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7" descr=""/>
          <p:cNvPicPr/>
          <p:nvPr/>
        </p:nvPicPr>
        <p:blipFill>
          <a:blip r:embed="rId2"/>
          <a:stretch/>
        </p:blipFill>
        <p:spPr>
          <a:xfrm>
            <a:off x="1339920" y="1824120"/>
            <a:ext cx="6667560" cy="21096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300760" y="5445000"/>
            <a:ext cx="374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8580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筑这条路的人一定有一颗高尚的心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button106"/>
          <p:cNvPicPr/>
          <p:nvPr/>
        </p:nvPicPr>
        <p:blipFill>
          <a:blip r:embed="rId2"/>
          <a:stretch/>
        </p:blipFill>
        <p:spPr>
          <a:xfrm>
            <a:off x="8305920" y="600876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33520" y="2895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句话赞美了工程师和筑路工人珍爱树木、保护环境的高尚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筑这条路的人一定有一颗高尚的心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6"/>
          <p:cNvSpPr/>
          <p:nvPr/>
        </p:nvSpPr>
        <p:spPr>
          <a:xfrm>
            <a:off x="952560" y="75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3" descr="《路旁的橡树》课文插图一"/>
          <p:cNvPicPr/>
          <p:nvPr/>
        </p:nvPicPr>
        <p:blipFill>
          <a:blip r:embed="rId2"/>
          <a:stretch/>
        </p:blipFill>
        <p:spPr>
          <a:xfrm>
            <a:off x="0" y="0"/>
            <a:ext cx="4572000" cy="343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4" descr="《路旁的橡树》课文插图二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3"/>
          <p:cNvSpPr txBox="1"/>
          <p:nvPr/>
        </p:nvSpPr>
        <p:spPr>
          <a:xfrm>
            <a:off x="914400" y="22096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课文朗读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5562720" y="22096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词语学习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914400" y="36576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句段赏析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5562720" y="36576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复述课文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62120" y="7621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x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71680" y="1447920"/>
            <a:ext cx="8001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橡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      平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木 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未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来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路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40384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tǎ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4864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gu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371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w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è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809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p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594360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y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á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29528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sh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71680" y="1447920"/>
            <a:ext cx="8001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哨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兵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楔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子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责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沥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      射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65760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x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19920" y="762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z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668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l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410080" y="30481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ji</a:t>
            </a:r>
            <a:r>
              <a:rPr b="1" lang="en-US" sz="4400" spc="-1" strike="noStrike">
                <a:solidFill>
                  <a:srgbClr val="6666ff"/>
                </a:solidFill>
                <a:latin typeface="Times New Roman"/>
                <a:ea typeface="zypyyb"/>
              </a:rPr>
              <a:t>à</a:t>
            </a:r>
            <a:r>
              <a:rPr b="1" lang="en-US" sz="4400" spc="-1" strike="noStrike">
                <a:solidFill>
                  <a:srgbClr val="6666ff"/>
                </a:solidFill>
                <a:latin typeface="zypyyb"/>
                <a:ea typeface="zypyyb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1600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990720" y="114300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62120" y="99072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62120" y="228600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373392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2590920" y="1600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259092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724280" y="16002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5"/>
          <p:cNvSpPr/>
          <p:nvPr/>
        </p:nvSpPr>
        <p:spPr>
          <a:xfrm>
            <a:off x="5486400" y="11430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5257800" y="990720"/>
            <a:ext cx="291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5257800" y="2286000"/>
            <a:ext cx="2698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7086600" y="1600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1"/>
          <p:cNvSpPr/>
          <p:nvPr/>
        </p:nvSpPr>
        <p:spPr>
          <a:xfrm>
            <a:off x="708660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590920" y="4343400"/>
            <a:ext cx="291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3352680" y="38862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3124080" y="5029200"/>
            <a:ext cx="31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495288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4952880" y="56386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04920" y="1600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990720" y="114300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62120" y="990720"/>
            <a:ext cx="32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47920" y="9144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q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762120" y="2286000"/>
            <a:ext cx="29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124080" y="3733920"/>
            <a:ext cx="281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447920" y="22096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q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"/>
          <p:cNvSpPr/>
          <p:nvPr/>
        </p:nvSpPr>
        <p:spPr>
          <a:xfrm>
            <a:off x="2590920" y="1600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259092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74320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弯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743200" y="2071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歌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724280" y="16002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4"/>
          <p:cNvSpPr/>
          <p:nvPr/>
        </p:nvSpPr>
        <p:spPr>
          <a:xfrm>
            <a:off x="5486400" y="11430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5257800" y="990720"/>
            <a:ext cx="34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5943600" y="914400"/>
            <a:ext cx="23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p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5257800" y="22860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5943600" y="2209680"/>
            <a:ext cx="23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p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7086600" y="1600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7086600" y="2895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238880" y="76212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238880" y="20574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590920" y="43434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4"/>
          <p:cNvSpPr/>
          <p:nvPr/>
        </p:nvSpPr>
        <p:spPr>
          <a:xfrm>
            <a:off x="3352680" y="3886200"/>
            <a:ext cx="76320" cy="1752480"/>
          </a:xfrm>
          <a:custGeom>
            <a:avLst/>
            <a:gdLst>
              <a:gd name="textAreaLeft" fmla="*/ 48960 w 76320"/>
              <a:gd name="textAreaRight" fmla="*/ 76320 w 76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124080" y="502920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 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495288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952880" y="56386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3657600" y="36576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hu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3657600" y="495288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zypyyb"/>
                <a:ea typeface="zypyyb"/>
              </a:rPr>
              <a:t>hu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  <a:ea typeface="zypyyb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5105520" y="351936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划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5105520" y="48150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2" descr="button106"/>
          <p:cNvPicPr/>
          <p:nvPr/>
        </p:nvPicPr>
        <p:blipFill>
          <a:blip r:embed="rId2"/>
          <a:stretch/>
        </p:blipFill>
        <p:spPr>
          <a:xfrm>
            <a:off x="8077320" y="600876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533520" y="835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它是那么粗壮、结实、挺拔，就像草原的哨兵一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3473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是对那棵高高的橡树的描写，橡树就像忠诚的哨兵一样守卫着这片土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工人们也沉重地叹着气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09480" y="3321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人们和工程师一样，内心十分矛盾。橡树阻碍了修路的进程，但如果砍掉这么好的一棵橡树，又令人不舍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85800" y="1339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现在谁也不会责备我们了。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09480" y="33210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工程师想出了解决问题的办法，可以既不用修改筑路计划，又可以留下橡树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5:15:54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3-21T10:15:09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