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6.gif" ContentType="image/gif"/>
  <Override PartName="/ppt/media/image8.png" ContentType="image/png"/>
  <Override PartName="/ppt/media/image9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38D-C5CE-4315-8223-4D86E0FF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078-BB85-4D08-9EF6-BCDE59B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D5C-5997-4E0C-A611-1730C2BE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78A-55C0-4136-A1BE-8992E0CC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C465-28D4-421D-8C1A-CB3F5CA8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42B57-C1A1-479B-826A-E52DFD7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17F7-6007-44F5-BD08-44EC4587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6AB4B-5996-4C2D-B656-8646ED7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9AD3F-954D-4302-A54F-166EE4C4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7D2A4-5A50-4457-B772-432CF243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FA6B-7115-4D5D-8FC0-F11C5F4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657-FA37-4196-9E6A-C0CF65C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E933E-ACD0-4374-B094-22155E5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BFC09-D761-430A-B3AD-4573FD7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01849-9CA1-465B-9575-3E4956B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87093-FA8A-4D59-8002-5240724D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8938E-4FFA-470A-B98A-15EB4B18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862-C088-49C7-BB88-38F82FA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0A7-5327-47B2-A2D0-6495ADC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207-C62D-4262-8D4C-7519638B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37E-67D0-48B0-8312-93E7A64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2C8-0C35-4F79-94E1-B2BCC67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83A-DA79-45F7-BDFF-D3A1917E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2D8-7F1A-411E-AB04-F2AB6D8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907A-457E-49EC-8A73-FEACFF2C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465F-0620-48B3-9804-22CCDC697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264,8,&#24187;&#28783;&#29255; 8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684360" y="404640"/>
            <a:ext cx="7057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-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芦花荡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7524720" y="2492280"/>
            <a:ext cx="12952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隶书"/>
              </a:rPr>
              <a:t>孙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85" name="Picture 6" descr="0005"/>
          <p:cNvPicPr/>
          <p:nvPr/>
        </p:nvPicPr>
        <p:blipFill>
          <a:blip r:embed="rId3"/>
          <a:stretch/>
        </p:blipFill>
        <p:spPr>
          <a:xfrm>
            <a:off x="1187280" y="3433680"/>
            <a:ext cx="1635120" cy="2492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unli1"/>
          <p:cNvPicPr/>
          <p:nvPr/>
        </p:nvPicPr>
        <p:blipFill>
          <a:blip r:embed="rId4"/>
          <a:stretch/>
        </p:blipFill>
        <p:spPr>
          <a:xfrm>
            <a:off x="3348000" y="2529000"/>
            <a:ext cx="251928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6488280" y="3246480"/>
            <a:ext cx="2071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088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6800"/>
                </a:solidFill>
                <a:latin typeface="Times New Roman"/>
                <a:ea typeface="黑体"/>
              </a:rPr>
              <a:t>老头子的性格核心</a:t>
            </a:r>
            <a:r>
              <a:rPr b="1" lang="en-US" sz="2800" spc="-1" strike="noStrike">
                <a:solidFill>
                  <a:srgbClr val="006800"/>
                </a:solidFill>
                <a:latin typeface="Times New Roman"/>
                <a:ea typeface="黑体"/>
              </a:rPr>
              <a:t>——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过于</a:t>
            </a:r>
            <a:r>
              <a:rPr b="1" lang="zh-CN" sz="2800" spc="-1" strike="noStrike">
                <a:solidFill>
                  <a:srgbClr val="006800"/>
                </a:solidFill>
                <a:latin typeface="Times New Roman"/>
                <a:ea typeface="黑体"/>
              </a:rPr>
              <a:t>自信和自尊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914400"/>
            <a:ext cx="8077320" cy="947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过于”一指“非常”，二有“过头”的意思。所以，本句话既有非常自尊自信的意思，又有自信过分、自尊过分的意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2362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具体表现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2819520"/>
            <a:ext cx="86868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</a:rPr>
              <a:t>过于自信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第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段“你什么也靠给我，我什么也靠给水上的能耐”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段“安心睡一觉吧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段“不怕，探照灯照不见我们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段“他打不着我们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段“每天夜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也使别人高兴的事情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33520" y="228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过于自尊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4920" y="76212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    知道女孩因为他的不慎而受伤后十分难过“ 我不能送你们进去了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由自尊自信激起他对日本鬼子无限的怒火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 女孩与老头的对话，表现老人的自尊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04920" y="35179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具体性格特征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有爱国抗日的热情，有老当益壮的气概；自尊自信，固执任性；爱憎分明，有勇有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环境描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09480" y="1338120"/>
            <a:ext cx="74185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例子：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、第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、第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段“月明风清的夜晚，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奔着东南去了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09480" y="3048120"/>
            <a:ext cx="830592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第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段“弯弯下垂的月亮，浮在水一样的天上。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、第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38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段“月亮落了，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有些飒飒的风响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、第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59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段“水镜子一样的平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在水底轻轻地浮动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第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62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段“鲜嫩的芦花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正在迎风飘撒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04920" y="5486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作用：渲染故事的气氛，衬托人物的心情，给作品增添一种战斗的诗情画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ahoma"/>
                <a:ea typeface="黑体"/>
              </a:rPr>
              <a:t>文章主旨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1389240"/>
            <a:ext cx="7620120" cy="1068840"/>
          </a:xfrm>
          <a:prstGeom prst="rect">
            <a:avLst/>
          </a:prstGeom>
          <a:noFill/>
          <a:ln cap="rnd" w="7632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</a:rPr>
              <a:t>小说描写我党领导下的抗日根据地白洋淀人民对敌斗争的生活，通过写主人公夜送两个女孩子进苇塘，大女孩受伤，第二天严惩敌人、报仇雪恨的故事，赞美了老艄公爱憎分明的强烈感情，英勇机智的革命精神，表现了根据地人民在中国共产党的领导下英勇抗敌的爱国主义精神。通篇洋溢着革命乐观主义精神，体现了作者对祖国和人民的热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ahoma"/>
                <a:ea typeface="黑体"/>
              </a:rPr>
              <a:t>文章写法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800"/>
                </a:solidFill>
                <a:latin typeface="Tahoma"/>
                <a:ea typeface="华文中宋"/>
              </a:rPr>
              <a:t>通过外貌、语言、行动、心理描写来刻画人物性格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800"/>
                </a:solidFill>
                <a:latin typeface="Tahoma"/>
                <a:ea typeface="华文中宋"/>
              </a:rPr>
              <a:t>通过景物描写衬托人物心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324000" y="0"/>
            <a:ext cx="3097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结构分析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39640" y="1125360"/>
            <a:ext cx="7993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层次结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第一部分（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8)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，描写苇塘的优美风光河一位充满爱国热情、老当益壮的抗日老英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第二部分（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，老头子要送两个女孩子去找队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第三部分（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，一个女孩受了伤，老头子非常的愧疚，决心给她报仇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第四部分（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，老头子诱使鬼子进入圈套。讨回了血债，讨回了自尊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课外延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4792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根据课后练习二补写出第二天二菱目睹老头子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英雄行为时的心理活动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小说中，敌人严密监视着苇塘，然而，“每到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晚，苇塘里的歌声还是那么响”，这响亮的歌声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起你怎样的联想和想像？请用一段文字描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苇塘里的部队生活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结合课后练习三，仿写小说中景物描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句子，来写写你家乡的景物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557360"/>
            <a:ext cx="7200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、将带颜色的字的拼音填入括号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寒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噤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）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歪（     ）  竹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塘（      ）   黄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）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（ 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着（     ） 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防（     ）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（ 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吆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）（      ）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）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 ） 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）   转弯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角（    ）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WordArt 25"/>
          <p:cNvSpPr txBox="1"/>
          <p:nvPr/>
        </p:nvSpPr>
        <p:spPr>
          <a:xfrm>
            <a:off x="2556000" y="260280"/>
            <a:ext cx="255564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随堂练习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826920" y="1484280"/>
            <a:ext cx="72741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华文新魏"/>
              </a:rPr>
              <a:t>谢谢使用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187280" y="429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087640" y="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孙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1913-- 2002)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现代小说家、散文家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荷花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派代表作家，与赵树理、周立波和柳青四位作家，被誉为描写农村生活的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四大名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四杆铁笔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。孙犁原名孙树勋。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44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年在延安发表小说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荷花淀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等作品，受到广泛赞扬，毛泽东曾称赞他是一位有风格的作家。作品很多，主要有长篇小说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风云初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三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小说与散文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白洋淀纪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，中篇小说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铁木前传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。新时期以来，有以散文为主的文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秀露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澹定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耕堂杂录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尺泽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远道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老荒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陋巷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无为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等出版。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92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年又有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册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孙犁文集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出版。其中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白洋淀纪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是他最富盛名和最能代表他创作风格的一部小说和散文合集。赏读孙犁的小说，首先可以感觉到，以革命现实主义为根基，糅进浪漫主义情调，是孙犁艺术风格最主要的特点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第二，孙犁的作品喷放着浓郁的泥土的芳香，激荡着作者对故乡的爱。孙犁的小说对美有一种特殊的追求，他着力描写、赞扬故乡的风光美和人情美。孙犁的小说是风格独具的美小说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第三，孙犁特别擅长描写农村的青年女性，不仅有一种描写她们的美丽容貌的特殊素养，而且更具有深入她们丰富、复杂的感情世界，从她们命运的变化反映时代风云变幻的过硬本领。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sunli1"/>
          <p:cNvPicPr/>
          <p:nvPr/>
        </p:nvPicPr>
        <p:blipFill>
          <a:blip r:embed="rId1"/>
          <a:stretch/>
        </p:blipFill>
        <p:spPr>
          <a:xfrm>
            <a:off x="0" y="0"/>
            <a:ext cx="2124000" cy="15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0" y="3906720"/>
            <a:ext cx="2176560" cy="2951280"/>
          </a:xfrm>
          <a:prstGeom prst="rect">
            <a:avLst/>
          </a:prstGeom>
          <a:ln w="0">
            <a:noFill/>
          </a:ln>
        </p:spPr>
      </p:pic>
      <p:sp>
        <p:nvSpPr>
          <p:cNvPr id="92" name="WordArt 8"/>
          <p:cNvSpPr txBox="1"/>
          <p:nvPr/>
        </p:nvSpPr>
        <p:spPr>
          <a:xfrm>
            <a:off x="179280" y="1989000"/>
            <a:ext cx="183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幼圆"/>
              </a:rPr>
              <a:t>作者介绍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762120" y="1279440"/>
            <a:ext cx="761976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用艺术     概括的方法塑造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人物形象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有完整的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故事情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对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环境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作具体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描写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黑体"/>
              </a:rPr>
              <a:t>文体特点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" y="48769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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小说三要素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人物、故事情节、环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Group 1026"/>
          <p:cNvGrpSpPr/>
          <p:nvPr/>
        </p:nvGrpSpPr>
        <p:grpSpPr>
          <a:xfrm>
            <a:off x="-1370160" y="0"/>
            <a:ext cx="10589400" cy="3276720"/>
            <a:chOff x="-1370160" y="0"/>
            <a:chExt cx="10589400" cy="3276720"/>
          </a:xfrm>
        </p:grpSpPr>
        <p:sp>
          <p:nvSpPr>
            <p:cNvPr id="99" name="Rectangle 1027"/>
            <p:cNvSpPr/>
            <p:nvPr/>
          </p:nvSpPr>
          <p:spPr>
            <a:xfrm>
              <a:off x="-1370160" y="0"/>
              <a:ext cx="102204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0" name="Group 1028"/>
            <p:cNvGrpSpPr/>
            <p:nvPr/>
          </p:nvGrpSpPr>
          <p:grpSpPr>
            <a:xfrm>
              <a:off x="-1370160" y="0"/>
              <a:ext cx="10589400" cy="3276720"/>
              <a:chOff x="-1370160" y="0"/>
              <a:chExt cx="10589400" cy="3276720"/>
            </a:xfrm>
          </p:grpSpPr>
          <p:sp>
            <p:nvSpPr>
              <p:cNvPr id="101" name="Rectangle 1029"/>
              <p:cNvSpPr/>
              <p:nvPr/>
            </p:nvSpPr>
            <p:spPr>
              <a:xfrm>
                <a:off x="-1370160" y="0"/>
                <a:ext cx="6248160" cy="32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2" name="Group 1030"/>
              <p:cNvGrpSpPr/>
              <p:nvPr/>
            </p:nvGrpSpPr>
            <p:grpSpPr>
              <a:xfrm>
                <a:off x="-1370160" y="0"/>
                <a:ext cx="10589400" cy="1365120"/>
                <a:chOff x="-1370160" y="0"/>
                <a:chExt cx="10589400" cy="1365120"/>
              </a:xfrm>
            </p:grpSpPr>
            <p:sp>
              <p:nvSpPr>
                <p:cNvPr id="103" name="Rectangle 1031"/>
                <p:cNvSpPr/>
                <p:nvPr/>
              </p:nvSpPr>
              <p:spPr>
                <a:xfrm>
                  <a:off x="-1370160" y="0"/>
                  <a:ext cx="6247800" cy="13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4" name="Group 1032"/>
                <p:cNvGrpSpPr/>
                <p:nvPr/>
              </p:nvGrpSpPr>
              <p:grpSpPr>
                <a:xfrm>
                  <a:off x="-1370160" y="0"/>
                  <a:ext cx="10589400" cy="174240"/>
                  <a:chOff x="-1370160" y="0"/>
                  <a:chExt cx="10589400" cy="174240"/>
                </a:xfrm>
              </p:grpSpPr>
              <p:sp>
                <p:nvSpPr>
                  <p:cNvPr id="105" name="Rectangle 1033"/>
                  <p:cNvSpPr/>
                  <p:nvPr/>
                </p:nvSpPr>
                <p:spPr>
                  <a:xfrm>
                    <a:off x="-1370160" y="0"/>
                    <a:ext cx="131076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Rectangle 1034"/>
                  <p:cNvSpPr/>
                  <p:nvPr/>
                </p:nvSpPr>
                <p:spPr>
                  <a:xfrm>
                    <a:off x="-59040" y="0"/>
                    <a:ext cx="927828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9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　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07" name="Group 1035"/>
          <p:cNvGrpSpPr/>
          <p:nvPr/>
        </p:nvGrpSpPr>
        <p:grpSpPr>
          <a:xfrm>
            <a:off x="92160" y="285840"/>
            <a:ext cx="8961480" cy="6286320"/>
            <a:chOff x="92160" y="285840"/>
            <a:chExt cx="8961480" cy="6286320"/>
          </a:xfrm>
        </p:grpSpPr>
        <p:sp>
          <p:nvSpPr>
            <p:cNvPr id="108" name="Rectangle 1036"/>
            <p:cNvSpPr/>
            <p:nvPr/>
          </p:nvSpPr>
          <p:spPr>
            <a:xfrm>
              <a:off x="92160" y="285840"/>
              <a:ext cx="882324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1037"/>
            <p:cNvSpPr/>
            <p:nvPr/>
          </p:nvSpPr>
          <p:spPr>
            <a:xfrm>
              <a:off x="92160" y="285840"/>
              <a:ext cx="896148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Times New Roman"/>
                </a:rPr>
                <a:t>  </a:t>
              </a:r>
              <a:r>
                <a:rPr b="1" lang="en-US" sz="8600" spc="-1" strike="noStrike">
                  <a:solidFill>
                    <a:srgbClr val="009900"/>
                  </a:solidFill>
                  <a:latin typeface="Times New Roman"/>
                </a:rPr>
                <a:t> </a:t>
              </a:r>
              <a:r>
                <a:rPr b="1" lang="en-US" sz="900" spc="-1" strike="noStrike">
                  <a:solidFill>
                    <a:srgbClr val="0099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Tahoma"/>
              </a:rPr>
              <a:t>　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93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日，日本侵略军在河北宛平卢沟桥制造事端。中国守军奋起抵抗的作战。亦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七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抗战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七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事变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七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事变发生后，全国人民群情激愤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声讨日本侵略军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七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事变，标志着日本帝国主义全面侵华战争的开始，揭开了中国人民伟大的全面抗日民族战争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本文写于抗日战争的最后阶段（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94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月）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huo8"/>
          <p:cNvPicPr/>
          <p:nvPr/>
        </p:nvPicPr>
        <p:blipFill>
          <a:blip r:embed="rId1"/>
          <a:stretch/>
        </p:blipFill>
        <p:spPr>
          <a:xfrm>
            <a:off x="0" y="3079800"/>
            <a:ext cx="9448920" cy="377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image-14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5638680" cy="38656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"/>
          <p:cNvGrpSpPr/>
          <p:nvPr/>
        </p:nvGrpSpPr>
        <p:grpSpPr>
          <a:xfrm>
            <a:off x="92160" y="285840"/>
            <a:ext cx="8961480" cy="6286320"/>
            <a:chOff x="92160" y="285840"/>
            <a:chExt cx="8961480" cy="6286320"/>
          </a:xfrm>
        </p:grpSpPr>
        <p:sp>
          <p:nvSpPr>
            <p:cNvPr id="115" name="Rectangle 5"/>
            <p:cNvSpPr/>
            <p:nvPr/>
          </p:nvSpPr>
          <p:spPr>
            <a:xfrm>
              <a:off x="92160" y="285840"/>
              <a:ext cx="882324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92160" y="285840"/>
              <a:ext cx="896148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9900"/>
                  </a:solidFill>
                  <a:latin typeface="Times New Roman"/>
                </a:rPr>
                <a:t>  </a:t>
              </a:r>
              <a:r>
                <a:rPr b="0" lang="en-US" sz="8600" spc="-1" strike="noStrike">
                  <a:solidFill>
                    <a:srgbClr val="0099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99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7" name="Picture 7" descr="image-15"/>
          <p:cNvPicPr/>
          <p:nvPr/>
        </p:nvPicPr>
        <p:blipFill>
          <a:blip r:embed="rId3"/>
          <a:stretch/>
        </p:blipFill>
        <p:spPr>
          <a:xfrm>
            <a:off x="5562720" y="609480"/>
            <a:ext cx="3886200" cy="261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back7"/>
          <p:cNvPicPr/>
          <p:nvPr/>
        </p:nvPicPr>
        <p:blipFill>
          <a:blip r:embed="rId4"/>
          <a:stretch/>
        </p:blipFill>
        <p:spPr>
          <a:xfrm>
            <a:off x="7440480" y="0"/>
            <a:ext cx="17035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0" y="0"/>
            <a:ext cx="3059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读准字音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1916280"/>
            <a:ext cx="81378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cc00"/>
                </a:solidFill>
                <a:latin typeface="Tahoma"/>
              </a:rPr>
              <a:t>竹篙           疟子          寒噤           蹿   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cc00"/>
                </a:solidFill>
                <a:latin typeface="Tahoma"/>
              </a:rPr>
              <a:t>仄歪           飒飒          白洋淀       莲蓬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cc00"/>
                </a:solidFill>
                <a:latin typeface="Tahoma"/>
              </a:rPr>
              <a:t>转弯抹角                      张皇失措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4000" y="148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zh</a:t>
            </a:r>
            <a:r>
              <a:rPr b="0" lang="en-US" sz="3200" spc="-1" strike="noStrike">
                <a:solidFill>
                  <a:srgbClr val="c04806"/>
                </a:solidFill>
                <a:latin typeface="Arial"/>
              </a:rPr>
              <a:t>ú</a:t>
            </a: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 gā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700360" y="1484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c04806"/>
                </a:solidFill>
                <a:latin typeface="Arial"/>
              </a:rPr>
              <a:t>à</a:t>
            </a: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o 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716360" y="148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c04806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n j</a:t>
            </a:r>
            <a:r>
              <a:rPr b="0" lang="en-US" sz="3200" spc="-1" strike="noStrike">
                <a:solidFill>
                  <a:srgbClr val="c04806"/>
                </a:solidFill>
                <a:latin typeface="Arial"/>
              </a:rPr>
              <a:t>ì</a:t>
            </a: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020000" y="1557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4806"/>
                </a:solidFill>
                <a:latin typeface="Tahoma"/>
              </a:rPr>
              <a:t>cuā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39640" y="2565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è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wā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771640" y="256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804000" y="256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i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 p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788000" y="2637000"/>
            <a:ext cx="28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 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ng di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0" y="3645000"/>
            <a:ext cx="43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zhuǎn wān mò jiǎ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356000" y="3645000"/>
            <a:ext cx="446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zhāng hu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g shī cuò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无标题5"/>
          <p:cNvPicPr/>
          <p:nvPr/>
        </p:nvPicPr>
        <p:blipFill>
          <a:blip r:embed="rId1"/>
          <a:stretch/>
        </p:blipFill>
        <p:spPr>
          <a:xfrm>
            <a:off x="76320" y="0"/>
            <a:ext cx="89154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219320"/>
            <a:ext cx="1143000" cy="36576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ahoma"/>
                <a:ea typeface="黑体"/>
              </a:rPr>
              <a:t>情节结构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828800" y="1142640"/>
            <a:ext cx="6400800" cy="3886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一、（</a:t>
            </a:r>
            <a:r>
              <a:rPr b="1" lang="en-US" sz="3600" spc="-1" strike="noStrike">
                <a:solidFill>
                  <a:srgbClr val="0068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～</a:t>
            </a:r>
            <a:r>
              <a:rPr b="1" lang="en-US" sz="3600" spc="-1" strike="noStrike">
                <a:solidFill>
                  <a:srgbClr val="006800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）交代了故事发生的环境，介绍了老头子的基本情况（生活环境、外貌、性格特点等） 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                    </a:t>
            </a:r>
            <a:r>
              <a:rPr b="1" lang="en-US" sz="3600" spc="-1" strike="noStrike">
                <a:solidFill>
                  <a:srgbClr val="0068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为下文作铺垫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二、（</a:t>
            </a:r>
            <a:r>
              <a:rPr b="1" lang="en-US" sz="3600" spc="-1" strike="noStrike">
                <a:solidFill>
                  <a:srgbClr val="006800"/>
                </a:solidFill>
                <a:latin typeface="Tahoma"/>
              </a:rPr>
              <a:t>9</a:t>
            </a: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～</a:t>
            </a:r>
            <a:r>
              <a:rPr b="1" lang="en-US" sz="3600" spc="-1" strike="noStrike">
                <a:solidFill>
                  <a:srgbClr val="006800"/>
                </a:solidFill>
                <a:latin typeface="Tahoma"/>
              </a:rPr>
              <a:t>63</a:t>
            </a:r>
            <a:r>
              <a:rPr b="1" lang="zh-CN" sz="3600" spc="-1" strike="noStrike">
                <a:solidFill>
                  <a:srgbClr val="006800"/>
                </a:solidFill>
                <a:latin typeface="Tahoma"/>
              </a:rPr>
              <a:t>）具体讲述</a:t>
            </a:r>
            <a:r>
              <a:rPr b="0" lang="zh-CN" sz="3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故事的过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无标题5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0" name="Rectangle 6"/>
          <p:cNvSpPr/>
          <p:nvPr/>
        </p:nvSpPr>
        <p:spPr>
          <a:xfrm>
            <a:off x="762120" y="1219320"/>
            <a:ext cx="1143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黑体"/>
              </a:rPr>
              <a:t>情节结构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981080" y="1219320"/>
            <a:ext cx="457200" cy="3429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590920" y="1066680"/>
            <a:ext cx="5715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、（</a:t>
            </a: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～</a:t>
            </a: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19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）  开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                            </a:t>
            </a:r>
            <a:r>
              <a:rPr b="1" lang="en-US" sz="3200" spc="-1" strike="noStrike">
                <a:solidFill>
                  <a:srgbClr val="0068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护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、（</a:t>
            </a: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20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～</a:t>
            </a: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54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）发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                            </a:t>
            </a:r>
            <a:r>
              <a:rPr b="1" lang="en-US" sz="3200" spc="-1" strike="noStrike">
                <a:solidFill>
                  <a:srgbClr val="0068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受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、（</a:t>
            </a: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55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～</a:t>
            </a:r>
            <a:r>
              <a:rPr b="1" lang="en-US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63</a:t>
            </a: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）高潮和结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800"/>
                </a:solidFill>
                <a:latin typeface="华文中宋"/>
                <a:ea typeface="华文中宋"/>
              </a:rPr>
              <a:t>                            </a:t>
            </a:r>
            <a:r>
              <a:rPr b="1" lang="en-US" sz="3200" spc="-1" strike="noStrike">
                <a:solidFill>
                  <a:srgbClr val="006800"/>
                </a:solidFill>
                <a:latin typeface="Times New Roman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复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304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人物：老头子、大菱、二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80880" y="9907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主要人物：老头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80880" y="1515960"/>
            <a:ext cx="8534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对其描写方法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正面描写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：外貌描写（第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行动描写（第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55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57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61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段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语言描写（第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段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心理描写（第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47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侧面描写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：如第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段；第</a:t>
            </a:r>
            <a:r>
              <a:rPr b="1" lang="en-US" sz="28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段首句中的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呆望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；以及文中对二菱怀疑、不信任老头子的描写，都从侧面描写了老头子的英雄行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3:47:51Z</dcterms:created>
  <dc:creator>第一PPT模板网-WWW.1PPT.COM</dc:creator>
  <dc:description/>
  <cp:keywords>第一PPT模板网-WWW.1PPT.COM</cp:keywords>
  <dc:language>en-US</dc:language>
  <cp:lastModifiedBy>admin</cp:lastModifiedBy>
  <dcterms:modified xsi:type="dcterms:W3CDTF">2017-09-09T03:07:51Z</dcterms:modified>
  <cp:revision>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