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C95-5214-4303-B443-3762DA56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F57-4558-49F8-953D-B3B3CD4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3B7-271F-4D31-9D24-B9A695EE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AC3-6DC3-4A84-ACAC-D9C51C5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A2D-4766-4CAA-82ED-458326FE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BF7-4758-456F-BC0A-524E1BE7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DE3-1D0F-4E16-84BF-D946CD64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C6C-ACCC-4971-86B5-F65DF97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A74-871E-40CA-A5CF-73A2FEE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146-7A6A-43BF-998D-972C263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A28-A765-4706-BB87-DFBC7BA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EFC-F960-497A-9414-DB87239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1FA-100D-4FFF-BF4C-3D5869BA2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5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3.xml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" Target="slide17.xml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rcRect l="0" t="0" r="0" b="11095"/>
          <a:stretch/>
        </p:blipFill>
        <p:spPr>
          <a:xfrm>
            <a:off x="0" y="0"/>
            <a:ext cx="9468000" cy="73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1773360"/>
            <a:ext cx="590544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7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、落 花 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3789360"/>
            <a:ext cx="29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许地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883" t="0" r="0" b="0"/>
          <a:stretch/>
        </p:blipFill>
        <p:spPr>
          <a:xfrm>
            <a:off x="0" y="0"/>
            <a:ext cx="954072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11592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476520"/>
            <a:ext cx="4321440" cy="326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4165" t="12835" r="11803" b="15354"/>
          <a:stretch/>
        </p:blipFill>
        <p:spPr>
          <a:xfrm>
            <a:off x="4716360" y="11592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11046" t="43709" r="0" b="3795"/>
          <a:stretch/>
        </p:blipFill>
        <p:spPr>
          <a:xfrm>
            <a:off x="4788000" y="3476520"/>
            <a:ext cx="4066920" cy="32403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5" action="ppaction://hlinksldjump"/>
          </p:cNvPr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557360"/>
          <a:ext cx="8137440" cy="4530600"/>
        </p:xfrm>
        <a:graphic>
          <a:graphicData uri="http://schemas.openxmlformats.org/drawingml/2006/table">
            <a:tbl>
              <a:tblPr/>
              <a:tblGrid>
                <a:gridCol w="1668240"/>
                <a:gridCol w="2138400"/>
                <a:gridCol w="433080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花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桃﹑石榴﹑苹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位置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外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印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1341360"/>
          <a:ext cx="8229600" cy="4525560"/>
        </p:xfrm>
        <a:graphic>
          <a:graphicData uri="http://schemas.openxmlformats.org/drawingml/2006/table">
            <a:tbl>
              <a:tblPr/>
              <a:tblGrid>
                <a:gridCol w="1295280"/>
                <a:gridCol w="2971800"/>
                <a:gridCol w="3962520"/>
              </a:tblGrid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花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桃﹑石榴﹑苹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埋在地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高高地挂在枝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矮矮地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鲜红嫩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印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挖起来才知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一见就生爱慕之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>
            <a:hlinkClick r:id="rId1" action="ppaction://hlinksldjump"/>
          </p:cNvPr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1197000"/>
            <a:ext cx="80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250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250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72360" y="6210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2073240" cy="284328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2" action="ppaction://hlinksldjump"/>
          </p:cNvPr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51596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辩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当今的社会你想做一个像桃子、石榴、苹果一样的人呢，还是做一个像花生一样的人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22920" y="3789360"/>
            <a:ext cx="2125800" cy="2914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41080" cy="73166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935800" y="84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谜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183480" y="177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介落花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30088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912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090960" y="364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912360" y="83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697752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填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6849720" y="177336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句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7051680" y="350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桃苹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3209760" y="537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619280" y="912960"/>
            <a:ext cx="1008000" cy="61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692360" y="184932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1692360" y="2784600"/>
            <a:ext cx="1008000" cy="61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1692360" y="372096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5683320" y="357336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659560" y="270972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51640" y="184140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578560" y="98424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1692360" y="5445000"/>
            <a:ext cx="1008000" cy="6112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7033680" y="436572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句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724360" y="5373720"/>
            <a:ext cx="1008360" cy="61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724360" y="4437000"/>
            <a:ext cx="1008360" cy="61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1692360" y="4546440"/>
            <a:ext cx="1008000" cy="61128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4" action="ppaction://hlinksldjump"/>
          </p:cNvPr>
          <p:cNvSpPr/>
          <p:nvPr/>
        </p:nvSpPr>
        <p:spPr>
          <a:xfrm>
            <a:off x="3293280" y="444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许地山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716472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辩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一夜我们谈到深夜才散。花生做的食品都吃完了，父亲的话却深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我的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737080" cy="3058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810036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2138040"/>
            <a:ext cx="828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地山生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―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在抗战中，他积劳成疾，导致心脏病逐渐严重。天不假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他心脏病再次复发，英年早逝，年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噩耗传出，第一个送来花圈的是宋庆龄。梅兰芳、叶恭绰、郁达夫、徐悲鸿等许多知名人士送了花圈、挽联。当天，香港学校下半旗，港九钟楼鸣钟致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香港文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个团体近千名代表举行“许地山先生追悼大会”。国内及新加坡等地也都隆重集会，痛悼这位新文学运动的先驱者、爱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80000" y="3284640"/>
            <a:ext cx="3168720" cy="341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16000" y="37310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只要你细心观察，《钓鱼的启示》、《通往广场的路不止一条》、《落花生》这三篇课文在写法上都有一个共同点，你发现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这样由生动故事和得到的启示所组成的课文，你觉得有什么值得我们借鉴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生活当中哪些事物也可以引起我们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蚂蚁搬家、蜘蛛结网、与同学约会而我未能准时到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梅花、竹子、荷花、蜡烛、小草、蜗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407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作者由落花生领悟到了做人的道理，你从身边的事物中领悟到了什么？试着选择一种事物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2421000"/>
            <a:ext cx="20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练笔小贴士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602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作业超市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72360" y="6210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350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读许地山的其他作品。（如：春的林野》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yyjxmlxn.blog.163.com/blog/static/12420230020091167198545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背诵父亲说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可以根据自己的实际情况选择一项或两项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谜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973080" y="476280"/>
            <a:ext cx="853452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根根胡须入泥沙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造房屋自安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地上开花不结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地下结果不开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80360" y="3716280"/>
            <a:ext cx="1079280" cy="1225440"/>
            <a:chOff x="7380360" y="3716280"/>
            <a:chExt cx="1079280" cy="122544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7380360" y="4149720"/>
              <a:ext cx="1008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7380360" y="3933720"/>
              <a:ext cx="6112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451640" y="3716280"/>
              <a:ext cx="1008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57800" y="99072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花生又叫落花生，因为花生的花落了，子房柄就钻到土里长成花生，所以又叫落花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377" t="3826" r="0" b="0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19700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半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mǔ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pì)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吩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fēn fù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zhà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油      石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liu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便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pián yi)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慕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mù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居然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197000"/>
            <a:ext cx="73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半亩 开辟 吩咐 榨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石榴 便宜 品尝 茅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嫩绿 居然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分辨 爱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体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9228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姐弟几个都很高兴，买种，翻地，施肥，浇水，没过几个月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居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 flipH="1">
            <a:off x="817164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1628640"/>
            <a:ext cx="2354400" cy="1447920"/>
          </a:xfrm>
          <a:prstGeom prst="wedgeEllipseCallout">
            <a:avLst>
              <a:gd name="adj1" fmla="val 85467"/>
              <a:gd name="adj2" fmla="val 7225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0"/>
            <a:ext cx="3492360" cy="1857240"/>
          </a:xfrm>
          <a:prstGeom prst="wedgeEllipseCallout">
            <a:avLst>
              <a:gd name="adj1" fmla="val -44092"/>
              <a:gd name="adj2" fmla="val 40685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76920"/>
            <a:ext cx="3200400" cy="1981080"/>
          </a:xfrm>
          <a:prstGeom prst="wedgeEllipseCallout">
            <a:avLst>
              <a:gd name="adj1" fmla="val 60365"/>
              <a:gd name="adj2" fmla="val -1001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。这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是它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113400">
            <a:off x="6948000" y="2707920"/>
            <a:ext cx="2057400" cy="1684440"/>
          </a:xfrm>
          <a:prstGeom prst="wedgeEllipseCallout">
            <a:avLst>
              <a:gd name="adj1" fmla="val -82194"/>
              <a:gd name="adj2" fmla="val 2545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 flipH="1">
            <a:off x="810036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441360"/>
            <a:ext cx="8569080" cy="594324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花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好处很多，有一样最可贵：它的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埋在地里，不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桃子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石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苹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那样，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鲜红嫩绿的果实高高地挂在枝头，使人一见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生爱慕之心。你们看它矮矮地长在地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等到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熟了，也不能立刻分辩出它有没有果实，必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挖起来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1:01:34Z</dcterms:created>
  <dc:creator>雨林木风</dc:creator>
  <dc:description/>
  <dc:language>en-US</dc:language>
  <cp:lastModifiedBy>2013</cp:lastModifiedBy>
  <dcterms:modified xsi:type="dcterms:W3CDTF">2014-09-21T07:10:03Z</dcterms:modified>
  <cp:revision>37</cp:revision>
  <dc:subject/>
  <dc:title>幻灯片 1</dc:title>
</cp:coreProperties>
</file>