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AC6-7153-466F-9BF2-DD453B3E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3EDE-D204-4908-B453-20C6D6A2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249-996E-4A55-9911-9439009C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25A-985F-49E7-B318-57E3DA58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B56A-76F9-443A-AC91-929D4670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286D-E2DB-48AD-84B3-289510CB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8D2E-5DD6-4545-B884-F09937F4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3097-EF44-4926-8EDA-A84F3FE9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8B74-B41A-42C9-80E5-EBD91900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6EDF-5C1C-4461-A7B1-BCFAD4FA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85FB-48CE-4F4E-ADB4-5E27B13F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F24-80CE-4BB8-92E4-7445EF90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A13C-39CD-4BD9-9DF1-149F6E5D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EB45-1309-466D-8FC6-DED6210B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EDB6-99ED-4B1D-82B6-DEBC6528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64F4-3059-410A-8226-530B5FAC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F22C-8FF3-47F1-874B-567FE497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689-ABB2-4A3A-AC7F-C635F5C2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C0E-7A98-4AFF-B515-5A57E46E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903-70FA-4276-BD97-2535E8E3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A77-003F-42CF-B6F6-65AE1B56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539-1215-4916-AF7E-F054B8E0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C211-86CD-4892-9112-369B2E5B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4C9-132A-40F2-9D65-C7CE8398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D467-6B96-4D64-A60E-48EC9D64DD8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3591-C632-4F35-B132-6EF21D820BB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257,2,&#24187;&#28783;&#29255; 2" TargetMode="External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56,1,&#24187;&#28783;&#29255; 1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1,6,&#24187;&#28783;&#29255; 6" TargetMode="External"/><Relationship Id="rId2" Type="http://schemas.openxmlformats.org/officeDocument/2006/relationships/hyperlink" Target="262,7,&#24187;&#28783;&#29255; 7" TargetMode="External"/><Relationship Id="rId3" Type="http://schemas.openxmlformats.org/officeDocument/2006/relationships/hyperlink" Target="263,8,&#24187;&#28783;&#29255; 8" TargetMode="External"/><Relationship Id="rId4" Type="http://schemas.openxmlformats.org/officeDocument/2006/relationships/hyperlink" Target="261,7,&#24187;&#28783;&#29255; 7" TargetMode="External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hyperlink" Target="260,6,&#24187;&#28783;&#29255; 6" TargetMode="External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260,6,&#24187;&#28783;&#29255; 6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64,10,&#24187;&#28783;&#29255; 10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2670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66560" y="0"/>
            <a:ext cx="45500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13716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1080" y="0"/>
            <a:ext cx="41929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落花生</a:t>
            </a:r>
            <a:endParaRPr b="0" lang="en-US" sz="1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02520" y="3645000"/>
            <a:ext cx="850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许地山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03640" y="5805360"/>
            <a:ext cx="32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北东坊联校：闫合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5240" y="4724280"/>
            <a:ext cx="66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作者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24480"/>
            <a:ext cx="167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华文行楷"/>
                <a:hlinkClick r:id="rId5"/>
              </a:rPr>
              <a:t>下一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6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0"/>
            <a:ext cx="88390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含义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人要做有用的人，不要做只讲体面而对别人没有好处的人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3657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276720"/>
            <a:ext cx="84582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作业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联系本课内容，想想要怎样做一个有用的人，把想到的写下来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camera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4280" y="1752480"/>
            <a:ext cx="86011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374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【许地山】（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1893—194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）现 代作家、学者。 名赞堃，字地山，笔名落华生。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192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年发表第一篇小说《命命鸟》，接着又发表了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具有朴实淳厚风格的散文名篇《落花生》。作品结集出版的有短篇小说集《缀网劳蛛》、《危巢坠简》，散文集《空山灵雨》，小说、剧本集《解放者》、《杂感集》，论著《印度文学》、《道教史》（上），以及《许地山选集》、《许地山文集》等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9907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作者简介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6278400"/>
            <a:ext cx="1523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86400" y="0"/>
            <a:ext cx="2548080" cy="3124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落花生名字的由来：</a:t>
            </a:r>
            <a:r>
              <a:rPr b="0" lang="zh-CN" sz="2800" spc="-1" strike="noStrike">
                <a:solidFill>
                  <a:srgbClr val="2c02c6"/>
                </a:solidFill>
                <a:latin typeface="Times New Roman"/>
                <a:ea typeface="华文新魏"/>
              </a:rPr>
              <a:t>陆地上的植物，几乎都在地上开花，地面上结果，唯独花生是在地上开花地面下结果，所以人们叫它落花生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158920"/>
            <a:ext cx="8534160" cy="30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学习目标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2c02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体会父亲所说的话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华文新魏"/>
              </a:rPr>
              <a:t>，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从中学会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Arial"/>
                <a:ea typeface="华文新魏"/>
              </a:rPr>
              <a:t>要做对别人有用的人，不要做只讲体面而对别人没有好处的人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2c02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背诵自己喜欢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给他们一个展示自己的平台</a:t>
            </a:r>
            <a:r>
              <a:rPr b="0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的段落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2c02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理解课文内容，学习花生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Arial"/>
                <a:ea typeface="华文新魏"/>
              </a:rPr>
              <a:t>不求虚名，默默奉献</a:t>
            </a:r>
            <a:r>
              <a:rPr b="0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的品格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camera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快速阅读课文，回答下列问题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一、给下列红色的注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辟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          ）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榨</a:t>
            </a: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              ）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爱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慕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            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宋体"/>
              </a:rPr>
              <a:t>二、看看课文围绕落花生讲了一些什么事情，然后完成这个填空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宋体"/>
              </a:rPr>
              <a:t>（按课文顺序填空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种花生</a:t>
            </a:r>
            <a:r>
              <a:rPr b="0" lang="en-US" sz="2800" spc="-1" strike="noStrike">
                <a:solidFill>
                  <a:srgbClr val="5b5249"/>
                </a:solidFill>
                <a:latin typeface="宋体"/>
              </a:rPr>
              <a:t>—〉（        ）—〉（        ）—〉（        ）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1295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ì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1295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zhà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19051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m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4876920"/>
            <a:ext cx="152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收花生</a:t>
            </a:r>
            <a:r>
              <a:rPr b="0" lang="en-US" sz="28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4876920"/>
            <a:ext cx="1371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吃花生</a:t>
            </a:r>
            <a:r>
              <a:rPr b="0" lang="en-US" sz="28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486400"/>
            <a:ext cx="152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议花生</a:t>
            </a:r>
            <a:r>
              <a:rPr b="0" lang="en-US" sz="28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1371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分小组细读全文，讨论思考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66688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我们兄弟姐妹是怎样评论花生的？父亲又是怎样说的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父亲拿什么来与花生进行对比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父亲通过花生告诉了我们什么道理呢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481644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90720" y="1676520"/>
            <a:ext cx="2209680" cy="1447560"/>
          </a:xfrm>
          <a:prstGeom prst="wedgeEllipseCallout">
            <a:avLst>
              <a:gd name="adj1" fmla="val 114800"/>
              <a:gd name="adj2" fmla="val 75768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味美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4114800"/>
            <a:ext cx="2057400" cy="1143000"/>
          </a:xfrm>
          <a:prstGeom prst="wedgeEllipseCallout">
            <a:avLst>
              <a:gd name="adj1" fmla="val -75925"/>
              <a:gd name="adj2" fmla="val -2527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可以榨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191120"/>
            <a:ext cx="3200400" cy="1981080"/>
          </a:xfrm>
          <a:prstGeom prst="wedgeEllipseCallout">
            <a:avLst>
              <a:gd name="adj1" fmla="val 48861"/>
              <a:gd name="adj2" fmla="val -27962"/>
            </a:avLst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价钱便宜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都可以买来吃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都喜欢吃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这就是它的好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04920"/>
            <a:ext cx="3276720" cy="1523880"/>
          </a:xfrm>
          <a:prstGeom prst="wedgeEllipseCallout">
            <a:avLst>
              <a:gd name="adj1" fmla="val -35175"/>
              <a:gd name="adj2" fmla="val 78023"/>
            </a:avLst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能把花生的好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说出来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camera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33720" y="0"/>
            <a:ext cx="6705360" cy="29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花生的好处很多，有一样最可贵，它的果实埋在地里，不像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宋体"/>
                <a:hlinkClick r:id="rId1"/>
              </a:rPr>
              <a:t>桃子、石榴、苹果</a:t>
            </a: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那样，把</a:t>
            </a:r>
            <a:r>
              <a:rPr b="0" lang="zh-CN" sz="4000" spc="-1" strike="noStrike">
                <a:solidFill>
                  <a:srgbClr val="00ff00"/>
                </a:solidFill>
                <a:latin typeface="宋体"/>
              </a:rPr>
              <a:t>鲜红嫩绿</a:t>
            </a: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的果实高高地挂在枝头上，使人一见就生爱慕之心。你们看它</a:t>
            </a:r>
            <a:r>
              <a:rPr b="0" lang="zh-CN" sz="4000" spc="-1" strike="noStrike">
                <a:solidFill>
                  <a:srgbClr val="00ff00"/>
                </a:solidFill>
                <a:latin typeface="宋体"/>
              </a:rPr>
              <a:t>矮矮地</a:t>
            </a: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长在地上，等到成熟了，也不能立刻分辨出来它有没不果实，必须挖出来才知道</a:t>
            </a:r>
            <a:r>
              <a:rPr b="0" lang="en-US" sz="4000" spc="-1" strike="noStrike">
                <a:solidFill>
                  <a:srgbClr val="5b524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3080" y="380880"/>
            <a:ext cx="549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78480" y="304920"/>
            <a:ext cx="148176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第一次   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华文新魏"/>
                <a:ea typeface="华文新魏"/>
                <a:hlinkClick r:id="rId2"/>
              </a:rPr>
              <a:t>第二次        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华文新魏"/>
                <a:ea typeface="华文新魏"/>
                <a:hlinkClick r:id="rId3"/>
              </a:rPr>
              <a:t>第三次</a:t>
            </a:r>
            <a:r>
              <a:rPr b="0" lang="zh-CN" sz="4000" spc="-1" strike="noStrike">
                <a:solidFill>
                  <a:srgbClr val="663300"/>
                </a:solidFill>
                <a:latin typeface="Times New Roman"/>
              </a:rPr>
              <a:t>父亲的话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6278400"/>
            <a:ext cx="1371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华文行楷"/>
                <a:hlinkClick r:id="rId4"/>
              </a:rPr>
              <a:t>对比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5" name="camera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95280" y="1752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19720" y="533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724280" y="7632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4920" y="4343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6320" y="3348000"/>
            <a:ext cx="4572000" cy="351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791320" y="4191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943600" y="3276720"/>
            <a:ext cx="3200400" cy="3581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001000" y="6400800"/>
            <a:ext cx="1447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华文行楷"/>
                <a:hlinkClick r:id="rId5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6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5b5249"/>
                </a:solidFill>
                <a:latin typeface="Arial"/>
              </a:rPr>
              <a:t>所以你们要像花生，它虽然不好看，可是很有用，不是外表好看而没有实用的东西。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4419360" cy="3152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3962160" cy="3124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6278400"/>
            <a:ext cx="106668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华文行楷"/>
                <a:hlinkClick r:id="rId3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4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765600" cy="5676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4600" y="5638680"/>
            <a:ext cx="106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对，这是我对你们的希望。”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77320" y="6248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华文行楷"/>
                <a:hlinkClick r:id="rId2"/>
              </a:rPr>
              <a:t>含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4:42:48Z</dcterms:created>
  <dc:creator>Administrator</dc:creator>
  <dc:description/>
  <dc:language>en-US</dc:language>
  <cp:lastModifiedBy>bh</cp:lastModifiedBy>
  <dcterms:modified xsi:type="dcterms:W3CDTF">2015-07-19T12:56:14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