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gif" ContentType="image/gif"/>
  <Override PartName="/ppt/media/image5.jpeg" ContentType="image/jpeg"/>
  <Override PartName="/ppt/media/camera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8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projctor.wav" ContentType="audio/x-wav"/>
  <Override PartName="/ppt/media/image4.png" ContentType="image/png"/>
  <Override PartName="/ppt/media/image12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0EE-EE8C-4022-80A0-FE7677FC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7942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8240" y="3739680"/>
            <a:ext cx="7942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BBD-5944-442B-9590-F6DF75D4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8040" y="10270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8240" y="37396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8040" y="37396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2A9-9249-4FEA-8A37-5B876515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2557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3480" y="1027080"/>
            <a:ext cx="2557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8720" y="1027080"/>
            <a:ext cx="2557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8240" y="3739680"/>
            <a:ext cx="2557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3480" y="3739680"/>
            <a:ext cx="2557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8720" y="3739680"/>
            <a:ext cx="2557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BCC-D425-4372-865B-9DD31218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EDF5-171E-4C84-AA38-F0F05273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8240" y="1027080"/>
            <a:ext cx="7942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81CD-410A-4A2F-8E7A-D8274DAC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7942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3462-98FA-4900-9575-80881FC0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38757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38040" y="1027080"/>
            <a:ext cx="38757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C4AE-17C8-4C6B-891F-2529D050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0839-E679-4233-BF40-5DFDFBD6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8240" y="162000"/>
            <a:ext cx="79423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03A4-EACF-447E-B0B9-296C0E20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8040" y="1027080"/>
            <a:ext cx="38757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8240" y="37396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5659-3D37-4157-AF31-0EA1A292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8240" y="1027080"/>
            <a:ext cx="7942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6A6-7990-497C-8B0A-4FA9DE8D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38757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38040" y="10270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38040" y="37396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372F-4CFA-45C0-9C01-2E6CA94E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8040" y="10270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8240" y="3739680"/>
            <a:ext cx="7942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1537-9816-4AF1-8B08-7DD37498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7942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8240" y="3739680"/>
            <a:ext cx="7942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FE2B-AD26-4F77-AF57-D0869247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8040" y="10270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8240" y="37396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38040" y="37396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9DD5-89D8-4124-9509-A9D3014B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2557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53480" y="1027080"/>
            <a:ext cx="2557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38720" y="1027080"/>
            <a:ext cx="2557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8240" y="3739680"/>
            <a:ext cx="2557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53480" y="3739680"/>
            <a:ext cx="2557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38720" y="3739680"/>
            <a:ext cx="2557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3356-9AED-4777-A25D-D388F861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7942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24A-E1A0-4CCB-8A74-9C747D5A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38757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8040" y="1027080"/>
            <a:ext cx="38757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604-ED95-47E7-8382-C56A727F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A74-D9D9-45CD-8662-0042BEC9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8240" y="162000"/>
            <a:ext cx="79423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7AC-AF45-41C6-BA02-03E45A67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8040" y="1027080"/>
            <a:ext cx="38757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8240" y="37396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DC9-227C-4FDF-8A3E-4B93A2B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38757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8040" y="10270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8040" y="37396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79F-5339-4BAA-A0A3-1469DE93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8240" y="10270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8040" y="1027080"/>
            <a:ext cx="3875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8240" y="3739680"/>
            <a:ext cx="7942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0D2-6C89-47DD-8950-9CB3374B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9c1d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c9c9c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9c9c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c9c9c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9A17-DDB3-4F77-9FA5-09623391B0CF}" type="slidenum">
              <a:rPr b="0" lang="zh-CN" sz="1200" spc="-1" strike="noStrike">
                <a:solidFill>
                  <a:srgbClr val="c9c9c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8240" y="1027080"/>
            <a:ext cx="7942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6c171"/>
              </a:buClr>
              <a:buSzPct val="7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  <a:p>
            <a:pPr lvl="1" marL="36180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6c171"/>
              </a:buClr>
              <a:buFont typeface="Wingdings 2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  <a:p>
            <a:pPr lvl="3" marL="1600200" indent="-22860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  <a:p>
            <a:pPr lvl="4" marL="2057400" indent="-22860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  <a:p>
            <a:pPr lvl="5" marL="2057400" indent="-22860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  <a:p>
            <a:pPr lvl="6" marL="2057400" indent="-22860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grpSp>
        <p:nvGrpSpPr>
          <p:cNvPr id="5" name="组合 9"/>
          <p:cNvGrpSpPr/>
          <p:nvPr/>
        </p:nvGrpSpPr>
        <p:grpSpPr>
          <a:xfrm>
            <a:off x="-25560" y="290520"/>
            <a:ext cx="696960" cy="676800"/>
            <a:chOff x="-25560" y="290520"/>
            <a:chExt cx="696960" cy="676800"/>
          </a:xfrm>
        </p:grpSpPr>
        <p:sp>
          <p:nvSpPr>
            <p:cNvPr id="6" name="任意多边形 6"/>
            <p:cNvSpPr/>
            <p:nvPr/>
          </p:nvSpPr>
          <p:spPr>
            <a:xfrm rot="21379200">
              <a:off x="-9000" y="434520"/>
              <a:ext cx="379440" cy="520920"/>
            </a:xfrm>
            <a:custGeom>
              <a:avLst/>
              <a:gdLst/>
              <a:ahLst/>
              <a:rect l="l" t="t" r="r" b="b"/>
              <a:pathLst>
                <a:path w="384099" h="520993">
                  <a:moveTo>
                    <a:pt x="384099" y="0"/>
                  </a:moveTo>
                  <a:lnTo>
                    <a:pt x="350676" y="520993"/>
                  </a:lnTo>
                  <a:lnTo>
                    <a:pt x="0" y="520993"/>
                  </a:lnTo>
                  <a:lnTo>
                    <a:pt x="33424" y="0"/>
                  </a:lnTo>
                  <a:lnTo>
                    <a:pt x="384099" y="0"/>
                  </a:lnTo>
                  <a:close/>
                </a:path>
              </a:pathLst>
            </a:custGeom>
            <a:solidFill>
              <a:srgbClr val="fb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" name="矩形 7"/>
            <p:cNvSpPr/>
            <p:nvPr/>
          </p:nvSpPr>
          <p:spPr>
            <a:xfrm>
              <a:off x="171000" y="290520"/>
              <a:ext cx="500400" cy="567000"/>
            </a:xfrm>
            <a:prstGeom prst="rect">
              <a:avLst/>
            </a:prstGeom>
            <a:solidFill>
              <a:srgbClr val="f6c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" name="等腰三角形 8"/>
            <p:cNvSpPr/>
            <p:nvPr/>
          </p:nvSpPr>
          <p:spPr>
            <a:xfrm flipV="1">
              <a:off x="171000" y="857520"/>
              <a:ext cx="181800" cy="85680"/>
            </a:xfrm>
            <a:prstGeom prst="triangle">
              <a:avLst>
                <a:gd name="adj" fmla="val 100000"/>
              </a:avLst>
            </a:prstGeom>
            <a:solidFill>
              <a:srgbClr val="fa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任意多边形 10"/>
          <p:cNvSpPr/>
          <p:nvPr/>
        </p:nvSpPr>
        <p:spPr>
          <a:xfrm rot="21049200">
            <a:off x="-179280" y="4562280"/>
            <a:ext cx="9502560" cy="1550880"/>
          </a:xfrm>
          <a:custGeom>
            <a:avLst/>
            <a:gdLst/>
            <a:ahLst/>
            <a:rect l="l" t="t" r="r" b="b"/>
            <a:pathLst>
              <a:path w="9511085" h="1549892">
                <a:moveTo>
                  <a:pt x="9511085" y="0"/>
                </a:moveTo>
                <a:lnTo>
                  <a:pt x="9511085" y="29074"/>
                </a:lnTo>
                <a:lnTo>
                  <a:pt x="9265489" y="1549892"/>
                </a:lnTo>
                <a:lnTo>
                  <a:pt x="0" y="1548517"/>
                </a:lnTo>
                <a:lnTo>
                  <a:pt x="8516" y="1486380"/>
                </a:lnTo>
                <a:lnTo>
                  <a:pt x="248551" y="0"/>
                </a:lnTo>
                <a:lnTo>
                  <a:pt x="9511085" y="0"/>
                </a:lnTo>
                <a:close/>
              </a:path>
            </a:pathLst>
          </a:custGeom>
          <a:solidFill>
            <a:srgbClr val="f6c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46" name="图片 11" descr=""/>
          <p:cNvPicPr/>
          <p:nvPr/>
        </p:nvPicPr>
        <p:blipFill>
          <a:blip r:embed="rId3"/>
          <a:stretch/>
        </p:blipFill>
        <p:spPr>
          <a:xfrm>
            <a:off x="3755880" y="1217520"/>
            <a:ext cx="4754880" cy="3889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8240" y="162000"/>
            <a:ext cx="79423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9c1d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19c1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8240" y="1027080"/>
            <a:ext cx="7942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6c171"/>
              </a:buClr>
              <a:buSzPct val="7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  <a:p>
            <a:pPr lvl="1" marL="36180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6c171"/>
              </a:buClr>
              <a:buFont typeface="Wingdings 2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  <a:p>
            <a:pPr lvl="3" marL="1600200" indent="-22860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  <a:p>
            <a:pPr lvl="4" marL="2057400" indent="-22860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  <a:p>
            <a:pPr lvl="5" marL="2057400" indent="-22860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  <a:p>
            <a:pPr lvl="6" marL="2057400" indent="-228600"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a6a6a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c9c9c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9c9c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c9c9c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DF28-C715-4054-9E18-3C4E34B80D50}" type="slidenum">
              <a:rPr b="0" lang="zh-CN" sz="1200" spc="-1" strike="noStrike">
                <a:solidFill>
                  <a:srgbClr val="c9c9c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2575080" cy="3633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9200" y="2060640"/>
            <a:ext cx="2191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d03eb"/>
                </a:solidFill>
                <a:latin typeface="隶书"/>
                <a:ea typeface="隶书"/>
              </a:rPr>
              <a:t>落 花 生</a:t>
            </a:r>
            <a:endParaRPr b="0" lang="en-US" sz="6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268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2b2b2"/>
                </a:solidFill>
                <a:latin typeface="华文中宋"/>
                <a:ea typeface="华文中宋"/>
              </a:rPr>
              <a:t>人教新课标  五年级 语文 上册 第四组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67560" y="62064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宋体"/>
              </a:rPr>
              <a:t>说说花生可贵的品质：</a:t>
            </a:r>
            <a:endParaRPr b="0" lang="en-US" sz="4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32200" y="177336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宋体"/>
              </a:rPr>
              <a:t>朴实无华，默默无闻，不求虚名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projcto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4572000" cy="2590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572000" y="4267080"/>
            <a:ext cx="4572000" cy="2590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014560" y="47628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2b2b2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所以你们要像花生，它虽然不好看，可是很有用。”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8640" y="152280"/>
            <a:ext cx="171684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</a:t>
            </a:r>
            <a:endParaRPr b="0" lang="en-US" sz="4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父亲的话</a:t>
            </a:r>
            <a:endParaRPr b="0" lang="en-US" sz="40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9640" y="1989000"/>
            <a:ext cx="7848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要做有用的人，不要做只讲体面，而对别人没有好处的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24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911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77080" y="62064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宋体"/>
              </a:rPr>
              <a:t>父亲希望我们做什么样的人？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projctor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55640" y="1989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在我们身边有没有像落花生那样的人呢？请举例说明。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75320" y="260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Gungsuh"/>
              </a:rPr>
              <a:t>起早贪黑的清洁工人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419640" y="260280"/>
            <a:ext cx="39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风雨中的送报人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4360" y="2205000"/>
            <a:ext cx="757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宋体"/>
              </a:rPr>
              <a:t>课文以议花生讲到做人，告诉  我们一个深刻的道理，这种写法叫做借物喻人。</a:t>
            </a:r>
            <a:endParaRPr b="0" lang="en-US" sz="4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3560" y="1197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宋体"/>
              </a:rPr>
              <a:t>写法指导：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projctor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762120"/>
            <a:ext cx="8001000" cy="30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27255"/>
                </a:solidFill>
                <a:latin typeface="Times New Roman"/>
                <a:ea typeface="黑体"/>
              </a:rPr>
              <a:t>   </a:t>
            </a:r>
            <a:r>
              <a:rPr b="0" lang="zh-CN" sz="6000" spc="-1" strike="noStrike">
                <a:solidFill>
                  <a:srgbClr val="f27255"/>
                </a:solidFill>
                <a:latin typeface="Times New Roman"/>
                <a:ea typeface="黑体"/>
              </a:rPr>
              <a:t>作业</a:t>
            </a:r>
            <a:r>
              <a:rPr b="0" lang="zh-CN" sz="3200" spc="-1" strike="noStrike">
                <a:solidFill>
                  <a:srgbClr val="f27255"/>
                </a:solidFill>
                <a:latin typeface="Times New Roman"/>
                <a:ea typeface="黑体"/>
              </a:rPr>
              <a:t>：</a:t>
            </a:r>
            <a:endParaRPr b="0" lang="en-US" sz="3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小练笔：作者由花生领悟到做人的道理，你从身边的事物领悟到了什么？学习本文借物喻人的手法写一篇小短文。</a:t>
            </a:r>
            <a:endParaRPr b="0" lang="en-US" sz="3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背诵课文。 </a:t>
            </a:r>
            <a:endParaRPr b="0" lang="en-US" sz="3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843280" y="2421000"/>
            <a:ext cx="408456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中宋"/>
              </a:rPr>
              <a:t>再见！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ransition spd="slow">
    <p:zoom dir="out"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8900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宋体"/>
              </a:rPr>
              <a:t>生字复习</a:t>
            </a:r>
            <a:endParaRPr b="0" lang="en-US" sz="5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280" y="219384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2840" y="22766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亩</a:t>
            </a:r>
            <a:endParaRPr b="0" lang="en-US" sz="8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60720" y="2349360"/>
            <a:ext cx="12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尝</a:t>
            </a:r>
            <a:endParaRPr b="0" lang="en-US" sz="8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234936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吩</a:t>
            </a:r>
            <a:endParaRPr b="0" lang="en-US" sz="8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65840" y="33289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24840" y="2349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咐</a:t>
            </a:r>
            <a:endParaRPr b="0" lang="en-US" sz="8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04120" y="4510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茅</a:t>
            </a:r>
            <a:endParaRPr b="0" lang="en-US" sz="8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0720" y="4437000"/>
            <a:ext cx="11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榨</a:t>
            </a:r>
            <a:endParaRPr b="0" lang="en-US" sz="8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4437000"/>
            <a:ext cx="100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榴</a:t>
            </a:r>
            <a:endParaRPr b="0" lang="en-US" sz="8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9200" y="1628640"/>
            <a:ext cx="113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m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Ǔ</a:t>
            </a:r>
            <a:endParaRPr b="0" lang="en-US" sz="4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81200" y="162864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cháng</a:t>
            </a:r>
            <a:endParaRPr b="0" lang="en-US" sz="6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3480" y="168264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fēn</a:t>
            </a:r>
            <a:endParaRPr b="0" lang="en-US" sz="6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7800" y="3789360"/>
            <a:ext cx="20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máo</a:t>
            </a:r>
            <a:endParaRPr b="0" lang="en-US" sz="6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374508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zh</a:t>
            </a:r>
            <a:r>
              <a:rPr b="0" lang="en-US" sz="6000" spc="-1" strike="noStrike">
                <a:solidFill>
                  <a:srgbClr val="ff00ff"/>
                </a:solidFill>
                <a:latin typeface="Times New Roman"/>
              </a:rPr>
              <a:t>ǎ</a:t>
            </a:r>
            <a:endParaRPr b="0" lang="en-US" sz="6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3718080"/>
            <a:ext cx="98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liú</a:t>
            </a:r>
            <a:endParaRPr b="0" lang="en-US" sz="6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74080" y="16714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fù</a:t>
            </a:r>
            <a:endParaRPr b="0" lang="en-US" sz="60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projctor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4920" y="549360"/>
            <a:ext cx="914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800000"/>
                </a:solidFill>
                <a:latin typeface="Webdings"/>
                <a:ea typeface="Webdings"/>
              </a:rPr>
              <a:t>自由朗读课文并思考</a:t>
            </a:r>
            <a:r>
              <a:rPr b="0" lang="zh-CN" sz="4000" spc="-1" strike="noStrike">
                <a:solidFill>
                  <a:srgbClr val="800000"/>
                </a:solidFill>
                <a:latin typeface="Webdings"/>
                <a:ea typeface="Webdings"/>
              </a:rPr>
              <a:t>：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课文围绕题目写了哪些内容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然后完成这个填空：</a:t>
            </a:r>
            <a:endParaRPr b="0" lang="en-US" sz="4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25653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按课文顺序填空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360" y="3357720"/>
            <a:ext cx="8155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)→(           ) → (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)→(          )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40668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种花生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57520" y="341640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收花生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32280" y="3435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尝花生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83280" y="34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议花生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projctor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762120"/>
            <a:ext cx="8001000" cy="128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7255"/>
                </a:solidFill>
                <a:latin typeface="Times New Roman"/>
                <a:ea typeface="黑体"/>
              </a:rPr>
              <a:t>       </a:t>
            </a:r>
            <a:r>
              <a:rPr b="0" lang="zh-CN" sz="6000" spc="-1" strike="noStrike">
                <a:solidFill>
                  <a:srgbClr val="800000"/>
                </a:solidFill>
                <a:latin typeface="Trebuchet MS"/>
                <a:ea typeface="黑体"/>
              </a:rPr>
              <a:t>我们姐弟几个都很高兴，买种，翻地，播种，浇水，没过几个月，居然收获了。</a:t>
            </a:r>
            <a:endParaRPr b="0" lang="en-US" sz="60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5661000"/>
            <a:ext cx="914400" cy="152280"/>
            <a:chOff x="971640" y="5661000"/>
            <a:chExt cx="914400" cy="152280"/>
          </a:xfrm>
        </p:grpSpPr>
        <p:sp>
          <p:nvSpPr>
            <p:cNvPr id="117" name=""/>
            <p:cNvSpPr/>
            <p:nvPr/>
          </p:nvSpPr>
          <p:spPr>
            <a:xfrm>
              <a:off x="971640" y="5661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33760" y="5661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</p:spTree>
  </p:cSld>
  <p:transition spd="slow">
    <p:zoom dir="out"/>
    <p:sndAc>
      <p:stSnd>
        <p:snd r:embed="rId2" name="projctor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61640" y="1270080"/>
            <a:ext cx="301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理解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“居然”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一词的意思。</a:t>
            </a:r>
            <a:endParaRPr b="0" lang="en-US" sz="4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3070080"/>
            <a:ext cx="5978520" cy="119124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居然：收获时大家出乎意料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高兴的心情。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projctor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43200" y="404640"/>
            <a:ext cx="4816440" cy="6224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90720" y="1628640"/>
            <a:ext cx="2212920" cy="1495440"/>
          </a:xfrm>
          <a:prstGeom prst="wedgeEllipseCallout">
            <a:avLst>
              <a:gd name="adj1" fmla="val 114560"/>
              <a:gd name="adj2" fmla="val 74949"/>
            </a:avLst>
          </a:prstGeom>
          <a:solidFill>
            <a:srgbClr val="ff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味美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114800"/>
            <a:ext cx="2057400" cy="1143000"/>
          </a:xfrm>
          <a:prstGeom prst="wedgeEllipseCallout">
            <a:avLst>
              <a:gd name="adj1" fmla="val -75925"/>
              <a:gd name="adj2" fmla="val -2527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可以榨油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191120"/>
            <a:ext cx="3200400" cy="1981080"/>
          </a:xfrm>
          <a:prstGeom prst="wedgeEllipseCallout">
            <a:avLst>
              <a:gd name="adj1" fmla="val 48861"/>
              <a:gd name="adj2" fmla="val -27962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价钱便宜，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都可以买来吃，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都喜欢吃，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这就是它的好处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04920"/>
            <a:ext cx="3276720" cy="1523880"/>
          </a:xfrm>
          <a:prstGeom prst="wedgeEllipseCallout">
            <a:avLst>
              <a:gd name="adj1" fmla="val -35175"/>
              <a:gd name="adj2" fmla="val 78023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能把花生的好处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说出来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95280" y="260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71640" y="549360"/>
            <a:ext cx="7772400" cy="5943600"/>
          </a:xfrm>
          <a:prstGeom prst="wedgeRoundRectCallout">
            <a:avLst>
              <a:gd name="adj1" fmla="val -57199"/>
              <a:gd name="adj2" fmla="val 1430"/>
              <a:gd name="adj3" fmla="val 16667"/>
            </a:avLst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914400"/>
            <a:ext cx="7315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2b2b2"/>
                </a:solidFill>
                <a:latin typeface="幼圆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生的好处很多，有一样最可贵：它的果实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埋在地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像桃子、石榴、苹果那样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鲜红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嫩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果实高高的挂在枝头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人一见就生爱慕之心。你们看它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矮矮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在地上，等到成熟了，也不能立刻分辨出来它有没有果实，必须挖起来才知道。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”</a:t>
            </a:r>
            <a:endParaRPr b="0" lang="en-US" sz="3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80" y="1486080"/>
            <a:ext cx="4572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244440" y="2060640"/>
            <a:ext cx="10335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父亲的话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95280" y="1752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19720" y="533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791320" y="4191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574560"/>
          </a:xfrm>
          <a:custGeom>
            <a:avLst/>
            <a:gdLst>
              <a:gd name="textAreaLeft" fmla="*/ 35640 w 647640"/>
              <a:gd name="textAreaRight" fmla="*/ 612000 w 647640"/>
              <a:gd name="textAreaTop" fmla="*/ 35640 h 574560"/>
              <a:gd name="textAreaBottom" fmla="*/ 53892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96" y="1350"/>
                </a:lnTo>
                <a:lnTo>
                  <a:pt x="1350" y="135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96" y="20250"/>
                </a:lnTo>
                <a:lnTo>
                  <a:pt x="22996" y="135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996" y="2025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346" h="21600">
                <a:moveTo>
                  <a:pt x="15690" y="10800"/>
                </a:moveTo>
                <a:lnTo>
                  <a:pt x="5129" y="17844"/>
                </a:lnTo>
                <a:lnTo>
                  <a:pt x="5129" y="3756"/>
                </a:lnTo>
                <a:close/>
              </a:path>
              <a:path fill="darken" w="24346" h="21600">
                <a:moveTo>
                  <a:pt x="17545" y="3756"/>
                </a:moveTo>
                <a:lnTo>
                  <a:pt x="17545" y="17844"/>
                </a:lnTo>
                <a:lnTo>
                  <a:pt x="19217" y="17844"/>
                </a:lnTo>
                <a:lnTo>
                  <a:pt x="19217" y="3756"/>
                </a:lnTo>
                <a:close/>
              </a:path>
            </a:pathLst>
          </a:custGeom>
          <a:solidFill>
            <a:srgbClr val="f6c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 spd="med">
    <p:strips dir="rd"/>
    <p:sndAc>
      <p:stSnd>
        <p:snd r:embed="rId6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1374840"/>
            <a:ext cx="8381880" cy="5483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195640" y="263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埋在地里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2637000"/>
            <a:ext cx="27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幼圆"/>
              </a:rPr>
              <a:t>高高地挂在枝头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95640" y="3573360"/>
            <a:ext cx="22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矮矮地长在地上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716280"/>
            <a:ext cx="16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幼圆"/>
              </a:rPr>
              <a:t>鲜红嫩绿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47973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幼圆"/>
              </a:rPr>
              <a:t>一见就生爱慕之心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4797360"/>
            <a:ext cx="25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挖起来才知道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637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位置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3716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外表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4724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印象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7956720" y="5445000"/>
            <a:ext cx="431640" cy="720720"/>
          </a:xfrm>
          <a:custGeom>
            <a:avLst/>
            <a:gdLst>
              <a:gd name="textAreaLeft" fmla="*/ 27000 w 431640"/>
              <a:gd name="textAreaRight" fmla="*/ 405000 w 431640"/>
              <a:gd name="textAreaTop" fmla="*/ 27000 h 720720"/>
              <a:gd name="textAreaBottom" fmla="*/ 694080 h 720720"/>
            </a:gdLst>
            <a:ahLst/>
            <a:rect l="textAreaLeft" t="textAreaTop" r="textAreaRight" b="textAreaBottom"/>
            <a:pathLst>
              <a:path w="21600" h="36054">
                <a:moveTo>
                  <a:pt x="0" y="0"/>
                </a:moveTo>
                <a:lnTo>
                  <a:pt x="21600" y="0"/>
                </a:lnTo>
                <a:lnTo>
                  <a:pt x="21600" y="36054"/>
                </a:lnTo>
                <a:lnTo>
                  <a:pt x="0" y="36054"/>
                </a:lnTo>
                <a:close/>
              </a:path>
              <a:path fill="lightenLess" w="21600" h="3605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6054">
                <a:moveTo>
                  <a:pt x="21600" y="0"/>
                </a:moveTo>
                <a:lnTo>
                  <a:pt x="21600" y="36054"/>
                </a:lnTo>
                <a:lnTo>
                  <a:pt x="20250" y="34704"/>
                </a:lnTo>
                <a:lnTo>
                  <a:pt x="20250" y="1350"/>
                </a:lnTo>
                <a:close/>
              </a:path>
              <a:path fill="darkenLess" w="21600" h="36054">
                <a:moveTo>
                  <a:pt x="21600" y="36054"/>
                </a:moveTo>
                <a:lnTo>
                  <a:pt x="0" y="36054"/>
                </a:lnTo>
                <a:lnTo>
                  <a:pt x="1350" y="34704"/>
                </a:lnTo>
                <a:lnTo>
                  <a:pt x="20250" y="34704"/>
                </a:lnTo>
                <a:close/>
              </a:path>
              <a:path fill="lighten" w="21600" h="36054">
                <a:moveTo>
                  <a:pt x="0" y="36054"/>
                </a:moveTo>
                <a:lnTo>
                  <a:pt x="0" y="0"/>
                </a:lnTo>
                <a:lnTo>
                  <a:pt x="1350" y="1350"/>
                </a:lnTo>
                <a:lnTo>
                  <a:pt x="1350" y="34704"/>
                </a:lnTo>
                <a:close/>
              </a:path>
              <a:path fill="darken" w="21600" h="36054">
                <a:moveTo>
                  <a:pt x="7283" y="18027"/>
                </a:moveTo>
                <a:lnTo>
                  <a:pt x="17844" y="10983"/>
                </a:lnTo>
                <a:lnTo>
                  <a:pt x="17844" y="25071"/>
                </a:lnTo>
                <a:close/>
              </a:path>
              <a:path fill="darken" w="21600" h="36054">
                <a:moveTo>
                  <a:pt x="3756" y="10983"/>
                </a:moveTo>
                <a:lnTo>
                  <a:pt x="5428" y="10983"/>
                </a:lnTo>
                <a:lnTo>
                  <a:pt x="5428" y="25071"/>
                </a:lnTo>
                <a:lnTo>
                  <a:pt x="3756" y="25071"/>
                </a:lnTo>
                <a:close/>
              </a:path>
            </a:pathLst>
          </a:custGeom>
          <a:solidFill>
            <a:srgbClr val="f6c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 spd="med">
    <p:push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9T01:46:08Z</dcterms:created>
  <dc:creator>黄庆胜</dc:creator>
  <dc:description/>
  <cp:keywords/>
  <dc:language>en-US</dc:language>
  <cp:lastModifiedBy>微软用户</cp:lastModifiedBy>
  <dcterms:modified xsi:type="dcterms:W3CDTF">2015-01-25T07:41:26Z</dcterms:modified>
  <cp:revision>58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