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14.png" ContentType="image/png"/>
  <Override PartName="/ppt/media/image13.jpeg" ContentType="image/jpeg"/>
  <Override PartName="/ppt/media/image12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8.gif" ContentType="image/gif"/>
  <Override PartName="/ppt/media/image18.jpeg" ContentType="image/jpeg"/>
  <Override PartName="/ppt/media/type.wav" ContentType="audio/x-wav"/>
  <Override PartName="/ppt/media/image17.png" ContentType="image/png"/>
  <Override PartName="/ppt/media/image32.jpeg" ContentType="image/jpeg"/>
  <Override PartName="/ppt/media/image35.png" ContentType="image/png"/>
  <Override PartName="/ppt/media/image26.jpeg" ContentType="image/jpeg"/>
  <Override PartName="/ppt/media/image34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0.png" ContentType="image/png"/>
  <Override PartName="/ppt/media/image4.png" ContentType="image/png"/>
  <Override PartName="/ppt/media/image10.gif" ContentType="image/gif"/>
  <Override PartName="/ppt/media/image27.png" ContentType="image/png"/>
  <Override PartName="/ppt/media/image33.jpeg" ContentType="image/jpeg"/>
  <Override PartName="/ppt/media/image29.jpeg" ContentType="image/jpeg"/>
  <Override PartName="/ppt/media/image30.jpeg" ContentType="image/jpeg"/>
  <Override PartName="/ppt/media/image28.jpeg" ContentType="image/jpeg"/>
  <Override PartName="/ppt/media/image23.wmf" ContentType="image/x-wmf"/>
  <Override PartName="/ppt/media/image16.png" ContentType="image/png"/>
  <Override PartName="/ppt/media/camera.wav" ContentType="audio/x-wav"/>
  <Override PartName="/ppt/media/image3.png" ContentType="image/png"/>
  <Override PartName="/ppt/media/image24.png" ContentType="image/png"/>
  <Override PartName="/ppt/media/image31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2.wmf" ContentType="image/x-wmf"/>
  <Override PartName="/ppt/media/image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335-C321-480F-8A5D-DBAD5586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4AD-8B4D-4874-9F4D-CF9CE51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AE7-8F12-4998-88C6-962CF348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853-59B2-4FC1-BC8D-E3BF2555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6E5-AC8B-4162-BC66-19139130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DDE-61A1-4688-B134-195C0AAD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8AC-4450-4C58-8850-7ADC5B72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D76-004F-4C21-9B5D-287D33F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36C-E02D-400E-9F41-DAA45D1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501-E537-464A-9AA5-2615927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5D0-45F6-409B-A094-F622517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E7B-4AAF-4B02-AAD4-A82046A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5DD-EEE4-4A61-8AF2-49D73198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000000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981080" y="228600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imes New Roman"/>
                <a:ea typeface="隶书"/>
              </a:rPr>
              <a:t>落  花  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A01441_"/>
          <p:cNvPicPr/>
          <p:nvPr/>
        </p:nvPicPr>
        <p:blipFill>
          <a:blip r:embed="rId2"/>
          <a:stretch/>
        </p:blipFill>
        <p:spPr>
          <a:xfrm>
            <a:off x="7650000" y="51721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50920" y="333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教新课标五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官方logo副本"/>
          <p:cNvPicPr/>
          <p:nvPr/>
        </p:nvPicPr>
        <p:blipFill>
          <a:blip r:embed="rId3"/>
          <a:stretch/>
        </p:blipFill>
        <p:spPr>
          <a:xfrm>
            <a:off x="0" y="587700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6e108e98-4748-4dec-9f47-d9a4a1611885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ongjiangjunapple04"/>
          <p:cNvPicPr/>
          <p:nvPr/>
        </p:nvPicPr>
        <p:blipFill>
          <a:blip r:embed="rId2"/>
          <a:stretch/>
        </p:blipFill>
        <p:spPr>
          <a:xfrm>
            <a:off x="4724280" y="763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l"/>
          <p:cNvPicPr/>
          <p:nvPr/>
        </p:nvPicPr>
        <p:blipFill>
          <a:blip r:embed="rId3"/>
          <a:stretch/>
        </p:blipFill>
        <p:spPr>
          <a:xfrm>
            <a:off x="76320" y="334800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YW00054"/>
          <p:cNvPicPr/>
          <p:nvPr/>
        </p:nvPicPr>
        <p:blipFill>
          <a:blip r:embed="rId4"/>
          <a:stretch/>
        </p:blipFill>
        <p:spPr>
          <a:xfrm>
            <a:off x="594360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8001000" y="6400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395280" y="1125360"/>
          <a:ext cx="9685440" cy="633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9685440" cy="63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3"/>
          <p:cNvSpPr/>
          <p:nvPr/>
        </p:nvSpPr>
        <p:spPr>
          <a:xfrm>
            <a:off x="2459160" y="2708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埋在地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08720" y="2708280"/>
            <a:ext cx="27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02c6"/>
                </a:solidFill>
                <a:latin typeface="Times New Roman"/>
                <a:ea typeface="黑体"/>
              </a:rPr>
              <a:t>高高地挂在枝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54080" y="386064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矮矮地长在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656320" y="396252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02c6"/>
                </a:solidFill>
                <a:latin typeface="Times New Roman"/>
                <a:ea typeface="黑体"/>
              </a:rPr>
              <a:t>鲜红嫩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7032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02c6"/>
                </a:solidFill>
                <a:latin typeface="Times New Roman"/>
                <a:ea typeface="黑体"/>
              </a:rPr>
              <a:t>一见就生爱慕之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209680" y="5105520"/>
            <a:ext cx="25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挖起来才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380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144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外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38080" y="51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，不是外表好看而没有实用的东西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uasheng1"/>
          <p:cNvPicPr/>
          <p:nvPr/>
        </p:nvPicPr>
        <p:blipFill>
          <a:blip r:embed="rId2"/>
          <a:stretch/>
        </p:blipFill>
        <p:spPr>
          <a:xfrm>
            <a:off x="533520" y="3657600"/>
            <a:ext cx="4419360" cy="315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ua1"/>
          <p:cNvPicPr/>
          <p:nvPr/>
        </p:nvPicPr>
        <p:blipFill>
          <a:blip r:embed="rId3"/>
          <a:stretch/>
        </p:blipFill>
        <p:spPr>
          <a:xfrm>
            <a:off x="5105520" y="3657600"/>
            <a:ext cx="3962160" cy="3124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077320" y="6278400"/>
            <a:ext cx="106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4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0-1"/>
          <p:cNvPicPr/>
          <p:nvPr/>
        </p:nvPicPr>
        <p:blipFill>
          <a:blip r:embed="rId1"/>
          <a:stretch/>
        </p:blipFill>
        <p:spPr>
          <a:xfrm>
            <a:off x="2666880" y="0"/>
            <a:ext cx="3765600" cy="567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3954600" y="5638680"/>
            <a:ext cx="10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对，这是我对你们的希望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077320" y="6248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094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187280" y="1197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楷体_GB2312"/>
              </a:rPr>
              <a:t>含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63640" y="2421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人要做有用的人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42920" y="1916280"/>
            <a:ext cx="7162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按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种花生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收花生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尝花生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议花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的顺序，重点记叙作者一家人过花生收获节时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议论花生的好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借物喻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告诉我们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做人要做有用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不要做只讲体面而对别人没有好处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官方logo副本"/>
          <p:cNvPicPr/>
          <p:nvPr/>
        </p:nvPicPr>
        <p:blipFill>
          <a:blip r:embed="rId2"/>
          <a:stretch/>
        </p:blipFill>
        <p:spPr>
          <a:xfrm>
            <a:off x="0" y="587700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547640" y="620640"/>
            <a:ext cx="295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总结全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3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ook3"/>
          <p:cNvPicPr/>
          <p:nvPr/>
        </p:nvPicPr>
        <p:blipFill>
          <a:blip r:embed="rId2"/>
          <a:stretch/>
        </p:blipFill>
        <p:spPr>
          <a:xfrm>
            <a:off x="7467480" y="4876920"/>
            <a:ext cx="127980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84360" y="907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扫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00000" y="227664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5640" y="3500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橡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55640" y="4581360"/>
            <a:ext cx="1523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铅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050920" y="83664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默默无言，宁可自己一身脏，换来环境干净清洁的特点，表现不为名利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124000" y="2205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它“春蚕到死丝方尽”的特点，写它的献身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195640" y="35002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它见错误就擦的特点，写它勇于改错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195640" y="45813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它一再掏出“心”来工作的特点，写一心一意为人民服务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官方logo副本"/>
          <p:cNvPicPr/>
          <p:nvPr/>
        </p:nvPicPr>
        <p:blipFill>
          <a:blip r:embed="rId3"/>
          <a:stretch/>
        </p:blipFill>
        <p:spPr>
          <a:xfrm>
            <a:off x="0" y="587700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农民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098578sm"/>
          <p:cNvPicPr/>
          <p:nvPr/>
        </p:nvPicPr>
        <p:blipFill>
          <a:blip r:embed="rId1"/>
          <a:stretch/>
        </p:blipFill>
        <p:spPr>
          <a:xfrm>
            <a:off x="0" y="0"/>
            <a:ext cx="10764720" cy="693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1763640" y="213372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联系本课内容</a:t>
            </a:r>
            <a:r>
              <a:rPr b="1" lang="en-US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想想要怎样做一个有用的人，把想到的写下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813320" y="148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ky.mid" descr=""/>
          <p:cNvPicPr/>
          <p:nvPr/>
        </p:nvPicPr>
        <p:blipFill>
          <a:blip r:embed="rId2"/>
          <a:stretch/>
        </p:blipFill>
        <p:spPr>
          <a:xfrm>
            <a:off x="0" y="6318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花生是一种草本植物，花是黄色。花垂落在地下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子房柄钻到土里长成花生荚，所以也叫“落花生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000010024"/>
          <p:cNvPicPr/>
          <p:nvPr/>
        </p:nvPicPr>
        <p:blipFill>
          <a:blip r:embed="rId1"/>
          <a:stretch/>
        </p:blipFill>
        <p:spPr>
          <a:xfrm>
            <a:off x="25560" y="0"/>
            <a:ext cx="9118440" cy="716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官方logo副本"/>
          <p:cNvPicPr/>
          <p:nvPr/>
        </p:nvPicPr>
        <p:blipFill>
          <a:blip r:embed="rId2"/>
          <a:stretch/>
        </p:blipFill>
        <p:spPr>
          <a:xfrm>
            <a:off x="0" y="587700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24000" y="1916280"/>
            <a:ext cx="853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体会父亲所说的话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从中学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要做对别人有用的人，不要做只讲体面而对别人没有好处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2c6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理解课文内容，学习花生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不求虚名，默默奉献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品格</a:t>
            </a:r>
            <a:r>
              <a:rPr b="1" lang="en-US" sz="3600" spc="-1" strike="noStrike">
                <a:solidFill>
                  <a:srgbClr val="2c02c6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692360" y="836640"/>
            <a:ext cx="37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gif001"/>
          <p:cNvPicPr/>
          <p:nvPr/>
        </p:nvPicPr>
        <p:blipFill>
          <a:blip r:embed="rId2"/>
          <a:stretch/>
        </p:blipFill>
        <p:spPr>
          <a:xfrm>
            <a:off x="250920" y="0"/>
            <a:ext cx="1695240" cy="2224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58920" y="1658880"/>
            <a:ext cx="878508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看看课文围绕落花生讲了一些什么事情，然后完成这个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按课文顺序填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种花生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(            )    (              )   (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16360" y="3789360"/>
            <a:ext cx="18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收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076720" y="386064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吃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4360" y="4437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05272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16436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64328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gif1457"/>
          <p:cNvPicPr/>
          <p:nvPr/>
        </p:nvPicPr>
        <p:blipFill>
          <a:blip r:embed="rId2"/>
          <a:stretch/>
        </p:blipFill>
        <p:spPr>
          <a:xfrm>
            <a:off x="826920" y="5418000"/>
            <a:ext cx="892980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258920" y="1557360"/>
            <a:ext cx="5977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华文新魏"/>
              </a:rPr>
              <a:t>说说种植花生的过程，用四个词语来归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933360"/>
            <a:ext cx="6948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买种、翻地、播种、浇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gif028"/>
          <p:cNvPicPr/>
          <p:nvPr/>
        </p:nvPicPr>
        <p:blipFill>
          <a:blip r:embed="rId2"/>
          <a:stretch/>
        </p:blipFill>
        <p:spPr>
          <a:xfrm>
            <a:off x="3419640" y="5129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481644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990720" y="1676520"/>
            <a:ext cx="2209680" cy="1447560"/>
          </a:xfrm>
          <a:prstGeom prst="wedgeEllipseCallout">
            <a:avLst>
              <a:gd name="adj1" fmla="val 114800"/>
              <a:gd name="adj2" fmla="val 75768"/>
            </a:avLst>
          </a:pr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pic020"/>
          <p:cNvPicPr/>
          <p:nvPr/>
        </p:nvPicPr>
        <p:blipFill>
          <a:blip r:embed="rId5"/>
          <a:stretch/>
        </p:blipFill>
        <p:spPr>
          <a:xfrm>
            <a:off x="324000" y="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11253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全文，讨论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50920" y="2276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我们兄弟姐妹是怎样评论花生的？父亲又是怎样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父亲拿什么来与花生进行对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父亲通过花生告诉了我们什么道理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6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692360" y="382680"/>
            <a:ext cx="6705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华文宋体"/>
                <a:ea typeface="华文宋体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花生的好处很多，有一样最可贵，它的果实埋在地里，不像</a:t>
            </a:r>
            <a:r>
              <a:rPr b="1" lang="zh-CN" sz="4000" spc="-1" strike="noStrike">
                <a:solidFill>
                  <a:srgbClr val="00ffff"/>
                </a:solidFill>
                <a:latin typeface="华文宋体"/>
                <a:ea typeface="华文宋体"/>
              </a:rPr>
              <a:t>桃子、石榴、苹果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那样，把</a:t>
            </a:r>
            <a:r>
              <a:rPr b="1" lang="zh-CN" sz="4000" spc="-1" strike="noStrike">
                <a:solidFill>
                  <a:srgbClr val="ff3300"/>
                </a:solidFill>
                <a:latin typeface="华文宋体"/>
                <a:ea typeface="华文宋体"/>
              </a:rPr>
              <a:t>鲜红</a:t>
            </a:r>
            <a:r>
              <a:rPr b="1" lang="zh-CN" sz="4000" spc="-1" strike="noStrike">
                <a:solidFill>
                  <a:srgbClr val="00ff00"/>
                </a:solidFill>
                <a:latin typeface="华文宋体"/>
                <a:ea typeface="华文宋体"/>
              </a:rPr>
              <a:t>嫩绿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的果实高高地挂在枝头上，使人一见就生爱慕之心。你们看它</a:t>
            </a:r>
            <a:r>
              <a:rPr b="1" lang="zh-CN" sz="4000" spc="-1" strike="noStrike">
                <a:solidFill>
                  <a:srgbClr val="99cc00"/>
                </a:solidFill>
                <a:latin typeface="华文宋体"/>
                <a:ea typeface="华文宋体"/>
              </a:rPr>
              <a:t>矮矮地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长在地上，等到成熟了，也不能立刻分辨出来它有没不果实，必须挖出来才知道</a:t>
            </a: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960" y="304920"/>
            <a:ext cx="13993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一次   第二次        第三次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772400" y="6278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>Administrator</dc:creator>
  <dc:description/>
  <dc:language>en-US</dc:language>
  <cp:lastModifiedBy>Administrator</cp:lastModifiedBy>
  <dcterms:modified xsi:type="dcterms:W3CDTF">2015-11-19T22:07:31Z</dcterms:modified>
  <cp:revision>52</cp:revision>
  <dc:subject/>
  <dc:title>PowerPoint 演示文稿</dc:title>
</cp:coreProperties>
</file>