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5.wmf" ContentType="image/x-wmf"/>
  <Override PartName="/ppt/media/image1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8.gif" ContentType="image/gif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BCD6-C859-4BE6-BCCF-C0FD06719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ADED-9826-45E7-A78D-3F8CDA28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D77D-F13C-455F-8D63-6BF3D2D39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8354-B8EA-4126-B889-B15676778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972C-053A-49EB-8910-0B045F62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EEC6-3A70-4C1B-B44A-093C7788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8A8B-F2CB-469D-B87D-505E156F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3466-96E6-4C75-AD8A-CD71CE67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0202-1DCE-441D-948A-A034F259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03CC-C962-4AC3-A33A-6B069184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33A9-FE04-4910-B632-2BB1AE11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B0D2-3634-44C2-8A94-0D5D1AD8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C034-1B53-4A90-BE86-F28A07AF9B7C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" Target="slide7.xml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落花生树"/>
          <p:cNvPicPr/>
          <p:nvPr/>
        </p:nvPicPr>
        <p:blipFill>
          <a:blip r:embed="rId1"/>
          <a:stretch/>
        </p:blipFill>
        <p:spPr>
          <a:xfrm>
            <a:off x="0" y="476280"/>
            <a:ext cx="4365720" cy="5905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00720" y="1700280"/>
            <a:ext cx="46432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落 花 生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4572000" y="4076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楷体_GB2312"/>
              </a:rPr>
              <a:t>它是在地上开花，花落以后在地下结果的作物，所以叫“落花生”。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685800" y="12952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900000" y="2060640"/>
            <a:ext cx="7777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　    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所以你们要像花生，它虽然不好看，可是很有用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-2124000" y="35002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1116000" y="476280"/>
            <a:ext cx="7272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人要做有用的人，不要做只讲体面，而对别人没有好处的人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042920" y="414972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花生做的食品都吃完了，父亲的话却深深地印在我的心上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87" name="Group 5"/>
          <p:cNvGrpSpPr/>
          <p:nvPr/>
        </p:nvGrpSpPr>
        <p:grpSpPr>
          <a:xfrm>
            <a:off x="3851280" y="2349360"/>
            <a:ext cx="914400" cy="152280"/>
            <a:chOff x="3851280" y="2349360"/>
            <a:chExt cx="914400" cy="152280"/>
          </a:xfrm>
        </p:grpSpPr>
        <p:sp>
          <p:nvSpPr>
            <p:cNvPr id="88" name="Oval 6"/>
            <p:cNvSpPr/>
            <p:nvPr/>
          </p:nvSpPr>
          <p:spPr>
            <a:xfrm>
              <a:off x="3851280" y="234936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9" name="Oval 7"/>
            <p:cNvSpPr/>
            <p:nvPr/>
          </p:nvSpPr>
          <p:spPr>
            <a:xfrm>
              <a:off x="4613400" y="23493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90" name="Group 8"/>
          <p:cNvGrpSpPr/>
          <p:nvPr/>
        </p:nvGrpSpPr>
        <p:grpSpPr>
          <a:xfrm>
            <a:off x="6948360" y="2349360"/>
            <a:ext cx="914400" cy="152280"/>
            <a:chOff x="6948360" y="2349360"/>
            <a:chExt cx="914400" cy="152280"/>
          </a:xfrm>
        </p:grpSpPr>
        <p:sp>
          <p:nvSpPr>
            <p:cNvPr id="91" name="Oval 9"/>
            <p:cNvSpPr/>
            <p:nvPr/>
          </p:nvSpPr>
          <p:spPr>
            <a:xfrm>
              <a:off x="6948360" y="234936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2" name="Oval 10"/>
            <p:cNvSpPr/>
            <p:nvPr/>
          </p:nvSpPr>
          <p:spPr>
            <a:xfrm>
              <a:off x="7710480" y="23493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93" name="AutoShape 14"/>
          <p:cNvSpPr/>
          <p:nvPr/>
        </p:nvSpPr>
        <p:spPr>
          <a:xfrm>
            <a:off x="7596360" y="5805360"/>
            <a:ext cx="144360" cy="1447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755640" y="14842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5" name="Picture 3" descr="122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4859280" y="476280"/>
            <a:ext cx="428472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a77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我要像落花生一样，踏踏实实做一个淳朴的人，有用的人，我要为中华而生，为中华而贡献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       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</a:rPr>
              <a:t>——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许地山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u=3523862407,3342561627&amp;fm=0&amp;gp=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"/>
          <p:cNvSpPr/>
          <p:nvPr/>
        </p:nvSpPr>
        <p:spPr>
          <a:xfrm>
            <a:off x="1042920" y="2421000"/>
            <a:ext cx="748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在当今的社会，你想做一个像桃子、石榴、苹果一样的人呢，还是做一个像花生一样的人呢？为什么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99" name="Group 8"/>
          <p:cNvGrpSpPr/>
          <p:nvPr/>
        </p:nvGrpSpPr>
        <p:grpSpPr>
          <a:xfrm>
            <a:off x="684360" y="476280"/>
            <a:ext cx="5789520" cy="1584360"/>
            <a:chOff x="684360" y="476280"/>
            <a:chExt cx="5789520" cy="1584360"/>
          </a:xfrm>
        </p:grpSpPr>
        <p:sp>
          <p:nvSpPr>
            <p:cNvPr id="100" name="AutoShape 9"/>
            <p:cNvSpPr/>
            <p:nvPr/>
          </p:nvSpPr>
          <p:spPr>
            <a:xfrm>
              <a:off x="684360" y="836640"/>
              <a:ext cx="1079280" cy="1224000"/>
            </a:xfrm>
            <a:prstGeom prst="foldedCorner">
              <a:avLst>
                <a:gd name="adj" fmla="val 30000"/>
              </a:avLst>
            </a:prstGeom>
            <a:solidFill>
              <a:srgbClr val="ffff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7a77"/>
                  </a:solidFill>
                  <a:latin typeface="Times New Roman"/>
                </a:rPr>
                <a:t>.</a:t>
              </a:r>
              <a:endParaRPr b="0" lang="en-US" sz="8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7a77"/>
                  </a:solidFill>
                  <a:latin typeface="Times New Roman"/>
                </a:rPr>
                <a:t>………</a:t>
              </a:r>
              <a:endParaRPr b="0" lang="en-US" sz="8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7a77"/>
                  </a:solidFill>
                  <a:latin typeface="Times New Roman"/>
                </a:rPr>
                <a:t>    ……</a:t>
              </a:r>
              <a:endParaRPr b="0" lang="en-US" sz="8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1" name="WordArt 10"/>
            <p:cNvSpPr txBox="1"/>
            <p:nvPr/>
          </p:nvSpPr>
          <p:spPr>
            <a:xfrm>
              <a:off x="1042920" y="1197000"/>
              <a:ext cx="357120" cy="49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1" strike="noStrike">
                  <a:ln w="9360">
                    <a:solidFill>
                      <a:srgbClr val="3366ff"/>
                    </a:solidFill>
                    <a:miter/>
                  </a:ln>
                  <a:solidFill>
                    <a:srgbClr val="003399"/>
                  </a:solidFill>
                  <a:latin typeface="宋体"/>
                </a:rPr>
                <a:t>？</a:t>
              </a:r>
              <a:endParaRPr b="1" lang="en-US" sz="4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3399"/>
                </a:solidFill>
                <a:latin typeface="宋体"/>
                <a:ea typeface="宋体"/>
              </a:endParaRPr>
            </a:p>
          </p:txBody>
        </p:sp>
        <p:pic>
          <p:nvPicPr>
            <p:cNvPr id="102" name="Picture 17" descr="D:\课件动画素材\人文\小孩\RX_007.gif"/>
            <p:cNvPicPr/>
            <p:nvPr/>
          </p:nvPicPr>
          <p:blipFill>
            <a:blip r:embed="rId2"/>
            <a:stretch/>
          </p:blipFill>
          <p:spPr>
            <a:xfrm>
              <a:off x="5435640" y="476280"/>
              <a:ext cx="1038240" cy="157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Text Box 7"/>
          <p:cNvSpPr/>
          <p:nvPr/>
        </p:nvSpPr>
        <p:spPr>
          <a:xfrm>
            <a:off x="2124000" y="981000"/>
            <a:ext cx="3024360" cy="764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ff"/>
                </a:solidFill>
                <a:latin typeface="Arial"/>
              </a:rPr>
              <a:t>实话实说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u=3523862407,3342561627&amp;fm=0&amp;gp=22"/>
          <p:cNvPicPr/>
          <p:nvPr/>
        </p:nvPicPr>
        <p:blipFill>
          <a:blip r:embed="rId1"/>
          <a:stretch/>
        </p:blipFill>
        <p:spPr>
          <a:xfrm>
            <a:off x="-3636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2"/>
          <p:cNvSpPr/>
          <p:nvPr/>
        </p:nvSpPr>
        <p:spPr>
          <a:xfrm>
            <a:off x="324000" y="1268280"/>
            <a:ext cx="87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6" name="Picture 17" descr="D:\课件动画素材\人文\小孩\RX_007.gif"/>
          <p:cNvPicPr/>
          <p:nvPr/>
        </p:nvPicPr>
        <p:blipFill>
          <a:blip r:embed="rId2"/>
          <a:stretch/>
        </p:blipFill>
        <p:spPr>
          <a:xfrm>
            <a:off x="7812000" y="189000"/>
            <a:ext cx="1038240" cy="15778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"/>
          <p:cNvSpPr/>
          <p:nvPr/>
        </p:nvSpPr>
        <p:spPr>
          <a:xfrm>
            <a:off x="2268360" y="189000"/>
            <a:ext cx="3024360" cy="764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课堂检测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0" y="1052640"/>
            <a:ext cx="8713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       </a:t>
            </a:r>
            <a:r>
              <a:rPr b="0" lang="zh-CN" sz="4800" spc="-1" strike="noStrike">
                <a:solidFill>
                  <a:srgbClr val="3366ff"/>
                </a:solidFill>
                <a:latin typeface="Arial"/>
                <a:ea typeface="黑体"/>
              </a:rPr>
              <a:t>我爱花生，它的好处很多，它虽然没有（                ），但可贵的是（                    ）。我们的（              ）不正像花生一样吗？他们 （                    ）。     我赞美花生，我更要赞美（                  ）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清洁工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1075320" y="2602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Gungsuh"/>
              </a:rPr>
              <a:t>起早贪黑的清洁工人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送报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3419640" y="260280"/>
            <a:ext cx="39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Arial"/>
                <a:ea typeface="黑体"/>
              </a:rPr>
              <a:t>风雨中的送报人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老师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611280" y="2276640"/>
            <a:ext cx="74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我们亲爱的老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她燃烧了自己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照亮了别人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533520" y="762120"/>
            <a:ext cx="8001000" cy="128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ff"/>
                </a:solidFill>
                <a:latin typeface="Times New Roman"/>
                <a:ea typeface="黑体"/>
              </a:rPr>
              <a:t>       </a:t>
            </a:r>
            <a:r>
              <a:rPr b="0" lang="zh-CN" sz="6000" spc="-1" strike="noStrike">
                <a:solidFill>
                  <a:srgbClr val="003399"/>
                </a:solidFill>
                <a:latin typeface="Trebuchet MS"/>
                <a:ea typeface="黑体"/>
              </a:rPr>
              <a:t>我们姐弟几个都很高兴，买种，翻地，播种，浇水，没过几个月，居然收获了。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5" name="Group 3"/>
          <p:cNvGrpSpPr/>
          <p:nvPr/>
        </p:nvGrpSpPr>
        <p:grpSpPr>
          <a:xfrm>
            <a:off x="2411280" y="5734080"/>
            <a:ext cx="914400" cy="152280"/>
            <a:chOff x="2411280" y="5734080"/>
            <a:chExt cx="914400" cy="152280"/>
          </a:xfrm>
        </p:grpSpPr>
        <p:sp>
          <p:nvSpPr>
            <p:cNvPr id="46" name="Oval 4"/>
            <p:cNvSpPr/>
            <p:nvPr/>
          </p:nvSpPr>
          <p:spPr>
            <a:xfrm>
              <a:off x="2411280" y="573408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7" name="Oval 5"/>
            <p:cNvSpPr/>
            <p:nvPr/>
          </p:nvSpPr>
          <p:spPr>
            <a:xfrm>
              <a:off x="3173400" y="57340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ic_222454"/>
          <p:cNvPicPr/>
          <p:nvPr/>
        </p:nvPicPr>
        <p:blipFill>
          <a:blip r:embed="rId1"/>
          <a:srcRect l="0" t="47189" r="0" b="0"/>
          <a:stretch/>
        </p:blipFill>
        <p:spPr>
          <a:xfrm>
            <a:off x="0" y="-316080"/>
            <a:ext cx="9144000" cy="73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755640" y="14842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395280" y="1890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、父亲说：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你们爱吃花生吗？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楷体_GB2312"/>
              </a:rPr>
              <a:t>“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250920" y="907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谁能把花生的好处说出来？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324000" y="1628640"/>
            <a:ext cx="835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、父亲说：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花生的好处很多，有一样最可贵，它的果实埋在地里，不像桃子、石榴、苹果那样把鲜红嫩绿的果实高高地挂在枝头上，使人一见就生爱慕之心。你们看它矮矮地长在地上，等到成熟了，也不能立刻分辨出来它有没有果实，必须挖起来才知道。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214200" y="5877000"/>
            <a:ext cx="89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、父亲说：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对。这是我对你们的希望。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395280" y="4724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、父亲接下去说：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所以你们要像花生，他虽然不好看，可是很有用。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971800" y="1125360"/>
            <a:ext cx="3616200" cy="468000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3"/>
          <p:cNvSpPr/>
          <p:nvPr/>
        </p:nvSpPr>
        <p:spPr>
          <a:xfrm>
            <a:off x="1187280" y="1628640"/>
            <a:ext cx="2210040" cy="1730520"/>
          </a:xfrm>
          <a:prstGeom prst="wedgeEllipseCallout">
            <a:avLst>
              <a:gd name="adj1" fmla="val 85342"/>
              <a:gd name="adj2" fmla="val 54310"/>
            </a:avLst>
          </a:prstGeom>
          <a:solidFill>
            <a:srgbClr val="0080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花生的味美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6727680" y="3789360"/>
            <a:ext cx="2416320" cy="1584360"/>
          </a:xfrm>
          <a:prstGeom prst="wedgeEllipseCallout">
            <a:avLst>
              <a:gd name="adj1" fmla="val -71615"/>
              <a:gd name="adj2" fmla="val -53708"/>
            </a:avLst>
          </a:pr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花生可以榨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AutoShape 5"/>
          <p:cNvSpPr/>
          <p:nvPr/>
        </p:nvSpPr>
        <p:spPr>
          <a:xfrm>
            <a:off x="0" y="4191120"/>
            <a:ext cx="3635280" cy="2117520"/>
          </a:xfrm>
          <a:prstGeom prst="wedgeEllipseCallout">
            <a:avLst>
              <a:gd name="adj1" fmla="val 49606"/>
              <a:gd name="adj2" fmla="val -47375"/>
            </a:avLst>
          </a:prstGeom>
          <a:solidFill>
            <a:srgbClr val="0080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花生的价钱便宜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谁都可以买来吃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都喜欢吃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这就是它的好处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5867280" y="765000"/>
            <a:ext cx="3276720" cy="1825920"/>
          </a:xfrm>
          <a:prstGeom prst="wedgeEllipseCallout">
            <a:avLst>
              <a:gd name="adj1" fmla="val -60708"/>
              <a:gd name="adj2" fmla="val 38087"/>
            </a:avLst>
          </a:prstGeom>
          <a:solidFill>
            <a:srgbClr val="0080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幼圆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谁能把花生的好处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说出来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755640" y="14842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1" name="Picture 3" descr="Dc8"/>
          <p:cNvPicPr/>
          <p:nvPr/>
        </p:nvPicPr>
        <p:blipFill>
          <a:blip r:embed="rId1"/>
          <a:stretch/>
        </p:blipFill>
        <p:spPr>
          <a:xfrm>
            <a:off x="250920" y="260280"/>
            <a:ext cx="2735280" cy="1936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14-14-59-966"/>
          <p:cNvPicPr/>
          <p:nvPr/>
        </p:nvPicPr>
        <p:blipFill>
          <a:blip r:embed="rId2"/>
          <a:stretch/>
        </p:blipFill>
        <p:spPr>
          <a:xfrm>
            <a:off x="3205080" y="260280"/>
            <a:ext cx="2806920" cy="1944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20051103132353435_4"/>
          <p:cNvPicPr/>
          <p:nvPr/>
        </p:nvPicPr>
        <p:blipFill>
          <a:blip r:embed="rId3"/>
          <a:stretch/>
        </p:blipFill>
        <p:spPr>
          <a:xfrm>
            <a:off x="6262560" y="260280"/>
            <a:ext cx="2630520" cy="1901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20046141113370"/>
          <p:cNvPicPr/>
          <p:nvPr/>
        </p:nvPicPr>
        <p:blipFill>
          <a:blip r:embed="rId4"/>
          <a:stretch/>
        </p:blipFill>
        <p:spPr>
          <a:xfrm>
            <a:off x="250920" y="2421000"/>
            <a:ext cx="5545080" cy="4159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100726"/>
          <p:cNvPicPr/>
          <p:nvPr/>
        </p:nvPicPr>
        <p:blipFill>
          <a:blip r:embed="rId5"/>
          <a:stretch/>
        </p:blipFill>
        <p:spPr>
          <a:xfrm>
            <a:off x="7524720" y="2492280"/>
            <a:ext cx="1365120" cy="1657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106462620050627233819"/>
          <p:cNvPicPr/>
          <p:nvPr/>
        </p:nvPicPr>
        <p:blipFill>
          <a:blip r:embed="rId6"/>
          <a:stretch/>
        </p:blipFill>
        <p:spPr>
          <a:xfrm>
            <a:off x="6372360" y="4551480"/>
            <a:ext cx="2520720" cy="2046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272189505220060819202032"/>
          <p:cNvPicPr/>
          <p:nvPr/>
        </p:nvPicPr>
        <p:blipFill>
          <a:blip r:embed="rId7"/>
          <a:stretch/>
        </p:blipFill>
        <p:spPr>
          <a:xfrm>
            <a:off x="5219640" y="2349360"/>
            <a:ext cx="208908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2"/>
          <p:cNvSpPr/>
          <p:nvPr/>
        </p:nvSpPr>
        <p:spPr>
          <a:xfrm>
            <a:off x="1042920" y="476280"/>
            <a:ext cx="7772400" cy="5943600"/>
          </a:xfrm>
          <a:prstGeom prst="wedgeRoundRectCallout">
            <a:avLst>
              <a:gd name="adj1" fmla="val -60333"/>
              <a:gd name="adj2" fmla="val 44282"/>
              <a:gd name="adj3" fmla="val 16667"/>
            </a:avLst>
          </a:prstGeom>
          <a:solidFill>
            <a:srgbClr val="578963">
              <a:alpha val="96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1258920" y="620640"/>
            <a:ext cx="748980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花生的好处很多，有一样最可贵，它的果实埋在地里，不像桃子、石榴、苹果那样把鲜红嫩绿的果实高高地挂在枝头上，使人一见就生爱慕之心。你们看它矮矮地长在地上，等到成熟了，也不能立刻分辨出来它有没有果实，必须挖起来才知道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684360" y="620640"/>
            <a:ext cx="8064360" cy="807120"/>
          </a:xfrm>
          <a:prstGeom prst="rect">
            <a:avLst/>
          </a:prstGeom>
          <a:noFill/>
          <a:ln w="190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生的好处很多，有一样最可贵，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它的果实埋在地里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不像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桃子、石榴、苹果那样把鲜红嫩绿的果实高高地挂在枝头上，使人一见就生爱慕之心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你们看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它矮矮地长在地上，等到成熟了，也不能立刻分辨出来它有没有果实，必须挖起来才知道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落花生树"/>
          <p:cNvPicPr/>
          <p:nvPr/>
        </p:nvPicPr>
        <p:blipFill>
          <a:blip r:embed="rId1"/>
          <a:stretch/>
        </p:blipFill>
        <p:spPr>
          <a:xfrm>
            <a:off x="4859280" y="3645000"/>
            <a:ext cx="3960720" cy="28810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3336840" y="2565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苹果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7780320" y="2556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桃子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7801200" y="5805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花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5" name="Picture 6" descr="zNLX08zY0LQx_jgcJKeA9fJV6"/>
          <p:cNvPicPr/>
          <p:nvPr/>
        </p:nvPicPr>
        <p:blipFill>
          <a:blip r:embed="rId2"/>
          <a:stretch/>
        </p:blipFill>
        <p:spPr>
          <a:xfrm>
            <a:off x="468360" y="331920"/>
            <a:ext cx="3960720" cy="2881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sl3"/>
          <p:cNvPicPr/>
          <p:nvPr/>
        </p:nvPicPr>
        <p:blipFill>
          <a:blip r:embed="rId3"/>
          <a:stretch/>
        </p:blipFill>
        <p:spPr>
          <a:xfrm>
            <a:off x="4859280" y="333360"/>
            <a:ext cx="3960720" cy="28796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8"/>
          <p:cNvSpPr/>
          <p:nvPr/>
        </p:nvSpPr>
        <p:spPr>
          <a:xfrm>
            <a:off x="3408480" y="2492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桃子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7801200" y="2421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石榴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9" name="Picture 10" descr="2006329110425516140"/>
          <p:cNvPicPr/>
          <p:nvPr/>
        </p:nvPicPr>
        <p:blipFill>
          <a:blip r:embed="rId4"/>
          <a:stretch/>
        </p:blipFill>
        <p:spPr>
          <a:xfrm>
            <a:off x="468360" y="3645000"/>
            <a:ext cx="3960720" cy="28796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1"/>
          <p:cNvSpPr/>
          <p:nvPr/>
        </p:nvSpPr>
        <p:spPr>
          <a:xfrm>
            <a:off x="3408480" y="5877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苹果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1" name="Picture 12" descr="SY01265_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623440" y="6281640"/>
            <a:ext cx="520560" cy="576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1:29:50Z</dcterms:created>
  <dc:creator>lixiaolong</dc:creator>
  <dc:description/>
  <dc:language>en-US</dc:language>
  <cp:lastModifiedBy>Administrator</cp:lastModifiedBy>
  <dcterms:modified xsi:type="dcterms:W3CDTF">2014-08-15T04:04:58Z</dcterms:modified>
  <cp:revision>32</cp:revision>
  <dc:subject/>
  <dc:title>PowerPoint 演示文稿</dc:title>
</cp:coreProperties>
</file>