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breeze.wav" ContentType="audio/x-wav"/>
  <Override PartName="/ppt/media/image3.png" ContentType="image/png"/>
  <Override PartName="/ppt/media/laser.wav" ContentType="audio/x-wav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E8B-9F3D-4C9D-84B8-DDE97BFB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B63-DEAE-4226-BB0D-1F460C25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110-78F2-4D9E-91A2-39FBBFCC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501-FB9A-48AB-85FC-50AE3A53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5708-3625-4678-AC45-6AC1BA05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9DCC-0E0A-4E2C-B52E-232E141B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EFA6-704A-4F40-B8E5-69F67530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275B-65E2-424F-9890-33F6785A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8CBA-8D67-4E88-ACB2-0C9C61F7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4159-C072-4752-94FF-8BD9DB32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2790-C9F9-427E-A17C-2D8E7D89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C62D-FF06-4B16-9DF7-B36A45E3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CA92-F9B7-4101-B6A6-FE38EA8B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8BB1-28EF-44DE-AB4B-CACDD36A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59C0-A207-4A7B-A6B9-A1A0439C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A13D-A265-4480-9A7E-4C65752F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5E1C-70B5-4CE9-AF26-E233900B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BE4-A706-41DD-893F-604F9CAC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73F-D5A1-4584-BD12-B1DCF8C5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30C-1788-4A59-A9C1-8A151758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F71-E715-4C66-9289-8B64DC3D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014E-49FF-4747-9E36-80DAD6E4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23D-81BE-4BC7-A2C8-EBF177A6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AD5-5177-4DD1-AE4F-7608C99E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60CF-7C84-4AF0-8CAF-C9AED27E452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E245-61DB-4FE0-8B77-7128DB7617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7019-3B79-4475-800F-3B5937D95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25171;&#23383;&#26426;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25171;&#23383;&#26426;" TargetMode="External"/><Relationship Id="rId2" Type="http://schemas.openxmlformats.org/officeDocument/2006/relationships/image" Target="../media/image8.png"/><Relationship Id="rId3" Type="http://schemas.openxmlformats.org/officeDocument/2006/relationships/hyperlink" Target="file:///tmp/home/.config/libreoffice/4/user/gallery/&#25171;&#23383;&#26426;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25171;&#23383;&#26426;" TargetMode="External"/><Relationship Id="rId2" Type="http://schemas.openxmlformats.org/officeDocument/2006/relationships/image" Target="../media/image8.png"/><Relationship Id="rId3" Type="http://schemas.openxmlformats.org/officeDocument/2006/relationships/hyperlink" Target="file:///tmp/home/.config/libreoffice/4/user/gallery/&#25171;&#23383;&#26426;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25171;&#23383;&#26426;" TargetMode="External"/><Relationship Id="rId2" Type="http://schemas.openxmlformats.org/officeDocument/2006/relationships/image" Target="../media/image8.png"/><Relationship Id="rId3" Type="http://schemas.openxmlformats.org/officeDocument/2006/relationships/hyperlink" Target="file:///tmp/home/.config/libreoffice/4/user/gallery/&#25171;&#23383;&#26426;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25171;&#23383;&#26426;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240" y="68400"/>
            <a:ext cx="9527040" cy="6780240"/>
            <a:chOff x="3240" y="68400"/>
            <a:chExt cx="9527040" cy="6780240"/>
          </a:xfrm>
        </p:grpSpPr>
        <p:sp>
          <p:nvSpPr>
            <p:cNvPr id="83" name="矩形 21"/>
            <p:cNvSpPr/>
            <p:nvPr/>
          </p:nvSpPr>
          <p:spPr>
            <a:xfrm>
              <a:off x="3240" y="3259800"/>
              <a:ext cx="9146880" cy="3588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弦形 25"/>
            <p:cNvSpPr/>
            <p:nvPr/>
          </p:nvSpPr>
          <p:spPr>
            <a:xfrm rot="120000">
              <a:off x="8746920" y="2882880"/>
              <a:ext cx="770040" cy="77004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1212" h="1212">
                  <a:moveTo>
                    <a:pt x="646" y="1210"/>
                  </a:moveTo>
                  <a:lnTo>
                    <a:pt x="646" y="1211"/>
                  </a:lnTo>
                  <a:arcTo wR="606" hR="606" stAng="5172667" swAng="11027333"/>
                  <a:close/>
                </a:path>
              </a:pathLst>
            </a:custGeom>
            <a:solidFill>
              <a:srgbClr val="9537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弦形 26"/>
            <p:cNvSpPr/>
            <p:nvPr/>
          </p:nvSpPr>
          <p:spPr>
            <a:xfrm rot="120000">
              <a:off x="8933760" y="3063600"/>
              <a:ext cx="411120" cy="41148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647" h="647">
                  <a:moveTo>
                    <a:pt x="345" y="646"/>
                  </a:moveTo>
                  <a:lnTo>
                    <a:pt x="345" y="646"/>
                  </a:lnTo>
                  <a:arcTo wR="323" hR="323" stAng="5176116" swAng="11023884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2523960" y="92520"/>
              <a:ext cx="6649920" cy="6643080"/>
              <a:chOff x="2523960" y="92520"/>
              <a:chExt cx="6649920" cy="6643080"/>
            </a:xfrm>
          </p:grpSpPr>
          <p:sp>
            <p:nvSpPr>
              <p:cNvPr id="87" name=""/>
              <p:cNvSpPr/>
              <p:nvPr/>
            </p:nvSpPr>
            <p:spPr>
              <a:xfrm>
                <a:off x="5217480" y="5544360"/>
                <a:ext cx="3956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ff9933"/>
                    </a:solidFill>
                    <a:latin typeface="Arial"/>
                    <a:ea typeface="楷体"/>
                  </a:rPr>
                  <a:t>好书推荐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523960" y="92520"/>
                <a:ext cx="313488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"/>
                    <a:ea typeface="微软雅黑"/>
                  </a:rPr>
                  <a:t>龚天翔  五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"/>
                    <a:ea typeface="微软雅黑"/>
                  </a:rPr>
                  <a:t>6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"/>
                    <a:ea typeface="微软雅黑"/>
                  </a:rPr>
                  <a:t>）班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"/>
                    <a:ea typeface="微软雅黑"/>
                  </a:rPr>
                  <a:t>49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"/>
                    <a:ea typeface="微软雅黑"/>
                  </a:rPr>
                  <a:t>号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808360" y="3295080"/>
                <a:ext cx="2910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4f81bd"/>
                    </a:solidFill>
                    <a:latin typeface="黑体"/>
                    <a:ea typeface="黑体"/>
                  </a:rPr>
                  <a:t>老舍 作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65680" y="2181600"/>
                <a:ext cx="47937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ffcc00"/>
                    </a:solidFill>
                    <a:latin typeface="Arial"/>
                    <a:ea typeface="黑体"/>
                  </a:rPr>
                  <a:t>《骆驼祥子》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282440" y="68400"/>
              <a:ext cx="1767600" cy="2191680"/>
              <a:chOff x="7282440" y="68400"/>
              <a:chExt cx="1767600" cy="2191680"/>
            </a:xfrm>
          </p:grpSpPr>
          <p:pic>
            <p:nvPicPr>
              <p:cNvPr id="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317720" y="96840"/>
                <a:ext cx="1710360" cy="213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7282440" y="68400"/>
                <a:ext cx="1767600" cy="2191680"/>
              </a:xfrm>
              <a:prstGeom prst="rect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947520" y="0"/>
            <a:ext cx="1148400" cy="6858000"/>
            <a:chOff x="947520" y="0"/>
            <a:chExt cx="1148400" cy="6858000"/>
          </a:xfrm>
        </p:grpSpPr>
        <p:sp>
          <p:nvSpPr>
            <p:cNvPr id="95" name="矩形 7"/>
            <p:cNvSpPr/>
            <p:nvPr/>
          </p:nvSpPr>
          <p:spPr>
            <a:xfrm>
              <a:off x="1217520" y="0"/>
              <a:ext cx="610560" cy="6858000"/>
            </a:xfrm>
            <a:prstGeom prst="rect">
              <a:avLst/>
            </a:prstGeom>
            <a:solidFill>
              <a:srgbClr val="974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0"/>
            <p:cNvSpPr/>
            <p:nvPr/>
          </p:nvSpPr>
          <p:spPr>
            <a:xfrm>
              <a:off x="947520" y="1404720"/>
              <a:ext cx="114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P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rof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-783000" y="0"/>
            <a:ext cx="3391560" cy="6858000"/>
            <a:chOff x="-783000" y="0"/>
            <a:chExt cx="3391560" cy="6858000"/>
          </a:xfrm>
        </p:grpSpPr>
        <p:sp>
          <p:nvSpPr>
            <p:cNvPr id="98" name="矩形 6"/>
            <p:cNvSpPr/>
            <p:nvPr/>
          </p:nvSpPr>
          <p:spPr>
            <a:xfrm>
              <a:off x="610200" y="0"/>
              <a:ext cx="612000" cy="6858000"/>
            </a:xfrm>
            <a:prstGeom prst="rect">
              <a:avLst/>
            </a:pr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1"/>
            <p:cNvSpPr/>
            <p:nvPr/>
          </p:nvSpPr>
          <p:spPr>
            <a:xfrm>
              <a:off x="-783000" y="2421000"/>
              <a:ext cx="339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L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nfluence of Nov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-1110600" y="0"/>
            <a:ext cx="2832480" cy="6858000"/>
            <a:chOff x="-1110600" y="0"/>
            <a:chExt cx="2832480" cy="6858000"/>
          </a:xfrm>
        </p:grpSpPr>
        <p:sp>
          <p:nvSpPr>
            <p:cNvPr id="101" name="矩形 5"/>
            <p:cNvSpPr/>
            <p:nvPr/>
          </p:nvSpPr>
          <p:spPr>
            <a:xfrm>
              <a:off x="3960" y="0"/>
              <a:ext cx="607320" cy="68580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12"/>
            <p:cNvSpPr/>
            <p:nvPr/>
          </p:nvSpPr>
          <p:spPr>
            <a:xfrm>
              <a:off x="-1110600" y="3748320"/>
              <a:ext cx="283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ICTURE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FO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822320" y="0"/>
            <a:ext cx="628920" cy="6858000"/>
            <a:chOff x="1822320" y="0"/>
            <a:chExt cx="628920" cy="6858000"/>
          </a:xfrm>
        </p:grpSpPr>
        <p:grpSp>
          <p:nvGrpSpPr>
            <p:cNvPr id="104" name=""/>
            <p:cNvGrpSpPr/>
            <p:nvPr/>
          </p:nvGrpSpPr>
          <p:grpSpPr>
            <a:xfrm>
              <a:off x="1822320" y="0"/>
              <a:ext cx="628920" cy="6858000"/>
              <a:chOff x="1822320" y="0"/>
              <a:chExt cx="628920" cy="6858000"/>
            </a:xfrm>
          </p:grpSpPr>
          <p:sp>
            <p:nvSpPr>
              <p:cNvPr id="105" name="矩形 8"/>
              <p:cNvSpPr/>
              <p:nvPr/>
            </p:nvSpPr>
            <p:spPr>
              <a:xfrm>
                <a:off x="1822320" y="0"/>
                <a:ext cx="612360" cy="6858000"/>
              </a:xfrm>
              <a:prstGeom prst="rect">
                <a:avLst/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Box 9"/>
              <p:cNvSpPr/>
              <p:nvPr/>
            </p:nvSpPr>
            <p:spPr>
              <a:xfrm>
                <a:off x="1834920" y="44280"/>
                <a:ext cx="616320" cy="242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rot="-54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830960" y="415800"/>
              <a:ext cx="606960" cy="33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uthor int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3122640" y="1130400"/>
            <a:ext cx="33782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楷体"/>
              </a:rPr>
              <a:t>主要内容：老北京人力</a:t>
            </a:r>
            <a:endParaRPr b="0" lang="en-US" sz="28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楷体"/>
              <a:ea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楷体"/>
              </a:rPr>
              <a:t>车夫的辛酸悲剧故事引</a:t>
            </a:r>
            <a:endParaRPr b="0" lang="en-US" sz="28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  <p:transition>
    <p:wheel spokes="2"/>
    <p:sndAc>
      <p:stSnd>
        <p:snd r:embed="rId7" name="las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-92160" y="-33480"/>
            <a:ext cx="9239400" cy="6891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999880" y="2013480"/>
            <a:ext cx="3207960" cy="2209320"/>
            <a:chOff x="2999880" y="2013480"/>
            <a:chExt cx="3207960" cy="2209320"/>
          </a:xfrm>
        </p:grpSpPr>
        <p:sp>
          <p:nvSpPr>
            <p:cNvPr id="265" name=""/>
            <p:cNvSpPr/>
            <p:nvPr/>
          </p:nvSpPr>
          <p:spPr>
            <a:xfrm rot="21180000">
              <a:off x="3060720" y="2197080"/>
              <a:ext cx="3085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cc0000"/>
                  </a:solidFill>
                  <a:latin typeface="Segoe Script"/>
                  <a:ea typeface="微软雅黑"/>
                </a:rPr>
                <a:t>[</a:t>
              </a:r>
              <a:r>
                <a:rPr b="1" lang="en-US" sz="6600" spc="-1" strike="noStrike">
                  <a:solidFill>
                    <a:srgbClr val="cc0000"/>
                  </a:solidFill>
                  <a:latin typeface="Segoe Script"/>
                  <a:ea typeface="微软雅黑"/>
                </a:rPr>
                <a:t>END</a:t>
              </a:r>
              <a:r>
                <a:rPr b="1" lang="en-US" sz="7200" spc="-1" strike="noStrike">
                  <a:solidFill>
                    <a:srgbClr val="cc0000"/>
                  </a:solidFill>
                  <a:latin typeface="Segoe Script"/>
                  <a:ea typeface="微软雅黑"/>
                </a:rPr>
                <a:t>]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0000">
              <a:off x="3855240" y="3659400"/>
              <a:ext cx="164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Segoe Script"/>
                  <a:ea typeface="楷体"/>
                </a:rPr>
                <a:t>谢谢观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908000" y="166680"/>
            <a:ext cx="6480000" cy="6588360"/>
            <a:chOff x="1908000" y="166680"/>
            <a:chExt cx="6480000" cy="6588360"/>
          </a:xfrm>
        </p:grpSpPr>
        <p:grpSp>
          <p:nvGrpSpPr>
            <p:cNvPr id="110" name=""/>
            <p:cNvGrpSpPr/>
            <p:nvPr/>
          </p:nvGrpSpPr>
          <p:grpSpPr>
            <a:xfrm>
              <a:off x="1908000" y="2918880"/>
              <a:ext cx="1988640" cy="3836160"/>
              <a:chOff x="1908000" y="2918880"/>
              <a:chExt cx="1988640" cy="3836160"/>
            </a:xfrm>
          </p:grpSpPr>
          <p:pic>
            <p:nvPicPr>
              <p:cNvPr id="1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0680" y="2945160"/>
                <a:ext cx="1965960" cy="294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1908000" y="2918880"/>
                <a:ext cx="1988640" cy="2954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174400" y="5929920"/>
                <a:ext cx="1464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Arial"/>
                    <a:ea typeface="楷体"/>
                  </a:rPr>
                  <a:t>老舍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039920" y="166680"/>
              <a:ext cx="4348080" cy="1619280"/>
            </a:xfrm>
            <a:prstGeom prst="rect">
              <a:avLst/>
            </a:prstGeom>
            <a:gradFill rotWithShape="0">
              <a:gsLst>
                <a:gs pos="0">
                  <a:srgbClr val="0099ff">
                    <a:alpha val="41176"/>
                  </a:srgbClr>
                </a:gs>
                <a:gs pos="100000">
                  <a:srgbClr val="33ccff">
                    <a:alpha val="55294"/>
                  </a:srgbClr>
                </a:gs>
              </a:gsLst>
              <a:lin ang="5400000"/>
            </a:gra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老舍，本名舒庆春，字舍予，北京满族正红旗人，原姓舒舒觉罗氏，中国现代著名小说家、文学家、戏剧家，代表作：《茶馆》《骆驼祥子》《四世同堂》、《龙须沟》。文革期间受到迫害，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1966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日深夜，老舍含冤自沉于北京西北的太平湖畔，终年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岁。老舍一生共写了约计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余万字的作品，被称为“人民艺术家”。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1924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年夏应聘到英国伦敦大学东方学院当中文讲师。在英期间开始文学创作。长篇小说《老张的哲学》是第一部作品，由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1926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月起在《小说月报》杂志连载，立刻震动文坛。以后陆续发表了长篇小说《赵子曰》和《二马》。奠定了老舍作为新文学开拓者之一的地位。他的作品大都取材于市民生活，为中国现代文学开拓了重要的题材领域。他所描写的自然风光、世态人情、习俗时尚，运用的群众口语，都呈现出浓郁的“京味”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945080" y="636480"/>
              <a:ext cx="1989720" cy="1755720"/>
              <a:chOff x="1945080" y="636480"/>
              <a:chExt cx="1989720" cy="1755720"/>
            </a:xfrm>
          </p:grpSpPr>
          <p:sp>
            <p:nvSpPr>
              <p:cNvPr id="116" name=""/>
              <p:cNvSpPr/>
              <p:nvPr/>
            </p:nvSpPr>
            <p:spPr>
              <a:xfrm>
                <a:off x="1945080" y="636480"/>
                <a:ext cx="19897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9933"/>
                    </a:solidFill>
                    <a:latin typeface="Comic Sans MS"/>
                    <a:ea typeface="宋体"/>
                  </a:rPr>
                  <a:t>   </a:t>
                </a:r>
                <a:r>
                  <a:rPr b="1" lang="zh-CN" sz="2400" spc="-1" strike="noStrike">
                    <a:solidFill>
                      <a:srgbClr val="ff9933"/>
                    </a:solidFill>
                    <a:latin typeface="Comic Sans MS"/>
                  </a:rPr>
                  <a:t>Author </a:t>
                </a:r>
                <a:r>
                  <a:rPr b="1" lang="zh-CN" sz="2400" spc="-1" strike="noStrike">
                    <a:solidFill>
                      <a:srgbClr val="ff9933"/>
                    </a:solidFill>
                    <a:latin typeface="Comic Sans MS"/>
                    <a:ea typeface="宋体"/>
                  </a:rPr>
                  <a:t>  </a:t>
                </a:r>
                <a:r>
                  <a:rPr b="1" lang="zh-CN" sz="2400" spc="-1" strike="noStrike">
                    <a:solidFill>
                      <a:srgbClr val="ff9933"/>
                    </a:solidFill>
                    <a:latin typeface="Comic Sans MS"/>
                  </a:rPr>
                  <a:t>introduc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2486880" y="1484640"/>
                <a:ext cx="758520" cy="907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38160" dir="0" blurRad="0" rotWithShape="0">
                        <a:srgbClr val="9999ff"/>
                      </a:outerShdw>
                    </a:effectLst>
                    <a:latin typeface="黑体"/>
                  </a:rPr>
                  <a:t>作者</a:t>
                </a:r>
                <a:endParaRPr b="1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38160" dir="0" blurRad="0" rotWithShape="0">
                      <a:srgbClr val="9999ff"/>
                    </a:outerShdw>
                  </a:effectLst>
                  <a:latin typeface="黑体"/>
                  <a:ea typeface="黑体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38160" dir="0" blurRad="0" rotWithShape="0">
                        <a:srgbClr val="9999ff"/>
                      </a:outerShdw>
                    </a:effectLst>
                    <a:latin typeface="黑体"/>
                  </a:rPr>
                  <a:t>介绍</a:t>
                </a:r>
                <a:endParaRPr b="1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38160" dir="0" blurRad="0" rotWithShape="0">
                      <a:srgbClr val="9999ff"/>
                    </a:outerShdw>
                  </a:effectLst>
                  <a:latin typeface="黑体"/>
                  <a:ea typeface="黑体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414720" y="0"/>
            <a:ext cx="3457080" cy="6858000"/>
            <a:chOff x="414720" y="0"/>
            <a:chExt cx="3457080" cy="6858000"/>
          </a:xfrm>
        </p:grpSpPr>
        <p:sp>
          <p:nvSpPr>
            <p:cNvPr id="119" name="矩形 8"/>
            <p:cNvSpPr/>
            <p:nvPr/>
          </p:nvSpPr>
          <p:spPr>
            <a:xfrm>
              <a:off x="1822320" y="0"/>
              <a:ext cx="612360" cy="6858000"/>
            </a:xfrm>
            <a:prstGeom prst="rect">
              <a:avLst/>
            </a:pr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9"/>
            <p:cNvSpPr/>
            <p:nvPr/>
          </p:nvSpPr>
          <p:spPr>
            <a:xfrm>
              <a:off x="414720" y="44280"/>
              <a:ext cx="345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Author int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947520" y="0"/>
            <a:ext cx="1148400" cy="6858000"/>
            <a:chOff x="947520" y="0"/>
            <a:chExt cx="1148400" cy="6858000"/>
          </a:xfrm>
        </p:grpSpPr>
        <p:sp>
          <p:nvSpPr>
            <p:cNvPr id="122" name="矩形 7"/>
            <p:cNvSpPr/>
            <p:nvPr/>
          </p:nvSpPr>
          <p:spPr>
            <a:xfrm>
              <a:off x="1217520" y="0"/>
              <a:ext cx="610560" cy="6858000"/>
            </a:xfrm>
            <a:prstGeom prst="rect">
              <a:avLst/>
            </a:prstGeom>
            <a:solidFill>
              <a:srgbClr val="974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10"/>
            <p:cNvSpPr/>
            <p:nvPr/>
          </p:nvSpPr>
          <p:spPr>
            <a:xfrm>
              <a:off x="947520" y="1404720"/>
              <a:ext cx="114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P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rof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-559080" y="0"/>
            <a:ext cx="2943720" cy="6858000"/>
            <a:chOff x="-559080" y="0"/>
            <a:chExt cx="2943720" cy="6858000"/>
          </a:xfrm>
        </p:grpSpPr>
        <p:sp>
          <p:nvSpPr>
            <p:cNvPr id="125" name="矩形 6"/>
            <p:cNvSpPr/>
            <p:nvPr/>
          </p:nvSpPr>
          <p:spPr>
            <a:xfrm>
              <a:off x="610200" y="0"/>
              <a:ext cx="612000" cy="6858000"/>
            </a:xfrm>
            <a:prstGeom prst="rect">
              <a:avLst/>
            </a:pr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11"/>
            <p:cNvSpPr/>
            <p:nvPr/>
          </p:nvSpPr>
          <p:spPr>
            <a:xfrm>
              <a:off x="-559080" y="2421000"/>
              <a:ext cx="29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ICTURE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HRE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-1110600" y="0"/>
            <a:ext cx="2832480" cy="6858000"/>
            <a:chOff x="-1110600" y="0"/>
            <a:chExt cx="2832480" cy="6858000"/>
          </a:xfrm>
        </p:grpSpPr>
        <p:sp>
          <p:nvSpPr>
            <p:cNvPr id="128" name="矩形 5"/>
            <p:cNvSpPr/>
            <p:nvPr/>
          </p:nvSpPr>
          <p:spPr>
            <a:xfrm>
              <a:off x="3960" y="0"/>
              <a:ext cx="607320" cy="68580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2"/>
            <p:cNvSpPr/>
            <p:nvPr/>
          </p:nvSpPr>
          <p:spPr>
            <a:xfrm>
              <a:off x="-1110600" y="3748320"/>
              <a:ext cx="283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ICTURE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FO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 rot="120000">
            <a:off x="3086280" y="4150800"/>
            <a:ext cx="61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 L 0.73403 0 E">
                                      <p:cBhvr>
                                        <p:cTn id="22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rcRect l="37207" t="2700" r="34637" b="71919"/>
          <a:stretch/>
        </p:blipFill>
        <p:spPr>
          <a:xfrm>
            <a:off x="1473120" y="47520"/>
            <a:ext cx="892080" cy="806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013280" y="85680"/>
            <a:ext cx="18288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Microsoft JhengHei"/>
              </a:rPr>
              <a:t>人物简介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Microsoft JhengHei"/>
              <a:ea typeface="Microsoft JhengHei"/>
            </a:endParaRPr>
          </a:p>
        </p:txBody>
      </p:sp>
      <p:sp>
        <p:nvSpPr>
          <p:cNvPr id="133" name=""/>
          <p:cNvSpPr/>
          <p:nvPr/>
        </p:nvSpPr>
        <p:spPr>
          <a:xfrm>
            <a:off x="2392200" y="590400"/>
            <a:ext cx="543564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265800" y="1511280"/>
            <a:ext cx="1465200" cy="2112840"/>
            <a:chOff x="6265800" y="1511280"/>
            <a:chExt cx="1465200" cy="2112840"/>
          </a:xfrm>
        </p:grpSpPr>
        <p:sp>
          <p:nvSpPr>
            <p:cNvPr id="135" name=""/>
            <p:cNvSpPr/>
            <p:nvPr/>
          </p:nvSpPr>
          <p:spPr>
            <a:xfrm>
              <a:off x="6265800" y="1511640"/>
              <a:ext cx="1465200" cy="2112480"/>
            </a:xfrm>
            <a:prstGeom prst="rect">
              <a:avLst/>
            </a:prstGeom>
            <a:gradFill rotWithShape="0">
              <a:gsLst>
                <a:gs pos="0">
                  <a:srgbClr val="66ccff">
                    <a:alpha val="0"/>
                  </a:srgbClr>
                </a:gs>
                <a:gs pos="100000">
                  <a:srgbClr val="66ccff">
                    <a:alpha val="3215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6341760" y="1511280"/>
              <a:ext cx="1380240" cy="209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 txBox="1"/>
          <p:nvPr/>
        </p:nvSpPr>
        <p:spPr>
          <a:xfrm>
            <a:off x="6135840" y="716040"/>
            <a:ext cx="180468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仿宋"/>
              </a:rPr>
              <a:t>祥子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仿宋"/>
              <a:ea typeface="仿宋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32000" y="714240"/>
            <a:ext cx="6786360" cy="3945600"/>
            <a:chOff x="1332000" y="714240"/>
            <a:chExt cx="6786360" cy="3945600"/>
          </a:xfrm>
        </p:grpSpPr>
        <p:sp>
          <p:nvSpPr>
            <p:cNvPr id="139" name=""/>
            <p:cNvSpPr/>
            <p:nvPr/>
          </p:nvSpPr>
          <p:spPr>
            <a:xfrm>
              <a:off x="1373040" y="714240"/>
              <a:ext cx="493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祥子是老舍的《骆驼祥子》的主人公。祥子来自农村，在他拉上租来的洋车以后，立志买一辆车自己拉，做一个独立的劳动者，但这个愿望在经过多次挫折以后，终于完全破灭。他丧失了对于生活任何企求和信心，从上进好强而沦为自甘堕落：原来那个正直善良的祥子，被生活的磨盘辗得粉碎，最后好胜心强的祥子在绝望中走向毁灭，终于被那吃人的社会吞没了，他的性格从起初的老实、健壮、坚忍、自尊好强、吃苦耐劳到最后麻木、潦倒、狡猾、好占便宜、自暴自弃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32000" y="3468600"/>
              <a:ext cx="678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              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他的人生三起三落：一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积极、向上、要强→来到北平当人力车夫，苦干三年，凑足一百块钱，买了辆新车。→自信、对生活充满希望；一落：有一次连人带车被宪兵抓去当壮丁。理想第一次破灭。→第一次感到不公、对生活仍是满满的希望、绝不服输；二起：把骆驼卖了，在曹先生家拉包月，省吃俭用攒钱准备买新车。→抱有希望、感到温暖和亲切；二落：干包月时，在一次搜捕中，祥子辛苦攒的钱也被孙侦探敲诈去，第二次希望破灭。→惶恐无助、陷入迷茫、麻木、认命；三起：虎妞以低价给祥子买了邻居二强子的车，祥子又有车了。→为能有自己的车而高兴。三落：为了置办虎妞的丧事，祥子又卖掉了车。→混混度日、彻底堕落、失去任何希望。他的命运三部曲是“精进向上－－不甘失败－－自甘堕落”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947520" y="0"/>
            <a:ext cx="1148400" cy="6858000"/>
            <a:chOff x="947520" y="0"/>
            <a:chExt cx="1148400" cy="6858000"/>
          </a:xfrm>
        </p:grpSpPr>
        <p:sp>
          <p:nvSpPr>
            <p:cNvPr id="142" name="矩形 7"/>
            <p:cNvSpPr/>
            <p:nvPr/>
          </p:nvSpPr>
          <p:spPr>
            <a:xfrm>
              <a:off x="1217520" y="0"/>
              <a:ext cx="610560" cy="6858000"/>
            </a:xfrm>
            <a:prstGeom prst="rect">
              <a:avLst/>
            </a:prstGeom>
            <a:solidFill>
              <a:srgbClr val="974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10"/>
            <p:cNvSpPr/>
            <p:nvPr/>
          </p:nvSpPr>
          <p:spPr>
            <a:xfrm>
              <a:off x="947520" y="1404720"/>
              <a:ext cx="114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P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rof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-783000" y="0"/>
            <a:ext cx="3391560" cy="6858000"/>
            <a:chOff x="-783000" y="0"/>
            <a:chExt cx="3391560" cy="6858000"/>
          </a:xfrm>
        </p:grpSpPr>
        <p:sp>
          <p:nvSpPr>
            <p:cNvPr id="145" name="矩形 6"/>
            <p:cNvSpPr/>
            <p:nvPr/>
          </p:nvSpPr>
          <p:spPr>
            <a:xfrm>
              <a:off x="610200" y="0"/>
              <a:ext cx="612000" cy="6858000"/>
            </a:xfrm>
            <a:prstGeom prst="rect">
              <a:avLst/>
            </a:pr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1"/>
            <p:cNvSpPr/>
            <p:nvPr/>
          </p:nvSpPr>
          <p:spPr>
            <a:xfrm>
              <a:off x="-783000" y="2421000"/>
              <a:ext cx="339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L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nfluence of Nov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-1110600" y="0"/>
            <a:ext cx="2832480" cy="6858000"/>
            <a:chOff x="-1110600" y="0"/>
            <a:chExt cx="2832480" cy="6858000"/>
          </a:xfrm>
        </p:grpSpPr>
        <p:sp>
          <p:nvSpPr>
            <p:cNvPr id="148" name="矩形 5"/>
            <p:cNvSpPr/>
            <p:nvPr/>
          </p:nvSpPr>
          <p:spPr>
            <a:xfrm>
              <a:off x="3960" y="0"/>
              <a:ext cx="607320" cy="68580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12"/>
            <p:cNvSpPr/>
            <p:nvPr/>
          </p:nvSpPr>
          <p:spPr>
            <a:xfrm>
              <a:off x="-1110600" y="3748320"/>
              <a:ext cx="283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ICTURE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FO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131960" y="0"/>
            <a:ext cx="3457080" cy="6858000"/>
            <a:chOff x="7131960" y="0"/>
            <a:chExt cx="3457080" cy="6858000"/>
          </a:xfrm>
        </p:grpSpPr>
        <p:sp>
          <p:nvSpPr>
            <p:cNvPr id="151" name="矩形 24"/>
            <p:cNvSpPr/>
            <p:nvPr/>
          </p:nvSpPr>
          <p:spPr>
            <a:xfrm>
              <a:off x="8540640" y="0"/>
              <a:ext cx="610560" cy="6858000"/>
            </a:xfrm>
            <a:prstGeom prst="rect">
              <a:avLst/>
            </a:pr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25"/>
            <p:cNvSpPr/>
            <p:nvPr/>
          </p:nvSpPr>
          <p:spPr>
            <a:xfrm>
              <a:off x="7131960" y="44280"/>
              <a:ext cx="34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Author int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28604E-006 L 0.73438 -4.28604E-006 E">
                                      <p:cBhvr>
                                        <p:cTn id="31" dur="3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63760" y="1633680"/>
            <a:ext cx="61754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刘四爷，是快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岁的人了，只有一个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37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岁的女儿叫虎妞。虎妞长得虎头虎脑，像个男人一样。刘四爷很喜欢祥子的勤快，虎妞更喜爱这个傻大个儿的憨厚可靠。祥子把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元钱交给刘四爷保管，希望攒满后再买一辆车。改良办起了车场。他性格刚强，从不肯在外场失面子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他这辈子最大的遗憾是没有一个儿子来接自己的班，女儿虽能干但毕竟是女儿。由于女儿中年了还未出嫁，觉着对不起她，平日里也挺让着她，但却不愿自己辛辛苦苦挣得的家产遂着女儿一起给了祥子。于是断绝了与女儿的关系，最后连女儿的坟也不知道在哪儿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封建的思想使他忘记了亲情，当他醒悟过来是已为时过晚，当祥子将他赶下车，一个人久久的立在那儿的时候，他真正感到了孤独，真正感到了自己除了钱以外什么也没有了，甚至连女儿的坟也不能看上一眼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260360" y="25560"/>
            <a:ext cx="1230120" cy="1510920"/>
            <a:chOff x="1260360" y="25560"/>
            <a:chExt cx="1230120" cy="1510920"/>
          </a:xfrm>
        </p:grpSpPr>
        <p:pic>
          <p:nvPicPr>
            <p:cNvPr id="155" name="" descr="">
              <a:hlinkClick r:id="" action="ppaction://hlinkshowjump?jump=previousslide"/>
              <a:hlinkClick r:id="rId1"/>
            </p:cNvPr>
            <p:cNvPicPr/>
            <p:nvPr/>
          </p:nvPicPr>
          <p:blipFill>
            <a:blip r:embed="rId2"/>
            <a:srcRect l="907" t="31299" r="74511" b="42780"/>
            <a:stretch/>
          </p:blipFill>
          <p:spPr>
            <a:xfrm>
              <a:off x="1790280" y="25560"/>
              <a:ext cx="700200" cy="73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>
              <a:hlinkClick r:id="" action="ppaction://hlinkshowjump?jump=nextslide"/>
              <a:hlinkClick r:id="rId3"/>
            </p:cNvPr>
            <p:cNvPicPr/>
            <p:nvPr/>
          </p:nvPicPr>
          <p:blipFill>
            <a:blip r:embed="rId4"/>
            <a:srcRect l="37207" t="2700" r="34637" b="71919"/>
            <a:stretch/>
          </p:blipFill>
          <p:spPr>
            <a:xfrm>
              <a:off x="1260360" y="730440"/>
              <a:ext cx="893160" cy="80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"/>
          <p:cNvGrpSpPr/>
          <p:nvPr/>
        </p:nvGrpSpPr>
        <p:grpSpPr>
          <a:xfrm>
            <a:off x="947520" y="0"/>
            <a:ext cx="1148400" cy="6858000"/>
            <a:chOff x="947520" y="0"/>
            <a:chExt cx="1148400" cy="6858000"/>
          </a:xfrm>
        </p:grpSpPr>
        <p:sp>
          <p:nvSpPr>
            <p:cNvPr id="158" name="矩形 7"/>
            <p:cNvSpPr/>
            <p:nvPr/>
          </p:nvSpPr>
          <p:spPr>
            <a:xfrm>
              <a:off x="1217520" y="0"/>
              <a:ext cx="610560" cy="6858000"/>
            </a:xfrm>
            <a:prstGeom prst="rect">
              <a:avLst/>
            </a:prstGeom>
            <a:solidFill>
              <a:srgbClr val="974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0"/>
            <p:cNvSpPr/>
            <p:nvPr/>
          </p:nvSpPr>
          <p:spPr>
            <a:xfrm>
              <a:off x="947520" y="1404720"/>
              <a:ext cx="114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P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rof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-783000" y="0"/>
            <a:ext cx="3391560" cy="6858000"/>
            <a:chOff x="-783000" y="0"/>
            <a:chExt cx="3391560" cy="6858000"/>
          </a:xfrm>
        </p:grpSpPr>
        <p:sp>
          <p:nvSpPr>
            <p:cNvPr id="161" name="矩形 6"/>
            <p:cNvSpPr/>
            <p:nvPr/>
          </p:nvSpPr>
          <p:spPr>
            <a:xfrm>
              <a:off x="610200" y="0"/>
              <a:ext cx="612000" cy="6858000"/>
            </a:xfrm>
            <a:prstGeom prst="rect">
              <a:avLst/>
            </a:pr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11"/>
            <p:cNvSpPr/>
            <p:nvPr/>
          </p:nvSpPr>
          <p:spPr>
            <a:xfrm>
              <a:off x="-783000" y="2421000"/>
              <a:ext cx="339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L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nfluence of Nov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-1110600" y="0"/>
            <a:ext cx="2832480" cy="6858000"/>
            <a:chOff x="-1110600" y="0"/>
            <a:chExt cx="2832480" cy="6858000"/>
          </a:xfrm>
        </p:grpSpPr>
        <p:sp>
          <p:nvSpPr>
            <p:cNvPr id="164" name="矩形 5"/>
            <p:cNvSpPr/>
            <p:nvPr/>
          </p:nvSpPr>
          <p:spPr>
            <a:xfrm>
              <a:off x="3960" y="0"/>
              <a:ext cx="607320" cy="68580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12"/>
            <p:cNvSpPr/>
            <p:nvPr/>
          </p:nvSpPr>
          <p:spPr>
            <a:xfrm>
              <a:off x="-1110600" y="3748320"/>
              <a:ext cx="283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ICTURE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FO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131960" y="0"/>
            <a:ext cx="3457080" cy="6858000"/>
            <a:chOff x="7131960" y="0"/>
            <a:chExt cx="3457080" cy="6858000"/>
          </a:xfrm>
        </p:grpSpPr>
        <p:sp>
          <p:nvSpPr>
            <p:cNvPr id="167" name="矩形 24"/>
            <p:cNvSpPr/>
            <p:nvPr/>
          </p:nvSpPr>
          <p:spPr>
            <a:xfrm>
              <a:off x="8540640" y="0"/>
              <a:ext cx="610560" cy="6858000"/>
            </a:xfrm>
            <a:prstGeom prst="rect">
              <a:avLst/>
            </a:pr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25"/>
            <p:cNvSpPr/>
            <p:nvPr/>
          </p:nvSpPr>
          <p:spPr>
            <a:xfrm>
              <a:off x="7131960" y="44280"/>
              <a:ext cx="34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Author int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 txBox="1"/>
          <p:nvPr/>
        </p:nvSpPr>
        <p:spPr>
          <a:xfrm>
            <a:off x="4013280" y="85680"/>
            <a:ext cx="18288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beve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Microsoft JhengHei"/>
              </a:rPr>
              <a:t>人物简介</a:t>
            </a:r>
            <a:endParaRPr b="1" lang="en-US" sz="1800" spc="1" strike="noStrike">
              <a:ln w="12600">
                <a:solidFill>
                  <a:srgbClr val="b2b2b2"/>
                </a:solidFill>
                <a:beve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Microsoft JhengHei"/>
              <a:ea typeface="Microsoft JhengHei"/>
            </a:endParaRPr>
          </a:p>
        </p:txBody>
      </p:sp>
      <p:sp>
        <p:nvSpPr>
          <p:cNvPr id="170" name=""/>
          <p:cNvSpPr/>
          <p:nvPr/>
        </p:nvSpPr>
        <p:spPr>
          <a:xfrm>
            <a:off x="2392200" y="590400"/>
            <a:ext cx="543564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972040" y="716040"/>
            <a:ext cx="197964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3333cc"/>
                  </a:solidFill>
                  <a:bevel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仿宋"/>
              </a:rPr>
              <a:t>刘四爷</a:t>
            </a:r>
            <a:endParaRPr b="1" lang="en-US" sz="5400" spc="1" strike="noStrike">
              <a:ln w="12600">
                <a:solidFill>
                  <a:srgbClr val="3333cc"/>
                </a:solidFill>
                <a:bevel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仿宋"/>
              <a:ea typeface="仿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28604E-006 L 0.73438 -4.28604E-006 E">
                                      <p:cBhvr>
                                        <p:cTn id="37" dur="3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260360" y="25560"/>
            <a:ext cx="1230120" cy="1510920"/>
            <a:chOff x="1260360" y="25560"/>
            <a:chExt cx="1230120" cy="1510920"/>
          </a:xfrm>
        </p:grpSpPr>
        <p:pic>
          <p:nvPicPr>
            <p:cNvPr id="173" name="" descr="">
              <a:hlinkClick r:id="" action="ppaction://hlinkshowjump?jump=previousslide"/>
              <a:hlinkClick r:id="rId1"/>
            </p:cNvPr>
            <p:cNvPicPr/>
            <p:nvPr/>
          </p:nvPicPr>
          <p:blipFill>
            <a:blip r:embed="rId2"/>
            <a:srcRect l="907" t="31299" r="74511" b="42780"/>
            <a:stretch/>
          </p:blipFill>
          <p:spPr>
            <a:xfrm>
              <a:off x="1790280" y="25560"/>
              <a:ext cx="700200" cy="73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>
              <a:hlinkClick r:id="" action="ppaction://hlinkshowjump?jump=nextslide"/>
              <a:hlinkClick r:id="rId3"/>
            </p:cNvPr>
            <p:cNvPicPr/>
            <p:nvPr/>
          </p:nvPicPr>
          <p:blipFill>
            <a:blip r:embed="rId4"/>
            <a:srcRect l="37207" t="2700" r="34637" b="71919"/>
            <a:stretch/>
          </p:blipFill>
          <p:spPr>
            <a:xfrm>
              <a:off x="1260360" y="730440"/>
              <a:ext cx="893160" cy="80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"/>
          <p:cNvSpPr/>
          <p:nvPr/>
        </p:nvSpPr>
        <p:spPr>
          <a:xfrm>
            <a:off x="1373040" y="1835280"/>
            <a:ext cx="63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虎妞，一个三十七八未嫁的老女人，长得虎头虎脑，因此吓住了男人 ，生就一副男儿性格。可有心计很会打理事物，将人和车场管理得井井有条却是父亲——刘四爷的好帮手，父女把人和车厂治理得铁铜一般。就是这样一个做事的好帮手，一个干练的女强人，却没人敢娶她作太太，也许是她什么都和男人一样，连骂人也有男人的爽快，有时更多些花样，也许是她长得像黑塔……在当时，这样的女子可以称之稀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虎妞对祥子的确是一种爱，是一种忘我痴情投入的爱。虎妞喜欢这个大傻个，她说什么，祥子老用心听着。不和她争辩，而别的车夫，总是横着来，她一点不怕他们，但也不愿搭理他们；她的话，所以都留给祥子听。虎妞虽然让祥子厌恶，让他压抑，但祥子毕竟在虎妞那里感到了安全，感到了自身的存在，让他在茫然四顾时，有了去处。她后来嫁给了祥子，但生活刚刚开始的时候，她却难产而死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947520" y="0"/>
            <a:ext cx="1148400" cy="6858000"/>
            <a:chOff x="947520" y="0"/>
            <a:chExt cx="1148400" cy="6858000"/>
          </a:xfrm>
        </p:grpSpPr>
        <p:sp>
          <p:nvSpPr>
            <p:cNvPr id="177" name="矩形 7"/>
            <p:cNvSpPr/>
            <p:nvPr/>
          </p:nvSpPr>
          <p:spPr>
            <a:xfrm>
              <a:off x="1217520" y="0"/>
              <a:ext cx="610560" cy="6858000"/>
            </a:xfrm>
            <a:prstGeom prst="rect">
              <a:avLst/>
            </a:prstGeom>
            <a:solidFill>
              <a:srgbClr val="974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10"/>
            <p:cNvSpPr/>
            <p:nvPr/>
          </p:nvSpPr>
          <p:spPr>
            <a:xfrm>
              <a:off x="947520" y="1404720"/>
              <a:ext cx="114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P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rof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-783000" y="0"/>
            <a:ext cx="3391560" cy="6858000"/>
            <a:chOff x="-783000" y="0"/>
            <a:chExt cx="3391560" cy="6858000"/>
          </a:xfrm>
        </p:grpSpPr>
        <p:sp>
          <p:nvSpPr>
            <p:cNvPr id="180" name="矩形 6"/>
            <p:cNvSpPr/>
            <p:nvPr/>
          </p:nvSpPr>
          <p:spPr>
            <a:xfrm>
              <a:off x="610200" y="0"/>
              <a:ext cx="612000" cy="6858000"/>
            </a:xfrm>
            <a:prstGeom prst="rect">
              <a:avLst/>
            </a:pr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1"/>
            <p:cNvSpPr/>
            <p:nvPr/>
          </p:nvSpPr>
          <p:spPr>
            <a:xfrm>
              <a:off x="-783000" y="2421000"/>
              <a:ext cx="339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L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nfluence of Nov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-1110600" y="0"/>
            <a:ext cx="2832480" cy="6858000"/>
            <a:chOff x="-1110600" y="0"/>
            <a:chExt cx="2832480" cy="6858000"/>
          </a:xfrm>
        </p:grpSpPr>
        <p:sp>
          <p:nvSpPr>
            <p:cNvPr id="183" name="矩形 5"/>
            <p:cNvSpPr/>
            <p:nvPr/>
          </p:nvSpPr>
          <p:spPr>
            <a:xfrm>
              <a:off x="3960" y="0"/>
              <a:ext cx="607320" cy="68580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2"/>
            <p:cNvSpPr/>
            <p:nvPr/>
          </p:nvSpPr>
          <p:spPr>
            <a:xfrm>
              <a:off x="-1110600" y="3748320"/>
              <a:ext cx="283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ICTURE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FO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131960" y="0"/>
            <a:ext cx="3457080" cy="6858000"/>
            <a:chOff x="7131960" y="0"/>
            <a:chExt cx="3457080" cy="6858000"/>
          </a:xfrm>
        </p:grpSpPr>
        <p:sp>
          <p:nvSpPr>
            <p:cNvPr id="186" name="矩形 24"/>
            <p:cNvSpPr/>
            <p:nvPr/>
          </p:nvSpPr>
          <p:spPr>
            <a:xfrm>
              <a:off x="8540640" y="0"/>
              <a:ext cx="610560" cy="6858000"/>
            </a:xfrm>
            <a:prstGeom prst="rect">
              <a:avLst/>
            </a:pr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25"/>
            <p:cNvSpPr/>
            <p:nvPr/>
          </p:nvSpPr>
          <p:spPr>
            <a:xfrm>
              <a:off x="7131960" y="44280"/>
              <a:ext cx="34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Author int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 txBox="1"/>
          <p:nvPr/>
        </p:nvSpPr>
        <p:spPr>
          <a:xfrm>
            <a:off x="4013280" y="85680"/>
            <a:ext cx="18288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beve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Microsoft JhengHei"/>
              </a:rPr>
              <a:t>人物简介</a:t>
            </a:r>
            <a:endParaRPr b="1" lang="en-US" sz="1800" spc="1" strike="noStrike">
              <a:ln w="12600">
                <a:solidFill>
                  <a:srgbClr val="b2b2b2"/>
                </a:solidFill>
                <a:beve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Microsoft JhengHei"/>
              <a:ea typeface="Microsoft JhengHei"/>
            </a:endParaRPr>
          </a:p>
        </p:txBody>
      </p:sp>
      <p:sp>
        <p:nvSpPr>
          <p:cNvPr id="189" name=""/>
          <p:cNvSpPr/>
          <p:nvPr/>
        </p:nvSpPr>
        <p:spPr>
          <a:xfrm>
            <a:off x="2392200" y="590400"/>
            <a:ext cx="543564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270480" y="716040"/>
            <a:ext cx="15354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3333cc"/>
                  </a:solidFill>
                  <a:bevel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仿宋"/>
              </a:rPr>
              <a:t>虎妞</a:t>
            </a:r>
            <a:endParaRPr b="1" lang="en-US" sz="5400" spc="1" strike="noStrike">
              <a:ln w="12600">
                <a:solidFill>
                  <a:srgbClr val="3333cc"/>
                </a:solidFill>
                <a:bevel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仿宋"/>
              <a:ea typeface="仿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28604E-006 L 0.73438 -4.28604E-006 E">
                                      <p:cBhvr>
                                        <p:cTn id="43" dur="3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52600" y="1835280"/>
            <a:ext cx="636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个平凡的教书人，爱好传统美术。因为信奉社会主义，所以待人宽和，被祥子认为是“圣人”。由于当局说他教书时的思想过激而被认为是革命党，逃到上海去避了避风头又回到了北平，后来又愿意帮助祥子重新生活。一个极普通的人，只是由于待人宽和、民主，而被认为是“圣人”。其实仅凭这一点也应该、值得被祥子感激。雷锋、焦裕录都是平凡的人，他们做的也是平凡事，但是他们为别人带来了帮助，因此他们被宏扬、被标榜。事实就是这样：也许只是一句鼓励一句劝慰，就会让别人感动一生，所以请不要吝惜那些举手之劳去帮助别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60360" y="25560"/>
            <a:ext cx="1230120" cy="1510920"/>
            <a:chOff x="1260360" y="25560"/>
            <a:chExt cx="1230120" cy="1510920"/>
          </a:xfrm>
        </p:grpSpPr>
        <p:pic>
          <p:nvPicPr>
            <p:cNvPr id="193" name="" descr="">
              <a:hlinkClick r:id="" action="ppaction://hlinkshowjump?jump=previousslide"/>
              <a:hlinkClick r:id="rId1"/>
            </p:cNvPr>
            <p:cNvPicPr/>
            <p:nvPr/>
          </p:nvPicPr>
          <p:blipFill>
            <a:blip r:embed="rId2"/>
            <a:srcRect l="907" t="31299" r="74511" b="42780"/>
            <a:stretch/>
          </p:blipFill>
          <p:spPr>
            <a:xfrm>
              <a:off x="1790280" y="25560"/>
              <a:ext cx="700200" cy="73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>
              <a:hlinkClick r:id="" action="ppaction://hlinkshowjump?jump=nextslide"/>
              <a:hlinkClick r:id="rId3"/>
            </p:cNvPr>
            <p:cNvPicPr/>
            <p:nvPr/>
          </p:nvPicPr>
          <p:blipFill>
            <a:blip r:embed="rId4"/>
            <a:srcRect l="37207" t="2700" r="34637" b="71919"/>
            <a:stretch/>
          </p:blipFill>
          <p:spPr>
            <a:xfrm>
              <a:off x="1260360" y="730440"/>
              <a:ext cx="893160" cy="80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"/>
          <p:cNvGrpSpPr/>
          <p:nvPr/>
        </p:nvGrpSpPr>
        <p:grpSpPr>
          <a:xfrm>
            <a:off x="947520" y="0"/>
            <a:ext cx="1148400" cy="6858000"/>
            <a:chOff x="947520" y="0"/>
            <a:chExt cx="1148400" cy="6858000"/>
          </a:xfrm>
        </p:grpSpPr>
        <p:sp>
          <p:nvSpPr>
            <p:cNvPr id="196" name="矩形 7"/>
            <p:cNvSpPr/>
            <p:nvPr/>
          </p:nvSpPr>
          <p:spPr>
            <a:xfrm>
              <a:off x="1217520" y="0"/>
              <a:ext cx="610560" cy="6858000"/>
            </a:xfrm>
            <a:prstGeom prst="rect">
              <a:avLst/>
            </a:prstGeom>
            <a:solidFill>
              <a:srgbClr val="974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10"/>
            <p:cNvSpPr/>
            <p:nvPr/>
          </p:nvSpPr>
          <p:spPr>
            <a:xfrm>
              <a:off x="947520" y="1404720"/>
              <a:ext cx="114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P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rof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-783000" y="0"/>
            <a:ext cx="3391560" cy="6858000"/>
            <a:chOff x="-783000" y="0"/>
            <a:chExt cx="3391560" cy="6858000"/>
          </a:xfrm>
        </p:grpSpPr>
        <p:sp>
          <p:nvSpPr>
            <p:cNvPr id="199" name="矩形 6"/>
            <p:cNvSpPr/>
            <p:nvPr/>
          </p:nvSpPr>
          <p:spPr>
            <a:xfrm>
              <a:off x="610200" y="0"/>
              <a:ext cx="612000" cy="6858000"/>
            </a:xfrm>
            <a:prstGeom prst="rect">
              <a:avLst/>
            </a:pr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11"/>
            <p:cNvSpPr/>
            <p:nvPr/>
          </p:nvSpPr>
          <p:spPr>
            <a:xfrm>
              <a:off x="-783000" y="2421000"/>
              <a:ext cx="339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L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nfluence of Nov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-452880" y="0"/>
            <a:ext cx="1517040" cy="6858000"/>
            <a:chOff x="-452880" y="0"/>
            <a:chExt cx="1517040" cy="6858000"/>
          </a:xfrm>
        </p:grpSpPr>
        <p:sp>
          <p:nvSpPr>
            <p:cNvPr id="202" name="矩形 5"/>
            <p:cNvSpPr/>
            <p:nvPr/>
          </p:nvSpPr>
          <p:spPr>
            <a:xfrm>
              <a:off x="3960" y="0"/>
              <a:ext cx="607320" cy="68580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2"/>
            <p:cNvSpPr/>
            <p:nvPr/>
          </p:nvSpPr>
          <p:spPr>
            <a:xfrm>
              <a:off x="-452880" y="3748320"/>
              <a:ext cx="151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OTH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131960" y="0"/>
            <a:ext cx="3457080" cy="6858000"/>
            <a:chOff x="7131960" y="0"/>
            <a:chExt cx="3457080" cy="6858000"/>
          </a:xfrm>
        </p:grpSpPr>
        <p:sp>
          <p:nvSpPr>
            <p:cNvPr id="205" name="矩形 24"/>
            <p:cNvSpPr/>
            <p:nvPr/>
          </p:nvSpPr>
          <p:spPr>
            <a:xfrm>
              <a:off x="8540640" y="0"/>
              <a:ext cx="610560" cy="6858000"/>
            </a:xfrm>
            <a:prstGeom prst="rect">
              <a:avLst/>
            </a:pr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25"/>
            <p:cNvSpPr/>
            <p:nvPr/>
          </p:nvSpPr>
          <p:spPr>
            <a:xfrm>
              <a:off x="7131960" y="44280"/>
              <a:ext cx="34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Author int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 txBox="1"/>
          <p:nvPr/>
        </p:nvSpPr>
        <p:spPr>
          <a:xfrm>
            <a:off x="4013280" y="85680"/>
            <a:ext cx="18288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beve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Microsoft JhengHei"/>
              </a:rPr>
              <a:t>人物简介</a:t>
            </a:r>
            <a:endParaRPr b="1" lang="en-US" sz="1800" spc="1" strike="noStrike">
              <a:ln w="12600">
                <a:solidFill>
                  <a:srgbClr val="b2b2b2"/>
                </a:solidFill>
                <a:beve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Microsoft JhengHei"/>
              <a:ea typeface="Microsoft JhengHei"/>
            </a:endParaRPr>
          </a:p>
        </p:txBody>
      </p:sp>
      <p:sp>
        <p:nvSpPr>
          <p:cNvPr id="208" name=""/>
          <p:cNvSpPr/>
          <p:nvPr/>
        </p:nvSpPr>
        <p:spPr>
          <a:xfrm>
            <a:off x="2392200" y="590400"/>
            <a:ext cx="543564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135840" y="716040"/>
            <a:ext cx="180468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3333cc"/>
                  </a:solidFill>
                  <a:bevel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仿宋"/>
              </a:rPr>
              <a:t>曹先生</a:t>
            </a:r>
            <a:endParaRPr b="1" lang="en-US" sz="5400" spc="1" strike="noStrike">
              <a:ln w="12600">
                <a:solidFill>
                  <a:srgbClr val="3333cc"/>
                </a:solidFill>
                <a:bevel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仿宋"/>
              <a:ea typeface="仿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28604E-006 L 0.73438 -4.28604E-006 E">
                                      <p:cBhvr>
                                        <p:cTn id="49" dur="3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rcRect l="907" t="31299" r="74511" b="42780"/>
          <a:stretch/>
        </p:blipFill>
        <p:spPr>
          <a:xfrm>
            <a:off x="1420920" y="717480"/>
            <a:ext cx="699840" cy="739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249200" y="1757520"/>
            <a:ext cx="63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祥子与虎妞结婚后住在了一间四合院，四合院里住着各种各样的人，其中就有二强一家。二强一家共有五人，为二强夫妇、三个儿女——即小福子和两个儿子。二强把小福子二百块钱卖给了一个军官，而在小福子不在家期间，二强因喝多失手将二强嫂打死。而为了办丧事，便把车便宜卖给了虎妞和祥子。过了一阵子小福子回来了，迫于生计，只好靠当妓女维持一家人的生活。其实祥子在虎妞死后便喜欢上了小福子，可是当祥子回到曹先生处找到了一份稳定的工作时，小福子已经被卖到白房子后上吊自杀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947520" y="0"/>
            <a:ext cx="1148400" cy="6858000"/>
            <a:chOff x="947520" y="0"/>
            <a:chExt cx="1148400" cy="6858000"/>
          </a:xfrm>
        </p:grpSpPr>
        <p:sp>
          <p:nvSpPr>
            <p:cNvPr id="213" name="矩形 7"/>
            <p:cNvSpPr/>
            <p:nvPr/>
          </p:nvSpPr>
          <p:spPr>
            <a:xfrm>
              <a:off x="1217520" y="0"/>
              <a:ext cx="610560" cy="6858000"/>
            </a:xfrm>
            <a:prstGeom prst="rect">
              <a:avLst/>
            </a:prstGeom>
            <a:solidFill>
              <a:srgbClr val="974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10"/>
            <p:cNvSpPr/>
            <p:nvPr/>
          </p:nvSpPr>
          <p:spPr>
            <a:xfrm>
              <a:off x="947520" y="1404720"/>
              <a:ext cx="114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P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rof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-783000" y="0"/>
            <a:ext cx="3391560" cy="6858000"/>
            <a:chOff x="-783000" y="0"/>
            <a:chExt cx="3391560" cy="6858000"/>
          </a:xfrm>
        </p:grpSpPr>
        <p:sp>
          <p:nvSpPr>
            <p:cNvPr id="216" name="矩形 6"/>
            <p:cNvSpPr/>
            <p:nvPr/>
          </p:nvSpPr>
          <p:spPr>
            <a:xfrm>
              <a:off x="610200" y="0"/>
              <a:ext cx="612000" cy="6858000"/>
            </a:xfrm>
            <a:prstGeom prst="rect">
              <a:avLst/>
            </a:pr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1"/>
            <p:cNvSpPr/>
            <p:nvPr/>
          </p:nvSpPr>
          <p:spPr>
            <a:xfrm>
              <a:off x="-783000" y="2421000"/>
              <a:ext cx="339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L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nfluence of Nov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-452880" y="0"/>
            <a:ext cx="1517040" cy="6858000"/>
            <a:chOff x="-452880" y="0"/>
            <a:chExt cx="1517040" cy="6858000"/>
          </a:xfrm>
        </p:grpSpPr>
        <p:sp>
          <p:nvSpPr>
            <p:cNvPr id="219" name="矩形 5"/>
            <p:cNvSpPr/>
            <p:nvPr/>
          </p:nvSpPr>
          <p:spPr>
            <a:xfrm>
              <a:off x="3960" y="0"/>
              <a:ext cx="607320" cy="68580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12"/>
            <p:cNvSpPr/>
            <p:nvPr/>
          </p:nvSpPr>
          <p:spPr>
            <a:xfrm>
              <a:off x="-452880" y="3748320"/>
              <a:ext cx="151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OTH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7131960" y="0"/>
            <a:ext cx="3457080" cy="6858000"/>
            <a:chOff x="7131960" y="0"/>
            <a:chExt cx="3457080" cy="6858000"/>
          </a:xfrm>
        </p:grpSpPr>
        <p:sp>
          <p:nvSpPr>
            <p:cNvPr id="222" name="矩形 24"/>
            <p:cNvSpPr/>
            <p:nvPr/>
          </p:nvSpPr>
          <p:spPr>
            <a:xfrm>
              <a:off x="8540640" y="0"/>
              <a:ext cx="610560" cy="6858000"/>
            </a:xfrm>
            <a:prstGeom prst="rect">
              <a:avLst/>
            </a:pr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25"/>
            <p:cNvSpPr/>
            <p:nvPr/>
          </p:nvSpPr>
          <p:spPr>
            <a:xfrm>
              <a:off x="7131960" y="44280"/>
              <a:ext cx="34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Author int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 txBox="1"/>
          <p:nvPr/>
        </p:nvSpPr>
        <p:spPr>
          <a:xfrm>
            <a:off x="4013280" y="85680"/>
            <a:ext cx="18288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beve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Microsoft JhengHei"/>
              </a:rPr>
              <a:t>人物简介</a:t>
            </a:r>
            <a:endParaRPr b="1" lang="en-US" sz="1800" spc="1" strike="noStrike">
              <a:ln w="12600">
                <a:solidFill>
                  <a:srgbClr val="b2b2b2"/>
                </a:solidFill>
                <a:beve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Microsoft JhengHei"/>
              <a:ea typeface="Microsoft JhengHei"/>
            </a:endParaRPr>
          </a:p>
        </p:txBody>
      </p:sp>
      <p:sp>
        <p:nvSpPr>
          <p:cNvPr id="225" name=""/>
          <p:cNvSpPr/>
          <p:nvPr/>
        </p:nvSpPr>
        <p:spPr>
          <a:xfrm>
            <a:off x="2392200" y="590400"/>
            <a:ext cx="543564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135840" y="716040"/>
            <a:ext cx="180468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3333cc"/>
                  </a:solidFill>
                  <a:bevel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仿宋"/>
              </a:rPr>
              <a:t>小福子</a:t>
            </a:r>
            <a:endParaRPr b="1" lang="en-US" sz="5400" spc="1" strike="noStrike">
              <a:ln w="12600">
                <a:solidFill>
                  <a:srgbClr val="3333cc"/>
                </a:solidFill>
                <a:bevel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仿宋"/>
              <a:ea typeface="仿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28604E-006 L 0.73438 -4.28604E-006 E">
                                      <p:cBhvr>
                                        <p:cTn id="55" dur="3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7143840" y="0"/>
            <a:ext cx="3457080" cy="6858000"/>
            <a:chOff x="7143840" y="0"/>
            <a:chExt cx="3457080" cy="6858000"/>
          </a:xfrm>
        </p:grpSpPr>
        <p:sp>
          <p:nvSpPr>
            <p:cNvPr id="228" name="矩形 8"/>
            <p:cNvSpPr/>
            <p:nvPr/>
          </p:nvSpPr>
          <p:spPr>
            <a:xfrm>
              <a:off x="8551800" y="0"/>
              <a:ext cx="612000" cy="6858000"/>
            </a:xfrm>
            <a:prstGeom prst="rect">
              <a:avLst/>
            </a:pr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9"/>
            <p:cNvSpPr/>
            <p:nvPr/>
          </p:nvSpPr>
          <p:spPr>
            <a:xfrm>
              <a:off x="7143840" y="44280"/>
              <a:ext cx="34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uthor int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674480" y="0"/>
            <a:ext cx="1148400" cy="6858000"/>
            <a:chOff x="7674480" y="0"/>
            <a:chExt cx="1148400" cy="6858000"/>
          </a:xfrm>
        </p:grpSpPr>
        <p:sp>
          <p:nvSpPr>
            <p:cNvPr id="231" name="矩形 7"/>
            <p:cNvSpPr/>
            <p:nvPr/>
          </p:nvSpPr>
          <p:spPr>
            <a:xfrm>
              <a:off x="7941240" y="0"/>
              <a:ext cx="618120" cy="6858000"/>
            </a:xfrm>
            <a:prstGeom prst="rect">
              <a:avLst/>
            </a:prstGeom>
            <a:solidFill>
              <a:srgbClr val="974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7674480" y="1404720"/>
              <a:ext cx="114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P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rof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-783000" y="0"/>
            <a:ext cx="3391560" cy="6858000"/>
            <a:chOff x="-783000" y="0"/>
            <a:chExt cx="3391560" cy="6858000"/>
          </a:xfrm>
        </p:grpSpPr>
        <p:sp>
          <p:nvSpPr>
            <p:cNvPr id="234" name="矩形 6"/>
            <p:cNvSpPr/>
            <p:nvPr/>
          </p:nvSpPr>
          <p:spPr>
            <a:xfrm>
              <a:off x="610200" y="0"/>
              <a:ext cx="612000" cy="6858000"/>
            </a:xfrm>
            <a:prstGeom prst="rect">
              <a:avLst/>
            </a:pr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11"/>
            <p:cNvSpPr/>
            <p:nvPr/>
          </p:nvSpPr>
          <p:spPr>
            <a:xfrm>
              <a:off x="-783000" y="2421000"/>
              <a:ext cx="339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L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nfluence of Nov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-452880" y="0"/>
            <a:ext cx="1517040" cy="6858000"/>
            <a:chOff x="-452880" y="0"/>
            <a:chExt cx="1517040" cy="6858000"/>
          </a:xfrm>
        </p:grpSpPr>
        <p:sp>
          <p:nvSpPr>
            <p:cNvPr id="237" name="矩形 5"/>
            <p:cNvSpPr/>
            <p:nvPr/>
          </p:nvSpPr>
          <p:spPr>
            <a:xfrm>
              <a:off x="3960" y="0"/>
              <a:ext cx="607320" cy="68580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2"/>
            <p:cNvSpPr/>
            <p:nvPr/>
          </p:nvSpPr>
          <p:spPr>
            <a:xfrm>
              <a:off x="-452880" y="3748320"/>
              <a:ext cx="151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OTH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99920" y="155520"/>
            <a:ext cx="2654280" cy="873360"/>
            <a:chOff x="799920" y="155520"/>
            <a:chExt cx="2654280" cy="873360"/>
          </a:xfrm>
        </p:grpSpPr>
        <p:sp>
          <p:nvSpPr>
            <p:cNvPr id="240" name=""/>
            <p:cNvSpPr txBox="1"/>
            <p:nvPr/>
          </p:nvSpPr>
          <p:spPr>
            <a:xfrm>
              <a:off x="981720" y="280800"/>
              <a:ext cx="2234160" cy="61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1" strike="noStrike">
                  <a:ln w="0">
                    <a:noFill/>
                  </a:ln>
                  <a:gradFill rotWithShape="0">
                    <a:gsLst>
                      <a:gs pos="0">
                        <a:srgbClr val="66ccff"/>
                      </a:gs>
                      <a:gs pos="100000">
                        <a:srgbClr val="3399ff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微软雅黑"/>
                </a:rPr>
                <a:t>小说评价</a:t>
              </a:r>
              <a:endPara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3399ff"/>
                    </a:gs>
                  </a:gsLst>
                  <a:path path="rect">
                    <a:fillToRect l="50000" t="50000" r="50000" b="50000"/>
                  </a:path>
                </a:gradFill>
                <a:latin typeface="微软雅黑"/>
                <a:ea typeface="微软雅黑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5400000">
              <a:off x="458280" y="555120"/>
              <a:ext cx="759240" cy="76680"/>
            </a:xfrm>
            <a:prstGeom prst="flowChartTerminator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66ff"/>
              </a:solidFill>
              <a:bevel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2400" y="952200"/>
              <a:ext cx="2538720" cy="76680"/>
            </a:xfrm>
            <a:prstGeom prst="flowChartTerminator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6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3018600" y="548280"/>
              <a:ext cx="794160" cy="76680"/>
            </a:xfrm>
            <a:prstGeom prst="flowChartTerminator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2640" y="155520"/>
              <a:ext cx="2538720" cy="76680"/>
            </a:xfrm>
            <a:prstGeom prst="flowChartTerminator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 txBox="1"/>
          <p:nvPr/>
        </p:nvSpPr>
        <p:spPr>
          <a:xfrm>
            <a:off x="1370160" y="2073240"/>
            <a:ext cx="5122800" cy="32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3399ff"/>
                    </a:gs>
                  </a:gsLst>
                  <a:path path="rect">
                    <a:fillToRect l="50000" t="50000" r="50000" b="50000"/>
                  </a:path>
                </a:gradFill>
                <a:latin typeface="微软雅黑"/>
              </a:rPr>
              <a:t>《骆驼祥子》在中国现代文学史上具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latin typeface="微软雅黑"/>
              <a:ea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3399ff"/>
                    </a:gs>
                  </a:gsLst>
                  <a:path path="rect">
                    <a:fillToRect l="50000" t="50000" r="50000" b="50000"/>
                  </a:path>
                </a:gradFill>
                <a:latin typeface="微软雅黑"/>
              </a:rPr>
              <a:t>有重要位置。五四以后的新文学，多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latin typeface="微软雅黑"/>
              <a:ea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3399ff"/>
                    </a:gs>
                  </a:gsLst>
                  <a:path path="rect">
                    <a:fillToRect l="50000" t="50000" r="50000" b="50000"/>
                  </a:path>
                </a:gradFill>
                <a:latin typeface="微软雅黑"/>
              </a:rPr>
              <a:t>以描写知识分子与农民生活见长，而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latin typeface="微软雅黑"/>
              <a:ea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3399ff"/>
                    </a:gs>
                  </a:gsLst>
                  <a:path path="rect">
                    <a:fillToRect l="50000" t="50000" r="50000" b="50000"/>
                  </a:path>
                </a:gradFill>
                <a:latin typeface="微软雅黑"/>
              </a:rPr>
              <a:t>很少有描写城市贫民的作品。老舍的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latin typeface="微软雅黑"/>
              <a:ea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3399ff"/>
                    </a:gs>
                  </a:gsLst>
                  <a:path path="rect">
                    <a:fillToRect l="50000" t="50000" r="50000" b="50000"/>
                  </a:path>
                </a:gradFill>
                <a:latin typeface="微软雅黑"/>
              </a:rPr>
              <a:t>出现，则打破了这种局面，他以一批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latin typeface="微软雅黑"/>
              <a:ea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3399ff"/>
                    </a:gs>
                  </a:gsLst>
                  <a:path path="rect">
                    <a:fillToRect l="50000" t="50000" r="50000" b="50000"/>
                  </a:path>
                </a:gradFill>
                <a:latin typeface="微软雅黑"/>
              </a:rPr>
              <a:t>城市贫民生活题材的作品，《骆驼祥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latin typeface="微软雅黑"/>
              <a:ea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3399ff"/>
                    </a:gs>
                  </a:gsLst>
                  <a:path path="rect">
                    <a:fillToRect l="50000" t="50000" r="50000" b="50000"/>
                  </a:path>
                </a:gradFill>
                <a:latin typeface="微软雅黑"/>
              </a:rPr>
              <a:t>子》拓展了新文学的表现范围，为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latin typeface="微软雅黑"/>
              <a:ea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3399ff"/>
                    </a:gs>
                  </a:gsLst>
                  <a:path path="rect">
                    <a:fillToRect l="50000" t="50000" r="50000" b="50000"/>
                  </a:path>
                </a:gradFill>
                <a:latin typeface="微软雅黑"/>
              </a:rPr>
              <a:t>文学的发展提供了特殊的贡献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28604E-006 L 0.73438 -4.28604E-006 E">
                                      <p:cBhvr>
                                        <p:cTn id="61" dur="3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7143840" y="0"/>
            <a:ext cx="3457080" cy="6858000"/>
            <a:chOff x="7143840" y="0"/>
            <a:chExt cx="3457080" cy="6858000"/>
          </a:xfrm>
        </p:grpSpPr>
        <p:sp>
          <p:nvSpPr>
            <p:cNvPr id="247" name="矩形 8"/>
            <p:cNvSpPr/>
            <p:nvPr/>
          </p:nvSpPr>
          <p:spPr>
            <a:xfrm>
              <a:off x="8551800" y="0"/>
              <a:ext cx="612000" cy="6858000"/>
            </a:xfrm>
            <a:prstGeom prst="rect">
              <a:avLst/>
            </a:pr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9"/>
            <p:cNvSpPr/>
            <p:nvPr/>
          </p:nvSpPr>
          <p:spPr>
            <a:xfrm>
              <a:off x="7143840" y="44280"/>
              <a:ext cx="34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uthor int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7677720" y="0"/>
            <a:ext cx="1148400" cy="6858000"/>
            <a:chOff x="7677720" y="0"/>
            <a:chExt cx="1148400" cy="6858000"/>
          </a:xfrm>
        </p:grpSpPr>
        <p:sp>
          <p:nvSpPr>
            <p:cNvPr id="250" name="矩形 7"/>
            <p:cNvSpPr/>
            <p:nvPr/>
          </p:nvSpPr>
          <p:spPr>
            <a:xfrm>
              <a:off x="7947000" y="0"/>
              <a:ext cx="612000" cy="6858000"/>
            </a:xfrm>
            <a:prstGeom prst="rect">
              <a:avLst/>
            </a:prstGeom>
            <a:solidFill>
              <a:srgbClr val="974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10"/>
            <p:cNvSpPr/>
            <p:nvPr/>
          </p:nvSpPr>
          <p:spPr>
            <a:xfrm>
              <a:off x="7677720" y="1404720"/>
              <a:ext cx="114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P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rof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918040" y="0"/>
            <a:ext cx="3391560" cy="6858000"/>
            <a:chOff x="5918040" y="0"/>
            <a:chExt cx="3391560" cy="6858000"/>
          </a:xfrm>
        </p:grpSpPr>
        <p:sp>
          <p:nvSpPr>
            <p:cNvPr id="253" name="矩形 6"/>
            <p:cNvSpPr/>
            <p:nvPr/>
          </p:nvSpPr>
          <p:spPr>
            <a:xfrm>
              <a:off x="7281360" y="0"/>
              <a:ext cx="672120" cy="6858000"/>
            </a:xfrm>
            <a:prstGeom prst="rect">
              <a:avLst/>
            </a:prstGeom>
            <a:solidFill>
              <a:srgbClr val="4f6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11"/>
            <p:cNvSpPr/>
            <p:nvPr/>
          </p:nvSpPr>
          <p:spPr>
            <a:xfrm>
              <a:off x="5918040" y="2421000"/>
              <a:ext cx="339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L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</a:rPr>
                <a:t>nfluence of Nov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-453600" y="-20520"/>
            <a:ext cx="1517040" cy="6878520"/>
            <a:chOff x="-453600" y="-20520"/>
            <a:chExt cx="1517040" cy="6878520"/>
          </a:xfrm>
        </p:grpSpPr>
        <p:sp>
          <p:nvSpPr>
            <p:cNvPr id="256" name="矩形 5"/>
            <p:cNvSpPr/>
            <p:nvPr/>
          </p:nvSpPr>
          <p:spPr>
            <a:xfrm>
              <a:off x="3600" y="-20520"/>
              <a:ext cx="605880" cy="68785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2"/>
            <p:cNvSpPr/>
            <p:nvPr/>
          </p:nvSpPr>
          <p:spPr>
            <a:xfrm>
              <a:off x="-453600" y="3738960"/>
              <a:ext cx="151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OTH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9400" y="874800"/>
            <a:ext cx="6008400" cy="4896720"/>
            <a:chOff x="149400" y="874800"/>
            <a:chExt cx="6008400" cy="4896720"/>
          </a:xfrm>
        </p:grpSpPr>
        <p:sp>
          <p:nvSpPr>
            <p:cNvPr id="259" name=""/>
            <p:cNvSpPr/>
            <p:nvPr/>
          </p:nvSpPr>
          <p:spPr>
            <a:xfrm>
              <a:off x="149400" y="874800"/>
              <a:ext cx="60084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《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骆驼祥子</a:t>
              </a:r>
              <a:r>
                <a:rPr b="0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》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老舍用同情的笔触描绘的一幕悲剧：二十年代的北京，一个勤劳、壮实的底层社会小人物怀着发家、奋斗的美好梦想，却最终为黑暗的暴风雨所吞噬。它揭示了当时“小人物”的奴隶心理和希望的最终破灭。随着祥子心爱的女人小福子的自杀，祥子熄灭了个人奋斗的最后一朵火花。这是旧中国老北京贫苦市民的命运之一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9760" y="5372640"/>
              <a:ext cx="59450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《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骆驼祥子</a:t>
              </a:r>
              <a:r>
                <a:rPr b="0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》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中一句“钱会把人引进恶劣的社会中去，把高尚的理想撇开，而甘心走入地狱中去。”不仅生动地写出了社会下层在经过了无尽的悲痛后，把对于社会的不公的愤恨，转嫁于金钱之上。其实，罪恶的不是金钱，而是不健康的心灵。也正是这种扭曲的愤世嫉俗刻画出社会的悲哀，人性的悲哀，组成了一幕社会的悲剧</a:t>
              </a:r>
              <a:r>
                <a:rPr b="0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!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9760" y="3592080"/>
              <a:ext cx="59439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《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骆驼祥子</a:t>
              </a:r>
              <a:r>
                <a:rPr b="0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》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一书大量应用北京口语、方言，还有一些老北京的风土人情的描写，读来亲切自然、朗朗上口，是现代白话文小说的经典作品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 txBox="1"/>
          <p:nvPr/>
        </p:nvSpPr>
        <p:spPr>
          <a:xfrm>
            <a:off x="2425680" y="171360"/>
            <a:ext cx="111276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评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28604E-006 L 0.73438 -4.28604E-006 E">
                                      <p:cBhvr>
                                        <p:cTn id="67" dur="3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14:46:00Z</dcterms:created>
  <dc:creator>me</dc:creator>
  <dc:description/>
  <dc:language>en-US</dc:language>
  <cp:lastModifiedBy>me</cp:lastModifiedBy>
  <cp:lastPrinted>1899-12-30T00:00:00Z</cp:lastPrinted>
  <dcterms:modified xsi:type="dcterms:W3CDTF">2013-08-23T11:55:47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