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1DBA-D90D-491E-AEAA-5BCB0A8F5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DCF9-F915-4506-852B-B268531EE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4478-5399-4885-8519-82C83D50D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9F70-7806-4E86-B1E8-485FE7E03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F88F-70BD-4ED3-8B93-E623C824B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6919-7DF4-4D5A-B621-26AAF0D40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E692-5861-433D-B427-D9A285520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0641-2E7C-44CE-99F4-B61A7748D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60EC-A5FF-4E6C-A329-76501EA45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D7F9-CB39-42C6-9A46-C707BF6AB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C1DB-3F02-4E70-A9AF-983BE91FA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D36B-2067-4FFE-92EA-FE41BF31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4AC82-DD91-4D7C-809F-FAD4767FE4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楷体"/>
              </a:rPr>
              <a:t>《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楷体"/>
              </a:rPr>
              <a:t>骆驼祥子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楷体"/>
              </a:rPr>
              <a:t>》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老舍</a:t>
            </a:r>
            <a:br>
              <a:rPr sz="48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-243360"/>
            <a:ext cx="8435880" cy="59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阅读课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39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页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骆驼祥子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选段，并且思考：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选段中第一段的环境描写有什么样的作用？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选段最后说“在城里过了不止一夏了，他不记得这么热过。”祥子为什么觉得今年的夏天比往年更热，更难捱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突出夏天环境的恶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为祥子对夏天恶劣天气的胆怯及其之后的行为做铺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渲染一种单调、闷热的氛围，与祥子的腻烦心情相呼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烘托出祥子拉车生活的艰辛和遭遇的悲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今年的夏天确实比往年更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祥子觉得自己的身体虚弱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虎妞“怀孕”对祥子逼婚的影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作者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老舍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899~196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原名舒庆春，字舍予，北京人，满族，中国现代著名作家，有“人民艺术家”的光荣称号。代表作有长篇小说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骆驼祥子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》《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四世同堂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等，话剧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茶馆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》《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龙须沟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联系文本内容，从人名上分析人物形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骆驼祥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在性格上，祥子与骆驼一般老实、健壮、坚忍、自尊好强、吃苦耐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祥子的人生用骆驼比喻也恰好不过了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骆驼是沙漠之舟，一生都在追寻绿洲和水源；祥子是人力车夫，一直以来的梦想就是拥有一辆自己的车。 而祥子最终的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命运又与驼峰无异，起起落落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以落收尾，以失败告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23640" y="691920"/>
            <a:ext cx="8351640" cy="63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虎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虎妞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=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虎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+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妞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虎妞在体型与性格上都与虎很相似：长相上虎头虎脑，吓住男人；性格上大胆泼辣，肆意叫骂他人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虎妞也有小女人的一面，体现在她颇有心计，算计祥子，并且也有小女人的梦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嫁入上层社会，体验美好生活（十七章羡慕小福子跟着军官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刘四爷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流”“私”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流氓、自私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轻的时候是个小混混，什么都干过，性格上也是残忍霸道。老了开了个人和车场，但其自私本性仍没有改变。寿宴上计较得失，并以付出更多而闷闷不乐；嫌弃祥子是个穷鬼，想着祥子娶了女儿就能得到自己财产而将亲身女人扫地出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二强子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“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2 ” 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两  两面性格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偶尔正常的时候良心未泯，关心子女；更多时候是个醉汉形象，打死妻子，肆意打骂儿子，将亲闺女当成赚钱的工具，二卖女儿，还让女儿当妓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47280" y="-171360"/>
            <a:ext cx="849636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福子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小福子”在名字上加上引号其反讽作用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福子并不是个有福之人，她先后被父亲卖了两次，为养活弟弟甘愿卖身，与祥子表白又被拒，最终屈辱自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曹先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嘲”先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有自嘲之意  曹先生是个有着社会主义思想的教师，他正直，善良，被祥子称为圣人。但就这样一个人却被自己的学生告发，受到政治迫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马子，老马子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马” 他们像马一样卑微，劳累，并受到社会的压迫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马子最终还是死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阮明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软”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因为曹先生为给其考试及格而告发曹先生宣扬革命思想，当了官后又贪污腐败，吃喝嫖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杨太太  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“扬”太太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飞扬跋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不给仆人饭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孙侦探   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“孙”侦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孙子般的人物，诈骗祥子钱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文中出现了大量的环境描写有什么作用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交代背景：交代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...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背景；揭露了当时社会现实的黑暗；揭露了普通市民生活环境的艰难（揭露了环境的险恶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渲染气氛：悲凉气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下文作铺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暗示祥子的悲惨命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以失败收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9152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作品对祥子的外貌、性格描写以及祥子对车的态度前后有什么样的变化？这样变化背后的原因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989000"/>
            <a:ext cx="807552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2843280" y="213372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前期：健壮有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后期：颓废病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1476360" y="227664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外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8"/>
          <p:cNvSpPr/>
          <p:nvPr/>
        </p:nvSpPr>
        <p:spPr>
          <a:xfrm>
            <a:off x="2484360" y="2276640"/>
            <a:ext cx="289080" cy="576000"/>
          </a:xfrm>
          <a:custGeom>
            <a:avLst/>
            <a:gdLst>
              <a:gd name="textAreaLeft" fmla="*/ 184680 w 289080"/>
              <a:gd name="textAreaRight" fmla="*/ 289080 w 289080"/>
              <a:gd name="textAreaTop" fmla="*/ 14760 h 576000"/>
              <a:gd name="textAreaBottom" fmla="*/ 561240 h 57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1476360" y="3429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性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0"/>
          <p:cNvSpPr/>
          <p:nvPr/>
        </p:nvSpPr>
        <p:spPr>
          <a:xfrm>
            <a:off x="2340000" y="3429000"/>
            <a:ext cx="71280" cy="576360"/>
          </a:xfrm>
          <a:custGeom>
            <a:avLst/>
            <a:gdLst>
              <a:gd name="textAreaLeft" fmla="*/ 45720 w 71280"/>
              <a:gd name="textAreaRight" fmla="*/ 71640 w 7128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2627280" y="3213000"/>
            <a:ext cx="302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前期：老实坚忍后期：自私自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1258920" y="472428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车的态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3"/>
          <p:cNvSpPr/>
          <p:nvPr/>
        </p:nvSpPr>
        <p:spPr>
          <a:xfrm>
            <a:off x="3203640" y="4724280"/>
            <a:ext cx="71280" cy="503280"/>
          </a:xfrm>
          <a:custGeom>
            <a:avLst/>
            <a:gdLst>
              <a:gd name="textAreaLeft" fmla="*/ 45720 w 71280"/>
              <a:gd name="textAreaRight" fmla="*/ 71640 w 71280"/>
              <a:gd name="textAreaTop" fmla="*/ 12960 h 503280"/>
              <a:gd name="textAreaBottom" fmla="*/ 49032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4"/>
          <p:cNvSpPr/>
          <p:nvPr/>
        </p:nvSpPr>
        <p:spPr>
          <a:xfrm>
            <a:off x="3203640" y="4437000"/>
            <a:ext cx="4184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前期：小心翼翼，很疼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后期：不再爱惜，无所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42920" y="2492280"/>
            <a:ext cx="360360" cy="2664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69480 h 2664000"/>
              <a:gd name="textAreaBottom" fmla="*/ 2594520 h 266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6120" y="3429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祥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940360" y="2924280"/>
            <a:ext cx="1224000" cy="576000"/>
          </a:xfrm>
          <a:prstGeom prst="rightArrow">
            <a:avLst>
              <a:gd name="adj1" fmla="val 50000"/>
              <a:gd name="adj2" fmla="val 5312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08720" y="1700280"/>
            <a:ext cx="18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残酷现实对祥子的打击；祥子本身农民的弱点；虎妞的影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2T01:03:10Z</dcterms:created>
  <dc:creator>未知用户</dc:creator>
  <dc:description/>
  <dc:language>en-US</dc:language>
  <cp:lastModifiedBy>hp</cp:lastModifiedBy>
  <dcterms:modified xsi:type="dcterms:W3CDTF">2013-11-15T01:11:31Z</dcterms:modified>
  <cp:revision>21</cp:revision>
  <dc:subject/>
  <dc:title>《骆驼祥子》                                 ——老舍                              </dc:title>
</cp:coreProperties>
</file>