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A0D-779B-49BE-A377-6ADC36F3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C93-92CC-4E1F-B52D-F70C2B28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004-4012-4F95-A649-3D0E937D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62B-418F-4F30-9021-2EDA559B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4AA-6C2E-4B43-863E-D556F0C3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86A-58A7-4A2D-97EB-4055BAB7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F14-EF78-4304-A8D7-F198EB6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8A5-4E81-43B0-9DE0-7810A631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3DC-2FCF-4EDB-8D87-4543D83B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F23-4E98-4578-A829-E2AD8FB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981-626B-4436-9045-DA6E2FA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639-C44D-4A37-8679-4136F25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9AF3-334A-4C6C-8767-D478E7344E0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6F8A-54A8-4D74-B917-CA3878677D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517;&#33879;&#38405;&#35835;&#12298;&#39558;&#39548;&#31077;&#23376;&#12299;&#37325;&#28857;.doc" TargetMode="External"/><Relationship Id="rId3" Type="http://schemas.openxmlformats.org/officeDocument/2006/relationships/hyperlink" Target="file:///&#21517;&#33879;&#38405;&#35835;&#12298;&#39558;&#39548;&#31077;&#23376;&#12299;&#37325;&#28857;.doc" TargetMode="External"/><Relationship Id="rId4" Type="http://schemas.openxmlformats.org/officeDocument/2006/relationships/hyperlink" Target="file:///&#21517;&#33879;&#38405;&#35835;&#12298;&#39558;&#39548;&#31077;&#23376;&#12299;&#37325;&#28857;.doc" TargetMode="External"/><Relationship Id="rId5" Type="http://schemas.openxmlformats.org/officeDocument/2006/relationships/hyperlink" Target="file:///&#21517;&#33879;&#38405;&#35835;&#12298;&#39558;&#39548;&#31077;&#23376;&#12299;&#37325;&#28857;.doc" TargetMode="External"/><Relationship Id="rId6" Type="http://schemas.openxmlformats.org/officeDocument/2006/relationships/hyperlink" Target="file:///&#21517;&#33879;&#38405;&#35835;&#12298;&#39558;&#39548;&#31077;&#23376;&#12299;&#37325;&#28857;.doc" TargetMode="External"/><Relationship Id="rId7" Type="http://schemas.openxmlformats.org/officeDocument/2006/relationships/hyperlink" Target="file:///&#21517;&#33879;&#38405;&#35835;&#12298;&#39558;&#39548;&#31077;&#23376;&#12299;&#37325;&#28857;.doc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27995200&amp;tn=baiduimagedetail&amp;word=&#32769;&#33293;&amp;in=5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.baidu.com/i?ct=503316480&amp;z=368240851&amp;tn=baiduimagedetail&amp;word=&#32769;&#33293;&amp;in=6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chengyx.myrice.com/images/zuopin/laoshe.jpg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056200" y="4327560"/>
            <a:ext cx="3995640" cy="2530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788000" y="29052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老舍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549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，现代著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作家，人民艺术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原名舒庆春，字舍予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满族人。代表作有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说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骆驼祥子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四世同堂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等，话剧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茶馆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龙须沟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等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5233B-39BB-4E4A-BE99-453E5A93AF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7880" y="115740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骆驼祥子故事概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1CD12-ACB2-421F-85C2-C2B565AA98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祥子用了整整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三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时间，凑足了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一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块钱，他认为不能再等了，应该及早买车。恰巧车铺有辆别人定做而没钱取货的车，经过讨价还价，祥子最终以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九十六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买下了这辆车。祥子拥有了真正属于自己的车，非常激动，把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买车的这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为自己和车的生日，他要开始全新的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79520" y="928800"/>
            <a:ext cx="20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祥子的第一辆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89CEE-53A0-46E3-96FA-E0AA3ECD21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匪兵抢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军阀混战，百姓也不得安宁。一天，有人要去清华，祥子心里清楚去那里风险很大，但因为客人出的价钱高，他和一个年轻光头的矮子抱着侥幸的心理揽下了这桩生意。结果还没到目的地，他们被十几个兵捉了去，祥子的衣服鞋帽、洋车、甚至于系腰的布带，都被匪兵抢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8AD24-F1B4-49DC-92AB-953A59BDDF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祥子绰号的来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祥子趁匪兵退却时，逃了出来，并牵回了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三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骆驼，他在路上把骆驼卖了，换回了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三十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钱。祥子生了一场大病，在一家小店里躺了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。恐怕就是在这三天里，他与三匹骆驼的关系由梦话或胡话被人家听了去。一清醒过来，他已经是“骆驼祥子”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66EAD-27C4-4640-96BC-4EBF8BEBA9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怒辞杨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祥子在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杨先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家拉包月。杨先生有两位太太，还有一大群孩子。祥子每天接送完这个，又要去伺候那个，同时还要干杂活。更可恨的是，主人不把仆人当人看，食宿很差。祥子有一天在送走一位女客人后，因为女主人的无理，忍无可忍，一怒之下，辞去了这份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6DD21-B537-49A6-8E61-304B024813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祥子的失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天，天气寒冷，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曹先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朋友去看夜场电影，祥子以及一些拉包月的车夫在一家茶馆喝茶聊天。这时，进来一位老车夫，说“沏一壶”，茶还没沏来，人已倒下了。大家把他救活，了解到他的家境。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老车夫和他的孙儿小马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拥有自己的车，命运却这样悲惨，祥子异常悲观，似乎看到了自己的将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8322A-5A19-49B4-B5E3-8EB2BB075C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孙侦探的敲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祥子和雇主曹先生被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孙侦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跟踪。曹先生叫祥子拉到左宅，并派祥子回家报信。在曹先生家门口，孙侦探拉住祥子，说曹先生是乱党，同时对祥子威胁恐吓。祥子六神无主，稀里糊涂把自己积攒准备买车的血汗钱交给了孙侦探，他的希望破灭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5D192-6A68-4C4E-9073-AA57B7EF3A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在烈日和暴雨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六月十五那天，先是烈日当空，晒得人喘不过气来；午后狂风大作，暴雨倾盆。在这冰火两重天里，祥子没有闲着，还在拉着车，他终于病倒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49A7B-0FA0-4BE4-B478-CC84D783D0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名著阅读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《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骆驼祥子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》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重点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8BAB5-6225-43FA-8BE6-D2EB493321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543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6db9"/>
                </a:solidFill>
                <a:latin typeface="Times New Roman"/>
                <a:ea typeface="华文彩云"/>
              </a:rPr>
              <a:t>作者介绍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69608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老舍（</a:t>
            </a:r>
            <a:r>
              <a:rPr b="1" lang="en-US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1899—1966</a:t>
            </a: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），原名舒庆春，字舍予，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人，著名作家。老舍生于北京城的一个贫民家庭，非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熟悉社会底层的市民生活，喜欢流传于市井巷里的民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艺术，这种生活阅历促成了他日后创作的平民化和“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味”小说的形成。（即：用北京方言书写北京的风土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情）他的代表作有著名小说</a:t>
            </a:r>
            <a:r>
              <a:rPr b="1" lang="en-US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《</a:t>
            </a: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骆驼祥子</a:t>
            </a:r>
            <a:r>
              <a:rPr b="1" lang="en-US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》</a:t>
            </a: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、</a:t>
            </a:r>
            <a:r>
              <a:rPr b="1" lang="en-US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《</a:t>
            </a: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四世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堂</a:t>
            </a:r>
            <a:r>
              <a:rPr b="1" lang="en-US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》</a:t>
            </a:r>
            <a:r>
              <a:rPr b="1" lang="en-US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,</a:t>
            </a: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分别被拍成电影和电视剧。同时，老舍还是一位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色的话剧家。代表作</a:t>
            </a:r>
            <a:r>
              <a:rPr b="1" lang="en-US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《</a:t>
            </a: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茶馆</a:t>
            </a:r>
            <a:r>
              <a:rPr b="1" lang="en-US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》</a:t>
            </a: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、</a:t>
            </a:r>
            <a:r>
              <a:rPr b="1" lang="en-US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《</a:t>
            </a: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龙须沟</a:t>
            </a:r>
            <a:r>
              <a:rPr b="1" lang="en-US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》</a:t>
            </a: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等，也被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成电视和电影。除此之外，还有许多优秀作品。老舍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汉仪菱心体简"/>
                <a:ea typeface="汉仪菱心体简"/>
              </a:rPr>
              <a:t>称是我国文学史上的一位巨匠</a:t>
            </a:r>
            <a:r>
              <a:rPr b="1" lang="zh-CN" sz="1800" spc="-1" strike="noStrike">
                <a:solidFill>
                  <a:srgbClr val="ccccff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836640"/>
            <a:ext cx="13046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476280"/>
            <a:ext cx="942840" cy="13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90C79-2100-4AB2-9411-B5EC223B3D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《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全家福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》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、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《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寶船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》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、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《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神掌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》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等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﹔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曲劇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《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柳樹井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》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、京劇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《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青霞丹雪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》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等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﹔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小說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《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無名高地有了名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》﹔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雜文集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《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過新年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》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、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《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福星集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》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、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《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小花朵集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》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、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《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出口成章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》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以及曲藝、散文、詩歌。</a:t>
            </a:r>
            <a:r>
              <a:rPr b="0" lang="zh-TW" sz="2400" spc="-1" strike="noStrike">
                <a:solidFill>
                  <a:srgbClr val="ff0000"/>
                </a:solidFill>
                <a:latin typeface="ˎ̥"/>
                <a:ea typeface="PMingLiU"/>
              </a:rPr>
              <a:t>這些作品生動地反映了我國社會主義革命和建設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，</a:t>
            </a:r>
            <a:r>
              <a:rPr b="0" lang="zh-TW" sz="2400" spc="-1" strike="noStrike">
                <a:solidFill>
                  <a:srgbClr val="ff0000"/>
                </a:solidFill>
                <a:latin typeface="ˎ̥"/>
                <a:ea typeface="PMingLiU"/>
              </a:rPr>
              <a:t>反映了我國人民在不同時期的斗爭生活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，而且語言</a:t>
            </a:r>
            <a:r>
              <a:rPr b="0" lang="zh-TW" sz="2400" spc="-1" strike="noStrike">
                <a:solidFill>
                  <a:srgbClr val="ff0000"/>
                </a:solidFill>
                <a:latin typeface="ˎ̥"/>
                <a:ea typeface="PMingLiU"/>
              </a:rPr>
              <a:t>生動、幽默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，獨具風格，受到廣大人民群眾的喜愛，在國內外享有很高的聲譽。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1951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年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12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月北京市人民政府授與老舍先生“人民藝術家”的光榮稱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ˎ̥"/>
                <a:ea typeface="PMingLiU"/>
              </a:rPr>
              <a:t>1966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年受“</a:t>
            </a:r>
            <a:r>
              <a:rPr b="0" lang="zh-TW" sz="2400" spc="-1" strike="noStrike">
                <a:solidFill>
                  <a:srgbClr val="ff0000"/>
                </a:solidFill>
                <a:latin typeface="ˎ̥"/>
                <a:ea typeface="PMingLiU"/>
              </a:rPr>
              <a:t>四人幫”的殘酷迫害，於</a:t>
            </a:r>
            <a:r>
              <a:rPr b="0" lang="en-US" sz="2400" spc="-1" strike="noStrike">
                <a:solidFill>
                  <a:srgbClr val="ff0000"/>
                </a:solidFill>
                <a:latin typeface="ˎ̥"/>
                <a:ea typeface="PMingLiU"/>
              </a:rPr>
              <a:t>8</a:t>
            </a:r>
            <a:r>
              <a:rPr b="0" lang="zh-TW" sz="2400" spc="-1" strike="noStrike">
                <a:solidFill>
                  <a:srgbClr val="ff0000"/>
                </a:solidFill>
                <a:latin typeface="ˎ̥"/>
                <a:ea typeface="PMingLiU"/>
              </a:rPr>
              <a:t>月</a:t>
            </a:r>
            <a:r>
              <a:rPr b="0" lang="en-US" sz="2400" spc="-1" strike="noStrike">
                <a:solidFill>
                  <a:srgbClr val="ff0000"/>
                </a:solidFill>
                <a:latin typeface="ˎ̥"/>
                <a:ea typeface="PMingLiU"/>
              </a:rPr>
              <a:t>24</a:t>
            </a:r>
            <a:r>
              <a:rPr b="0" lang="zh-TW" sz="2400" spc="-1" strike="noStrike">
                <a:solidFill>
                  <a:srgbClr val="ff0000"/>
                </a:solidFill>
                <a:latin typeface="ˎ̥"/>
                <a:ea typeface="PMingLiU"/>
              </a:rPr>
              <a:t>曰投湖去世</a:t>
            </a:r>
            <a:r>
              <a:rPr b="0" lang="zh-TW" sz="2400" spc="-1" strike="noStrike">
                <a:solidFill>
                  <a:srgbClr val="333399"/>
                </a:solidFill>
                <a:latin typeface="ˎ̥"/>
                <a:ea typeface="PMingLiU"/>
              </a:rPr>
              <a:t> 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320" y="4038480"/>
            <a:ext cx="92199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老舍的偉大就在於：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他深刻的觀察到了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標楷體"/>
              </a:rPr>
              <a:t>勞苦大眾在環境壓迫下的心靈沉淪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51" name="" descr="老舍"/>
          <p:cNvPicPr/>
          <p:nvPr/>
        </p:nvPicPr>
        <p:blipFill>
          <a:blip r:embed="rId2"/>
          <a:stretch/>
        </p:blipFill>
        <p:spPr>
          <a:xfrm>
            <a:off x="685800" y="762120"/>
            <a:ext cx="3840120" cy="5410080"/>
          </a:xfrm>
          <a:prstGeom prst="rect">
            <a:avLst/>
          </a:prstGeom>
          <a:ln w="0">
            <a:noFill/>
          </a:ln>
        </p:spPr>
      </p:pic>
      <p:pic>
        <p:nvPicPr>
          <p:cNvPr id="52" name="loashe" descr=""/>
          <p:cNvPicPr/>
          <p:nvPr/>
        </p:nvPicPr>
        <p:blipFill>
          <a:blip r:embed="rId3"/>
          <a:stretch/>
        </p:blipFill>
        <p:spPr>
          <a:xfrm>
            <a:off x="4876920" y="76320"/>
            <a:ext cx="3514680" cy="5105160"/>
          </a:xfrm>
          <a:prstGeom prst="rect">
            <a:avLst/>
          </a:prstGeom>
          <a:ln w="0">
            <a:noFill/>
          </a:ln>
        </p:spPr>
      </p:pic>
      <p:pic>
        <p:nvPicPr>
          <p:cNvPr id="53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62200" y="1981080"/>
            <a:ext cx="276408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A7131-5E8F-4690-979D-21FB22BAEF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骆驼祥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是老舍这时期最有代表性的作品，也是现代长篇小说的一部杰作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08680" y="1371600"/>
            <a:ext cx="2921040" cy="42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14400" y="2286000"/>
            <a:ext cx="4724280" cy="322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52240" y="5791320"/>
            <a:ext cx="43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左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骆驼祥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剧照；右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骆驼祥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影海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CD3CB-AE87-472D-9FA4-6A0FA68FDB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115560"/>
            <a:ext cx="8893080" cy="59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77777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骆驼祥子</a:t>
            </a: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以旧中国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北平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为背景，描写了人力车夫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祥子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由人堕落为“兽”的悲惨遭遇，表达了作者对社会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最底层的劳动者苦难命运的关怀和同情，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歌颂了祥子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勤劳、朴实、善良、向上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的品质，深刻揭示了造成祥子悲剧命运的原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777777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骆驼祥子</a:t>
            </a: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浓郁的北京地方色彩，从语言、环境到风俗人情，更显示了作者日渐成熟而富有魅力的艺术风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BF5BC-45EE-4D23-A30A-A888BFE456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对于人性与命运的深刻体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713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祥子的顽强生命，仅仅表现在肉体的吃苦上，表现在正面的人生努力上，而不表现在对灾难的承受力和反抗力上。憨厚沉默的祥子实际上也生着一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善感脆弱的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显然不是挣扎到完全走投无路的时候才放弃人生追求的，而是从生活经验中预计到未来也是黑暗就停止奋斗的。当外在的力量压迫生命的时候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祥子总是既没有去分析压迫的根源，引出抗争的愿望；也没有去内省自己的个性，增强反抗的力量。每一次的打击，都只是更深地引起祥子对自我生命价值的否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总是自问：要强又怎么样呢。烟、酒、色都对他更增添一份诱惑力。在虎妞和夏太太的伤害中，固然是她们设好圈套让祥子钻，但同时也是由于祥子缺少足够的意志力战胜自己的本能冲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22E7D-8834-4530-BD7D-16605C0C0C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艺术特色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　“京味”特色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取材：丰富的北京生活经验，写大小杂院，四合院和胡同，写市民凡俗生活中所呈现的场景风致，提供了丰富多彩的北京画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语言艺术：运用北京市民俗白浅易的口语，成功地把语言的通俗性与文学性统一起来，做到了干净利落，鲜活纯熟，平易而不粗俗，精制而不雕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F862F-7328-462E-B438-A730F8F7A1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二）采用传统小说的单线索结构方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围绕祥子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希望－－奋斗－－绝望直到堕落（三起三落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条生活道路的主线，安排事件，展开情节，并引出其他人物，单线严谨，不枝不蔓，既充分展示了祥子性格发展变化的轨迹，又深刻揭示祥子与其所处的广阔而复杂的社会环境之间的密切联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49A83-BB1E-49D6-BE08-6E962CE417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片断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“嗨！”她（虎妞）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往前凑了一步，声音不高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说：“别楞着！去，把车放下，赶紧回来，有话跟你说。屋里见。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平日帮她办惯了事，他（祥子）只好服从。但是今天她和往日不同，他很想要思索一下；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楞在那里去想，又怪僵得慌；他没主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把车拉了进去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看看南屋，没有灯光，大概是都睡了；或者还有没收车的。把车放好，他折回到她的门前。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忽然，他的心跳起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“进来呀，有话跟你说！”她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探出头来，半笑半恼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说。他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慢慢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了进去。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桌上有几个还不甚熟的白梨，皮儿还发青。一把酒壶，三个白磁酒盅。一个头号大盘子，摆着半只酱鸡，和些熏肝酱肚之类的吃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“你瞧，”虎姑娘指给他一个椅子，看他坐下了，才说：“你瞧，我今天吃犒劳，你也吃点！”说着，她给他斟上一杯酒；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白干酒的辣味，混合上熏酱肉味，显着特别的浓厚沉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“喝吧，吃了这个鸡；我已早吃过了，不必让！我刚才用骨牌打了一卦，准知道你回来，灵不灵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“我不喝酒！”祥子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看着酒盅出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“不喝就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滚出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好心好意，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不领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怎着？你个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傻骆驼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辣不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你！连我还能喝四两呢。不信，你看看！”她把酒盅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端起来，灌了多半盅，一闭眼，哈了一声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举着盅儿：“你喝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要不我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揪耳朵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你！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E5312-2EC7-4D4B-AABD-38661625A4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2-12-11T13:28:03Z</dcterms:modified>
  <cp:revision>48</cp:revision>
  <dc:subject/>
  <dc:title>PowerPoint Presentation</dc:title>
</cp:coreProperties>
</file>