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7.wmf" ContentType="image/x-wmf"/>
  <Override PartName="/ppt/media/image5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1FC-A98C-4439-B493-3FBF18C6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5B9-7D7B-4ED8-B02D-B6EE5BFA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3AC-3BCC-4569-86CF-A82255F7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37B-C0FB-4DD0-A7B2-9D1882B7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515-4E60-4ED8-B1C5-CCA83251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C6B-DE64-402A-B80D-E2575415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5AE-6C83-47B7-B220-A1A66F5C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34FD-4B8A-4390-9E23-D2AE68CF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6E2-01A6-4C13-BE5A-9294EC3F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23A-1BB6-4DAD-A1C5-1B09B165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CB7-892D-42E4-8ED6-7A99E3D5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F30-A8B4-427F-902B-61AAB5A8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B051-9CD8-4DD1-92AA-CE97CB9E9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416,9,&#24187;&#28783;&#29255; 9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424,7,&#25454;&#32769;&#29579;&#33258;&#24049;&#35762;&#65306;&#21271;&#20140;&#35299;&#25918;&#21518;&#65292;&#36460;&#19977;&#36718;&#30340;&#37117;&#32452;&#32455;&#36215;&#26469;&#8230;&#8230; &#8220;&#32452;&#32455;&#36215;&#26469;&#8221;&#26159;&#20160;&#20040;&#24847;&#24605;&#65311;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414,6,&#24187;&#28783;&#29255; 6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427,24,8-16&#27573;" TargetMode="External"/><Relationship Id="rId2" Type="http://schemas.openxmlformats.org/officeDocument/2006/relationships/hyperlink" Target="427,24,8-16&#27573;" TargetMode="External"/><Relationship Id="rId3" Type="http://schemas.openxmlformats.org/officeDocument/2006/relationships/hyperlink" Target="427,24,8-16&#27573;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1"/>
          <p:cNvPicPr/>
          <p:nvPr/>
        </p:nvPicPr>
        <p:blipFill>
          <a:blip r:embed="rId1"/>
          <a:srcRect l="0" t="2439" r="158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468360" y="44280"/>
            <a:ext cx="2233440" cy="30200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老 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972800" y="108792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杨 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2986560" y="6165720"/>
            <a:ext cx="317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0" y="1413000"/>
            <a:ext cx="914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34"/>
          <p:cNvPicPr/>
          <p:nvPr/>
        </p:nvPicPr>
        <p:blipFill>
          <a:blip r:embed="rId1"/>
          <a:stretch/>
        </p:blipFill>
        <p:spPr>
          <a:xfrm>
            <a:off x="6622920" y="0"/>
            <a:ext cx="2521080" cy="19954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240" y="14400"/>
            <a:ext cx="7772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以善良体察善良，作者一家的善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表现在哪里？（至少找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处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216000" y="5516640"/>
            <a:ext cx="755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我”询问老王的病情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06280" y="1668600"/>
            <a:ext cx="7137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我”照顾老王的生意，坐他的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206280" y="2344680"/>
            <a:ext cx="9053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我”女儿知道他有夜盲症，送他大瓶鱼肝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243000" y="3068640"/>
            <a:ext cx="865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王再客气，“我”也付给他应得的报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206280" y="4724280"/>
            <a:ext cx="916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王送来香油、鸡蛋，“我”不让他白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206280" y="3860640"/>
            <a:ext cx="865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“我”问老王“是否能维持生活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3273480" y="225360"/>
            <a:ext cx="20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那是一个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幸运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的人对一个不幸者的愧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546200" y="927000"/>
            <a:ext cx="55450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走进杨绛一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74520" y="2276640"/>
            <a:ext cx="8890200" cy="170208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文章作于</a:t>
            </a:r>
            <a:r>
              <a:rPr b="1" lang="en-US" sz="3200" spc="-1" strike="noStrike">
                <a:solidFill>
                  <a:srgbClr val="ff0000"/>
                </a:solidFill>
                <a:latin typeface="_x000b__x000c_"/>
              </a:rPr>
              <a:t>198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。这是一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回忆性的散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作者记叙了自己从前同老王交往中的几个片段，当时正是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文化大革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时期，是一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荒唐动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年代，作者夫妇被认为是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反动学术权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，被下放到偏远地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杨绛夫妇为什么要这么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79280" y="162864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Tahoma"/>
                <a:ea typeface="华文行楷"/>
              </a:rPr>
              <a:t>因为他们有平等观念，有爱心和同情心（人道主义精神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杨绛3"/>
          <p:cNvPicPr/>
          <p:nvPr/>
        </p:nvPicPr>
        <p:blipFill>
          <a:blip r:embed="rId1"/>
          <a:stretch/>
        </p:blipFill>
        <p:spPr>
          <a:xfrm>
            <a:off x="826920" y="3213000"/>
            <a:ext cx="7569360" cy="322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MCj03943080000[1]"/>
          <p:cNvPicPr/>
          <p:nvPr/>
        </p:nvPicPr>
        <p:blipFill>
          <a:blip r:embed="rId2"/>
          <a:stretch/>
        </p:blipFill>
        <p:spPr>
          <a:xfrm>
            <a:off x="4572000" y="549360"/>
            <a:ext cx="345600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杨绛1"/>
          <p:cNvPicPr/>
          <p:nvPr/>
        </p:nvPicPr>
        <p:blipFill>
          <a:blip r:embed="rId1"/>
          <a:stretch/>
        </p:blipFill>
        <p:spPr>
          <a:xfrm>
            <a:off x="217440" y="14400"/>
            <a:ext cx="2016000" cy="1800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MCj03943080000[1]"/>
          <p:cNvPicPr/>
          <p:nvPr/>
        </p:nvPicPr>
        <p:blipFill>
          <a:blip r:embed="rId2"/>
          <a:stretch/>
        </p:blipFill>
        <p:spPr>
          <a:xfrm>
            <a:off x="5580000" y="6021360"/>
            <a:ext cx="2789280" cy="432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217440" y="1814400"/>
            <a:ext cx="8926560" cy="673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黑体"/>
              </a:rPr>
              <a:t>那是一个幸运的人对一个不幸者的愧怍”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17440" y="2492280"/>
            <a:ext cx="8137440" cy="2297880"/>
          </a:xfrm>
          <a:prstGeom prst="rect">
            <a:avLst/>
          </a:prstGeom>
          <a:solidFill>
            <a:srgbClr val="c0c0c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作者认为与老王一生的贫病相比，自己在文革中所受的折磨算不了什么，算得上是幸运的人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而有责任去关爱不幸者，帮助不幸者改善他们的生活处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回想自己对老王的关爱理解还很不够，所以感到惭愧。表现了作者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等观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道主义精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杨绛2"/>
          <p:cNvPicPr/>
          <p:nvPr/>
        </p:nvPicPr>
        <p:blipFill>
          <a:blip r:embed="rId3"/>
          <a:stretch/>
        </p:blipFill>
        <p:spPr>
          <a:xfrm>
            <a:off x="5857920" y="168120"/>
            <a:ext cx="2233440" cy="16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10"/>
          <p:cNvPicPr/>
          <p:nvPr/>
        </p:nvPicPr>
        <p:blipFill>
          <a:blip r:embed="rId1"/>
          <a:stretch/>
        </p:blipFill>
        <p:spPr>
          <a:xfrm>
            <a:off x="179280" y="2565360"/>
            <a:ext cx="8964720" cy="4292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324000" y="260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华文新魏"/>
              </a:rPr>
              <a:t>特蕾莎修女说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华文新魏"/>
              </a:rPr>
              <a:t>我们常常无法做伟大的事，但我们可以用伟大的爱去做些小事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39640" y="1989000"/>
            <a:ext cx="8280360" cy="4653000"/>
            <a:chOff x="539640" y="1989000"/>
            <a:chExt cx="8280360" cy="4653000"/>
          </a:xfrm>
        </p:grpSpPr>
        <p:grpSp>
          <p:nvGrpSpPr>
            <p:cNvPr id="127" name="Group 5"/>
            <p:cNvGrpSpPr/>
            <p:nvPr/>
          </p:nvGrpSpPr>
          <p:grpSpPr>
            <a:xfrm>
              <a:off x="539640" y="1989000"/>
              <a:ext cx="8280360" cy="4653000"/>
              <a:chOff x="539640" y="1989000"/>
              <a:chExt cx="8280360" cy="4653000"/>
            </a:xfrm>
          </p:grpSpPr>
          <p:sp>
            <p:nvSpPr>
              <p:cNvPr id="128" name="Text Box 6"/>
              <p:cNvSpPr/>
              <p:nvPr/>
            </p:nvSpPr>
            <p:spPr>
              <a:xfrm>
                <a:off x="1306440" y="2596680"/>
                <a:ext cx="73749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8000"/>
                    </a:solidFill>
                    <a:latin typeface="华文行楷"/>
                    <a:ea typeface="华文行楷"/>
                  </a:rPr>
                  <a:t> </a:t>
                </a:r>
                <a:r>
                  <a:rPr b="0" lang="zh-CN" sz="2400" spc="-1" strike="noStrike">
                    <a:solidFill>
                      <a:srgbClr val="008000"/>
                    </a:solidFill>
                    <a:latin typeface="华文行楷"/>
                    <a:ea typeface="华文行楷"/>
                  </a:rPr>
                  <a:t>只要人人都献出一点爱</a:t>
                </a:r>
                <a:r>
                  <a:rPr b="0" lang="en-US" sz="2400" spc="-1" strike="noStrike">
                    <a:solidFill>
                      <a:srgbClr val="008000"/>
                    </a:solidFill>
                    <a:latin typeface="华文行楷"/>
                    <a:ea typeface="华文行楷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8000"/>
                    </a:solidFill>
                    <a:latin typeface="华文行楷"/>
                    <a:ea typeface="华文行楷"/>
                  </a:rPr>
                  <a:t> </a:t>
                </a:r>
                <a:r>
                  <a:rPr b="0" lang="zh-CN" sz="2400" spc="-1" strike="noStrike">
                    <a:solidFill>
                      <a:srgbClr val="008000"/>
                    </a:solidFill>
                    <a:latin typeface="华文行楷"/>
                    <a:ea typeface="华文行楷"/>
                  </a:rPr>
                  <a:t>世界将变成美好的人间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AutoShape 7"/>
              <p:cNvSpPr/>
              <p:nvPr/>
            </p:nvSpPr>
            <p:spPr>
              <a:xfrm>
                <a:off x="539640" y="1989000"/>
                <a:ext cx="8280360" cy="4653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noFill/>
              <a:ln w="101520">
                <a:solidFill>
                  <a:srgbClr val="f825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0" name="Picture 8" descr="MCj03049190000[1]"/>
            <p:cNvPicPr/>
            <p:nvPr/>
          </p:nvPicPr>
          <p:blipFill>
            <a:blip r:embed="rId2"/>
            <a:stretch/>
          </p:blipFill>
          <p:spPr>
            <a:xfrm>
              <a:off x="3811320" y="4484880"/>
              <a:ext cx="1805040" cy="1198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24000" y="1412640"/>
            <a:ext cx="8291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总有一种声音让我们泪流满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总有一张照片让我们隐隐作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我们享受着幸福的时候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不要忘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有一群本应该和我们一样的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正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苦苦挣扎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57200" y="457200"/>
            <a:ext cx="7715160" cy="1099440"/>
          </a:xfrm>
          <a:prstGeom prst="rect">
            <a:avLst/>
          </a:prstGeom>
          <a:solidFill>
            <a:srgbClr val="0000ff">
              <a:alpha val="33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黑体"/>
              </a:rPr>
              <a:t>关注身边的 “老王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26" descr="照片 030"/>
          <p:cNvPicPr/>
          <p:nvPr/>
        </p:nvPicPr>
        <p:blipFill>
          <a:blip r:embed="rId1"/>
          <a:stretch/>
        </p:blipFill>
        <p:spPr>
          <a:xfrm>
            <a:off x="1755720" y="404640"/>
            <a:ext cx="5761080" cy="64533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34"/>
          <p:cNvSpPr/>
          <p:nvPr/>
        </p:nvSpPr>
        <p:spPr>
          <a:xfrm>
            <a:off x="7885080" y="981000"/>
            <a:ext cx="1116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同样是花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2005620173537635"/>
          <p:cNvPicPr/>
          <p:nvPr/>
        </p:nvPicPr>
        <p:blipFill>
          <a:blip r:embed="rId1">
            <a:grayscl/>
          </a:blip>
          <a:stretch/>
        </p:blipFill>
        <p:spPr>
          <a:xfrm>
            <a:off x="324000" y="333360"/>
            <a:ext cx="7777080" cy="6489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699680" y="0"/>
            <a:ext cx="127764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黑体"/>
              </a:rPr>
              <a:t>我们的课桌，我们的床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dur="indefinite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172000" y="1341360"/>
            <a:ext cx="9716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自食其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452520"/>
            <a:ext cx="810108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32"/>
          <p:cNvPicPr/>
          <p:nvPr/>
        </p:nvPicPr>
        <p:blipFill>
          <a:blip r:embed="rId1"/>
          <a:stretch/>
        </p:blipFill>
        <p:spPr>
          <a:xfrm>
            <a:off x="971640" y="392040"/>
            <a:ext cx="7127640" cy="6465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8172360" y="1557360"/>
            <a:ext cx="97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雨中的教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4356000" y="1484280"/>
            <a:ext cx="4500720" cy="27741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杨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杨季康的笔名，生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钱钟书的夫人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著名作家、评论家、翻译家、学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祖籍江苏无锡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著有散文集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干校六记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饮茶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、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仨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长篇小说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洗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，译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堂吉诃德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5292720" y="260280"/>
            <a:ext cx="266688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作者简介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7" name="Picture 7" descr="杨绛1"/>
          <p:cNvPicPr/>
          <p:nvPr/>
        </p:nvPicPr>
        <p:blipFill>
          <a:blip r:embed="rId1"/>
          <a:stretch/>
        </p:blipFill>
        <p:spPr>
          <a:xfrm>
            <a:off x="179280" y="260280"/>
            <a:ext cx="3996000" cy="2808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34"/>
          <p:cNvPicPr/>
          <p:nvPr/>
        </p:nvPicPr>
        <p:blipFill>
          <a:blip r:embed="rId2"/>
          <a:stretch/>
        </p:blipFill>
        <p:spPr>
          <a:xfrm>
            <a:off x="179280" y="3141720"/>
            <a:ext cx="3961080" cy="3135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179280" y="63388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钱钟书夫妇和女儿钱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2"/>
          <p:cNvPicPr/>
          <p:nvPr/>
        </p:nvPicPr>
        <p:blipFill>
          <a:blip r:embed="rId1"/>
          <a:stretch/>
        </p:blipFill>
        <p:spPr>
          <a:xfrm>
            <a:off x="250920" y="666720"/>
            <a:ext cx="7561080" cy="6191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8031240" y="1557360"/>
            <a:ext cx="917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方正姚体"/>
              </a:rPr>
              <a:t>互相帮助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dur="indefinite" nodeType="afterEffect" fill="hold" presetClass="entr" presetID="5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132000" y="404640"/>
            <a:ext cx="3456000" cy="10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感悟升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755640" y="1700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应该如何对待身边的“老王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403280" y="292428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要有爱心，关心、尊重、帮助他们，不求回报，要有平等观念和人道主义精神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4731"/>
          <p:cNvPicPr/>
          <p:nvPr/>
        </p:nvPicPr>
        <p:blipFill>
          <a:blip r:embed="rId1"/>
          <a:stretch/>
        </p:blipFill>
        <p:spPr>
          <a:xfrm>
            <a:off x="0" y="0"/>
            <a:ext cx="9144000" cy="70279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0" y="3860640"/>
            <a:ext cx="9144000" cy="1312920"/>
          </a:xfrm>
          <a:prstGeom prst="rect">
            <a:avLst/>
          </a:prstGeom>
          <a:solidFill>
            <a:srgbClr val="9900c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ahoma"/>
                <a:ea typeface="华文新魏"/>
              </a:rPr>
              <a:t>赠人玫瑰  手有余香</a:t>
            </a:r>
            <a:r>
              <a:rPr b="0" lang="zh-CN" sz="8000" spc="-1" strike="noStrike">
                <a:solidFill>
                  <a:srgbClr val="ffff99"/>
                </a:solidFill>
                <a:latin typeface="Tahoma"/>
                <a:ea typeface="华文新魏"/>
              </a:rPr>
              <a:t>   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43280" y="1700280"/>
            <a:ext cx="3744720" cy="131292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ahoma"/>
                <a:ea typeface="华文新魏"/>
              </a:rPr>
              <a:t> </a:t>
            </a:r>
            <a:r>
              <a:rPr b="1" lang="zh-CN" sz="8000" spc="-1" strike="noStrike">
                <a:solidFill>
                  <a:srgbClr val="ffff00"/>
                </a:solidFill>
                <a:latin typeface="Tahoma"/>
                <a:ea typeface="黑体"/>
              </a:rPr>
              <a:t>请记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任选下面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其中一题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进行仿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爱心是一片洒落在旱地上的甘霖，使心灵枯萎的人尝到情感的甜美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爱心是一首飘荡在夜间的歌谣，使孤苦无依的人获得心灵的慰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爱心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　　　　　　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爱心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2600" y="25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-16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1556640" y="846000"/>
            <a:ext cx="50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段主要是什么描写？怎样写的？有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1267200" y="1370160"/>
            <a:ext cx="41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段主要是老王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外貌（肖像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描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655360" y="1889280"/>
            <a:ext cx="4254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用了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夸张和比喻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的修辞手法。“镶嵌”是夸张，“打一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就会散成一堆白骨”是夸张，“僵尸”是比喻，生动形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地强调了老王因久生重病而生命衰竭、身体僵直、毫无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机的形态，表达了“我”对他的同情，衬托老王淳朴善良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知恩图报的品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1644480" y="4226040"/>
            <a:ext cx="45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段的“强笑”是什么意思？有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1908720" y="4851360"/>
            <a:ext cx="53442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强笑”是“勉强地笑”，用了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神态和动作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描写，准确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含蓄地写出了“我”看到老王已经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病入膏肓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还拿东西谢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们时内心的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酸楚和感动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377360" y="33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华文行楷"/>
              </a:rPr>
              <a:t>检查预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042920" y="2492280"/>
            <a:ext cx="701064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伛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      荒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僻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      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攥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     ）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塌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败（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取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缔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     ）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骷髅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滞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笨（     ）      愧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怍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惶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恐（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3" descr="77"/>
          <p:cNvPicPr/>
          <p:nvPr/>
        </p:nvPicPr>
        <p:blipFill>
          <a:blip r:embed="rId1"/>
          <a:stretch/>
        </p:blipFill>
        <p:spPr>
          <a:xfrm>
            <a:off x="611280" y="1125360"/>
            <a:ext cx="7848360" cy="457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4"/>
          <p:cNvSpPr/>
          <p:nvPr/>
        </p:nvSpPr>
        <p:spPr>
          <a:xfrm>
            <a:off x="1646280" y="1627920"/>
            <a:ext cx="269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给下列红体字注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377360" y="33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华文行楷"/>
              </a:rPr>
              <a:t>检查预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042920" y="2492280"/>
            <a:ext cx="77058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伛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yǔ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    荒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僻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ì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攥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zuàn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塌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败（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ā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取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缔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ì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骷髅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ū  lóu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滞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笨（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zhì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     愧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怍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zuò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惶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恐（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uáng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3" descr="77"/>
          <p:cNvPicPr/>
          <p:nvPr/>
        </p:nvPicPr>
        <p:blipFill>
          <a:blip r:embed="rId1"/>
          <a:stretch/>
        </p:blipFill>
        <p:spPr>
          <a:xfrm>
            <a:off x="611280" y="1125360"/>
            <a:ext cx="78483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1646280" y="1627920"/>
            <a:ext cx="269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给下列红体字注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270080" y="360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默读课文，理清思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2240" y="234324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老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左大括号 4"/>
          <p:cNvSpPr/>
          <p:nvPr/>
        </p:nvSpPr>
        <p:spPr>
          <a:xfrm>
            <a:off x="755640" y="2235240"/>
            <a:ext cx="46080" cy="193680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1936800"/>
              <a:gd name="textAreaBottom" fmla="*/ 1935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758"/>
                </a:lnTo>
                <a:cubicBezTo>
                  <a:pt x="10800" y="10779"/>
                  <a:pt x="5400" y="10800"/>
                  <a:pt x="0" y="10800"/>
                </a:cubicBezTo>
                <a:cubicBezTo>
                  <a:pt x="5400" y="10800"/>
                  <a:pt x="10800" y="10821"/>
                  <a:pt x="10800" y="1084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522080" y="2209680"/>
            <a:ext cx="28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老王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基本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1099800" y="3586320"/>
            <a:ext cx="282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2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回忆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老王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交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左大括号 7"/>
          <p:cNvSpPr/>
          <p:nvPr/>
        </p:nvSpPr>
        <p:spPr>
          <a:xfrm>
            <a:off x="4140360" y="3360600"/>
            <a:ext cx="45720" cy="1301760"/>
          </a:xfrm>
          <a:custGeom>
            <a:avLst/>
            <a:gdLst>
              <a:gd name="textAreaLeft" fmla="*/ 29160 w 45720"/>
              <a:gd name="textAreaRight" fmla="*/ 46080 w 45720"/>
              <a:gd name="textAreaTop" fmla="*/ 1080 h 1301760"/>
              <a:gd name="textAreaBottom" fmla="*/ 1300680 h 13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"/>
                  <a:pt x="10800" y="62"/>
                </a:cubicBezTo>
                <a:lnTo>
                  <a:pt x="10800" y="10738"/>
                </a:lnTo>
                <a:cubicBezTo>
                  <a:pt x="10800" y="10769"/>
                  <a:pt x="5400" y="10800"/>
                  <a:pt x="0" y="10800"/>
                </a:cubicBezTo>
                <a:cubicBezTo>
                  <a:pt x="5400" y="10800"/>
                  <a:pt x="10800" y="10831"/>
                  <a:pt x="10800" y="10862"/>
                </a:cubicBezTo>
                <a:lnTo>
                  <a:pt x="10800" y="21538"/>
                </a:lnTo>
                <a:cubicBezTo>
                  <a:pt x="10800" y="21569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4209840" y="3235320"/>
            <a:ext cx="8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441400" y="3203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老王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工作与为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4212000" y="37800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4219920" y="42940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-2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5764680" y="37800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老王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临死前给“我”送东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5826600" y="43084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”得知老王去世后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感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9720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默读课文，思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571760" y="18288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文章哪句话揭示了中心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393720" y="3573360"/>
            <a:ext cx="30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那是一个幸运的人对一个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不幸者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的愧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3191040" y="43959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卒章显志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488960" y="476280"/>
            <a:ext cx="2954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老王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幸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现在哪些方面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8640" y="2790720"/>
          <a:ext cx="7713720" cy="3103560"/>
        </p:xfrm>
        <a:graphic>
          <a:graphicData uri="http://schemas.openxmlformats.org/drawingml/2006/table">
            <a:tbl>
              <a:tblPr/>
              <a:tblGrid>
                <a:gridCol w="3048120"/>
                <a:gridCol w="466560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93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0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9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6" name="TextBox 3"/>
          <p:cNvSpPr/>
          <p:nvPr/>
        </p:nvSpPr>
        <p:spPr>
          <a:xfrm>
            <a:off x="5721480" y="28432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谋生手段艰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6254640" y="3505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孤苦无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6391080" y="4473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生理残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7026840" y="5330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差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307800" y="1557360"/>
            <a:ext cx="88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段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从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__________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句，认识到老王的不幸表现在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___________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的句式说说他的不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1046520" y="2855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职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3831840" y="287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轮车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83304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家庭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539640" y="437976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健康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2"/>
          <p:cNvSpPr/>
          <p:nvPr/>
        </p:nvSpPr>
        <p:spPr>
          <a:xfrm>
            <a:off x="539640" y="533088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居住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3834720" y="3449520"/>
            <a:ext cx="17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个哥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3747240" y="446400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只有一只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4534920" y="5288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荒僻、塌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988440" y="5950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7772400" cy="18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据老王自己讲：北京解放后，蹬三轮的都组织起来…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组织起来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1640" y="2034720"/>
            <a:ext cx="81342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按当时的“理论”，单干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是资本主义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；只有组织起“合作社”之类，并建立党的组织，才是社会主义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" action="ppaction://hlinkshowjump?jump=nextslide"/>
          </p:cNvPr>
          <p:cNvSpPr/>
          <p:nvPr/>
        </p:nvSpPr>
        <p:spPr>
          <a:xfrm>
            <a:off x="6711840" y="6416640"/>
            <a:ext cx="381240" cy="365040"/>
          </a:xfrm>
          <a:prstGeom prst="righ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">
            <a:hlinkClick r:id="" action="ppaction://hlinkshowjump?jump=previousslide"/>
          </p:cNvPr>
          <p:cNvSpPr/>
          <p:nvPr/>
        </p:nvSpPr>
        <p:spPr>
          <a:xfrm>
            <a:off x="5187960" y="6416640"/>
            <a:ext cx="380880" cy="365040"/>
          </a:xfrm>
          <a:prstGeom prst="lef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>
            <a:hlinkClick r:id="" action="ppaction://hlinkshowjump?jump=firstslide"/>
          </p:cNvPr>
          <p:cNvSpPr/>
          <p:nvPr/>
        </p:nvSpPr>
        <p:spPr>
          <a:xfrm>
            <a:off x="5911920" y="6400800"/>
            <a:ext cx="53316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3500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什么老王常有“失群落伍的惶恐”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64328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因为他是单干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“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单干户”在当时被认为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思想落后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4920" y="154080"/>
            <a:ext cx="8712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本文记叙了与老王交往过程中的哪几件事？你认为老王是个怎样的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987640" y="505728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1257480" y="1249200"/>
            <a:ext cx="47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为作者送冰，车费减半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→老实厚道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1521360" y="1766880"/>
            <a:ext cx="5223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送钱先生看病，不要钱，拿了钱还不大放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              →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心地善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751760" y="2733840"/>
            <a:ext cx="522720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"/>
              </a:rPr>
              <a:t>第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/>
              </a:rPr>
              <a:t>9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/>
              </a:rPr>
              <a:t>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王去世前给作者送香油和鸡蛋→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知恩图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88800" y="3888720"/>
            <a:ext cx="754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综上所述：老王是个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老实厚道，不贪钱，善良，懂感恩</a:t>
            </a:r>
            <a:r>
              <a:rPr b="1" lang="zh-CN" sz="2800" spc="-1" strike="noStrike" u="sng">
                <a:solidFill>
                  <a:srgbClr val="002060"/>
                </a:solidFill>
                <a:uFillTx/>
                <a:latin typeface="Times New Roman"/>
                <a:ea typeface="楷体_GB2312"/>
              </a:rPr>
              <a:t>的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2:29:13Z</dcterms:created>
  <dc:creator>第一PPT模板网-WWW.1PPT.COM</dc:creator>
  <dc:description>第一PPT模板网-WWW.1PPT.COM</dc:description>
  <cp:keywords>第一PPT模板网-WWW.1PPT.COM</cp:keywords>
  <dc:language>en-US</dc:language>
  <cp:lastModifiedBy>wuhan</cp:lastModifiedBy>
  <dcterms:modified xsi:type="dcterms:W3CDTF">2017-03-23T05:37:49Z</dcterms:modified>
  <cp:revision>6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7</vt:lpwstr>
  </property>
</Properties>
</file>