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97D-2F57-4FC0-A549-9B6E69A7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48E-3901-41A4-8292-E220132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583-D93B-4AA2-A87D-8EFF98DA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7FB-A920-426F-86FD-3FFD8B6A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422-5F54-4388-87A1-9424A3C3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565-2CAE-44A0-A0BD-F5555F13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000-85B8-4F90-9E8F-35A2B220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1D7-976A-4C7C-AD4C-EAA68329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444-8A08-4006-92B6-1F3D457B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882-E147-4EEC-A058-55DD4D4F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3D4-6D8E-4B93-9D81-2007867D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143-A74D-4DDA-A12D-61CE23D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6F3BFC-1C8E-4187-802E-0074B5848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1280" y="2597040"/>
            <a:ext cx="90709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800" spc="-1" strike="noStrike">
                <a:solidFill>
                  <a:srgbClr val="272e36"/>
                </a:solidFill>
                <a:latin typeface="汉鼎简中黑"/>
                <a:ea typeface="汉鼎简中黑"/>
              </a:rPr>
              <a:t>旅游计划</a:t>
            </a:r>
            <a:r>
              <a:rPr b="1" lang="zh-CN" sz="4800" spc="-1" strike="noStrike">
                <a:solidFill>
                  <a:srgbClr val="272e36"/>
                </a:solidFill>
                <a:latin typeface="汉鼎简中黑"/>
                <a:ea typeface="汉鼎简中黑"/>
              </a:rPr>
              <a:t>PPT</a:t>
            </a:r>
            <a:r>
              <a:rPr b="1" lang="zh-CN" sz="4800" spc="-1" strike="noStrike">
                <a:solidFill>
                  <a:srgbClr val="272e36"/>
                </a:solidFill>
                <a:latin typeface="汉鼎简中黑"/>
                <a:ea typeface="汉鼎简中黑"/>
              </a:rPr>
              <a:t>模板</a:t>
            </a:r>
            <a:br>
              <a:rPr sz="5400"/>
            </a:br>
            <a:r>
              <a:rPr b="0" lang="zh-CN" sz="3200" spc="-1" strike="noStrike">
                <a:solidFill>
                  <a:srgbClr val="133563"/>
                </a:solidFill>
                <a:latin typeface="Arial"/>
              </a:rPr>
              <a:t>www.ppt5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c7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496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68360" y="279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3600" spc="-1" strike="noStrike">
                <a:solidFill>
                  <a:srgbClr val="272e36"/>
                </a:solidFill>
                <a:latin typeface="Arial Black"/>
                <a:ea typeface="创艺简粗黑"/>
              </a:rPr>
              <a:t>点击此处添加</a:t>
            </a:r>
            <a:r>
              <a:rPr b="0" lang="en-US" sz="3600" spc="-1" strike="noStrike">
                <a:solidFill>
                  <a:srgbClr val="272e36"/>
                </a:solidFill>
                <a:latin typeface="Arial Black"/>
                <a:ea typeface="创艺简粗黑"/>
              </a:rPr>
              <a:t>PPT</a:t>
            </a:r>
            <a:r>
              <a:rPr b="0" lang="zh-CN" sz="3600" spc="-1" strike="noStrike">
                <a:solidFill>
                  <a:srgbClr val="272e36"/>
                </a:solidFill>
                <a:latin typeface="Arial Black"/>
                <a:ea typeface="创艺简粗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33563"/>
                </a:solidFill>
                <a:latin typeface="Arial"/>
              </a:rPr>
              <a:t>www.ppt5u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c7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496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1320840" y="2077920"/>
            <a:ext cx="7364520" cy="784440"/>
          </a:xfrm>
          <a:prstGeom prst="roundRect">
            <a:avLst>
              <a:gd name="adj" fmla="val 11741"/>
            </a:avLst>
          </a:prstGeom>
          <a:solidFill>
            <a:srgbClr val="272e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1339920" y="411336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496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395360" y="300816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395360" y="49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279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3600" spc="-1" strike="noStrike">
                <a:solidFill>
                  <a:srgbClr val="272e36"/>
                </a:solidFill>
                <a:latin typeface="Arial Black"/>
                <a:ea typeface="创艺简粗黑"/>
              </a:rPr>
              <a:t>点击此处添加</a:t>
            </a:r>
            <a:r>
              <a:rPr b="0" lang="en-US" sz="3600" spc="-1" strike="noStrike">
                <a:solidFill>
                  <a:srgbClr val="272e36"/>
                </a:solidFill>
                <a:latin typeface="Arial Black"/>
                <a:ea typeface="创艺简粗黑"/>
              </a:rPr>
              <a:t>PPT</a:t>
            </a:r>
            <a:r>
              <a:rPr b="0" lang="zh-CN" sz="3600" spc="-1" strike="noStrike">
                <a:solidFill>
                  <a:srgbClr val="272e36"/>
                </a:solidFill>
                <a:latin typeface="Arial Black"/>
                <a:ea typeface="创艺简粗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33563"/>
                </a:solidFill>
                <a:latin typeface="Arial"/>
              </a:rPr>
              <a:t>www.ppt5u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3182760" y="2425680"/>
            <a:ext cx="655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800" spc="-1" strike="noStrike">
                <a:solidFill>
                  <a:srgbClr val="272e36"/>
                </a:solidFill>
                <a:latin typeface="Arial"/>
                <a:ea typeface="创艺简粗黑"/>
              </a:rPr>
              <a:t>谢谢您的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8:57Z</dcterms:created>
  <dc:creator>ppt5u</dc:creator>
  <dc:description>PPT无忧（www.ppt5u.com）专业PPT资源网站，免费提供精美的PPT模板，课件，素材下载以及PPT相关技巧。</dc:description>
  <cp:keywords>PPT模板 PPT专业模板 精品PPT模板</cp:keywords>
  <dc:language>en-US</dc:language>
  <cp:lastModifiedBy>微软用户</cp:lastModifiedBy>
  <dcterms:modified xsi:type="dcterms:W3CDTF">2010-10-19T05:56:35Z</dcterms:modified>
  <cp:revision>6</cp:revision>
  <dc:subject>PPT无忧专业PPT资源网站</dc:subject>
  <dc:title>旅游计划PPT模板免费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License">
    <vt:lpwstr>&lt;a href="http://templates.services.openoffice.org/bsd-license"&gt;BSD&lt;/a&gt;</vt:lpwstr>
  </property>
</Properties>
</file>