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F81D-0A26-4DB4-87AF-15A3D51D8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EA7-5542-4857-966E-3FEA6FF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FCD3-65DB-4657-92B2-EBBD671EA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5898-F852-4DC1-B000-967C24E0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E5D1B-97C5-4F89-903A-B9225ED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EE69-F41B-41BD-967B-0A25124E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25D0-AE7D-4FDB-9AC3-C99D99D09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07AB-8706-4547-9F42-3EC5997BB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356-F8A5-48F8-BC22-AD5507D30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62B3-8EC5-4BF2-865E-5D432606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1561-DDA4-4EB3-9975-59762AC57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BAAB-E49A-4793-9210-6ADD58A26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747F3-6B6B-425B-94CA-3E9129D55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 rot="5400000">
            <a:off x="2158200" y="2312640"/>
            <a:ext cx="5689800" cy="2305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方正舒体"/>
              </a:rPr>
              <a:t>满井游记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1981080" y="300636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袁宏道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879480" y="770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2943360" y="476280"/>
            <a:ext cx="36079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⑤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曝沙之鸟，悠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自得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⑥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然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徒步则汗流浃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⑦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吴广以为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1692360" y="69228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96040" y="9079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8"/>
          <p:cNvSpPr/>
          <p:nvPr/>
        </p:nvSpPr>
        <p:spPr>
          <a:xfrm>
            <a:off x="1247040" y="2462040"/>
            <a:ext cx="4817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用在形容词词尾，表示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……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的样子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。如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6124680" y="3086280"/>
            <a:ext cx="79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⑤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1641960" y="3645000"/>
            <a:ext cx="53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用在词头或句首，表示转折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1"/>
          <p:cNvSpPr/>
          <p:nvPr/>
        </p:nvSpPr>
        <p:spPr>
          <a:xfrm>
            <a:off x="3171960" y="4381560"/>
            <a:ext cx="79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⑥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"/>
          <p:cNvSpPr/>
          <p:nvPr/>
        </p:nvSpPr>
        <p:spPr>
          <a:xfrm>
            <a:off x="1234800" y="4941720"/>
            <a:ext cx="560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正确，对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的意思，如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7491600" y="4957920"/>
            <a:ext cx="79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"/>
          <p:cNvSpPr/>
          <p:nvPr/>
        </p:nvSpPr>
        <p:spPr>
          <a:xfrm>
            <a:off x="0" y="990720"/>
            <a:ext cx="9144000" cy="5867280"/>
          </a:xfrm>
          <a:prstGeom prst="horizontalScrol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译文：北京地区气候寒冷，花朝节以后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冬天留下的寒气还很厉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冷风经常刮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来，一刮起来时就飞沙走石。我躲在一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屋子里面，想出去却不能。每次顶着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风快步走出去，总是不到百步就返回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燕地寒，花朝节后，余寒犹厉。冻风时作，作则飞沙走砾。局促一室之内，欲出不得。每冒风驰行，未百步辄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79280" y="0"/>
            <a:ext cx="864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廿二日，天稍和，偕数友出东直，至满井。高柳夹提，土膏微润，一望空阔，若脱笼之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0" y="2421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月二十二日，天气略微暖和，我同几个朋友出了东直门，到了满井。高大的柳树分立在堤的两旁，肥沃的土地稍微湿润，放眼望去，空阔的景象，感到自己像笼子里逃出的天鹅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228600" y="76320"/>
            <a:ext cx="8520120" cy="642600"/>
          </a:xfrm>
          <a:prstGeom prst="rect">
            <a:avLst/>
          </a:prstGeom>
          <a:solidFill>
            <a:srgbClr val="ffffff">
              <a:alpha val="50000"/>
            </a:srgbClr>
          </a:solidFill>
          <a:ln w="381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于时冰皮始解，波色乍明，鳞浪层层，清澈见底，晶晶然如镜之新开而冷光乍出于匣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3"/>
          <p:cNvSpPr/>
          <p:nvPr/>
        </p:nvSpPr>
        <p:spPr>
          <a:xfrm>
            <a:off x="179280" y="838080"/>
            <a:ext cx="9041040" cy="6096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0920" y="2492280"/>
            <a:ext cx="864216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这时，薄冰开始溶化，水波开始发出亮光，像鱼鳞一样的波浪一层层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清澈得可以看到河底，亮晶晶的，好像镜子刚刚打开冷光突然从镜匣子里闪射出来一样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395280" y="62064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山峦为晴雪所洗，娟然如拭，鲜妍明媚，如倩女之靧面而髻鬟之始掠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24000" y="3141720"/>
            <a:ext cx="518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山峦被溶化的雪水洗过后，美好的样子好像擦过一样，鲜明美好而又明媚，好像美丽的少女洗过脸刚刚梳好环形的发髻一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005"/>
          <p:cNvPicPr/>
          <p:nvPr/>
        </p:nvPicPr>
        <p:blipFill>
          <a:blip r:embed="rId1"/>
          <a:stretch/>
        </p:blipFill>
        <p:spPr>
          <a:xfrm>
            <a:off x="5738760" y="0"/>
            <a:ext cx="34052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70" dur="1" fill="hold">
                                    <p:stCondLst>
                                      <p:cond evt="end">
                                        <p:tn val="266"/>
                                      </p:cond>
                                    </p:stCondLst>
                                  </p:cTn>
                                  <p:tgtEl>
                                    <p:spTgt spid="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spring1"/>
          <p:cNvPicPr/>
          <p:nvPr/>
        </p:nvPicPr>
        <p:blipFill>
          <a:blip r:embed="rId1"/>
          <a:stretch/>
        </p:blipFill>
        <p:spPr>
          <a:xfrm>
            <a:off x="3132000" y="907920"/>
            <a:ext cx="4496040" cy="396252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179280" y="404640"/>
            <a:ext cx="8964720" cy="642600"/>
          </a:xfrm>
          <a:prstGeom prst="rect">
            <a:avLst/>
          </a:prstGeom>
          <a:solidFill>
            <a:srgbClr val="bbe0e3"/>
          </a:solidFill>
          <a:ln w="507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柳条将舒未舒，柔梢披风，麦田浅鬣寸许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4"/>
          <p:cNvSpPr/>
          <p:nvPr/>
        </p:nvSpPr>
        <p:spPr>
          <a:xfrm>
            <a:off x="152280" y="5181480"/>
            <a:ext cx="8915400" cy="1524240"/>
          </a:xfrm>
          <a:custGeom>
            <a:avLst/>
            <a:gdLst>
              <a:gd name="textAreaLeft" fmla="*/ 0 w 8915400"/>
              <a:gd name="textAreaRight" fmla="*/ 8915400 w 8915400"/>
              <a:gd name="textAreaTop" fmla="*/ 197280 h 1524240"/>
              <a:gd name="textAreaBottom" fmla="*/ 132696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99ccff">
              <a:alpha val="50000"/>
            </a:srgbClr>
          </a:solidFill>
          <a:ln w="507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柳条将要舒展没有舒展，柔嫩的柳梢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风中散开，麦田里低矮的麦苗才一寸左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684360" y="0"/>
            <a:ext cx="84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3600" spc="-1" strike="noStrike">
                <a:solidFill>
                  <a:srgbClr val="333399"/>
                </a:solidFill>
                <a:latin typeface="Times New Roman"/>
                <a:ea typeface="隶书"/>
              </a:rPr>
              <a:t>游人虽未盛，泉而茗者，罍而歌者，红装而蹇者，亦时时有。风力虽尚劲，然徒步则汗出浃背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539640" y="2637000"/>
            <a:ext cx="8223480" cy="1922400"/>
          </a:xfrm>
          <a:prstGeom prst="rect">
            <a:avLst/>
          </a:prstGeom>
          <a:solidFill>
            <a:srgbClr val="009999">
              <a:alpha val="50000"/>
            </a:srgbClr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游人虽然不多，但是汲泉水来煮茶喝的，端着酒杯唱歌的，穿着红装骑驴的，也经常有。风力虽然还很猛，但是走路就汗流浃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228600" y="3049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</a:t>
            </a:r>
            <a:r>
              <a:rPr b="0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凡曝沙之鸟，呷浪之鳞，悠然自得，毛羽鳞鬣之间，皆有喜气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3"/>
          <p:cNvSpPr/>
          <p:nvPr/>
        </p:nvSpPr>
        <p:spPr>
          <a:xfrm>
            <a:off x="250920" y="1916280"/>
            <a:ext cx="8637480" cy="3124080"/>
          </a:xfrm>
          <a:custGeom>
            <a:avLst/>
            <a:gdLst>
              <a:gd name="textAreaLeft" fmla="*/ 0 w 8637480"/>
              <a:gd name="textAreaRight" fmla="*/ 8637840 w 8637480"/>
              <a:gd name="textAreaTop" fmla="*/ 405000 h 3124080"/>
              <a:gd name="textAreaBottom" fmla="*/ 271908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>
              <a:alpha val="50000"/>
            </a:srgbClr>
          </a:solidFill>
          <a:ln w="507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所有在沙滩上晒太阳的鸟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汲水的鱼儿，都悠闲自在，羽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鳞鬣中间，都充满了欢乐气氛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</a:rPr>
              <a:t>始知郊田之外未始无春，而城居者未之知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我才知道城郊田野外面未尝没有春天，可是住在城里的人却不知道它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250920" y="476280"/>
            <a:ext cx="86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夫不能以游堕事，而潇然于山石草木之间者，惟此官也。而此地适与余近，余之游将自此始，恶能无纪</a:t>
            </a:r>
            <a:r>
              <a:rPr b="1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己亥之二月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380880" y="33526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既然不能因为出游而耽误公事，那么在山石草木之间潇洒游历的，就只有我这样的闲官了。而这个地方正好离我也近，我的游览将从此地开始，怎能没有纪录呢？这是己亥年二月的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11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掌握文中的生字词，整理常见实词和虚词的特殊用法，积累文学常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学习用白描的手法，借助比喻、拟人等修辞方法表现景物特征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体会文章所表现出来的不同环境下作者的两种不同心情；做一名有心人、有情人、细心人，深入大自然，采撷大自然的缤纷色彩，感受它细微的、无穷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4"/>
          <p:cNvSpPr txBox="1"/>
          <p:nvPr/>
        </p:nvSpPr>
        <p:spPr>
          <a:xfrm>
            <a:off x="324000" y="1052640"/>
            <a:ext cx="8208720" cy="43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自读感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p:transition spd="med">
    <p:wheel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3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5"/>
          <p:cNvSpPr/>
          <p:nvPr/>
        </p:nvSpPr>
        <p:spPr>
          <a:xfrm>
            <a:off x="993240" y="476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时间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6"/>
          <p:cNvSpPr/>
          <p:nvPr/>
        </p:nvSpPr>
        <p:spPr>
          <a:xfrm>
            <a:off x="2050920" y="476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花朝节后廿二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993240" y="126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地点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546640" y="1268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满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489240" y="1989000"/>
            <a:ext cx="160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人物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495160" y="2060640"/>
            <a:ext cx="213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我”与数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993240" y="270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起因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929480" y="263700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天寒，局促一堂之内，欲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不得，廿二日天稍和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993240" y="3789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经过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3414960" y="3860640"/>
            <a:ext cx="444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心境“若脱笼之鹄”，尽览初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水光山色，饱览游人怡然之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993240" y="5084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结果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6"/>
          <p:cNvSpPr/>
          <p:nvPr/>
        </p:nvSpPr>
        <p:spPr>
          <a:xfrm>
            <a:off x="3287160" y="5157720"/>
            <a:ext cx="4447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感慨“始知郊田之外未始无春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而城居者未之知也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17"/>
          <p:cNvSpPr txBox="1"/>
          <p:nvPr/>
        </p:nvSpPr>
        <p:spPr>
          <a:xfrm>
            <a:off x="5867280" y="260280"/>
            <a:ext cx="3041640" cy="240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wheel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4"/>
          <p:cNvSpPr txBox="1"/>
          <p:nvPr/>
        </p:nvSpPr>
        <p:spPr>
          <a:xfrm>
            <a:off x="1403280" y="1844640"/>
            <a:ext cx="6697800" cy="217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朗读品味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med">
    <p:wheel/>
  </p:transition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6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77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1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79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0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1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82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5"/>
          <p:cNvSpPr txBox="1"/>
          <p:nvPr/>
        </p:nvSpPr>
        <p:spPr>
          <a:xfrm rot="5400000">
            <a:off x="7074720" y="1070640"/>
            <a:ext cx="266364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第一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0" y="2422440"/>
            <a:ext cx="400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无奈结局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2134440" y="1197000"/>
            <a:ext cx="12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燕地的气候特点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1699200" y="2278080"/>
            <a:ext cx="34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具体景象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飞沙、走砾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1369800" y="3213000"/>
            <a:ext cx="126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）矛盾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13"/>
          <p:cNvSpPr/>
          <p:nvPr/>
        </p:nvSpPr>
        <p:spPr>
          <a:xfrm>
            <a:off x="6372360" y="1413000"/>
            <a:ext cx="358560" cy="3240000"/>
          </a:xfrm>
          <a:custGeom>
            <a:avLst/>
            <a:gdLst>
              <a:gd name="textAreaLeft" fmla="*/ 0 w 358560"/>
              <a:gd name="textAreaRight" fmla="*/ 129600 w 358560"/>
              <a:gd name="textAreaTop" fmla="*/ 84240 h 3240000"/>
              <a:gd name="textAreaBottom" fmla="*/ 31557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WordArt 14"/>
          <p:cNvSpPr txBox="1"/>
          <p:nvPr/>
        </p:nvSpPr>
        <p:spPr>
          <a:xfrm rot="5400000">
            <a:off x="5292360" y="2636640"/>
            <a:ext cx="4032360" cy="144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余寒犹厉</a:t>
            </a:r>
            <a:endParaRPr b="1" lang="en-US" sz="1800" spc="1" strike="noStrike">
              <a:ln w="0">
                <a:noFill/>
              </a:ln>
              <a:solidFill>
                <a:srgbClr val="ff00ff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2552760" y="494172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欲扬先抑，烘托反衬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为下文作准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WordArt 4"/>
          <p:cNvSpPr txBox="1"/>
          <p:nvPr/>
        </p:nvSpPr>
        <p:spPr>
          <a:xfrm rot="5400000">
            <a:off x="7074720" y="1070640"/>
            <a:ext cx="266364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第二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897840" y="1268280"/>
            <a:ext cx="3789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一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廿二日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至满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二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高柳夹堤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皆有喜气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第三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（始知</a:t>
            </a:r>
            <a:r>
              <a:rPr b="1" lang="en-US" sz="3200" spc="-1" strike="noStrike">
                <a:solidFill>
                  <a:srgbClr val="0000ff"/>
                </a:solidFill>
                <a:latin typeface="隶书"/>
                <a:ea typeface="隶书"/>
              </a:rPr>
              <a:t>----</a:t>
            </a:r>
            <a:r>
              <a:rPr b="1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未之知也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584960" y="692280"/>
            <a:ext cx="64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交待出游日期、气候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同行人物及出游路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20960" y="299736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描写满井盎然的春色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620960" y="465300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表现作者的欢快心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7262280" y="1125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叙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7262280" y="285264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描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7333560" y="458136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Arial"/>
                <a:ea typeface="华文行楷"/>
              </a:rPr>
              <a:t>议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13"/>
          <p:cNvSpPr/>
          <p:nvPr/>
        </p:nvSpPr>
        <p:spPr>
          <a:xfrm>
            <a:off x="7451640" y="206064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14"/>
          <p:cNvSpPr/>
          <p:nvPr/>
        </p:nvSpPr>
        <p:spPr>
          <a:xfrm>
            <a:off x="7451640" y="3789360"/>
            <a:ext cx="360360" cy="936720"/>
          </a:xfrm>
          <a:prstGeom prst="downArrow">
            <a:avLst>
              <a:gd name="adj1" fmla="val 50000"/>
              <a:gd name="adj2" fmla="val 64985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 rot="5400000">
            <a:off x="7074720" y="1070640"/>
            <a:ext cx="266364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第二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42" name="WordArt 5"/>
          <p:cNvSpPr txBox="1"/>
          <p:nvPr/>
        </p:nvSpPr>
        <p:spPr>
          <a:xfrm rot="5400000">
            <a:off x="5015880" y="2911320"/>
            <a:ext cx="5113440" cy="1106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满井春色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917000" y="260280"/>
            <a:ext cx="170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高柳夹堤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土膏微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1538280" y="1916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水波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538280" y="2565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山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1538280" y="3213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柳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1538280" y="386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麦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538280" y="458136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游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3"/>
          <p:cNvSpPr/>
          <p:nvPr/>
        </p:nvSpPr>
        <p:spPr>
          <a:xfrm>
            <a:off x="1538280" y="530064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鸟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4"/>
          <p:cNvSpPr/>
          <p:nvPr/>
        </p:nvSpPr>
        <p:spPr>
          <a:xfrm>
            <a:off x="1258920" y="476280"/>
            <a:ext cx="216000" cy="934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5"/>
          <p:cNvSpPr/>
          <p:nvPr/>
        </p:nvSpPr>
        <p:spPr>
          <a:xfrm>
            <a:off x="608760" y="333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6"/>
          <p:cNvSpPr/>
          <p:nvPr/>
        </p:nvSpPr>
        <p:spPr>
          <a:xfrm>
            <a:off x="1116000" y="2276640"/>
            <a:ext cx="287280" cy="3457440"/>
          </a:xfrm>
          <a:custGeom>
            <a:avLst/>
            <a:gdLst>
              <a:gd name="textAreaLeft" fmla="*/ 183600 w 287280"/>
              <a:gd name="textAreaRight" fmla="*/ 287640 w 28728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7"/>
          <p:cNvSpPr/>
          <p:nvPr/>
        </p:nvSpPr>
        <p:spPr>
          <a:xfrm>
            <a:off x="535680" y="350028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隶书"/>
              </a:rPr>
              <a:t>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8"/>
          <p:cNvSpPr/>
          <p:nvPr/>
        </p:nvSpPr>
        <p:spPr>
          <a:xfrm>
            <a:off x="4372920" y="442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空旷辽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9"/>
          <p:cNvSpPr/>
          <p:nvPr/>
        </p:nvSpPr>
        <p:spPr>
          <a:xfrm>
            <a:off x="4373640" y="2492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山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自然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1"/>
          <p:cNvSpPr/>
          <p:nvPr/>
        </p:nvSpPr>
        <p:spPr>
          <a:xfrm>
            <a:off x="4302000" y="4292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人文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2"/>
          <p:cNvSpPr/>
          <p:nvPr/>
        </p:nvSpPr>
        <p:spPr>
          <a:xfrm>
            <a:off x="4302000" y="515772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行楷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动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自然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3"/>
          <p:cNvSpPr/>
          <p:nvPr/>
        </p:nvSpPr>
        <p:spPr>
          <a:xfrm>
            <a:off x="6136920" y="16286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远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6210000" y="458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27"/>
          <p:cNvSpPr/>
          <p:nvPr/>
        </p:nvSpPr>
        <p:spPr>
          <a:xfrm>
            <a:off x="2771640" y="3716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29"/>
          <p:cNvSpPr/>
          <p:nvPr/>
        </p:nvSpPr>
        <p:spPr>
          <a:xfrm>
            <a:off x="2996640" y="220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明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0"/>
          <p:cNvSpPr/>
          <p:nvPr/>
        </p:nvSpPr>
        <p:spPr>
          <a:xfrm>
            <a:off x="2925360" y="335772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生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1"/>
          <p:cNvSpPr/>
          <p:nvPr/>
        </p:nvSpPr>
        <p:spPr>
          <a:xfrm>
            <a:off x="3101040" y="4581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2"/>
          <p:cNvSpPr/>
          <p:nvPr/>
        </p:nvSpPr>
        <p:spPr>
          <a:xfrm>
            <a:off x="3029760" y="544500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33"/>
          <p:cNvSpPr/>
          <p:nvPr/>
        </p:nvSpPr>
        <p:spPr>
          <a:xfrm>
            <a:off x="6372360" y="2565360"/>
            <a:ext cx="215640" cy="2158920"/>
          </a:xfrm>
          <a:prstGeom prst="downArrow">
            <a:avLst>
              <a:gd name="adj1" fmla="val 50000"/>
              <a:gd name="adj2" fmla="val 250292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WordArt 34"/>
          <p:cNvSpPr txBox="1"/>
          <p:nvPr/>
        </p:nvSpPr>
        <p:spPr>
          <a:xfrm>
            <a:off x="5651640" y="2852640"/>
            <a:ext cx="1728720" cy="111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隶书"/>
              </a:rPr>
              <a:t>美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67" name="AutoShape 35"/>
          <p:cNvSpPr/>
          <p:nvPr/>
        </p:nvSpPr>
        <p:spPr>
          <a:xfrm>
            <a:off x="4788000" y="3645000"/>
            <a:ext cx="144360" cy="720720"/>
          </a:xfrm>
          <a:prstGeom prst="downArrow">
            <a:avLst>
              <a:gd name="adj1" fmla="val 50000"/>
              <a:gd name="adj2" fmla="val 124813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36"/>
          <p:cNvSpPr/>
          <p:nvPr/>
        </p:nvSpPr>
        <p:spPr>
          <a:xfrm>
            <a:off x="4716360" y="4797360"/>
            <a:ext cx="144720" cy="647640"/>
          </a:xfrm>
          <a:prstGeom prst="downArrow">
            <a:avLst>
              <a:gd name="adj1" fmla="val 50000"/>
              <a:gd name="adj2" fmla="val 111878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1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WordArt 4"/>
          <p:cNvSpPr txBox="1"/>
          <p:nvPr/>
        </p:nvSpPr>
        <p:spPr>
          <a:xfrm rot="5400000">
            <a:off x="7074720" y="1070640"/>
            <a:ext cx="2663640" cy="900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第三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1600200" y="17780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166120" y="1773360"/>
            <a:ext cx="264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以议论作结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再次表明寄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山水的兴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WordArt 7"/>
          <p:cNvSpPr txBox="1"/>
          <p:nvPr/>
        </p:nvSpPr>
        <p:spPr>
          <a:xfrm rot="5400000">
            <a:off x="5615640" y="2672280"/>
            <a:ext cx="3024360" cy="936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隶书"/>
              </a:rPr>
              <a:t>抒怀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wheel/>
  </p:transition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WordArt 4"/>
          <p:cNvSpPr txBox="1"/>
          <p:nvPr/>
        </p:nvSpPr>
        <p:spPr>
          <a:xfrm>
            <a:off x="1187280" y="260280"/>
            <a:ext cx="6769440" cy="155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作者的感情发展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910080" y="1897200"/>
            <a:ext cx="127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局促一室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之内，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出不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031840" y="408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3512520" y="198900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若脱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之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6124680" y="1700280"/>
            <a:ext cx="2009520" cy="35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始知郊田之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未始无春，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城居者未之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也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12"/>
          <p:cNvSpPr/>
          <p:nvPr/>
        </p:nvSpPr>
        <p:spPr>
          <a:xfrm>
            <a:off x="2556000" y="242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13"/>
          <p:cNvSpPr/>
          <p:nvPr/>
        </p:nvSpPr>
        <p:spPr>
          <a:xfrm>
            <a:off x="4859280" y="2421000"/>
            <a:ext cx="72072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5"/>
          <p:cNvSpPr/>
          <p:nvPr/>
        </p:nvSpPr>
        <p:spPr>
          <a:xfrm>
            <a:off x="1450080" y="472428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抑郁、烦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16"/>
          <p:cNvSpPr/>
          <p:nvPr/>
        </p:nvSpPr>
        <p:spPr>
          <a:xfrm>
            <a:off x="4012560" y="4653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轻松喜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7"/>
          <p:cNvSpPr/>
          <p:nvPr/>
        </p:nvSpPr>
        <p:spPr>
          <a:xfrm>
            <a:off x="6820920" y="46530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行楷"/>
              </a:rPr>
              <a:t>感叹赞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18"/>
          <p:cNvSpPr/>
          <p:nvPr/>
        </p:nvSpPr>
        <p:spPr>
          <a:xfrm>
            <a:off x="3132000" y="4941720"/>
            <a:ext cx="505080" cy="287640"/>
          </a:xfrm>
          <a:prstGeom prst="rightArrow">
            <a:avLst>
              <a:gd name="adj1" fmla="val 50000"/>
              <a:gd name="adj2" fmla="val 43899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19"/>
          <p:cNvSpPr/>
          <p:nvPr/>
        </p:nvSpPr>
        <p:spPr>
          <a:xfrm>
            <a:off x="5940360" y="4869000"/>
            <a:ext cx="504720" cy="287280"/>
          </a:xfrm>
          <a:prstGeom prst="rightArrow">
            <a:avLst>
              <a:gd name="adj1" fmla="val 50000"/>
              <a:gd name="adj2" fmla="val 4392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2433960" y="5515920"/>
            <a:ext cx="233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抑　　   扬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AutoShape 21"/>
          <p:cNvSpPr/>
          <p:nvPr/>
        </p:nvSpPr>
        <p:spPr>
          <a:xfrm>
            <a:off x="2700360" y="5734080"/>
            <a:ext cx="1655640" cy="287280"/>
          </a:xfrm>
          <a:prstGeom prst="rightArrow">
            <a:avLst>
              <a:gd name="adj1" fmla="val 50000"/>
              <a:gd name="adj2" fmla="val 144079"/>
            </a:avLst>
          </a:prstGeom>
          <a:solidFill>
            <a:srgbClr val="99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4"/>
          <p:cNvSpPr txBox="1"/>
          <p:nvPr/>
        </p:nvSpPr>
        <p:spPr>
          <a:xfrm>
            <a:off x="1547640" y="1700280"/>
            <a:ext cx="648036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细读质疑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wheel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4"/>
          <p:cNvSpPr/>
          <p:nvPr/>
        </p:nvSpPr>
        <p:spPr>
          <a:xfrm>
            <a:off x="684360" y="112536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这篇游记写初春景象，从哪些地方可以看出来？作者在描写中渗透了怎样的感情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袁宏道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56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610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，明代文学家。字中郎，湖广公安（今湖北省公安县）人。与兄宗道、弟中道，并称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三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，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公安派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创始者。他生性酷爱自然山水，写下了很多著名的山水游记。作品风格率真自然，清新清俊。今人钱伯城整理有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袁宏道集笺校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如：“土膏微润”，写冬去春来大地解冻复苏的情景，简练而传神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冰皮始解，波色乍明”，一个“始”，一个“乍”，写天气转暖湖冰消融的情景，突出了初春的特点，令人精神为之一振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柳条将舒未舒，柔梢披风”，写出了初春柳枝初展的神韵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麦田浅鬣寸许”，写麦苗破土初芽的情景，“浅”，“寸”准确而生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作者在描写中，渗透了对春回大地的喜悦之情，对自然界重新焕发生机的欣赏和赞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4"/>
          <p:cNvSpPr/>
          <p:nvPr/>
        </p:nvSpPr>
        <p:spPr>
          <a:xfrm>
            <a:off x="4279320" y="333360"/>
            <a:ext cx="82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本文在写景时用了哪些修辞手法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举例说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879480" y="19940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白描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：写景不堆砌词藻，而是用极为简练的笔法勾勒出来。如写水为“波色乍明，鳞浪层层，清澈见底”，写柳条“将舒未舒，柔梢披风”。这种表现方法，没有夸张，渲染和烘托，而形象却鲜明如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78920" y="476280"/>
            <a:ext cx="849636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拟人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：作者写山，用倩女新妆作喻，写鱼鸟，说它们洋溢着喜气，都是用了拟人的写法，增加了景物的动感和灵气，也融入作者的主观情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比喻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隶书"/>
              </a:rPr>
              <a:t>：如形容自己出城游玩为  “脱笼之鹄”；写水波“晶晶然如镜之新开而冷光之乍出于匣也”，以新开明镜喻新绿水波，写出了水光的明丽，贴切而有新意；“麦田浅鬣寸许”，以兽颈之毛比喻还没有长高的麦苗，简明而又形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4"/>
          <p:cNvSpPr/>
          <p:nvPr/>
        </p:nvSpPr>
        <p:spPr>
          <a:xfrm>
            <a:off x="900000" y="1844640"/>
            <a:ext cx="741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如何理解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始知郊田之外未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无春，而城居者未知也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这是全文的主旨所在，既高度概括了一二段两幅对比鲜明的图景的内容，表现了作者的欢快心情，也反映了作者对哲理的追求。从这次出游他认识到城居时所以不知有春，是因为自己“局促一室之内 ”，而实际上春已降临人间。这是思想境界升华的表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这就表明：美是一种客观存在，而人们在现实生活中常常由于这样那样的限制而看不到它，这是很可惜的。懂得了这个道理，人们才能自觉地摆脱某种限制，不断地去扩大自己的视野，去发现生活中本来就有的美好的东西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4"/>
          <p:cNvSpPr/>
          <p:nvPr/>
        </p:nvSpPr>
        <p:spPr>
          <a:xfrm>
            <a:off x="1239840" y="14907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539640" y="333360"/>
            <a:ext cx="5651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　　　游记文章，重在写景，本文描写满井春色，由远而近，由面到点，层次分明，详略得宜；用贴切、新奇的比喻描写各种景物。动静结合，高下相属，光鲜悦目，色彩缤纷，集中到一点，烘托了大自然的春之“喜气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6"/>
          <p:cNvSpPr txBox="1"/>
          <p:nvPr/>
        </p:nvSpPr>
        <p:spPr>
          <a:xfrm rot="5400000">
            <a:off x="6198840" y="2017440"/>
            <a:ext cx="3311640" cy="1812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隶书"/>
              </a:rPr>
              <a:t>小结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ransition spd="med">
    <p:wheel/>
  </p:transition>
  <p:timing>
    <p:tnLst>
      <p:par>
        <p:cTn id="734" dur="indefinite" restart="never" nodeType="tmRoot">
          <p:childTnLst>
            <p:seq>
              <p:cTn id="735" dur="indefinite" nodeType="mainSeq">
                <p:childTnLst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3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4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41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4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WordArt 4"/>
          <p:cNvSpPr txBox="1"/>
          <p:nvPr/>
        </p:nvSpPr>
        <p:spPr>
          <a:xfrm rot="5400000">
            <a:off x="5983200" y="2809800"/>
            <a:ext cx="4319640" cy="1093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拓展引申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本单元的几篇散文都属游记，试比较本文与其他散文的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763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提示：袁宏道的山水游记更注重对大自然的客观描写，也揭示出人们游山玩水的愉悦心情，这与唐宋时代的游记重寄托重理念的写法完全不同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11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如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小石潭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借景抒贬官失意的孤凄之情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岳阳楼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借景抒忧国忧民之情；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醉翁亭记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抒发欧阳修与民同乐的情怀。袁宏道的游记散文现存九十多篇，成就很大。课外可收集一些来阅读欣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1125360"/>
            <a:ext cx="1013472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、指出下列划线的字注音有错的一组：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yān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地 飞沙走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砾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l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ì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曝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p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沙之鸟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倩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qi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à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n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花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朝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zhāo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节 高柳夹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堤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t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í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毛羽鳞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鬣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li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è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匣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xi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偕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xi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é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数友 脱笼之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鹄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h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ú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波色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zh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à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蹇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jiǎ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局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促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c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ù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呷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浪之鳞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xiā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鲜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妍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媚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y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á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n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浃</a:t>
            </a:r>
            <a:r>
              <a:rPr b="1" lang="en-GB" sz="3200" spc="-1" strike="noStrike">
                <a:solidFill>
                  <a:srgbClr val="0000ff"/>
                </a:solidFill>
                <a:latin typeface="黑体"/>
                <a:ea typeface="黑体"/>
              </a:rPr>
              <a:t>ji</a:t>
            </a:r>
            <a:r>
              <a:rPr b="1" lang="en-GB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á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755640" y="177336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1167840" y="18900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课堂练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7"/>
          <p:cNvSpPr/>
          <p:nvPr/>
        </p:nvSpPr>
        <p:spPr>
          <a:xfrm>
            <a:off x="4157280" y="282564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755640" y="765000"/>
            <a:ext cx="8229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公安派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袁宏道与兄宗道、弟中道合称“三袁”，因籍贯是湖北公安，所以称“公安派”。“公安派”在创作上坚决反对摹拟古人，强调写自己所想所感的东西，也就是“独抒性灵”。他们的作品，文字清新活泼，文笔秀逸，意趣盎然。小品文因而在明代后期兴盛起来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、指出下列划线词解释有错的一组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（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土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膏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很稠的糊状物）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娟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如拭（美好的样子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茶）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乍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明（初、始）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曝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沙之鸟（晒）  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就）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披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风（开、分散）     汗出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浃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背（湿遍）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呷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吸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晶晶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然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样子）       脱笼之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鹄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天鹅）       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代鱼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403280" y="1125000"/>
            <a:ext cx="658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3338640" y="14842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肥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555480" y="754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95280" y="244440"/>
            <a:ext cx="8353440" cy="30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三 、辨别下列“而”的用法，选出不同于其他的一句：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如镜之新开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冷光之乍出于匣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云归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岩穴暝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城居者未之知也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324000" y="3195720"/>
            <a:ext cx="864216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四 、辨别下列“之”的用法，选出不同于其他三句的一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若脱笼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鹄      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曝沙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 晶晶然如镜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新开   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呷浪</a:t>
            </a:r>
            <a:r>
              <a:rPr b="1" lang="zh-CN" sz="36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之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         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3997080" y="765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4573440" y="393372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5672880" y="2637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表转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1618200" y="580536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舒缓语气，不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nodeType="clickEffect" fill="hold">
                      <p:stCondLst>
                        <p:cond delay="indefinite"/>
                      </p:stCondLst>
                      <p:childTnLst>
                        <p:par>
                          <p:cTn id="7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五、没有用比喻修辞的一句是（　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若脱笼之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晶晶然如镜之新开而冷光之乍出于匣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如倩女之靧面而髻鬟之始掠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山峦为晴雪所洗，娟然如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6950520" y="1052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4279680" y="404640"/>
            <a:ext cx="761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六、用现代汉语翻译下列各句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高柳夹堤，土膏微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如倩女之靧面而髻鬟之始掠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晶晶然如镜之新开而冷光之乍出于匣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、柳条将舒未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4491720" y="148428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堤坝两旁栽着高高的柳树，土地肥沃湿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304360" y="263700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就像美丽的少女洗了脸，刚刚梳过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鬟一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2058480" y="4292640"/>
            <a:ext cx="506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亮晶晶的像镜子初打开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冷光从匣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闪现出来一般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2613960" y="5805360"/>
            <a:ext cx="363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柳条的嫩叶将要伸展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, 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还未伸展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2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作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就自己在生活中的游览，仿照本文的风格写一篇游记，要求语言简练，写出独特的感受。在行文中注意运用修辞手法和景物描写方法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6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万历二十七年（公元 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1599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），袁宏道再次做官，任顺天府教授，终日又得和拜谒酬答打交道了，这使他颇感苦闷，更使他感到苦闷的是有政见却得不到申诉。好在袁宏道所担任的职务比较清闲，有空暇游览北京附近的名胜古迹。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满井游记</a:t>
            </a:r>
            <a:r>
              <a:rPr b="1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就作于此时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ssh1-5a"/>
          <p:cNvPicPr/>
          <p:nvPr/>
        </p:nvPicPr>
        <p:blipFill>
          <a:blip r:embed="rId1"/>
          <a:stretch/>
        </p:blipFill>
        <p:spPr>
          <a:xfrm>
            <a:off x="4643280" y="333360"/>
            <a:ext cx="4248360" cy="6054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324000" y="33336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隶书"/>
                <a:ea typeface="隶书"/>
              </a:rPr>
              <a:t>满井游记</a:t>
            </a:r>
            <a:r>
              <a:rPr b="1" lang="en-US" sz="3600" spc="-1" strike="noStrike">
                <a:solidFill>
                  <a:srgbClr val="0000ff"/>
                </a:solidFill>
                <a:latin typeface="隶书"/>
                <a:ea typeface="隶书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一篇典型的山水小品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紧扣景物的季节特点，细腻描写满井的初春景色，不多几句话，便勾画出一片春意盎然、生机勃勃的景象。文笔清新秀丽而有生气，比喻新鲜、贴切，字里行间洋溢着作者游览时的轻松喜悦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68436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廿　      辄 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靧        鬣　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罍　　    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浃　　　  曝　　  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呷        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1627920" y="1125360"/>
            <a:ext cx="217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niàn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4436280" y="1125360"/>
            <a:ext cx="236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zhé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　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765440" y="1989000"/>
            <a:ext cx="101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u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4718160" y="198900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i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1910160" y="270828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lé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4630320" y="2708280"/>
            <a:ext cx="114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ǎ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1837080" y="3573360"/>
            <a:ext cx="80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ji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4644720" y="3500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p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1750680" y="4365720"/>
            <a:ext cx="957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xiā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4707720" y="4365720"/>
            <a:ext cx="1019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hu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Arial"/>
              </a:rPr>
              <a:t>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611280" y="26028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检查预习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53964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飞沙走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驰行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冰皮始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鲜妍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自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6023160" y="98100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黄沙横飞，碎石滚动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57840" y="1844640"/>
            <a:ext cx="45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疾走，快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5799240" y="263700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水面上的冰开始融化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3741840" y="350028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鲜明而美丽。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4430880" y="4292640"/>
            <a:ext cx="45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隶书"/>
              </a:rPr>
              <a:t>自己感到的或舒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5"/>
          <p:cNvSpPr/>
          <p:nvPr/>
        </p:nvSpPr>
        <p:spPr>
          <a:xfrm>
            <a:off x="2841120" y="333360"/>
            <a:ext cx="3303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①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局促一室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②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髻鬟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③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而城居者未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知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④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吾欲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之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南海何如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18040" y="2852640"/>
            <a:ext cx="652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当助词，可译为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的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，也可不译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如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8"/>
          <p:cNvSpPr/>
          <p:nvPr/>
        </p:nvSpPr>
        <p:spPr>
          <a:xfrm>
            <a:off x="1690560" y="54936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967320" y="11253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隶书"/>
              </a:rPr>
              <a:t>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790360" y="3382920"/>
            <a:ext cx="13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①②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1391040" y="4076640"/>
            <a:ext cx="53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当代词，第三人称，可代人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也可代物，如 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407560" y="4680000"/>
            <a:ext cx="85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③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1631520" y="5373720"/>
            <a:ext cx="583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）作动词，可译为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到、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，如：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959920" y="5832360"/>
            <a:ext cx="85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④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00:32:24Z</dcterms:created>
  <dc:creator>www.dearedu.com</dc:creator>
  <dc:description>www.dearedu.com</dc:description>
  <cp:keywords>www.dearedu.com</cp:keywords>
  <dc:language>en-US</dc:language>
  <cp:lastModifiedBy>Microsoft</cp:lastModifiedBy>
  <dcterms:modified xsi:type="dcterms:W3CDTF">2012-02-02T01:57:32Z</dcterms:modified>
  <cp:revision>2</cp:revision>
  <dc:subject>www.dearedu.com</dc:subject>
  <dc:title>www.dearedu.com</dc:title>
</cp:coreProperties>
</file>