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chimes.wav" ContentType="audio/x-wav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3A67-5A98-4229-A6A9-6C0BBCF2D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C00-31BC-475A-B863-58290A819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F9C0-999C-4CEB-8385-FAB556D8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909D-BA66-44D1-8858-0FDF258FF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3CF63-135B-41E4-B148-15E8CEFA9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C0C4-BF34-4980-B23F-D1851A46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72038-5F83-4353-94DF-7BBE4C17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7A1E-729C-4613-A41E-7CBA6E72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21740-471D-4CB9-B8ED-C77CDFF7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2FB1-F62D-465F-AB99-23214436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213B-185D-4804-A8B7-4D871C491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FAAB-BD5C-467E-AC8C-285F487A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3047-4D4B-4CD6-9115-4A56D6245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CEB5D-CA38-477E-A4DF-C5BE76CE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8A9B-4A6B-43C0-A5D1-81E04C33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49C1-CAF6-4584-9683-404AABF6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52121-EA7B-4351-B528-F44896989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46E08-A64F-4F8B-B2A4-E70E6E2D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C0886-3AAE-494D-AF3C-E720BDF2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02E38-200F-4E6E-AF9E-6643EB39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49645-9B53-4335-BA1A-EE71E172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90A75-8F75-48D7-A748-5FEDC2F36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4934-8CDA-49F3-8E20-AAA789D9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23116-FC5D-48F5-A3E7-E5A6D21B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A0BE0-4D37-4EF2-84C0-C913505C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2F36F-2311-4CC4-A3AF-CBE0D971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36522-37ED-42BF-8256-AD152552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B98941-C523-467D-A89C-3FE0727E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04ED3-10D0-4FFA-82F4-162A6BE2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E0A13-EAE4-4DC9-9DDF-39B20BEA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0C46F-4788-4FDF-9099-E82C5634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E38AC-4526-4920-B216-6DDC8DF53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D1505-7DAF-4BBC-B633-3B1A8D814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65D-9F85-4393-9798-9F4DBF663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ADD5A-5175-4C4A-AC86-17477252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0AC9A-9726-4A12-BB83-358799F8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F4477-6D55-4422-A6D3-D4D935CE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80A57-73E8-4E86-BA49-E596C5322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84436-9B87-49A6-86F1-AFC6F99F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BA06C6-882D-405F-81DE-2F26D823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1AF5F-B38A-46E2-96C4-F0F89FD4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686F8-4947-49E8-9CE6-FEF89B1B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0ABEDD-B43E-44FA-94CF-916522AC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0FB3F-733E-49F8-9718-66E0FCF8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9DB2-ECD3-47AD-A5A1-B84802AF5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380AD-0756-4B69-AEFB-53EE9D8C6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D4C3C-E798-4DF6-A42B-2C8899D2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508ED-6B58-4988-A25D-4BE62C7B2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65C08-C671-46F3-A159-242886A93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538412-247C-457D-A119-7B6D15A9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11CC09-3AD0-40EA-98A9-D82BE3CD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3B9EAE-1CBD-4192-BD58-81976328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3B7CF-258B-4ED0-970C-3C7B2247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D9454-1B3F-47F7-B409-1D0710CE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DF626-E209-4122-B174-E95E38DB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FCB7-45ED-4B95-9068-77D61585A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C2088-1D54-4063-A6E2-84ED72F6E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FF6B-8950-45D9-AE4C-F9D36B43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FF2-50C6-410F-AB3E-2DC292D0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58D-9BC8-4E67-890E-83694C5F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7234-8C04-4180-B104-E63FE8BF26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0196-E9F0-462A-B31D-ACADDB7BD5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8019-A6DE-4C53-B8F0-52536904BCF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1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1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B582-5596-4325-8F77-DA109F1D60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D1D1-FB7D-4C7A-8327-20C7F17E2B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2.xm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204" name=""/>
          <p:cNvSpPr txBox="1"/>
          <p:nvPr/>
        </p:nvSpPr>
        <p:spPr>
          <a:xfrm>
            <a:off x="2286000" y="838080"/>
            <a:ext cx="48769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满井游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05" name=""/>
          <p:cNvSpPr/>
          <p:nvPr/>
        </p:nvSpPr>
        <p:spPr>
          <a:xfrm>
            <a:off x="4191120" y="3276720"/>
            <a:ext cx="3047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  <a:ea typeface="黑体"/>
              </a:rPr>
              <a:t>袁宏道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492800" y="5029200"/>
            <a:ext cx="165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备课人：崔  珍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上课时间：第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21</a:t>
            </a:r>
            <a:r>
              <a:rPr b="1" lang="zh-CN" sz="2000" spc="-1" strike="noStrike">
                <a:solidFill>
                  <a:srgbClr val="0033cc"/>
                </a:solidFill>
                <a:latin typeface="Arial"/>
              </a:rPr>
              <a:t>周</a:t>
            </a:r>
            <a:endParaRPr b="0" lang="en-US" sz="2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28600" y="380880"/>
            <a:ext cx="8534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廿二日天稍和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偕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数友出东直，至满井。高柳夹堤，土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膏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微润，一望空阔，若脱笼之鹄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二十二日天气稍微暖和了一点，和几个朋友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一起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出东直门，到满井。 高大的柳树夹立堤旁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肥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土地有些湿润，一眼望去空旷开阔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人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好像是从笼中飞出去的天鹅。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228600" y="152280"/>
            <a:ext cx="85885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于时冰皮始解，波色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乍明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鳞浪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层层，清澈见底，晶晶然如镜之新开而冷光之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乍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出于匣也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4920" y="4952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黑体"/>
                <a:ea typeface="黑体"/>
              </a:rPr>
              <a:t>译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山峦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被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晴天融化的积雪洗过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美好的样子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被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擦试过一样；娇艳妩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就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像美丽的少女洗了脸刚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刚梳过髻鬟一样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365760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山峦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为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晴雪所洗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娟然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如拭，鲜妍明媚，如倩女之靧面而髻鬟之始掠也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4920" y="144792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译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在这时，水面上的浮冰开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融化，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开始发出亮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像鱼鳞似的波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层又一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清澈得可以看到水底，亮晶晶的，像刚制成的镜子，清冷的光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突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从镜匣中射出来一样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28600" y="228600"/>
            <a:ext cx="891540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柳条将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舒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未舒，柔梢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披风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，麦田浅鬣寸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许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游人虽未盛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泉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茗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者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罍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而歌者，红装而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蹇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黑体"/>
              </a:rPr>
              <a:t>者，亦时时有。风力虽尚劲，然徒步则汗出浃背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2590920"/>
            <a:ext cx="853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黑体"/>
                <a:ea typeface="黑体"/>
              </a:rPr>
              <a:t>译</a:t>
            </a: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：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柳条将要舒展却还没有舒展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柔软的柳梢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在风中飘荡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麦田里的麦苗像短短的鬃毛，只有一寸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左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。游人虽然不是很多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用泉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水煮茶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举起酒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唱歌的，穿着盛装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骑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女子，也时时可以看到。风力虽然还很强，但空着手走路也会汗流浃背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04920" y="22860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凡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曝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沙之鸟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呷浪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之鳞，悠然自得，毛羽鳞鬣之间皆有喜气。始知郊田之外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未始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无春，而城居者未之知也。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2438280"/>
            <a:ext cx="883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那些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沙滩上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晒太阳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鸟，浮到水面上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吸水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鱼，都显得安闲自在，鸟的羽毛、鱼的鳞鳍都透着喜气。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这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才知道郊外田野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未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没有春天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只是城里居住的人不知道啊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501480" y="53352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夫能不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以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游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堕事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，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潇然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于山石草木之间者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惟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此官也。而此地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适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与余近，余之游将自此始，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恶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能无纪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?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己亥之二月也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743200"/>
            <a:ext cx="8381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能够不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因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游玩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耽误正事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潇洒地徜徉在山石草木之间的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只有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这种官职啊。而此地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恰巧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离我很近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我的出游将从此开始，哪能没有记游的文章呢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己亥年二月。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黑体"/>
                <a:ea typeface="黑体"/>
              </a:rPr>
              <a:t>当堂训练（</a:t>
            </a:r>
            <a:r>
              <a:rPr b="1" lang="en-US" sz="4800" spc="-1" strike="noStrike">
                <a:solidFill>
                  <a:srgbClr val="cc0066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cc0066"/>
                </a:solidFill>
                <a:latin typeface="黑体"/>
                <a:ea typeface="黑体"/>
              </a:rPr>
              <a:t>分钟）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1066680"/>
            <a:ext cx="853452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释下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多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词。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冻风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波色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时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于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冰皮始解      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冷光之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于匣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习之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皮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我待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髻鬟之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掠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徒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则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汗出浃背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知郊田之外未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娟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然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如拭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欲出不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胡不已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得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悠然自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以为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然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           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之心而寓之酒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155736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ff"/>
                </a:solidFill>
                <a:latin typeface="Arial"/>
              </a:rPr>
              <a:t>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431440" y="1676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经常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17240" y="243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这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505320" y="4243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然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623320" y="4952880"/>
            <a:ext cx="147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-----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的样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76480" y="1676520"/>
            <a:ext cx="87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始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536960" y="2438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突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0" y="365760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刚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77120" y="29718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开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8455320" y="3962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698520" y="4876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能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1160" y="5562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得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90920" y="30481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14600" y="3581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146440" y="6095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领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84920" y="5486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既然这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6095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57200" y="1828800"/>
            <a:ext cx="228600" cy="2286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419720"/>
            <a:ext cx="304920" cy="2209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48320" y="1752480"/>
            <a:ext cx="75960" cy="1067040"/>
          </a:xfrm>
          <a:custGeom>
            <a:avLst/>
            <a:gdLst>
              <a:gd name="textAreaLeft" fmla="*/ 48600 w 75960"/>
              <a:gd name="textAreaRight" fmla="*/ 76320 w 759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2000" y="3124080"/>
            <a:ext cx="152280" cy="1600200"/>
          </a:xfrm>
          <a:custGeom>
            <a:avLst/>
            <a:gdLst>
              <a:gd name="textAreaLeft" fmla="*/ 97200 w 152280"/>
              <a:gd name="textAreaRight" fmla="*/ 152640 w 1522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952880" y="5029200"/>
            <a:ext cx="152640" cy="1600200"/>
          </a:xfrm>
          <a:custGeom>
            <a:avLst/>
            <a:gdLst>
              <a:gd name="textAreaLeft" fmla="*/ 97560 w 152640"/>
              <a:gd name="textAreaRight" fmla="*/ 153000 w 1526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390880" y="457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曾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黑体"/>
              </a:rPr>
              <a:t>第二课时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7560" y="2057040"/>
            <a:ext cx="6933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学习目标：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理解课文内容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体会作者的情感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4400" spc="-1" strike="noStrike">
                <a:solidFill>
                  <a:srgbClr val="0033cc"/>
                </a:solidFill>
                <a:latin typeface="黑体"/>
                <a:ea typeface="黑体"/>
              </a:rPr>
              <a:t>、学习本文细致、准确、生动的写景方法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自学指导一（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分钟）</a:t>
            </a:r>
            <a:endParaRPr b="0" lang="en-US" sz="4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课文每一段各写了些什么？分别采用了哪种表达方式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第一段中所写景色的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特点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什么？（用一个字概括）这一段写景的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作用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是什么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作者对满井早春的总印象怎样？主要描写了哪些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2" action="ppaction://hlinksldjump"/>
              </a:rPr>
              <a:t>景物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？这些景物各有什么特点？（从文中找出相关词句加以概括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找出直接抒写作者</a:t>
            </a:r>
            <a:r>
              <a:rPr b="0" lang="zh-CN" sz="28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3" action="ppaction://hlinksldjump"/>
              </a:rPr>
              <a:t>心情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的句子？看看作者的心情经历了怎样的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变化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28600" y="4724280"/>
            <a:ext cx="8381880" cy="63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用烘托的手法，欲扬先抑，写出燕地的气候特征，暗示作者渴望出游的心情，为后文作铺垫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9480" y="2666880"/>
            <a:ext cx="533412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第三段：表述自己能够有此闲情出游的原因。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838080"/>
            <a:ext cx="8686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课文每一段各写了些什么？分别采用了哪种表达方式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629400" y="1295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记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09480" y="16002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第一段：写北京附近早春的天气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64040" y="2133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黑体"/>
              </a:rPr>
              <a:t>第二段：写满井早春的美景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566400" y="19810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描写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00800" y="2819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议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733920"/>
            <a:ext cx="84582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第一段中所写景色的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特点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什么？（用一个字概括）这一段写景的</a:t>
            </a:r>
            <a:r>
              <a:rPr b="1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作用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是什么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4572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寒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38080" y="-22860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自学检测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2" dur="indefinite" restart="never" nodeType="tmRoot">
          <p:childTnLst>
            <p:seq>
              <p:cTn id="523" dur="indefinite" nodeType="mainSeq">
                <p:childTnLst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848720" y="2819520"/>
            <a:ext cx="77472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春意盎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276720" y="160020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河水—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276720" y="3276720"/>
            <a:ext cx="228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柳条—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76720" y="2438280"/>
            <a:ext cx="2286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山峦—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240000" y="4038480"/>
            <a:ext cx="2246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麦苗—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876920"/>
            <a:ext cx="2209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游人—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743200" y="1600200"/>
            <a:ext cx="533520" cy="4699080"/>
          </a:xfrm>
          <a:custGeom>
            <a:avLst/>
            <a:gdLst>
              <a:gd name="textAreaLeft" fmla="*/ 340920 w 533520"/>
              <a:gd name="textAreaRight" fmla="*/ 533880 w 533520"/>
              <a:gd name="textAreaTop" fmla="*/ 122400 h 4699080"/>
              <a:gd name="textAreaBottom" fmla="*/ 4576680 h 469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5638680"/>
            <a:ext cx="2362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鸟鱼—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2362320"/>
            <a:ext cx="25146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黑体"/>
              </a:rPr>
              <a:t>总印象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黑体"/>
              </a:rPr>
              <a:t>高柳夹堤，土膏微润，一望空阔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304920"/>
            <a:ext cx="891540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、作者对满井早春的总印象怎样？主要描写了哪些</a:t>
            </a:r>
            <a:r>
              <a:rPr b="0" lang="zh-CN" sz="3600" spc="-1" strike="noStrike" u="sng">
                <a:solidFill>
                  <a:srgbClr val="cc0066"/>
                </a:solidFill>
                <a:uFillTx/>
                <a:latin typeface="黑体"/>
                <a:ea typeface="黑体"/>
                <a:hlinkClick r:id="rId2" action="ppaction://hlinksldjump"/>
              </a:rPr>
              <a:t>景物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？这些景物各有什么特点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7391520" y="1600200"/>
            <a:ext cx="380880" cy="4699080"/>
          </a:xfrm>
          <a:custGeom>
            <a:avLst/>
            <a:gdLst>
              <a:gd name="textAreaLeft" fmla="*/ 243720 w 380880"/>
              <a:gd name="textAreaRight" fmla="*/ 381600 w 380880"/>
              <a:gd name="textAreaTop" fmla="*/ 122400 h 4699080"/>
              <a:gd name="textAreaBottom" fmla="*/ 4576680 h 469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658840" y="57135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喜气洋洋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658840" y="4951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怡然自乐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58840" y="4113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生机勃勃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58840" y="3351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柔美婀娜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58840" y="25131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鲜妍明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8840" y="1674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清澈亮丽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3810240" cy="6248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214880" y="304920"/>
            <a:ext cx="4700520" cy="632448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满井，是地名，在北京东直门外东北三里，明清两朝是京城近郊的一个风景区。因有一口古井，“井高于地，泉高于井，四时不落”而得名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330120" y="1447920"/>
            <a:ext cx="115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局促一室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之内，欲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出不得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031840" y="408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686320" y="18288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若脱笼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之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43400" y="160020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始知郊田之外未始无春，而城居者未之知也。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28800" y="2209680"/>
            <a:ext cx="711360" cy="362160"/>
          </a:xfrm>
          <a:prstGeom prst="rightArrow">
            <a:avLst>
              <a:gd name="adj1" fmla="val 50000"/>
              <a:gd name="adj2" fmla="val 49105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733920" y="2209680"/>
            <a:ext cx="709560" cy="362160"/>
          </a:xfrm>
          <a:prstGeom prst="rightArrow">
            <a:avLst>
              <a:gd name="adj1" fmla="val 50000"/>
              <a:gd name="adj2" fmla="val 48981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4267080"/>
            <a:ext cx="129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烦躁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无可奈何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27920" y="449568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轻松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喜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813920" y="449568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感叹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赞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4952880"/>
            <a:ext cx="685800" cy="304920"/>
          </a:xfrm>
          <a:prstGeom prst="rightArrow">
            <a:avLst>
              <a:gd name="adj1" fmla="val 50278"/>
              <a:gd name="adj2" fmla="val 2970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505320" y="50292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834280" y="5637960"/>
            <a:ext cx="286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抑　　       扬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00400" y="5867280"/>
            <a:ext cx="1655640" cy="287280"/>
          </a:xfrm>
          <a:prstGeom prst="rightArrow">
            <a:avLst>
              <a:gd name="adj1" fmla="val 50000"/>
              <a:gd name="adj2" fmla="val 144079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37480" y="32004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心情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867280" y="4952880"/>
            <a:ext cx="838440" cy="304920"/>
          </a:xfrm>
          <a:prstGeom prst="rightArrow">
            <a:avLst>
              <a:gd name="adj1" fmla="val 50000"/>
              <a:gd name="adj2" fmla="val 68743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162920" y="4343400"/>
            <a:ext cx="175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厌倦官场生活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寄情山水的兴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286000"/>
            <a:ext cx="709560" cy="361800"/>
          </a:xfrm>
          <a:prstGeom prst="rightArrow">
            <a:avLst>
              <a:gd name="adj1" fmla="val 50000"/>
              <a:gd name="adj2" fmla="val 49030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696080" y="1676520"/>
            <a:ext cx="1447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余之游将自此始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28600"/>
            <a:ext cx="876924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找出抒写作者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心情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句子？看看作者的心情经历了怎样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变化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500"/>
                            </p:stCondLst>
                            <p:childTnLst>
                              <p:par>
                                <p:cTn id="7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黑体"/>
                <a:ea typeface="黑体"/>
              </a:rPr>
              <a:t>自学指导二（</a:t>
            </a:r>
            <a:r>
              <a:rPr b="1" lang="zh-CN" sz="4400" spc="-1" strike="noStrike">
                <a:solidFill>
                  <a:srgbClr val="007572"/>
                </a:solidFill>
                <a:latin typeface="黑体"/>
                <a:ea typeface="黑体"/>
              </a:rPr>
              <a:t>7</a:t>
            </a:r>
            <a:r>
              <a:rPr b="1" lang="zh-CN" sz="4400" spc="-1" strike="noStrike">
                <a:solidFill>
                  <a:srgbClr val="007572"/>
                </a:solidFill>
                <a:latin typeface="黑体"/>
                <a:ea typeface="黑体"/>
              </a:rPr>
              <a:t>分钟）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4920" y="1676520"/>
            <a:ext cx="8675640" cy="204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、本文在记叙描写中，用了很多比喻句。有的是以物比人，有的是以人比物，有的是以物比物，试举例品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“始知郊田之外未始无春，而城居者未之知也”这句话该如何理解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、本文和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小石潭记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》《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记承天寺夜游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》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在写景时，都抒发了作者独特的感受。说说你从这三篇课文中看出了三位作者怎样不同的心境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304920" y="1752480"/>
            <a:ext cx="8839080" cy="4382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黑体"/>
              </a:rPr>
              <a:t>⑴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黑体"/>
              </a:rPr>
              <a:t>若脱笼之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黑体"/>
              </a:rPr>
              <a:t>⑵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黑体"/>
              </a:rPr>
              <a:t>晶晶然如镜之新开而冷光之乍出于匣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黑体"/>
              </a:rPr>
              <a:t>写出了水初解时的清澈亮丽，极为新颖贴切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黑体"/>
              </a:rPr>
              <a:t>⑶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黑体"/>
              </a:rPr>
              <a:t>如倩女之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靧面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黑体"/>
              </a:rPr>
              <a:t>而髻鬟之始掠也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黑体"/>
              </a:rPr>
              <a:t>不仅写出了山的明媚亮丽，还透出青春活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黑体"/>
              </a:rPr>
              <a:t>⑷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黑体"/>
              </a:rPr>
              <a:t>麦田浅鬣寸许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黑体"/>
              </a:rPr>
              <a:t>联想奇特，不仅写出了早春二月田野麦苗的形态，而且表现出春天是生长的季节，生机勃勃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895480" y="1600200"/>
            <a:ext cx="32004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以人比物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419720" y="2590920"/>
            <a:ext cx="4189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以物比物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533520" y="4572000"/>
            <a:ext cx="3276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以物比人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886200" y="5029200"/>
            <a:ext cx="38862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以物比物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990033"/>
                </a:solidFill>
                <a:latin typeface="黑体"/>
                <a:ea typeface="黑体"/>
              </a:rPr>
              <a:t>、本文在记叙描写中，用了很多比喻句。有的是以物比人，有的是以人比物，有的是以物比物，试举例品析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562720" y="1066680"/>
            <a:ext cx="320040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写出了人物轻松、喜悦的心情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3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-228600" y="388620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小石潭记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和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记承天寺夜游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的作者都有抱负未酬和被贬谪的遭遇，因此在文中流露出某种忧愁和愤懑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而</a:t>
            </a:r>
            <a:r>
              <a:rPr b="1" lang="en-US" sz="2800" spc="-1" strike="noStrike">
                <a:solidFill>
                  <a:srgbClr val="cc0066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满井游记</a:t>
            </a:r>
            <a:r>
              <a:rPr b="1" lang="en-US" sz="2800" spc="-1" strike="noStrike">
                <a:solidFill>
                  <a:srgbClr val="cc0066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的作者只是官小，职务清闲，并无被贬谪的遭遇，性情又比较达观，所以不仅没有忧愁，甚至为此而庆幸、自慰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8600" y="1371600"/>
            <a:ext cx="8474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黑体"/>
              </a:rPr>
              <a:t>要点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我们不能“局促”于一室一地，而要走出去，关心外面的变化，那收获就更大一些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28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“始知郊田之外未始无春，而城居者未之知也”这句话该如何理解？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2514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本文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石潭记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记承天寺夜游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写景时，都抒发了作者独特的感受。说说你从这三篇课文中看出了三位作者怎样不同的心境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279320" y="333360"/>
            <a:ext cx="82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、本文在写景时用了哪些修辞手法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举例说明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7948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  <a:ea typeface="隶书"/>
              </a:rPr>
              <a:t>白描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：写景不堆砌词藻，而是用极为简练的笔法勾勒出来。如写水为“波色乍明，鳞浪层层，清澈见底”，写柳条“将舒未舒，柔梢披风”。这种表现方法，没有夸张，渲染和烘托，而形象却鲜明如画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1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496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拟人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：作者写山，用倩女新妆作喻，写鱼鸟，说它们洋溢着喜气，都是用了拟人的写法，增加了景物的动感和灵气，也融入作者的主观情感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隶书"/>
              </a:rPr>
              <a:t>比喻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：如形容自己出城游玩为  “脱笼之鹄”；写水波“晶晶然如镜之新开而冷光之乍出于匣也”，以新开明镜喻新绿水波，写出了水光的明丽，贴切而有新意；“麦田浅鬣寸许”，以兽颈之毛比喻还没有长高的麦苗，简明而又形象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1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10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8763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选出下列说法有误的一项（     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本文是一篇游记散文，通过描写满井春色，表现了作者寄情山水的喜悦之情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本文运用了大量贴切、新奇的比喻描写各种景物，生动形象地刻画了满井早春的特点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本文描写满井春色，是按由近及远，由点到面的顺序来写的，层次分明，详略适宜，动静结合，高下相属，光鲜悦目，色彩缤纷，烘托了大自然的春之“喜气”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课文开头一段欲扬先抑，写出燕地的气候特征，暗示作者渴望出游的心情，为后文作铺垫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title"/>
          </p:nvPr>
        </p:nvSpPr>
        <p:spPr>
          <a:xfrm>
            <a:off x="1447920" y="304920"/>
            <a:ext cx="579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黑体"/>
              </a:rPr>
              <a:t>当堂训练（</a:t>
            </a:r>
            <a:r>
              <a:rPr b="1" lang="en-US" sz="4400" spc="-1" strike="noStrike">
                <a:solidFill>
                  <a:srgbClr val="990033"/>
                </a:solidFill>
                <a:latin typeface="Arial"/>
                <a:ea typeface="黑体"/>
              </a:rPr>
              <a:t>6</a:t>
            </a:r>
            <a:r>
              <a:rPr b="1" lang="zh-CN" sz="4400" spc="-1" strike="noStrike">
                <a:solidFill>
                  <a:srgbClr val="990033"/>
                </a:solidFill>
                <a:latin typeface="Arial"/>
                <a:ea typeface="黑体"/>
              </a:rPr>
              <a:t>分钟）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560" y="1371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295280" y="441972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本文写景的顺序应是由远及近，从面到点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/>
          </p:nvPr>
        </p:nvSpPr>
        <p:spPr>
          <a:xfrm>
            <a:off x="151920" y="228600"/>
            <a:ext cx="854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．本段主要是写城郊之春景，以写景为主，兼有议论抒情。作者抒发的是（   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．歌赞春光明媚。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．赞美满井山清水秀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．抒发春游感慨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．抒发春游时悠然轻松之喜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53080" y="7621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D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634200"/>
            <a:ext cx="12827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３、文中表现“闲适满意”的一个词语是：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</a:t>
            </a:r>
            <a:br>
              <a:rPr sz="3200"/>
            </a:b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４、“游人虽未盛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毛羽鳞鬣之间皆有喜气”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几句用了什么修辞方法？从哪两个方面写出了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春”的信息？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　　　　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238880" y="358128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悠然自得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6034320"/>
            <a:ext cx="89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修辞方法：排比（泉而茗者，罍而歌者，红装而蹇者）；借代（呷浪之鳞，“鳞”代指“鱼”）；从人的活动和动物的活动两方面写出了“春”的信息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343400" y="1600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Arial"/>
              </a:rPr>
              <a:t>借代是用与人或事物有关的东西来代替人或事物，被代替的事物叫“本体”，用来代替的事物叫“借体”。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2" dur="indefinite" restart="never" nodeType="tmRoot">
          <p:childTnLst>
            <p:seq>
              <p:cTn id="973" dur="indefinite" nodeType="mainSeq">
                <p:childTnLst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0" y="99072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第一段中属正面描写的句子是：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_________________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__________________________________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；属侧面描写的是：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______________________________________________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总写郊外春景的句子是：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________________________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用比喻手法烘托出作者的轻松喜悦心情的句子是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____________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写游人的句子是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: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_____________________________________________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写鱼、鸟的特点的句子是：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_______________________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、点明了全文主旨的句子是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_______________________________________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990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黑体"/>
              </a:rPr>
              <a:t>                                                        </a:t>
            </a: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黑体"/>
              </a:rPr>
              <a:t>燕地寒，花朝节后，余寒犹厉。冻风时作，作则飞砂走砾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-152280" y="18288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局促一室之内，欲出不得。每冒风驰行，未百步辄返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133720" y="2286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三、用原文填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413400" y="22860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高柳夹堤，土膏微润，一望空阔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13720" y="3124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黑体"/>
              </a:rPr>
              <a:t>若脱笼之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" y="3962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黑体"/>
              </a:rPr>
              <a:t>泉而茗者，罍而歌者，红装而蹇者，亦时时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952880" y="46753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Times New Roman"/>
                <a:ea typeface="黑体"/>
              </a:rPr>
              <a:t>悠然自得   皆有喜气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0" y="563868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Arial"/>
                <a:ea typeface="黑体"/>
              </a:rPr>
              <a:t>始知郊田之外未始无春，而城居者未之知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4419720" cy="6248160"/>
          </a:xfrm>
          <a:prstGeom prst="rect">
            <a:avLst/>
          </a:prstGeom>
          <a:noFill/>
          <a:ln w="76320">
            <a:solidFill>
              <a:srgbClr val="cc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袁宏道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明代文学家。字中郎，湖广公安（今湖北省公安县）人。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与兄宗道、弟中道，并称“三袁”，是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3333cc"/>
                </a:solidFill>
                <a:latin typeface="黑体"/>
                <a:ea typeface="黑体"/>
              </a:rPr>
              <a:t>公安派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”的创始者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他的山水游记很著名。作品多写闲情逸致，对当时政治现实有所批判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4038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" y="838080"/>
            <a:ext cx="822960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                  </a:t>
            </a: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写作背景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袁宏道无意于仕途，他在明神宗万历二十年就中了进士，但不愿做官，而去访师求学，游历山川。在登临山水中，他的思想得到了解放，个性得到了张扬，创作的激情也格外高涨。万历二十六年（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1598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），他收到在京城任职的哥哥的信，只好收敛起游山玩水的兴致，来到北京，被授予顺天府教授。第二年，升为国子监助教。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终日又得和拜谒酬答打交道了，这使他颇感苦闷，更使他感到苦闷的是有政见却得不到申诉。好在袁宏道所担任的职务比较清闲，有空暇游览北京附近的名胜古迹。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满井游记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就作于此时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7572"/>
                </a:solidFill>
                <a:latin typeface="Arial"/>
                <a:ea typeface="黑体"/>
              </a:rPr>
              <a:t>第一课时</a:t>
            </a:r>
            <a:endParaRPr b="0" lang="en-US" sz="6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3360" y="23619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学习目标</a:t>
            </a: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: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、准确顺畅地朗读课文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、翻译课文，积累重点字词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2057400"/>
            <a:ext cx="9144000" cy="3382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燕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地寒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)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够花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朝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节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)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飞沙走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砾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廿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二日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 )  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偕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数友（   ） 脱笼之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鹄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)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波色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乍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明（   ） 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靧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面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)   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髻鬟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   )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浅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鬣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)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泉而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茗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者（    ）  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罍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而歌者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)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红装而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蹇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者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)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汗出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浃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背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)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曝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沙之鸟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)     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呷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浪之鳞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)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以游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堕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事（   ） </a:t>
            </a:r>
            <a:r>
              <a:rPr b="1" lang="zh-CN" sz="3200" spc="-1" strike="noStrike">
                <a:solidFill>
                  <a:srgbClr val="cc0000"/>
                </a:solidFill>
                <a:latin typeface="黑体"/>
                <a:ea typeface="黑体"/>
              </a:rPr>
              <a:t>恶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能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(    )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47920" y="2743200"/>
            <a:ext cx="1306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nià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648320" y="2819520"/>
            <a:ext cx="1312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ié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2133720"/>
            <a:ext cx="1339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yā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001000" y="2133720"/>
            <a:ext cx="911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lì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866000" y="2819520"/>
            <a:ext cx="1278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ú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343400" y="3505320"/>
            <a:ext cx="131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ì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34320" y="3429000"/>
            <a:ext cx="66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ì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467480" y="3429000"/>
            <a:ext cx="1513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á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4114800"/>
            <a:ext cx="1474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liè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67080" y="4114800"/>
            <a:ext cx="14558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míng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61320" y="4114800"/>
            <a:ext cx="1282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léi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33720" y="4800600"/>
            <a:ext cx="1368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ǎn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181480" y="4724280"/>
            <a:ext cx="1359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ji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97840" y="4724280"/>
            <a:ext cx="1046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pù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5120" y="5410080"/>
            <a:ext cx="1122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xiā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67480" y="5410080"/>
            <a:ext cx="14036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wū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304920"/>
            <a:ext cx="854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自学指导一（</a:t>
            </a:r>
            <a:r>
              <a:rPr b="1" lang="en-US" sz="4800" spc="-1" strike="noStrike">
                <a:solidFill>
                  <a:srgbClr val="cc0000"/>
                </a:solidFill>
                <a:latin typeface="黑体"/>
                <a:ea typeface="黑体"/>
              </a:rPr>
              <a:t>5</a:t>
            </a: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分钟）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1143000"/>
            <a:ext cx="81532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读准下列字的读音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2133720"/>
            <a:ext cx="1339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āo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981080" y="3429000"/>
            <a:ext cx="99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zhà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105520" y="5410080"/>
            <a:ext cx="13190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ec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hu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ī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924680" y="1219320"/>
            <a:ext cx="381240" cy="38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151574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3360" y="9140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自学指导二（</a:t>
            </a:r>
            <a:r>
              <a:rPr b="1" lang="en-US" sz="5400" spc="-1" strike="noStrike">
                <a:solidFill>
                  <a:srgbClr val="cc0000"/>
                </a:solidFill>
                <a:latin typeface="黑体"/>
                <a:ea typeface="黑体"/>
              </a:rPr>
              <a:t>8</a:t>
            </a:r>
            <a:r>
              <a:rPr b="1" lang="zh-CN" sz="5400" spc="-1" strike="noStrike">
                <a:solidFill>
                  <a:srgbClr val="cc0000"/>
                </a:solidFill>
                <a:latin typeface="黑体"/>
                <a:ea typeface="黑体"/>
              </a:rPr>
              <a:t>分钟）</a:t>
            </a:r>
            <a:endParaRPr b="0" lang="en-US" sz="5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2666520"/>
            <a:ext cx="73152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结合文下注释、上下文语境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黑体"/>
              </a:rPr>
              <a:t>自主完成课文翻译任务。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黑体"/>
                <a:ea typeface="黑体"/>
              </a:rPr>
              <a:t>自学检测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990720"/>
            <a:ext cx="8675640" cy="576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 解释下列红色词语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冻风时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土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膏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微润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于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冰皮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波色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明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浪层层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山峦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晴雪所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娟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拭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如倩女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靧面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髻鬟之</a:t>
            </a:r>
            <a:r>
              <a:rPr b="1" lang="zh-CN" sz="2800" spc="-1" strike="noStrike">
                <a:solidFill>
                  <a:srgbClr val="6600cc"/>
                </a:solidFill>
                <a:latin typeface="黑体"/>
                <a:ea typeface="黑体"/>
              </a:rPr>
              <a:t>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掠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柔梢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披风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浅鬣寸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许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茗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者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罍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歌者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红装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蹇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汗出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背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沙之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浪之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未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无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不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游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事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恶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无纪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数友出东直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812320" y="1523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兴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927120" y="15238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肥沃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846840" y="22096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始，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647080" y="32767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美好的样子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33520" y="2362320"/>
            <a:ext cx="125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在这时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71800" y="21337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开始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60040" y="3733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刚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50760" y="3733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梳洗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36960" y="3200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洗脸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278560" y="4191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喝茶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83720" y="50292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湿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806640" y="54100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鱼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629400" y="5410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未必、未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63388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通“隳”，毁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5791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安，哪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66800" y="3657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在风中飘荡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3720" y="28195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像鱼鳞一样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620120" y="2743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被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14600" y="4114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左右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553080" y="416736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cc"/>
                </a:solidFill>
                <a:latin typeface="Arial"/>
                <a:ea typeface="黑体"/>
              </a:rPr>
              <a:t>用泉水煮茶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03680" y="4572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举起酒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06760" y="4572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穿着盛装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90880" y="457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cc"/>
                </a:solidFill>
                <a:latin typeface="Arial"/>
                <a:ea typeface="黑体"/>
              </a:rPr>
              <a:t>骑驴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162920" y="4952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晒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88640" y="5867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因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0" y="54100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黑体"/>
              </a:rPr>
              <a:t>吸而饮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23888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  <a:ea typeface="黑体"/>
              </a:rPr>
              <a:t>同、一起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990720"/>
            <a:ext cx="85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燕地寒，花朝节后，余寒犹厉。冻风时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作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，作则飞砂走砾，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局促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一室之内，欲出不得。每冒风驰行，未百步辄返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04812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66"/>
                </a:solidFill>
                <a:latin typeface="黑体"/>
                <a:ea typeface="黑体"/>
              </a:rPr>
              <a:t>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：北京一带气候寒冷，花朝节过后，冬天的余寒还很厉害。冷风时常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刮起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刮起时就飞沙走石。只得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拘束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房间里，想出去也不能够。每次顶着寒风快步行走，不到百步就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被迫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返回了。</a:t>
            </a:r>
            <a:r>
              <a:rPr b="1" lang="zh-CN" sz="3600" spc="-1" strike="noStrike">
                <a:solidFill>
                  <a:srgbClr val="007572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308680" y="1000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黑体"/>
              </a:rPr>
              <a:t>二、看原文翻译课文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张洵忠   </dc:creator>
  <dc:description/>
  <cp:keywords/>
  <dc:language>en-US</dc:language>
  <cp:lastModifiedBy>微软用户</cp:lastModifiedBy>
  <dcterms:modified xsi:type="dcterms:W3CDTF">2012-02-22T12:52:28Z</dcterms:modified>
  <cp:revision>1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