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19.jpeg" ContentType="image/jpeg"/>
  <Override PartName="/ppt/media/image17.jpeg" ContentType="image/jpeg"/>
  <Override PartName="/ppt/media/image16.png" ContentType="image/png"/>
  <Override PartName="/ppt/media/image8.jpeg" ContentType="image/jpeg"/>
  <Override PartName="/ppt/media/image28.jpeg" ContentType="image/jpeg"/>
  <Override PartName="/ppt/media/image7.jpeg" ContentType="image/jpeg"/>
  <Override PartName="/ppt/media/image2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31.gif" ContentType="image/gif"/>
  <Override PartName="/ppt/media/image25.gif" ContentType="image/gif"/>
  <Override PartName="/ppt/media/image18.png" ContentType="image/png"/>
  <Override PartName="/ppt/media/image6.jpeg" ContentType="image/jpeg"/>
  <Override PartName="/ppt/media/image11.gif" ContentType="image/gif"/>
  <Override PartName="/ppt/media/image4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D8F-E072-425F-B3AB-5AF2BF5A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42ED-047C-4888-A9FD-0AF034BC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0CA-C1CD-4432-A86E-F7AFDC59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202-1F5F-44BC-8188-38911430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3AE-2E0E-4A41-83E3-037DB8F1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7DE-D7C5-4967-9222-C3213F9B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3A88-FC22-4356-85EB-D0176F67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F282-9A5A-4CC5-BC18-8A9FD1AA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120-3E0F-4E7F-AAF7-D94A9AD2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F960-4E0D-482B-8B59-95D0F5AD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6A4D-9BE0-41E9-8A09-CCA4157D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D4DD-3F34-4FC4-8768-EE998BC4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8642-5524-4CF0-B5BF-3B2A85498E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&#25991;&#20307;&#20316;&#32773;&#37197;&#38899;.wav" TargetMode="External"/><Relationship Id="rId3" Type="http://schemas.microsoft.com/office/2007/relationships/media" Target="file:///tmp/home/.config/libreoffice/4/user/gallery/&#25991;&#20307;&#20316;&#32773;&#37197;&#38899;.wav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马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9280" y="333360"/>
            <a:ext cx="8964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世有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伯乐，然后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千里马。千里马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有，而</a:t>
            </a:r>
            <a:r>
              <a:rPr b="0" lang="en-US" sz="2800" spc="-1" strike="noStrike">
                <a:solidFill>
                  <a:srgbClr val="d70532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伯乐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常有。故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虽有名马，祗辱于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奴隶人之手，骈死于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槽枥之间，不以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里称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马之千里者，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尽粟一石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马者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知其能千里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。是马也，虽</a:t>
            </a:r>
            <a:r>
              <a:rPr b="0" lang="en-US" sz="2800" spc="-1" strike="noStrike">
                <a:solidFill>
                  <a:srgbClr val="d70532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千里之能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饱，力不足，才美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且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欲与常马等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可得，安求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能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里也 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策之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以其道，食之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能尽其材，鸣之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不能通其意，执策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临之，曰：“天下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马！”呜呼！其真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马邪？其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不知马也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朗诵课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51280" y="76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zh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765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pi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2060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h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198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270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6360" y="2637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h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32846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xi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59280" y="20606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d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732720" y="5805360"/>
            <a:ext cx="2232000" cy="1052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0436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马17" descr=""/>
          <p:cNvPicPr/>
          <p:nvPr/>
        </p:nvPicPr>
        <p:blipFill>
          <a:blip r:embed="rId1"/>
          <a:stretch/>
        </p:blipFill>
        <p:spPr>
          <a:xfrm>
            <a:off x="0" y="0"/>
            <a:ext cx="45752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00600" y="376200"/>
            <a:ext cx="41148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千里马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伯乐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辱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骈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称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故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             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之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以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              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虽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学习第一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实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380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日行千里的马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90792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擅长相马之人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2280" y="148428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辱没；这里指受屈辱而埋没才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0360" y="2565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两马并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3124080"/>
            <a:ext cx="20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著称，出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虚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40384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表转折，但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4572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因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01000" y="4572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5105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结构助词，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5715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凭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即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1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476280"/>
            <a:ext cx="2927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3366ff"/>
                </a:solidFill>
                <a:latin typeface="Times New Roman"/>
                <a:ea typeface="黑体"/>
              </a:rPr>
              <a:t>分析文段一：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30480" y="124452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a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8080a"/>
                </a:solidFill>
                <a:latin typeface="Times New Roman"/>
                <a:ea typeface="隶书"/>
              </a:rPr>
              <a:t>、本段表达了作者什么观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21240" y="18604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隶书"/>
              </a:rPr>
              <a:t>世有伯乐，然后有千里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5800" y="458136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a"/>
                </a:solidFill>
                <a:latin typeface="Times New Roman"/>
                <a:ea typeface="隶书"/>
              </a:rPr>
              <a:t>3</a:t>
            </a:r>
            <a:r>
              <a:rPr b="1" lang="zh-CN" sz="3600" spc="-1" strike="noStrike">
                <a:solidFill>
                  <a:srgbClr val="08080a"/>
                </a:solidFill>
                <a:latin typeface="Times New Roman"/>
                <a:ea typeface="隶书"/>
              </a:rPr>
              <a:t>、本段文字说明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25760" y="5157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隶书"/>
              </a:rPr>
              <a:t>伯乐对千里马的重要作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87680" y="2583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a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08080a"/>
                </a:solidFill>
                <a:latin typeface="Times New Roman"/>
                <a:ea typeface="隶书"/>
              </a:rPr>
              <a:t>、没有伯乐，千里马命运如何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33577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隶书"/>
              </a:rPr>
              <a:t>祇辱于奴隶人之手，骈死于槽枥之间，不以千里称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马12" descr=""/>
          <p:cNvPicPr/>
          <p:nvPr/>
        </p:nvPicPr>
        <p:blipFill>
          <a:blip r:embed="rId1"/>
          <a:stretch/>
        </p:blipFill>
        <p:spPr>
          <a:xfrm>
            <a:off x="0" y="692280"/>
            <a:ext cx="5003640" cy="4608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219640" y="189000"/>
            <a:ext cx="3353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实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一食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3300"/>
                </a:solidFill>
                <a:uFillTx/>
                <a:latin typeface="宋体"/>
              </a:rPr>
              <a:t>食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马者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才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外见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等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常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62920" y="8366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吃一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1413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通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饲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34320" y="1916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才能，美好的素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32720" y="292428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表现在外面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见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通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现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40766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等同，一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4653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普通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228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学习第二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16720" y="52293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这种，作代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8480" y="558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虚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602136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            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其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                       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安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17280" y="602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有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00600" y="602136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代“千里马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6021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怎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333216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3366ff"/>
                </a:solidFill>
                <a:latin typeface="Times New Roman"/>
                <a:ea typeface="黑体"/>
              </a:rPr>
              <a:t>分析文段二：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7560" y="128592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、千里马被埋没的原因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84120" y="18842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隶书"/>
              </a:rPr>
              <a:t>食不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2637000"/>
            <a:ext cx="109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、本段文字从侧面讽刺了喂马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1280" y="3265560"/>
            <a:ext cx="8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隶书"/>
              </a:rPr>
              <a:t>无能、无知、目光短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3789360"/>
            <a:ext cx="792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、“且欲与常马等不可得，安求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能千里也？”表达了作者什么感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77800" y="522936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隶书"/>
              </a:rPr>
              <a:t>对千里马命运的惋惜，对食马者的讽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马11" descr=""/>
          <p:cNvPicPr/>
          <p:nvPr/>
        </p:nvPicPr>
        <p:blipFill>
          <a:blip r:embed="rId1"/>
          <a:stretch/>
        </p:blipFill>
        <p:spPr>
          <a:xfrm>
            <a:off x="0" y="1052640"/>
            <a:ext cx="5562720" cy="5805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638680" y="228600"/>
            <a:ext cx="3505320" cy="60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实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3300"/>
                </a:solidFill>
                <a:uFillTx/>
                <a:latin typeface="宋体"/>
              </a:rPr>
              <a:t>策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之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执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宋体"/>
              </a:rPr>
              <a:t>策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道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尽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材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鸣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通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执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临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知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228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学习第三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64360" y="83664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用马鞭子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1371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马鞭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正确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2438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竭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29400" y="304812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通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才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才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鸣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88000" y="414972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通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88000" y="472428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603576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525780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面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05720" y="5791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识别，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马24" descr=""/>
          <p:cNvPicPr/>
          <p:nvPr/>
        </p:nvPicPr>
        <p:blipFill>
          <a:blip r:embed="rId1"/>
          <a:stretch/>
        </p:blipFill>
        <p:spPr>
          <a:xfrm>
            <a:off x="0" y="1905120"/>
            <a:ext cx="4572000" cy="4952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258920" y="189000"/>
            <a:ext cx="45720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策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宋体"/>
              </a:rPr>
              <a:t>之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以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邪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马20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572000" cy="49528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4920" y="380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虚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59280" y="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作代词，代千里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40464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按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84360" y="981000"/>
            <a:ext cx="59752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通“耶”，表示疑问语气，相当于“吗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3846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3366ff"/>
                </a:solidFill>
                <a:latin typeface="Times New Roman"/>
                <a:ea typeface="黑体"/>
              </a:rPr>
              <a:t>分析文段三：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dw_011" descr=""/>
          <p:cNvPicPr/>
          <p:nvPr/>
        </p:nvPicPr>
        <p:blipFill>
          <a:blip r:embed="rId2"/>
          <a:stretch/>
        </p:blipFill>
        <p:spPr>
          <a:xfrm>
            <a:off x="7164360" y="5877000"/>
            <a:ext cx="901800" cy="615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30160" y="3357720"/>
            <a:ext cx="667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a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8080a"/>
                </a:solidFill>
                <a:latin typeface="Times New Roman"/>
                <a:ea typeface="隶书"/>
              </a:rPr>
              <a:t>、本段哪句话能体现作者的写作目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04640" y="3860640"/>
            <a:ext cx="136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隶书"/>
              </a:rPr>
              <a:t>其真无马邪？其真不知马也。”</a:t>
            </a: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6080" y="4581360"/>
            <a:ext cx="97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本段表达出了作者怎样的感情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60120" y="126828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哪些语言能体现食马者的无知和浅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16000" y="198900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隶书"/>
              </a:rPr>
              <a:t>策之不以其道，食之不能尽其材，鸣之而 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隶书"/>
              </a:rPr>
              <a:t>能通其意，执策而临之，曰：“天下无马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4200" y="52164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隶书"/>
              </a:rPr>
              <a:t>对人才埋没的愤懑之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60440" y="2438280"/>
            <a:ext cx="8506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粗倩简体"/>
              </a:rPr>
              <a:t>马　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1371600"/>
            <a:ext cx="304560" cy="3886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0880" y="9907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里马与伯乐的关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73160" y="29401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里马被埋没的原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27360" y="4830840"/>
            <a:ext cx="25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揭示主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知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97400" y="1752480"/>
            <a:ext cx="685800" cy="1143000"/>
          </a:xfrm>
          <a:prstGeom prst="downArrow">
            <a:avLst>
              <a:gd name="adj1" fmla="val 50000"/>
              <a:gd name="adj2" fmla="val 4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97400" y="3581280"/>
            <a:ext cx="685800" cy="1143000"/>
          </a:xfrm>
          <a:prstGeom prst="downArrow">
            <a:avLst>
              <a:gd name="adj1" fmla="val 50000"/>
              <a:gd name="adj2" fmla="val 4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horse0025_pr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1403280" y="1341360"/>
            <a:ext cx="6481800" cy="3241800"/>
            <a:chOff x="1403280" y="1341360"/>
            <a:chExt cx="6481800" cy="3241800"/>
          </a:xfrm>
        </p:grpSpPr>
        <p:sp>
          <p:nvSpPr>
            <p:cNvPr id="208" name=""/>
            <p:cNvSpPr/>
            <p:nvPr/>
          </p:nvSpPr>
          <p:spPr>
            <a:xfrm>
              <a:off x="1403280" y="1341360"/>
              <a:ext cx="6481800" cy="3241800"/>
            </a:xfrm>
            <a:prstGeom prst="downArrowCallout">
              <a:avLst>
                <a:gd name="adj1" fmla="val 49991"/>
                <a:gd name="adj2" fmla="val 49986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fefeda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08360" y="3429000"/>
              <a:ext cx="194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  <a:ea typeface="华文新魏"/>
                </a:rPr>
                <a:t>托物寓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484360" y="1484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里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68720" y="184140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92720" y="14810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00360" y="2565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伯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292104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48360" y="26337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赏识人才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76360" y="4726080"/>
            <a:ext cx="6480360" cy="9471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efe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借千里马难遇伯乐，最终被埋没，揭露封建统治者埋没人才的现象，也表达作者怀才不遇的愤意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132000" y="549360"/>
            <a:ext cx="28083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马说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你能讲出几个含有“马”字的四字成语或是诗词名句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停蹄 、</a:t>
            </a: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齿徒增 、</a:t>
            </a: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到成功 、</a:t>
            </a: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耳东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工枚速 、</a:t>
            </a: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牛襟裾 、</a:t>
            </a: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首是瞻、 </a:t>
            </a: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放南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角乌头、　</a:t>
            </a: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毛猬磔 、</a:t>
            </a: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泼水 、</a:t>
            </a: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首欲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瘦毛长 、</a:t>
            </a: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咽车阗 、</a:t>
            </a: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空冀北 、一</a:t>
            </a: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平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驷</a:t>
            </a: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车、 走</a:t>
            </a: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花、 快</a:t>
            </a: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加鞭、</a:t>
            </a: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革裹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空冀北、龙</a:t>
            </a: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精神、指鹿为</a:t>
            </a: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千军万</a:t>
            </a: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</a:t>
            </a: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奔腾、老</a:t>
            </a: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识途、天</a:t>
            </a:r>
            <a:r>
              <a:rPr b="1" lang="zh-CN" sz="3200" spc="-1" strike="noStrike">
                <a:solidFill>
                  <a:srgbClr val="e10900"/>
                </a:solidFill>
                <a:latin typeface="黑体"/>
                <a:ea typeface="黑体"/>
              </a:rPr>
              <a:t>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行空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0000"/>
              </a:buClr>
              <a:buFont typeface="华文彩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观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华文彩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千里马常有，而伯乐不常有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0000"/>
              </a:buClr>
              <a:buFont typeface="华文彩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主旨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华文彩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其真不知马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90" descr=""/>
          <p:cNvPicPr/>
          <p:nvPr/>
        </p:nvPicPr>
        <p:blipFill>
          <a:blip r:embed="rId1"/>
          <a:stretch/>
        </p:blipFill>
        <p:spPr>
          <a:xfrm>
            <a:off x="108000" y="-2232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523960" y="112536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马说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中说“世有伯乐，然后有千里马”，如果你是千里马，是否一定要得到伯乐的赏识呢？请谈谈你的看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457200"/>
            <a:ext cx="914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7c80"/>
                    </a:gs>
                    <a:gs pos="100000">
                      <a:srgbClr val="75393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大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7c80"/>
                  </a:gs>
                  <a:gs pos="100000">
                    <a:srgbClr val="75393b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7c80"/>
                    </a:gs>
                    <a:gs pos="100000">
                      <a:srgbClr val="75393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家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7c80"/>
                  </a:gs>
                  <a:gs pos="100000">
                    <a:srgbClr val="75393b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7c80"/>
                    </a:gs>
                    <a:gs pos="100000">
                      <a:srgbClr val="75393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谈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7c80"/>
                  </a:gs>
                  <a:gs pos="100000">
                    <a:srgbClr val="75393b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rcRect l="44448" t="0" r="14283" b="13638"/>
          <a:stretch/>
        </p:blipFill>
        <p:spPr>
          <a:xfrm>
            <a:off x="6896160" y="2362320"/>
            <a:ext cx="2247840" cy="4495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那为什么韩愈还要如此肯定自己的观点？结合背景来思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楷体_GB2312"/>
              </a:rPr>
              <a:t>这篇《马说》大约作于贞元十一年至十六年间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唐时期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楷体_GB2312"/>
              </a:rPr>
              <a:t>）。这时，韩愈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楷体_GB2312"/>
              </a:rPr>
              <a:t>初登仕途，很不得志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楷体_GB2312"/>
              </a:rPr>
              <a:t>。他曾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细黑"/>
                <a:ea typeface="楷体_GB2312"/>
              </a:rPr>
              <a:t>三次上书宰相求擢用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楷体_GB2312"/>
              </a:rPr>
              <a:t>。很可惜有“忧天下之心”的他，终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细黑"/>
                <a:ea typeface="楷体_GB2312"/>
              </a:rPr>
              <a:t>未被采纳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楷体_GB2312"/>
              </a:rPr>
              <a:t>。后来又相继依附于一些节度使幕下，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楷体_GB2312"/>
              </a:rPr>
              <a:t>郁郁不得志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楷体_GB2312"/>
              </a:rPr>
              <a:t>，再加上当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藩镇割据，宦官专权，朋党之争激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细黑"/>
                <a:ea typeface="楷体_GB2312"/>
              </a:rPr>
              <a:t>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细黑"/>
                <a:ea typeface="楷体_GB2312"/>
              </a:rPr>
              <a:t>有才能之士不受重视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楷体_GB2312"/>
              </a:rPr>
              <a:t>，所以他有“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楷体_GB2312"/>
              </a:rPr>
              <a:t>伯乐不常有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楷体_GB2312"/>
              </a:rPr>
              <a:t>”之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7054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791320" y="2666880"/>
            <a:ext cx="2361960" cy="3200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80880" y="838080"/>
            <a:ext cx="55627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韩愈初登仕途时，很不得志。曾三次上书宰相请求重用遭冷遇，甚至三次登门被守门人挡在门外。尽管如此，他仍然申明自己有“忧天下之心”，不会遁迹山林。后相继依附于节度使董晋和张建幕下，郁郁不得志，所以作《马说》，发出“伯乐不常有”的感叹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7462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15000" y="762120"/>
            <a:ext cx="2438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Times New Roman"/>
                <a:ea typeface="黑体"/>
              </a:rPr>
              <a:t>写 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Times New Roman"/>
                <a:ea typeface="黑体"/>
              </a:rPr>
              <a:t>背 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有了伯乐，才有了千里马，难道伯乐是千里马的唯一出路吗？</a:t>
            </a:r>
            <a:r>
              <a:rPr b="0" lang="zh-CN" sz="5400" spc="-1" strike="noStrike">
                <a:solidFill>
                  <a:srgbClr val="660066"/>
                </a:solidFill>
                <a:latin typeface="Times New Roman"/>
                <a:ea typeface="方正舒体"/>
              </a:rPr>
              <a:t>谁是谁的上帝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25905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如果我们把人生的裁夺权寄于伯乐，那么伯乐会不会因为手握特权而枉断优劣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马18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35252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f099" descr=""/>
          <p:cNvPicPr/>
          <p:nvPr/>
        </p:nvPicPr>
        <p:blipFill>
          <a:blip r:embed="rId2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684360" y="2492280"/>
            <a:ext cx="7715160" cy="184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社会发展到了今天，你认为怎样才</a:t>
            </a:r>
            <a:endParaRPr b="0" lang="en-US" sz="40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能多出人才？怎样才能人尽其才？</a:t>
            </a:r>
            <a:endParaRPr b="0" lang="en-US" sz="40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35" name="d132" descr=""/>
          <p:cNvPicPr/>
          <p:nvPr/>
        </p:nvPicPr>
        <p:blipFill>
          <a:blip r:embed="rId3"/>
          <a:stretch/>
        </p:blipFill>
        <p:spPr>
          <a:xfrm>
            <a:off x="6172200" y="4419720"/>
            <a:ext cx="268776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77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3" dur="770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5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7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horsec_05_x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5029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马者不知其能千里而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才美不外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食之不能尽其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其真无马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38680" y="2057040"/>
            <a:ext cx="3353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通“饲”，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通“现”，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通“才”，才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通“耶”，表疑问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相当于“吗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27944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通假字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5335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归纳整理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761080" y="-314280"/>
            <a:ext cx="3382920" cy="2544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000"/>
                            </p:stCondLst>
                            <p:childTnLst>
                              <p:par>
                                <p:cTn id="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500"/>
                            </p:stCondLst>
                            <p:childTnLst>
                              <p:par>
                                <p:cTn id="645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horsec_18_x" descr=""/>
          <p:cNvPicPr/>
          <p:nvPr/>
        </p:nvPicPr>
        <p:blipFill>
          <a:blip r:embed="rId1"/>
          <a:srcRect l="0" t="444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066680" y="2590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鸣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能通其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执策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临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食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饱，力不足，才美不外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食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之不能尽其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真无马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真不知马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2880" y="2590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词，表转折，但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词，连接状语和谓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吃，动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饲   喂养，动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表反问，难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表揣测，恐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395280"/>
            <a:ext cx="777240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虽有千里之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安求其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能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千里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策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之不以其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执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策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而临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380880"/>
            <a:ext cx="2971800" cy="24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才能，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能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用鞭子打（动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马鞭 （名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45720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274320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38098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4876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160020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9400" y="1706400"/>
            <a:ext cx="76500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一词多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5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0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0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4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5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你能讲出几个含有“马”字的四字成语或是诗词名句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251424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春风得意马蹄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踏花归来马蹄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浅草才能没马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草枯鹰眼疾，雪尽马蹄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马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马3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50" name="马9" descr=""/>
          <p:cNvPicPr/>
          <p:nvPr/>
        </p:nvPicPr>
        <p:blipFill>
          <a:blip r:embed="rId3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1" name="马10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马11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" name="BJ1017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d135" descr=""/>
            <p:cNvPicPr/>
            <p:nvPr/>
          </p:nvPicPr>
          <p:blipFill>
            <a:blip r:embed="rId7"/>
            <a:stretch/>
          </p:blipFill>
          <p:spPr>
            <a:xfrm>
              <a:off x="0" y="3657600"/>
              <a:ext cx="9144000" cy="320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2666880" y="914400"/>
            <a:ext cx="3505320" cy="2438280"/>
            <a:chOff x="2666880" y="914400"/>
            <a:chExt cx="3505320" cy="2438280"/>
          </a:xfrm>
        </p:grpSpPr>
        <p:sp>
          <p:nvSpPr>
            <p:cNvPr id="57" name=""/>
            <p:cNvSpPr txBox="1"/>
            <p:nvPr/>
          </p:nvSpPr>
          <p:spPr>
            <a:xfrm>
              <a:off x="2666880" y="914400"/>
              <a:ext cx="3505320" cy="152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0">
                    <a:noFill/>
                  </a:ln>
                  <a:blipFill rotWithShape="0">
                    <a:blip r:embed="rId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马 说</a:t>
              </a:r>
              <a:endParaRPr b="0" lang="en-US" sz="2400" spc="-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4038480" y="2743200"/>
              <a:ext cx="12193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9900"/>
                    </a:solidFill>
                    <a:miter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韩愈</a:t>
              </a:r>
              <a:endParaRPr b="0" lang="en-US" sz="2400" spc="-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533520" y="533520"/>
            <a:ext cx="8381520" cy="5825520"/>
            <a:chOff x="533520" y="533520"/>
            <a:chExt cx="8381520" cy="5825520"/>
          </a:xfrm>
        </p:grpSpPr>
        <p:pic>
          <p:nvPicPr>
            <p:cNvPr id="60" name="123" descr=""/>
            <p:cNvPicPr/>
            <p:nvPr/>
          </p:nvPicPr>
          <p:blipFill>
            <a:blip r:embed="rId1"/>
            <a:stretch/>
          </p:blipFill>
          <p:spPr>
            <a:xfrm>
              <a:off x="6759000" y="5457240"/>
              <a:ext cx="951120" cy="90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" name=""/>
            <p:cNvGrpSpPr/>
            <p:nvPr/>
          </p:nvGrpSpPr>
          <p:grpSpPr>
            <a:xfrm>
              <a:off x="533520" y="533520"/>
              <a:ext cx="8381520" cy="1000080"/>
              <a:chOff x="533520" y="533520"/>
              <a:chExt cx="8381520" cy="100008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803520" y="636120"/>
                <a:ext cx="661320" cy="450720"/>
                <a:chOff x="803520" y="636120"/>
                <a:chExt cx="661320" cy="4507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803520" y="636120"/>
                  <a:ext cx="406800" cy="45072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159560" y="636120"/>
                  <a:ext cx="305280" cy="45072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918720" y="1037160"/>
                <a:ext cx="686520" cy="450720"/>
                <a:chOff x="918720" y="1037160"/>
                <a:chExt cx="686520" cy="450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918720" y="1037160"/>
                  <a:ext cx="392040" cy="45072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262160" y="1037160"/>
                  <a:ext cx="343080" cy="45072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533520" y="967680"/>
                <a:ext cx="521280" cy="40104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124280" y="533520"/>
                <a:ext cx="29160" cy="100008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827280" y="1313280"/>
                <a:ext cx="8087760" cy="5292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1648080" y="605880"/>
              <a:ext cx="6521760" cy="456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00800" y="1909080"/>
              <a:ext cx="5175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990720" y="380880"/>
            <a:ext cx="7010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过学习本文，背诵这篇短小精悍、波澜横生的千古名作，了解“说”的文体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熟练掌握文中的文言实词和文言虚词，理解文中的诸多寓意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领会作者的写作目的和思想感情，感受封建社会摧残和埋没人才的黑暗现实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05" descr=""/>
          <p:cNvPicPr/>
          <p:nvPr/>
        </p:nvPicPr>
        <p:blipFill>
          <a:blip r:embed="rId1"/>
          <a:stretch/>
        </p:blipFill>
        <p:spPr>
          <a:xfrm>
            <a:off x="95400" y="-95400"/>
            <a:ext cx="7880040" cy="1724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1268280"/>
            <a:ext cx="6289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5246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文鼎齿轮体"/>
              </a:rPr>
              <a:t>韩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68——82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字退之，河阳（现在河南孟州）人，唐代散文家、诗人，散文尤其著名，有“文起八代之衰”的美誉，与柳宗元同为“古文运动”倡导者，是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唐宋八大家”之首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自谓郡望（郡里的显贵家族）昌黎，世称韩昌黎，谥号“文”，又称韩文公，官至吏部侍郎，故又称韩吏部。作品都收在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昌黎先生集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00360" y="26028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  <a:ea typeface="隶书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图片7" descr=""/>
          <p:cNvPicPr/>
          <p:nvPr/>
        </p:nvPicPr>
        <p:blipFill>
          <a:blip r:embed="rId2"/>
          <a:stretch/>
        </p:blipFill>
        <p:spPr>
          <a:xfrm>
            <a:off x="6300720" y="1341360"/>
            <a:ext cx="2592360" cy="518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05" descr=""/>
          <p:cNvPicPr/>
          <p:nvPr/>
        </p:nvPicPr>
        <p:blipFill>
          <a:blip r:embed="rId1"/>
          <a:stretch/>
        </p:blipFill>
        <p:spPr>
          <a:xfrm>
            <a:off x="34920" y="46080"/>
            <a:ext cx="7416720" cy="936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765000"/>
            <a:ext cx="512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华文细黑"/>
                <a:ea typeface="华文细黑"/>
              </a:rPr>
              <a:t>  </a:t>
            </a:r>
            <a:r>
              <a:rPr b="1" lang="zh-CN" sz="3200" spc="-1" strike="noStrike">
                <a:solidFill>
                  <a:srgbClr val="ccccff"/>
                </a:solidFill>
                <a:latin typeface="华文细黑"/>
                <a:ea typeface="华文细黑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这篇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马说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大约作于贞元十一年至十六年间。这时，韩愈初登仕途，很不得志。他曾三次上书宰相求擢用。很可惜有“忧天下之心”的他，终未被采纳。后来又相继依附于一些节度使幕下，郁郁不得志，再加上当时奸佞当权，政治黑暗，有才能之士不受重视，所以他有“伯乐不常有”之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聊斋志异——促织1" descr=""/>
          <p:cNvPicPr/>
          <p:nvPr/>
        </p:nvPicPr>
        <p:blipFill>
          <a:blip r:embed="rId2"/>
          <a:srcRect l="44448" t="0" r="14283" b="13638"/>
          <a:stretch/>
        </p:blipFill>
        <p:spPr>
          <a:xfrm>
            <a:off x="5410080" y="685800"/>
            <a:ext cx="3468960" cy="5562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670120" y="442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作品简介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5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858000" cy="3047760"/>
          </a:xfrm>
          <a:prstGeom prst="rect">
            <a:avLst/>
          </a:prstGeom>
          <a:ln w="0">
            <a:noFill/>
          </a:ln>
        </p:spPr>
      </p:pic>
      <p:pic>
        <p:nvPicPr>
          <p:cNvPr id="83" name="马4" descr=""/>
          <p:cNvPicPr/>
          <p:nvPr/>
        </p:nvPicPr>
        <p:blipFill>
          <a:blip r:embed="rId2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076720" y="1123920"/>
            <a:ext cx="365760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：是古代的一种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议论体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是一些文人志士对事对物有感而发，宣泄心中郁闷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托物寓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一种体裁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“马说”即谈马、论马。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我们学习过的的说体文章有：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周敦颐的</a:t>
            </a: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爱莲说</a:t>
            </a: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19640" y="2602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文体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5" descr=""/>
          <p:cNvPicPr/>
          <p:nvPr/>
        </p:nvPicPr>
        <p:blipFill>
          <a:blip r:embed="rId1"/>
          <a:stretch/>
        </p:blipFill>
        <p:spPr>
          <a:xfrm>
            <a:off x="4284720" y="44280"/>
            <a:ext cx="4319640" cy="1872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11280" y="1773000"/>
            <a:ext cx="83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a"/>
                </a:solidFill>
                <a:latin typeface="Times New Roman"/>
              </a:rPr>
              <a:t>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1773360"/>
            <a:ext cx="91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zh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78136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a"/>
                </a:solidFill>
                <a:latin typeface="Times New Roman"/>
              </a:rPr>
              <a:t>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2781360"/>
            <a:ext cx="1295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pi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á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32000" y="2852640"/>
            <a:ext cx="838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177336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a"/>
                </a:solidFill>
                <a:latin typeface="Times New Roman"/>
              </a:rPr>
              <a:t>槽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27640" y="177336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á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o l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9920" y="476424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a"/>
                </a:solidFill>
                <a:latin typeface="Times New Roman"/>
              </a:rPr>
              <a:t>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05040" y="4221000"/>
            <a:ext cx="4495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a"/>
                </a:solidFill>
                <a:latin typeface="Times New Roman"/>
              </a:rPr>
              <a:t>一</a:t>
            </a:r>
            <a:r>
              <a:rPr b="1" lang="zh-CN" sz="4000" spc="-1" strike="noStrike">
                <a:solidFill>
                  <a:srgbClr val="08080a"/>
                </a:solidFill>
                <a:latin typeface="Times New Roman"/>
              </a:rPr>
              <a:t>食</a:t>
            </a:r>
            <a:r>
              <a:rPr b="0" lang="zh-CN" sz="4000" spc="-1" strike="noStrike">
                <a:solidFill>
                  <a:srgbClr val="08080a"/>
                </a:solidFill>
                <a:latin typeface="Times New Roman"/>
              </a:rPr>
              <a:t>或尽粟一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8960" y="4653000"/>
            <a:ext cx="76320" cy="1143000"/>
          </a:xfrm>
          <a:custGeom>
            <a:avLst/>
            <a:gdLst>
              <a:gd name="textAreaLeft" fmla="*/ 48960 w 76320"/>
              <a:gd name="textAreaRight" fmla="*/ 7632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3320" y="551664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a"/>
                </a:solidFill>
                <a:latin typeface="Times New Roman"/>
              </a:rPr>
              <a:t>食</a:t>
            </a:r>
            <a:r>
              <a:rPr b="0" lang="zh-CN" sz="4000" spc="-1" strike="noStrike">
                <a:solidFill>
                  <a:srgbClr val="08080a"/>
                </a:solidFill>
                <a:latin typeface="Times New Roman"/>
              </a:rPr>
              <a:t>马者不知其能千里而</a:t>
            </a:r>
            <a:r>
              <a:rPr b="1" lang="zh-CN" sz="4000" spc="-1" strike="noStrike">
                <a:solidFill>
                  <a:srgbClr val="08080a"/>
                </a:solidFill>
                <a:latin typeface="Times New Roman"/>
              </a:rPr>
              <a:t>食</a:t>
            </a:r>
            <a:r>
              <a:rPr b="0" lang="zh-CN" sz="4000" spc="-1" strike="noStrike">
                <a:solidFill>
                  <a:srgbClr val="08080a"/>
                </a:solidFill>
                <a:latin typeface="Times New Roman"/>
              </a:rPr>
              <a:t>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177336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a"/>
                </a:solidFill>
                <a:latin typeface="Times New Roman"/>
              </a:rPr>
              <a:t>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20000" y="170028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à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011_JPG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857400" cy="422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84040" y="3510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读 准 字 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9800" y="3645000"/>
            <a:ext cx="7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sh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4959360"/>
            <a:ext cx="52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s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21440" y="4940280"/>
            <a:ext cx="52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s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27640" y="292428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285264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1200" y="2852640"/>
            <a:ext cx="159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ｘｉ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à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93080" y="285264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ｙ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03:33:37Z</dcterms:created>
  <dc:creator>dra</dc:creator>
  <dc:description/>
  <dc:language>en-US</dc:language>
  <cp:lastModifiedBy>微软用户</cp:lastModifiedBy>
  <dcterms:modified xsi:type="dcterms:W3CDTF">2014-04-02T23:44:20Z</dcterms:modified>
  <cp:revision>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