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chimes.wav" ContentType="audio/x-wav"/>
  <Override PartName="/ppt/media/image27.png" ContentType="image/png"/>
  <Override PartName="/ppt/media/image25.png" ContentType="image/png"/>
  <Override PartName="/ppt/media/image42.jpeg" ContentType="image/jpeg"/>
  <Override PartName="/ppt/media/image24.png" ContentType="image/png"/>
  <Override PartName="/ppt/media/image11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6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0.png" ContentType="image/png"/>
  <Override PartName="/ppt/media/image37.jpeg" ContentType="image/jpeg"/>
  <Override PartName="/ppt/media/image9.jpeg" ContentType="image/jpeg"/>
  <Override PartName="/ppt/media/image31.png" ContentType="image/png"/>
  <Override PartName="/ppt/media/image34.png" ContentType="image/png"/>
  <Override PartName="/ppt/media/image44.jpeg" ContentType="image/jpeg"/>
  <Override PartName="/ppt/media/image5.jpeg" ContentType="image/jpeg"/>
  <Override PartName="/ppt/media/image35.png" ContentType="image/png"/>
  <Override PartName="/ppt/media/image43.jpeg" ContentType="image/jpeg"/>
  <Override PartName="/ppt/media/applause.wav" ContentType="audio/x-wav"/>
  <Override PartName="/ppt/media/image12.png" ContentType="image/png"/>
  <Override PartName="/ppt/media/image36.png" ContentType="image/png"/>
  <Override PartName="/ppt/media/image32.png" ContentType="image/png"/>
  <Override PartName="/ppt/media/image41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28.png" ContentType="image/png"/>
  <Override PartName="/ppt/media/image7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4.wmf" ContentType="image/x-wmf"/>
  <Override PartName="/ppt/media/%E6%96%87%E4%BD%93%E4%BD%9C%E8%80%85%E9%85%8D%E9%9F%B3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A52-314E-42AB-9A5C-0AE80851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8B0-CFA5-4D1A-B304-1D12C0A6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77B-6708-47EA-B8D6-DFEC3ECD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ABA-2A67-4B83-B19A-C9CE475E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8EE-C3CE-4F0D-BCA1-21D58E6F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A89-7F14-4088-AFF9-199BFFD2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374-5A08-4928-B2EB-D3E23F91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736F-9615-420F-AA19-24D2E4E4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35A-6C46-4B54-A692-A4F5DE2A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7FB-3949-4386-838D-699FB76D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322-B492-47E0-A5C4-64F84901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315-C6AB-452E-BD01-9E58DC84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6153-9DA9-4248-BEC8-46B4A6A565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audio" Target="../media/&#25991;&#20307;&#20316;&#32773;&#37197;&#38899;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09680" y="1752480"/>
            <a:ext cx="4648320" cy="3756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31360" y="1752480"/>
            <a:ext cx="1155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伯乐相马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59080" y="457200"/>
            <a:ext cx="1704600" cy="8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导入新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86400" y="304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3504960" cy="5105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49560" y="990720"/>
            <a:ext cx="333864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韩愈的作品的作品收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《昌黎先生集》里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391520" y="51814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6600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唐宋八大家：韩愈、柳宗元、王安石、欧阳修、苏洵、苏轼、苏辙、曾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篇《马说》大约作于贞元十一年至十六年间。其时，他曾三次上书宰相求提拔，未被采纳。他在京城应试觅官，奔走相告，一共呆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之久，最后无限怨郁，离开长安。坎坷遭遇正是他写这篇《马说》的思想基础。这篇文章的另一用意是曲陈心迹，表达了自己怀才不遇的愤懑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380880"/>
            <a:ext cx="3048120" cy="8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写作背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152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”是我国古代的一种议论性体裁，与现代的杂文近似，用以陈述作者对某些问题的看法。“马说”即谈马、论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1050840"/>
            <a:ext cx="2971800" cy="8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文体介绍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83808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朗读指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流畅朗读：注意生字，注意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情感朗读：注意语速，注意顿挫，注意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朗读形式：个别朗读，集体朗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124080" y="762120"/>
            <a:ext cx="2971800" cy="8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音频朗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ShockwaveFlash1"/>
          <p:cNvGraphicFramePr/>
          <p:nvPr/>
        </p:nvGraphicFramePr>
        <p:xfrm>
          <a:off x="1143000" y="1981080"/>
          <a:ext cx="716292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7162920" cy="3276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8120" y="5486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频朗读《马说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52280"/>
            <a:ext cx="9144000" cy="3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世有伯乐，然后有千里马。千里马常有，而伯乐不常有。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名马，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奴隶人之手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死于槽枥之间，不以千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马之千里者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尽粟一石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马者不知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马也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千里之能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饱，力不足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美不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且欲与常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可得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其能千里也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不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其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食之不能尽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鸣之而不能通其意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策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，曰：“天下无马！”呜呼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无马邪？其真不知马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-921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99"/>
                </a:solidFill>
                <a:latin typeface="Times New Roman"/>
              </a:rPr>
              <a:t>朗诵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620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6206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pi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198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198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565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2565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3141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x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952560"/>
            <a:ext cx="7596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32360" y="198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d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52280"/>
            <a:ext cx="9144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世有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伯乐，然后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千里马。千里马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有，而伯乐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常有。故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虽有名马，祗辱于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奴隶人之手，骈死于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槽枥之间，不以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里称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马之千里者，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尽粟一石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马者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知其能千里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。是马也，虽有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里之能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饱，力不足，才美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且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欲与常马等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可得，安求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能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里也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策之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以其道，食之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能尽其材，鸣之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不能通其意，执策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临之，曰：“天下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马！”呜呼！其</a:t>
            </a:r>
            <a:r>
              <a:rPr b="1" lang="en-US" sz="2000" spc="-1" strike="noStrike">
                <a:solidFill>
                  <a:srgbClr val="d70532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无马邪？其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不知马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-921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99"/>
                </a:solidFill>
                <a:latin typeface="Times New Roman"/>
              </a:rPr>
              <a:t>朗诵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620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7080" y="6206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pi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198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0360" y="1916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2565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2565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30686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x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952560"/>
            <a:ext cx="7596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1916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d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380360" y="5661000"/>
            <a:ext cx="1401840" cy="116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-47520"/>
            <a:ext cx="8785440" cy="69055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19280" y="1628640"/>
            <a:ext cx="28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故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名马（   　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千里之能（    　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1917720"/>
            <a:ext cx="57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1701720"/>
            <a:ext cx="90720" cy="914400"/>
          </a:xfrm>
          <a:custGeom>
            <a:avLst/>
            <a:gdLst>
              <a:gd name="textAreaLeft" fmla="*/ 57960 w 90720"/>
              <a:gd name="textAreaRight" fmla="*/ 91080 w 907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1628640"/>
            <a:ext cx="7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即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4880" y="2276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虽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65560" y="191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1628640"/>
            <a:ext cx="90720" cy="914400"/>
          </a:xfrm>
          <a:custGeom>
            <a:avLst/>
            <a:gdLst>
              <a:gd name="textAreaLeft" fmla="*/ 57960 w 90720"/>
              <a:gd name="textAreaRight" fmla="*/ 91080 w 90720"/>
              <a:gd name="textAreaTop" fmla="*/ 71280 h 914400"/>
              <a:gd name="textAreaBottom" fmla="*/ 84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59080" y="1557360"/>
            <a:ext cx="191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尽粟一石 （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马者 （   　　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饱  （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42800" y="155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184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喂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1520" y="220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17520" y="4076640"/>
            <a:ext cx="217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不以其道 （ 　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而临之曰 （    　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49200" y="429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4076640"/>
            <a:ext cx="90360" cy="914400"/>
          </a:xfrm>
          <a:custGeom>
            <a:avLst/>
            <a:gdLst>
              <a:gd name="textAreaLeft" fmla="*/ 57960 w 90360"/>
              <a:gd name="textAreaRight" fmla="*/ 9072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27440" y="4076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鞭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72608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鞭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44960" y="4005360"/>
            <a:ext cx="24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千里称也 （    　　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策之不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道 （　　　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0" y="4076640"/>
            <a:ext cx="142920" cy="914400"/>
          </a:xfrm>
          <a:custGeom>
            <a:avLst/>
            <a:gdLst>
              <a:gd name="textAreaLeft" fmla="*/ 91440 w 142920"/>
              <a:gd name="textAreaRight" fmla="*/ 143280 w 142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94280" y="429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400536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4653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按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90792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一词多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160" y="2057400"/>
            <a:ext cx="7848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世上有了伯乐，然后才会有千里马。千里马是经常有的，可是伯乐却不经常有。因此，即使有了名贵的马，也只能在仆役的手下受到屈辱，跟普通的马一同死在槽枥之间，不以千里马著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685800"/>
            <a:ext cx="1752480" cy="8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译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4120" y="685800"/>
            <a:ext cx="1077840" cy="1077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行千里的马，一顿有时能吃下一石粮食，喂马的人不懂得要根据它日行千里的本领来喂养它。这样的马，虽有日行千里的能耐，却吃不饱，力气不足，它的才能和美好的素质也就表现不出来，想要跟普通的马相等尚且办不到，又怎么能要求它日行千里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934320" y="54100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ShockwaveFlash1"/>
          <p:cNvGraphicFramePr/>
          <p:nvPr/>
        </p:nvGraphicFramePr>
        <p:xfrm>
          <a:off x="838080" y="990720"/>
          <a:ext cx="754380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990720"/>
                    <a:ext cx="7543800" cy="4190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895480" y="54100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伯乐相马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鞭策它，不按正确的方法，喂养又不能使它充分发挥自己的才能，听它叫却不能通晓它的意思，（反而）拿着鞭子站在它跟前说：“天下没有千里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唉！难道果真没有千里马吗？恐怕是他们真不识得千里马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858000" y="523224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层（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）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说明伯乐对千里马命运的决定作用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第二层（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）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揭示千里马被埋没的根本原因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第三层（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）总结全文。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嘲讽策马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609480"/>
            <a:ext cx="2971800" cy="8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整体感知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、课文首先为我们摆明了什麽观点？突出强调了什麽问题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摆明的观点是“ 世有伯乐，然后有千里马”。突出强调了伯乐能识马，如果没有伯乐的慧眼，千里马就会被埋没，即伯乐对千里马的命运起决定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762120"/>
            <a:ext cx="2971800" cy="8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课文讲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65760" y="15228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1523880"/>
            <a:ext cx="7165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、在第一段中当千里马没有遇到伯乐时会有怎样的遭遇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5080" y="3048120"/>
            <a:ext cx="3807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的遭遇只能是“祗辱于奴隶人之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骈死于槽枥之间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1003320" cy="1003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63720" y="1187280"/>
            <a:ext cx="7494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、请从第二段中找出句子说明千里马被埋没的原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2590920"/>
            <a:ext cx="7391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明千里马被埋没的直接原因句子是：“食不饱，力不足，才美不外见，且欲与常马等不可得”。根本原因是“食马者不知其能千里而食也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781680" y="487692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35000" y="990720"/>
            <a:ext cx="76518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4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、 请从第三段中找出千里马被摧残、被埋没体现在哪三个方面？文段中哪句话能揭示全文的主旨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743200"/>
            <a:ext cx="7416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里马被摧残、被埋没体现在三个方面：“策之不以其道，食之不能尽其材，鸣之而不能通其意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4648320"/>
            <a:ext cx="766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段中能揭示全文的主旨：“其真不知马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848720" y="5715000"/>
            <a:ext cx="880920" cy="88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1608120"/>
            <a:ext cx="77724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、本文表面虽是在谈马，其实是在谈人才，那么文中以“伯乐”、“千里马”、“食马者”各比喻哪几类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1629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伯乐”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喻善于识别人才，知人善用的有识之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里马”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喻的是有才华、有才能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马者”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喻的则是愚妄浅薄不能识别人才，甚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于埋没人才、摧残人才的统治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391520" y="685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8540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文通篇不离千里马，难道作者只是在谈“马”吗？有什么写作意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说作者借“千里马”不遇“伯乐”的遭遇寄托了怎样的思想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意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揭露统治者不识人才、埋没人才、摧残人才的愚昧与昏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7200" y="306396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情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抒发作者怀才不遇、壮志难酬的愤懑之情</a:t>
            </a:r>
            <a:r>
              <a:rPr b="0" lang="zh-CN" sz="1800" spc="-1" strike="noStrike">
                <a:solidFill>
                  <a:srgbClr val="000808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86200" y="1219320"/>
            <a:ext cx="419112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相传伯乐是春秋时代人，姓孙名阳。据说，有一匹千里马拉着沉重的盐车翻越太行山。在羊肠小道上，马蹄用力挣扎，膝盖跪屈；尾巴下垂着，皮肤也受了伤；浑身冒汗，汗水淋漓，在山坡上艰难吃力地爬行还是拉不上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308448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70866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马说》中说“世有伯乐，然后有千里马”，如果你是千里马，是否一定要得到伯乐的赏识呢？请谈谈你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822240"/>
            <a:ext cx="1676160" cy="8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讨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05520" y="6858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32120" y="119556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黑体"/>
              </a:rPr>
              <a:t>作者如何层层深入论证论点的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133720"/>
            <a:ext cx="7239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起句就揭示全文论点，接着从正反两方面对论点作概括论述，第二段进一步从反面展开论述，说明伯乐对千里马的重要性。第三段对“策马者”进行辛辣的嘲讽，结尾再次强调造成不合理现象的原因，是“不知马”，与开头的论点相照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238880" y="54100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96%87%E4%BD%93%E4%BD%9C%E8%80%85%E9%85%8D%E9%9F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归纳本文写作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运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托物寓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写法，以千里马的命运来比喻人才的命运，文章采用反问、设问、排比等手法，反复论述，层层深入，耐人寻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457200"/>
            <a:ext cx="3048120" cy="8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疑难解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积累有关马的成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马不停蹄、马到成功、马首是瞻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马放南山、马瘦毛长、一马平川、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马观花、快马加鞭、 马革裹尸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龙马精神、指鹿为马、千军万马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马奔腾、老马识途、天马行空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609480"/>
            <a:ext cx="3276360" cy="8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拓展延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715000" y="380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《马说》是一篇              ，作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朝代）                 （姓名）。文章短小精悍，通篇运用                    手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《马说》的作者字            ，唐代著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家，他的著作收在《                     》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16304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杂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09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唐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2209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韩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26971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托物寓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352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退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26520" y="3961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昌黎先生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3992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文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609480"/>
            <a:ext cx="3047760" cy="8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课堂练习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867280" y="4572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-1833480" y="-1428840"/>
            <a:ext cx="12810960" cy="9715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83808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揭示文章主旨的句子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362320"/>
            <a:ext cx="990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描绘千里马终身不幸遭遇的句子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47240" y="449568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千里马的才能被埋没的原因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9280" y="3882960"/>
            <a:ext cx="57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55720" y="-23652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Tahoma"/>
                <a:ea typeface="黑体"/>
              </a:rPr>
              <a:t>用原文回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46240" y="15238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其真无马也？其真不知马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99480" y="304812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Tahoma"/>
              </a:rPr>
              <a:t>祗辱于奴隶人之手，骈死于槽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Tahoma"/>
              </a:rPr>
              <a:t>之间，不以千里称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24640" y="5029200"/>
            <a:ext cx="596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虽有千里之能，食不饱，力不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才美不外见，且欲与常马等不可得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-1833480" y="-1428840"/>
            <a:ext cx="12810960" cy="9715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2057400"/>
            <a:ext cx="82296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Tahoma"/>
              </a:rPr>
              <a:t>       </a:t>
            </a:r>
            <a:r>
              <a:rPr b="1" lang="zh-CN" sz="4800" spc="-1" strike="noStrike">
                <a:solidFill>
                  <a:srgbClr val="99cc00"/>
                </a:solidFill>
                <a:latin typeface="Tahoma"/>
              </a:rPr>
              <a:t>文中的“千里马”、“伯乐”、“奴隶人”分别指的是</a:t>
            </a:r>
            <a:r>
              <a:rPr b="1" lang="zh-CN" sz="4800" spc="-1" strike="noStrike" u="sng">
                <a:solidFill>
                  <a:srgbClr val="99cc00"/>
                </a:solidFill>
                <a:uFillTx/>
                <a:latin typeface="Tahoma"/>
              </a:rPr>
              <a:t>          </a:t>
            </a:r>
            <a:r>
              <a:rPr b="1" lang="zh-CN" sz="4800" spc="-1" strike="noStrike">
                <a:solidFill>
                  <a:srgbClr val="99cc00"/>
                </a:solidFill>
                <a:latin typeface="Tahoma"/>
              </a:rPr>
              <a:t>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99cc00"/>
                </a:solidFill>
                <a:uFillTx/>
                <a:latin typeface="Tahoma"/>
              </a:rPr>
              <a:t>                                    </a:t>
            </a:r>
            <a:r>
              <a:rPr b="0" lang="zh-CN" sz="4800" spc="-1" strike="noStrike">
                <a:solidFill>
                  <a:srgbClr val="99cc00"/>
                </a:solidFill>
                <a:latin typeface="Tahoma"/>
              </a:rPr>
              <a:t>   </a:t>
            </a:r>
            <a:r>
              <a:rPr b="0" lang="zh-CN" sz="4800" spc="-1" strike="noStrike">
                <a:solidFill>
                  <a:srgbClr val="99cc00"/>
                </a:solidFill>
                <a:latin typeface="Tahoma"/>
              </a:rPr>
              <a:t>、 </a:t>
            </a:r>
            <a:r>
              <a:rPr b="0" lang="zh-CN" sz="4800" spc="-1" strike="noStrike" u="sng">
                <a:solidFill>
                  <a:srgbClr val="99cc00"/>
                </a:solidFill>
                <a:uFillTx/>
                <a:latin typeface="Tahoma"/>
              </a:rPr>
              <a:t>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99cc00"/>
                </a:solidFill>
                <a:uFillTx/>
                <a:latin typeface="Tahoma"/>
              </a:rPr>
              <a:t>                                   </a:t>
            </a:r>
            <a:r>
              <a:rPr b="0" lang="zh-CN" sz="4800" spc="-1" strike="noStrike">
                <a:solidFill>
                  <a:srgbClr val="99cc00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93800" y="2681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人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2240" y="373392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能识别人才的封建统治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78040" y="479124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愚妄浅薄的封建统治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96800"/>
            <a:ext cx="266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9999"/>
                </a:solidFill>
                <a:latin typeface="Tahoma"/>
              </a:rPr>
              <a:t>扩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-1833480" y="-1428840"/>
            <a:ext cx="12810960" cy="9715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-228600" y="762120"/>
            <a:ext cx="10356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zh-CN" sz="8000" spc="-1" strike="noStrike">
                <a:solidFill>
                  <a:srgbClr val="009999"/>
                </a:solidFill>
                <a:latin typeface="Tahoma"/>
              </a:rPr>
              <a:t>面对统治者不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9999"/>
                </a:solidFill>
                <a:latin typeface="Tahoma"/>
              </a:rPr>
              <a:t>识别人才、善待人才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9999"/>
                </a:solidFill>
                <a:latin typeface="Tahoma"/>
              </a:rPr>
              <a:t>作者在文中表现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9999"/>
                </a:solidFill>
                <a:latin typeface="Tahoma"/>
              </a:rPr>
              <a:t>强烈的</a:t>
            </a:r>
            <a:r>
              <a:rPr b="0" lang="zh-CN" sz="8000" spc="-1" strike="noStrike" u="sng">
                <a:solidFill>
                  <a:srgbClr val="009999"/>
                </a:solidFill>
                <a:uFillTx/>
                <a:latin typeface="Tahoma"/>
              </a:rPr>
              <a:t>          </a:t>
            </a:r>
            <a:r>
              <a:rPr b="0" lang="zh-CN" sz="8000" spc="-1" strike="noStrike">
                <a:solidFill>
                  <a:srgbClr val="009999"/>
                </a:solidFill>
                <a:latin typeface="Tahoma"/>
              </a:rPr>
              <a:t>之情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247320" y="380988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39880" y="41911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cc00"/>
                </a:solidFill>
                <a:latin typeface="Tahoma"/>
              </a:rPr>
              <a:t>愤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22856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往今来，许多怀才不遇者用自己由衷的笔调，抒写出自己心中的愤慨并流传为千古名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16280" y="685800"/>
            <a:ext cx="1704600" cy="8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拓展阅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791320" y="6094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3473280" cy="4114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490000" y="457200"/>
            <a:ext cx="18615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十功名尘与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千里路云和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岳飞《满江红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咏怀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733560" y="1265400"/>
            <a:ext cx="464796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去，伯乐遇见了，就下了自己的车，挽住千里马而对它淌眼泪，并脱下自己的麻布衣服覆盖在千里马身上。千里马于是低下头吐气，抬起头来长鸣，嘶叫声直达云霄。这是它感激伯乐了解并且体贴它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3043080" cy="4191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3087720" cy="4190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873680" y="304920"/>
            <a:ext cx="25956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天下之忧而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天下之乐而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范仲淹《岳阳楼记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970360" cy="4190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091840" y="304920"/>
            <a:ext cx="20581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生我材必有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金散尽还复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李白《将进酒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591160" y="838080"/>
            <a:ext cx="17431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冯唐易老，李广难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王勃《滕王阁序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3370320" cy="3733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3413160" cy="4267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587560" y="762120"/>
            <a:ext cx="180396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持节云中，何日遣冯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苏轼《江城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密州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133720" y="4572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华文行楷"/>
              </a:rPr>
              <a:t>再     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81080" y="76212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905120" y="129528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1600200" y="1447920"/>
            <a:ext cx="5943600" cy="3846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447920" y="13716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29000" y="533520"/>
            <a:ext cx="3048120" cy="8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学习目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72200" y="533520"/>
            <a:ext cx="863640" cy="865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90720" y="1905120"/>
            <a:ext cx="761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752480"/>
            <a:ext cx="739116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知识与能力目标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掌握重点文言实词虚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过程与方法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解“说”这种文体的特点，分辨其中的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和记叙。掌握文中的字词解释，通假字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情感、态度与价值观目标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体会作者寄托在文中的思想感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895120" y="156996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韩愈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768—82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）字退之，河阳（今河南孟县）人，郡望昌黎，自称昌黎韩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所以后人又称他为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韩昌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贞元八年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9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中进士后，过了四年才被宣武节度使任命为观察推官，贞元十八年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授四门博士，历迁监察御史，因上书言关中灾情被贬为阳山（今属广东）县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2680" y="1905120"/>
            <a:ext cx="2817720" cy="365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00400" y="457200"/>
            <a:ext cx="2895480" cy="8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作者简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38680" y="304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00200" y="762120"/>
            <a:ext cx="6019920" cy="3132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00200" y="49528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432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韩愈和柳宗元同为古文运动的倡导者，反对六朝以来的骈文文风，提倡散体，其散文在继承先秦      两汉古文的基础上，加以创新和发展，列为“唐宋八大家”之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河北远东博克文化传播有限公司</dc:creator>
  <dc:description/>
  <dc:language>en-US</dc:language>
  <cp:lastModifiedBy>微软用户</cp:lastModifiedBy>
  <dcterms:modified xsi:type="dcterms:W3CDTF">2011-03-23T23:24:26Z</dcterms:modified>
  <cp:revision>113</cp:revision>
  <dc:subject/>
  <dc:title>23马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