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DEB-F0F9-4994-9391-6DC6A7CD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5D0-C59A-46BB-B205-435783E0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CD5-857E-444A-AD83-4540B0E6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E6B-CC39-4D67-8D7F-E05C202A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24A9-DA24-4147-9A3B-3198681C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455C-3837-4EA5-9B6F-ECF6EA92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B3D8-63EC-4E8F-B8A1-44E6FB0E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9B0E-C65F-412E-BD85-C5A044C4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A9B3-CE54-4D93-AFCA-3649C70C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E41B-00F0-437D-A7A2-37C3E31F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A447-885A-4C08-AD59-06591F5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360-DEBC-4A62-AF78-3CBBDF74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C0F1-965F-4BC3-8648-0DFED20A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317E-D881-4194-AC1F-BA8AAD48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E7A3-7A93-4728-916B-E0CA6F31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4B00-AB9E-4FF4-9397-8B72E2FA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655D-8056-4427-BE9C-E27285C3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31E5F-5D98-4020-8516-3AB7CC23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3180-4F17-4333-9470-3A0AFA62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AB8B4-73D2-4954-919C-0F494DD5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981C9-F704-483B-BB4D-FD4983D0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67562-5906-4632-BF24-600D2585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2E0-E53D-444A-A2B4-996EABAB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E4B1F-BBD3-453E-A626-A0E7119A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15EE-4FBB-49D8-8A8B-5F4157CD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3992C-3F4E-4CF2-AA58-BC9D0515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D0C4-7325-4617-8CC4-E75BCE1B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13EC9-50EC-44F6-BD40-93A4E6F6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39357-02D0-460D-81DB-F0D17B85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DA148-CE22-48A5-8FF0-D61B8E94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F9D-A96E-4E10-8439-D6676457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6AB-6CEA-496F-829B-EB63B767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1AF-9584-45F3-94DA-3A4AB2D0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F3E-96A7-4259-880B-D4D6F151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AF0-8690-49ED-BAE9-01BD6B7A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A35-33A8-482B-88E8-BF8654AD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91D3-F665-4F6B-AD4B-E6E1222441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697A-E1BB-4879-BCFF-F02D58D7270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B362-A887-4DAB-9150-F26591E8556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66280" y="260280"/>
            <a:ext cx="2009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梅  花  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16000" y="443700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外公赞颂梅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就是赞颂（                            ）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59080" y="4941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具有梅花精神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620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几千年来，我们中华民族出了许多有气节的人物，他们不管历尽多少磨难、受到怎样的欺凌，从来都是顶天立地，不肯低头折节。他们就像这梅花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18800" y="580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借物喻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58920" y="1341360"/>
            <a:ext cx="66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个中国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无论在怎样的境遇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总要有梅花的秉性才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73640" y="2781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68" descr=""/>
          <p:cNvPicPr/>
          <p:nvPr/>
        </p:nvPicPr>
        <p:blipFill>
          <a:blip r:embed="rId2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572000" y="476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独在异乡为异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每逢佳节倍思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88000" y="213372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草明年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王孙归不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4076640"/>
            <a:ext cx="47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自在飞花轻似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无边丝雨细如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27640" y="55897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思念家乡、思念亲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755640" y="1341360"/>
            <a:ext cx="7056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思乡的泪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heel spokes="8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26920" y="1197000"/>
            <a:ext cx="831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这句话，不禁让他想起离别时的家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亲人们的百般叮咛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什么时候回祖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因为这句话，让他想起朋友在杨柳岸设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送行后的声声问询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什么时候回祖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也曾是他登上离国大客轮时自己对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叩问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什么时候回祖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而今身在异国的外祖父，也是一遍又一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问自己——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什么时候回祖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640" y="1413000"/>
            <a:ext cx="7416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无奈的泪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77040" y="1052640"/>
            <a:ext cx="488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赤道上吹来的风撩乱了老人平日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理得整整齐齐的银发，我觉得外祖父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下子衰（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shuāi)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老了许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船快开了，妈妈狠下心来，拉我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上大客轮。想不到泪眼蒙眬的外祖父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随着上了船，递给我一块手绢——一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雪白的西亚麻布上绣着血色的梅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64120" y="2133720"/>
            <a:ext cx="25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衰（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shuāi)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255840" y="480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1280" y="1700280"/>
            <a:ext cx="7345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深情的泪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0" y="1989000"/>
            <a:ext cx="266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840" y="13604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外祖父仿佛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77040" y="1125360"/>
            <a:ext cx="488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赤道上吹来的风撩乱了老人平日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理得整整齐齐的银发，我觉得外祖父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下子衰（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shuāi)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老了许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船快开了，妈妈狠下心来，拉我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上大客轮。想不到泪眼蒙眬的外祖父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随着上了船，递给我一块手绢——一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雪白的西亚麻布上绣着血色的梅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765000"/>
            <a:ext cx="867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这梅花，是我们中国最有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的花。旁的花，大抵是春暖花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才开花，她却不一样，愈是寒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愈是风欺雪压，花开得愈精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愈秀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700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1700280"/>
            <a:ext cx="23032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34800" y="227664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3160" y="292428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198900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1979640" y="2565360"/>
            <a:ext cx="49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无奈的泪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627280" y="981000"/>
            <a:ext cx="48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思乡的泪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58920" y="4149720"/>
            <a:ext cx="518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深情的泪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26920" y="152280"/>
            <a:ext cx="7274160" cy="6338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763640" y="1628640"/>
            <a:ext cx="54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中国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260280"/>
            <a:ext cx="8819640" cy="6597360"/>
            <a:chOff x="0" y="260280"/>
            <a:chExt cx="8819640" cy="65973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4126680" y="260280"/>
              <a:ext cx="4692960" cy="65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0" y="260280"/>
              <a:ext cx="3641040" cy="512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31840" y="692280"/>
            <a:ext cx="5264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采集课文中让你受感动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小练笔：外祖父在风中送家人乘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回国时的情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课后去品读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《故乡》、《乡愁》的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或者思乡的古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79280" y="692280"/>
            <a:ext cx="597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再见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1700280"/>
            <a:ext cx="619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管历经多少磨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管受到怎样的欺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从来都是顶天立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肯低头折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4762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梅花的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458136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外祖父喜爱梅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就是喜爱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42000" y="2637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33520" y="39337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508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梅花的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27400" y="1268280"/>
            <a:ext cx="292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她是最有（     ）、最有（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最有（     ）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8480" y="126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品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85600" y="126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灵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49760" y="184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骨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81080" y="3716280"/>
            <a:ext cx="95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这梅花，是我们中国最有名的花。旁的花，大抵是春暖才开花。她却不一样，愈是寒冷，愈是风欺雪压，花开得愈精神、愈秀气。她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最又有品格、最有灵魂、最有骨气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8320" y="476280"/>
            <a:ext cx="3733560" cy="5832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014960" y="533520"/>
            <a:ext cx="9115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苏  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13040" y="692280"/>
            <a:ext cx="39009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受尽屈辱十九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爱国之心永不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350960" y="836640"/>
            <a:ext cx="3900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人生自古谁无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留取丹心照汗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889440" cy="5977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-42480" y="4338720"/>
            <a:ext cx="1642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黑体"/>
              </a:rPr>
              <a:t>文天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19280" y="4508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41320" y="549360"/>
            <a:ext cx="34722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毒刑拷打何所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民族气节显忠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615636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抗日英雄赵一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41018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rcRect l="2448" t="0" r="4470" b="0"/>
          <a:stretch/>
        </p:blipFill>
        <p:spPr>
          <a:xfrm>
            <a:off x="1187280" y="549360"/>
            <a:ext cx="4268880" cy="5932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885280" y="457200"/>
            <a:ext cx="26492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在侵略者面前低头，就不配做中国人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54864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黑体"/>
              </a:rPr>
              <a:t>杨靖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rcRect l="1606" t="4444" r="4189" b="3344"/>
          <a:stretch/>
        </p:blipFill>
        <p:spPr>
          <a:xfrm>
            <a:off x="990720" y="476280"/>
            <a:ext cx="4214520" cy="597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4653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07200" y="692280"/>
            <a:ext cx="2649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宁肯饿死，也不吃美国的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救济面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5562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朱自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56:32Z</dcterms:created>
  <dc:creator>微软用户</dc:creator>
  <dc:description/>
  <dc:language>en-US</dc:language>
  <cp:lastModifiedBy>微软用户</cp:lastModifiedBy>
  <dcterms:modified xsi:type="dcterms:W3CDTF">2015-12-25T04:55:06Z</dcterms:modified>
  <cp:revision>29</cp:revision>
  <dc:subject/>
  <dc:title>幻灯片 1</dc:title>
</cp:coreProperties>
</file>