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ADF-7EEC-4CAF-9EDA-CD86E41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94F-13FE-4224-8D03-1C8223FC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203-CCC9-424C-87E5-A643A196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9FC-6AE4-4D20-B495-41AB01A5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11F-5558-44BF-BD30-5F36F952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932-67C7-4BEB-9611-4EAD1C1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62B-6AB6-43C1-8BAB-750D0B25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50E-6DED-4D80-983B-5E8D871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C78-2DF8-4A37-AB4E-787528A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814-2260-4D57-93A1-E1BB7B73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833-1708-455F-8E41-44195C36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949-7635-45CE-BA29-6781DAA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75E-86DF-4E20-AD29-8894AE499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438280"/>
            <a:ext cx="6248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楷体_GBK"/>
              </a:rPr>
              <a:t>梅 花 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0880" y="533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楷体_GBK"/>
              </a:rPr>
              <a:t>鄂教版六年级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16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梅花魂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057400" y="289548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ǚ zàng sāi zāng ch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缕   葬    腮     脏     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iàn mǒ là  shū qiáo juà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玷    抹   腊    梳    侨     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读一读"/>
          <p:cNvPicPr/>
          <p:nvPr/>
        </p:nvPicPr>
        <p:blipFill>
          <a:blip r:embed="rId1"/>
          <a:stretch/>
        </p:blipFill>
        <p:spPr>
          <a:xfrm>
            <a:off x="380880" y="228600"/>
            <a:ext cx="211464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7162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腮边  训斥  玷污  唯独  腊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梳理  华侨  眷恋   缕缕幽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143000" y="16765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读读写写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6665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快速默读课文，用简洁的语言来说说作者回忆了外祖父几件事？哪几件与梅花有关？从这些事中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143000" y="12193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初读感知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件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常常教“我”读唐诗宋词，还常流出眼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对墨梅图分外珍惜，“我”不小心弄脏，他竟大发脾气。还用保险刀片轻轻刮去污迹，又用细绸子慢慢抹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因不能回国而难过得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祖父将最宝贵的墨梅图送给了“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那天，外祖父又把绣着梅花的手绢送给“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2514240"/>
            <a:ext cx="85345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读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独在异乡为异客，每逢佳节倍思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青草明年绿，王孙归不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自在飞花轻似梦，无边丝雨细如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之类的句子，常有一颗两颗冰凉的泪珠落在我的腮边、手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想不到，外公竟像小孩子一样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呜呜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地哭起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想不到泪眼蒙眬的外祖父也随着上了船，递给我一个手绢，一色雪白的细亚麻布上面绣着血色的梅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14400" y="1143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句子解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一幅墨梅图，为什么在外祖父心中这样宝贵，这样的重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梅花是有不畏艰难精神的。这就是梅花的精神，愈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楷体_GBK"/>
                <a:ea typeface="方正楷体_GBK"/>
              </a:rPr>
              <a:t>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通过梅花，你想到了我们中国历史上的哪些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说着说着，还是在说梅花的不畏严寒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是在说有气节的中国人，是在说祖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为什么这样宝贵，这样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一句话，墨梅图在异国他乡的外祖父心中，就像母亲一样，是在异国他乡的精神寄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838080" y="4572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细读感悟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（一）在外祖父心中这样宝贵，这样重要，具有特别意义的墨梅图，为什么在我归国的前一天早晨，郑重地递给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把对祖国的爱带回祖国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（二）也就不难理解外祖父又递给我血色梅花手绢了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（唯一对祖国的依恋、所有对祖国的牵挂都带回祖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762120" y="3808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阅读质疑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联系课文内容，体会文中的思想感情，理解梅花魂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了解课文的内容，体会华侨老人眷恋祖国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143000" y="167652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学习目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666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宋体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6"/>
          <p:cNvPicPr/>
          <p:nvPr/>
        </p:nvPicPr>
        <p:blipFill>
          <a:blip r:embed="rId1"/>
          <a:stretch/>
        </p:blipFill>
        <p:spPr>
          <a:xfrm>
            <a:off x="152280" y="4572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9000" y="259056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陈慧瑛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女作家。祖籍福建省，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46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生于新加坡。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67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毕业于厦门大学中文系。主要作品有散文集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无名的星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月是故乡明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芳草天涯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竹叶三君</a:t>
            </a: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等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陈慧瑛"/>
          <p:cNvPicPr/>
          <p:nvPr/>
        </p:nvPicPr>
        <p:blipFill>
          <a:blip r:embed="rId1"/>
          <a:stretch/>
        </p:blipFill>
        <p:spPr>
          <a:xfrm>
            <a:off x="304920" y="1523880"/>
            <a:ext cx="2886120" cy="432432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3809880" y="129528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作者简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04812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梅花魂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梅花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梅花魂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梅花魂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梅花魂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梅花魂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20T14:55:58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