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AE9B-F487-44ED-A8E3-1F9171E7F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68C4-8074-4831-B894-C3F68956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15C7-7290-4F19-A9B1-8E3439243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0F97-F6F5-4483-900B-81F59A32D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19590-CF0C-41E2-AE9D-4F469BB2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7AB7-4FAA-4FA5-812C-F052DC6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188AE-4CBC-4ED5-BA61-B190E23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5E9A6-3DFE-4BFA-BC8C-71AB5CB2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D34B-E09A-4251-81B8-7A5C188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B41FC-0CA1-4180-980E-A1A4ECF4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61DB9-A209-4DD1-8CE9-0F877562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7F32-871C-4194-B2AC-A9EBE043F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85750-0894-4496-9AA3-7CB2B597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5FDD0-6BFF-409E-B69B-C8E81658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3E951-5174-4383-B11A-C9ADA36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47C8-93D4-45B6-A536-440044C1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6A826-1562-4E5B-B2A2-FD1D951E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4CB4-593B-4A67-BABD-78FE12238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7DF4-D6AE-489B-B69A-2B0C0F3EE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339F-21B2-4FD5-A4E7-66E633F9C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731520"/>
            <a:ext cx="81532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AA1C-91B4-4C62-A20B-51423F467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06D9-C14B-427E-BFB8-7AC7D536B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32540-28FB-4A4C-9712-4115CDF0F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22520"/>
            <a:ext cx="8153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2004-888D-4F18-B024-6B1D367F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716200" y="0"/>
            <a:ext cx="2138400" cy="838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4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b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a43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242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424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2424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6705360" y="650844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2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E0B-D957-4DDC-AC50-E57A8DC7B7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7162920" y="903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69880" y="0"/>
            <a:ext cx="2068560" cy="685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4924440" y="0"/>
            <a:ext cx="2090880" cy="690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23280" y="5791320"/>
            <a:ext cx="1471320" cy="85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915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514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L o g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3EA-1769-403E-B65F-AAC82BB954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19520" y="0"/>
            <a:ext cx="2238480" cy="3124080"/>
          </a:xfrm>
          <a:prstGeom prst="rect">
            <a:avLst/>
          </a:prstGeom>
          <a:solidFill>
            <a:srgbClr val="b2424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6920" y="0"/>
            <a:ext cx="229572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05520" y="0"/>
            <a:ext cx="2238480" cy="3124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b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title"/>
          </p:nvPr>
        </p:nvSpPr>
        <p:spPr>
          <a:xfrm>
            <a:off x="2286000" y="3048120"/>
            <a:ext cx="6626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51ppt.com.cn/Article/PPTTips/2013-03-15/Article_20130315013834.html" TargetMode="External"/><Relationship Id="rId4" Type="http://schemas.openxmlformats.org/officeDocument/2006/relationships/hyperlink" Target="http://www.weibo.com/pptstore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3009960"/>
            <a:ext cx="676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00000" y="5949720"/>
            <a:ext cx="4273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点击输入标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776920" y="307656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77a43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72000" y="333216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1597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47640" y="3564000"/>
            <a:ext cx="198144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b24242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36036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352260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99400" y="321624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23880" y="229536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6260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82640" y="44481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85880" y="180828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 Add  your 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76760" y="5694480"/>
            <a:ext cx="178092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623960" y="5694480"/>
            <a:ext cx="1781280" cy="314280"/>
          </a:xfrm>
          <a:prstGeom prst="bevel">
            <a:avLst>
              <a:gd name="adj" fmla="val 5949"/>
            </a:avLst>
          </a:prstGeom>
          <a:solidFill>
            <a:srgbClr val="77a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652920" y="447516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86280" y="446076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2590920" y="3176640"/>
            <a:ext cx="4332240" cy="49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7a43a"/>
                    </a:gs>
                    <a:gs pos="100000">
                      <a:srgbClr val="91597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7a43a"/>
                  </a:gs>
                  <a:gs pos="100000">
                    <a:srgbClr val="91597e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590920" y="5943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19" descr="未标式 题-1.png"/>
          <p:cNvPicPr/>
          <p:nvPr/>
        </p:nvPicPr>
        <p:blipFill>
          <a:blip r:embed="rId2"/>
          <a:stretch/>
        </p:blipFill>
        <p:spPr>
          <a:xfrm>
            <a:off x="5614920" y="4627440"/>
            <a:ext cx="328680" cy="389160"/>
          </a:xfrm>
          <a:prstGeom prst="rect">
            <a:avLst/>
          </a:prstGeom>
          <a:ln w="0">
            <a:noFill/>
          </a:ln>
        </p:spPr>
      </p:pic>
      <p:sp>
        <p:nvSpPr>
          <p:cNvPr id="378" name="圆角矩形 3">
            <a:hlinkClick r:id="rId3"/>
          </p:cNvPr>
          <p:cNvSpPr/>
          <p:nvPr/>
        </p:nvSpPr>
        <p:spPr>
          <a:xfrm>
            <a:off x="5724360" y="285264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圆角矩形 20">
            <a:hlinkClick r:id="rId4"/>
          </p:cNvPr>
          <p:cNvSpPr/>
          <p:nvPr/>
        </p:nvSpPr>
        <p:spPr>
          <a:xfrm>
            <a:off x="5435640" y="3789360"/>
            <a:ext cx="1351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圆角矩形 21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圆角矩形 22"/>
          <p:cNvSpPr/>
          <p:nvPr/>
        </p:nvSpPr>
        <p:spPr>
          <a:xfrm>
            <a:off x="2411280" y="3803760"/>
            <a:ext cx="134964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圆角矩形 23"/>
          <p:cNvSpPr/>
          <p:nvPr/>
        </p:nvSpPr>
        <p:spPr>
          <a:xfrm>
            <a:off x="3897360" y="3803760"/>
            <a:ext cx="13492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圆角矩形 28"/>
          <p:cNvSpPr/>
          <p:nvPr/>
        </p:nvSpPr>
        <p:spPr>
          <a:xfrm>
            <a:off x="3432240" y="4599000"/>
            <a:ext cx="116352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圆角矩形 29"/>
          <p:cNvSpPr/>
          <p:nvPr/>
        </p:nvSpPr>
        <p:spPr>
          <a:xfrm>
            <a:off x="4605480" y="4599000"/>
            <a:ext cx="1164960" cy="3110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圆角矩形 30"/>
          <p:cNvSpPr/>
          <p:nvPr/>
        </p:nvSpPr>
        <p:spPr>
          <a:xfrm>
            <a:off x="344160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圆角矩形 31"/>
          <p:cNvSpPr/>
          <p:nvPr/>
        </p:nvSpPr>
        <p:spPr>
          <a:xfrm>
            <a:off x="4616280" y="4289400"/>
            <a:ext cx="1163880" cy="309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4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057400"/>
            <a:ext cx="7238880" cy="396252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7432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2767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358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3809880"/>
            <a:ext cx="39625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358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434340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2bbca"/>
              </a:gs>
              <a:gs pos="100000">
                <a:srgbClr val="9159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358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4876920"/>
            <a:ext cx="39625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93583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93583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8954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4290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396252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495680"/>
            <a:ext cx="205740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1597e"/>
              </a:gs>
              <a:gs pos="50000">
                <a:srgbClr val="ae86a0"/>
              </a:gs>
              <a:gs pos="100000">
                <a:srgbClr val="91597e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5029200"/>
            <a:ext cx="205740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b24242"/>
              </a:gs>
              <a:gs pos="50000">
                <a:srgbClr val="c67575"/>
              </a:gs>
              <a:gs pos="100000">
                <a:srgbClr val="b24242"/>
              </a:gs>
            </a:gsLst>
            <a:lin ang="13500000"/>
          </a:gra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1641600"/>
            <a:ext cx="655308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3583"/>
                </a:solidFill>
                <a:latin typeface="Arial"/>
              </a:rPr>
              <a:t>You may want to allocate one slide per compet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133720" y="2495520"/>
            <a:ext cx="5257080" cy="2895120"/>
            <a:chOff x="2133720" y="2495520"/>
            <a:chExt cx="5257080" cy="2895120"/>
          </a:xfrm>
        </p:grpSpPr>
        <p:sp>
          <p:nvSpPr>
            <p:cNvPr id="115" name=""/>
            <p:cNvSpPr/>
            <p:nvPr/>
          </p:nvSpPr>
          <p:spPr>
            <a:xfrm>
              <a:off x="2926080" y="39852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2000" y="249552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289188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057400" y="2419200"/>
            <a:ext cx="5333760" cy="2819520"/>
            <a:chOff x="2057400" y="2419200"/>
            <a:chExt cx="5333760" cy="2819520"/>
          </a:xfrm>
        </p:grpSpPr>
        <p:sp>
          <p:nvSpPr>
            <p:cNvPr id="119" name=""/>
            <p:cNvSpPr/>
            <p:nvPr/>
          </p:nvSpPr>
          <p:spPr>
            <a:xfrm>
              <a:off x="2861280" y="38700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b24242"/>
                </a:gs>
                <a:gs pos="100000">
                  <a:srgbClr val="521e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9440" y="2419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1597e"/>
                </a:gs>
                <a:gs pos="100000">
                  <a:srgbClr val="4229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7400" y="280512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77a43a"/>
                </a:gs>
                <a:gs pos="100000">
                  <a:srgbClr val="9bbc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829480" y="167652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5391000"/>
            <a:ext cx="3047760" cy="854280"/>
          </a:xfrm>
          <a:noFill/>
          <a:ln w="9360">
            <a:solidFill>
              <a:srgbClr val="b2424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733400"/>
            <a:ext cx="2192400" cy="965520"/>
          </a:xfrm>
          <a:noFill/>
          <a:ln w="9360">
            <a:solidFill>
              <a:srgbClr val="19358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b24242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1597e"/>
              </a:gs>
              <a:gs pos="100000">
                <a:srgbClr val="b18aa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3900d"/>
              </a:gs>
              <a:gs pos="100000">
                <a:srgbClr val="f5b05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7a43a"/>
              </a:gs>
              <a:gs pos="100000">
                <a:srgbClr val="9fbe7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95880" y="2209680"/>
            <a:ext cx="2285640" cy="3310200"/>
            <a:chOff x="6095880" y="2209680"/>
            <a:chExt cx="2285640" cy="3310200"/>
          </a:xfrm>
        </p:grpSpPr>
        <p:sp>
          <p:nvSpPr>
            <p:cNvPr id="131" name=""/>
            <p:cNvSpPr/>
            <p:nvPr/>
          </p:nvSpPr>
          <p:spPr>
            <a:xfrm>
              <a:off x="6095880" y="2209680"/>
              <a:ext cx="2285640" cy="331020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10200"/>
                <a:gd name="textAreaBottom" fmla="*/ 3198960 h 3310200"/>
              </a:gdLst>
              <a:ahLst/>
              <a:rect l="textAreaLeft" t="textAreaTop" r="textAreaRight" b="textAreaBottom"/>
              <a:pathLst>
                <a:path w="21600" h="31281">
                  <a:moveTo>
                    <a:pt x="3600" y="0"/>
                  </a:moveTo>
                  <a:arcTo wR="3600" hR="3600" stAng="16200000" swAng="-5400000"/>
                  <a:lnTo>
                    <a:pt x="0" y="27681"/>
                  </a:lnTo>
                  <a:arcTo wR="3600" hR="3600" stAng="10800000" swAng="-5400000"/>
                  <a:lnTo>
                    <a:pt x="18000" y="312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1597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9056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159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372360" y="32846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4920" y="2438280"/>
            <a:ext cx="547560" cy="512640"/>
            <a:chOff x="304920" y="2438280"/>
            <a:chExt cx="547560" cy="512640"/>
          </a:xfrm>
        </p:grpSpPr>
        <p:sp>
          <p:nvSpPr>
            <p:cNvPr id="135" name=""/>
            <p:cNvSpPr/>
            <p:nvPr/>
          </p:nvSpPr>
          <p:spPr>
            <a:xfrm>
              <a:off x="3049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012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5680" y="2438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12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680" y="2630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920" y="2822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120" y="2822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5680" y="2822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04920" y="3581280"/>
            <a:ext cx="547560" cy="512640"/>
            <a:chOff x="304920" y="3581280"/>
            <a:chExt cx="547560" cy="512640"/>
          </a:xfrm>
        </p:grpSpPr>
        <p:sp>
          <p:nvSpPr>
            <p:cNvPr id="145" name=""/>
            <p:cNvSpPr/>
            <p:nvPr/>
          </p:nvSpPr>
          <p:spPr>
            <a:xfrm>
              <a:off x="3049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12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680" y="3581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012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5680" y="3773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920" y="3965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0120" y="3965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680" y="3965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04920" y="4724280"/>
            <a:ext cx="547560" cy="512640"/>
            <a:chOff x="304920" y="4724280"/>
            <a:chExt cx="547560" cy="512640"/>
          </a:xfrm>
        </p:grpSpPr>
        <p:sp>
          <p:nvSpPr>
            <p:cNvPr id="155" name=""/>
            <p:cNvSpPr/>
            <p:nvPr/>
          </p:nvSpPr>
          <p:spPr>
            <a:xfrm>
              <a:off x="3049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12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5680" y="472428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9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12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5680" y="49165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5108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0120" y="5108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5680" y="510876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16160" y="1614600"/>
            <a:ext cx="4495320" cy="4514400"/>
            <a:chOff x="2216160" y="1614600"/>
            <a:chExt cx="4495320" cy="4514400"/>
          </a:xfrm>
        </p:grpSpPr>
        <p:sp>
          <p:nvSpPr>
            <p:cNvPr id="166" name="Puzzle3"/>
            <p:cNvSpPr/>
            <p:nvPr/>
          </p:nvSpPr>
          <p:spPr>
            <a:xfrm>
              <a:off x="4405320" y="161460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e985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Puzzle2"/>
            <p:cNvSpPr/>
            <p:nvPr/>
          </p:nvSpPr>
          <p:spPr>
            <a:xfrm>
              <a:off x="3891240" y="336240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uzzle4"/>
            <p:cNvSpPr/>
            <p:nvPr/>
          </p:nvSpPr>
          <p:spPr>
            <a:xfrm>
              <a:off x="2799720" y="33354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uzzle1"/>
            <p:cNvSpPr/>
            <p:nvPr/>
          </p:nvSpPr>
          <p:spPr>
            <a:xfrm>
              <a:off x="2216160" y="234036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193583"/>
                </a:gs>
                <a:gs pos="100000">
                  <a:srgbClr val="576ca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408000" y="41292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8240" y="35193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8440" y="1614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7240" y="580536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401200" y="2009880"/>
            <a:ext cx="4218120" cy="4162320"/>
            <a:chOff x="2401200" y="2009880"/>
            <a:chExt cx="4218120" cy="4162320"/>
          </a:xfrm>
        </p:grpSpPr>
        <p:sp>
          <p:nvSpPr>
            <p:cNvPr id="176" name=""/>
            <p:cNvSpPr/>
            <p:nvPr/>
          </p:nvSpPr>
          <p:spPr>
            <a:xfrm rot="10800000">
              <a:off x="3889440" y="511956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7080" y="2009880"/>
              <a:ext cx="1192320" cy="105228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7186200">
              <a:off x="5268960" y="432648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3597000">
              <a:off x="5266440" y="2793240"/>
              <a:ext cx="1191960" cy="105084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4374200">
              <a:off x="2560320" y="4335120"/>
              <a:ext cx="1192320" cy="1052640"/>
            </a:xfrm>
            <a:prstGeom prst="triangle">
              <a:avLst>
                <a:gd name="adj" fmla="val 50000"/>
              </a:avLst>
            </a:prstGeom>
            <a:solidFill>
              <a:srgbClr val="b2424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985000">
              <a:off x="2564640" y="2788200"/>
              <a:ext cx="1194120" cy="1052280"/>
            </a:xfrm>
            <a:prstGeom prst="triangle">
              <a:avLst>
                <a:gd name="adj" fmla="val 50000"/>
              </a:avLst>
            </a:prstGeom>
            <a:solidFill>
              <a:srgbClr val="f3900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32440" y="5505480"/>
              <a:ext cx="118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769040" y="5362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1200" y="32115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1200" y="46324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45920" y="32097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45920" y="458136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17240" y="2357280"/>
            <a:ext cx="149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87680" y="3157560"/>
            <a:ext cx="2094120" cy="1811160"/>
          </a:xfrm>
          <a:prstGeom prst="hexagon">
            <a:avLst>
              <a:gd name="adj" fmla="val 2890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57640" y="55339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592160" y="25272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49520" y="3895560"/>
            <a:ext cx="21132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9800" y="336240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79800" y="4781520"/>
            <a:ext cx="122868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821200" y="33796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21200" y="4751280"/>
            <a:ext cx="122904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7a43a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77a43a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335304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159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1597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1597e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3105000" y="2397240"/>
            <a:ext cx="3063960" cy="3031920"/>
          </a:xfrm>
          <a:prstGeom prst="ellipse">
            <a:avLst/>
          </a:prstGeom>
          <a:noFill/>
          <a:ln cap="rnd" w="28440">
            <a:solidFill>
              <a:srgbClr val="19358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057400"/>
            <a:ext cx="2163600" cy="386568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81000" y="2795760"/>
            <a:ext cx="1773360" cy="2409120"/>
            <a:chOff x="981000" y="2795760"/>
            <a:chExt cx="1773360" cy="2409120"/>
          </a:xfrm>
        </p:grpSpPr>
        <p:sp>
          <p:nvSpPr>
            <p:cNvPr id="203" name=""/>
            <p:cNvSpPr/>
            <p:nvPr/>
          </p:nvSpPr>
          <p:spPr>
            <a:xfrm flipV="1">
              <a:off x="981000" y="2795760"/>
              <a:ext cx="177336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68686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84960" y="4191480"/>
              <a:ext cx="1769400" cy="101340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685800" y="3584520"/>
            <a:ext cx="2719440" cy="812880"/>
          </a:xfrm>
          <a:prstGeom prst="rightArrow">
            <a:avLst>
              <a:gd name="adj1" fmla="val 54000"/>
              <a:gd name="adj2" fmla="val 68612"/>
            </a:avLst>
          </a:prstGeom>
          <a:gradFill rotWithShape="0">
            <a:gsLst>
              <a:gs pos="0">
                <a:srgbClr val="e5c037"/>
              </a:gs>
              <a:gs pos="100000">
                <a:srgbClr val="695819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" y="278928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3e3e3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07200" y="2057400"/>
            <a:ext cx="2162160" cy="386568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433920" y="2800080"/>
            <a:ext cx="1819080" cy="2401920"/>
            <a:chOff x="6433920" y="2800080"/>
            <a:chExt cx="1819080" cy="2401920"/>
          </a:xfrm>
        </p:grpSpPr>
        <p:sp>
          <p:nvSpPr>
            <p:cNvPr id="209" name=""/>
            <p:cNvSpPr/>
            <p:nvPr/>
          </p:nvSpPr>
          <p:spPr>
            <a:xfrm flipH="1" flipV="1">
              <a:off x="6433560" y="279972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434280" y="419076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38383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H="1">
            <a:off x="5810400" y="3605040"/>
            <a:ext cx="2673360" cy="71784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91597e"/>
              </a:gs>
              <a:gs pos="100000">
                <a:srgbClr val="42293a"/>
              </a:gs>
            </a:gsLst>
            <a:lin ang="10800000"/>
          </a:gradFill>
          <a:ln w="9360">
            <a:solidFill>
              <a:srgbClr val="193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38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80080" y="205740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0960" y="311940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72160" y="2798640"/>
            <a:ext cx="1828800" cy="2448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9e9e9"/>
              </a:gs>
              <a:gs pos="100000">
                <a:srgbClr val="c0c0c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50200" y="308124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77a43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200400" y="2514600"/>
            <a:ext cx="2819160" cy="2819160"/>
            <a:chOff x="3200400" y="2514600"/>
            <a:chExt cx="2819160" cy="2819160"/>
          </a:xfrm>
        </p:grpSpPr>
        <p:grpSp>
          <p:nvGrpSpPr>
            <p:cNvPr id="218" name=""/>
            <p:cNvGrpSpPr/>
            <p:nvPr/>
          </p:nvGrpSpPr>
          <p:grpSpPr>
            <a:xfrm>
              <a:off x="4035960" y="2514600"/>
              <a:ext cx="1147680" cy="938520"/>
              <a:chOff x="4035960" y="2514600"/>
              <a:chExt cx="1147680" cy="93852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035960" y="2514600"/>
                <a:ext cx="1147680" cy="938520"/>
                <a:chOff x="4035960" y="2514600"/>
                <a:chExt cx="1147680" cy="938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045320" y="253044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35960" y="251460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102560" y="2570040"/>
                  <a:ext cx="1000440" cy="811800"/>
                </a:xfrm>
                <a:prstGeom prst="hexagon">
                  <a:avLst>
                    <a:gd name="adj" fmla="val 30809"/>
                    <a:gd name="vf" fmla="val 115470"/>
                  </a:avLst>
                </a:prstGeom>
                <a:gradFill rotWithShape="0">
                  <a:gsLst>
                    <a:gs pos="0">
                      <a:srgbClr val="2614aa"/>
                    </a:gs>
                    <a:gs pos="100000">
                      <a:srgbClr val="7262ec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"/>
              <p:cNvSpPr/>
              <p:nvPr/>
            </p:nvSpPr>
            <p:spPr>
              <a:xfrm>
                <a:off x="4283640" y="27781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3200400" y="2982600"/>
              <a:ext cx="1148040" cy="938520"/>
              <a:chOff x="3200400" y="2982600"/>
              <a:chExt cx="1148040" cy="93852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3200400" y="2982600"/>
                <a:ext cx="1148040" cy="938520"/>
                <a:chOff x="3200400" y="2982600"/>
                <a:chExt cx="1148040" cy="938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209760" y="299844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200400" y="298260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267000" y="303804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115d16"/>
                    </a:gs>
                    <a:gs pos="100000">
                      <a:srgbClr val="24b443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3455280" y="32400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035960" y="3453480"/>
              <a:ext cx="1148040" cy="938520"/>
              <a:chOff x="4035960" y="3453480"/>
              <a:chExt cx="1148040" cy="93852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4035960" y="3453480"/>
                <a:ext cx="1148040" cy="938520"/>
                <a:chOff x="4035960" y="3453480"/>
                <a:chExt cx="1148040" cy="9385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045680" y="346932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035960" y="345348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102560" y="3508920"/>
                  <a:ext cx="1000440" cy="811800"/>
                </a:xfrm>
                <a:prstGeom prst="hexagon">
                  <a:avLst>
                    <a:gd name="adj" fmla="val 30809"/>
                    <a:gd name="vf" fmla="val 115470"/>
                  </a:avLst>
                </a:prstGeom>
                <a:gradFill rotWithShape="0">
                  <a:gsLst>
                    <a:gs pos="0">
                      <a:srgbClr val="844820"/>
                    </a:gs>
                    <a:gs pos="100000">
                      <a:srgbClr val="cc7032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4264560" y="37216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871160" y="2982600"/>
              <a:ext cx="1148040" cy="938520"/>
              <a:chOff x="4871160" y="2982600"/>
              <a:chExt cx="1148040" cy="9385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4871160" y="2982600"/>
                <a:ext cx="1148040" cy="938520"/>
                <a:chOff x="4871160" y="2982600"/>
                <a:chExt cx="1148040" cy="9385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880520" y="299844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871160" y="298260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37760" y="303804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85b9c3"/>
                    </a:gs>
                    <a:gs pos="100000">
                      <a:srgbClr val="3d5559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5126040" y="325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871160" y="3924360"/>
              <a:ext cx="1148400" cy="938520"/>
              <a:chOff x="4871160" y="3924360"/>
              <a:chExt cx="1148400" cy="93852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4871160" y="3924360"/>
                <a:ext cx="1148400" cy="938520"/>
                <a:chOff x="4871160" y="3924360"/>
                <a:chExt cx="1148400" cy="9385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880880" y="394020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71160" y="392436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937760" y="397980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4dc9b1"/>
                    </a:gs>
                    <a:gs pos="100000">
                      <a:srgbClr val="235c51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141160" y="4226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200400" y="3924360"/>
              <a:ext cx="1148400" cy="938520"/>
              <a:chOff x="3200400" y="3924360"/>
              <a:chExt cx="1148400" cy="93852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3200400" y="3924360"/>
                <a:ext cx="1148400" cy="938520"/>
                <a:chOff x="3200400" y="3924360"/>
                <a:chExt cx="1148400" cy="93852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210120" y="394020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200400" y="3924360"/>
                  <a:ext cx="1138680" cy="922680"/>
                </a:xfrm>
                <a:prstGeom prst="hexagon">
                  <a:avLst>
                    <a:gd name="adj" fmla="val 308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267000" y="3979800"/>
                  <a:ext cx="1000800" cy="811800"/>
                </a:xfrm>
                <a:prstGeom prst="hexagon">
                  <a:avLst>
                    <a:gd name="adj" fmla="val 30820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3" name=""/>
              <p:cNvSpPr/>
              <p:nvPr/>
            </p:nvSpPr>
            <p:spPr>
              <a:xfrm>
                <a:off x="3455280" y="4179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4035960" y="4395240"/>
              <a:ext cx="1148040" cy="938520"/>
              <a:chOff x="4035960" y="4395240"/>
              <a:chExt cx="1148040" cy="93852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035960" y="4395240"/>
                <a:ext cx="1148040" cy="938520"/>
                <a:chOff x="4035960" y="4395240"/>
                <a:chExt cx="1148040" cy="9385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045680" y="441108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035960" y="4395240"/>
                  <a:ext cx="1138320" cy="922680"/>
                </a:xfrm>
                <a:prstGeom prst="hexagon">
                  <a:avLst>
                    <a:gd name="adj" fmla="val 3084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135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02560" y="4450680"/>
                  <a:ext cx="1000440" cy="811800"/>
                </a:xfrm>
                <a:prstGeom prst="hexagon">
                  <a:avLst>
                    <a:gd name="adj" fmla="val 30809"/>
                    <a:gd name="vf" fmla="val 115470"/>
                  </a:avLst>
                </a:prstGeom>
                <a:gradFill rotWithShape="0">
                  <a:gsLst>
                    <a:gs pos="0">
                      <a:srgbClr val="bfaa4f"/>
                    </a:gs>
                    <a:gs pos="100000">
                      <a:srgbClr val="584e24"/>
                    </a:gs>
                  </a:gsLst>
                  <a:lin ang="135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4286880" y="46652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909720" y="163656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551400" y="1636560"/>
            <a:ext cx="2439720" cy="2000520"/>
          </a:xfrm>
          <a:prstGeom prst="rightArrowCallout">
            <a:avLst>
              <a:gd name="adj1" fmla="val 28438"/>
              <a:gd name="adj2" fmla="val 21477"/>
              <a:gd name="adj3" fmla="val 8887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51400" y="1563840"/>
            <a:ext cx="210960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6088320" y="1730880"/>
            <a:ext cx="2308320" cy="2119320"/>
          </a:xfrm>
          <a:prstGeom prst="rightArrowCallout">
            <a:avLst>
              <a:gd name="adj1" fmla="val 28438"/>
              <a:gd name="adj2" fmla="val 21477"/>
              <a:gd name="adj3" fmla="val 7937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c8adbf">
                  <a:alpha val="90196"/>
                </a:srgbClr>
              </a:gs>
              <a:gs pos="100000">
                <a:srgbClr val="91597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83360" y="1563840"/>
            <a:ext cx="211932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64866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4468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91597e"/>
              </a:gs>
              <a:gs pos="50000">
                <a:srgbClr val="b894ac">
                  <a:alpha val="90196"/>
                </a:srgbClr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71920" y="4092480"/>
            <a:ext cx="21128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856120" y="4248000"/>
            <a:ext cx="2440080" cy="2000520"/>
          </a:xfrm>
          <a:prstGeom prst="rightArrowCallout">
            <a:avLst>
              <a:gd name="adj1" fmla="val 28438"/>
              <a:gd name="adj2" fmla="val 21477"/>
              <a:gd name="adj3" fmla="val 8888"/>
              <a:gd name="adj4" fmla="val 86532"/>
            </a:avLst>
          </a:prstGeom>
          <a:gradFill rotWithShape="0">
            <a:gsLst>
              <a:gs pos="0">
                <a:srgbClr val="ccecff"/>
              </a:gs>
              <a:gs pos="100000">
                <a:srgbClr val="99ccff">
                  <a:alpha val="9019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86600" y="4102200"/>
            <a:ext cx="2119320" cy="515880"/>
          </a:xfrm>
          <a:prstGeom prst="rect">
            <a:avLst/>
          </a:prstGeom>
          <a:gradFill rotWithShape="0">
            <a:gsLst>
              <a:gs pos="0">
                <a:srgbClr val="b24242"/>
              </a:gs>
              <a:gs pos="50000">
                <a:srgbClr val="c36e6e"/>
              </a:gs>
              <a:gs pos="100000">
                <a:srgbClr val="b2424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7920" y="1563840"/>
            <a:ext cx="2114640" cy="515880"/>
          </a:xfrm>
          <a:prstGeom prst="rect">
            <a:avLst/>
          </a:prstGeom>
          <a:gradFill rotWithShape="0">
            <a:gsLst>
              <a:gs pos="0">
                <a:srgbClr val="91597e"/>
              </a:gs>
              <a:gs pos="50000">
                <a:srgbClr val="7e4d6e"/>
              </a:gs>
              <a:gs pos="100000">
                <a:srgbClr val="9159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937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703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518160" y="1639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703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8160" y="41958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494172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9064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4816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67520" y="2452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6752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7240" y="500868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3152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 flipH="1" rot="17752800">
            <a:off x="5642280" y="2913120"/>
            <a:ext cx="1677600" cy="17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02" y="16773"/>
                </a:moveTo>
                <a:arcTo wR="10800" hR="10800" stAng="8785564" swAng="18754729"/>
                <a:lnTo>
                  <a:pt x="10800" y="10800"/>
                </a:lnTo>
                <a:close/>
              </a:path>
              <a:path fill="none" w="21600" h="21600">
                <a:moveTo>
                  <a:pt x="1802" y="16773"/>
                </a:moveTo>
                <a:arcTo wR="10800" hR="10800" stAng="8785564" swAng="1875472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rot="5400000">
            <a:off x="1824840" y="1499400"/>
            <a:ext cx="1380960" cy="142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214" y="20987"/>
                </a:moveTo>
                <a:arcTo wR="10800" hR="10800" stAng="6563447" swAng="19875067"/>
                <a:lnTo>
                  <a:pt x="10800" y="10800"/>
                </a:lnTo>
                <a:close/>
              </a:path>
              <a:path fill="none" w="21600" h="21600">
                <a:moveTo>
                  <a:pt x="7214" y="20987"/>
                </a:moveTo>
                <a:arcTo wR="10800" hR="10800" stAng="6563447" swAng="19875067"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7440" y="30956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97440" y="30956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51a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51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37120" y="31226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893560" y="4037040"/>
            <a:ext cx="1201680" cy="479520"/>
            <a:chOff x="5893560" y="4037040"/>
            <a:chExt cx="1201680" cy="479520"/>
          </a:xfrm>
        </p:grpSpPr>
        <p:grpSp>
          <p:nvGrpSpPr>
            <p:cNvPr id="289" name=""/>
            <p:cNvGrpSpPr/>
            <p:nvPr/>
          </p:nvGrpSpPr>
          <p:grpSpPr>
            <a:xfrm>
              <a:off x="6104160" y="4037040"/>
              <a:ext cx="991080" cy="453240"/>
              <a:chOff x="6104160" y="4037040"/>
              <a:chExt cx="991080" cy="453240"/>
            </a:xfrm>
          </p:grpSpPr>
          <p:sp>
            <p:nvSpPr>
              <p:cNvPr id="290" name=""/>
              <p:cNvSpPr/>
              <p:nvPr/>
            </p:nvSpPr>
            <p:spPr>
              <a:xfrm flipH="1" flipV="1" rot="3964800">
                <a:off x="6641640" y="3903120"/>
                <a:ext cx="17676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 rot="4780200">
                <a:off x="6530040" y="39481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flipV="1" rot="5076000">
                <a:off x="6461640" y="395712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 rot="5608200">
                <a:off x="6379200" y="3965040"/>
                <a:ext cx="17676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893560" y="4042080"/>
              <a:ext cx="988560" cy="474480"/>
              <a:chOff x="5893560" y="4042080"/>
              <a:chExt cx="988560" cy="474480"/>
            </a:xfrm>
          </p:grpSpPr>
          <p:sp>
            <p:nvSpPr>
              <p:cNvPr id="295" name=""/>
              <p:cNvSpPr/>
              <p:nvPr/>
            </p:nvSpPr>
            <p:spPr>
              <a:xfrm flipH="1" flipV="1" rot="5317800">
                <a:off x="6431400" y="39636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 rot="6133800">
                <a:off x="6311880" y="39614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 rot="6429000">
                <a:off x="6245640" y="39438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flipV="1" rot="6961200">
                <a:off x="6166080" y="391968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928880" y="16318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928880" y="1631880"/>
            <a:ext cx="1171440" cy="1171800"/>
          </a:xfrm>
          <a:prstGeom prst="ellipse">
            <a:avLst/>
          </a:prstGeom>
          <a:gradFill rotWithShape="0">
            <a:gsLst>
              <a:gs pos="0">
                <a:srgbClr val="3615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615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49480" y="16556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93480" y="2016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87680" y="3591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5160" y="2125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23040" y="3552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87400" y="2492280"/>
            <a:ext cx="1036440" cy="1049040"/>
            <a:chOff x="2687400" y="2492280"/>
            <a:chExt cx="1036440" cy="1049040"/>
          </a:xfrm>
        </p:grpSpPr>
        <p:sp>
          <p:nvSpPr>
            <p:cNvPr id="307" name=""/>
            <p:cNvSpPr/>
            <p:nvPr/>
          </p:nvSpPr>
          <p:spPr>
            <a:xfrm rot="19090200">
              <a:off x="2682360" y="2539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198c1"/>
                </a:gs>
                <a:gs pos="100000">
                  <a:srgbClr val="660066"/>
                </a:gs>
              </a:gsLst>
              <a:lin ang="133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8122200">
              <a:off x="3174480" y="2354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26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29520" y="3800880"/>
            <a:ext cx="1479240" cy="150120"/>
            <a:chOff x="4529520" y="3800880"/>
            <a:chExt cx="1479240" cy="150120"/>
          </a:xfrm>
        </p:grpSpPr>
        <p:sp>
          <p:nvSpPr>
            <p:cNvPr id="310" name=""/>
            <p:cNvSpPr/>
            <p:nvPr/>
          </p:nvSpPr>
          <p:spPr>
            <a:xfrm rot="5607000">
              <a:off x="5902560" y="3847320"/>
              <a:ext cx="139320" cy="64440"/>
            </a:xfrm>
            <a:prstGeom prst="ellipse">
              <a:avLst/>
            </a:prstGeom>
            <a:gradFill rotWithShape="0">
              <a:gsLst>
                <a:gs pos="0">
                  <a:srgbClr val="003232"/>
                </a:gs>
                <a:gs pos="50000">
                  <a:srgbClr val="00ffff"/>
                </a:gs>
                <a:gs pos="100000">
                  <a:srgbClr val="003232"/>
                </a:gs>
              </a:gsLst>
              <a:lin ang="51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rot="16242000">
              <a:off x="5208480" y="3129840"/>
              <a:ext cx="101160" cy="145836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54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360600" y="3030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360600" y="3030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424200">
                  <a:alpha val="90196"/>
                </a:srgbClr>
              </a:gs>
              <a:gs pos="100000">
                <a:srgbClr val="ffff00">
                  <a:alpha val="4509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30520" y="30639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475080" y="4173120"/>
            <a:ext cx="1456200" cy="579600"/>
            <a:chOff x="3475080" y="4173120"/>
            <a:chExt cx="1456200" cy="579600"/>
          </a:xfrm>
        </p:grpSpPr>
        <p:grpSp>
          <p:nvGrpSpPr>
            <p:cNvPr id="316" name=""/>
            <p:cNvGrpSpPr/>
            <p:nvPr/>
          </p:nvGrpSpPr>
          <p:grpSpPr>
            <a:xfrm>
              <a:off x="3730320" y="4173120"/>
              <a:ext cx="1200960" cy="547920"/>
              <a:chOff x="3730320" y="4173120"/>
              <a:chExt cx="1200960" cy="547920"/>
            </a:xfrm>
          </p:grpSpPr>
          <p:sp>
            <p:nvSpPr>
              <p:cNvPr id="317" name=""/>
              <p:cNvSpPr/>
              <p:nvPr/>
            </p:nvSpPr>
            <p:spPr>
              <a:xfrm flipH="1" flipV="1" rot="3964800">
                <a:off x="4382640" y="401112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flipV="1" rot="4780200">
                <a:off x="4246920" y="4065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 rot="5076000">
                <a:off x="4164120" y="407520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 rot="5608200">
                <a:off x="4064760" y="408456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3475080" y="4178520"/>
              <a:ext cx="1197720" cy="574200"/>
              <a:chOff x="3475080" y="4178520"/>
              <a:chExt cx="1197720" cy="574200"/>
            </a:xfrm>
          </p:grpSpPr>
          <p:sp>
            <p:nvSpPr>
              <p:cNvPr id="322" name=""/>
              <p:cNvSpPr/>
              <p:nvPr/>
            </p:nvSpPr>
            <p:spPr>
              <a:xfrm flipH="1" flipV="1" rot="5317800">
                <a:off x="4127040" y="408420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 rot="6133800">
                <a:off x="3982320" y="4081680"/>
                <a:ext cx="21420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 rot="6429000">
                <a:off x="3901680" y="4060800"/>
                <a:ext cx="21456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 rot="6961200">
                <a:off x="3805920" y="402948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856680" y="362124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08840" y="4117320"/>
            <a:ext cx="1259280" cy="1019520"/>
            <a:chOff x="2508840" y="4117320"/>
            <a:chExt cx="1259280" cy="1019520"/>
          </a:xfrm>
        </p:grpSpPr>
        <p:sp>
          <p:nvSpPr>
            <p:cNvPr id="328" name=""/>
            <p:cNvSpPr/>
            <p:nvPr/>
          </p:nvSpPr>
          <p:spPr>
            <a:xfrm rot="3460800">
              <a:off x="3593880" y="4168800"/>
              <a:ext cx="174240" cy="9504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5c198"/>
                </a:gs>
                <a:gs pos="100000">
                  <a:srgbClr val="996600"/>
                </a:gs>
              </a:gsLst>
              <a:lin ang="73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13956000">
              <a:off x="3066480" y="3921120"/>
              <a:ext cx="108000" cy="14590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efefe"/>
                </a:gs>
                <a:gs pos="100000">
                  <a:srgbClr val="808080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 flipH="1" rot="5910600">
            <a:off x="1599120" y="4456800"/>
            <a:ext cx="1677600" cy="173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91" y="20943"/>
                </a:moveTo>
                <a:arcTo wR="10800" hR="10800" stAng="6605145" swAng="19472499"/>
                <a:lnTo>
                  <a:pt x="10800" y="10800"/>
                </a:lnTo>
                <a:close/>
              </a:path>
              <a:path fill="none" w="21600" h="21600">
                <a:moveTo>
                  <a:pt x="7091" y="20943"/>
                </a:moveTo>
                <a:arcTo wR="10800" hR="10800" stAng="6605145" swAng="19472499"/>
              </a:path>
            </a:pathLst>
          </a:custGeom>
          <a:noFill/>
          <a:ln w="19080">
            <a:solidFill>
              <a:srgbClr val="1c1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41440" y="5049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1731960" y="46306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731960" y="46306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51a42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51a42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79560" y="4659480"/>
            <a:ext cx="1117800" cy="4935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832760" y="5617800"/>
            <a:ext cx="1257840" cy="503280"/>
            <a:chOff x="1832760" y="5617800"/>
            <a:chExt cx="1257840" cy="503280"/>
          </a:xfrm>
        </p:grpSpPr>
        <p:grpSp>
          <p:nvGrpSpPr>
            <p:cNvPr id="336" name=""/>
            <p:cNvGrpSpPr/>
            <p:nvPr/>
          </p:nvGrpSpPr>
          <p:grpSpPr>
            <a:xfrm>
              <a:off x="2052000" y="5617800"/>
              <a:ext cx="1038600" cy="474840"/>
              <a:chOff x="2052000" y="5617800"/>
              <a:chExt cx="1038600" cy="474840"/>
            </a:xfrm>
          </p:grpSpPr>
          <p:sp>
            <p:nvSpPr>
              <p:cNvPr id="337" name=""/>
              <p:cNvSpPr/>
              <p:nvPr/>
            </p:nvSpPr>
            <p:spPr>
              <a:xfrm flipH="1" flipV="1" rot="3964800">
                <a:off x="2616120" y="547740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 rot="4780200">
                <a:off x="2499120" y="552420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 rot="5076000">
                <a:off x="2427480" y="553428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flipV="1" rot="5608200">
                <a:off x="2341080" y="554256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832760" y="5623920"/>
              <a:ext cx="1035360" cy="497160"/>
              <a:chOff x="1832760" y="5623920"/>
              <a:chExt cx="1035360" cy="497160"/>
            </a:xfrm>
          </p:grpSpPr>
          <p:sp>
            <p:nvSpPr>
              <p:cNvPr id="342" name=""/>
              <p:cNvSpPr/>
              <p:nvPr/>
            </p:nvSpPr>
            <p:spPr>
              <a:xfrm flipH="1" flipV="1" rot="5317800">
                <a:off x="2395800" y="55422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 rot="6133800">
                <a:off x="2271600" y="55400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 rot="6429000">
                <a:off x="2201760" y="552132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flipV="1" rot="6961200">
                <a:off x="2118960" y="54950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2115720" y="5165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011680" y="2445120"/>
            <a:ext cx="1036080" cy="415080"/>
            <a:chOff x="2011680" y="2445120"/>
            <a:chExt cx="1036080" cy="415080"/>
          </a:xfrm>
        </p:grpSpPr>
        <p:grpSp>
          <p:nvGrpSpPr>
            <p:cNvPr id="348" name=""/>
            <p:cNvGrpSpPr/>
            <p:nvPr/>
          </p:nvGrpSpPr>
          <p:grpSpPr>
            <a:xfrm>
              <a:off x="2192760" y="2445120"/>
              <a:ext cx="855000" cy="390600"/>
              <a:chOff x="2192760" y="2445120"/>
              <a:chExt cx="855000" cy="390600"/>
            </a:xfrm>
          </p:grpSpPr>
          <p:sp>
            <p:nvSpPr>
              <p:cNvPr id="349" name=""/>
              <p:cNvSpPr/>
              <p:nvPr/>
            </p:nvSpPr>
            <p:spPr>
              <a:xfrm flipH="1" flipV="1" rot="3964800">
                <a:off x="2657160" y="232956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 rot="4780200">
                <a:off x="2561040" y="236844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 rot="5076000">
                <a:off x="2502000" y="2375280"/>
                <a:ext cx="15156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5608200">
                <a:off x="2431080" y="2382480"/>
                <a:ext cx="15156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011680" y="2450520"/>
              <a:ext cx="852840" cy="409680"/>
              <a:chOff x="2011680" y="2450520"/>
              <a:chExt cx="852840" cy="409680"/>
            </a:xfrm>
          </p:grpSpPr>
          <p:sp>
            <p:nvSpPr>
              <p:cNvPr id="354" name=""/>
              <p:cNvSpPr/>
              <p:nvPr/>
            </p:nvSpPr>
            <p:spPr>
              <a:xfrm flipH="1" flipV="1" rot="5317800">
                <a:off x="2476440" y="238284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 rot="6133800">
                <a:off x="2373120" y="23806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 rot="6429000">
                <a:off x="2315520" y="236628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6961200">
                <a:off x="2247120" y="234468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3505320" y="538164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Add 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05:46:53Z</dcterms:created>
  <dc:creator>微软中国</dc:creator>
  <dc:description/>
  <dc:language>en-US</dc:language>
  <cp:lastModifiedBy>微软中国</cp:lastModifiedBy>
  <dcterms:modified xsi:type="dcterms:W3CDTF">2013-04-18T06:19:42Z</dcterms:modified>
  <cp:revision>2</cp:revision>
  <dc:subject/>
  <dc:title>PowerPoint Template</dc:title>
</cp:coreProperties>
</file>