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782-C771-4BA2-B93B-0E905A6A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9F7-2271-4A4E-BEC8-E8B153EA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181-3E84-4B32-9608-755A985A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3C1-C0CD-4C79-95BC-E65B8259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BBE-0CD4-46D7-8184-5DE0FA73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BC5-DC8E-4F4A-835B-92B7354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232-9FB2-440F-A21F-59BA031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A2E-0B55-4EFE-8F56-ABC9101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932-07F8-4876-89CF-C4CAA16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023-4767-405F-AC04-44425E1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994-16EE-422C-9D64-34139F3B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FD9-FFFB-49AB-A7EC-8CA4AD3F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5001-170E-4841-8305-ECE67EC16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B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040" y="105228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美丽的小兴安岭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PPt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课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147760" y="609300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406960" y="2025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春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791680" y="2025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夏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406960" y="3168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秋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791680" y="30924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冬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00200" y="42552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61818"/>
                </a:solidFill>
                <a:latin typeface="Times New Roman"/>
                <a:ea typeface="华文新魏"/>
              </a:rPr>
              <a:t>美丽的小兴安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35880" y="45846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33000" y="4616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122080" y="45846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7056360" y="4584600"/>
            <a:ext cx="109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冬</a:t>
            </a: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b53f"/>
            </a:gs>
            <a:gs pos="100000">
              <a:srgbClr val="1466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7200" y="3489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048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905120" y="30481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积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828800" y="4343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小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905120" y="5562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原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3200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733920" y="18288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抽出新枝  长出嫩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733920" y="30481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汇成小溪  淙淙流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733920" y="4343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溪边散步  无拘无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733920" y="55627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像一支舰队在前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320040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32004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2c49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57200" y="3489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>
            <a:off x="3048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905120" y="30481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晨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828800" y="4343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阳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905120" y="5562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野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3200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886200" y="18288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葱葱茏茏  密密层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86200" y="30481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谷中升起  弥漫森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886200" y="4343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利剑一样  穿过树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886200" y="55627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五颜六色  向阳盛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040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32004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1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7200" y="3489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3048120" y="220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905120" y="31240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山葡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905120" y="42670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榛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828800" y="55627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蘑菇 木耳 人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3809880" y="3581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4114800" y="18288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松柏苍翠落叶飞舞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3505320" y="4648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57150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6248520" y="31240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酸甜可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6248520" y="42670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又香又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6248520" y="55627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鲜嫩名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04920" y="3489480"/>
            <a:ext cx="990360" cy="1008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048120" y="2209680"/>
            <a:ext cx="2514600" cy="0"/>
          </a:xfrm>
          <a:prstGeom prst="line">
            <a:avLst/>
          </a:prstGeom>
          <a:ln w="38160">
            <a:solidFill>
              <a:srgbClr val="f618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05120" y="3124080"/>
            <a:ext cx="13716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厚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905120" y="4267080"/>
            <a:ext cx="259056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紫貂黑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828800" y="5562720"/>
            <a:ext cx="152388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松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67280" y="182880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 </a:t>
            </a: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积满白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867280" y="312408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没过膝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5867280" y="426708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躲进洞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867280" y="556272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盼望春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3352680" y="3505320"/>
            <a:ext cx="2286000" cy="0"/>
          </a:xfrm>
          <a:prstGeom prst="line">
            <a:avLst/>
          </a:prstGeom>
          <a:ln w="38160">
            <a:solidFill>
              <a:srgbClr val="f618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4572000" y="4648320"/>
            <a:ext cx="1143000" cy="0"/>
          </a:xfrm>
          <a:prstGeom prst="line">
            <a:avLst/>
          </a:prstGeom>
          <a:ln w="38160">
            <a:solidFill>
              <a:srgbClr val="f618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3505320" y="5943600"/>
            <a:ext cx="2286000" cy="0"/>
          </a:xfrm>
          <a:prstGeom prst="line">
            <a:avLst/>
          </a:prstGeom>
          <a:ln w="38160">
            <a:solidFill>
              <a:srgbClr val="f618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13:06:56Z</dcterms:created>
  <dc:creator>第一PPT模板网-WWW.1PPT.COM</dc:creator>
  <dc:description>第一PPT模板网-WWW.1PPT.COM
</dc:description>
  <dc:language>en-US</dc:language>
  <cp:lastModifiedBy>wuhan</cp:lastModifiedBy>
  <dcterms:modified xsi:type="dcterms:W3CDTF">2017-10-17T07:52:12Z</dcterms:modified>
  <cp:revision>26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