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17A3-50D1-4834-A176-9088D07E1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6B12-E64A-462A-BD90-9B26E365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62DA-8E2B-4854-96BB-B838D8378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3D97-2F96-4790-8021-49C69599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DA18-9BDA-4A82-9EDF-0E37CBDC5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BEE5-AAED-42F3-AEF8-AC10CDE8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2524-1F64-45A9-A0B1-2E2BB8D7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733B-2289-4247-A553-AB4D46E5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5BEE-1172-49B0-A7A2-DF33E20C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AE33-4B60-41DC-87D0-3CC5DB08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9FEB-E65F-4F20-893B-63E43E98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0E65-BCB3-48BA-A918-D6F40626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82EB-944F-4D03-A29A-CC242067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0FC0-558C-444D-B661-01281568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6559-ECB2-4E5B-95F4-A65F68E2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66D1-BCA4-401F-904E-BBAB91808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1F6F-4789-48BA-A8AD-6EF1DBDD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9602-9B8F-4CFC-82F8-7E8CB775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35DE-5DE2-439B-BB7E-B859251A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5DD3-F51D-437F-936F-27B0EDC1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9E81-BABE-4E9B-81BA-9F91D551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8D90-0077-45CE-BDEA-F44FC6A7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EB2E-6D1E-4C44-AA33-5C377C4D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55C7-757C-42F9-B8E5-5F09DC97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AD6C-BFA8-4E91-A234-007695842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FB4A-A9A6-41F8-A6CA-16B2DDC76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2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ff00"/>
                </a:solidFill>
                <a:latin typeface="Times New Roman"/>
                <a:ea typeface="华文新魏"/>
              </a:rPr>
              <a:t>《</a:t>
            </a:r>
            <a:r>
              <a:rPr b="1" lang="zh-CN" sz="11500" spc="-1" strike="noStrike">
                <a:solidFill>
                  <a:srgbClr val="00ff00"/>
                </a:solidFill>
                <a:latin typeface="Times New Roman"/>
                <a:ea typeface="华文新魏"/>
              </a:rPr>
              <a:t>木兰诗</a:t>
            </a:r>
            <a:r>
              <a:rPr b="1" lang="en-US" sz="11500" spc="-1" strike="noStrike">
                <a:solidFill>
                  <a:srgbClr val="00ff00"/>
                </a:solidFill>
                <a:latin typeface="Times New Roman"/>
                <a:ea typeface="华文新魏"/>
              </a:rPr>
              <a:t>》</a:t>
            </a:r>
            <a:endParaRPr b="1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矩形 8"/>
          <p:cNvSpPr/>
          <p:nvPr/>
        </p:nvSpPr>
        <p:spPr>
          <a:xfrm>
            <a:off x="2193480" y="6093000"/>
            <a:ext cx="420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www.downcc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2286000" y="604800"/>
            <a:ext cx="50292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东市买骏马，西市买鞍鞯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南市买辔头，北市买长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辞爷娘去，</a:t>
            </a:r>
            <a:r>
              <a:rPr b="0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暮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宿黄河边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99"/>
                </a:solidFill>
                <a:latin typeface="Times New Roman"/>
                <a:ea typeface="隶书"/>
              </a:rPr>
              <a:t>不闻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爷娘唤女声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Times New Roman"/>
                <a:ea typeface="隶书"/>
              </a:rPr>
              <a:t>但闻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黄河流水鸣溅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辞黄河去，</a:t>
            </a:r>
            <a:r>
              <a:rPr b="0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暮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至黑山头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99"/>
                </a:solidFill>
                <a:latin typeface="Times New Roman"/>
                <a:ea typeface="隶书"/>
              </a:rPr>
              <a:t>不闻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爷娘唤女声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Times New Roman"/>
                <a:ea typeface="隶书"/>
              </a:rPr>
              <a:t>但闻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燕山胡骑鸣啾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162920" y="9144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cc"/>
                </a:solidFill>
                <a:latin typeface="Times New Roman"/>
              </a:rPr>
              <a:t>急骤跳跃，活泼明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7010280" y="28195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0" lang="zh-CN" sz="1800" spc="-1" strike="noStrike">
                <a:solidFill>
                  <a:srgbClr val="ff33cc"/>
                </a:solidFill>
                <a:latin typeface="Times New Roman"/>
              </a:rPr>
              <a:t>旦、暮”重读，上下句之间要读得似断实连。“不闻、但闻”重读，两句要前轻后重，读出对亲人的眷恋之情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6553080" y="2209680"/>
            <a:ext cx="76320" cy="3048120"/>
          </a:xfrm>
          <a:custGeom>
            <a:avLst/>
            <a:gdLst>
              <a:gd name="textAreaLeft" fmla="*/ 0 w 76320"/>
              <a:gd name="textAreaRight" fmla="*/ 27360 w 7632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6553080" y="838080"/>
            <a:ext cx="76320" cy="76212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1143000" y="838080"/>
            <a:ext cx="51814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爷娘闻女来，出郭相扶将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阿姊闻妹来，当户理红妆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小弟闻姊来，磨刀霍霍向猪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我东阁门，</a:t>
            </a:r>
            <a:r>
              <a:rPr b="0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坐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我西阁床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脱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我战时袍，</a:t>
            </a:r>
            <a:r>
              <a:rPr b="0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我旧时裳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当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窗理云鬓，</a:t>
            </a:r>
            <a:r>
              <a:rPr b="0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镜帖花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出门看火伴，火伴皆惊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同行十二年，不知木兰是女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3"/>
          <p:cNvSpPr/>
          <p:nvPr/>
        </p:nvSpPr>
        <p:spPr>
          <a:xfrm>
            <a:off x="6400800" y="838080"/>
            <a:ext cx="76320" cy="1600200"/>
          </a:xfrm>
          <a:custGeom>
            <a:avLst/>
            <a:gdLst>
              <a:gd name="textAreaLeft" fmla="*/ 0 w 76320"/>
              <a:gd name="textAreaRight" fmla="*/ 27360 w 763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7162920" y="1143000"/>
            <a:ext cx="12189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cc"/>
                </a:solidFill>
                <a:latin typeface="Times New Roman"/>
              </a:rPr>
              <a:t>热烈欢快，起伏跳荡前高后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6477120" y="297180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7162920" y="3048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cc"/>
                </a:solidFill>
                <a:latin typeface="Times New Roman"/>
              </a:rPr>
              <a:t>动词要读得响亮，极力表现喜悦之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6477120" y="4724280"/>
            <a:ext cx="75960" cy="914400"/>
          </a:xfrm>
          <a:custGeom>
            <a:avLst/>
            <a:gdLst>
              <a:gd name="textAreaLeft" fmla="*/ 0 w 75960"/>
              <a:gd name="textAreaRight" fmla="*/ 27360 w 759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7162920" y="5029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cc"/>
                </a:solidFill>
                <a:latin typeface="Times New Roman"/>
              </a:rPr>
              <a:t>赞美惊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5109120" y="990720"/>
            <a:ext cx="2009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谢谢大家！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4195800" y="3048120"/>
            <a:ext cx="11858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99"/>
                </a:solidFill>
                <a:latin typeface="Times New Roman"/>
                <a:ea typeface="方正姚体"/>
              </a:rPr>
              <a:t>再见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2289960" y="3124080"/>
            <a:ext cx="4546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99cc"/>
                </a:solidFill>
                <a:latin typeface="Times New Roman"/>
                <a:ea typeface="隶书"/>
              </a:rPr>
              <a:t>二零零零年十二月二十一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dur="indefinite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7000"/>
                            </p:stCondLst>
                            <p:childTnLst>
                              <p:par>
                                <p:cTn id="300" dur="indefinite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ext Box 2" descr=""/>
          <p:cNvPicPr/>
          <p:nvPr/>
        </p:nvPicPr>
        <p:blipFill>
          <a:blip r:embed="rId2"/>
          <a:stretch/>
        </p:blipFill>
        <p:spPr>
          <a:xfrm>
            <a:off x="1782720" y="1219320"/>
            <a:ext cx="5970600" cy="4419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68760" y="549360"/>
            <a:ext cx="7076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东市买骏马，西市买鞍鞯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南市买辔头，北市买长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旦辞爷娘去，暮宿黄河边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不闻爷娘唤女声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但闻黄河流水鸣溅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旦辞黄河去，暮至黑山头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不闻爷娘唤女声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但闻燕山胡骑鸣啾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2655360" y="1413000"/>
            <a:ext cx="4375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Times New Roman"/>
                <a:ea typeface="隶书"/>
              </a:rPr>
              <a:t>万里赴戎机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Times New Roman"/>
                <a:ea typeface="隶书"/>
              </a:rPr>
              <a:t>关山度若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Times New Roman"/>
                <a:ea typeface="隶书"/>
              </a:rPr>
              <a:t>朔气传金柝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Times New Roman"/>
                <a:ea typeface="隶书"/>
              </a:rPr>
              <a:t>寒光照铁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Times New Roman"/>
                <a:ea typeface="隶书"/>
              </a:rPr>
              <a:t>将军百战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Times New Roman"/>
                <a:ea typeface="隶书"/>
              </a:rPr>
              <a:t>壮士十年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040560" y="907920"/>
            <a:ext cx="362844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ff66"/>
                </a:solidFill>
                <a:latin typeface="Times New Roman"/>
                <a:ea typeface="隶书"/>
              </a:rPr>
              <a:t>归来见天子，天子坐明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ff66"/>
                </a:solidFill>
                <a:latin typeface="Times New Roman"/>
                <a:ea typeface="隶书"/>
              </a:rPr>
              <a:t>策勋十二转，赏赐百千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ff66"/>
                </a:solidFill>
                <a:latin typeface="Times New Roman"/>
                <a:ea typeface="隶书"/>
              </a:rPr>
              <a:t>可汗问所欲，木兰不用尚书郎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ff66"/>
                </a:solidFill>
                <a:latin typeface="Times New Roman"/>
                <a:ea typeface="隶书"/>
              </a:rPr>
              <a:t>愿驰千里足，送儿还故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ext Box 2" descr=""/>
          <p:cNvPicPr/>
          <p:nvPr/>
        </p:nvPicPr>
        <p:blipFill>
          <a:blip r:embed="rId2"/>
          <a:stretch/>
        </p:blipFill>
        <p:spPr>
          <a:xfrm>
            <a:off x="1908000" y="692280"/>
            <a:ext cx="5099400" cy="5113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700720" y="1523880"/>
            <a:ext cx="3781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Times New Roman"/>
                <a:ea typeface="隶书"/>
              </a:rPr>
              <a:t>雄兔脚扑朔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Times New Roman"/>
                <a:ea typeface="隶书"/>
              </a:rPr>
              <a:t>雌兔眼迷离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Times New Roman"/>
                <a:ea typeface="隶书"/>
              </a:rPr>
              <a:t>双兔傍地走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Times New Roman"/>
                <a:ea typeface="隶书"/>
              </a:rPr>
              <a:t>安能辨我是雄雌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352680" y="685800"/>
            <a:ext cx="266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ff99"/>
                </a:solidFill>
                <a:latin typeface="Times New Roman"/>
                <a:ea typeface="方正舒体"/>
              </a:rPr>
              <a:t>木兰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Text Box 3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1176480" cy="519120"/>
          </a:xfrm>
          <a:prstGeom prst="rect">
            <a:avLst/>
          </a:prstGeom>
          <a:ln w="0">
            <a:noFill/>
          </a:ln>
        </p:spPr>
      </p:pic>
      <p:pic>
        <p:nvPicPr>
          <p:cNvPr id="92" name="Text Box 4" descr=""/>
          <p:cNvPicPr/>
          <p:nvPr/>
        </p:nvPicPr>
        <p:blipFill>
          <a:blip r:embed="rId3"/>
          <a:stretch/>
        </p:blipFill>
        <p:spPr>
          <a:xfrm>
            <a:off x="3048120" y="1905120"/>
            <a:ext cx="1176120" cy="519120"/>
          </a:xfrm>
          <a:prstGeom prst="rect">
            <a:avLst/>
          </a:prstGeom>
          <a:ln w="0">
            <a:noFill/>
          </a:ln>
        </p:spPr>
      </p:pic>
      <p:pic>
        <p:nvPicPr>
          <p:cNvPr id="93" name="Text Box 5" descr=""/>
          <p:cNvPicPr/>
          <p:nvPr/>
        </p:nvPicPr>
        <p:blipFill>
          <a:blip r:embed="rId4"/>
          <a:stretch/>
        </p:blipFill>
        <p:spPr>
          <a:xfrm>
            <a:off x="5791320" y="1905120"/>
            <a:ext cx="1176120" cy="519120"/>
          </a:xfrm>
          <a:prstGeom prst="rect">
            <a:avLst/>
          </a:prstGeom>
          <a:ln w="0">
            <a:noFill/>
          </a:ln>
        </p:spPr>
      </p:pic>
      <p:pic>
        <p:nvPicPr>
          <p:cNvPr id="94" name="Text Box 7" descr=""/>
          <p:cNvPicPr/>
          <p:nvPr/>
        </p:nvPicPr>
        <p:blipFill>
          <a:blip r:embed="rId5"/>
          <a:stretch/>
        </p:blipFill>
        <p:spPr>
          <a:xfrm>
            <a:off x="1066680" y="2286000"/>
            <a:ext cx="205740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Text Box 9" descr=""/>
          <p:cNvPicPr/>
          <p:nvPr/>
        </p:nvPicPr>
        <p:blipFill>
          <a:blip r:embed="rId6"/>
          <a:stretch/>
        </p:blipFill>
        <p:spPr>
          <a:xfrm>
            <a:off x="990720" y="2743200"/>
            <a:ext cx="220968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Text Box 10" descr=""/>
          <p:cNvPicPr/>
          <p:nvPr/>
        </p:nvPicPr>
        <p:blipFill>
          <a:blip r:embed="rId7"/>
          <a:stretch/>
        </p:blipFill>
        <p:spPr>
          <a:xfrm>
            <a:off x="990720" y="3200400"/>
            <a:ext cx="2209680" cy="1015920"/>
          </a:xfrm>
          <a:prstGeom prst="rect">
            <a:avLst/>
          </a:prstGeom>
          <a:ln w="0">
            <a:noFill/>
          </a:ln>
        </p:spPr>
      </p:pic>
      <p:pic>
        <p:nvPicPr>
          <p:cNvPr id="97" name="Text Box 11" descr=""/>
          <p:cNvPicPr/>
          <p:nvPr/>
        </p:nvPicPr>
        <p:blipFill>
          <a:blip r:embed="rId8"/>
          <a:stretch/>
        </p:blipFill>
        <p:spPr>
          <a:xfrm>
            <a:off x="4038480" y="2438280"/>
            <a:ext cx="2057400" cy="457200"/>
          </a:xfrm>
          <a:prstGeom prst="rect">
            <a:avLst/>
          </a:prstGeom>
          <a:ln w="0">
            <a:noFill/>
          </a:ln>
        </p:spPr>
      </p:pic>
      <p:pic>
        <p:nvPicPr>
          <p:cNvPr id="98" name="Text Box 12" descr=""/>
          <p:cNvPicPr/>
          <p:nvPr/>
        </p:nvPicPr>
        <p:blipFill>
          <a:blip r:embed="rId9"/>
          <a:stretch/>
        </p:blipFill>
        <p:spPr>
          <a:xfrm>
            <a:off x="7086600" y="2286000"/>
            <a:ext cx="205740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Text Box 13" descr=""/>
          <p:cNvPicPr/>
          <p:nvPr/>
        </p:nvPicPr>
        <p:blipFill>
          <a:blip r:embed="rId10"/>
          <a:stretch/>
        </p:blipFill>
        <p:spPr>
          <a:xfrm>
            <a:off x="7086600" y="2971800"/>
            <a:ext cx="2057400" cy="457200"/>
          </a:xfrm>
          <a:prstGeom prst="rect">
            <a:avLst/>
          </a:prstGeom>
          <a:ln w="0">
            <a:noFill/>
          </a:ln>
        </p:spPr>
      </p:pic>
      <p:pic>
        <p:nvPicPr>
          <p:cNvPr id="100" name="Text Box 14" descr=""/>
          <p:cNvPicPr/>
          <p:nvPr/>
        </p:nvPicPr>
        <p:blipFill>
          <a:blip r:embed="rId11"/>
          <a:stretch/>
        </p:blipFill>
        <p:spPr>
          <a:xfrm>
            <a:off x="4114800" y="4648320"/>
            <a:ext cx="2057400" cy="457200"/>
          </a:xfrm>
          <a:prstGeom prst="rect">
            <a:avLst/>
          </a:prstGeom>
          <a:ln w="0">
            <a:noFill/>
          </a:ln>
        </p:spPr>
      </p:pic>
      <p:pic>
        <p:nvPicPr>
          <p:cNvPr id="101" name="Text Box 15" descr=""/>
          <p:cNvPicPr/>
          <p:nvPr/>
        </p:nvPicPr>
        <p:blipFill>
          <a:blip r:embed="rId12"/>
          <a:stretch/>
        </p:blipFill>
        <p:spPr>
          <a:xfrm>
            <a:off x="1523880" y="4191120"/>
            <a:ext cx="1143000" cy="457200"/>
          </a:xfrm>
          <a:prstGeom prst="rect">
            <a:avLst/>
          </a:prstGeom>
          <a:ln w="0">
            <a:noFill/>
          </a:ln>
        </p:spPr>
      </p:pic>
      <p:pic>
        <p:nvPicPr>
          <p:cNvPr id="102" name="Text Box 16" descr=""/>
          <p:cNvPicPr/>
          <p:nvPr/>
        </p:nvPicPr>
        <p:blipFill>
          <a:blip r:embed="rId13"/>
          <a:stretch/>
        </p:blipFill>
        <p:spPr>
          <a:xfrm>
            <a:off x="4419720" y="4038480"/>
            <a:ext cx="1143000" cy="457200"/>
          </a:xfrm>
          <a:prstGeom prst="rect">
            <a:avLst/>
          </a:prstGeom>
          <a:ln w="0">
            <a:noFill/>
          </a:ln>
        </p:spPr>
      </p:pic>
      <p:pic>
        <p:nvPicPr>
          <p:cNvPr id="103" name="Text Box 17" descr=""/>
          <p:cNvPicPr/>
          <p:nvPr/>
        </p:nvPicPr>
        <p:blipFill>
          <a:blip r:embed="rId14"/>
          <a:stretch/>
        </p:blipFill>
        <p:spPr>
          <a:xfrm>
            <a:off x="7772400" y="4191120"/>
            <a:ext cx="1143000" cy="45720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1981080" y="4572000"/>
            <a:ext cx="457200" cy="380880"/>
            <a:chOff x="1981080" y="4572000"/>
            <a:chExt cx="457200" cy="380880"/>
          </a:xfrm>
        </p:grpSpPr>
        <p:sp>
          <p:nvSpPr>
            <p:cNvPr id="105" name="Line 19"/>
            <p:cNvSpPr/>
            <p:nvPr/>
          </p:nvSpPr>
          <p:spPr>
            <a:xfrm>
              <a:off x="1981080" y="45720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1981080" y="457200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438280" y="4952880"/>
            <a:ext cx="1676520" cy="360"/>
            <a:chOff x="2438280" y="4952880"/>
            <a:chExt cx="1676520" cy="360"/>
          </a:xfrm>
        </p:grpSpPr>
        <p:sp>
          <p:nvSpPr>
            <p:cNvPr id="108" name="Line 20"/>
            <p:cNvSpPr/>
            <p:nvPr/>
          </p:nvSpPr>
          <p:spPr>
            <a:xfrm>
              <a:off x="2438280" y="49528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2438280" y="4952880"/>
              <a:ext cx="1676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943600" y="4876920"/>
            <a:ext cx="1676520" cy="360"/>
            <a:chOff x="5943600" y="4876920"/>
            <a:chExt cx="1676520" cy="360"/>
          </a:xfrm>
        </p:grpSpPr>
        <p:sp>
          <p:nvSpPr>
            <p:cNvPr id="111" name="Line 21"/>
            <p:cNvSpPr/>
            <p:nvPr/>
          </p:nvSpPr>
          <p:spPr>
            <a:xfrm>
              <a:off x="5943600" y="487692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5943600" y="4876920"/>
              <a:ext cx="1676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7623720" y="4440600"/>
            <a:ext cx="525240" cy="567000"/>
            <a:chOff x="7623720" y="4440600"/>
            <a:chExt cx="525240" cy="567000"/>
          </a:xfrm>
        </p:grpSpPr>
        <p:sp>
          <p:nvSpPr>
            <p:cNvPr id="114" name="Line 22"/>
            <p:cNvSpPr/>
            <p:nvPr/>
          </p:nvSpPr>
          <p:spPr>
            <a:xfrm flipH="1">
              <a:off x="7623720" y="4583880"/>
              <a:ext cx="525240" cy="280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 rot="6723000">
              <a:off x="7657560" y="4533480"/>
              <a:ext cx="45720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500"/>
                            </p:stCondLst>
                            <p:childTnLst>
                              <p:par>
                                <p:cTn id="16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500"/>
                            </p:stCondLst>
                            <p:childTnLst>
                              <p:par>
                                <p:cTn id="17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3352680" y="685800"/>
            <a:ext cx="266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ff99"/>
                </a:solidFill>
                <a:latin typeface="Times New Roman"/>
                <a:ea typeface="方正舒体"/>
              </a:rPr>
              <a:t>木兰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228600" y="19051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（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3048120" y="19051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（二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791320" y="19051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（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066680" y="2286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、停机叹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990720" y="2743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、代父从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990720" y="320040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、出征准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征途跋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4038480" y="2438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、十年征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7086600" y="2286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、辞官还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7086600" y="2971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、合家欢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4114800" y="4648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比喻赞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52388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Times New Roman"/>
                <a:ea typeface="华文新魏"/>
              </a:rPr>
              <a:t>（详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441972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Times New Roman"/>
                <a:ea typeface="华文新魏"/>
              </a:rPr>
              <a:t>（略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777240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Times New Roman"/>
                <a:ea typeface="华文新魏"/>
              </a:rPr>
              <a:t>（详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1981080" y="45720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7"/>
          <p:cNvSpPr/>
          <p:nvPr/>
        </p:nvSpPr>
        <p:spPr>
          <a:xfrm>
            <a:off x="2438280" y="49528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8"/>
          <p:cNvSpPr/>
          <p:nvPr/>
        </p:nvSpPr>
        <p:spPr>
          <a:xfrm>
            <a:off x="5943600" y="48769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9"/>
          <p:cNvSpPr/>
          <p:nvPr/>
        </p:nvSpPr>
        <p:spPr>
          <a:xfrm flipH="1">
            <a:off x="7623720" y="4583880"/>
            <a:ext cx="525240" cy="280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2743200" y="236232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沉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2743200" y="320040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忙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2819520" y="388620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缠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5"/>
          <p:cNvSpPr/>
          <p:nvPr/>
        </p:nvSpPr>
        <p:spPr>
          <a:xfrm>
            <a:off x="5867280" y="2514600"/>
            <a:ext cx="838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苍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6"/>
          <p:cNvSpPr/>
          <p:nvPr/>
        </p:nvSpPr>
        <p:spPr>
          <a:xfrm>
            <a:off x="8305920" y="251460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7"/>
          <p:cNvSpPr/>
          <p:nvPr/>
        </p:nvSpPr>
        <p:spPr>
          <a:xfrm>
            <a:off x="8305920" y="33526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欢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8"/>
          <p:cNvSpPr/>
          <p:nvPr/>
        </p:nvSpPr>
        <p:spPr>
          <a:xfrm>
            <a:off x="4648320" y="510552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诙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9T03:37:30Z</dcterms:created>
  <dc:creator>第一PPT模板网-WWW.1PPT.COM</dc:creator>
  <dc:description>第一PPT模板网-WWW.1PPT.COM
第一PPT模板网-WWW.1PPT.COM
</dc:description>
  <cp:keywords>第一PPT模板网-WWW.1PPT.COM</cp:keywords>
  <dc:language>en-US</dc:language>
  <cp:lastModifiedBy>wuhan</cp:lastModifiedBy>
  <dcterms:modified xsi:type="dcterms:W3CDTF">2017-03-22T03:31:49Z</dcterms:modified>
  <cp:revision>2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07</vt:lpwstr>
  </property>
</Properties>
</file>