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3.wmf" ContentType="image/x-wmf"/>
  <Override PartName="/ppt/media/image13.png" ContentType="image/png"/>
  <Override PartName="/ppt/media/image11.png" ContentType="image/png"/>
  <Override PartName="/ppt/media/image3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type.wav" ContentType="audio/x-wav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4720" y="72972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7080" y="8442360"/>
            <a:ext cx="302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77F803-EFAB-49A7-A562-23107053F39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8720" y="8723160"/>
            <a:ext cx="951120" cy="212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4360" y="36360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era APEX 20K Devic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653E-D4D3-4941-9B9F-029A6DCE5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EB32-A86D-4893-A5CB-450CF1DDF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C238-B119-4963-8F09-BAC1AC911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6EA0-D80D-481C-8625-1E438A188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BCB4-6965-4CEF-BC21-8DE22B60A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7BB1-6CEE-4551-B27E-59CC92C9D0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8D8C-9747-46D0-A4D6-B7D669996A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D4D8-B350-4D9E-8757-285647508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E545-9253-469D-8168-6B0177AE8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6655-B6EE-49A9-BCE4-93E725488B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4179-C8DB-4DCC-A5DF-C916BA6A6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ACD3-A887-431E-8D7C-473C36DE6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4AF7-66B2-4559-9FF7-0B508772E3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CCB6-3574-4F92-8A4A-35B2ED0B10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ADA0-9576-4BD0-B451-593CD95B74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C70A-554B-485F-B16F-D91E35D8C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C21A-07E5-487E-9B81-771CCD723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8801-C41D-4461-80B1-91965BFA8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7EF5-C8A2-4DEA-9FBD-2F9D512FB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DDFB-52C8-4E63-A712-CE6AA201C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87D1-31C5-43C9-873A-BD5FEF0BF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E943-B429-47DE-A6C5-012AD1B11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F838-A00D-4A83-AED7-2728A2E22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7E14-C5A4-4642-9D89-37FF8E7C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6248520"/>
            <a:ext cx="2890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6324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3D9-4EAC-4AFF-B0ED-0B882C5264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37440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76C4-244A-4177-B2C7-6F32538D1A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4343400"/>
            <a:ext cx="339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104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流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60F1-7081-4266-BB5C-16DE5D9E3B57}" type="slidenum">
              <a:t>1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程安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9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的仿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出仿真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术公司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91080" cy="3832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53000" y="1676520"/>
            <a:ext cx="84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main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主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2440" y="3352680"/>
            <a:ext cx="116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tructur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结构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process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处理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0" y="5257800"/>
            <a:ext cx="202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ignal&amp;variabl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信号和变量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880" y="57913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dataflow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数据流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8000" y="1523880"/>
            <a:ext cx="89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ourc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源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1616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Wave&amp;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波形和列表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828800"/>
            <a:ext cx="6858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429000"/>
            <a:ext cx="304920" cy="763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495680"/>
            <a:ext cx="30492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24080" y="3504960"/>
            <a:ext cx="76212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4080" y="4648320"/>
            <a:ext cx="7621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81320" y="1752480"/>
            <a:ext cx="685800" cy="5335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781680" y="365760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81680" y="4114800"/>
            <a:ext cx="4572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62520" y="4952520"/>
            <a:ext cx="68580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8122-2B6C-473B-8E43-ABB6ADFEE257}" type="slidenum">
              <a:t>11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现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互式的命令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唯一的界面是控制台的命令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用户界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接受菜单输入和命令行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程主要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运行批处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6839-7D84-4099-9031-DE2868A74377}" type="slidenum">
              <a:t>12</a:t>
            </a:fld>
          </a:p>
        </p:txBody>
      </p:sp>
    </p:spTree>
  </p:cSld>
  <p:transition advTm="18000">
    <p:random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仿真步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9720" y="1204920"/>
            <a:ext cx="834732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映射库到物理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译源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必须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5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E443-0517-4DBB-B81D-8D7414B7CE52}" type="slidenum">
              <a:t>13</a:t>
            </a:fld>
          </a:p>
        </p:txBody>
      </p:sp>
    </p:spTree>
  </p:cSld>
  <p:transition advTm="17000"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7280" y="3352680"/>
            <a:ext cx="666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lib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库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7941-658C-4577-AB9F-B0FCBE5EAE1B}" type="slidenum">
              <a:t>14</a:t>
            </a:fld>
          </a:p>
        </p:txBody>
      </p:sp>
    </p:spTree>
  </p:cSld>
  <p:transition advTm="20000">
    <p:random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9720" y="1204920"/>
            <a:ext cx="8347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编译设计单元的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被编译到库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当前被编译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前必须建立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编译只允许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能被当前编译引用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编译期间允许多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句引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B663-F4A7-4660-BF36-B04497F88605}" type="slidenum">
              <a:t>15</a:t>
            </a:fld>
          </a:p>
        </p:txBody>
      </p:sp>
    </p:spTree>
  </p:cSld>
  <p:transition advTm="22000">
    <p:random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219320"/>
            <a:ext cx="40500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特定的库中必须有唯一的名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Decla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声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Defined Primitive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定义原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1760" y="1233360"/>
            <a:ext cx="4049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相同的库里单元可以用一个普通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次要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E2FC-9058-4113-98CF-3BC0D6479210}" type="slidenum">
              <a:t>16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x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学者不要去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可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_1164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预编译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sy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算法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先确定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78C0-B4B2-40D3-B9EB-8AA061C7E9C1}" type="slidenum">
              <a:t>17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li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305928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值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1680" y="1447920"/>
            <a:ext cx="1765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_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8480" y="1828800"/>
            <a:ext cx="67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6280" y="2514600"/>
            <a:ext cx="2218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erilog_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1720" y="2514600"/>
            <a:ext cx="1585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hdl_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60480" y="1828800"/>
            <a:ext cx="712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95560" y="2971800"/>
            <a:ext cx="1499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rimary.v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62080" y="2971800"/>
            <a:ext cx="2084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67080" y="1676520"/>
            <a:ext cx="106704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29200" y="1828800"/>
            <a:ext cx="5335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1828800"/>
            <a:ext cx="3049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676520"/>
            <a:ext cx="106668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4956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dat -    Verilog modul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vhd -   Verilo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端口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陈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dat - VHD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系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log.asm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asm –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执行代码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E6CA-F0BD-4D5C-96CA-6C6A39B9EB71}" type="slidenum">
              <a:t>18</a:t>
            </a:fld>
          </a:p>
        </p:txBody>
      </p:sp>
    </p:spTree>
  </p:cSld>
  <p:transition advTm="61000">
    <p:random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42900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6400800" y="2514600"/>
            <a:ext cx="25146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76560" y="2971800"/>
            <a:ext cx="1600200" cy="3049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43040" y="2971800"/>
            <a:ext cx="2133720" cy="914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886200"/>
            <a:ext cx="22100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子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7200" y="5715000"/>
            <a:ext cx="170928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lpm_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F565-1ACE-4C31-85B3-616FFE53FBBF}" type="slidenum">
              <a:t>19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0800000">
            <a:off x="6400800" y="5562360"/>
            <a:ext cx="1295280" cy="152280"/>
          </a:xfrm>
          <a:prstGeom prst="leftArrow">
            <a:avLst>
              <a:gd name="adj1" fmla="val 50000"/>
              <a:gd name="adj2" fmla="val 55249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562720" y="4952880"/>
            <a:ext cx="2133360" cy="152640"/>
          </a:xfrm>
          <a:prstGeom prst="leftArrow">
            <a:avLst>
              <a:gd name="adj1" fmla="val 50000"/>
              <a:gd name="adj2" fmla="val 9078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4800240" y="4343040"/>
            <a:ext cx="2895480" cy="152280"/>
          </a:xfrm>
          <a:prstGeom prst="leftArrow">
            <a:avLst>
              <a:gd name="adj1" fmla="val 50000"/>
              <a:gd name="adj2" fmla="val 123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962160" y="3733560"/>
            <a:ext cx="3733560" cy="152280"/>
          </a:xfrm>
          <a:prstGeom prst="leftArrow">
            <a:avLst>
              <a:gd name="adj1" fmla="val 50000"/>
              <a:gd name="adj2" fmla="val 15925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276720" y="2513880"/>
            <a:ext cx="4419360" cy="152280"/>
          </a:xfrm>
          <a:prstGeom prst="leftArrow">
            <a:avLst>
              <a:gd name="adj1" fmla="val 50000"/>
              <a:gd name="adj2" fmla="val 188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5791320"/>
            <a:ext cx="152280" cy="380880"/>
          </a:xfrm>
          <a:prstGeom prst="downArrow">
            <a:avLst>
              <a:gd name="adj1" fmla="val 50000"/>
              <a:gd name="adj2" fmla="val 1250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1676520"/>
            <a:ext cx="152640" cy="761760"/>
          </a:xfrm>
          <a:prstGeom prst="upArrow">
            <a:avLst>
              <a:gd name="adj1" fmla="val 50000"/>
              <a:gd name="adj2" fmla="val 16667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00200"/>
            <a:ext cx="3504960" cy="152280"/>
          </a:xfrm>
          <a:prstGeom prst="leftArrow">
            <a:avLst>
              <a:gd name="adj1" fmla="val 50000"/>
              <a:gd name="adj2" fmla="val 14950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81080"/>
            <a:ext cx="152280" cy="457200"/>
          </a:xfrm>
          <a:prstGeom prst="downArrow">
            <a:avLst>
              <a:gd name="adj1" fmla="val 50000"/>
              <a:gd name="adj2" fmla="val 7387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119160" cy="380880"/>
          </a:xfrm>
          <a:prstGeom prst="downArrow">
            <a:avLst>
              <a:gd name="adj1" fmla="val 50000"/>
              <a:gd name="adj2" fmla="val 15983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181480"/>
            <a:ext cx="152280" cy="292320"/>
          </a:xfrm>
          <a:prstGeom prst="downArrow">
            <a:avLst>
              <a:gd name="adj1" fmla="val 50000"/>
              <a:gd name="adj2" fmla="val 9599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74320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35268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962520"/>
            <a:ext cx="152640" cy="291960"/>
          </a:xfrm>
          <a:prstGeom prst="downArrow">
            <a:avLst>
              <a:gd name="adj1" fmla="val 50000"/>
              <a:gd name="adj2" fmla="val 9564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152280" cy="291960"/>
          </a:xfrm>
          <a:prstGeom prst="downArrow">
            <a:avLst>
              <a:gd name="adj1" fmla="val 50000"/>
              <a:gd name="adj2" fmla="val 958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194520"/>
            <a:ext cx="2270160" cy="291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8280" y="1241280"/>
            <a:ext cx="2197080" cy="292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1600" y="617220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3920" y="121932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438280"/>
            <a:ext cx="152640" cy="1371600"/>
          </a:xfrm>
          <a:prstGeom prst="upArrow">
            <a:avLst>
              <a:gd name="adj1" fmla="val 50000"/>
              <a:gd name="adj2" fmla="val 31446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3809880"/>
            <a:ext cx="152640" cy="533520"/>
          </a:xfrm>
          <a:prstGeom prst="upArrow">
            <a:avLst>
              <a:gd name="adj1" fmla="val 50000"/>
              <a:gd name="adj2" fmla="val 5976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345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4440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0538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综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2728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门级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6633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局和布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826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4921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上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499760"/>
            <a:ext cx="152388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改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343400"/>
            <a:ext cx="152640" cy="685800"/>
          </a:xfrm>
          <a:prstGeom prst="upArrow">
            <a:avLst>
              <a:gd name="adj1" fmla="val 50000"/>
              <a:gd name="adj2" fmla="val 76816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029200"/>
            <a:ext cx="152640" cy="609480"/>
          </a:xfrm>
          <a:prstGeom prst="upArrow">
            <a:avLst>
              <a:gd name="adj1" fmla="val 50000"/>
              <a:gd name="adj2" fmla="val 6826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1524240" cy="152280"/>
          </a:xfrm>
          <a:prstGeom prst="leftArrow">
            <a:avLst>
              <a:gd name="adj1" fmla="val 50000"/>
              <a:gd name="adj2" fmla="val 6501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74F1-6D93-4AE7-AC97-1771E8174516}" type="slidenum">
              <a:t>2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映射一个逻辑库名到库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库路径里的文件必须已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相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绝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软件路径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库在工作目录里没有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B7EE-1C5B-4B0C-BCE5-967B120D645E}" type="slidenum">
              <a:t>20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486400" y="1828800"/>
          <a:ext cx="3448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828800"/>
                    <a:ext cx="344808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ogical_name&gt; &lt;directory_pa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7339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体的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map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_work c:/my_design/my_lib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5EBD-8B31-4051-96AD-ADF7A4BBD88A}" type="slidenum">
              <a:t>21</a:t>
            </a:fld>
          </a:p>
        </p:txBody>
      </p:sp>
    </p:spTree>
  </p:cSld>
  <p:transition advTm="29000">
    <p:random/>
    <p:sndAc>
      <p:stSnd>
        <p:snd r:embed="rId3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50532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09680" y="1981080"/>
          <a:ext cx="313380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313380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95880" y="1905120"/>
            <a:ext cx="20574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map to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85840" y="2362320"/>
            <a:ext cx="2133720" cy="10666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12956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浏览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120" y="3733920"/>
            <a:ext cx="114300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895480"/>
            <a:ext cx="1523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200400"/>
            <a:ext cx="274320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这个命令可映射一个设计单元已经预编译的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4560" y="5486400"/>
            <a:ext cx="415980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map lpm_sim c:/Quartus/library/l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89A5-C1B0-4420-9E7E-1282F967C436}" type="slidenum">
              <a:t>22</a:t>
            </a:fld>
          </a:p>
        </p:txBody>
      </p:sp>
    </p:spTree>
  </p:cSld>
  <p:transition advTm="30000">
    <p:random/>
    <p:sndAc>
      <p:stSnd>
        <p:snd r:embed="rId4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1143000"/>
          <a:ext cx="35053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3505320" cy="20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981080"/>
            <a:ext cx="25146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and a logical mapping to 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09680" y="1905120"/>
          <a:ext cx="3124440" cy="26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905120"/>
                    <a:ext cx="3124440" cy="269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>
            <a:off x="3809520" y="2362320"/>
            <a:ext cx="2210040" cy="990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76720"/>
            <a:ext cx="190476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目录然后为它设立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480" y="5234040"/>
            <a:ext cx="2457360" cy="64260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vmap my_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286000"/>
            <a:ext cx="21337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D2EF-B7B9-41B3-B80C-323096B92F12}" type="slidenum">
              <a:t>23</a:t>
            </a:fld>
          </a:p>
        </p:txBody>
      </p:sp>
    </p:spTree>
  </p:cSld>
  <p:transition advTm="42000">
    <p:random/>
    <p:sndAc>
      <p:stSnd>
        <p:snd r:embed="rId5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44808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48783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6324480" y="2895480"/>
            <a:ext cx="1981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按钮建立一个新的库和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4572000"/>
            <a:ext cx="609480" cy="6094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440" y="3276720"/>
            <a:ext cx="3352680" cy="1523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DB6C-272D-471B-AD63-02C88D85AFDD}" type="slidenum">
              <a:t>24</a:t>
            </a:fld>
          </a:p>
        </p:txBody>
      </p:sp>
    </p:spTree>
  </p:cSld>
  <p:transition advTm="9000">
    <p:random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的库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指定的库中删除一个完整的库或者一个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Library Brow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库或者映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设计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 &lt;design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指定库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4E05-8E68-4573-8718-6B4DBDD80312}" type="slidenum">
              <a:t>25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54568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order/dependencies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缺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Defaul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设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第一个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工作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com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58672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AB9B-0BCB-4AA0-9116-5BC315B8215B}" type="slidenum">
              <a:t>26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Design Units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bef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Declaration before Packag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units must compiled before being 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before Entity/Architectures us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/Configurations before Architectures referen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s are compil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15D6-4AF6-49E2-9C86-4DCC28897CE2}" type="slidenum">
              <a:t>27</a:t>
            </a:fld>
          </a:p>
        </p:txBody>
      </p:sp>
    </p:spTree>
  </p:cSld>
  <p:transition advTm="1000"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erilo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的顺序或者编辑的顺序不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增量式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51055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2E02-DA4B-45EB-AFEF-1B1A853ED9F7}" type="slidenum">
              <a:t>28</a:t>
            </a:fld>
          </a:p>
        </p:txBody>
      </p:sp>
    </p:spTree>
  </p:cSld>
  <p:transition advTm="25000">
    <p:random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量编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被改变的设计单元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或者手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动更有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在命令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in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例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仿真时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些错误在编辑时将不能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的模块没有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端口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F21D-FCEA-4CC9-BED1-6371790EDF62}" type="slidenum">
              <a:t>29</a:t>
            </a:fld>
          </a:p>
        </p:txBody>
      </p:sp>
    </p:spTree>
  </p:cSld>
  <p:transition advTm="31000"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的行为或结构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逻辑模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使用时间延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设计翻译成原始的目标工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2360" indent="-158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适的面积要求和性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局和布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映射设计到目标工艺里指定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的布线资源应被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E735-FCCB-4D4F-B2CE-139E6FD1206B}" type="slidenum">
              <a:t>3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8148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1004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934320" y="2895480"/>
            <a:ext cx="19810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亮一个或多个文件并点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124080" y="3276720"/>
            <a:ext cx="38102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3276720"/>
            <a:ext cx="68580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C716-1218-4EE8-8470-FA44E38CCBC2}" type="slidenum">
              <a:t>30</a:t>
            </a:fld>
          </a:p>
        </p:txBody>
      </p:sp>
    </p:spTree>
  </p:cSld>
  <p:transition advTm="12000">
    <p:random/>
    <p:sndAc>
      <p:stSnd>
        <p:snd r:embed="rId3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信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67080" y="1143000"/>
          <a:ext cx="47293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729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5810400" cy="3005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295280" y="1600200"/>
            <a:ext cx="19051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错误信息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zh-CN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981080"/>
            <a:ext cx="3657600" cy="5335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828800"/>
            <a:ext cx="99072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1148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信息上双击，引起错误的代码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被点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47760" y="4419720"/>
            <a:ext cx="3352680" cy="7617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EB18-FD89-447B-8A49-EAEED833966B}" type="slidenum">
              <a:t>31</a:t>
            </a:fld>
          </a:p>
        </p:txBody>
      </p:sp>
    </p:spTree>
  </p:cSld>
  <p:transition advTm="0">
    <p:random/>
    <p:sndAc>
      <p:stSnd>
        <p:snd r:embed="rId4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&lt;top_level_desig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entity top_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能选择一个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level1 top_leve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23F7-BF69-4C0A-B3CD-B95618FF64F9}" type="slidenum">
              <a:t>32</a:t>
            </a:fld>
          </a:p>
        </p:txBody>
      </p:sp>
    </p:spTree>
  </p:cSld>
  <p:transition advTm="35000">
    <p:random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3912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4097160" cy="34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715000" y="1447920"/>
            <a:ext cx="20574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仿真器的分辨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2362320"/>
            <a:ext cx="838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200400"/>
            <a:ext cx="20574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顶级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entity/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1600200"/>
            <a:ext cx="2438280" cy="1371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00600" y="2514600"/>
            <a:ext cx="175248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038480" y="3429000"/>
            <a:ext cx="28958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3E33-7B0D-44C0-889B-CFD1EF03C77D}" type="slidenum">
              <a:t>33</a:t>
            </a:fld>
          </a:p>
        </p:txBody>
      </p:sp>
    </p:spTree>
  </p:cSld>
  <p:transition advTm="19000">
    <p:random/>
    <p:sndAc>
      <p:stSnd>
        <p:snd r:embed="rId3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19720" y="1523880"/>
          <a:ext cx="4333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333680" cy="3773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124080" y="2895480"/>
          <a:ext cx="45529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95480"/>
                    <a:ext cx="4552920" cy="16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14400" y="2286000"/>
            <a:ext cx="18288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3434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使用定时值的等级的类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如果不是顶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514600"/>
            <a:ext cx="45720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666880" y="3733920"/>
            <a:ext cx="152424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A9F1-DFBC-4038-90A0-8C76D139CD33}" type="slidenum">
              <a:t>34</a:t>
            </a:fld>
          </a:p>
        </p:txBody>
      </p:sp>
    </p:spTree>
  </p:cSld>
  <p:transition advTm="34000">
    <p:random/>
    <p:sndAc>
      <p:stSnd>
        <p:snd r:embed="rId5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的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仿真的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以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, min, h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用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使用整个设计中的最小的时间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dfmin | -sdftyp | -sdf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stance&gt;=&lt;sdf_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实例名也是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没有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DF39-72DB-4B55-A15A-ACAD33E97E86}" type="slidenum">
              <a:t>3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6183360" cy="19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ime_step&gt; &lt;time_unit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的时间长度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6B0E-8584-4297-BB3C-AC815A52E504}" type="slidenum">
              <a:t>36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0" y="1905120"/>
          <a:ext cx="3249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3249720" cy="184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066680" y="2666880"/>
            <a:ext cx="22860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量就可以执行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352680" y="2743200"/>
            <a:ext cx="25909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267080"/>
            <a:ext cx="27432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tar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装任何已改动的设计元素并把仿真时间设为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re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876920" y="3581280"/>
            <a:ext cx="1143000" cy="10670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9151-9EB6-4969-B998-B27F7434C09A}" type="slidenum">
              <a:t>37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选的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&lt;timesteps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运行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the next HD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上次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断点后的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仿真器直到没有其他的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EC5B-2F7F-4AFE-B13F-5F13EB137762}" type="slidenum">
              <a:t>38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time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运行仿真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step 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A21D-95C2-49BC-8890-23DC183C0C45}" type="slidenum">
              <a:t>39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门级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设计一旦编程或配置将能在目标工艺里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验证合乎性能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图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版图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板编程和测试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8C99-47F3-4B7D-A2D2-E7A0AFE0697B}" type="slidenum">
              <a:t>4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器激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常复杂的仿真 交互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简单的模块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从命令控制台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CC2F-2B93-4C87-A18E-AA1AB81E23B8}" type="slidenum">
              <a:t>40</a:t>
            </a:fld>
          </a:p>
        </p:txBody>
      </p:sp>
    </p:spTree>
  </p:cSld>
  <p:transition advTm="20000">
    <p:random/>
    <p:sndAc>
      <p:stSnd>
        <p:snd r:embed="rId1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用户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网予以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规语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tem_name&gt; &lt;value&gt; &lt;time&gt;, &lt;value&gt; &lt;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item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激励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 scalar or one-dimensional array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 indexed array, array slice, or record sub-element as long as its of the abov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wildcards as long as only one match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5856-6F5A-4219-A8A5-0530F362CA88}" type="slidenum">
              <a:t>41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强制的项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适合项的数据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值的时间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于当前的仿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charac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绝对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单位能被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是仿真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3356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DFCC-9782-413A-A7E4-3534E7330C5D}" type="slidenum">
              <a:t>42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r[epea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重复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anc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后取消强制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CA77-C007-4202-8869-2F3A1E3595EA}" type="slidenum">
              <a:t>43</a:t>
            </a:fld>
          </a:p>
        </p:txBody>
      </p:sp>
    </p:spTree>
  </p:cSld>
  <p:transition advTm="7000">
    <p:random/>
    <p:sndAc>
      <p:stSnd>
        <p:snd r:embed="rId1" name="typ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1 01XZ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X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2 16#4F @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仿真启动后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辨率在仿真启动时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 0 0, 1 20 -repeat 50 -cancel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重复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发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2 1 10 ns, 0 {20 ns} -r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上一个例子相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面的时间单位表达式必须放在大括号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1BF1-DD19-4B1A-BAF1-4A072C6C7D44}" type="slidenum">
              <a:t>44</a:t>
            </a:fld>
          </a:p>
        </p:txBody>
      </p:sp>
    </p:spTree>
  </p:cSld>
  <p:transition advTm="27000">
    <p:random/>
    <p:sndAc>
      <p:stSnd>
        <p:snd r:embed="rId1" name="typ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完成仿真步骤的宏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制仿真激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在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里被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Macro -&gt;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)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filename&gt;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调用其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22640" y="2895480"/>
            <a:ext cx="1783800" cy="2040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list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run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A0AB-158F-44E3-A936-80142060EC8C}" type="slidenum">
              <a:t>4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73356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-hex 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r 0 0, 1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load 1 0, 0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data 16#A5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5000" y="1752480"/>
            <a:ext cx="1783800" cy="155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240" y="135576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_sim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25000" y="1371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93E1-D4BF-4DBC-9B78-E4C000E899E0}" type="slidenum">
              <a:t>46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BA6B-9AE2-448A-86B6-006A233F2D77}" type="slidenum">
              <a:t>47</a:t>
            </a:fld>
          </a:p>
        </p:txBody>
      </p:sp>
    </p:spTree>
  </p:cSld>
  <p:transition advTm="2000">
    <p:random/>
    <p:sndAc>
      <p:stSnd>
        <p:snd r:embed="rId2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九个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main, structure, source, signals, process, variables, dataflow, wave,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0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任何窗口的多个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窗口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鼠标左键，这些项能被从一个窗口拖和放到另一个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可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Dataflow, List, Signals, Source, Structure, 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窗口拖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把它们放到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2895480"/>
            <a:ext cx="5486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注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窗口只允许存在一个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因为这个窗口控制仿真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E975-E834-441D-BE21-E4B29C34CF52}" type="slidenum">
              <a:t>48</a:t>
            </a:fld>
          </a:p>
        </p:txBody>
      </p:sp>
    </p:spTree>
  </p:cSld>
  <p:transition advTm="32000">
    <p:random/>
    <p:sndAc>
      <p:stSnd>
        <p:snd r:embed="rId1" name="typ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204920"/>
            <a:ext cx="8488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设计加载前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浏览帮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源代码而不用调用一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加载后显示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告诉我们仿真器的行为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91120" y="3352680"/>
          <a:ext cx="46958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352680"/>
                    <a:ext cx="4695840" cy="2667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00EA-75A3-4770-B700-8FE134CE3ED5}" type="slidenum">
              <a:t>49</a:t>
            </a:fld>
          </a:p>
        </p:txBody>
      </p:sp>
    </p:spTree>
  </p:cSld>
  <p:transition advTm="0">
    <p:random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752480" cy="17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E97F-0CFE-4AC1-8AEE-35F25C9F9F46}" type="slidenum">
              <a:t>5</a:t>
            </a:fld>
          </a:p>
        </p:txBody>
      </p:sp>
    </p:spTree>
  </p:cSld>
  <p:transition advTm="4000">
    <p:random/>
    <p:sndAc>
      <p:stSnd>
        <p:snd r:embed="rId2" name="typ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入新库或编辑已有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浏览和编辑库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1814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A832-3DCB-45FC-A8FC-ED08046EFBD5}" type="slidenum">
              <a:t>50</a:t>
            </a:fld>
          </a:p>
        </p:txBody>
      </p:sp>
    </p:spTree>
  </p:cSld>
  <p:transition advTm="15000">
    <p:random/>
    <p:sndAc>
      <p:stSnd>
        <p:snd r:embed="rId2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641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选择要加载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iers of 1, 10, and 100 each tim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顶级设计单元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顶级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构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76320" y="51814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    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6248520"/>
            <a:ext cx="38862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library_name&gt; &lt;top_level_design_u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204A-7480-4FEB-8C6C-93FB2D3ADCE0}" type="slidenum">
              <a:t>51</a:t>
            </a:fld>
          </a:p>
        </p:txBody>
      </p:sp>
    </p:spTree>
  </p:cSld>
  <p:transition advTm="35000">
    <p:random/>
    <p:sndAc>
      <p:stSnd>
        <p:snd r:embed="rId2" name="typ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Options Menu -&gt; Simul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38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BC8A-926C-45EE-A58E-41CF27741B8A}" type="slidenum">
              <a:t>52</a:t>
            </a:fld>
          </a:p>
        </p:txBody>
      </p:sp>
    </p:spTree>
  </p:cSld>
  <p:transition advTm="18000">
    <p:random/>
    <p:sndAc>
      <p:stSnd>
        <p:snd r:embed="rId2" name="type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tru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的结构多层浏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Package, component instantiation, generate and block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modu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named fork, named begin, task,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ion label, entity/module,                                   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为当前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pd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21360" y="1676520"/>
            <a:ext cx="27608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78DA-2E56-4EE0-8471-7A4985D4948F}" type="slidenum">
              <a:t>53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3469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的控制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-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识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任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的编辑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和重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和常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3657600" y="632448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014E-B9EA-4179-93DC-77E32E55012E}" type="slidenum">
              <a:t>54</a:t>
            </a:fld>
          </a:p>
        </p:txBody>
      </p:sp>
    </p:spTree>
  </p:cSld>
  <p:transition advTm="22000">
    <p:random/>
    <p:sndAc>
      <p:stSnd>
        <p:snd r:embed="rId2" name="type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当前仿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"/>
          <p:cNvSpPr/>
          <p:nvPr/>
        </p:nvSpPr>
        <p:spPr>
          <a:xfrm>
            <a:off x="990720" y="4114800"/>
            <a:ext cx="266688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0128"/>
                </a:solidFill>
                <a:latin typeface="Arial"/>
              </a:rPr>
              <a:t>1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亮信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寄存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右击鼠标并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Object Menu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Examine/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352680" y="4572000"/>
            <a:ext cx="198144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352680" y="4876560"/>
            <a:ext cx="2362320" cy="759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758A-E8A9-4C89-8AA9-6E3A1B8B6F4E}" type="slidenum">
              <a:t>55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外部和内部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all processes scheduled for execution during the current simula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names of all processes in the region selected in the Structur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81952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DEE2-5AB7-4A4B-9C80-8A1FC8E538AA}" type="slidenum">
              <a:t>56</a:t>
            </a:fld>
          </a:p>
        </p:txBody>
      </p:sp>
    </p:spTree>
  </p:cSld>
  <p:transition advTm="25000">
    <p:random/>
    <p:sndAc>
      <p:stSnd>
        <p:snd r:embed="rId2" name="type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Rea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cheduled to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Wa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理正等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改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等待超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Do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has executed a VHDL wait statement without a time-out or sensitiv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2280" y="1295280"/>
          <a:ext cx="281952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2819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2598-1914-4FCE-BDA3-C3E2854590F8}" type="slidenum">
              <a:t>57</a:t>
            </a:fld>
          </a:p>
        </p:txBody>
      </p:sp>
    </p:spTree>
  </p:cSld>
  <p:transition advTm="18000">
    <p:random/>
    <p:sndAc>
      <p:stSnd>
        <p:snd r:embed="rId3" name="type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ignal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的当前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的名称和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升序，降序或声明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和已命名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浏览选择信号类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356520" y="2666880"/>
            <a:ext cx="2552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0AC6-C46D-463A-8EB3-78E1C6EA93AA}" type="slidenum">
              <a:t>58</a:t>
            </a:fld>
          </a:p>
        </p:txBody>
      </p:sp>
    </p:spTree>
  </p:cSld>
  <p:transition advTm="27000">
    <p:random/>
    <p:sndAc>
      <p:stSnd>
        <p:snd r:embed="rId2" name="type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的图形描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线网在窗口中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drive signal or net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read the signal or are triggered by the net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1C24-8EC3-4482-B529-AD14BA5D545A}" type="slidenum">
              <a:t>59</a:t>
            </a:fld>
          </a:p>
        </p:txBody>
      </p:sp>
    </p:spTree>
  </p:cSld>
  <p:transition advTm="21000">
    <p:random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59547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公司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业上最通用的仿真器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本允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 u="sng">
                <a:solidFill>
                  <a:srgbClr val="fc0128"/>
                </a:solidFill>
                <a:uFillTx/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4400640"/>
            <a:ext cx="2286000" cy="4572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  <p:sndAc>
      <p:stSnd>
        <p:snd r:embed="rId3" name="type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read by or nets that trigger the process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or nets driven by the process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Double clicking update of sign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65DE-B8D4-4B9C-949E-A243979D73C3}" type="slidenum">
              <a:t>60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波形浏览仿真结果的图形化的历史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寄存器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命名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更多的逻辑信号多个波形窗口用于更多的逻辑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信号和向量的基数已方便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印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5259600" cy="2616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71800" y="4049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468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缩放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4680" y="458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格式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4680" y="511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个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3520" y="6045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强大的编辑和查找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5000" y="3530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64771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7A32-77CF-4A01-B739-6FD96FE3F081}" type="slidenum">
              <a:t>61</a:t>
            </a:fld>
          </a:p>
        </p:txBody>
      </p:sp>
    </p:spTree>
  </p:cSld>
  <p:transition advTm="116000">
    <p:random/>
    <p:sndAc>
      <p:stSnd>
        <p:snd r:embed="rId2" name="type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表格显示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和寄存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窗口或到这个窗口“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功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用户定义的总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dit&gt;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触发和选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List - Tabular, Event or T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- Add, Delete or 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7204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"/>
          <p:cNvSpPr/>
          <p:nvPr/>
        </p:nvSpPr>
        <p:spPr>
          <a:xfrm>
            <a:off x="3657600" y="64008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3D7-F5D8-4929-B7C7-7BFC545BA037}" type="slidenum">
              <a:t>62</a:t>
            </a:fld>
          </a:p>
        </p:txBody>
      </p:sp>
    </p:spTree>
  </p:cSld>
  <p:transition advTm="10000">
    <p:random/>
    <p:sndAc>
      <p:stSnd>
        <p:snd r:embed="rId2" name="type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00040" y="1204560"/>
            <a:ext cx="57150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neric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当前过程的路径被显示在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层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升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序或声明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改变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变量或层中的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9480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3" name=""/>
          <p:cNvSpPr/>
          <p:nvPr/>
        </p:nvSpPr>
        <p:spPr>
          <a:xfrm>
            <a:off x="3657600" y="61722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9F9F-EBAD-4A51-AFB1-0BEB0745561D}" type="slidenum">
              <a:t>63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动更新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flow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到这个窗口的中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, Signals, Source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会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, Signals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选择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是唯一被更新的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从你的设计结构中层次浏览中的一个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将自动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DC7F-5215-4A30-9BFC-0DFD3B7D03A4}" type="slidenum">
              <a:t>64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找名称或搜索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两个窗口外其他窗口都允许用户通过菜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Fi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项名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没有这个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通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ear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能被排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升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降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声明顺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项按被声明的顺序排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BB35-541A-416D-A4BB-86439C39EA6C}" type="slidenum">
              <a:t>65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个窗口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主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ew&gt;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建立额外的相同窗口的副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6A49-3580-4D19-8754-10E5D5F9E607}" type="slidenum">
              <a:t>66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调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时候调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失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或意外的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试能力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监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5686-A13B-4099-9A01-870CC9AAF576}" type="slidenum">
              <a:t>67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视更多的信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跟踪加入附加的信号或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, Signal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 “拖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39E3-7DAB-4312-9E13-3E09CD34B81D}" type="slidenum">
              <a:t>6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两种类型的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源代码窗口设置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gles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次点击删除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断点数量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件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&lt;condition&gt; &lt;ac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{b=1 and c/=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和寄存器一起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 {if{$now/=100}then{cont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F2A9-E67A-45D8-9645-9F4444F03B10}" type="slidenum">
              <a:t>69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许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是不同时许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者能立刻混合仿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要的版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所有功能连同附加功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30480"/>
            <a:ext cx="2671560" cy="229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68452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FBEE-DF7E-46C9-8163-15079E8F2975}" type="slidenum">
              <a:t>7</a:t>
            </a:fld>
          </a:p>
        </p:txBody>
      </p:sp>
    </p:spTree>
  </p:cSld>
  <p:transition advTm="11000">
    <p:random/>
    <p:sndAc>
      <p:stSnd>
        <p:snd r:embed="rId3" name="type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目录和子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你保留当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项目目录里保存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P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仍然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-&gt; New / Open /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F233-E513-42D0-A4FE-CE00A4E3A63A}" type="slidenum">
              <a:t>70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用户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目录一个缺省文件被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编译器和仿真器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有初始信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文件的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其他缺省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下列顺序搜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 called MODELSIM which points directly to the modelsim.ini file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file called modelsim.ini located in the current working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安装树目录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64A1-18A6-4512-BFDC-23722D691CC4}" type="slidenum">
              <a:t>71</a:t>
            </a:fld>
          </a:p>
        </p:txBody>
      </p:sp>
    </p:spTree>
  </p:cSld>
  <p:transition advTm="47000">
    <p:random/>
    <p:sndAc>
      <p:stSnd>
        <p:snd r:embed="rId1" name="type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up.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脚本自动执行通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例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.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象这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av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用一个启动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”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行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提供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Startup = do /path ..../startup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CC81-5A35-4821-855E-378BF3053A31}" type="slidenum">
              <a:t>72</a:t>
            </a:fld>
          </a:p>
        </p:txBody>
      </p:sp>
    </p:spTree>
  </p:cSld>
  <p:transition advTm="21000">
    <p:random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E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完全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1364-’95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 1.0 -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2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‘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易用的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用的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C14F-78F4-4F28-BFAD-BECF9E07F7FA}" type="slidenum">
              <a:t>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5320" y="1752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5315040"/>
            <a:ext cx="2286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1FCA-A9E7-41AF-A45A-A0934A5ECF2F}" type="slidenum">
              <a:t>9</a:t>
            </a:fld>
          </a:p>
        </p:txBody>
      </p:sp>
    </p:spTree>
  </p:cSld>
  <p:transition advTm="6000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1:08:45Z</dcterms:created>
  <dc:creator>张冬平</dc:creator>
  <dc:description/>
  <dc:language>en-US</dc:language>
  <cp:lastModifiedBy>wuxinhua</cp:lastModifiedBy>
  <cp:lastPrinted>2000-08-02T19:25:09Z</cp:lastPrinted>
  <dcterms:modified xsi:type="dcterms:W3CDTF">2005-05-30T03:28:24Z</dcterms:modified>
  <cp:revision>473</cp:revision>
  <dc:subject>ver. 2</dc:subject>
  <dc:title>Modelsim中文教程</dc:title>
</cp:coreProperties>
</file>