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3D7-EF4F-4258-A32C-72E32CB5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5DE-F122-412D-A287-708A52EA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C6A-8592-4D0B-96C0-4BC7320F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B5E-4A93-406E-A5DA-791D8AF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755-C2A0-4BD7-92F7-8521105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B4F-6057-4B2F-A20E-A512AF7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3C8-B3E4-4C28-A1C8-DFBAE131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465-E69F-4F83-B8C3-274BC1DA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A9F-4029-45A8-9730-286C2BD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638-413D-414A-9E3E-C0B5F75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10E-A286-492D-B82A-F022AFD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A90-0EAA-448B-9DAA-3FE91E9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766-4D18-4512-B58C-22FFA60F49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幸福的种子14-没有不方便-01"/>
          <p:cNvPicPr/>
          <p:nvPr/>
        </p:nvPicPr>
        <p:blipFill>
          <a:blip r:embed="rId1"/>
          <a:srcRect l="0" t="0" r="-4" b="0"/>
          <a:stretch/>
        </p:blipFill>
        <p:spPr>
          <a:xfrm>
            <a:off x="0" y="40968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幸福的种子14-没有不方便-11"/>
          <p:cNvPicPr/>
          <p:nvPr/>
        </p:nvPicPr>
        <p:blipFill>
          <a:blip r:embed="rId1"/>
          <a:stretch/>
        </p:blipFill>
        <p:spPr>
          <a:xfrm>
            <a:off x="0" y="426960"/>
            <a:ext cx="91789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幸福的种子14-没有不方便-12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幸福的种子14-没有不方便-13"/>
          <p:cNvPicPr/>
          <p:nvPr/>
        </p:nvPicPr>
        <p:blipFill>
          <a:blip r:embed="rId1"/>
          <a:srcRect l="0" t="0" r="-27" b="-17"/>
          <a:stretch/>
        </p:blipFill>
        <p:spPr>
          <a:xfrm>
            <a:off x="0" y="48420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幸福的种子14-没有不方便-14"/>
          <p:cNvPicPr/>
          <p:nvPr/>
        </p:nvPicPr>
        <p:blipFill>
          <a:blip r:embed="rId1"/>
          <a:srcRect l="0" t="0" r="-24" b="0"/>
          <a:stretch/>
        </p:blipFill>
        <p:spPr>
          <a:xfrm>
            <a:off x="0" y="374760"/>
            <a:ext cx="91789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幸福的种子14-没有不方便-15"/>
          <p:cNvPicPr/>
          <p:nvPr/>
        </p:nvPicPr>
        <p:blipFill>
          <a:blip r:embed="rId1"/>
          <a:srcRect l="0" t="0" r="-24" b="0"/>
          <a:stretch/>
        </p:blipFill>
        <p:spPr>
          <a:xfrm>
            <a:off x="0" y="374760"/>
            <a:ext cx="91789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幸福的种子14-没有不方便-16"/>
          <p:cNvPicPr/>
          <p:nvPr/>
        </p:nvPicPr>
        <p:blipFill>
          <a:blip r:embed="rId1"/>
          <a:stretch/>
        </p:blipFill>
        <p:spPr>
          <a:xfrm>
            <a:off x="0" y="392040"/>
            <a:ext cx="9178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幸福的种子14-没有不方便-17"/>
          <p:cNvPicPr/>
          <p:nvPr/>
        </p:nvPicPr>
        <p:blipFill>
          <a:blip r:embed="rId1"/>
          <a:stretch/>
        </p:blipFill>
        <p:spPr>
          <a:xfrm>
            <a:off x="0" y="392040"/>
            <a:ext cx="9178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幸福的种子14-没有不方便-18"/>
          <p:cNvPicPr/>
          <p:nvPr/>
        </p:nvPicPr>
        <p:blipFill>
          <a:blip r:embed="rId1"/>
          <a:stretch/>
        </p:blipFill>
        <p:spPr>
          <a:xfrm>
            <a:off x="0" y="353880"/>
            <a:ext cx="91789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幸福的种子14-没有不方便-02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324000" y="9428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幸福的种子14-没有不方便-04"/>
          <p:cNvPicPr/>
          <p:nvPr/>
        </p:nvPicPr>
        <p:blipFill>
          <a:blip r:embed="rId1"/>
          <a:srcRect l="0" t="0" r="-8" b="-43"/>
          <a:stretch/>
        </p:blipFill>
        <p:spPr>
          <a:xfrm>
            <a:off x="0" y="473040"/>
            <a:ext cx="91440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K:/论坛/论坛待整理资料/整理任务/整理中/幸福的种子绘本/幸福的种子14-没有不方便/幸福的种子14-没有不方便-05.jpg幸福的种子14-没有不方便-05"/>
          <p:cNvPicPr/>
          <p:nvPr/>
        </p:nvPicPr>
        <p:blipFill>
          <a:blip r:embed="rId1"/>
          <a:stretch/>
        </p:blipFill>
        <p:spPr>
          <a:xfrm>
            <a:off x="3240" y="450720"/>
            <a:ext cx="91422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K:/论坛/论坛待整理资料/整理任务/整理中/幸福的种子绘本/幸福的种子14-没有不方便/幸福的种子14-没有不方便-06.jpg幸福的种子14-没有不方便-06"/>
          <p:cNvPicPr/>
          <p:nvPr/>
        </p:nvPicPr>
        <p:blipFill>
          <a:blip r:embed="rId1"/>
          <a:stretch/>
        </p:blipFill>
        <p:spPr>
          <a:xfrm>
            <a:off x="-3240" y="450720"/>
            <a:ext cx="91425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K:/论坛/论坛待整理资料/整理任务/整理中/幸福的种子绘本/幸福的种子14-没有不方便/幸福的种子14-没有不方便-07.jpg幸福的种子14-没有不方便-07"/>
          <p:cNvPicPr/>
          <p:nvPr/>
        </p:nvPicPr>
        <p:blipFill>
          <a:blip r:embed="rId1"/>
          <a:stretch/>
        </p:blipFill>
        <p:spPr>
          <a:xfrm>
            <a:off x="36360" y="450720"/>
            <a:ext cx="91425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幸福的种子14-没有不方便-08"/>
          <p:cNvPicPr/>
          <p:nvPr/>
        </p:nvPicPr>
        <p:blipFill>
          <a:blip r:embed="rId1"/>
          <a:srcRect l="0" t="0" r="0" b="-59"/>
          <a:stretch/>
        </p:blipFill>
        <p:spPr>
          <a:xfrm>
            <a:off x="0" y="449280"/>
            <a:ext cx="91789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幸福的种子14-没有不方便-09"/>
          <p:cNvPicPr/>
          <p:nvPr/>
        </p:nvPicPr>
        <p:blipFill>
          <a:blip r:embed="rId1"/>
          <a:stretch/>
        </p:blipFill>
        <p:spPr>
          <a:xfrm>
            <a:off x="0" y="392040"/>
            <a:ext cx="9178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0:53:37Z</dcterms:created>
  <dc:creator/>
  <dc:description>http://www.ypppt.com/</dc:description>
  <cp:keywords>http://www.ypppt.com/</cp:keywords>
  <dc:language>en-US</dc:language>
  <cp:lastModifiedBy>wuhan</cp:lastModifiedBy>
  <dcterms:modified xsi:type="dcterms:W3CDTF">2017-10-20T03:23:16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NXTAG2">
    <vt:lpwstr>0008001421000000000001024120</vt:lpwstr>
  </property>
</Properties>
</file>