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297-C6F9-4B31-AC58-69575BA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848-798F-4E44-AD35-8CCAFDA3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2DC-CFB9-4FFF-BED8-675CC41C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0C5-0B3C-4974-A15D-83B69DA3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88D-0902-485B-BB9B-24B9784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F44-038D-43CB-89DA-C574A9FB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862-C15D-460F-977D-458F789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6AD-41FA-42AA-9407-EB5C77CB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C08-126C-4433-881D-2012C212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DF4-5078-4D63-BDD5-FA4B7D1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A3F-8D2A-48A0-9406-64A919C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627-AD94-464D-9862-25F7554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1D2-306A-4218-8857-DB136CDA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楷体_GB2312"/>
              </a:rPr>
              <a:t>南辕北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tu5.jpg"/>
          <p:cNvPicPr/>
          <p:nvPr/>
        </p:nvPicPr>
        <p:blipFill>
          <a:blip r:embed="rId2"/>
          <a:stretch/>
        </p:blipFill>
        <p:spPr>
          <a:xfrm>
            <a:off x="0" y="1701720"/>
            <a:ext cx="9178920" cy="51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11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寓言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73408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二年级  王会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7800" y="5518080"/>
            <a:ext cx="1546200" cy="12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476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走在路上，遇到他的一位朋友正坐着车向北行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不解地问：“你去楚国应该往南走，怎么反而向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再次诚恳地说：“旅费再多，向北走，无论如何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却固执己见：“你不用担心，我的车夫驾车技术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3033720" cy="238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63640" y="3355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2276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76500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对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97800" y="5518080"/>
            <a:ext cx="1546200" cy="1233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1440" y="476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走在路上，遇到他的一位朋友正坐着车向北行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不解地问：“你去楚国应该往南走，怎么反而向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再次诚恳地说：“旅费再多，向北走，无论如何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却固执己见：“你不用担心，我的车夫驾车技术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11440" y="844560"/>
            <a:ext cx="28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7240" y="1581120"/>
            <a:ext cx="46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季梁不解地问：“你去楚国应该往南走，怎么反而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2840" y="2668680"/>
            <a:ext cx="35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3800" y="3397320"/>
            <a:ext cx="500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季梁再次诚恳地说：“旅费再多，向北走，无论如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朋友却固执己见：“你不用担心，我的车夫驾车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3033720" cy="238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63640" y="3355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2276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105408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对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480000">
            <a:off x="6372000" y="477360"/>
            <a:ext cx="23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细黑"/>
              </a:rPr>
              <a:t>我会合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908840" y="5778360"/>
            <a:ext cx="1235160" cy="107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12400" y="33480"/>
            <a:ext cx="4960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季梁不解地问：“你去楚国应该往南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怎么反而向北奔驰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季梁告诉他：“马虽然好，可这不是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楚国的路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季梁再次诚恳地说：“旅费再多，向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走，无论如何也到不了楚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朋友却固执己见：“你不用担心，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车夫驾车技术非常高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8200" y="4365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虽然———，可———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3800" y="131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862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系的演变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1054080"/>
            <a:ext cx="790236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78706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0160" y="2997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最初字形上面是“爪”，下面是“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5661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x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多义词，如系统，联系，姓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j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动词，结，扣：如“系鞋带”“系扣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256360" cy="521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276720" y="3500280"/>
            <a:ext cx="2698560" cy="314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系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9" name=""/>
          <p:cNvSpPr/>
          <p:nvPr/>
        </p:nvSpPr>
        <p:spPr>
          <a:xfrm>
            <a:off x="934200" y="117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指导书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908840" y="5778360"/>
            <a:ext cx="123516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12400" y="33480"/>
            <a:ext cx="4960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季梁不解地问：“你去楚国应该往南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怎么反而向北奔驰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季梁告诉他：“马虽然好，可这不是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楚国的路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季梁再次诚恳地说：“旅费再多，向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走，无论如何也到不了楚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朋友却固执己见：“你不用担心，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车夫驾车技术非常高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8200" y="4365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虽然———，可———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3800" y="1311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5157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无论如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85080" y="5786280"/>
            <a:ext cx="1306440" cy="103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41120" y="115920"/>
            <a:ext cx="4960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季梁不解地问：“你去楚国应该往南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怎么反而向北奔驰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季梁告诉他：“马虽然好，可这不是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楚国的路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季梁再次诚恳地说：“旅费再多，向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走，无论如何也到不了楚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朋友却固执己见：“你不用担心，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车夫驾车技术非常高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4211640" y="620640"/>
            <a:ext cx="4753080" cy="1943280"/>
          </a:xfrm>
          <a:prstGeom prst="wedgeEllipseCallout">
            <a:avLst>
              <a:gd name="adj1" fmla="val -63291"/>
              <a:gd name="adj2" fmla="val -26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280" y="3214440"/>
            <a:ext cx="626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想对那个去楚国的人说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1197000"/>
            <a:ext cx="22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楷体"/>
                <a:ea typeface="楷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500720" y="566100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Comic Sans MS"/>
                <a:ea typeface="楷体_GB2312"/>
              </a:rPr>
              <a:t>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788000" y="4581360"/>
            <a:ext cx="215640" cy="1079640"/>
          </a:xfrm>
          <a:prstGeom prst="upArrow">
            <a:avLst>
              <a:gd name="adj1" fmla="val 50000"/>
              <a:gd name="adj2" fmla="val 1251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335840" y="1268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辕：车前头架在马身上的两根长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车上的朋友不明白，方向错了，马好、旅费多、车夫技术高，这几个条件越好，他离要去的楚国就会越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椭圆形标注2 266"/>
          <p:cNvSpPr/>
          <p:nvPr/>
        </p:nvSpPr>
        <p:spPr>
          <a:xfrm>
            <a:off x="1908000" y="2349360"/>
            <a:ext cx="5905800" cy="2449800"/>
          </a:xfrm>
          <a:custGeom>
            <a:avLst/>
            <a:gdLst/>
            <a:ahLst/>
            <a:rect l="l" t="t" r="r" b="b"/>
            <a:pathLst>
              <a:path w="4057666" h="2658125">
                <a:moveTo>
                  <a:pt x="2028833" y="0"/>
                </a:moveTo>
                <a:cubicBezTo>
                  <a:pt x="3149327" y="0"/>
                  <a:pt x="4057666" y="545658"/>
                  <a:pt x="4057666" y="1218761"/>
                </a:cubicBezTo>
                <a:cubicBezTo>
                  <a:pt x="4057666" y="1891864"/>
                  <a:pt x="3149327" y="2437522"/>
                  <a:pt x="2028833" y="2437522"/>
                </a:cubicBezTo>
                <a:cubicBezTo>
                  <a:pt x="1888772" y="2437522"/>
                  <a:pt x="1752025" y="2428996"/>
                  <a:pt x="1619953" y="2412761"/>
                </a:cubicBezTo>
                <a:lnTo>
                  <a:pt x="1502103" y="2394558"/>
                </a:lnTo>
                <a:lnTo>
                  <a:pt x="1498446" y="2399240"/>
                </a:lnTo>
                <a:cubicBezTo>
                  <a:pt x="1353615" y="2559983"/>
                  <a:pt x="1089355" y="2790056"/>
                  <a:pt x="641618" y="2562958"/>
                </a:cubicBezTo>
                <a:cubicBezTo>
                  <a:pt x="766718" y="2585900"/>
                  <a:pt x="924771" y="2518290"/>
                  <a:pt x="1020948" y="2363209"/>
                </a:cubicBezTo>
                <a:lnTo>
                  <a:pt x="1056660" y="2288559"/>
                </a:lnTo>
                <a:lnTo>
                  <a:pt x="894493" y="2229377"/>
                </a:lnTo>
                <a:cubicBezTo>
                  <a:pt x="354820" y="2010357"/>
                  <a:pt x="0" y="1639451"/>
                  <a:pt x="0" y="1218761"/>
                </a:cubicBezTo>
                <a:cubicBezTo>
                  <a:pt x="0" y="545658"/>
                  <a:pt x="908339" y="0"/>
                  <a:pt x="2028833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440" y="1440"/>
            <a:ext cx="3348360" cy="2490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40000" y="2567160"/>
            <a:ext cx="5905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学习了这篇课文，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明白了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403280" cy="1163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49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836640"/>
            <a:ext cx="26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寓言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184464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_GB2312"/>
              </a:rPr>
              <a:t>内容短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_GB2312"/>
              </a:rPr>
              <a:t>言简意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_GB2312"/>
              </a:rPr>
              <a:t>道理深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97800" y="5518080"/>
            <a:ext cx="1546200" cy="1233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765000"/>
            <a:ext cx="72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你还知道哪些寓言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拔苗助长、掩耳盗铃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守株待兔、亡羊补牢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狐假虎威、自相矛盾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滥竽充数、买椟还珠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叶公好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7800" y="5518080"/>
            <a:ext cx="1546200" cy="123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1440" y="476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走在路上，遇到他的一位朋友正坐着车向北行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不解地问：“你去楚国应该往南走，怎么反而向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季梁再次诚恳地说：“旅费再多，向北走，无论如何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却固执己见：“你不用担心，我的车夫驾车技术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11440" y="844560"/>
            <a:ext cx="28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37240" y="1581120"/>
            <a:ext cx="46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季梁不解地问：“你去楚国应该往南走，怎么反而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2840" y="2668680"/>
            <a:ext cx="35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73800" y="3397320"/>
            <a:ext cx="500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季梁再次诚恳地说：“旅费再多，向北走，无论如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朋友却固执己见：“你不用担心，我的车夫驾车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_GB2312"/>
              </a:rPr>
              <a:t>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042920" y="1413000"/>
            <a:ext cx="83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把这个故事讲给你的爸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妈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6836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24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900000" y="620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他能到得了楚国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95280" y="162864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楚国在南边，他硬要往北边走。他的马越好，赶车的本领越大，盘缠带得越多，走得越远，就越到不了楚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u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8182080" y="28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7236000" y="3284640"/>
            <a:ext cx="647640" cy="215640"/>
          </a:xfrm>
          <a:prstGeom prst="leftArrow">
            <a:avLst>
              <a:gd name="adj1" fmla="val 50000"/>
              <a:gd name="adj2" fmla="val 7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68360" y="40464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辙：车轮碾过的痕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楷体_GB2312"/>
              </a:rPr>
              <a:t>南辕北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tu5.jpg"/>
          <p:cNvPicPr/>
          <p:nvPr/>
        </p:nvPicPr>
        <p:blipFill>
          <a:blip r:embed="rId2"/>
          <a:stretch/>
        </p:blipFill>
        <p:spPr>
          <a:xfrm>
            <a:off x="-36360" y="1484280"/>
            <a:ext cx="9216720" cy="532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00720" y="1413000"/>
            <a:ext cx="577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战国策∙魏策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26036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正确、流利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62064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预学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97800" y="5518080"/>
            <a:ext cx="1546200" cy="12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476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走在路上，遇到他的一位朋友正坐着车向北行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问：“你要到哪里去啊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我要到楚国去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不解地问：“你去楚国应该往南走，怎么反而向北奔驰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说：“不怕，我的马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告诉他：“马虽然好，可这不是去楚国的路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回答：“没关系，我的旅费很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再次诚恳地说：“旅费再多，向北走，无论如何也到不了楚国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朋友却固执己见：“你不用担心，我的车夫驾车技术非常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97164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我能正确、流利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我会思考：这个故事讲的是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＿ ＿ 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和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＿ ＿ ＿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之间发生的事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62064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仿宋_GB2312"/>
              </a:rPr>
              <a:t>预学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0200" y="1052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_GB2312"/>
              </a:rPr>
              <a:t>梁  驾  驶  楚  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_GB2312"/>
              </a:rPr>
              <a:t>恳  旅  固  执  该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_GB2312"/>
              </a:rPr>
              <a:t>虽  担  错  系  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l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5440" y="62064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8720" y="620640"/>
            <a:ext cx="8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s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62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c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5640" y="620640"/>
            <a:ext cx="8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c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3080" y="476280"/>
            <a:ext cx="8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13372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360" y="22766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k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5640" y="227808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2360" y="2206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g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9080" y="22068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z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8160" y="22068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gā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5080" y="39337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3080" y="393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1440" y="3933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c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05560" y="39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x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2000" y="3933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89000"/>
            <a:ext cx="158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楷体"/>
              </a:rPr>
              <a:t>预学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95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2620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季梁   驾驶   楚国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奔驰   诚恳   旅行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固执   应该   虽然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担心   对错  没关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越来越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334800"/>
            <a:ext cx="23032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楷体"/>
              </a:rPr>
              <a:t>预学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7:32:25Z</dcterms:created>
  <dc:creator>微软用户</dc:creator>
  <dc:description/>
  <cp:keywords/>
  <dc:language>en-US</dc:language>
  <cp:lastModifiedBy>微软用户</cp:lastModifiedBy>
  <dcterms:modified xsi:type="dcterms:W3CDTF">2015-06-02T00:48:17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