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95C1-4BA1-4FC4-A69A-33DFD707F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2699-A842-42F8-BBC8-2289CF2F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5D9C-E4D8-4113-9D9E-B404916A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0AF0-8B8E-4629-992D-9EDF5CF7E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ECFB-D323-421B-B894-EE8C7C8E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D0EF-0F2F-43AA-8C22-26F30083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94AF-1DA1-4E29-AA14-D23367E45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3EE7-3414-42E9-8DA9-177FE649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38DC-6B11-4F1F-B637-1F6AA679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FBC8-7946-44C2-84A4-F86F89FA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707A-6BB7-4777-BF82-B3A4FE73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523B-1C55-468D-921A-3642305F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B058-73E6-41FE-8EEE-C8215AFEF9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838080" y="609480"/>
            <a:ext cx="77724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华文新魏"/>
              </a:rPr>
              <a:t>念奴娇</a:t>
            </a: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华文新魏"/>
              </a:rPr>
              <a:t>·</a:t>
            </a: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华文新魏"/>
              </a:rPr>
              <a:t>赤壁怀古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ff"/>
                  </a:gs>
                  <a:gs pos="100000">
                    <a:srgbClr val="ffffff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019920" y="4648320"/>
            <a:ext cx="2286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华文新魏"/>
              </a:rPr>
              <a:t>苏轼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4920" y="60948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遥想公瑾当年，小乔初嫁了，雄姿英发。羽扇纶巾，谈笑间，强虏灰飞烟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228600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瑜是怎样的形象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335268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时多少豪杰”，苏轼为什么单单就想到了周瑜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809880"/>
            <a:ext cx="4191120" cy="3048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952880" y="0"/>
            <a:ext cx="4191120" cy="3124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3520" y="0"/>
            <a:ext cx="40384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瑜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龄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婚姻：美女相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外表：英俊儒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职位：东吴都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际遇：功成名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3124080"/>
            <a:ext cx="35053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苏轼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龄：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婚姻：屡遭不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外表：早生华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职位：团练副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际遇：功业未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4572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故国神游，多情应笑我，早生华发。人间如梦，一尊还酹江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976400"/>
            <a:ext cx="8001000" cy="20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问题讨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有人说：“苏轼的一生是不屈不挠、努力进取、不懈奋斗的一生”，也有人说：“苏轼的一生是悲惨而不得志的一生。”结合词中“人生如梦”谈谈你的看法？看法自由，但得说出理由，自圆其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0880" y="11430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）——被捕入狱，谪居黄州，对他的打击是巨大的。在他看来是怀才不遇，遭人陷害，并使他</a:t>
            </a:r>
            <a:r>
              <a:rPr b="0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壮志难酬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“人生如梦”两句，</a:t>
            </a:r>
            <a:r>
              <a:rPr b="0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正是这种身受迫害、怀才不遇和壮志难酬的悲愤，一种无人理解而寄托于江月的旷达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09480" y="762120"/>
            <a:ext cx="7925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）——“人生如梦”两句是诗人由江山人物的推移和自己“早生华发”的</a:t>
            </a:r>
            <a:r>
              <a:rPr b="0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对比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中发出的。长江依旧，英雄已逝；幼时壮志犹在，而今年近“知命”，“早生华发”，</a:t>
            </a:r>
            <a:r>
              <a:rPr b="0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就不能不感到人生的短暂与万事皆休的悲凉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。这是一种人之常情，怎能说是消极的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9144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）——这种感慨，</a:t>
            </a:r>
            <a:r>
              <a:rPr b="0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是由追慕古代英雄引起的。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和周瑜那么年轻就建立了赫赫战功而千古流芳比较起来，就不能不激起自己一种老之将至而壮志难酬的深沉苦闷，就不能不感到自己的渺小与惭愧。这种</a:t>
            </a:r>
            <a:r>
              <a:rPr b="0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与英雄对比自愧功业无成的伤感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，不正包含一种积极向上的精神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059920" y="333360"/>
            <a:ext cx="11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、回顾词的一般知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0920" y="1197000"/>
            <a:ext cx="8424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词是隋唐时兴起的一种合乐可歌、句式长短不齐的诗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词初名曲、曲子、曲子词。简称“词”，又名乐府、乐章、琴趣，还被称作诗余、歌曲、长短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     ①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词在形式上的特点是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“调有定格，句有定数，字有定声”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     ②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词大多分段，一段就是一个乐段，叫“片”或“阕”，分两片的最为常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     ③ 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词按字数分成</a:t>
            </a:r>
            <a:r>
              <a:rPr b="1" lang="zh-CN" sz="2800" spc="-1" strike="noStrike">
                <a:solidFill>
                  <a:srgbClr val="cc00cc"/>
                </a:solidFill>
                <a:latin typeface="宋体"/>
              </a:rPr>
              <a:t>小令、中调和长调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三种，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58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字以内为小令，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59~90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字为中调，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91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字以上为长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73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婉约派，主要是内容侧重儿女风情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结构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深细缜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重视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音律谐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语言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圆润，清新绮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具有一种柔婉之美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内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较窄狭。由于长期以来词多趋于宛转柔美，人们便形成了以婉约为正宗的观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豪放派，大体是创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视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较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广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气象恢弘雄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用诗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手法、句法和字法写词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语词宏博，用事较多，不拘守音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北宋黄庭坚、晁补之、贺铸等人都有这类风格的作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8000" y="1052640"/>
            <a:ext cx="885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咏史怀古诗（或词）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怀古咏史诗是诗人在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阅读史书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或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游览古迹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时，</a:t>
            </a:r>
            <a:r>
              <a:rPr b="1" lang="zh-CN" sz="3600" spc="-1" strike="noStrike">
                <a:solidFill>
                  <a:srgbClr val="1605f7"/>
                </a:solidFill>
                <a:latin typeface="黑体"/>
                <a:ea typeface="黑体"/>
              </a:rPr>
              <a:t>有感于历史人物或事件，</a:t>
            </a:r>
            <a:r>
              <a:rPr b="1" lang="zh-CN" sz="3600" spc="-1" strike="noStrike">
                <a:solidFill>
                  <a:srgbClr val="fc350e"/>
                </a:solidFill>
                <a:latin typeface="黑体"/>
                <a:ea typeface="黑体"/>
              </a:rPr>
              <a:t>以历史事件、历史人物、历史陈迹为题材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1605f7"/>
                </a:solidFill>
                <a:latin typeface="黑体"/>
                <a:ea typeface="黑体"/>
              </a:rPr>
              <a:t>引发出对时局或自己身世的共鸣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fc350e"/>
                </a:solidFill>
                <a:latin typeface="黑体"/>
                <a:ea typeface="黑体"/>
              </a:rPr>
              <a:t>或借古喻今，或借古讽今，或品评历史，从而</a:t>
            </a:r>
            <a:r>
              <a:rPr b="1" lang="zh-CN" sz="3600" spc="-1" strike="noStrike">
                <a:solidFill>
                  <a:srgbClr val="1605f7"/>
                </a:solidFill>
                <a:latin typeface="黑体"/>
                <a:ea typeface="黑体"/>
              </a:rPr>
              <a:t>感慨兴衰、寄托哀思、讽谏时政</a:t>
            </a:r>
            <a:r>
              <a:rPr b="1" lang="zh-CN" sz="3600" spc="-1" strike="noStrike">
                <a:solidFill>
                  <a:srgbClr val="fc350e"/>
                </a:solidFill>
                <a:latin typeface="黑体"/>
                <a:ea typeface="黑体"/>
              </a:rPr>
              <a:t>或</a:t>
            </a:r>
            <a:r>
              <a:rPr b="1" lang="zh-CN" sz="3600" spc="-1" strike="noStrike">
                <a:solidFill>
                  <a:srgbClr val="1605f7"/>
                </a:solidFill>
                <a:latin typeface="黑体"/>
                <a:ea typeface="黑体"/>
              </a:rPr>
              <a:t>表达对历史独到见解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诗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44280"/>
            <a:ext cx="82296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咏史怀古诗的特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920" y="949320"/>
            <a:ext cx="9001080" cy="29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、形式标志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标题中有古迹、古人名，或在古迹、</a:t>
            </a:r>
            <a:r>
              <a:rPr b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古人前冠以“咏”，或在古迹、古人后加“怀古”</a:t>
            </a:r>
            <a:r>
              <a:rPr b="1" lang="zh-CN" sz="3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“咏怀”等。（杜甫《蜀相》、《八阵图》）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黑体"/>
              </a:rPr>
              <a:t>结构：</a:t>
            </a:r>
            <a:r>
              <a:rPr b="1" lang="zh-CN" sz="3100" spc="-1" strike="noStrike">
                <a:solidFill>
                  <a:srgbClr val="ff0000"/>
                </a:solidFill>
                <a:latin typeface="黑体"/>
                <a:ea typeface="黑体"/>
              </a:rPr>
              <a:t>临古地—思古人（忆古事）—抒己志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黑体"/>
              </a:rPr>
              <a:t>诗歌的内容：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楷体_GB2312"/>
              </a:rPr>
              <a:t>一般为描写历史遗迹的衰败、荒凉、萧条，或怀想古人、故事的经过，抒发感慨；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黑体"/>
              </a:rPr>
              <a:t>思想感情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楷体_GB2312"/>
              </a:rPr>
              <a:t>昔盛今衰、借古讽今、怀才不遇、壮志难酬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黑体"/>
              </a:rPr>
              <a:t>手法：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楷体_GB2312"/>
              </a:rPr>
              <a:t>典故、对比、衬托，借古讽今，吊古伤今等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黑体"/>
              </a:rPr>
              <a:t>风格：</a:t>
            </a:r>
            <a:r>
              <a:rPr b="1" lang="zh-CN" sz="3100" spc="-1" strike="noStrike">
                <a:solidFill>
                  <a:srgbClr val="000000"/>
                </a:solidFill>
                <a:latin typeface="Arial"/>
                <a:ea typeface="楷体_GB2312"/>
              </a:rPr>
              <a:t>或雄浑壮阔，或含蓄沉郁、或慷慨悲壮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71640" y="1123920"/>
            <a:ext cx="62643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苏轼（</a:t>
            </a:r>
            <a:r>
              <a:rPr b="1" lang="en-US" sz="3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1037</a:t>
            </a:r>
            <a:r>
              <a:rPr b="1" lang="zh-CN" sz="3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－</a:t>
            </a:r>
            <a:r>
              <a:rPr b="1" lang="en-US" sz="3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1101</a:t>
            </a:r>
            <a:r>
              <a:rPr b="1" lang="zh-CN" sz="3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），北宋文学家、政治家、书画家。字子瞻，号东坡居士。眉州眉山（今属四川）人。与其父苏洵、其弟苏辙合称“三苏”，同样都是唐宋八大家之一。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中进士，开始为宦生涯。</a:t>
            </a:r>
            <a:r>
              <a:rPr b="1" lang="zh-CN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宋神宗元丰二年（</a:t>
            </a:r>
            <a:r>
              <a:rPr b="1" lang="en-US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079</a:t>
            </a:r>
            <a:r>
              <a:rPr b="1" lang="zh-CN" sz="3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因“乌台诗案”被捕入狱。出狱后，责授黄州团练副使。</a:t>
            </a:r>
            <a:r>
              <a:rPr b="1" lang="zh-CN" sz="3000" spc="-1" strike="noStrike">
                <a:solidFill>
                  <a:srgbClr val="990000"/>
                </a:solidFill>
                <a:latin typeface="Arial"/>
                <a:ea typeface="楷体_GB2312"/>
              </a:rPr>
              <a:t>苏轼是北宋成就最高的文学家。</a:t>
            </a:r>
            <a:r>
              <a:rPr b="1" lang="zh-CN" sz="3000" spc="-1" strike="noStrike" u="sng">
                <a:solidFill>
                  <a:srgbClr val="990000"/>
                </a:solidFill>
                <a:uFillTx/>
                <a:latin typeface="Arial"/>
                <a:ea typeface="楷体_GB2312"/>
              </a:rPr>
              <a:t>他的词改变了五代以来婉约柔靡的风格，开创了豪放一派的词风。</a:t>
            </a:r>
            <a:r>
              <a:rPr b="1" lang="zh-CN" sz="3000" spc="-1" strike="noStrike">
                <a:solidFill>
                  <a:srgbClr val="990000"/>
                </a:solidFill>
                <a:latin typeface="Arial"/>
                <a:ea typeface="楷体_GB2312"/>
              </a:rPr>
              <a:t>与辛弃疾合称“苏辛”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28560" cy="628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16000" y="18900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作者生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044720" y="981000"/>
            <a:ext cx="3352680" cy="76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324000" y="2421000"/>
            <a:ext cx="2286000" cy="312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80880" y="137160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江东去，浪淘尽、千古风流人物。故垒西边，人道是、三国周郎赤壁。乱石穿空，惊涛拍岸，卷起千堆雪。江山如画，一时多少豪杰。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遥想公瑾当年，小乔初嫁了，雄姿英发。羽扇纶巾，谈笑间，强虏灰飞烟灭。故国神游，多情应笑我，早生华发。人间如梦，一尊还酹江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38088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念奴娇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·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赤壁怀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100600" y="1628280"/>
            <a:ext cx="4728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上阕中写了哪些赤壁景观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94160" y="2965320"/>
            <a:ext cx="97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江、故垒、乱石、惊涛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4075560"/>
            <a:ext cx="69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认为哪几句写得好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0"/>
            <a:ext cx="590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cc"/>
                </a:solidFill>
                <a:latin typeface="Arial"/>
              </a:rPr>
              <a:t>研读上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90720" y="40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341360"/>
            <a:ext cx="844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华文中宋"/>
              </a:rPr>
              <a:t>上阕作者的视野开阔，通过比喻、拟人、夸张等修辞手法，把眼前的大好河山描绘得宏伟、 壮阔、气势磅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2-16T02:51:52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50600207f7000400038000</vt:lpwstr>
  </property>
  <property fmtid="{D5CDD505-2E9C-101B-9397-08002B2CF9AE}" pid="3" name="Version">
    <vt:r8>1</vt:r8>
  </property>
</Properties>
</file>