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chimes.wav" ContentType="audio/x-wav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9F91-A6F5-4CA6-ADE7-8026192A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55AD-9C85-404E-A8D7-D5527BB1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239A-D540-4B81-BEB7-9ABC60FC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8E3-DEFF-4204-ACA0-95BBF3D2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0804-D0D5-4729-BDD8-F9127745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C00D-CF8D-411A-B78E-D22FB795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E9DC-EC48-4DAE-9D65-D771405B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9F6C-BEA2-4F8C-999D-7ECDDA3E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4FD4-3D28-4F62-B4D9-80ECDA4E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4BCC-642E-4FAB-A0E1-50992791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54E4-6FA4-4798-B24E-28F9D992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130-5BEC-49FC-98CE-8D4EAE91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2CC1-C301-4D68-8AA9-2040E115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F2D1-EBB4-4F0D-AEF8-3531BD8C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3728-AA8B-47B9-B0F3-B6B91801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E7A6-E721-4F8E-A962-95A11C98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BCA1-2271-4F11-A713-B6D197D8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B63-337A-44E8-A559-B1E15961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AF71-BB6C-4B21-B2C7-E8475EFA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E16A-4B6E-468D-A24D-BFE53FF1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5CD-18B3-4CCB-B4FC-4323D781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3BB3-CFAA-4E91-B5A6-3CAFF094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A13-192E-4AFE-B404-1B9FEC52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F09-EE03-4BF2-A598-C905D997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B0C6-E9FD-4F4A-A9B9-AF9867FDE523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F835-93EB-48CF-A559-703BB08583F5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395720"/>
            <a:ext cx="767880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336699"/>
                </a:solidFill>
                <a:uFillTx/>
                <a:latin typeface="Verdana"/>
                <a:ea typeface="楷体_GB2312"/>
                <a:hlinkClick r:id="rId1" action="ppaction://hlinksldjump"/>
              </a:rPr>
              <a:t>鸟的天堂</a:t>
            </a:r>
            <a:endParaRPr b="0" lang="en-US" sz="6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276360" y="2860560"/>
            <a:ext cx="518148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Verdana"/>
                <a:ea typeface="楷体_GB2312"/>
              </a:rPr>
              <a:t>制作者：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Verdana"/>
                <a:ea typeface="楷体_GB2312"/>
              </a:rPr>
              <a:t>高万仪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544680"/>
            <a:ext cx="84582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鸟的天堂简介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      “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鸟的天堂”指一株有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500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年树龄的老榕树，位于广东省新会县天马河上。它的树冠大得出奇，浓阴面积有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多亩地。现在大榕树南面约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50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米处有观鸟楼。河中有游艇，可供游人观鸟和游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380880" y="1981080"/>
          <a:ext cx="8229600" cy="4263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ff0000"/>
                          </a:solidFill>
                          <a:latin typeface="Verdana"/>
                          <a:ea typeface="楷体_GB2312"/>
                        </a:rPr>
                        <a:t>次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ff0000"/>
                          </a:solidFill>
                          <a:latin typeface="Verdana"/>
                          <a:ea typeface="楷体_GB2312"/>
                        </a:rPr>
                        <a:t>时间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ff0000"/>
                          </a:solidFill>
                          <a:latin typeface="Verdana"/>
                          <a:ea typeface="楷体_GB2312"/>
                        </a:rPr>
                        <a:t>所见景物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ff0000"/>
                          </a:solidFill>
                          <a:latin typeface="Verdana"/>
                          <a:ea typeface="楷体_GB2312"/>
                        </a:rPr>
                        <a:t>你的印象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ff0000"/>
                          </a:solidFill>
                          <a:latin typeface="Verdana"/>
                          <a:ea typeface="楷体_GB2312"/>
                        </a:rPr>
                        <a:t>第一次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ff0000"/>
                          </a:solidFill>
                          <a:latin typeface="Verdana"/>
                          <a:ea typeface="楷体_GB2312"/>
                        </a:rPr>
                        <a:t>第二次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609480" y="60948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读课文填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38862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傍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518148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早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19720" y="396252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大榕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480060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许多        的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396252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  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29400" y="52578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2895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0"/>
            <a:ext cx="7315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f5f5f"/>
                </a:solidFill>
                <a:latin typeface="Verdana"/>
                <a:ea typeface="楷体_GB2312"/>
              </a:rPr>
              <a:t>想一想，句中的两个“真”字的意思一样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我有机会看清它的真面目，真是一株大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1828800" cy="1736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057400" y="37339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f5f5f"/>
                </a:solidFill>
                <a:latin typeface="Verdana"/>
                <a:ea typeface="楷体_GB2312"/>
              </a:rPr>
              <a:t>怎样读这个句子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5943600"/>
            <a:ext cx="144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榕树正在茂盛的时期，好像把它的全部生命力展示给我们看。那么多的绿叶，一簇堆在另一簇上面，不留一点缝隙。那翠绿的颜色，明亮地照耀着我们的眼睛，似乎每一片绿叶上都有一个新的生命在颤动。这美丽的南国的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用直线画出表示实在事物的句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用曲线画出表示联想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15200" y="58672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填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我们继续拍掌，树上就变得（　）了，到处都是（　　），到处都是（　　）。（　　），（　），（  ），（      ），有的（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），有的（          ），有的（            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14400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我注意地（    ），眼睛（      ），看清楚了（　　），又（      ），看见了（     ），另一只又（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）。一只画眉鸟飞了出来，被（                    ），又（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），站在一根小枝上（       ），那（            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838080"/>
            <a:ext cx="80773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思考：该怎么理解这句话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昨天是我的眼睛骗了我，那“鸟的天堂”的确是鸟的天堂啊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51:51Z</dcterms:created>
  <dc:creator/>
  <dc:description/>
  <dc:language>en-US</dc:language>
  <cp:lastModifiedBy>微软用户</cp:lastModifiedBy>
  <dcterms:modified xsi:type="dcterms:W3CDTF">2010-11-18T02:14:45Z</dcterms:modified>
  <cp:revision>12</cp:revision>
  <dc:subject/>
  <dc:title>19   鸟的天堂</dc:title>
</cp:coreProperties>
</file>