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4C8-0A35-4D72-855A-D4BF9D77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0FD-6499-41AC-BCFE-BECCAA55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582-0466-4CEC-9E3D-58C49699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103-7F99-4816-B436-980789D1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073-719A-4721-AB19-6A566A0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B93-8D61-45D8-814A-1DDD6060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31D-CD6E-4B89-BAB7-B9ECF4E1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4DB-B0F3-42B4-9541-700074FC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7DB-A388-4DA7-BB8F-A8DD6E33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978-409B-4D50-9B18-C4F761A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F86-5B6D-4E8A-B944-60F4E35E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5BD-4407-4C7E-89E8-92FF940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6670-175E-4BD2-A0E5-BA73DCB0A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066680"/>
            <a:ext cx="54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鸟　的　天　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3760" y="171756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巴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16840" y="4519440"/>
            <a:ext cx="27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坎山镇小　　　沈海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533520"/>
            <a:ext cx="8550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业：“鸟的天堂”目前已成为一处游览胜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你根据课文内容，并想办法搜集一些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材料，在下节课中为导游写一篇简短的解说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议围绕这些问题进行收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鸟的天堂的具体地址在哪儿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鸟的天堂的有多少年的历史了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鸟的天堂最初是怎样形成的 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鸟的天堂里有哪些种类的鸟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人们是怎样保护鸟儿的？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92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昨天我的眼睛骗了我。 “鸟的天堂”的确是鸟的天堂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0"/>
            <a:ext cx="80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我有机会看清它的真面目：是一棵大树，有着数不清的丫枝，枝上又生根，有许多根一直垂到地上，伸进泥土里。一部分树枝垂到水面上，从远处看，就像一棵大树斜躺在水面上一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　现在正是枝叶繁茂的时节。这棵榕树好像在把它的全部生命力展示给我们看。那么多的绿叶，一簇堆在另一簇的上面，不留一点缝隙。，翠绿的颜色明亮地在我们的眼前闪耀，似乎每一片树叶上都有一个新的生命在颤动。这美丽的南国的树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08080" y="433440"/>
            <a:ext cx="505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起初四周围非常清静。后来忽然起了一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鸟叫。我们把手一拍，便看见一只大鸟飞了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来，接着又看见第二只，第三只。我们继续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掌。很快地这个树林就变得很热闹了。到处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鸟声，到处都是鸟影。大的，小的，花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黑的，有的站在枝上叫，有的飞起来，有的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我注意地看着。我的眼睛真是应接不暇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清楚这只，又看漏了那只，第三只又飞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。一只画眉飞出来，给我们的拍掌声一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又飞进了叶丛，站在一根小枝上兴奋地唱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的歌声真好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815328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9267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7422" y="3794"/>
                </a:lnTo>
                <a:lnTo>
                  <a:pt x="7422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16:56Z</dcterms:created>
  <dc:creator>沈海军</dc:creator>
  <dc:description/>
  <dc:language>en-US</dc:language>
  <cp:lastModifiedBy>沈海军</cp:lastModifiedBy>
  <dcterms:modified xsi:type="dcterms:W3CDTF">2003-03-20T13:57:34Z</dcterms:modified>
  <cp:revision>7</cp:revision>
  <dc:subject/>
  <dc:title>PowerPoint 演示文稿</dc:title>
</cp:coreProperties>
</file>