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gif" ContentType="image/gif"/>
  <Override PartName="/ppt/media/image15.png" ContentType="image/png"/>
  <Override PartName="/ppt/media/9.wav" ContentType="audio/x-wav"/>
  <Override PartName="/ppt/media/image13.png" ContentType="image/png"/>
  <Override PartName="/ppt/media/image21.jpeg" ContentType="image/jpeg"/>
  <Override PartName="/ppt/media/chimes.wav" ContentType="audio/x-wav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type.wav" ContentType="audio/x-wav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4.gif" ContentType="image/gif"/>
  <Override PartName="/ppt/media/image37.png" ContentType="image/png"/>
  <Override PartName="/ppt/media/image36.png" ContentType="image/png"/>
  <Override PartName="/ppt/media/image33.gif" ContentType="image/gif"/>
  <Override PartName="/ppt/media/image35.gif" ContentType="image/gif"/>
  <Override PartName="/ppt/media/image40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9.gif" ContentType="image/gif"/>
  <Override PartName="/ppt/media/image51.png" ContentType="image/png"/>
  <Override PartName="/ppt/media/image32.png" ContentType="image/png"/>
  <Override PartName="/ppt/media/image31.jpeg" ContentType="image/jpeg"/>
  <Override PartName="/ppt/media/image30.png" ContentType="image/png"/>
  <Override PartName="/ppt/media/image28.jpeg" ContentType="image/jpeg"/>
  <Override PartName="/ppt/media/image9.jpeg" ContentType="image/jpeg"/>
  <Override PartName="/ppt/media/image48.png" ContentType="image/png"/>
  <Override PartName="/ppt/media/image46.png" ContentType="image/png"/>
  <Override PartName="/ppt/media/camera.wav" ContentType="audio/x-wav"/>
  <Override PartName="/ppt/media/5.wav" ContentType="audio/x-wav"/>
  <Override PartName="/ppt/media/image29.jpeg" ContentType="image/jpeg"/>
  <Override PartName="/ppt/media/image7.gif" ContentType="image/gif"/>
  <Override PartName="/ppt/media/image5.jpeg" ContentType="image/jpeg"/>
  <Override PartName="/ppt/media/image42.png" ContentType="image/png"/>
  <Override PartName="/ppt/media/image2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79E-77D4-453E-9882-72A90C74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9FC-C180-4B39-8F7A-660AC970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1DEDB-598C-4A3B-B0E7-F07D28DE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6C73A-2236-4EDA-99DD-F1F4340D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868DD-6A78-4F27-89B4-0B8FE0EB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B66BF-1DE2-43E8-8EE5-437CEAF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DE9E0-EC8B-400E-8D8A-79AFEA7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3E3CE-BF31-4631-9429-485BA59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D4387-82EB-4B0A-B123-9743D77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AB60-A361-40BC-AC4F-370E878E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BCA6A-F2ED-4648-9C7C-E32D4716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70EE2-4119-41C4-B532-C118FC8C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84D-8E31-4221-8B4F-1AD9C331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7D124-A2DD-4FBF-916F-7C1943C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EE9D0-956A-4DA5-B663-36C1B44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9351B-771F-460A-8075-E87663E2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8E703-5A55-4FE9-85C6-33163D45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E8A16-E716-4E66-BA89-709934E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EA894-AEA3-4145-9614-3CA1F8F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B6148-F217-4F72-836A-CB2D7D3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009E-9CDD-41C9-A312-9BE8F09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8D04D-A6B0-4084-A118-E3E5B49A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FE7E2-B067-48FC-90FD-8BA3BBBE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EA3-4CED-4F90-876D-23DA6ACE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B5721-CFDC-49EB-81ED-0D5E6D5A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EDB2-B1AA-4509-ABE5-C92B1B04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126-A7F4-4C28-A656-2D3B838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747-2D45-4B72-B16A-9D0A6304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FF7-229D-4855-9C8C-36045C4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98F-C338-481C-A556-4E0EF581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4A3D-1D29-4082-B4BB-1BE28C1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EC5-D6A8-4E57-A493-70637EDF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772-03D1-499D-9558-0AF5691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F012-94F8-47EE-8531-5C08C02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2BA-55D3-4D97-80EA-537A4DB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DB42-2B64-4D24-90A2-449F6B5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4A8A-BAE1-4CCE-AAD5-9E3D646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3ED8-B203-4843-95FA-944BF4B8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5997-9325-4EF1-BC4C-9DE2EB6C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F6CC-4110-4B0D-B4FF-D942B9B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B101-3DB1-4B8E-97A2-ED67A97D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6396-F5C7-4BD9-BD61-832E877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D323-69AE-4513-AF75-2744D68F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6E2-DE61-4497-A16E-FAD880B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5F0D-582A-4B9D-9C06-EC10AAF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20C4-A1FA-4212-A8DC-2E7E5D9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8796A-42F4-431B-BF98-09FA26D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BF18-9224-4A79-AE2A-8955A95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AC25-F570-4DD5-8B75-7767693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11F8-6D1D-46B3-A202-3D057AEE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9C63-DA5E-478E-95B9-649231A0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A2B9-4366-4ADF-A9A5-778BEA95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DC19-C914-4087-A97F-57C783A9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0CD3-12DB-41A2-95DE-4CB51A6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84F-8B4C-438E-A117-7CE90E42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CC58-570E-4636-8734-D45C82C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2367-01F9-4C19-8B4C-BDD2EB00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61EE-9E5B-4EDB-9F4C-CA49310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05BB-840D-41FE-8865-20C7DD8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15C4-0DD4-411E-A46D-CD3E7CF1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F277-1B10-4684-8859-05186ED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238C-62CB-484F-BD04-6444A83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0157-F6A3-448E-AB23-933D7E89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5590-418A-4A13-909A-9F8B523B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5E97-CFEC-4D6A-8C1B-652E932D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11D-3204-459E-A278-7DF563C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087C8-40DC-4619-9A6C-07E4660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E36C-ECFF-4942-9193-64FC2ED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BCC7-E411-41F3-8061-2BED0DBD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C870-093D-47C6-84DD-68AE90E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F599-D118-4D66-B5E3-49104C1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4F27-6B7F-4C34-9B3C-E5F5702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63AD-AFE3-4E45-AAD6-2551C8C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7EF3-FB6A-4BEC-9C06-3643EAB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CD6CF-5346-45FD-8C44-2D025422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2B0B-0E9A-4E44-A8D6-D341A0E3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B98-58C0-4755-A41F-24711348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62E4-2854-4666-AC14-D833FE65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03AF-9288-4170-B540-C18C204E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530B-670F-4A39-B699-CFCA61A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8391-B404-4F10-8CDD-0283EA3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780D-3AEB-4482-A221-6F080DF0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85C4-5C36-49ED-B2CF-D6769353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93CE-BEF0-47C5-B1C6-14E51A3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E478-469E-4E8C-8DD4-21A8524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A0856-E5FC-4A9F-83DF-868B23A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B0F4-FBB4-4D48-8E9C-ECC3FE7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B7B-A368-47D2-A9FC-C53058F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A148-0137-43AA-876B-678348B2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A3B5-D502-4A9E-8910-313E3E24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B9570-C2FC-41AB-B2B1-756AB3E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A931A-D9FB-40EC-8BDF-E12C9B71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67A4-6763-4D5F-9F5B-DBFD7BA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BF737-E328-4586-8895-08856C50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C7C2E-F8FD-4BA1-A576-FCABE20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7787C-900A-4F09-9C04-57ACFA88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5129-5B9D-4BFF-948B-2A224617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ABC5-F468-4D55-8316-A6447C5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4F0-8570-45DC-896D-8E4B0C1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766B-BB33-40D5-8D79-70DACF4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04AE-92BB-4BFD-B0B0-EECE39A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E42C-DFCF-465A-86F4-2C96DDCA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3060-3E74-4005-8E35-204D976B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AE7A5-BAE2-48E5-AFAD-0592AB6A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3C159-7036-440D-93A0-93666504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711E-248F-4A31-AC22-8048FA6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A613-B318-4DEB-B93D-BCC6D89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B2585-A924-4B57-8DB7-8035F1A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B52CB-24FE-4064-97D8-26C007A4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F2D-11D5-486D-9F01-C2F7F18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A30F-EE3B-4360-A572-E07D815E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B0B9-2D8D-480C-AE2D-D75814B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61A2-6BED-4B78-AC3E-6D7B882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FDE9-AF52-4454-ABA9-9B4B7E7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BB66-AC1D-48F2-86FC-5DF9CEF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0BE5-2559-4BEF-8CAB-40A45800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8921-3720-4927-A6E3-B9FFC7C7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80C2F-AA14-40AD-AA75-BF46C619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1DC4B-A4E5-4E2E-A1E8-B6FF6184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3530C-4521-43B6-AFC0-1E98206D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3B0-01BF-4E6F-B1C4-9038C1F532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909-8023-4FD1-A31E-7598C76A74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28b"/>
            </a:gs>
            <a:gs pos="100000">
              <a:srgbClr val="f5f28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B64B-6761-4DAE-A806-2409619019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3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933D-F6DE-47DF-86CB-D30C275F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6D97-DD13-4C3F-9B1D-5D73E5A33A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角三角形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69" name="等腰三角形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100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70" name="直接连接符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71" name="直接连接符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706320" y="1938240"/>
            <a:ext cx="2170080" cy="2779560"/>
            <a:chOff x="706320" y="1938240"/>
            <a:chExt cx="2170080" cy="2779560"/>
          </a:xfrm>
        </p:grpSpPr>
        <p:pic>
          <p:nvPicPr>
            <p:cNvPr id="173" name="Oval 6" descr=""/>
            <p:cNvPicPr/>
            <p:nvPr/>
          </p:nvPicPr>
          <p:blipFill>
            <a:blip r:embed="rId2"/>
            <a:stretch/>
          </p:blipFill>
          <p:spPr>
            <a:xfrm>
              <a:off x="706320" y="1938240"/>
              <a:ext cx="2170080" cy="27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8"/>
            <p:cNvSpPr/>
            <p:nvPr/>
          </p:nvSpPr>
          <p:spPr>
            <a:xfrm>
              <a:off x="106344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          </a:t>
              </a: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175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Calibri"/>
                <a:ea typeface="宋体"/>
              </a:rPr>
              <a:t>           </a:t>
            </a: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177" name="Oval 8" descr=""/>
            <p:cNvPicPr/>
            <p:nvPr/>
          </p:nvPicPr>
          <p:blipFill>
            <a:blip r:embed="rId3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2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    </a:t>
              </a: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F1EC-FFE5-4DDF-9AD8-28D9F428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21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22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AC3-74FD-4F73-BE86-078D68E1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66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67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78AE-ECF4-46FF-8045-3F220352006F}" type="slidenum">
              <a:rPr b="0" lang="en-US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0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1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0d0d0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C06-F360-41E8-A678-DE50D84584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直角三角形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55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2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56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SzPct val="9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50F-C317-4FC7-839D-55C7DFED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audio" Target="../media/5.wav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4.gif"/><Relationship Id="rId7" Type="http://schemas.openxmlformats.org/officeDocument/2006/relationships/audio" Target="../media/5.wav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9.wav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773760" y="304560"/>
            <a:ext cx="15242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a50021"/>
                </a:solidFill>
                <a:latin typeface="Times New Roman"/>
              </a:rPr>
              <a:t>女</a:t>
            </a:r>
            <a:br>
              <a:rPr sz="6600"/>
            </a:br>
            <a:r>
              <a:rPr b="1" i="1" lang="zh-CN" sz="6600" spc="-1" strike="noStrike">
                <a:solidFill>
                  <a:srgbClr val="a50021"/>
                </a:solidFill>
                <a:latin typeface="Times New Roman"/>
              </a:rPr>
              <a:t>娲</a:t>
            </a:r>
            <a:br>
              <a:rPr sz="6600"/>
            </a:br>
            <a:r>
              <a:rPr b="1" i="1" lang="zh-CN" sz="6600" spc="-1" strike="noStrike">
                <a:solidFill>
                  <a:srgbClr val="a50021"/>
                </a:solidFill>
                <a:latin typeface="Times New Roman"/>
              </a:rPr>
              <a:t>造</a:t>
            </a:r>
            <a:br>
              <a:rPr sz="6600"/>
            </a:br>
            <a:r>
              <a:rPr b="1" i="1" lang="zh-CN" sz="6600" spc="-1" strike="noStrike">
                <a:solidFill>
                  <a:srgbClr val="a50021"/>
                </a:solidFill>
                <a:latin typeface="Times New Roman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4" descr="girl13"/>
          <p:cNvPicPr/>
          <p:nvPr/>
        </p:nvPicPr>
        <p:blipFill>
          <a:blip r:embed="rId2"/>
          <a:stretch/>
        </p:blipFill>
        <p:spPr>
          <a:xfrm>
            <a:off x="6705720" y="5391000"/>
            <a:ext cx="2974680" cy="1467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7924680" y="5200560"/>
            <a:ext cx="7336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063040" y="2492280"/>
            <a:ext cx="16426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珂</a:t>
            </a:r>
            <a:endParaRPr b="0" lang="en-US" sz="4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44" name="矩形 9" descr=""/>
          <p:cNvPicPr/>
          <p:nvPr/>
        </p:nvPicPr>
        <p:blipFill>
          <a:blip r:embed="rId3"/>
          <a:stretch/>
        </p:blipFill>
        <p:spPr>
          <a:xfrm>
            <a:off x="3451320" y="6253200"/>
            <a:ext cx="2651040" cy="430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5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7"/>
          <p:cNvSpPr/>
          <p:nvPr/>
        </p:nvSpPr>
        <p:spPr>
          <a:xfrm>
            <a:off x="1214280" y="1928880"/>
            <a:ext cx="7286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宋体"/>
                <a:ea typeface="宋体"/>
              </a:rPr>
              <a:t>莽莽榛榛</a:t>
            </a:r>
            <a:r>
              <a:rPr b="0" lang="zh-CN" sz="2800" spc="-1" strike="noStrike">
                <a:solidFill>
                  <a:srgbClr val="ff7c8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  <a:ea typeface="宋体"/>
              </a:rPr>
              <a:t>草木丛生的样子</a:t>
            </a:r>
            <a:r>
              <a:rPr b="0" lang="zh-CN" sz="2800" spc="-1" strike="noStrike">
                <a:solidFill>
                  <a:srgbClr val="ff7c8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宋体"/>
                <a:ea typeface="宋体"/>
              </a:rPr>
              <a:t>澄澈</a:t>
            </a:r>
            <a:r>
              <a:rPr b="0" lang="zh-CN" sz="2800" spc="-1" strike="noStrike">
                <a:solidFill>
                  <a:srgbClr val="ff7c8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  <a:ea typeface="宋体"/>
              </a:rPr>
              <a:t>清澈透明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宋体"/>
                <a:ea typeface="宋体"/>
              </a:rPr>
              <a:t>灵敏</a:t>
            </a:r>
            <a:r>
              <a:rPr b="0" lang="zh-CN" sz="2800" spc="-1" strike="noStrike">
                <a:solidFill>
                  <a:srgbClr val="ff7c8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  <a:ea typeface="宋体"/>
              </a:rPr>
              <a:t>反应快，能对极其微弱的刺激迅速反应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49e"/>
                </a:solidFill>
                <a:latin typeface="宋体"/>
                <a:ea typeface="宋体"/>
              </a:rPr>
              <a:t>绵延</a:t>
            </a:r>
            <a:r>
              <a:rPr b="0" lang="zh-CN" sz="2800" spc="-1" strike="noStrike">
                <a:solidFill>
                  <a:srgbClr val="ff7c80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b050"/>
                </a:solidFill>
                <a:latin typeface="宋体"/>
                <a:ea typeface="宋体"/>
              </a:rPr>
              <a:t>意思是延续不断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01" name="TextBox 10"/>
          <p:cNvSpPr/>
          <p:nvPr/>
        </p:nvSpPr>
        <p:spPr>
          <a:xfrm>
            <a:off x="4373640" y="1219320"/>
            <a:ext cx="396216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02" name="Title 8" descr=""/>
          <p:cNvPicPr/>
          <p:nvPr/>
        </p:nvPicPr>
        <p:blipFill>
          <a:blip r:embed="rId1"/>
          <a:stretch/>
        </p:blipFill>
        <p:spPr>
          <a:xfrm>
            <a:off x="324000" y="708120"/>
            <a:ext cx="7129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365200" y="633240"/>
            <a:ext cx="4259520" cy="8510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华文行楷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T65"/>
          <p:cNvPicPr/>
          <p:nvPr/>
        </p:nvPicPr>
        <p:blipFill>
          <a:blip r:embed="rId1"/>
          <a:stretch/>
        </p:blipFill>
        <p:spPr>
          <a:xfrm>
            <a:off x="1042920" y="2101680"/>
            <a:ext cx="4319640" cy="39610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4"/>
          <p:cNvSpPr/>
          <p:nvPr/>
        </p:nvSpPr>
        <p:spPr>
          <a:xfrm>
            <a:off x="5508720" y="2101680"/>
            <a:ext cx="30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袁珂，生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91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，神话学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川省新繁县人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论著有《中国古代神话》、《山海经校注》等。  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06" name="Picture 5" descr="838383 (11)"/>
          <p:cNvPicPr/>
          <p:nvPr/>
        </p:nvPicPr>
        <p:blipFill>
          <a:blip r:embed="rId2"/>
          <a:stretch/>
        </p:blipFill>
        <p:spPr>
          <a:xfrm>
            <a:off x="6686640" y="706320"/>
            <a:ext cx="1485720" cy="752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70200527970890159-fm"/>
          <p:cNvPicPr/>
          <p:nvPr/>
        </p:nvPicPr>
        <p:blipFill>
          <a:blip r:embed="rId1"/>
          <a:stretch/>
        </p:blipFill>
        <p:spPr>
          <a:xfrm rot="1974000">
            <a:off x="5435280" y="1196640"/>
            <a:ext cx="2743200" cy="39733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点击查看下一张图片"/>
          <p:cNvPicPr/>
          <p:nvPr/>
        </p:nvPicPr>
        <p:blipFill>
          <a:blip r:embed="rId2"/>
          <a:stretch/>
        </p:blipFill>
        <p:spPr>
          <a:xfrm rot="988800">
            <a:off x="4140360" y="620280"/>
            <a:ext cx="2506680" cy="3816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4"/>
          <p:cNvSpPr/>
          <p:nvPr/>
        </p:nvSpPr>
        <p:spPr>
          <a:xfrm>
            <a:off x="3780000" y="537372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袁珂作品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10" name="Picture 5" descr="43_200805271404021IG6c_thumb"/>
          <p:cNvPicPr/>
          <p:nvPr/>
        </p:nvPicPr>
        <p:blipFill>
          <a:blip r:embed="rId3"/>
          <a:stretch/>
        </p:blipFill>
        <p:spPr>
          <a:xfrm rot="21040200">
            <a:off x="2340000" y="691920"/>
            <a:ext cx="3021120" cy="4032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点击查看下一张图片"/>
          <p:cNvPicPr/>
          <p:nvPr/>
        </p:nvPicPr>
        <p:blipFill>
          <a:blip r:embed="rId4"/>
          <a:stretch/>
        </p:blipFill>
        <p:spPr>
          <a:xfrm rot="20190000">
            <a:off x="1187280" y="1341000"/>
            <a:ext cx="2652840" cy="3745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d0d0d"/>
                </a:solidFill>
                <a:latin typeface="Calibri"/>
              </a:rPr>
              <a:t>           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这是一篇神话。神话是远古人民表现对自然及文化现象的理解与想象的故事。</a:t>
            </a:r>
            <a:r>
              <a:rPr b="0" lang="zh-CN" sz="3000" spc="-1" strike="noStrike">
                <a:solidFill>
                  <a:srgbClr val="0d0d0d"/>
                </a:solidFill>
                <a:latin typeface="Calibri"/>
              </a:rPr>
              <a:t>神话并非现实生活的科学反映，而是由于远古时代生产力的水平很低，人们不懂科学地解释世界、自然现象和原始社会文化生活的起源和变化，以他们贫乏的生活经验为基础，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借助</a:t>
            </a:r>
            <a:r>
              <a:rPr b="1" lang="zh-CN" sz="3000" spc="-1" strike="noStrike">
                <a:solidFill>
                  <a:srgbClr val="0000ff"/>
                </a:solidFill>
                <a:latin typeface="Calibri"/>
              </a:rPr>
              <a:t>想象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1" lang="zh-CN" sz="3000" spc="-1" strike="noStrike">
                <a:solidFill>
                  <a:srgbClr val="0000ff"/>
                </a:solidFill>
                <a:latin typeface="Calibri"/>
              </a:rPr>
              <a:t>幻想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把自然力和客观世界</a:t>
            </a:r>
            <a:r>
              <a:rPr b="1" lang="zh-CN" sz="3000" spc="-1" strike="noStrike">
                <a:solidFill>
                  <a:srgbClr val="0000ff"/>
                </a:solidFill>
                <a:latin typeface="Calibri"/>
              </a:rPr>
              <a:t>拟人化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的结果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矩形 4" descr=""/>
          <p:cNvPicPr/>
          <p:nvPr/>
        </p:nvPicPr>
        <p:blipFill>
          <a:blip r:embed="rId1"/>
          <a:stretch/>
        </p:blipFill>
        <p:spPr>
          <a:xfrm>
            <a:off x="1050840" y="447840"/>
            <a:ext cx="3089520" cy="124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7610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彩云"/>
              </a:rPr>
              <a:t>思考：神话有哪些特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611280" y="2421000"/>
            <a:ext cx="82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把自然加以形象化，进行了不自觉的艺术加工。（马克思）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神话的基础是现实生活。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神话表现了远古人类征服自然的思想和信念。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835280" y="9777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神话的特点：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755640" y="17794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神话是原始人对自然和社会的认识。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神话富有幻想和想象的形式。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神话中的人物形象都是神或半人半神。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19" name="Picture 4" descr="m0676"/>
          <p:cNvPicPr/>
          <p:nvPr/>
        </p:nvPicPr>
        <p:blipFill>
          <a:blip r:embed="rId1"/>
          <a:stretch/>
        </p:blipFill>
        <p:spPr>
          <a:xfrm>
            <a:off x="2484360" y="3429000"/>
            <a:ext cx="5112000" cy="3054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195640" y="3789360"/>
            <a:ext cx="1608120" cy="838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2195640" y="3716280"/>
            <a:ext cx="204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宋体"/>
              </a:rPr>
              <a:t>想象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292720" y="3716280"/>
            <a:ext cx="1698480" cy="838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5292720" y="3645000"/>
            <a:ext cx="23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宋体"/>
              </a:rPr>
              <a:t>幻想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3348000" y="3068640"/>
            <a:ext cx="528840" cy="504720"/>
          </a:xfrm>
          <a:prstGeom prst="line">
            <a:avLst/>
          </a:prstGeom>
          <a:ln cap="sq" w="7632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 flipH="1" flipV="1">
            <a:off x="5363640" y="2997360"/>
            <a:ext cx="576360" cy="504720"/>
          </a:xfrm>
          <a:prstGeom prst="line">
            <a:avLst/>
          </a:prstGeom>
          <a:ln cap="sq" w="7632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3780000" y="2133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神话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900000" y="5445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宋体"/>
              </a:rPr>
              <a:t>合理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3635280" y="5373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宋体"/>
              </a:rPr>
              <a:t>现实生活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 flipV="1">
            <a:off x="1835280" y="4797360"/>
            <a:ext cx="380880" cy="45720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3851280" y="4797360"/>
            <a:ext cx="457200" cy="53352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746748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1547640" y="119700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彩云"/>
              </a:rPr>
              <a:t>怎样理解和诠释神话呢？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66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1981080" y="1752480"/>
            <a:ext cx="5105160" cy="4419720"/>
            <a:chOff x="1981080" y="1752480"/>
            <a:chExt cx="5105160" cy="4419720"/>
          </a:xfrm>
        </p:grpSpPr>
        <p:pic>
          <p:nvPicPr>
            <p:cNvPr id="534" name="Picture 3" descr="kp_pic"/>
            <p:cNvPicPr/>
            <p:nvPr/>
          </p:nvPicPr>
          <p:blipFill>
            <a:blip r:embed="rId1"/>
            <a:stretch/>
          </p:blipFill>
          <p:spPr>
            <a:xfrm>
              <a:off x="1981080" y="1752480"/>
              <a:ext cx="51051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Rectangle 4"/>
            <p:cNvSpPr/>
            <p:nvPr/>
          </p:nvSpPr>
          <p:spPr>
            <a:xfrm>
              <a:off x="5335560" y="2286000"/>
              <a:ext cx="116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50021"/>
                  </a:solidFill>
                  <a:latin typeface="Arial"/>
                  <a:ea typeface="隶书"/>
                </a:rPr>
                <a:t>女</a:t>
              </a:r>
              <a:br>
                <a:rPr sz="1800"/>
              </a:br>
              <a:r>
                <a:rPr b="1" lang="zh-CN" sz="1800" spc="-1" strike="noStrike">
                  <a:solidFill>
                    <a:srgbClr val="a50021"/>
                  </a:solidFill>
                  <a:latin typeface="Arial"/>
                  <a:ea typeface="隶书"/>
                </a:rPr>
                <a:t>娲</a:t>
              </a:r>
              <a:br>
                <a:rPr sz="1800"/>
              </a:br>
              <a:r>
                <a:rPr b="1" lang="zh-CN" sz="1800" spc="-1" strike="noStrike">
                  <a:solidFill>
                    <a:srgbClr val="a50021"/>
                  </a:solidFill>
                  <a:latin typeface="Arial"/>
                  <a:ea typeface="隶书"/>
                </a:rPr>
                <a:t>造</a:t>
              </a:r>
              <a:br>
                <a:rPr sz="1800"/>
              </a:br>
              <a:r>
                <a:rPr b="1" lang="zh-CN" sz="1800" spc="-1" strike="noStrike">
                  <a:solidFill>
                    <a:srgbClr val="a50021"/>
                  </a:solidFill>
                  <a:latin typeface="Arial"/>
                  <a:ea typeface="隶书"/>
                </a:rPr>
                <a:t>人</a:t>
              </a: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pic>
        <p:nvPicPr>
          <p:cNvPr id="536" name="Picture 5" descr="01"/>
          <p:cNvPicPr/>
          <p:nvPr/>
        </p:nvPicPr>
        <p:blipFill>
          <a:blip r:embed="rId2"/>
          <a:stretch/>
        </p:blipFill>
        <p:spPr>
          <a:xfrm>
            <a:off x="0" y="1295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tar"/>
          <p:cNvPicPr/>
          <p:nvPr/>
        </p:nvPicPr>
        <p:blipFill>
          <a:blip r:embed="rId3"/>
          <a:stretch/>
        </p:blipFill>
        <p:spPr>
          <a:xfrm>
            <a:off x="78487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ar"/>
          <p:cNvPicPr/>
          <p:nvPr/>
        </p:nvPicPr>
        <p:blipFill>
          <a:blip r:embed="rId4"/>
          <a:stretch/>
        </p:blipFill>
        <p:spPr>
          <a:xfrm>
            <a:off x="762120" y="441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02"/>
          <p:cNvPicPr/>
          <p:nvPr/>
        </p:nvPicPr>
        <p:blipFill>
          <a:blip r:embed="rId5"/>
          <a:stretch/>
        </p:blipFill>
        <p:spPr>
          <a:xfrm>
            <a:off x="6772320" y="3505320"/>
            <a:ext cx="2752560" cy="2819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star"/>
          <p:cNvPicPr/>
          <p:nvPr/>
        </p:nvPicPr>
        <p:blipFill>
          <a:blip r:embed="rId6"/>
          <a:stretch/>
        </p:blipFill>
        <p:spPr>
          <a:xfrm>
            <a:off x="8380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0"/>
          <p:cNvSpPr/>
          <p:nvPr/>
        </p:nvSpPr>
        <p:spPr>
          <a:xfrm>
            <a:off x="2666880" y="457200"/>
            <a:ext cx="44960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这篇神话主要讲了  那两部分内容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？</a:t>
            </a:r>
            <a:endParaRPr b="0" lang="en-US" sz="6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731880" y="1938240"/>
            <a:ext cx="2120760" cy="2755800"/>
            <a:chOff x="731880" y="1938240"/>
            <a:chExt cx="2120760" cy="2755800"/>
          </a:xfrm>
        </p:grpSpPr>
        <p:pic>
          <p:nvPicPr>
            <p:cNvPr id="543" name="Oval 3" descr=""/>
            <p:cNvPicPr/>
            <p:nvPr/>
          </p:nvPicPr>
          <p:blipFill>
            <a:blip r:embed="rId1"/>
            <a:stretch/>
          </p:blipFill>
          <p:spPr>
            <a:xfrm>
              <a:off x="731880" y="1938240"/>
              <a:ext cx="2120760" cy="27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4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          </a:t>
              </a: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545" name="Group 5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546" name="Oval 7" descr=""/>
            <p:cNvPicPr/>
            <p:nvPr/>
          </p:nvPicPr>
          <p:blipFill>
            <a:blip r:embed="rId2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7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    </a:t>
              </a: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pic>
        <p:nvPicPr>
          <p:cNvPr id="548" name="TextBox 16" descr=""/>
          <p:cNvPicPr/>
          <p:nvPr/>
        </p:nvPicPr>
        <p:blipFill>
          <a:blip r:embed="rId3"/>
          <a:stretch/>
        </p:blipFill>
        <p:spPr>
          <a:xfrm>
            <a:off x="-55440" y="914400"/>
            <a:ext cx="3682800" cy="3316320"/>
          </a:xfrm>
          <a:prstGeom prst="rect">
            <a:avLst/>
          </a:prstGeom>
          <a:ln w="0">
            <a:noFill/>
          </a:ln>
        </p:spPr>
      </p:pic>
      <p:pic>
        <p:nvPicPr>
          <p:cNvPr id="549" name="Title 8" descr=""/>
          <p:cNvPicPr/>
          <p:nvPr/>
        </p:nvPicPr>
        <p:blipFill>
          <a:blip r:embed="rId4"/>
          <a:stretch/>
        </p:blipFill>
        <p:spPr>
          <a:xfrm>
            <a:off x="1170000" y="3780000"/>
            <a:ext cx="7394400" cy="23716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3071520" y="2571480"/>
            <a:ext cx="385740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本文结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左大括号 6"/>
          <p:cNvSpPr/>
          <p:nvPr/>
        </p:nvSpPr>
        <p:spPr>
          <a:xfrm>
            <a:off x="2571840" y="435780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52" name="左大括号 9"/>
          <p:cNvSpPr/>
          <p:nvPr/>
        </p:nvSpPr>
        <p:spPr>
          <a:xfrm>
            <a:off x="4857840" y="471492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5"/>
                </a:cubicBezTo>
                <a:lnTo>
                  <a:pt x="10800" y="10495"/>
                </a:lnTo>
                <a:cubicBezTo>
                  <a:pt x="10800" y="10648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5"/>
                </a:cubicBezTo>
                <a:lnTo>
                  <a:pt x="10800" y="21295"/>
                </a:lnTo>
                <a:cubicBezTo>
                  <a:pt x="10800" y="214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24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53" name="右大括号 10"/>
          <p:cNvSpPr/>
          <p:nvPr/>
        </p:nvSpPr>
        <p:spPr>
          <a:xfrm>
            <a:off x="7000920" y="42861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24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0360" y="1844640"/>
            <a:ext cx="820764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女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为什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要造人？</a:t>
            </a:r>
            <a:br>
              <a:rPr sz="54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文章的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26840" y="348300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地开辟以后，还没有人类，女娲非常孤独，想让天地间生机蓬勃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4"/>
          <p:cNvSpPr txBox="1"/>
          <p:nvPr/>
        </p:nvSpPr>
        <p:spPr>
          <a:xfrm>
            <a:off x="458640" y="765000"/>
            <a:ext cx="230364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思考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0b600be6e70bc433b83820e2"/>
          <p:cNvPicPr/>
          <p:nvPr/>
        </p:nvPicPr>
        <p:blipFill>
          <a:blip r:embed="rId1"/>
          <a:stretch/>
        </p:blipFill>
        <p:spPr>
          <a:xfrm>
            <a:off x="2124000" y="404640"/>
            <a:ext cx="4373640" cy="5977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46" name="Text Box 3"/>
          <p:cNvSpPr/>
          <p:nvPr/>
        </p:nvSpPr>
        <p:spPr>
          <a:xfrm>
            <a:off x="6225120" y="2349360"/>
            <a:ext cx="1155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人首蛇身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女娲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怎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造人的？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“女娲造人”是文章的主体部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两种方法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用泥捏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女娲揉团黄土造成人）</a:t>
            </a:r>
            <a:r>
              <a:rPr b="1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拉藤溅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zh-CN" sz="40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这项工作太费力了，女娲忙不过来， 就把一根绳子放到泥浆中，拉出来，溅出的泥点子就成了人</a:t>
            </a:r>
            <a:r>
              <a:rPr b="0" lang="zh-CN" sz="4000" spc="-1" strike="noStrike" u="sng">
                <a:solidFill>
                  <a:srgbClr val="cc3300"/>
                </a:solidFill>
                <a:uFillTx/>
                <a:latin typeface="Arial"/>
                <a:ea typeface="华文新魏"/>
              </a:rPr>
              <a:t>”</a:t>
            </a:r>
            <a:r>
              <a:rPr b="0" lang="zh-CN" sz="4000" spc="-1" strike="noStrike" u="sng">
                <a:solidFill>
                  <a:srgbClr val="cc3300"/>
                </a:solidFill>
                <a:uFillTx/>
                <a:latin typeface="华文新魏"/>
                <a:ea typeface="华文新魏"/>
              </a:rPr>
              <a:t>）</a:t>
            </a:r>
            <a:r>
              <a:rPr b="1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方法使女娲疲惫不堪，第二种方法简单省事，能造出更多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（想象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3276720" cy="3657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8"/>
          <p:cNvPicPr/>
          <p:nvPr/>
        </p:nvPicPr>
        <p:blipFill>
          <a:blip r:embed="rId3"/>
          <a:stretch/>
        </p:blipFill>
        <p:spPr>
          <a:xfrm>
            <a:off x="5651640" y="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5"/>
          <p:cNvPicPr/>
          <p:nvPr/>
        </p:nvPicPr>
        <p:blipFill>
          <a:blip r:embed="rId4"/>
          <a:stretch/>
        </p:blipFill>
        <p:spPr>
          <a:xfrm>
            <a:off x="0" y="365760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7"/>
          <p:cNvPicPr/>
          <p:nvPr/>
        </p:nvPicPr>
        <p:blipFill>
          <a:blip r:embed="rId5"/>
          <a:stretch/>
        </p:blipFill>
        <p:spPr>
          <a:xfrm>
            <a:off x="5651640" y="358128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7"/>
          <p:cNvSpPr/>
          <p:nvPr/>
        </p:nvSpPr>
        <p:spPr>
          <a:xfrm>
            <a:off x="228600" y="3367080"/>
            <a:ext cx="23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用泥捏人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213600" y="3368520"/>
            <a:ext cx="213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拉藤溅泥点子造人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200400" y="3840120"/>
            <a:ext cx="23623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隶书"/>
              </a:rPr>
              <a:t>太寂寞了……她不愿忍耐这寂寞，也不愿世上没有活泼的生灵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25920" y="845640"/>
            <a:ext cx="916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女娲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人类自己繁衍生息的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文章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270792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那些小人儿们分为男女，让男人和女人配合起来，叫他们自己去创造后代。（</a:t>
            </a:r>
            <a:r>
              <a:rPr b="1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女娲在神祠里祷告，祈求神任命她做女媒。于是女娲就安排男女婚配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请用简洁的语言概括文章的主要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84360" y="31417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050"/>
                </a:solidFill>
                <a:latin typeface="Arial"/>
              </a:rPr>
              <a:t>本文详细叙述了女娲造人的具体过程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FountainGeyser.wmv" descr=""/>
          <p:cNvPicPr/>
          <p:nvPr/>
        </p:nvPicPr>
        <p:blipFill>
          <a:blip r:embed="rId1"/>
          <a:stretch/>
        </p:blipFill>
        <p:spPr>
          <a:xfrm>
            <a:off x="225360" y="512640"/>
            <a:ext cx="3140280" cy="2529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645000" y="1054080"/>
            <a:ext cx="373536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主旨概括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2484360" y="2401920"/>
            <a:ext cx="61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本文详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叙述了女娲造人的具体过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，表现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原始初民对人类自身来源的好奇、追求，以及在当时社会生活条件下所作出的极富想象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的解释。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9" dur="40046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2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94920" y="1125000"/>
            <a:ext cx="346716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一天变化七十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揉黄泥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挥洒泥浆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68360" y="37162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寂寞孤独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自豪欣慰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舒体"/>
              </a:rPr>
              <a:t>忙碌疲倦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…………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851280" y="38606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3851280" y="1413000"/>
            <a:ext cx="289080" cy="1726920"/>
          </a:xfrm>
          <a:custGeom>
            <a:avLst/>
            <a:gdLst>
              <a:gd name="textAreaLeft" fmla="*/ 0 w 289080"/>
              <a:gd name="textAreaRight" fmla="*/ 104400 w 28908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356000" y="155736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神”的非凡能力和神奇方法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42764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”的心理、情感、活动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6732720" y="1413000"/>
            <a:ext cx="216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想象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大胆奇特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6732720" y="3860640"/>
            <a:ext cx="241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想象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真实合理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2664000" y="2109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彩云"/>
              </a:rPr>
              <a:t>女娲的形象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0" y="2971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女娲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4" name="Line 3"/>
          <p:cNvSpPr/>
          <p:nvPr/>
        </p:nvSpPr>
        <p:spPr>
          <a:xfrm flipV="1">
            <a:off x="1523880" y="2895120"/>
            <a:ext cx="1295640" cy="38124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1523880" y="3733920"/>
            <a:ext cx="1295640" cy="22860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6095880" y="4114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2895480" y="2362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神性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819520" y="35812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人性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4419720" y="2819520"/>
            <a:ext cx="838080" cy="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572000" y="4114800"/>
            <a:ext cx="762120" cy="0"/>
          </a:xfrm>
          <a:prstGeom prst="line">
            <a:avLst/>
          </a:prstGeom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334120" y="22860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  <a:ea typeface="宋体"/>
              </a:rPr>
              <a:t>神通广大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746748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486400" y="34290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宋体"/>
              </a:rPr>
              <a:t>勤劳、聪明、有爱心、有创造力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94" name="Picture 13" descr="未标题-1"/>
          <p:cNvPicPr/>
          <p:nvPr/>
        </p:nvPicPr>
        <p:blipFill>
          <a:blip r:embed="rId1"/>
          <a:stretch/>
        </p:blipFill>
        <p:spPr>
          <a:xfrm>
            <a:off x="0" y="4005360"/>
            <a:ext cx="2266920" cy="2852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未标题-1"/>
          <p:cNvPicPr/>
          <p:nvPr/>
        </p:nvPicPr>
        <p:blipFill>
          <a:blip r:embed="rId2"/>
          <a:stretch/>
        </p:blipFill>
        <p:spPr>
          <a:xfrm>
            <a:off x="6721560" y="0"/>
            <a:ext cx="2422440" cy="2205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5"/>
          <p:cNvSpPr/>
          <p:nvPr/>
        </p:nvSpPr>
        <p:spPr>
          <a:xfrm>
            <a:off x="1523880" y="1125360"/>
            <a:ext cx="54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彩云"/>
              </a:rPr>
              <a:t>女娲的形象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357120" y="928800"/>
            <a:ext cx="83343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0059"/>
                </a:solidFill>
                <a:latin typeface="Calibri"/>
              </a:rPr>
              <a:t>1</a:t>
            </a:r>
            <a:r>
              <a:rPr b="0" lang="zh-CN" sz="2200" spc="-1" strike="noStrike">
                <a:solidFill>
                  <a:srgbClr val="e40059"/>
                </a:solidFill>
                <a:latin typeface="Calibri"/>
                <a:ea typeface="宋体"/>
              </a:rPr>
              <a:t>、第三段“添一点什么东西进去呢？”在文中起什么作用？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它是过渡句，承上启下，引出后文女娲造人一事。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0059"/>
                </a:solidFill>
                <a:latin typeface="Calibri"/>
              </a:rPr>
              <a:t>2</a:t>
            </a:r>
            <a:r>
              <a:rPr b="0" lang="zh-CN" sz="2200" spc="-1" strike="noStrike">
                <a:solidFill>
                  <a:srgbClr val="e40059"/>
                </a:solidFill>
                <a:latin typeface="Calibri"/>
                <a:ea typeface="宋体"/>
              </a:rPr>
              <a:t>、第四段中作者对女娲采用了什么描写？突出女娲什么特点？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b050"/>
                </a:solidFill>
                <a:latin typeface="Calibri"/>
                <a:ea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在这里，作者采用动作描写，如“走”“蹲”；神态描写如“笑”“假装生气”。</a:t>
            </a:r>
            <a:r>
              <a:rPr b="1" lang="zh-CN" sz="2200" spc="-1" strike="noStrike">
                <a:solidFill>
                  <a:srgbClr val="0000ff"/>
                </a:solidFill>
                <a:latin typeface="Calibri"/>
                <a:ea typeface="宋体"/>
              </a:rPr>
              <a:t>这些描写突出了女娲是个活泼、可爱的女神。正因为她的可爱，当她感到孤独时，她才想到造人，造和自己一样的人。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0059"/>
                </a:solidFill>
                <a:latin typeface="Calibri"/>
              </a:rPr>
              <a:t>3</a:t>
            </a:r>
            <a:r>
              <a:rPr b="0" lang="zh-CN" sz="2200" spc="-1" strike="noStrike">
                <a:solidFill>
                  <a:srgbClr val="e40059"/>
                </a:solidFill>
                <a:latin typeface="Calibri"/>
                <a:ea typeface="宋体"/>
              </a:rPr>
              <a:t>、读第五段，体会“掘”“掺”“揉”对刻画人物的作用。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  <a:ea typeface="宋体"/>
              </a:rPr>
              <a:t>掘”“掺”“揉”等动词用得极其准确，</a:t>
            </a:r>
            <a:r>
              <a:rPr b="1" lang="zh-CN" sz="2200" spc="-1" strike="noStrike">
                <a:solidFill>
                  <a:srgbClr val="0000ff"/>
                </a:solidFill>
                <a:latin typeface="Calibri"/>
                <a:ea typeface="宋体"/>
              </a:rPr>
              <a:t>生动地刻画了女娲造人的一系列动作和过程，表现了女娲造人时的慎重、娴熟、认真、执著。</a:t>
            </a: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598" name="Title 18" descr=""/>
          <p:cNvPicPr/>
          <p:nvPr/>
        </p:nvPicPr>
        <p:blipFill>
          <a:blip r:embed="rId1"/>
          <a:stretch/>
        </p:blipFill>
        <p:spPr>
          <a:xfrm>
            <a:off x="2639880" y="73080"/>
            <a:ext cx="393228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16"/>
          <p:cNvSpPr/>
          <p:nvPr/>
        </p:nvSpPr>
        <p:spPr>
          <a:xfrm>
            <a:off x="4572000" y="1295280"/>
            <a:ext cx="41148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00" name="TextBox 18"/>
          <p:cNvSpPr/>
          <p:nvPr/>
        </p:nvSpPr>
        <p:spPr>
          <a:xfrm>
            <a:off x="785880" y="1500120"/>
            <a:ext cx="75009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1206360" y="1206360"/>
            <a:ext cx="6804000" cy="4011480"/>
            <a:chOff x="1206360" y="1206360"/>
            <a:chExt cx="6804000" cy="4011480"/>
          </a:xfrm>
        </p:grpSpPr>
        <p:pic>
          <p:nvPicPr>
            <p:cNvPr id="602" name="Right Arrow 19" descr=""/>
            <p:cNvPicPr/>
            <p:nvPr/>
          </p:nvPicPr>
          <p:blipFill>
            <a:blip r:embed="rId1"/>
            <a:stretch/>
          </p:blipFill>
          <p:spPr>
            <a:xfrm>
              <a:off x="1206360" y="1206360"/>
              <a:ext cx="680400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6"/>
            <p:cNvSpPr/>
            <p:nvPr/>
          </p:nvSpPr>
          <p:spPr>
            <a:xfrm>
              <a:off x="2214360" y="2214360"/>
              <a:ext cx="578664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604" name="Group 7"/>
          <p:cNvGrpSpPr/>
          <p:nvPr/>
        </p:nvGrpSpPr>
        <p:grpSpPr>
          <a:xfrm>
            <a:off x="3346560" y="4724280"/>
            <a:ext cx="1066680" cy="500040"/>
            <a:chOff x="3346560" y="4724280"/>
            <a:chExt cx="1066680" cy="500040"/>
          </a:xfrm>
        </p:grpSpPr>
        <p:pic>
          <p:nvPicPr>
            <p:cNvPr id="605" name="Right Arrow 20" descr=""/>
            <p:cNvPicPr/>
            <p:nvPr/>
          </p:nvPicPr>
          <p:blipFill>
            <a:blip r:embed="rId2"/>
            <a:stretch/>
          </p:blipFill>
          <p:spPr>
            <a:xfrm>
              <a:off x="3346560" y="4724280"/>
              <a:ext cx="1066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9"/>
            <p:cNvSpPr/>
            <p:nvPr/>
          </p:nvSpPr>
          <p:spPr>
            <a:xfrm>
              <a:off x="3475080" y="4852800"/>
              <a:ext cx="932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sp>
        <p:nvSpPr>
          <p:cNvPr id="60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0059"/>
                </a:solidFill>
                <a:latin typeface="Calibri"/>
              </a:rPr>
              <a:t>4</a:t>
            </a:r>
            <a:r>
              <a:rPr b="0" lang="zh-CN" sz="3000" spc="-1" strike="noStrike">
                <a:solidFill>
                  <a:srgbClr val="e40059"/>
                </a:solidFill>
                <a:latin typeface="Calibri"/>
              </a:rPr>
              <a:t>、第九段表现了女娲怎样的心理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zh-CN" sz="3800" spc="-1" strike="noStrike">
                <a:solidFill>
                  <a:srgbClr val="0000ff"/>
                </a:solidFill>
                <a:latin typeface="Calibri"/>
              </a:rPr>
              <a:t>女娲“满心欢喜”“眉开眼笑”，充分表明女娲对小家伙的喜爱，她的心里充满欢乐、喜悦，因为这个世界终于有了活力，不再单调、寂寞了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114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0059"/>
                </a:solidFill>
                <a:latin typeface="Calibri"/>
              </a:rPr>
              <a:t>5</a:t>
            </a:r>
            <a:r>
              <a:rPr b="0" lang="zh-CN" sz="3000" spc="-1" strike="noStrike">
                <a:solidFill>
                  <a:srgbClr val="e40059"/>
                </a:solidFill>
                <a:latin typeface="Calibri"/>
              </a:rPr>
              <a:t>、第十三段按什么顺序写的？表现了女娲怎样的精神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800" spc="-1" strike="noStrike">
                <a:solidFill>
                  <a:srgbClr val="000000"/>
                </a:solidFill>
                <a:latin typeface="Calibri"/>
              </a:rPr>
              <a:t>运用时间顺序，写女娲夜以继日地工作，表现了她执著而忘我的工作精神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411280" y="1844280"/>
            <a:ext cx="48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cc3300"/>
                </a:solidFill>
                <a:latin typeface="Arial"/>
                <a:ea typeface="华文新魏"/>
              </a:rPr>
              <a:t>《风俗通》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通常说天地开辟以后，还没有人类。女娲揉团黄土造成人。这项工作太费力了，女娲忙不过来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就把一跟绳子放到 泥浆中，拉出来 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溅出的泥点子就成了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    </a:t>
            </a:r>
            <a:r>
              <a:rPr b="1" lang="zh-CN" sz="3600" spc="-1" strike="noStrike">
                <a:solidFill>
                  <a:srgbClr val="cc3300"/>
                </a:solidFill>
                <a:latin typeface="方正隶书简体"/>
                <a:ea typeface="方正隶书简体"/>
              </a:rPr>
              <a:t>女娲在神祠里祷告，祈求神任命她做女媒。于是女娲就安排男女婚配。</a:t>
            </a:r>
            <a:r>
              <a:rPr b="1" lang="zh-CN" sz="3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方正隶书简体"/>
                <a:ea typeface="方正隶书简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900000" y="90792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彩云"/>
              </a:rPr>
              <a:t>本文根据什么而改写？</a:t>
            </a:r>
            <a:endParaRPr b="0" lang="en-US" sz="44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20067161722496071"/>
          <p:cNvPicPr/>
          <p:nvPr/>
        </p:nvPicPr>
        <p:blipFill>
          <a:blip r:embed="rId1"/>
          <a:stretch/>
        </p:blipFill>
        <p:spPr>
          <a:xfrm>
            <a:off x="1258920" y="620640"/>
            <a:ext cx="7200720" cy="49323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3637080" y="5589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炼石补天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755640" y="1992960"/>
            <a:ext cx="734544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在原来的基础上增加了：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①女娲造人的具体过程；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②人造出来之后欢乐喜悦的场面；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③女娲像人一样具有心理活动和喜怒哀乐等情绪；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④作者的评述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612" name="Picture 3" descr="小树"/>
          <p:cNvPicPr/>
          <p:nvPr/>
        </p:nvPicPr>
        <p:blipFill>
          <a:blip r:embed="rId1"/>
          <a:stretch/>
        </p:blipFill>
        <p:spPr>
          <a:xfrm>
            <a:off x="6249960" y="641520"/>
            <a:ext cx="10587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图片12"/>
          <p:cNvPicPr/>
          <p:nvPr/>
        </p:nvPicPr>
        <p:blipFill>
          <a:blip r:embed="rId1"/>
          <a:stretch/>
        </p:blipFill>
        <p:spPr>
          <a:xfrm>
            <a:off x="-2363760" y="-1555920"/>
            <a:ext cx="11507760" cy="841392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"/>
          <p:cNvSpPr/>
          <p:nvPr/>
        </p:nvSpPr>
        <p:spPr>
          <a:xfrm>
            <a:off x="2133720" y="838080"/>
            <a:ext cx="632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细节描写</a:t>
            </a: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指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表达中心的需要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对表现人物性格和情节发展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有特殊作用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动作、神情等一些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细小环节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进行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细致描写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如：人物的一举手，一投足，一句话，一个眼神等）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细节描写不仅能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表现人物感情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透视人物心理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更能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揭示人物性格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使人物形象栩栩如生，形神毕现，收到点滴传神的艺术效果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615" name="Picture 4" descr="后退"/>
          <p:cNvPicPr/>
          <p:nvPr/>
        </p:nvPicPr>
        <p:blipFill>
          <a:blip r:embed="rId2"/>
          <a:stretch/>
        </p:blipFill>
        <p:spPr>
          <a:xfrm>
            <a:off x="0" y="6346800"/>
            <a:ext cx="511200" cy="511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3"/>
          <p:cNvSpPr/>
          <p:nvPr/>
        </p:nvSpPr>
        <p:spPr>
          <a:xfrm>
            <a:off x="857160" y="1285920"/>
            <a:ext cx="77868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9e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349e"/>
                </a:solidFill>
                <a:latin typeface="Calibri"/>
                <a:ea typeface="宋体"/>
              </a:rPr>
              <a:t>、记叙中的议论，画龙点睛。</a:t>
            </a:r>
            <a:endParaRPr b="0" lang="en-US" sz="24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4e003f"/>
                </a:solidFill>
                <a:latin typeface="Calibri"/>
                <a:ea typeface="宋体"/>
              </a:rPr>
              <a:t>本文以记叙为主，但女娲造人的两个阶段性过程用两个议论段，通过女娲的心理活动，不着痕迹地连接起来，既符合人的思维发展规律，又使故事有了完整性。</a:t>
            </a:r>
            <a:endParaRPr b="0" lang="en-US" sz="24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9e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349e"/>
                </a:solidFill>
                <a:latin typeface="Calibri"/>
                <a:ea typeface="宋体"/>
              </a:rPr>
              <a:t>、本文语言给人一种柔美、新鲜、喜悦、娓娓道来之感。</a:t>
            </a:r>
            <a:endParaRPr b="0" lang="en-US" sz="2400" spc="-1" strike="noStrike">
              <a:solidFill>
                <a:srgbClr val="cc00cc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2400" spc="-1" strike="noStrike">
                <a:solidFill>
                  <a:srgbClr val="4e005f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4e005f"/>
                </a:solidFill>
                <a:latin typeface="Calibri"/>
                <a:ea typeface="宋体"/>
              </a:rPr>
              <a:t>孤独”“笑”“生气”“灵机一动”“满心欢喜”“眉开眼笑”等词语把女神的人性惟妙惟肖地刻画出来，给人以亲切、温柔之感。而人的“开口就喊”“兴高采烈”“跳跃”“欢呼”“聪明美丽”“非凡的气概”又处处洋溢着诞生的喜悦感。</a:t>
            </a:r>
            <a:endParaRPr b="0" lang="en-US" sz="2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2214360" y="428400"/>
            <a:ext cx="4214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作特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514600" y="3808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  <a:ea typeface="宋体"/>
              </a:rPr>
              <a:t>   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华文彩云"/>
              </a:rPr>
              <a:t>教师小结</a:t>
            </a:r>
            <a:endParaRPr b="0" lang="en-US" sz="54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611280" y="1628640"/>
            <a:ext cx="7926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女娲造人，体现了人类可贵的创造力与探求精神，也使我们感受到生而为人的自豪。今天，我们面对的广大世界，依然有许多未知领域等待我们去探求，去追索，去感受那种创造成功的喜悦。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468360" y="981000"/>
            <a:ext cx="813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想象力比知识更重要。因为知识是有限的，而想象概括着世界上的一切，推动着社会的进步，成为知识进化的源泉。——爱因斯坦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想象力是发明、发现及其他创造活动的源泉。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古希腊的亚里士多德  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想象力是人类能力的试金石，人们正是依靠想象力征服世界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被誉为创造学之父的奥斯本</a:t>
            </a:r>
            <a:r>
              <a:rPr b="1" lang="en-US" sz="3600" spc="-1" strike="noStrike">
                <a:solidFill>
                  <a:srgbClr val="cc3300"/>
                </a:solidFill>
                <a:latin typeface="宋体"/>
                <a:ea typeface="楷体_GB2312"/>
              </a:rPr>
              <a:t> 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21" name="WordArt 3"/>
          <p:cNvSpPr txBox="1"/>
          <p:nvPr/>
        </p:nvSpPr>
        <p:spPr>
          <a:xfrm>
            <a:off x="250920" y="189000"/>
            <a:ext cx="381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名言积累（想象力）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4138560" y="58024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女娲造人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50" name="Picture 3" descr="图片1人"/>
          <p:cNvPicPr/>
          <p:nvPr/>
        </p:nvPicPr>
        <p:blipFill>
          <a:blip r:embed="rId1"/>
          <a:stretch/>
        </p:blipFill>
        <p:spPr>
          <a:xfrm>
            <a:off x="1260360" y="836640"/>
            <a:ext cx="7056720" cy="4896000"/>
          </a:xfrm>
          <a:prstGeom prst="rect">
            <a:avLst/>
          </a:prstGeom>
          <a:ln w="38160">
            <a:solidFill>
              <a:srgbClr val="ff66ff"/>
            </a:solidFill>
            <a:miter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1547640" y="985680"/>
            <a:ext cx="69850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女娲：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中国上古神话中的创世女神。传说女娲用黄土仿照自己造成了人，创造了人类社会。又替人类建立了婚姻制度，使青年男女相互婚配，繁衍后代，因此被传为婚姻女神。她是神话传说里中华民族伟大的母亲，她慈祥地创造了人类，又勇敢地炼五色石补天，使人类免受天灾。她是我国民间流传广泛而又长久崇拜的创世神和始祖神。 </a:t>
            </a:r>
            <a:endParaRPr b="0" lang="en-US" sz="30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1403280" y="765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让我们一起穿越千年，来到人类的原始，感受女娲造人的神秘力量。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53" name="Picture 3" descr="bfb7ce502e11af918d543058"/>
          <p:cNvPicPr/>
          <p:nvPr/>
        </p:nvPicPr>
        <p:blipFill>
          <a:blip r:embed="rId1"/>
          <a:stretch/>
        </p:blipFill>
        <p:spPr>
          <a:xfrm>
            <a:off x="1476360" y="1878120"/>
            <a:ext cx="6840720" cy="4214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55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cc"/>
              </a:solidFill>
              <a:latin typeface="Arial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714240" y="1557360"/>
            <a:ext cx="2057400" cy="2708280"/>
            <a:chOff x="714240" y="1557360"/>
            <a:chExt cx="2057400" cy="2708280"/>
          </a:xfrm>
        </p:grpSpPr>
        <p:grpSp>
          <p:nvGrpSpPr>
            <p:cNvPr id="457" name="Group 5"/>
            <p:cNvGrpSpPr/>
            <p:nvPr/>
          </p:nvGrpSpPr>
          <p:grpSpPr>
            <a:xfrm>
              <a:off x="1128240" y="2296080"/>
              <a:ext cx="1208520" cy="1969560"/>
              <a:chOff x="1128240" y="2296080"/>
              <a:chExt cx="1208520" cy="1969560"/>
            </a:xfrm>
          </p:grpSpPr>
          <p:pic>
            <p:nvPicPr>
              <p:cNvPr id="458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8240" y="2296080"/>
                <a:ext cx="1208520" cy="19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 Box 7"/>
              <p:cNvSpPr/>
              <p:nvPr/>
            </p:nvSpPr>
            <p:spPr>
              <a:xfrm>
                <a:off x="1326960" y="2514240"/>
                <a:ext cx="810360" cy="10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             </a:t>
                </a:r>
                <a:endParaRPr b="0" lang="en-US" sz="1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pic>
          <p:nvPicPr>
            <p:cNvPr id="460" name="TextBox 13" descr=""/>
            <p:cNvPicPr/>
            <p:nvPr/>
          </p:nvPicPr>
          <p:blipFill>
            <a:blip r:embed="rId2"/>
            <a:stretch/>
          </p:blipFill>
          <p:spPr>
            <a:xfrm>
              <a:off x="714240" y="1557360"/>
              <a:ext cx="205740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Box 12"/>
            <p:cNvSpPr/>
            <p:nvPr/>
          </p:nvSpPr>
          <p:spPr>
            <a:xfrm>
              <a:off x="1220400" y="2773440"/>
              <a:ext cx="107496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认识本课生字</a:t>
              </a:r>
              <a:endParaRPr b="0" lang="en-US" sz="2400" spc="-1" strike="noStrike">
                <a:solidFill>
                  <a:srgbClr val="cc00cc"/>
                </a:solidFill>
                <a:latin typeface="Arial"/>
              </a:endParaRPr>
            </a:p>
          </p:txBody>
        </p:sp>
      </p:grpSp>
      <p:grpSp>
        <p:nvGrpSpPr>
          <p:cNvPr id="462" name="Group 10"/>
          <p:cNvGrpSpPr/>
          <p:nvPr/>
        </p:nvGrpSpPr>
        <p:grpSpPr>
          <a:xfrm>
            <a:off x="3571920" y="1643040"/>
            <a:ext cx="2057400" cy="2708280"/>
            <a:chOff x="3571920" y="1643040"/>
            <a:chExt cx="2057400" cy="2708280"/>
          </a:xfrm>
        </p:grpSpPr>
        <p:grpSp>
          <p:nvGrpSpPr>
            <p:cNvPr id="463" name="Group 11"/>
            <p:cNvGrpSpPr/>
            <p:nvPr/>
          </p:nvGrpSpPr>
          <p:grpSpPr>
            <a:xfrm>
              <a:off x="4009680" y="2342160"/>
              <a:ext cx="1178280" cy="2009160"/>
              <a:chOff x="4009680" y="2342160"/>
              <a:chExt cx="1178280" cy="2009160"/>
            </a:xfrm>
          </p:grpSpPr>
          <p:pic>
            <p:nvPicPr>
              <p:cNvPr id="464" name="Ova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09680" y="2342160"/>
                <a:ext cx="1178280" cy="20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Text Box 13"/>
              <p:cNvSpPr/>
              <p:nvPr/>
            </p:nvSpPr>
            <p:spPr>
              <a:xfrm>
                <a:off x="4194000" y="2565000"/>
                <a:ext cx="810360" cy="10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             </a:t>
                </a:r>
                <a:endParaRPr b="0" lang="en-US" sz="1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pic>
          <p:nvPicPr>
            <p:cNvPr id="466" name="TextBox 14" descr=""/>
            <p:cNvPicPr/>
            <p:nvPr/>
          </p:nvPicPr>
          <p:blipFill>
            <a:blip r:embed="rId4"/>
            <a:stretch/>
          </p:blipFill>
          <p:spPr>
            <a:xfrm>
              <a:off x="3571920" y="1643040"/>
              <a:ext cx="2057400" cy="242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Box 15"/>
            <p:cNvSpPr/>
            <p:nvPr/>
          </p:nvSpPr>
          <p:spPr>
            <a:xfrm>
              <a:off x="4059360" y="2897280"/>
              <a:ext cx="10749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468" name="Group 16"/>
            <p:cNvGrpSpPr/>
            <p:nvPr/>
          </p:nvGrpSpPr>
          <p:grpSpPr>
            <a:xfrm>
              <a:off x="4155840" y="2373480"/>
              <a:ext cx="889560" cy="953280"/>
              <a:chOff x="4155840" y="2373480"/>
              <a:chExt cx="889560" cy="953280"/>
            </a:xfrm>
          </p:grpSpPr>
          <p:pic>
            <p:nvPicPr>
              <p:cNvPr id="469" name="Oval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5840" y="2373480"/>
                <a:ext cx="88956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Text Box 18"/>
              <p:cNvSpPr/>
              <p:nvPr/>
            </p:nvSpPr>
            <p:spPr>
              <a:xfrm>
                <a:off x="4288680" y="2514600"/>
                <a:ext cx="623520" cy="66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       </a:t>
                </a:r>
                <a:endParaRPr b="0" lang="en-US" sz="1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19"/>
          <p:cNvGrpSpPr/>
          <p:nvPr/>
        </p:nvGrpSpPr>
        <p:grpSpPr>
          <a:xfrm>
            <a:off x="6072120" y="2000160"/>
            <a:ext cx="2395440" cy="2067120"/>
            <a:chOff x="6072120" y="2000160"/>
            <a:chExt cx="2395440" cy="2067120"/>
          </a:xfrm>
        </p:grpSpPr>
        <p:grpSp>
          <p:nvGrpSpPr>
            <p:cNvPr id="472" name="Group 20"/>
            <p:cNvGrpSpPr/>
            <p:nvPr/>
          </p:nvGrpSpPr>
          <p:grpSpPr>
            <a:xfrm>
              <a:off x="6235560" y="2009160"/>
              <a:ext cx="2158920" cy="2058120"/>
              <a:chOff x="6235560" y="2009160"/>
              <a:chExt cx="2158920" cy="2058120"/>
            </a:xfrm>
          </p:grpSpPr>
          <p:pic>
            <p:nvPicPr>
              <p:cNvPr id="473" name="Oval 4" descr=""/>
              <p:cNvPicPr/>
              <p:nvPr/>
            </p:nvPicPr>
            <p:blipFill>
              <a:blip r:embed="rId6"/>
              <a:stretch/>
            </p:blipFill>
            <p:spPr>
              <a:xfrm>
                <a:off x="6235560" y="2009160"/>
                <a:ext cx="2158920" cy="20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Text Box 22"/>
              <p:cNvSpPr/>
              <p:nvPr/>
            </p:nvSpPr>
            <p:spPr>
              <a:xfrm>
                <a:off x="6591240" y="2235240"/>
                <a:ext cx="1447200" cy="10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             </a:t>
                </a:r>
                <a:endParaRPr b="0" lang="en-US" sz="18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  <p:sp>
          <p:nvSpPr>
            <p:cNvPr id="475" name="TextBox 17"/>
            <p:cNvSpPr/>
            <p:nvPr/>
          </p:nvSpPr>
          <p:spPr>
            <a:xfrm>
              <a:off x="6378840" y="2547000"/>
              <a:ext cx="19206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cc"/>
                </a:solidFill>
                <a:latin typeface="Arial"/>
              </a:endParaRPr>
            </a:p>
          </p:txBody>
        </p:sp>
        <p:grpSp>
          <p:nvGrpSpPr>
            <p:cNvPr id="476" name="Group 24"/>
            <p:cNvGrpSpPr/>
            <p:nvPr/>
          </p:nvGrpSpPr>
          <p:grpSpPr>
            <a:xfrm>
              <a:off x="6072120" y="2000160"/>
              <a:ext cx="2395440" cy="1293840"/>
              <a:chOff x="6072120" y="2000160"/>
              <a:chExt cx="2395440" cy="1293840"/>
            </a:xfrm>
          </p:grpSpPr>
          <p:pic>
            <p:nvPicPr>
              <p:cNvPr id="477" name="Oval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072120" y="2000160"/>
                <a:ext cx="2395440" cy="12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Text Box 26"/>
              <p:cNvSpPr/>
              <p:nvPr/>
            </p:nvSpPr>
            <p:spPr>
              <a:xfrm>
                <a:off x="6427800" y="2193120"/>
                <a:ext cx="1685160" cy="9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                                                                                               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分析重点语句</a:t>
                </a:r>
                <a:endParaRPr b="0" lang="en-US" sz="2400" spc="-1" strike="noStrike">
                  <a:solidFill>
                    <a:srgbClr val="cc00cc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矩形 24"/>
          <p:cNvSpPr/>
          <p:nvPr/>
        </p:nvSpPr>
        <p:spPr>
          <a:xfrm>
            <a:off x="3714840" y="2428920"/>
            <a:ext cx="17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了解作者及本文结构</a:t>
            </a:r>
            <a:endParaRPr b="0" lang="en-US" sz="24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80" name="矩形 18" descr=""/>
          <p:cNvPicPr/>
          <p:nvPr/>
        </p:nvPicPr>
        <p:blipFill>
          <a:blip r:embed="rId8"/>
          <a:stretch/>
        </p:blipFill>
        <p:spPr>
          <a:xfrm>
            <a:off x="933480" y="109440"/>
            <a:ext cx="3699000" cy="1401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700000" y="1400040"/>
            <a:ext cx="3035160" cy="8510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学习重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03280" y="292428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大胆而新奇的想象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03280" y="4076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、感受、理解女娲形象。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9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987640" y="692280"/>
            <a:ext cx="2602080" cy="792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900000" y="1908000"/>
            <a:ext cx="83534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女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澄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）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绵延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灵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    ) 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广大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枯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 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起  （     ）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莽莽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榛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（          ）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2197080" y="19782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ā 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5589720" y="1908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héng  chè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2193840" y="2619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óu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5869080" y="26208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ián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7029360" y="26208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yán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2125800" y="342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718240" y="342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ǐn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2950920" y="42958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én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5" name="Rectangle 12"/>
          <p:cNvSpPr/>
          <p:nvPr/>
        </p:nvSpPr>
        <p:spPr>
          <a:xfrm>
            <a:off x="5869440" y="42958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éng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496" name="Picture 13" descr="838383 (18)"/>
          <p:cNvPicPr/>
          <p:nvPr/>
        </p:nvPicPr>
        <p:blipFill>
          <a:blip r:embed="rId1"/>
          <a:stretch/>
        </p:blipFill>
        <p:spPr>
          <a:xfrm>
            <a:off x="5738760" y="750960"/>
            <a:ext cx="849240" cy="66204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4"/>
          <p:cNvSpPr/>
          <p:nvPr/>
        </p:nvSpPr>
        <p:spPr>
          <a:xfrm>
            <a:off x="2482560" y="50752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ì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5921280" y="5075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ué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3184560" y="591660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zhēn     zhēn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23:48:28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7T07:05:14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