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9D48-ECE6-4D81-94D5-C8F55891E0E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方式：横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纵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在线帮助，可跳出当前使用功能的帮助文件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ift+F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Occ. Grap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简单的酒店出租率表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vailable Room Searc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可卖房查询，具体房间，只能查询，不能排房；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trl+F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中某天点击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etail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出现预订详情；每个房型的每种预订类型的预订数（不同房型的各种预订类型的分类）；用于查看客房预订结构。可在客房紧张时对预订情况进行分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0CAC9-B736-4A8C-8109-EDD28750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A9A3D-B11A-4CE3-A03D-8C9F807D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C1767-887E-42E0-A4CF-4203FEB4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56BB-D54F-4211-A353-C29285AB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D06E-0858-4CDA-B003-0821E260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819D-7E90-4673-B81F-03073EB9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3F6D-46DF-4EE8-B75B-F4EC393C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FE24-6BAA-4B1C-B626-6F6CB90F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531E-C1FD-4C1D-AD69-A8A8A5F0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0CD8-C326-4967-ADAC-B0D53F08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76DE-FA43-4F63-8460-17573608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95ABD-48FB-46C9-9685-61F01C3E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DAA9-88AA-4341-85AC-6EF7FAE5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0269-C014-485E-858F-04DFA341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5E6D-35F6-43B3-9B09-A0DA8C7E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AC5D-2059-4BA0-B14E-D873C163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A100-F23F-4E44-BA95-75E5AF8D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0DF3D-174A-4406-A0FD-ED2EF607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241B9-3EDE-4E40-867C-69D7FFC2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AB7A8-2674-4CD7-B811-8FB36063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FF71A-0EAC-4F2D-BDC2-2035F270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CA8F6-F96F-443F-A00A-CCB0EA90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B284F-28CC-4C19-8A56-1C883987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02C11-3E1D-4A2E-8E35-45DFAAA1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D97B-5A5A-4EA7-BA40-01E9854AC88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4B1A-EF42-4504-BA51-633E69E3699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OPERA PMS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7448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前台电脑系统知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客史查询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预订的建立与查询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入住客人查询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快捷键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59280" y="3645000"/>
            <a:ext cx="396072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预订查询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2492280"/>
            <a:ext cx="86364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2637000"/>
            <a:ext cx="129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点击入住成功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956720" y="4941720"/>
            <a:ext cx="914400" cy="28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788000" y="5084640"/>
            <a:ext cx="3168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入住客人查询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0" t="1399" r="22178" b="25342"/>
          <a:stretch/>
        </p:blipFill>
        <p:spPr>
          <a:xfrm>
            <a:off x="0" y="1413000"/>
            <a:ext cx="9144000" cy="5449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79280" y="2852640"/>
            <a:ext cx="91440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116000" y="2923920"/>
            <a:ext cx="86364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80360" y="5950080"/>
            <a:ext cx="7920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入住客人信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2938" r="20244" b="29727"/>
          <a:stretch/>
        </p:blipFill>
        <p:spPr>
          <a:xfrm>
            <a:off x="0" y="1341360"/>
            <a:ext cx="9144000" cy="5518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835280" y="3573360"/>
            <a:ext cx="64908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4292640"/>
            <a:ext cx="91440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88000" y="3573360"/>
            <a:ext cx="91440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5300640"/>
            <a:ext cx="576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系统快捷键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快捷键界面</a:t>
            </a:r>
            <a:br>
              <a:rPr sz="4000"/>
            </a:b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Miscellaneous→Show Quick Key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6341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F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Opera Help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；在线帮助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F3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Available Room Search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；具体可卖房查询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Shift+F3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House Status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；房间状态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Ctrl+F3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Room Plan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；房间列表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cc00"/>
                </a:solidFill>
                <a:uFillTx/>
                <a:latin typeface="Garamond"/>
                <a:hlinkClick r:id="rId4" action="ppaction://hlinksldjump"/>
              </a:rPr>
              <a:t>Shift+F5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Floor Plan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；楼层图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F7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New Resv.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；新建预订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F8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Logout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；用户切换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"/>
          <p:cNvSpPr/>
          <p:nvPr/>
        </p:nvSpPr>
        <p:spPr>
          <a:xfrm>
            <a:off x="2103480" y="431640"/>
            <a:ext cx="448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快捷键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 rot="4177800">
            <a:off x="8497080" y="6057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F3: 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可用房查询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rcRect l="0" t="5404" r="16919" b="31506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 rot="4177800">
            <a:off x="8497080" y="6057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rcRect l="0" t="5677" r="20891" b="21016"/>
          <a:stretch/>
        </p:blipFill>
        <p:spPr>
          <a:xfrm>
            <a:off x="0" y="1413000"/>
            <a:ext cx="9144000" cy="5454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979640" y="476280"/>
            <a:ext cx="52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hift + F3: 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房间状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Ctrl + F3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：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Room Pl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278" r="9431" b="18680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11879" r="1695" b="4526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158280" y="4046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系统登陆界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Shift + F5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：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Floor Plan 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楼层图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2591" r="38976" b="38678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148360" y="2781360"/>
            <a:ext cx="914400" cy="28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Shift + F5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：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Floor Plan 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楼层图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3942" r="9127" b="16753"/>
          <a:stretch/>
        </p:blipFill>
        <p:spPr>
          <a:xfrm>
            <a:off x="0" y="1413000"/>
            <a:ext cx="914400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F7: 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新建预订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1296" r="27171" b="32145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F8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：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Logout 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用户切换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144" r="20339" b="36007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操作界面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3911" r="0" b="0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H="1">
            <a:off x="900000" y="4221000"/>
            <a:ext cx="936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22400" y="4005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5e5ff"/>
                </a:solidFill>
                <a:latin typeface="Garamond"/>
              </a:rPr>
              <a:t>客户资料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10346" t="15624" r="29208" b="32318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172360" y="5661000"/>
            <a:ext cx="86364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7840" y="333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客史查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28120" y="33336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客史详细内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172360" y="5661000"/>
            <a:ext cx="86364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132000" y="1916280"/>
            <a:ext cx="287640" cy="57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新建预订界面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1798" r="0" b="2902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>
            <a:off x="3564000" y="4149720"/>
            <a:ext cx="2872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0000" y="40053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Garamond"/>
              </a:rPr>
              <a:t>Profi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55280" y="2781360"/>
            <a:ext cx="576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4076640"/>
            <a:ext cx="215640" cy="217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4720" y="6165720"/>
            <a:ext cx="57492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32000" y="40464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预订界面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028000" y="4508640"/>
            <a:ext cx="647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99680" y="404640"/>
            <a:ext cx="196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预订界面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1297" r="3541" b="0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92360" y="4581360"/>
            <a:ext cx="914400" cy="142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3280" y="3573360"/>
            <a:ext cx="9144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7640" y="5157720"/>
            <a:ext cx="9144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04000" y="4797360"/>
            <a:ext cx="100800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507840" y="404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预订完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24360" y="3573360"/>
            <a:ext cx="2087640" cy="935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940360" y="4292280"/>
            <a:ext cx="2160720" cy="1584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7:11:38Z</dcterms:created>
  <dc:creator>Syh</dc:creator>
  <dc:description/>
  <dc:language>en-US</dc:language>
  <cp:lastModifiedBy>April</cp:lastModifiedBy>
  <dcterms:modified xsi:type="dcterms:W3CDTF">2012-07-18T03:52:22Z</dcterms:modified>
  <cp:revision>66</cp:revision>
  <dc:subject/>
  <dc:title>快捷键 Miscellaneous→Show Quick Keys</dc:title>
</cp:coreProperties>
</file>