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F745-0723-428A-9983-8646ABDBF85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方式：横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纵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选中某天点击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etail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出现预订详情；每个房型的每种预订类型的预订数（不同房型的各种预订类型的分类）；用于查看客房预订结构。可在客房紧张时对预订情况进行分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用下拉键头查看详细信息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：刷新；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双键头：表示在哪天退房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颜色：代表市场代码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每天上显示的数字为当天可卖房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双击日历上某一天可用于设置活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选择要查看的楼层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查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在线帮助，可跳出当前使用功能的帮助文件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ift+F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Occ. Graph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简单的酒店出租率表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vailable Room Search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可卖房查询，具体房间，只能查询，不能排房；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trl+F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trl+F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区别在于是一段时间的查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已有预订可出现该预订的详细信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Room Type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：房间类型；打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表示选中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buClr>
                <a:srgbClr val="000000"/>
              </a:buClr>
              <a:buSzPct val="2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ercentag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房间数与百分比之间的切换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SzPct val="2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cop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退回到选择界面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刷新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lock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团队，显示所有在店的团队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etail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详情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aitlis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候补预订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lock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查看当天发生的团队。与选中日期有关，住过选中的日期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71313-0A65-46BE-BE6D-E5BBD3C3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2DE64-D114-40E6-8D1F-E10F8BCC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1CF77-371D-4A32-B4E0-5926F00E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8E8EE-88F5-4540-9AB0-EF5DEA65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B715-4053-4791-8FA4-25ED49DD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346B-B57B-45D4-878E-1E666C25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758A-10A0-485E-829E-F9E183BC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B275-05A2-4E9A-946B-84AD03D5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AAC5-A21C-407B-842C-E6570DB2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D77C-E64A-419B-8DE9-72C5A258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486E-AFEF-4023-A338-F8C2052E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2F144-DDF5-434E-9855-D7AEE303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309A-6FE3-422F-9B5D-4296A87C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92CC-550B-4D7F-BD32-BA8FAA34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2D21-8050-4A9A-BF6F-4769D9FE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712E-9491-4833-9CB2-1B310C23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99AD-2E8A-4397-9FE1-B9C8A015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135DC-641D-4569-A6CF-2BE5195D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8C70C-59D3-4230-9F1A-E7ECF7F3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FD2C1-144F-45A9-8648-A0EEE053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49608-3869-4A69-9169-161802A2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D0AD6-ED13-4260-AF7C-99C5C523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2AFE4-B92F-4698-BD54-8D7D7887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71B71-3C66-4358-99D4-69F730A4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5E57-8072-4D1A-AE3E-5EB3EEC9308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1BE5-160A-43B8-806F-E632694199C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slide" Target="slide19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2.xml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e5ff"/>
                </a:solidFill>
                <a:latin typeface="Garamond"/>
              </a:rPr>
              <a:t>快捷键</a:t>
            </a:r>
            <a:br>
              <a:rPr sz="4000"/>
            </a:b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Miscellaneous→Show Quick Key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867564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e5ff"/>
                </a:solidFill>
                <a:latin typeface="Garamond"/>
              </a:rPr>
              <a:t>Details</a:t>
            </a:r>
            <a:r>
              <a:rPr b="1" lang="zh-CN" sz="2400" spc="-1" strike="noStrike">
                <a:solidFill>
                  <a:srgbClr val="e5e5ff"/>
                </a:solidFill>
                <a:latin typeface="Garamond"/>
              </a:rPr>
              <a:t>：预订详情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704000" cy="403380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rId2" action="ppaction://hlinksldjump"/>
          </p:cNvPr>
          <p:cNvSpPr/>
          <p:nvPr/>
        </p:nvSpPr>
        <p:spPr>
          <a:xfrm rot="4177800">
            <a:off x="8497080" y="6057000"/>
            <a:ext cx="216000" cy="576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e5ff"/>
                </a:solidFill>
                <a:latin typeface="Garamond"/>
              </a:rPr>
              <a:t>Availability</a:t>
            </a:r>
            <a:r>
              <a:rPr b="1" lang="zh-CN" sz="2400" spc="-1" strike="noStrike">
                <a:solidFill>
                  <a:srgbClr val="e5e5ff"/>
                </a:solidFill>
                <a:latin typeface="Garamond"/>
              </a:rPr>
              <a:t>：汇总信息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4221000"/>
            <a:ext cx="3527280" cy="24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Arrivals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抵店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Departures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离店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Adults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成人数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Children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儿童数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OOS Rooms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轻微坏房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OOO Rooms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严重坏房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Rm. Type Obkg.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某房型是否可超预订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Day Type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日历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056720" cy="2590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427640" y="4221000"/>
            <a:ext cx="4032000" cy="24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Waitlist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候补预订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Event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活动，会议，宴会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Total Hotel Avail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整个酒店可卖房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Max. Avail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最大可卖房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Min. Avail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最小可卖房；与最大区别在于未确认预订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House Obkg.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酒店总的超预订；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4177800">
            <a:off x="8497080" y="6057000"/>
            <a:ext cx="216000" cy="576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e5ff"/>
                </a:solidFill>
                <a:latin typeface="Garamond"/>
              </a:rPr>
              <a:t>Blocks</a:t>
            </a:r>
            <a:r>
              <a:rPr b="1" lang="zh-CN" sz="2400" spc="-1" strike="noStrike">
                <a:solidFill>
                  <a:srgbClr val="e5e5ff"/>
                </a:solidFill>
                <a:latin typeface="Garamond"/>
              </a:rPr>
              <a:t>：查看当天发生的团队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24000" y="3933720"/>
            <a:ext cx="5904000" cy="26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Block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实际现在锁房多少间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P/U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分了多少间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%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分房用掉的占所锁房数的百分比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Avail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 剩余多少间没分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Initial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最初锁房数；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Status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团队状态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Block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查看团队主信息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Res.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查看预订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5267160" cy="1962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rot="4177800">
            <a:off x="8497080" y="6057000"/>
            <a:ext cx="216000" cy="576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F3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：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Available Room Search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；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02920" y="5084640"/>
            <a:ext cx="375444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Date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：日期；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Days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：天数；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Room Class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：酒店区域；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Room Type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：房间类型；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Floor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：楼层；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Smoking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：吸烟房；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Room Features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：房间特点；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5545080" cy="3398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759280" y="1998720"/>
            <a:ext cx="3492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房间状态选项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All Rooms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：所有房间；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Clean Rooms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：干净房；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OOS Rooms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：轻微坏房；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Due Out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：预离；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Dirty Rooms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：脏房；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OOO Rooms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：严重坏房；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Checked Out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：已退房；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Incl. Pseudo Rooms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：包括全部假房；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1557360"/>
            <a:ext cx="1800000" cy="93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2205000"/>
            <a:ext cx="792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4177800">
            <a:off x="8424000" y="6057000"/>
            <a:ext cx="216000" cy="576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Shift+F3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：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House Statu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708360" y="4794120"/>
            <a:ext cx="44020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OCC/VAC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：有人住 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/ 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没人住；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Clean Rooms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：干净房；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Dirty Rooms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：脏房；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Out of Order Rooms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：严重坏房；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Out of Service Rooms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：轻微坏房；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Room Class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：酒店区域；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033800" cy="2976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1700280"/>
            <a:ext cx="223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Total Hotel Rooms</a:t>
            </a: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：总房数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Out of Order</a:t>
            </a: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：严重坏房；</a:t>
            </a: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Total Rooms to Sell</a:t>
            </a: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：可卖房数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Out of Service </a:t>
            </a: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：轻微坏房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076640"/>
            <a:ext cx="24112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Stayovers</a:t>
            </a: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：在店客人；注：不是今天到也不是今天走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Departures Expected</a:t>
            </a: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：预离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Departures Actual</a:t>
            </a: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：实际离开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Arrivals Expected</a:t>
            </a: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：预抵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Arrivals Actual</a:t>
            </a: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：实际到店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Extended Stays</a:t>
            </a: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：续住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Day Rooms</a:t>
            </a: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：白天用房，当天来，当天走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Walk Ins</a:t>
            </a: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：上门散客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35640" y="1484280"/>
            <a:ext cx="2808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Min. Available Tonight</a:t>
            </a: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：最少可用房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Max. Occupied Tonight</a:t>
            </a: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：最多住房，包括未确认预订房间数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Max. % Occupied Tonight</a:t>
            </a: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：最大出租率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Blocks not Picked Up</a:t>
            </a: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：锁房未分的房间数；还没有被</a:t>
            </a: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Rooming List</a:t>
            </a: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的房间数，正常应保证为零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Individuals</a:t>
            </a: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：散客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Groups &amp; Blocks</a:t>
            </a: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：团队</a:t>
            </a: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&amp;</a:t>
            </a: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锁房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Housekeeping Status</a:t>
            </a: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：客房部状态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4177800">
            <a:off x="8352000" y="605700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Ctrl+F3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：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Room Plan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88000" y="1557000"/>
            <a:ext cx="4176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Start Date</a:t>
            </a: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：开始日期；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Rooms</a:t>
            </a: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：房号；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Room Features</a:t>
            </a: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：房间特色；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Room Class</a:t>
            </a: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：酒店区域；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Smoking</a:t>
            </a: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：是否吸烟房；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Floor</a:t>
            </a: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：楼层；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Room Type</a:t>
            </a: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：房间类型，打</a:t>
            </a: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选中房间类型。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680000" cy="1717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401920" y="3357720"/>
            <a:ext cx="5267160" cy="3295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91640" y="3499560"/>
            <a:ext cx="121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Room</a:t>
            </a: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：房间号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Type</a:t>
            </a: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：房间类型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Status</a:t>
            </a: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：房间状态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125800" y="3645000"/>
            <a:ext cx="13665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4177800">
            <a:off x="8497080" y="6057000"/>
            <a:ext cx="216000" cy="576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Ctrl+F4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：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Calendar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265800" cy="4056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rot="4177800">
            <a:off x="8497080" y="6057000"/>
            <a:ext cx="216000" cy="576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F5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：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Rate Query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77840" y="5300280"/>
            <a:ext cx="48258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Rate Query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价格查询，可用于新建预订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Rates By Room Number/Type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查询价格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Package Elements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包价查询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Rate Availability Grid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价格有效期查询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698920" y="1557360"/>
            <a:ext cx="3362040" cy="3419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rot="4177800">
            <a:off x="8568000" y="605700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Shift+F5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：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Floor Plan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64000" y="3141360"/>
            <a:ext cx="3384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CL/OC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干净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有人住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CL/DN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干净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预离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DI/OC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脏的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有人住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DI/DN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脏的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预离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CL/AE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干净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预抵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CL/VA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干净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空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DI/AE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脏的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预抵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DI/VA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脏的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空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OS/OO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轻微坏房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严重坏房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95280" y="1049400"/>
            <a:ext cx="3724200" cy="25239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79280" y="3592440"/>
            <a:ext cx="5004000" cy="31496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 rot="4177800">
            <a:off x="8497080" y="6057000"/>
            <a:ext cx="216000" cy="576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Shift+F7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：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Telephone Book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；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99640" y="5300640"/>
            <a:ext cx="592452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Category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大类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Remarks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备注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Print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打印，选中一个大类，打印该大类下所有详细信息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Edit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编辑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Preview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预览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98560" y="1341360"/>
            <a:ext cx="7345440" cy="3778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rot="4177800">
            <a:off x="8497080" y="6057000"/>
            <a:ext cx="216000" cy="576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96472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F1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Help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；在线帮助；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Shift+F1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Occ. Graph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；简单的酒店出租率表；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Ctrl+F1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Opera Help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；快捷键说明；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cc00"/>
                </a:solidFill>
                <a:uFillTx/>
                <a:latin typeface="Garamond"/>
                <a:hlinkClick r:id="rId3" action="ppaction://hlinksldjump"/>
              </a:rPr>
              <a:t>Shift+F2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Control Panel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；控制面板；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cc00"/>
                </a:solidFill>
                <a:uFillTx/>
                <a:latin typeface="Garamond"/>
                <a:hlinkClick r:id="rId4" action="ppaction://hlinksldjump"/>
              </a:rPr>
              <a:t>Ctrl+F2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Det.Avail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；显示每个房型在将来每天的可卖房情况；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cc00"/>
                </a:solidFill>
                <a:uFillTx/>
                <a:latin typeface="Garamond"/>
                <a:hlinkClick r:id="rId5" action="ppaction://hlinksldjump"/>
              </a:rPr>
              <a:t>F3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Available Room Search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；具体可卖房查询；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cc00"/>
                </a:solidFill>
                <a:uFillTx/>
                <a:latin typeface="Garamond"/>
                <a:hlinkClick r:id="rId6" action="ppaction://hlinksldjump"/>
              </a:rPr>
              <a:t>Shift+F3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House Status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；房间状态；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cc00"/>
                </a:solidFill>
                <a:uFillTx/>
                <a:latin typeface="Garamond"/>
                <a:hlinkClick r:id="rId7" action="ppaction://hlinksldjump"/>
              </a:rPr>
              <a:t>Ctrl+F3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Room Plan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；房间列表；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cc00"/>
                </a:solidFill>
                <a:uFillTx/>
                <a:latin typeface="Garamond"/>
                <a:hlinkClick r:id="rId8" action="ppaction://hlinksldjump"/>
              </a:rPr>
              <a:t>Ctrl+F4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Calendar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；日历；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cc00"/>
                </a:solidFill>
                <a:uFillTx/>
                <a:latin typeface="Garamond"/>
                <a:hlinkClick r:id="rId9" action="ppaction://hlinksldjump"/>
              </a:rPr>
              <a:t>F5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Rate Query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；价格查询 ；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cc00"/>
                </a:solidFill>
                <a:uFillTx/>
                <a:latin typeface="Garamond"/>
                <a:hlinkClick r:id="rId10" action="ppaction://hlinksldjump"/>
              </a:rPr>
              <a:t>Shift+F5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Floor Plan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；楼层图；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Shift+F6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Quick Book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；团队预订新建；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F7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New Resv.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；新建散客预订；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cc00"/>
                </a:solidFill>
                <a:uFillTx/>
                <a:latin typeface="Garamond"/>
                <a:hlinkClick r:id="rId11" action="ppaction://hlinksldjump"/>
              </a:rPr>
              <a:t>Shift+F7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Telephone Book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；系统黄页；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cc00"/>
                </a:solidFill>
                <a:uFillTx/>
                <a:latin typeface="Garamond"/>
                <a:hlinkClick r:id="rId12" action="ppaction://hlinksldjump"/>
              </a:rPr>
              <a:t>Ctrl+F7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Telephone Operator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；总机；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F8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Logout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；用户切换；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Shift+F8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IFC Menu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；与其它系统连接的程序（接口程序）；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cc00"/>
                </a:solidFill>
                <a:uFillTx/>
                <a:latin typeface="Garamond"/>
                <a:hlinkClick r:id="rId13" action="ppaction://hlinksldjump"/>
              </a:rPr>
              <a:t>Ctrl+F8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Maximum Availability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；最多可卖房数；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cc00"/>
                </a:solidFill>
                <a:uFillTx/>
                <a:latin typeface="Garamond"/>
                <a:hlinkClick r:id="rId14" action="ppaction://hlinksldjump"/>
              </a:rPr>
              <a:t>Shift+F9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Function Diary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；宴会、活动预订；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Ctrl+F7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：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Telephone Operator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；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84000" y="5013360"/>
            <a:ext cx="482436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All Guests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显示所有客人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Arrivals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预抵客人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Stay overs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住店客人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Departures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离店客人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T. Operator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总机房查询用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Include No Shows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包含该到未到客人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Include Check Outs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包含已退房客人；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5267520" cy="3753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rot="4177800">
            <a:off x="8497080" y="6057000"/>
            <a:ext cx="216000" cy="576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Ctrl+F8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：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Maximum Availability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；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27280" y="1341360"/>
            <a:ext cx="3924360" cy="5373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291280" y="5229360"/>
            <a:ext cx="2952720" cy="792000"/>
          </a:xfrm>
          <a:prstGeom prst="leftArrowCallout">
            <a:avLst>
              <a:gd name="adj1" fmla="val 25002"/>
              <a:gd name="adj2" fmla="val 25000"/>
              <a:gd name="adj3" fmla="val 62136"/>
              <a:gd name="adj4" fmla="val 66673"/>
            </a:avLst>
          </a:prstGeom>
          <a:solidFill>
            <a:srgbClr val="00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在某一区间之内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根据房型，酒店可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供的最大房间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4177800">
            <a:off x="8497080" y="6057000"/>
            <a:ext cx="216000" cy="576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Shift+F9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：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Function Diary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；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84360" y="3500280"/>
            <a:ext cx="252108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TEN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：不确认；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DEF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：确认；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LOS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：丢失；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CAL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：取消；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WTL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：等候；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ACT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：已发生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971800" cy="1905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68360" y="3213000"/>
            <a:ext cx="5267160" cy="32860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924360" y="17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Event Start Date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：活动日期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View type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：显示类型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4177800">
            <a:off x="8497080" y="6057000"/>
            <a:ext cx="216000" cy="576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Shift+F1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：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Occ. Graph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；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8000" y="1268280"/>
            <a:ext cx="5862600" cy="3886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940360" y="2880720"/>
            <a:ext cx="32036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Start Date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：开始日期；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Room Class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：酒店区域；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Include Non Deducted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：包括未未确认预订；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Show Grid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：显示格线；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Day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：按日显示；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Week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：按周显示；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Number of Days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：横坐标比例；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Sack Bar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：选择显示数据类型；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Total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：所有；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Reservations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：预订；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Blocks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：团队；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Room Type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：房间类型；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All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：选中所有；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None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：取消所有；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48360" y="4437000"/>
            <a:ext cx="718920" cy="21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11280" y="617400"/>
            <a:ext cx="7723080" cy="532296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rId2" action="ppaction://hlinksldjump"/>
          </p:cNvPr>
          <p:cNvSpPr/>
          <p:nvPr/>
        </p:nvSpPr>
        <p:spPr>
          <a:xfrm rot="4177800">
            <a:off x="8497080" y="6057000"/>
            <a:ext cx="216000" cy="576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Ctrl+F1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：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Opera Help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；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071960" cy="366696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rId2" action="ppaction://hlinksldjump"/>
          </p:cNvPr>
          <p:cNvSpPr/>
          <p:nvPr/>
        </p:nvSpPr>
        <p:spPr>
          <a:xfrm rot="4177800">
            <a:off x="8497080" y="6057000"/>
            <a:ext cx="216000" cy="576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Shift+F2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：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Control Panel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92360" y="1362240"/>
            <a:ext cx="2476800" cy="1562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124000" y="3068640"/>
            <a:ext cx="53992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Control Panel (Shift + F2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Total Physical Rooms: 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酒店全部物理存在的房间数目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Out of Order: 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当前酒店停止服务的房间数目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Inventory Rooms : 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酒店当前实际可卖房（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Total Physical Rooms – Out of Orde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Overbooking : 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酒店当前可以超预定的房间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Sell Limits : 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酒店可卖房数 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( Total Physical Rooms + Overbooking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Deducted Block Rooms Not P/U: 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当前全部已确认的团队预定数，但没有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Pick u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Deducted Block Rooms P/U: 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当前全部已确认团队预定数，已经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Pick u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Total Deducted Rooms : 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全部已经确认的预定，包括在店的客人及已经确认的当天的预定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Non Deducted Block Rooms Not P/U: 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不确认的团队预定，没有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Pick u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Non Deducted Block Rooms P/U: 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不确认的团队预定，但已经 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Pick u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Total Non Deducted Rooms: 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全部不确认的预定，包括团队及前台预定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Out of Service: 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当前酒店暂停服务的房间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Available Physical Rooms: 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当前可用房数 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(Inventory Rooms – Total Deducted Rooms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Maximum Availability: 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最大可卖房 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(Hotel Availability + Overbooking 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Minimum Availability: 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最小可卖房 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(Hotel Availability + Overbooking – Total Non Deducted Rooms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Control Panel (Shift + F2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749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Min. Occupancy %: 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最小出租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Max Occupancy %: 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最大出租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Total Rooms Reserved: 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当日实际预定数 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(Total Deduct Rooms + Total Non-Deduct Rooms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Event: 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活动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Day Type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Adults in-house: 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当日全部在店成人数目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Children in-house: 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当日在店儿童数目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People in-house: 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当日全部人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Arrival Rooms: 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预抵房间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Arrival Persons: 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预抵人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Departure Rooms: 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预离房间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Departure Persons: 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预离人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Room Type Overbooking: 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是否可以超预定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Day Rooms/Person: 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日用房房数／人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Waitlist Rooms/Persons: 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候补房间／人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 rot="4177800">
            <a:off x="8497080" y="6057000"/>
            <a:ext cx="216000" cy="576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Ctrl+F2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：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Det. Avail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；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508360" y="2349000"/>
            <a:ext cx="3492360" cy="38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Start Date</a:t>
            </a: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：开始日期；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Room Class</a:t>
            </a: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：酒店区域；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Include OOO</a:t>
            </a: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：打√表示不包含严重坏房，默认为打√；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Include Non Deducted</a:t>
            </a: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：打√表示包括不确认的预订（一般为不确认团队）；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Include Overbooking</a:t>
            </a: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：打√表示包含可超额订房间数；不打√为实际房间数，默认为打√；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Search</a:t>
            </a: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：刷新；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Details</a:t>
            </a:r>
            <a:r>
              <a:rPr b="0" lang="zh-CN" sz="14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：预订详情</a:t>
            </a: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；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cc00"/>
                </a:solidFill>
                <a:uFillTx/>
                <a:latin typeface="Garamond"/>
                <a:hlinkClick r:id="rId3" action="ppaction://hlinksldjump"/>
              </a:rPr>
              <a:t>Availability</a:t>
            </a:r>
            <a:r>
              <a:rPr b="0" lang="zh-CN" sz="1600" spc="-1" strike="noStrike" u="sng">
                <a:solidFill>
                  <a:srgbClr val="ffcc00"/>
                </a:solidFill>
                <a:uFillTx/>
                <a:latin typeface="Garamond"/>
                <a:hlinkClick r:id="rId4" action="ppaction://hlinksldjump"/>
              </a:rPr>
              <a:t>：汇总信息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Toggle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：切换成占用房情况；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cc00"/>
                </a:solidFill>
                <a:uFillTx/>
                <a:latin typeface="Garamond"/>
                <a:hlinkClick r:id="rId5" action="ppaction://hlinksldjump"/>
              </a:rPr>
              <a:t>Blocks</a:t>
            </a:r>
            <a:r>
              <a:rPr b="0" lang="zh-CN" sz="1600" spc="-1" strike="noStrike" u="sng">
                <a:solidFill>
                  <a:srgbClr val="ffcc00"/>
                </a:solidFill>
                <a:uFillTx/>
                <a:latin typeface="Garamond"/>
                <a:hlinkClick r:id="rId6" action="ppaction://hlinksldjump"/>
              </a:rPr>
              <a:t>：查看当天发生的团队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。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108000" y="1484280"/>
            <a:ext cx="5400720" cy="3724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flipV="1">
            <a:off x="1187280" y="1341000"/>
            <a:ext cx="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907920"/>
            <a:ext cx="10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整个酒店剩下的可卖房数量；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619280" y="1341000"/>
            <a:ext cx="93672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4000" y="98100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该区域剩下的可卖房数量；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4177800">
            <a:off x="8497080" y="6057000"/>
            <a:ext cx="216000" cy="576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7:11:38Z</dcterms:created>
  <dc:creator>Syh</dc:creator>
  <dc:description/>
  <dc:language>en-US</dc:language>
  <cp:lastModifiedBy>微软(中国)有限公司</cp:lastModifiedBy>
  <dcterms:modified xsi:type="dcterms:W3CDTF">2013-04-04T07:17:21Z</dcterms:modified>
  <cp:revision>20</cp:revision>
  <dc:subject/>
  <dc:title>快捷键 Miscellaneous→Show Quick Keys</dc:title>
</cp:coreProperties>
</file>