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F0B-324B-48C2-BE67-3C263409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CA5-B5C7-41DC-989C-7D2E7A89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93AB5-DA69-4D74-8888-C1992033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4A32C-03AB-4558-BE79-3FDE6C1A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D39DF-2978-4AF3-925E-B404022A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B6BB0-6E26-4CAD-A240-5CF4A00E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4A9F9-96FD-4B9D-B199-B67C420C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0511E-4ED5-4C7A-BC37-5F0C07F3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58856-7144-48D9-9D2B-CED06F98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C1186-04BA-4D90-9926-9DE0E42A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FA380-7353-42CA-B6C8-E85F08AC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D52D1-D1EF-4E9B-8A40-589688C1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9E3-EECF-443D-8DAE-EE5E301C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734B5-65A3-4EB3-B511-AF589C4D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0FECB-70AF-4D32-BE29-0AC1AB81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19A4D-53D7-445A-83D5-F1D50B64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ACD2F-DE6B-4A30-951F-8135D21C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C4315-6B71-4567-AFC6-00997A39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57E0A-2557-4186-8A98-DD2BD745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6F965-BC53-4986-96FF-134E311A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ECC69-6BE3-4EAD-9C5F-AC2C6241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27AF7-4ADF-429E-BE68-8045FD4F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CBC60-56EF-4B98-A36F-B707F8B3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A1C-310D-457B-8E20-0CDDAF01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C92CC-D63B-49EE-84E0-E0B9E83A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9C65D-97AE-49F4-8E5F-C6C7B755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4DDA9-8BA5-485C-8D49-B3F8C71E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0A68F-D835-4B7F-9504-6018570D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DD7C0-959C-4455-B476-591A2937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C41B2-ECD5-4C7E-996D-5F9B9910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F238A-A8B1-4F8B-8F95-030C45A7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0E3C7-2BCB-456B-B8C5-3C248440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F208E-0900-4D0E-A53D-965A462E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106ED-C72E-4877-B78F-8B17A88F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5B17-C8BB-47AA-B472-619F4700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CE61A-2A24-4D1B-A9BE-EDDFF19C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9CE8F-37AC-4132-873E-AE897FB0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165D2-2C60-42AC-81A9-1F567156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D74DC-207C-455A-B379-021CCE3D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562E0-4803-4CCB-B251-78012996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39377-4BA3-40F6-8728-98CDFC28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B8559-1548-49A2-A6CA-EB7B5672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CBB5B-2914-4D68-A62D-EC533EDC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2A856-9081-4F65-845C-CE30578C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6B12F-CE16-47DA-86FC-77F86457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329F-913C-4C5C-9E3F-7F4FB48E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4949B-8EF6-41A8-98C5-A024175D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40725-DFB6-436A-AE3F-76E41C40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C9B03-5D80-4B07-ADE1-AE7ED7A7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298A4-EC57-4BC2-A35B-2E8A898F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7FC3D-8A6F-49AC-B8A1-46D91AA8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250BA-896C-4BA3-BB78-2D23B533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0E688-DE2F-4517-9A96-3CB59809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7B8EB-FCE5-488F-B9B2-7B5511E0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5561E-2648-41E4-A891-7CD5857E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B88E8B-C4BC-4502-8074-B3205FD9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E623-0157-4DF2-947F-0EB7A407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36EFD-3B57-4D10-B1FA-70189C8A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22CDC-372D-4149-8821-278A3A03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29261-9594-498E-B99B-98ABC0AE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7BC41-854B-48DE-9C52-DBC68AA6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8D006-2667-4963-A7B3-BDBEAC04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787C0-1CB4-4647-B956-17EBC27D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F470F-69C9-4BBE-A777-C50CD122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8A0B-A138-4930-9909-0912CBE5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FF9A-7561-492F-91C4-F774698F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4EE6-D39D-41FF-8821-11463603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3304-DE99-43C7-947C-05BA085F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319-0482-4E09-A5B3-0E99A1A3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E74F-11DB-4D16-8C5D-929F1D9C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D5E9-8F3F-4C9C-A558-0C27443F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F533-D0B1-43E3-812A-C6C07033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A448-4861-42B9-A63A-2FC5B8FB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0182-FE67-46F0-983B-2473DEC6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B6A2-EEA8-47D2-8E61-65C311D6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EC88B-488C-4E96-A277-42B94457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8C706-49B5-4447-A46A-6831D621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57CFC-1BDD-40D2-AE7D-4E7A6BB6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E6A9-82A7-44E6-9C43-62EAAAB4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9F6-C840-4CD2-ACF4-9AEDDADD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671A-EE1F-4068-B64D-7BD6123A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605EA-D221-4734-AF6B-3FBB98E9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6B6FB-0697-4402-8994-0E993D09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94060-9C44-40B4-84ED-26FE3A32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F605-B5AA-48B5-BE60-CAA6C467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1F45A-5127-4E38-B6CA-2250BDD1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D5059-0BF7-4106-A1D3-B07224BB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5514D-2931-4E47-B9DB-8B39570E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C8C99-FE8C-4A85-A65D-733A1F35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686F7-E691-48B4-AAA9-AF63833F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7E8-093B-40FB-8D0F-AF0B25A2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098D1-B900-4239-BF0D-76C48402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B1423-62B8-4E61-B639-4BC289BB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F2BD7-44B3-43D5-91EB-3A1FBF49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2B02D-00D3-4C1D-BBA1-F075B905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1898D-87B8-410F-9360-022DE8DD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FAA58-71B2-495B-A440-35BF9F9B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7ED15-4899-4750-AEB5-990CF861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636F3-CBBF-435B-ACCC-460A817E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3517F-A174-4C94-BE27-93666651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192D1-B0B8-4E90-B5D8-440B34D81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B403-9086-49D8-AD8D-E27AA727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F95A2-1E48-46A3-84AD-2F56B224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9C003-FD0C-4ECB-A105-EBCC0806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9C537-06AE-43A4-9B7F-A6812EE3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E8D80-A28D-4521-BBCA-9E9BF818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CAF20-EF0B-4FB1-B65B-4F7290F9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E2533-C817-4F44-878E-09BBE208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9DFE4-5702-43A3-A23D-EE8652C3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E2230-6CB1-452C-AD30-E4FDD646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30109-809D-44D7-8709-18EB54F0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6BCE3-0A24-4F39-93B7-ABCF81C2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715-1929-4DFC-A46F-55C3A590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6EE20-BA28-40AE-BF58-674F2E1F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2B403-0445-4F3A-850B-24215012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71489-B2CA-4B8C-A752-DA241692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D7302-C521-4C9D-B5C9-55D8DA1C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4FCC1-3E6D-4EDC-9F8D-EDA88D6B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9F74D-AA50-4FA1-9BE7-8C789196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35CC5-A367-4238-8F75-9EC61000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93CE8-A820-45DA-B305-92AFAD85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0E693-A273-479B-9008-D9EA16D9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59BB9-F637-45BE-885C-005852A7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0F2-38B7-4F14-9BC9-51904DF2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139B1-DF58-41F8-8976-A41E0E01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8FBF1-D8C3-4F5E-B399-446DC146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9F4AC-74C9-475F-BB00-A02A71E1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DCD3F-C4FC-4220-A69D-D981DF31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5FB75-E497-4748-8777-1CB107BC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F30BD-9411-450A-A9F8-E3C8B207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16E55-8CEF-41D5-9BAD-1D4DB456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BB1DA-8EB7-438C-BF6C-98AE2367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03A74-E7E4-4C76-B7F5-AC66395D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45560-5941-4782-9B80-6A4CA29E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2FE-E3A0-4929-BB8E-4032FF6C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EF7CD-CEE9-47AA-BA4E-DFFEA74F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EDC7D-5636-44D6-AAD1-9ACEDCC3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41CAA-8613-4531-9E33-6EF218C6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00D01-FA5E-432A-8826-349D056A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3ADE7-7011-4FD5-B2C0-DF16DD53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DA8AB-34BD-4923-A166-8AB85258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EB638-7ACB-461A-8F30-C79D72B3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002E6-8142-409B-9EED-ACE49C0E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1B01D-2E87-4407-B11B-8D62F06D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E84FD-ECC9-430A-9BD3-6CDAA15B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8BA-A122-48DA-95AA-C6AF260C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A3B8D-028E-492C-B82B-E266D7C9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86BAE-1741-441E-93A3-79751F17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C2C71-050E-4C0E-832B-0D206C35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FB792-D5FD-47CE-AE26-24851893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072FF-E903-4B89-AF10-C3117A6A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E636B-ADA7-473B-9852-946A858C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9097D-F840-426E-A3BA-740C2651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6BE1F-3A73-4072-A900-8D17C3D9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A2737-0888-4786-96E3-5CA3C88E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CB2EB-7564-45D6-9C05-94309E54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www.pptok.com/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A204-F4B1-4857-930E-FEC0CC6F9DA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8C47-7B7E-4F5E-BE7B-A7C698A73E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435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437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438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矩形 10"/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3B5B-ABC2-4215-86EF-754B30D5E9C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D4B0-AFC5-4521-A8F3-B1E9DEEFA9C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484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486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487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矩形 10"/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842D-6B73-4A81-9163-0ADE0932300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F097-5DC9-4810-9B23-B0E78984A40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533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535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536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矩形 10"/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FC35-4671-4906-83C4-21696A5A2C9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C2B5-19A6-43E3-9DAB-8E89F56E30F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582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584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585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矩形 10"/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47D7-67EE-46DB-8830-08B35D976A3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DA76-93FC-4714-9570-27ED8BBEC2F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376F-B62C-437D-B6E2-EE000BE7DEC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3A6A-F511-48B8-93FF-7BB1BFE0F33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50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51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矩形 10">
              <a:hlinkClick r:id="rId4"/>
            </p:cNvPr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92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94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95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矩形 10"/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7F5F-ED82-443F-AD6C-EC317F37934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A0D9-3600-41BA-9572-38E65213266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141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143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144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矩形 10"/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2EDA-F484-4D23-8636-69DC5D568BC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6AC7-2BF6-48AE-8AA4-03766941CD4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190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192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193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矩形 10"/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B6C3-E740-48C9-8F57-67D024C0CE7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F67C-DFAD-4559-AEE4-3271AECB82F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239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241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242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矩形 10"/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9DEF-7E0A-421D-97B9-406EF451335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FCBD-3F55-4ABE-98E9-047368EA938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288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290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291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矩形 10"/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71CD-763A-42A8-B63B-3149C15E8AC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B09F-CA4A-42BA-9D35-7A01A8818F4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337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339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340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矩形 10"/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0F12-1B82-4A55-8C6B-A754F437325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50F5-E5DA-43AB-A2D5-4880009F973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图片 6" descr=""/>
          <p:cNvPicPr/>
          <p:nvPr/>
        </p:nvPicPr>
        <p:blipFill>
          <a:blip r:embed="rId2"/>
          <a:srcRect l="0" t="0" r="2763" b="0"/>
          <a:stretch/>
        </p:blipFill>
        <p:spPr>
          <a:xfrm>
            <a:off x="252360" y="404640"/>
            <a:ext cx="8891640" cy="3996000"/>
          </a:xfrm>
          <a:prstGeom prst="rect">
            <a:avLst/>
          </a:prstGeom>
          <a:ln w="0">
            <a:noFill/>
          </a:ln>
        </p:spPr>
      </p:pic>
      <p:sp>
        <p:nvSpPr>
          <p:cNvPr id="386" name="直接连接符 7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8"/>
          <p:cNvGrpSpPr/>
          <p:nvPr/>
        </p:nvGrpSpPr>
        <p:grpSpPr>
          <a:xfrm>
            <a:off x="2700360" y="5734080"/>
            <a:ext cx="3600360" cy="287280"/>
            <a:chOff x="2700360" y="5734080"/>
            <a:chExt cx="3600360" cy="287280"/>
          </a:xfrm>
        </p:grpSpPr>
        <p:grpSp>
          <p:nvGrpSpPr>
            <p:cNvPr id="388" name="圆角矩形 9"/>
            <p:cNvGrpSpPr/>
            <p:nvPr/>
          </p:nvGrpSpPr>
          <p:grpSpPr>
            <a:xfrm>
              <a:off x="2700360" y="5734080"/>
              <a:ext cx="2526120" cy="287280"/>
              <a:chOff x="2700360" y="5734080"/>
              <a:chExt cx="2526120" cy="287280"/>
            </a:xfrm>
          </p:grpSpPr>
          <p:pic>
            <p:nvPicPr>
              <p:cNvPr id="389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0360" y="5734080"/>
                <a:ext cx="25261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>
                <a:off x="2705400" y="5736960"/>
                <a:ext cx="25167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矩形 10"/>
            <p:cNvSpPr/>
            <p:nvPr/>
          </p:nvSpPr>
          <p:spPr>
            <a:xfrm>
              <a:off x="5366160" y="5736960"/>
              <a:ext cx="934560" cy="27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04040"/>
                  </a:solidFill>
                  <a:latin typeface="微软雅黑"/>
                </a:rPr>
                <a:t>百度一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Box 11"/>
          <p:cNvSpPr/>
          <p:nvPr/>
        </p:nvSpPr>
        <p:spPr>
          <a:xfrm>
            <a:off x="2411280" y="4941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亲，想把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</a:rPr>
              <a:t>PPT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</a:rPr>
              <a:t>设计得更出色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13D0-DEC6-47C8-AC7C-858E677AD86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967D-2354-45C1-84B5-458F7DB3555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5" descr=""/>
          <p:cNvPicPr/>
          <p:nvPr/>
        </p:nvPicPr>
        <p:blipFill>
          <a:blip r:embed="rId1"/>
          <a:srcRect l="0" t="0" r="13688" b="0"/>
          <a:stretch/>
        </p:blipFill>
        <p:spPr>
          <a:xfrm>
            <a:off x="1440" y="-131760"/>
            <a:ext cx="9142560" cy="7126200"/>
          </a:xfrm>
          <a:prstGeom prst="rect">
            <a:avLst/>
          </a:prstGeom>
          <a:ln w="0">
            <a:noFill/>
          </a:ln>
        </p:spPr>
      </p:pic>
      <p:sp>
        <p:nvSpPr>
          <p:cNvPr id="631" name="TextBox 3"/>
          <p:cNvSpPr/>
          <p:nvPr/>
        </p:nvSpPr>
        <p:spPr>
          <a:xfrm>
            <a:off x="539640" y="328464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在此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4"/>
          <p:cNvSpPr/>
          <p:nvPr/>
        </p:nvSpPr>
        <p:spPr>
          <a:xfrm>
            <a:off x="693720" y="395748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</a:rPr>
              <a:t>炫如夏花</a:t>
            </a:r>
            <a:r>
              <a:rPr b="0" lang="en-US" sz="1600" spc="-1" strike="noStrike">
                <a:solidFill>
                  <a:srgbClr val="262626"/>
                </a:solidFill>
                <a:latin typeface="微软雅黑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微软雅黑"/>
              </a:rPr>
              <a:t>模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" descr=""/>
          <p:cNvPicPr/>
          <p:nvPr/>
        </p:nvPicPr>
        <p:blipFill>
          <a:blip r:embed="rId1"/>
          <a:stretch/>
        </p:blipFill>
        <p:spPr>
          <a:xfrm rot="12271200">
            <a:off x="139320" y="5107680"/>
            <a:ext cx="3389400" cy="224820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3"/>
          <p:cNvGrpSpPr/>
          <p:nvPr/>
        </p:nvGrpSpPr>
        <p:grpSpPr>
          <a:xfrm>
            <a:off x="2625840" y="1628640"/>
            <a:ext cx="4178160" cy="1211400"/>
            <a:chOff x="2625840" y="1628640"/>
            <a:chExt cx="4178160" cy="1211400"/>
          </a:xfrm>
        </p:grpSpPr>
        <p:sp>
          <p:nvSpPr>
            <p:cNvPr id="635" name="矩形 5"/>
            <p:cNvSpPr/>
            <p:nvPr/>
          </p:nvSpPr>
          <p:spPr>
            <a:xfrm>
              <a:off x="3349080" y="1928520"/>
              <a:ext cx="3454920" cy="54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6" name="Picture 3" descr=""/>
            <p:cNvPicPr/>
            <p:nvPr/>
          </p:nvPicPr>
          <p:blipFill>
            <a:blip r:embed="rId2"/>
            <a:stretch/>
          </p:blipFill>
          <p:spPr>
            <a:xfrm>
              <a:off x="2625840" y="1628640"/>
              <a:ext cx="1194480" cy="12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Box 9"/>
            <p:cNvSpPr/>
            <p:nvPr/>
          </p:nvSpPr>
          <p:spPr>
            <a:xfrm>
              <a:off x="3992760" y="2026080"/>
              <a:ext cx="216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单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7"/>
          <p:cNvGrpSpPr/>
          <p:nvPr/>
        </p:nvGrpSpPr>
        <p:grpSpPr>
          <a:xfrm>
            <a:off x="2625840" y="2759040"/>
            <a:ext cx="4178160" cy="1211400"/>
            <a:chOff x="2625840" y="2759040"/>
            <a:chExt cx="4178160" cy="1211400"/>
          </a:xfrm>
        </p:grpSpPr>
        <p:sp>
          <p:nvSpPr>
            <p:cNvPr id="639" name="矩形 26"/>
            <p:cNvSpPr/>
            <p:nvPr/>
          </p:nvSpPr>
          <p:spPr>
            <a:xfrm>
              <a:off x="3349080" y="3058920"/>
              <a:ext cx="3454920" cy="54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0" name="Picture 3" descr=""/>
            <p:cNvPicPr/>
            <p:nvPr/>
          </p:nvPicPr>
          <p:blipFill>
            <a:blip r:embed="rId3"/>
            <a:stretch/>
          </p:blipFill>
          <p:spPr>
            <a:xfrm>
              <a:off x="2625840" y="2759040"/>
              <a:ext cx="1194480" cy="12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TextBox 28"/>
            <p:cNvSpPr/>
            <p:nvPr/>
          </p:nvSpPr>
          <p:spPr>
            <a:xfrm>
              <a:off x="3992760" y="3156480"/>
              <a:ext cx="216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单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11"/>
          <p:cNvGrpSpPr/>
          <p:nvPr/>
        </p:nvGrpSpPr>
        <p:grpSpPr>
          <a:xfrm>
            <a:off x="2625840" y="3890880"/>
            <a:ext cx="4178160" cy="1211400"/>
            <a:chOff x="2625840" y="3890880"/>
            <a:chExt cx="4178160" cy="1211400"/>
          </a:xfrm>
        </p:grpSpPr>
        <p:sp>
          <p:nvSpPr>
            <p:cNvPr id="643" name="矩形 30"/>
            <p:cNvSpPr/>
            <p:nvPr/>
          </p:nvSpPr>
          <p:spPr>
            <a:xfrm>
              <a:off x="3349080" y="4190760"/>
              <a:ext cx="3454920" cy="54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Picture 3" descr=""/>
            <p:cNvPicPr/>
            <p:nvPr/>
          </p:nvPicPr>
          <p:blipFill>
            <a:blip r:embed="rId4"/>
            <a:stretch/>
          </p:blipFill>
          <p:spPr>
            <a:xfrm>
              <a:off x="2625840" y="3890880"/>
              <a:ext cx="1194480" cy="12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TextBox 32"/>
            <p:cNvSpPr/>
            <p:nvPr/>
          </p:nvSpPr>
          <p:spPr>
            <a:xfrm>
              <a:off x="3992760" y="4288320"/>
              <a:ext cx="216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单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15"/>
          <p:cNvGrpSpPr/>
          <p:nvPr/>
        </p:nvGrpSpPr>
        <p:grpSpPr>
          <a:xfrm>
            <a:off x="2625840" y="5021280"/>
            <a:ext cx="4178160" cy="1211400"/>
            <a:chOff x="2625840" y="5021280"/>
            <a:chExt cx="4178160" cy="1211400"/>
          </a:xfrm>
        </p:grpSpPr>
        <p:sp>
          <p:nvSpPr>
            <p:cNvPr id="647" name="矩形 34"/>
            <p:cNvSpPr/>
            <p:nvPr/>
          </p:nvSpPr>
          <p:spPr>
            <a:xfrm>
              <a:off x="3349080" y="5321160"/>
              <a:ext cx="3454920" cy="54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Picture 3" descr=""/>
            <p:cNvPicPr/>
            <p:nvPr/>
          </p:nvPicPr>
          <p:blipFill>
            <a:blip r:embed="rId5"/>
            <a:stretch/>
          </p:blipFill>
          <p:spPr>
            <a:xfrm>
              <a:off x="2625840" y="5021280"/>
              <a:ext cx="1194480" cy="12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Box 36"/>
            <p:cNvSpPr/>
            <p:nvPr/>
          </p:nvSpPr>
          <p:spPr>
            <a:xfrm>
              <a:off x="3992760" y="5418720"/>
              <a:ext cx="216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单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0" name="Picture 4" descr=""/>
          <p:cNvPicPr/>
          <p:nvPr/>
        </p:nvPicPr>
        <p:blipFill>
          <a:blip r:embed="rId6"/>
          <a:stretch/>
        </p:blipFill>
        <p:spPr>
          <a:xfrm>
            <a:off x="5754600" y="54000"/>
            <a:ext cx="3389400" cy="2249640"/>
          </a:xfrm>
          <a:prstGeom prst="rect">
            <a:avLst/>
          </a:prstGeom>
          <a:ln w="0">
            <a:noFill/>
          </a:ln>
        </p:spPr>
      </p:pic>
      <p:sp>
        <p:nvSpPr>
          <p:cNvPr id="651" name="TextBox 12"/>
          <p:cNvSpPr/>
          <p:nvPr/>
        </p:nvSpPr>
        <p:spPr>
          <a:xfrm rot="18891600">
            <a:off x="-514800" y="568440"/>
            <a:ext cx="24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华隶简体"/>
                <a:ea typeface="方正华隶简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1593720" cy="1582920"/>
          </a:xfrm>
          <a:prstGeom prst="rect">
            <a:avLst/>
          </a:prstGeom>
          <a:ln w="0">
            <a:noFill/>
          </a:ln>
        </p:spPr>
      </p:pic>
      <p:sp>
        <p:nvSpPr>
          <p:cNvPr id="653" name="TextBox 4"/>
          <p:cNvSpPr/>
          <p:nvPr/>
        </p:nvSpPr>
        <p:spPr>
          <a:xfrm>
            <a:off x="3970440" y="3171960"/>
            <a:ext cx="28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ed9b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f2ed9b"/>
                </a:solidFill>
                <a:latin typeface="Calibri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2"/>
          <p:cNvGrpSpPr/>
          <p:nvPr/>
        </p:nvGrpSpPr>
        <p:grpSpPr>
          <a:xfrm>
            <a:off x="1033560" y="2378160"/>
            <a:ext cx="1712520" cy="1196640"/>
            <a:chOff x="1033560" y="2378160"/>
            <a:chExt cx="1712520" cy="1196640"/>
          </a:xfrm>
        </p:grpSpPr>
        <p:sp>
          <p:nvSpPr>
            <p:cNvPr id="655" name="Rektangel 3"/>
            <p:cNvSpPr/>
            <p:nvPr/>
          </p:nvSpPr>
          <p:spPr>
            <a:xfrm>
              <a:off x="1044720" y="2441520"/>
              <a:ext cx="1701360" cy="1133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33"/>
            <p:cNvSpPr/>
            <p:nvPr/>
          </p:nvSpPr>
          <p:spPr>
            <a:xfrm>
              <a:off x="1033560" y="2378160"/>
              <a:ext cx="1680480" cy="115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5"/>
          <p:cNvGrpSpPr/>
          <p:nvPr/>
        </p:nvGrpSpPr>
        <p:grpSpPr>
          <a:xfrm>
            <a:off x="2862360" y="2378160"/>
            <a:ext cx="1712520" cy="1196640"/>
            <a:chOff x="2862360" y="2378160"/>
            <a:chExt cx="1712520" cy="1196640"/>
          </a:xfrm>
        </p:grpSpPr>
        <p:sp>
          <p:nvSpPr>
            <p:cNvPr id="658" name="Rektangel 3"/>
            <p:cNvSpPr/>
            <p:nvPr/>
          </p:nvSpPr>
          <p:spPr>
            <a:xfrm>
              <a:off x="2873520" y="2441520"/>
              <a:ext cx="1701360" cy="1133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42"/>
            <p:cNvSpPr/>
            <p:nvPr/>
          </p:nvSpPr>
          <p:spPr>
            <a:xfrm>
              <a:off x="2862360" y="2378160"/>
              <a:ext cx="1680480" cy="115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Group 8"/>
          <p:cNvGrpSpPr/>
          <p:nvPr/>
        </p:nvGrpSpPr>
        <p:grpSpPr>
          <a:xfrm>
            <a:off x="4692600" y="2378160"/>
            <a:ext cx="1712520" cy="1196640"/>
            <a:chOff x="4692600" y="2378160"/>
            <a:chExt cx="1712520" cy="1196640"/>
          </a:xfrm>
        </p:grpSpPr>
        <p:sp>
          <p:nvSpPr>
            <p:cNvPr id="661" name="Rektangel 3"/>
            <p:cNvSpPr/>
            <p:nvPr/>
          </p:nvSpPr>
          <p:spPr>
            <a:xfrm>
              <a:off x="4703760" y="2441520"/>
              <a:ext cx="1701360" cy="1133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47"/>
            <p:cNvSpPr/>
            <p:nvPr/>
          </p:nvSpPr>
          <p:spPr>
            <a:xfrm>
              <a:off x="4692600" y="2378160"/>
              <a:ext cx="1680480" cy="115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Rektangel 3"/>
          <p:cNvSpPr/>
          <p:nvPr/>
        </p:nvSpPr>
        <p:spPr>
          <a:xfrm>
            <a:off x="6534000" y="2441520"/>
            <a:ext cx="1700280" cy="113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52"/>
          <p:cNvSpPr/>
          <p:nvPr/>
        </p:nvSpPr>
        <p:spPr>
          <a:xfrm>
            <a:off x="6523200" y="2378160"/>
            <a:ext cx="1679400" cy="11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7"/>
          <p:cNvSpPr/>
          <p:nvPr/>
        </p:nvSpPr>
        <p:spPr>
          <a:xfrm>
            <a:off x="1865160" y="2973240"/>
            <a:ext cx="5580360" cy="1800"/>
          </a:xfrm>
          <a:prstGeom prst="line">
            <a:avLst/>
          </a:prstGeom>
          <a:ln cap="rnd" w="19080">
            <a:solidFill>
              <a:srgbClr val="906807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14"/>
          <p:cNvGrpSpPr/>
          <p:nvPr/>
        </p:nvGrpSpPr>
        <p:grpSpPr>
          <a:xfrm>
            <a:off x="1755720" y="2863800"/>
            <a:ext cx="230400" cy="250920"/>
            <a:chOff x="1755720" y="2863800"/>
            <a:chExt cx="230400" cy="250920"/>
          </a:xfrm>
        </p:grpSpPr>
        <p:sp>
          <p:nvSpPr>
            <p:cNvPr id="667" name="Ellipse 142"/>
            <p:cNvSpPr/>
            <p:nvPr/>
          </p:nvSpPr>
          <p:spPr>
            <a:xfrm>
              <a:off x="1766160" y="3070080"/>
              <a:ext cx="20484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Ellipse 143"/>
            <p:cNvSpPr/>
            <p:nvPr/>
          </p:nvSpPr>
          <p:spPr>
            <a:xfrm>
              <a:off x="1755720" y="2863800"/>
              <a:ext cx="230400" cy="23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Ellipse 144"/>
            <p:cNvSpPr/>
            <p:nvPr/>
          </p:nvSpPr>
          <p:spPr>
            <a:xfrm>
              <a:off x="1783800" y="2869200"/>
              <a:ext cx="168840" cy="12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18"/>
          <p:cNvGrpSpPr/>
          <p:nvPr/>
        </p:nvGrpSpPr>
        <p:grpSpPr>
          <a:xfrm>
            <a:off x="3600360" y="2863800"/>
            <a:ext cx="230400" cy="250920"/>
            <a:chOff x="3600360" y="2863800"/>
            <a:chExt cx="230400" cy="250920"/>
          </a:xfrm>
        </p:grpSpPr>
        <p:sp>
          <p:nvSpPr>
            <p:cNvPr id="671" name="Ellipse 142"/>
            <p:cNvSpPr/>
            <p:nvPr/>
          </p:nvSpPr>
          <p:spPr>
            <a:xfrm>
              <a:off x="3610800" y="3070080"/>
              <a:ext cx="20484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Ellipse 143"/>
            <p:cNvSpPr/>
            <p:nvPr/>
          </p:nvSpPr>
          <p:spPr>
            <a:xfrm>
              <a:off x="3600360" y="2863800"/>
              <a:ext cx="230400" cy="23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Ellipse 144"/>
            <p:cNvSpPr/>
            <p:nvPr/>
          </p:nvSpPr>
          <p:spPr>
            <a:xfrm>
              <a:off x="3628440" y="2869200"/>
              <a:ext cx="168840" cy="12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22"/>
          <p:cNvGrpSpPr/>
          <p:nvPr/>
        </p:nvGrpSpPr>
        <p:grpSpPr>
          <a:xfrm>
            <a:off x="5446800" y="2863800"/>
            <a:ext cx="230040" cy="250920"/>
            <a:chOff x="5446800" y="2863800"/>
            <a:chExt cx="230040" cy="250920"/>
          </a:xfrm>
        </p:grpSpPr>
        <p:sp>
          <p:nvSpPr>
            <p:cNvPr id="675" name="Ellipse 142"/>
            <p:cNvSpPr/>
            <p:nvPr/>
          </p:nvSpPr>
          <p:spPr>
            <a:xfrm>
              <a:off x="5457240" y="3070080"/>
              <a:ext cx="20448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Ellipse 143"/>
            <p:cNvSpPr/>
            <p:nvPr/>
          </p:nvSpPr>
          <p:spPr>
            <a:xfrm>
              <a:off x="5446800" y="2863800"/>
              <a:ext cx="230040" cy="23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Ellipse 144"/>
            <p:cNvSpPr/>
            <p:nvPr/>
          </p:nvSpPr>
          <p:spPr>
            <a:xfrm>
              <a:off x="5474880" y="2869200"/>
              <a:ext cx="168480" cy="12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26"/>
          <p:cNvGrpSpPr/>
          <p:nvPr/>
        </p:nvGrpSpPr>
        <p:grpSpPr>
          <a:xfrm>
            <a:off x="7292880" y="2863800"/>
            <a:ext cx="230400" cy="250920"/>
            <a:chOff x="7292880" y="2863800"/>
            <a:chExt cx="230400" cy="250920"/>
          </a:xfrm>
        </p:grpSpPr>
        <p:sp>
          <p:nvSpPr>
            <p:cNvPr id="679" name="Ellipse 142"/>
            <p:cNvSpPr/>
            <p:nvPr/>
          </p:nvSpPr>
          <p:spPr>
            <a:xfrm>
              <a:off x="7303320" y="3070080"/>
              <a:ext cx="20484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Ellipse 143"/>
            <p:cNvSpPr/>
            <p:nvPr/>
          </p:nvSpPr>
          <p:spPr>
            <a:xfrm>
              <a:off x="7292880" y="2863800"/>
              <a:ext cx="230400" cy="23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Ellipse 144"/>
            <p:cNvSpPr/>
            <p:nvPr/>
          </p:nvSpPr>
          <p:spPr>
            <a:xfrm>
              <a:off x="7320960" y="2869200"/>
              <a:ext cx="168840" cy="12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Text Box 78"/>
          <p:cNvSpPr/>
          <p:nvPr/>
        </p:nvSpPr>
        <p:spPr>
          <a:xfrm>
            <a:off x="1527480" y="24256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9"/>
          <p:cNvSpPr/>
          <p:nvPr/>
        </p:nvSpPr>
        <p:spPr>
          <a:xfrm>
            <a:off x="3367440" y="24256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0"/>
          <p:cNvSpPr/>
          <p:nvPr/>
        </p:nvSpPr>
        <p:spPr>
          <a:xfrm>
            <a:off x="5186520" y="24256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81"/>
          <p:cNvSpPr/>
          <p:nvPr/>
        </p:nvSpPr>
        <p:spPr>
          <a:xfrm>
            <a:off x="7062840" y="24256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82"/>
          <p:cNvSpPr/>
          <p:nvPr/>
        </p:nvSpPr>
        <p:spPr>
          <a:xfrm>
            <a:off x="1401120" y="3670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83"/>
          <p:cNvSpPr/>
          <p:nvPr/>
        </p:nvSpPr>
        <p:spPr>
          <a:xfrm>
            <a:off x="1401120" y="39560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84"/>
          <p:cNvSpPr/>
          <p:nvPr/>
        </p:nvSpPr>
        <p:spPr>
          <a:xfrm>
            <a:off x="1401120" y="4240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85"/>
          <p:cNvSpPr/>
          <p:nvPr/>
        </p:nvSpPr>
        <p:spPr>
          <a:xfrm>
            <a:off x="1401120" y="4524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86"/>
          <p:cNvSpPr/>
          <p:nvPr/>
        </p:nvSpPr>
        <p:spPr>
          <a:xfrm>
            <a:off x="3249000" y="367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ed9b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87"/>
          <p:cNvSpPr/>
          <p:nvPr/>
        </p:nvSpPr>
        <p:spPr>
          <a:xfrm>
            <a:off x="3249000" y="3963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ed9b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88"/>
          <p:cNvSpPr/>
          <p:nvPr/>
        </p:nvSpPr>
        <p:spPr>
          <a:xfrm>
            <a:off x="3249000" y="4248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ed9b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89"/>
          <p:cNvSpPr/>
          <p:nvPr/>
        </p:nvSpPr>
        <p:spPr>
          <a:xfrm>
            <a:off x="3249000" y="4532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ed9b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90"/>
          <p:cNvSpPr/>
          <p:nvPr/>
        </p:nvSpPr>
        <p:spPr>
          <a:xfrm>
            <a:off x="5108040" y="3670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91"/>
          <p:cNvSpPr/>
          <p:nvPr/>
        </p:nvSpPr>
        <p:spPr>
          <a:xfrm>
            <a:off x="5108040" y="39560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92"/>
          <p:cNvSpPr/>
          <p:nvPr/>
        </p:nvSpPr>
        <p:spPr>
          <a:xfrm>
            <a:off x="5108040" y="4240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93"/>
          <p:cNvSpPr/>
          <p:nvPr/>
        </p:nvSpPr>
        <p:spPr>
          <a:xfrm>
            <a:off x="5108040" y="4524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94"/>
          <p:cNvSpPr/>
          <p:nvPr/>
        </p:nvSpPr>
        <p:spPr>
          <a:xfrm>
            <a:off x="6898680" y="3662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ed9b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95"/>
          <p:cNvSpPr/>
          <p:nvPr/>
        </p:nvSpPr>
        <p:spPr>
          <a:xfrm>
            <a:off x="6898680" y="3948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ed9b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96"/>
          <p:cNvSpPr/>
          <p:nvPr/>
        </p:nvSpPr>
        <p:spPr>
          <a:xfrm>
            <a:off x="6898680" y="42321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ed9b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97"/>
          <p:cNvSpPr/>
          <p:nvPr/>
        </p:nvSpPr>
        <p:spPr>
          <a:xfrm>
            <a:off x="6898680" y="4516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ed9b"/>
                </a:solidFill>
                <a:latin typeface="Arial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56"/>
          <p:cNvSpPr/>
          <p:nvPr/>
        </p:nvSpPr>
        <p:spPr>
          <a:xfrm>
            <a:off x="393840" y="476280"/>
            <a:ext cx="43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d9b"/>
                </a:solidFill>
                <a:latin typeface="方正华隶简体"/>
                <a:ea typeface="方正华隶简体"/>
              </a:rPr>
              <a:t>1</a:t>
            </a:r>
            <a:r>
              <a:rPr b="1" lang="zh-CN" sz="2800" spc="-1" strike="noStrike">
                <a:solidFill>
                  <a:srgbClr val="f2ed9b"/>
                </a:solidFill>
                <a:latin typeface="方正华隶简体"/>
                <a:ea typeface="方正华隶简体"/>
              </a:rPr>
              <a:t>、基本的时间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直接连接符 58"/>
          <p:cNvSpPr/>
          <p:nvPr/>
        </p:nvSpPr>
        <p:spPr>
          <a:xfrm>
            <a:off x="0" y="1000080"/>
            <a:ext cx="3492360" cy="0"/>
          </a:xfrm>
          <a:prstGeom prst="line">
            <a:avLst/>
          </a:prstGeom>
          <a:ln w="9360">
            <a:solidFill>
              <a:srgbClr val="f2ed9b"/>
            </a:solidFill>
            <a:prstDash val="sys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2438280" y="1484280"/>
            <a:ext cx="4205520" cy="4205160"/>
            <a:chOff x="2438280" y="1484280"/>
            <a:chExt cx="4205520" cy="4205160"/>
          </a:xfrm>
        </p:grpSpPr>
        <p:sp>
          <p:nvSpPr>
            <p:cNvPr id="705" name="막힌 원호 5"/>
            <p:cNvSpPr/>
            <p:nvPr/>
          </p:nvSpPr>
          <p:spPr>
            <a:xfrm>
              <a:off x="2438280" y="1484280"/>
              <a:ext cx="4205520" cy="4205160"/>
            </a:xfrm>
            <a:custGeom>
              <a:avLst/>
              <a:gdLst>
                <a:gd name="textAreaLeft" fmla="*/ 0 w 4205520"/>
                <a:gd name="textAreaRight" fmla="*/ 4205880 w 4205520"/>
                <a:gd name="textAreaTop" fmla="*/ 0 h 4205160"/>
                <a:gd name="textAreaBottom" fmla="*/ 223200 h 42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02" y="3535"/>
                  </a:moveTo>
                  <a:cubicBezTo>
                    <a:pt x="10935" y="3533"/>
                    <a:pt x="10867" y="3532"/>
                    <a:pt x="10799" y="3533"/>
                  </a:cubicBezTo>
                  <a:cubicBezTo>
                    <a:pt x="10732" y="3533"/>
                    <a:pt x="10664" y="3533"/>
                    <a:pt x="10597" y="3535"/>
                  </a:cubicBezTo>
                  <a:lnTo>
                    <a:pt x="10498" y="4"/>
                  </a:lnTo>
                  <a:cubicBezTo>
                    <a:pt x="10599" y="1"/>
                    <a:pt x="10699" y="-1"/>
                    <a:pt x="10800" y="0"/>
                  </a:cubicBezTo>
                  <a:cubicBezTo>
                    <a:pt x="10900" y="0"/>
                    <a:pt x="11000" y="1"/>
                    <a:pt x="11101" y="4"/>
                  </a:cubicBezTo>
                  <a:lnTo>
                    <a:pt x="11002" y="3535"/>
                  </a:lnTo>
                  <a:close/>
                </a:path>
              </a:pathLst>
            </a:custGeom>
            <a:solidFill>
              <a:srgbClr val="f2e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막힌 원호 6"/>
            <p:cNvSpPr/>
            <p:nvPr/>
          </p:nvSpPr>
          <p:spPr>
            <a:xfrm>
              <a:off x="2438280" y="1484280"/>
              <a:ext cx="4205520" cy="4205160"/>
            </a:xfrm>
            <a:custGeom>
              <a:avLst/>
              <a:gdLst>
                <a:gd name="textAreaLeft" fmla="*/ 0 w 4205520"/>
                <a:gd name="textAreaRight" fmla="*/ 4205880 w 4205520"/>
                <a:gd name="textAreaTop" fmla="*/ 0 h 4205160"/>
                <a:gd name="textAreaBottom" fmla="*/ 2147040 h 42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15" y="10942"/>
                  </a:moveTo>
                  <a:cubicBezTo>
                    <a:pt x="18038" y="14927"/>
                    <a:pt x="14785" y="18116"/>
                    <a:pt x="10800" y="18117"/>
                  </a:cubicBezTo>
                  <a:cubicBezTo>
                    <a:pt x="6814" y="18117"/>
                    <a:pt x="3561" y="14927"/>
                    <a:pt x="3484" y="10942"/>
                  </a:cubicBezTo>
                  <a:lnTo>
                    <a:pt x="2" y="11009"/>
                  </a:lnTo>
                  <a:cubicBezTo>
                    <a:pt x="116" y="16891"/>
                    <a:pt x="4917" y="21600"/>
                    <a:pt x="10800" y="21600"/>
                  </a:cubicBezTo>
                  <a:cubicBezTo>
                    <a:pt x="16682" y="21599"/>
                    <a:pt x="21483" y="16891"/>
                    <a:pt x="21597" y="11009"/>
                  </a:cubicBezTo>
                  <a:lnTo>
                    <a:pt x="18115" y="10942"/>
                  </a:lnTo>
                  <a:close/>
                </a:path>
              </a:pathLst>
            </a:custGeom>
            <a:solidFill>
              <a:srgbClr val="f2e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막힌 원호 7"/>
            <p:cNvSpPr/>
            <p:nvPr/>
          </p:nvSpPr>
          <p:spPr>
            <a:xfrm flipH="1">
              <a:off x="2438280" y="1484280"/>
              <a:ext cx="4205520" cy="4205160"/>
            </a:xfrm>
            <a:custGeom>
              <a:avLst/>
              <a:gdLst>
                <a:gd name="textAreaLeft" fmla="*/ 360 w 4205520"/>
                <a:gd name="textAreaRight" fmla="*/ 4206240 w 4205520"/>
                <a:gd name="textAreaTop" fmla="*/ 0 h 4205160"/>
                <a:gd name="textAreaBottom" fmla="*/ 223200 h 42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003" y="3498"/>
                  </a:moveTo>
                  <a:cubicBezTo>
                    <a:pt x="10935" y="3496"/>
                    <a:pt x="10867" y="3495"/>
                    <a:pt x="10799" y="3496"/>
                  </a:cubicBezTo>
                  <a:cubicBezTo>
                    <a:pt x="10732" y="3496"/>
                    <a:pt x="10664" y="3496"/>
                    <a:pt x="10596" y="3498"/>
                  </a:cubicBezTo>
                  <a:lnTo>
                    <a:pt x="10498" y="4"/>
                  </a:lnTo>
                  <a:cubicBezTo>
                    <a:pt x="10599" y="1"/>
                    <a:pt x="10699" y="-1"/>
                    <a:pt x="10800" y="0"/>
                  </a:cubicBezTo>
                  <a:cubicBezTo>
                    <a:pt x="10900" y="0"/>
                    <a:pt x="11000" y="1"/>
                    <a:pt x="11101" y="4"/>
                  </a:cubicBezTo>
                  <a:lnTo>
                    <a:pt x="11003" y="3498"/>
                  </a:lnTo>
                  <a:close/>
                </a:path>
              </a:pathLst>
            </a:custGeom>
            <a:solidFill>
              <a:srgbClr val="f2e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막힌 원호 8"/>
            <p:cNvSpPr/>
            <p:nvPr/>
          </p:nvSpPr>
          <p:spPr>
            <a:xfrm flipH="1">
              <a:off x="2438280" y="1484280"/>
              <a:ext cx="4205520" cy="4205160"/>
            </a:xfrm>
            <a:custGeom>
              <a:avLst/>
              <a:gdLst>
                <a:gd name="textAreaLeft" fmla="*/ 360 w 4205520"/>
                <a:gd name="textAreaRight" fmla="*/ 4206240 w 4205520"/>
                <a:gd name="textAreaTop" fmla="*/ 0 h 4205160"/>
                <a:gd name="textAreaBottom" fmla="*/ 2147040 h 42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15" y="10942"/>
                  </a:moveTo>
                  <a:cubicBezTo>
                    <a:pt x="18038" y="14927"/>
                    <a:pt x="14785" y="18116"/>
                    <a:pt x="10800" y="18117"/>
                  </a:cubicBezTo>
                  <a:cubicBezTo>
                    <a:pt x="6814" y="18117"/>
                    <a:pt x="3561" y="14927"/>
                    <a:pt x="3484" y="10942"/>
                  </a:cubicBezTo>
                  <a:lnTo>
                    <a:pt x="2" y="11009"/>
                  </a:lnTo>
                  <a:cubicBezTo>
                    <a:pt x="116" y="16891"/>
                    <a:pt x="4917" y="21600"/>
                    <a:pt x="10800" y="21600"/>
                  </a:cubicBezTo>
                  <a:cubicBezTo>
                    <a:pt x="16682" y="21599"/>
                    <a:pt x="21483" y="16891"/>
                    <a:pt x="21597" y="11009"/>
                  </a:cubicBezTo>
                  <a:lnTo>
                    <a:pt x="18115" y="10942"/>
                  </a:lnTo>
                  <a:close/>
                </a:path>
              </a:pathLst>
            </a:custGeom>
            <a:solidFill>
              <a:srgbClr val="f2e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7"/>
          <p:cNvGrpSpPr/>
          <p:nvPr/>
        </p:nvGrpSpPr>
        <p:grpSpPr>
          <a:xfrm>
            <a:off x="5408640" y="1755720"/>
            <a:ext cx="2949480" cy="642960"/>
            <a:chOff x="5408640" y="1755720"/>
            <a:chExt cx="2949480" cy="642960"/>
          </a:xfrm>
        </p:grpSpPr>
        <p:sp>
          <p:nvSpPr>
            <p:cNvPr id="710" name="직선 연결선 19"/>
            <p:cNvSpPr/>
            <p:nvPr/>
          </p:nvSpPr>
          <p:spPr>
            <a:xfrm flipV="1">
              <a:off x="5408640" y="1765080"/>
              <a:ext cx="806040" cy="633600"/>
            </a:xfrm>
            <a:prstGeom prst="line">
              <a:avLst/>
            </a:prstGeom>
            <a:ln w="158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직선 연결선 28"/>
            <p:cNvSpPr/>
            <p:nvPr/>
          </p:nvSpPr>
          <p:spPr>
            <a:xfrm flipH="1">
              <a:off x="6214680" y="1755720"/>
              <a:ext cx="2143440" cy="0"/>
            </a:xfrm>
            <a:prstGeom prst="line">
              <a:avLst/>
            </a:prstGeom>
            <a:ln w="158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0"/>
          <p:cNvGrpSpPr/>
          <p:nvPr/>
        </p:nvGrpSpPr>
        <p:grpSpPr>
          <a:xfrm>
            <a:off x="500040" y="1765440"/>
            <a:ext cx="3071520" cy="642960"/>
            <a:chOff x="500040" y="1765440"/>
            <a:chExt cx="3071520" cy="642960"/>
          </a:xfrm>
        </p:grpSpPr>
        <p:sp>
          <p:nvSpPr>
            <p:cNvPr id="713" name="직선 연결선 36"/>
            <p:cNvSpPr/>
            <p:nvPr/>
          </p:nvSpPr>
          <p:spPr>
            <a:xfrm flipH="1" flipV="1">
              <a:off x="2642040" y="1765440"/>
              <a:ext cx="929520" cy="642960"/>
            </a:xfrm>
            <a:prstGeom prst="line">
              <a:avLst/>
            </a:prstGeom>
            <a:ln w="158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직선 연결선 37"/>
            <p:cNvSpPr/>
            <p:nvPr/>
          </p:nvSpPr>
          <p:spPr>
            <a:xfrm>
              <a:off x="500040" y="1765440"/>
              <a:ext cx="2142360" cy="0"/>
            </a:xfrm>
            <a:prstGeom prst="line">
              <a:avLst/>
            </a:prstGeom>
            <a:ln w="158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3"/>
          <p:cNvGrpSpPr/>
          <p:nvPr/>
        </p:nvGrpSpPr>
        <p:grpSpPr>
          <a:xfrm>
            <a:off x="571680" y="5000760"/>
            <a:ext cx="2856960" cy="1214280"/>
            <a:chOff x="571680" y="5000760"/>
            <a:chExt cx="2856960" cy="1214280"/>
          </a:xfrm>
        </p:grpSpPr>
        <p:sp>
          <p:nvSpPr>
            <p:cNvPr id="716" name="직선 연결선 39"/>
            <p:cNvSpPr/>
            <p:nvPr/>
          </p:nvSpPr>
          <p:spPr>
            <a:xfrm flipH="1">
              <a:off x="2714400" y="5000760"/>
              <a:ext cx="714240" cy="1214280"/>
            </a:xfrm>
            <a:prstGeom prst="line">
              <a:avLst/>
            </a:prstGeom>
            <a:ln w="158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40"/>
            <p:cNvSpPr/>
            <p:nvPr/>
          </p:nvSpPr>
          <p:spPr>
            <a:xfrm>
              <a:off x="571680" y="6214680"/>
              <a:ext cx="2143080" cy="0"/>
            </a:xfrm>
            <a:prstGeom prst="line">
              <a:avLst/>
            </a:prstGeom>
            <a:ln w="158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TextBox 23"/>
          <p:cNvSpPr/>
          <p:nvPr/>
        </p:nvSpPr>
        <p:spPr>
          <a:xfrm>
            <a:off x="6215040" y="1415880"/>
            <a:ext cx="242892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9221"/>
                </a:solidFill>
                <a:latin typeface="Arial"/>
                <a:ea typeface="HY헤드라인M"/>
              </a:rPr>
              <a:t>MOO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POWERPOINT !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24"/>
          <p:cNvSpPr/>
          <p:nvPr/>
        </p:nvSpPr>
        <p:spPr>
          <a:xfrm>
            <a:off x="214200" y="1415880"/>
            <a:ext cx="242892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9221"/>
                </a:solidFill>
                <a:latin typeface="Arial"/>
                <a:ea typeface="HY헤드라인M"/>
              </a:rPr>
              <a:t>MOO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POWERPOINT !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25"/>
          <p:cNvSpPr/>
          <p:nvPr/>
        </p:nvSpPr>
        <p:spPr>
          <a:xfrm>
            <a:off x="6262560" y="5099040"/>
            <a:ext cx="24289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POWERPOINT !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POWERPOINT 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9221"/>
                </a:solidFill>
                <a:latin typeface="Arial"/>
                <a:ea typeface="HY헤드라인M"/>
              </a:rPr>
              <a:t>MOO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26"/>
          <p:cNvSpPr/>
          <p:nvPr/>
        </p:nvSpPr>
        <p:spPr>
          <a:xfrm>
            <a:off x="214200" y="4797360"/>
            <a:ext cx="24289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POWERPOINT !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CONTENTS TEMPLATE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POWERPOINT !!</a:t>
            </a:r>
            <a:r>
              <a:rPr b="1" lang="en-US" sz="1200" spc="-1" strike="noStrike">
                <a:solidFill>
                  <a:srgbClr val="c19221"/>
                </a:solidFill>
                <a:latin typeface="Arial"/>
                <a:ea typeface="HY헤드라인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9221"/>
                </a:solidFill>
                <a:latin typeface="Arial"/>
                <a:ea typeface="HY헤드라인M"/>
              </a:rPr>
              <a:t>MOO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a5a5"/>
                </a:solidFill>
                <a:latin typeface="Arial"/>
                <a:ea typeface="HY헤드라인M"/>
              </a:rPr>
              <a:t> </a:t>
            </a:r>
            <a:r>
              <a:rPr b="1" lang="en-US" sz="1200" spc="-1" strike="noStrike">
                <a:solidFill>
                  <a:srgbClr val="a5a5a5"/>
                </a:solidFill>
                <a:latin typeface="Arial"/>
                <a:ea typeface="HY헤드라인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27"/>
          <p:cNvSpPr/>
          <p:nvPr/>
        </p:nvSpPr>
        <p:spPr>
          <a:xfrm>
            <a:off x="3264120" y="2286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19221"/>
                </a:solidFill>
                <a:latin typeface="Arial Black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28"/>
          <p:cNvSpPr/>
          <p:nvPr/>
        </p:nvSpPr>
        <p:spPr>
          <a:xfrm>
            <a:off x="5100840" y="22766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19221"/>
                </a:solidFill>
                <a:latin typeface="Arial Black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29"/>
          <p:cNvSpPr/>
          <p:nvPr/>
        </p:nvSpPr>
        <p:spPr>
          <a:xfrm>
            <a:off x="3254760" y="37767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19221"/>
                </a:solidFill>
                <a:latin typeface="Arial Black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30"/>
          <p:cNvSpPr/>
          <p:nvPr/>
        </p:nvSpPr>
        <p:spPr>
          <a:xfrm>
            <a:off x="5091480" y="37670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19221"/>
                </a:solidFill>
                <a:latin typeface="Arial Black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31"/>
          <p:cNvSpPr/>
          <p:nvPr/>
        </p:nvSpPr>
        <p:spPr>
          <a:xfrm>
            <a:off x="393840" y="476280"/>
            <a:ext cx="43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ed9b"/>
                </a:solidFill>
                <a:latin typeface="方正华隶简体"/>
                <a:ea typeface="方正华隶简体"/>
              </a:rPr>
              <a:t>2</a:t>
            </a:r>
            <a:r>
              <a:rPr b="1" lang="zh-CN" sz="2800" spc="-1" strike="noStrike">
                <a:solidFill>
                  <a:srgbClr val="f2ed9b"/>
                </a:solidFill>
                <a:latin typeface="方正华隶简体"/>
                <a:ea typeface="方正华隶简体"/>
              </a:rPr>
              <a:t>、基本的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32"/>
          <p:cNvSpPr/>
          <p:nvPr/>
        </p:nvSpPr>
        <p:spPr>
          <a:xfrm>
            <a:off x="0" y="1000080"/>
            <a:ext cx="3492360" cy="0"/>
          </a:xfrm>
          <a:prstGeom prst="line">
            <a:avLst/>
          </a:prstGeom>
          <a:ln w="9360">
            <a:solidFill>
              <a:srgbClr val="f2ed9b"/>
            </a:solidFill>
            <a:prstDash val="sysDash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26"/>
          <p:cNvGrpSpPr/>
          <p:nvPr/>
        </p:nvGrpSpPr>
        <p:grpSpPr>
          <a:xfrm>
            <a:off x="5572080" y="5000760"/>
            <a:ext cx="2857680" cy="1214280"/>
            <a:chOff x="5572080" y="5000760"/>
            <a:chExt cx="2857680" cy="1214280"/>
          </a:xfrm>
        </p:grpSpPr>
        <p:sp>
          <p:nvSpPr>
            <p:cNvPr id="729" name="직선 연결선 31"/>
            <p:cNvSpPr/>
            <p:nvPr/>
          </p:nvSpPr>
          <p:spPr>
            <a:xfrm>
              <a:off x="5572080" y="5000760"/>
              <a:ext cx="714240" cy="1214280"/>
            </a:xfrm>
            <a:prstGeom prst="line">
              <a:avLst/>
            </a:prstGeom>
            <a:ln w="158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직선 연결선 32"/>
            <p:cNvSpPr/>
            <p:nvPr/>
          </p:nvSpPr>
          <p:spPr>
            <a:xfrm flipH="1">
              <a:off x="6286320" y="6214680"/>
              <a:ext cx="2143440" cy="0"/>
            </a:xfrm>
            <a:prstGeom prst="line">
              <a:avLst/>
            </a:prstGeom>
            <a:ln w="158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椭圆 36"/>
          <p:cNvSpPr/>
          <p:nvPr/>
        </p:nvSpPr>
        <p:spPr>
          <a:xfrm>
            <a:off x="2514600" y="4721400"/>
            <a:ext cx="4226040" cy="947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5" descr=""/>
          <p:cNvPicPr/>
          <p:nvPr/>
        </p:nvPicPr>
        <p:blipFill>
          <a:blip r:embed="rId1"/>
          <a:srcRect l="0" t="0" r="13688" b="0"/>
          <a:stretch/>
        </p:blipFill>
        <p:spPr>
          <a:xfrm>
            <a:off x="1440" y="-131760"/>
            <a:ext cx="9142560" cy="7126200"/>
          </a:xfrm>
          <a:prstGeom prst="rect">
            <a:avLst/>
          </a:prstGeom>
          <a:ln w="0">
            <a:noFill/>
          </a:ln>
        </p:spPr>
      </p:pic>
      <p:sp>
        <p:nvSpPr>
          <p:cNvPr id="733" name="TextBox 3"/>
          <p:cNvSpPr/>
          <p:nvPr/>
        </p:nvSpPr>
        <p:spPr>
          <a:xfrm>
            <a:off x="539640" y="328464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华隶简体"/>
                <a:ea typeface="方正华隶简体"/>
              </a:rPr>
              <a:t>谢谢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2:02:00Z</dcterms:created>
  <dc:creator>王琳</dc:creator>
  <dc:description/>
  <dc:language>en-US</dc:language>
  <cp:lastModifiedBy>zhnagsir</cp:lastModifiedBy>
  <cp:lastPrinted>1899-12-30T00:00:00Z</cp:lastPrinted>
  <dcterms:modified xsi:type="dcterms:W3CDTF">2012-07-14T08:29:31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