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E2E-DCD1-41E2-8644-BBF5762B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C62-0FAC-4FA6-85D2-F183E651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F80-1307-48B1-859A-D9A03684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397-449D-4BE7-B122-073B6DB5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2651-E9AE-403F-9A5F-8B361BB3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6DD1-82B0-4480-A634-132D0512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7BA2-8CE0-465C-986A-30A7681C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D466-56C4-46D0-A49B-F5798E57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7CC3-A933-4557-BA1E-99230B44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DE5B-4BB9-4979-9890-8592F955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B480-F4BE-40B7-B6EA-8DADACE5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FB2-FF66-4184-A7D2-08E32AF4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8842-423C-4231-8523-89C60451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B7B7-377D-43C9-881A-81413594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8319-D23D-4696-BF77-8CC33C26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CAD5-D9CA-40E3-B0AF-EC310970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BFAB-DC7D-46B6-B56F-3BF51469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6A9-D283-4CA0-AD8C-C0EAFE3C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A35-C13A-4526-84F3-D7CC0948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B8D-EB1B-413D-A515-F2BB508A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FED-A13C-435C-B832-0ACB0194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7EA-A680-46F5-9212-E064AD4C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CA8-EC1E-4F9A-9A01-6AB14F4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64B-C61D-4552-8216-8EB9599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14A4-E4F5-4A3D-B80F-0B2B9234C05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463F-5B43-41B4-BDB2-A52DFB0D877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image/0b14ad195f3a847542a9ad14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5044672.htm" TargetMode="External"/><Relationship Id="rId2" Type="http://schemas.openxmlformats.org/officeDocument/2006/relationships/hyperlink" Target="http://baike.baidu.com/view/5576.htm" TargetMode="External"/><Relationship Id="rId3" Type="http://schemas.openxmlformats.org/officeDocument/2006/relationships/hyperlink" Target="http://baike.baidu.com/view/11248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685800" y="-304920"/>
            <a:ext cx="10591920" cy="752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9907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平凡的世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51460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路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54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19320" y="308016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说以孙少安和孙少平两兄弟为中心，以整个社会的变迁、思想的转型为背景，通过复杂的矛盾纠葛，刻画了社会各阶层普通人们的形象，成功地塑造了少安和少平这些为生活默默承受着人生苦难的人们。在这里人性的自尊、自强与自信，人生的苦难与拼搏，挫折与追求，痛苦与欢乐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日常生活与巨大社会冲突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纷繁地交织在一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说反映了从“文革”后期到改革初期广阔的社会面。这是一部全景式地表现中国当代城乡社会生活的现实主义长篇小说，全书共三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Arial"/>
                <a:ea typeface="华文行楷"/>
              </a:rPr>
              <a:t>故事梗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14479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初农民子弟孙少平到原西县高中读书，他贫困但自尊；后对处境相同地主家庭出身的郝红梅产生情愫，被侯玉英发现并当众说破后，与郝红梅关系渐变恶劣。后来郝红梅与家境优越的顾养民恋爱。少平高中毕业，回家乡做了一名教师。他没有消沉，与田晓霞建立了友情，在晓霞帮助下关注着外部世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平的哥哥少安一直在家劳动，与润叶是青梅竹马，遭到田福堂反对。经过痛苦的挣扎，少安与秀莲结了婚，润叶也只得含泪与向前结婚。这时农村生活混乱，旱灾又火上加油，田福堂为加强自己威信，组织偷挖河坝与上游抢水，不料出了人命；为了“学大寨”，他好大喜功炸山修田，叫人搬家又弄得天怒人怨。生活的航道已到了非改变不可的地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08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00"/>
                </a:solidFill>
                <a:latin typeface="Arial"/>
                <a:ea typeface="华文行楷"/>
              </a:rPr>
              <a:t>第一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238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2645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一届三中全会后百废待兴又矛盾重重，田福堂抵制责任制，孙少安却领导生产队率先实行，接着也在全村推广。少安又进城拉砖，用赚的钱建窑烧砖，成了公社的“冒尖户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少平青春的梦想和追求也激励着他到外面去“闯荡世界”，他从揽工汉成为建筑工人，最后又成为了煤矿工人。他的女友晓霞从师专毕业后当了记者，他们相约两年后再相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润叶远离她不爱的丈夫到团地委工作，引起痴心的丈夫酒后开车致残，润叶感到内疚回到丈夫身边，开始幸福生活。她的弟弟润生也已长大成人，与命运坎坷的郝红梅邂逅，终于结为夫妻。往昔主宰全村命运的强人田福堂，不仅对新时期的变革抵触，同时也为儿女   婚事窝火，加病魔缠身，弄得焦头烂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457200"/>
            <a:ext cx="458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9080" y="457200"/>
            <a:ext cx="2191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第二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7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120" y="2662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孙少平到了煤矿，尽心尽力干活，成了一名优秀工人。少安的砖窑也有了很大发展，他贷款扩建机器制砖，不料因技师不懂技术，砖窑蒙受很大损失，后来再度奋起。但祸不单行，少安的妻子秀莲，在欢庆由他家出资两万元扩建的小学会上口吐鲜血，确诊肺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晓霞在抗洪采访中为抢救灾民光荣献身。润叶生活幸福，生了儿子。润生和郝红梅的婚事也终于得到了父母的承认，并添了女儿。少平在一次事故中为救护徒弟受了重伤，面容尽毁，遇少时玩伴金波之妹告白，少平为她的前途与自己的感情选择拒绝。。。他们并没有被不幸压垮，少平从医院出来，面对了现实，又充满信心地回到了矿山，迎接他新的生活与挑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48769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a10bf5"/>
                </a:solidFill>
                <a:latin typeface="Arial"/>
                <a:ea typeface="华文隶书"/>
              </a:rPr>
              <a:t>第三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420840"/>
            <a:ext cx="9144000" cy="7699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1459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因贫困，孙少安为减轻父亲负担主动辍学回家帮忙。得知姐夫王满银因为贩卖老鼠药被抓起来劳教后，他无能为力。可在家人面前他却假装镇定，并设法稳定家里人的情绪……他放弃了学习的机会，他吃苦耐劳的支撑起这个家。正因为他的牺牲，他的家才能有新的依靠。可以说孙少安牺牲了自己，成就了一个家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065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孙少安默默的用行动来诠释自己存在的价值，对家人，对集体，对社会他都承担起自己应尽的责任，并把它视作理所当然，视作一种信仰。他虽然只是一个普通的庄稼人，虽然只有小学学历，但他用实际行动很好的诠释了自己的价值。面对灾难、挫折，他从没逆来顺受，而是奋起反抗。他的不幸是悲剧的，但正是这些悲剧才能更好的体现他的壮烈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1320" y="228600"/>
            <a:ext cx="182628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4cba"/>
                </a:solidFill>
                <a:latin typeface="Arial"/>
                <a:ea typeface="隶书"/>
              </a:rPr>
              <a:t>孙少安诠释自我价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620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05120" y="21438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润叶向他表白时，经过痛苦的挣扎，他最终拒绝了，选择了门当户对不要彩礼的农村姑娘贺秀英。我们不能简单地说孙少安没有勇气去追求爱情，因为不可逾越的现实距离摆在面前，他有强烈的自尊心和责任心。如果他选择润叶，润叶的父亲田福堂会因为家境悬殊非常反对这场恋爱。除了外在否定力量，他清明白除了满腔的爱他什么也法给予心爱的人。既然不能给予他心爱的人可以保证的幸福，还不如放弃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不是拥有爱情就一定拥有美满的结局，婚姻是建立在一定现实基础之上了。孙少安的爱情抉择是悲壮的。他虽舍弃了爱情，但得到了美满的家庭。放弃润叶的爱情是一种理想主义的悲剧，选择现实而得到美满的家庭是一种现实的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26840" y="228600"/>
            <a:ext cx="16426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Arial"/>
                <a:ea typeface="华文行楷"/>
              </a:rPr>
              <a:t>孙少安的爱情抉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200" spc="-1" strike="noStrike">
                <a:solidFill>
                  <a:srgbClr val="aff305"/>
                </a:solidFill>
                <a:latin typeface="Arial"/>
              </a:rPr>
              <a:t>孙少平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他在我们的年代属于这样的青年：有文化，但没有幸运地进入大学或参加工作，因此似乎没有充分的条件直接参与目前社会发展的主潮之中。而另一方面，他们又不甘心把自己局限在狭小的生活天地里，因此，他们往往带着一种悲壮的激情，在一中最为艰难的道路上进行人生的搏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他们顾不得高谈阔论或愤世嫉俗地忧患人类的命运，他们首先得改变自己的生存条件，同时也不放弃最主要的精神追求，他们既不鄙视普通人的世俗生活，但又竭力是自己对生活的认识达到更深的层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000" spc="-1" strike="noStrike">
                <a:solidFill>
                  <a:srgbClr val="006633"/>
                </a:solidFill>
                <a:latin typeface="Garamond"/>
              </a:rPr>
              <a:t>他的自我剖析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虽然他是农民，他在灵魂深处并没有低看自己，他认为他所走的道路不比大学低贱，是的，他是在社会的最底层挣扎，为了几个钱而受尽折磨，但他不仅仅将此看作谋生活命——职业的高贵与低贱，不能说明一个人生活的价值，恰相反，他现在到很热爱自己的苦难，通过一段血水般的洗礼，他相信，自己历经千辛万苦而酿造出来的生活之蜜，肯定比轻而易举哪来的更有滋味——他自嘲地把自己的这种认识叫做关于苦难的学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ff"/>
                </a:solidFill>
                <a:latin typeface="Garamond"/>
              </a:rPr>
              <a:t>孙少平给他妹兰香的信节选：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我们出身于贫困农民家庭 </a:t>
            </a: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----</a:t>
            </a: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永远不要鄙我们的出身，他给我带来的好处将一生受用不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但我们一定又要从我们出身的局限中解脱出来，从意识上彻底背叛农民的狭隘性，追求更高的生活意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76920" y="3886200"/>
            <a:ext cx="3504960" cy="2971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孙少平的爱情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Arial"/>
                <a:ea typeface="楷体_GB2312"/>
              </a:rPr>
              <a:t>他绝不会像哥哥一样，为了逃避不可能实现的爱情，就匆忙地给自己找个农村姑娘，无论命运怎样无情，他绝不准备屈服，他要去争取自己的快乐！当然，这不是说，他一定和田晓霞在一起，即使没有晓霞，他也要走自己的路，生活包含着更广阔的意义，而不在于我们实际得到了什么；关键是我们的心灵是否充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753480" cy="775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66880" y="308844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路遥（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49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～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92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），原名王卫国，中国当代作家。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陕西省清涧县人，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49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出生于陕北山区一个贫困的农民家庭，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岁时因为家里困难被过继给延川县农村的伯父。文革开始后受影响直到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69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底才回到家里务农。这段时间里他做过许多临时性的工作，并在农村一小学中教过一年书。 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73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进入延安大学中文系学习，其间开始文学创作。大学毕业后，任《陕西文艺》（今为《延河》）编辑。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92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积劳成疾，英年早逝，年仅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42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228600"/>
            <a:ext cx="233388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556272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路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04920"/>
            <a:ext cx="373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64cba"/>
                </a:solidFill>
                <a:latin typeface="Arial"/>
                <a:ea typeface="华文行楷"/>
              </a:rPr>
              <a:t>作者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较之孙少安与田润叶的“平民式”的爱情，孙少平与田晓霞的爱情则带有浓厚的现代意味。同样是来自黄土高原的孙少平，他时刻能充满激情、充满斗志。希望通过自己的努力来改变生活，改变命运。领导家庭出身的田晓霞美丽大方，才华出众。她深深地挚爱着她这个“掏煤的男人”。这个“掏煤的男人”也敢于向她靠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然而，他们的爱情从一开始，就注定了悲剧性的结局。作为自然人，晓霞和少平之间是平等的，他们有着共同的兴趣爱好，共同的人生追求，共同的性格特征。作为社会的人，一个是领导的女儿，一个是山沟沟里农民的儿子；一个是省上的大记者，一个是掏煤的工人。社会身份的巨大差异注定了他们走不到一起，就算能够在一起，无论对于孙少平还是田晓霞来说，婚姻将会是涂抹了蜜汁的黄连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Garamond"/>
              </a:rPr>
              <a:t>悲怆结局：田晓霞牺牲于洪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99ff"/>
                </a:solidFill>
                <a:latin typeface="Arial"/>
              </a:rPr>
              <a:t>少平接过这三本彩色塑料皮日记本，随手打开了一本，那熟悉的、象男孩子一样刚健的字便跳入了眼帘——……酷暑已至，常去旁边的冶金学院游泳，晒得快成了黑炭头。时时想念我那“掏炭的男人”。这相念象甘甜的美酒一样令人沉醉。爱情对我虽是“初见端倪”，但已使我一洗尘泥，飘飘欲仙了。我放纵我的天性，相信爱情能给予人创造的力量。我为我的“掏炭丈夫”感到骄傲。是的，真正的爱情不应该是利己的，而应该是利他的，是心甘情愿地与爱人一起奋斗并不断地自我更新的过程；是溶合在一起——完全溶合在一起的共同斗争！你有没有决心为他（她）而付出自己的最大牺牲，这是衡量是不是真正爱情的标准，否则就是被自己的感情所欺骗……孙少平的视线被泪水模糊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66880" y="533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平凡的世界》是一部伟大的巨著，为我们解说了平凡和苦难，阐释了生活的意义。在这本书里，没有华丽的辞藻、没有惊险离奇的情节，没有惊天动地的场面，有的只是平凡的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凡的生活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凡的感情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凡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中为我们描述的是一个平凡的世界，这里生活着一群世世代代面朝黄土北朝天的普通人，他们演绎着一幕幕生老病死、悲欢离合、贫穷与富裕、苦难与拼搏、世事变更的戏剧。是喜剧？悲剧？正剧？也许都有一点。生活中没有绝对的悲剧，也没有绝对的美满，痛苦中夹着欣慰，艰辛中孕育甘甜，幸福中透着无奈……悲欢喜怒交织在一起，这就是我们平凡而真实的人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0492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b6ac1"/>
                </a:solidFill>
                <a:latin typeface="Arial"/>
                <a:ea typeface="华文行楷"/>
              </a:rPr>
              <a:t>感悟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7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20" y="160020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读这些书，并不是指望自己也成为伟人。但他从这些书中体会到，连伟人的一生都充满了那么大的艰辛，一个           平凡人吃点苦又算得          了什么呢？他一生不可能      做出什么惊人业绩，但他要学习             伟人们对待生活的态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20760" y="3808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180bc1"/>
                </a:solidFill>
                <a:latin typeface="Arial"/>
                <a:ea typeface="华文行楷"/>
              </a:rPr>
              <a:t>语句欣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活着，亲人之间的感情是多么重要，即使人的一生充满了坎坷与艰辛，只要有这种感情存在，也会感到一种温暖的慰藉，假如没有这种感情，我们活在这世界上会有多么悲哀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他在心里攒着一股劲，希望自己扛很重的东西，在一个不为人知的地方不回头地走啊走，或者什么地方失火了，没人敢去就，让我冲过去，哪怕当场烧死也可以——，不为金钱荣誉，而是出于青春的激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2819160" cy="243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34120" y="228600"/>
            <a:ext cx="32763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905120" y="3809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细想起来，每个人的生活同样也是一个世界。即使是最平凡的人也得要为他那个世界的存在而奋斗。从这个意义上说，在这些平凡的世界里，也没有一天是平凡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762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大多数人来说，生活的变化是慢慢的。今天和昨天似乎没有什么不同，明天也可能和今天一样。也许人一生仅仅有那么一两个辉煌的瞬间——甚至一生都可能在平淡无奇中度过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91920" cy="733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rot="20847000">
            <a:off x="3657600" y="1447560"/>
            <a:ext cx="426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64cba"/>
                </a:solidFill>
                <a:latin typeface="Arial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77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0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发表《</a:t>
            </a:r>
            <a:r>
              <a:rPr b="0" lang="zh-CN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惊心动魄的一幕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》获第一届全国优秀中篇小说奖。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发表《</a:t>
            </a:r>
            <a:r>
              <a:rPr b="0" lang="zh-CN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人生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》获全国第二届优秀中篇小说奖。《在困难的日子里》获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《当代》文学中长篇小说奖。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8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完成百万字的长篇巨著《</a:t>
            </a:r>
            <a:r>
              <a:rPr b="0" lang="zh-CN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平凡的世界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》荣获矛盾文学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99"/>
                </a:solidFill>
                <a:latin typeface="Arial"/>
              </a:rPr>
              <a:t>他的作品《人生》被改编成电影后，引起巨大的轰动。《平凡的世界》还未完成即在中央人民电台广播。他的创作随笔《早晨从中午开始》更是让人看到了他对文学事业的执着的信心和付出的代价。正如《痛悼路遥》一文中所写：“计算成功的方式是吃苦和受罪，他拼命工作，玩命写作，自我折磨式的付出，在文学创作这条艰辛寂寞的道路上，竭尽全力，一路血汗向高峰攀登”。对人生的执着追求，对他所热爱的故乡的钟情，以及对他的现实主义写作手法的自信，这一切构成了路遥小说基本的特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7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宋体"/>
              </a:rPr>
              <a:t>他被称为“土著”作家，主要受到的是农民文化的影响。他的写作素材基本来自农村生活，他始终认定自己“是一个农民血统的儿子”，是“既带着‘农村味’ 又带着‘城市味’的人”，他坚信“人生的最大的幸福也许在于创作的   过程，而不在于那个结果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533520" y="-380880"/>
            <a:ext cx="10134720" cy="7600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66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长篇小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590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短篇小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杂文集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6858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平凡的世界》《人生》《在困难的日子里》《我和五叔的六次相遇》 《黄叶在秋风中飘落》 《惊心动魄的一幕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228600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月夜静悄悄》《一生中最高兴的一天》《夏》《姐姐》《风雪腊梅》《青松与小红花》《匆匆过客》《痛苦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88620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早晨从中午开始》 《路遥小说选自序》 关于《人生》的对话 《土地的寻觅》 《作家的劳动》 《柳青的遗产》 《无声的汹涌》 《生活咏叹调》 《生活的大树万古长青》 《人生》法文版序 《这束淡弱的折光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669960"/>
            <a:ext cx="71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1e07c5"/>
                </a:solidFill>
                <a:latin typeface="Arial"/>
                <a:ea typeface="华文行楷"/>
              </a:rPr>
              <a:t>作品一览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677520" cy="733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4022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是唯一一本能真正感动我的书，十年来我都不敢看第二遍，平凡的世界十分令人感动，“平凡但不平庸”。在农村中的那些人那些事会让人找到方向找到支持……人生，就是当有一天，你要离去的时候，回首往事，你不会因碌碌无为而后悔……——杨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977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十几年前从中央人民广播电台听到《平凡的世界》，绝对是一个现实版的励志故事，它好像实实在在地就发生在自己身边，我的性格、我的追求、我的生活无不深受影响。感谢路遥！书中的孙少平远比现在的那些明星更适合作年轻人的偶像。——李汉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评论家白烨表示：现在研究农民把农民作为表现对象的作品，一年多达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多部，这中间有多少是能够留下来的呢？很多长篇小说里有血和泪水，而路遥的作品是真正的心血之作，甚至是拿生命换来的，他写这个作品的时候，写到非常疯狂时，整个手都发硬了，于是就拿热水泡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《平凡的世界》能得到那么多人的喜爱，绝对与这种投入与付出有关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11049120" cy="7086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37160"/>
            <a:ext cx="87631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孙玉厚一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祖母，多年卧病在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玉厚夫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女孙兰花 女婿王满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子孙少安，小学毕业，队长，妻贺秀莲；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子孙少平，高中毕业，矿工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孙兰香，考上如西北工业大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78784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田福堂一家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田福堂，双水村大队党支部书记，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田润叶，孙少安青梅竹马之好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田润生，与孙少平同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00680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cb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金俊海一家</a:t>
            </a:r>
            <a:r>
              <a:rPr b="0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俊海，黄原地区运输公司汽车司机；妻在家务农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金波，孙少平之同学、好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金秀，孙兰香之同学、好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3240" y="2286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cc"/>
                </a:solidFill>
                <a:latin typeface="Arial"/>
                <a:ea typeface="华文行楷"/>
              </a:rPr>
              <a:t>主要人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1-10-09T05:09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