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type.wav" ContentType="audio/x-wav"/>
  <Override PartName="/ppt/media/image9.png" ContentType="image/png"/>
  <Override PartName="/ppt/media/image8.jpeg" ContentType="image/jpeg"/>
  <Override PartName="/ppt/media/whoosh.wav" ContentType="audio/x-wav"/>
  <Override PartName="/ppt/media/chimes.wav" ContentType="audio/x-wav"/>
  <Override PartName="/ppt/media/image13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1.wmf" ContentType="image/x-wmf"/>
  <Override PartName="/ppt/media/laser.wav" ContentType="audio/x-wav"/>
  <Override PartName="/ppt/media/image1.png" ContentType="image/png"/>
  <Override PartName="/ppt/media/image3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A4D-7B10-44C6-B92E-027F30B8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5BC-084A-4A53-8BEF-6B4823B3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A9A-9175-403B-8052-1ECFAE09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479-AC6C-4F88-B525-75F28D1B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62F8-1F3C-48D7-AEA6-76A6C9BE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9E57-D99F-4751-9009-26E9D5DF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7C08-4C02-431F-9983-48361D4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18D3-E576-49B7-B0C6-38BC8968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F375-02B8-4DC3-9C58-D2D54BF7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0165-E789-4DC8-8519-F6564760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C2A1-07A7-4C48-9ADC-CA048C57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98F-F3C6-4DCC-BCD2-923D3A42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FCCD-5223-48B4-9E73-1051F790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06E-B47B-41FD-96E2-F6C75C1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BC3B-DA56-4780-A46D-981324FF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3652-CCD8-453E-BC0D-9386C40B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5EE3-ED67-480F-98AC-E99F650C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0424-F7A5-4898-B8BC-CFEB7984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3B9B-DB73-43C7-8F40-59767406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33CE-48B7-4875-9780-1918DA78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AB64-AEFD-48EC-B3A7-7D7201D3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FD38C-3306-4AB6-B555-A194F087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8E1-CD73-4694-AB63-79A33B99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99690-F790-4074-A321-C22D2152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5E26-F74F-4DEB-9DA1-36A18CE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A836-9DB5-491C-A66D-2BD329E0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B5CA-F367-4BCD-A820-707514D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1E54-CEA2-466E-82FA-E4895D48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26D3-7939-4370-AD67-1D886E60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6836-201D-45F8-9701-C7D71948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A9A-0DC7-4CCB-A7A5-9BACA77E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C87-C47B-43C8-9985-1F9170F6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6D7-1C83-4B85-9FBB-5AC00A44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311-9A19-4E67-9DEC-1E20A2D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7E7-806F-4C77-AFB0-A0921A0B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CEE-0876-4E84-A6AF-582609AD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18DD-8684-42BE-9B7B-D05BD406E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3237-0A63-4090-B725-0B87AA2F526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87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B3A0-2649-465F-BA54-C519786B7189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12039480" cy="6896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76360" y="620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ff0000"/>
                </a:solidFill>
                <a:latin typeface="Times New Roman"/>
                <a:ea typeface="文鼎超顏楷"/>
              </a:rPr>
              <a:t>琵琶行并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5541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第一部分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3640" y="15541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浔阳江头夜送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24890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第二部分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860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第三部分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486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第四部分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5877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第五部分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248904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江心聆听琵琶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3640" y="3860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江中听诉身世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869000"/>
            <a:ext cx="331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同病相怜伤迁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5877000"/>
            <a:ext cx="3311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重闻琵琶青衫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4364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少年欢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16720" y="4508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悲苦处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16720" y="17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邀见琵琶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3640" y="227664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琵琶女演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16720" y="2852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听者陶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1844640"/>
            <a:ext cx="289080" cy="1513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7640" y="3573360"/>
            <a:ext cx="360360" cy="1584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71280"/>
            <a:ext cx="8353440" cy="141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再读课文    整体感知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用七言概括各段内容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6720" y="3933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晚年沦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105080" cy="5805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140800" y="1197000"/>
            <a:ext cx="16426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相逢何必曾相识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93160" y="1268280"/>
            <a:ext cx="16426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同是天涯沦落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5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读课文   找出诗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651640" y="907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第二课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69228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赏析诗中的音乐描写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1125360"/>
            <a:ext cx="6408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赏析诗中的音乐描写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"/>
          <p:cNvSpPr/>
          <p:nvPr/>
        </p:nvSpPr>
        <p:spPr>
          <a:xfrm>
            <a:off x="826920" y="189000"/>
            <a:ext cx="813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相逢何必曾相识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是什么使素不相识，萍水相逢的诗人和琵琶女联系在一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爆炸形 2 3"/>
          <p:cNvSpPr/>
          <p:nvPr/>
        </p:nvSpPr>
        <p:spPr>
          <a:xfrm>
            <a:off x="3346560" y="2492280"/>
            <a:ext cx="5689440" cy="3553560"/>
          </a:xfrm>
          <a:prstGeom prst="irregularSeal2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2f2f2"/>
                </a:solidFill>
                <a:latin typeface="华文彩云"/>
                <a:ea typeface="华文彩云"/>
              </a:rPr>
              <a:t>音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0"/>
          <a:ext cx="9144000" cy="66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24000" y="476280"/>
            <a:ext cx="8604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诗中几次写到演奏琵琶曲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再细读课文，请画出诗中三次音乐描写的诗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2538360" cy="824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赏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句子：忽闻水上琵琶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主人忘归客不发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侧面烘托音乐之美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1341360"/>
            <a:ext cx="734364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第一次：江头送客闻琵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7280" y="0"/>
            <a:ext cx="2268720" cy="620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赏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8000" y="1557360"/>
            <a:ext cx="533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江上聆听琵琶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24000" y="1413000"/>
            <a:ext cx="6096240" cy="56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调弦校音，情随声出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转轴拨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演奏姿态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低眉信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动作指法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轻拢慢捻抹复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演奏曲名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初为霓裳后六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描写音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曲终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曲终收拨当心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75560" y="50760"/>
            <a:ext cx="31982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第二次：江上聆听琵琶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6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邀见琵琶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3213000"/>
            <a:ext cx="15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琵琶女演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琵琶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08000" y="595620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听者陶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836640"/>
            <a:ext cx="360360" cy="56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48320 h 5688000"/>
              <a:gd name="textAreaBottom" fmla="*/ 553968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0920" y="1413000"/>
            <a:ext cx="217440" cy="4537080"/>
          </a:xfrm>
          <a:custGeom>
            <a:avLst/>
            <a:gdLst>
              <a:gd name="textAreaLeft" fmla="*/ 138960 w 217440"/>
              <a:gd name="textAreaRight" fmla="*/ 217800 w 21744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3743280"/>
            <a:ext cx="5435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第一乐段：珠落玉盘，急切愉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第二乐段：幽咽凝绝，幽愁暗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第三乐段：铁骑突出，高亢激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3860640"/>
            <a:ext cx="144720" cy="1513080"/>
          </a:xfrm>
          <a:custGeom>
            <a:avLst/>
            <a:gdLst>
              <a:gd name="textAreaLeft" fmla="*/ 92520 w 144720"/>
              <a:gd name="textAreaRight" fmla="*/ 145080 w 14472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403280" y="836640"/>
          <a:ext cx="7416720" cy="5826240"/>
        </p:xfrm>
        <a:graphic>
          <a:graphicData uri="http://schemas.openxmlformats.org/drawingml/2006/table">
            <a:tbl>
              <a:tblPr/>
              <a:tblGrid>
                <a:gridCol w="4176720"/>
                <a:gridCol w="3240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隶书"/>
                          <a:ea typeface="隶书"/>
                        </a:rPr>
                        <a:t>诗    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隶书"/>
                        </a:rPr>
                        <a:t>音乐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38"/>
          <p:cNvSpPr/>
          <p:nvPr/>
        </p:nvSpPr>
        <p:spPr>
          <a:xfrm>
            <a:off x="1403280" y="1628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大弦嘈嘈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如急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9"/>
          <p:cNvSpPr/>
          <p:nvPr/>
        </p:nvSpPr>
        <p:spPr>
          <a:xfrm>
            <a:off x="1403280" y="220500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弦切切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如私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1403280" y="28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大珠小珠落玉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1"/>
          <p:cNvSpPr/>
          <p:nvPr/>
        </p:nvSpPr>
        <p:spPr>
          <a:xfrm>
            <a:off x="1403280" y="357192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间关莺语花底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2"/>
          <p:cNvSpPr/>
          <p:nvPr/>
        </p:nvSpPr>
        <p:spPr>
          <a:xfrm>
            <a:off x="1403280" y="422100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幽咽泉流冰下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3"/>
          <p:cNvSpPr/>
          <p:nvPr/>
        </p:nvSpPr>
        <p:spPr>
          <a:xfrm>
            <a:off x="1403280" y="486900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银瓶乍破水浆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4"/>
          <p:cNvSpPr/>
          <p:nvPr/>
        </p:nvSpPr>
        <p:spPr>
          <a:xfrm>
            <a:off x="1403280" y="5516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铁骑突出刀枪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5"/>
          <p:cNvSpPr/>
          <p:nvPr/>
        </p:nvSpPr>
        <p:spPr>
          <a:xfrm>
            <a:off x="1403280" y="616428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四弦一声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如裂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6"/>
          <p:cNvSpPr/>
          <p:nvPr/>
        </p:nvSpPr>
        <p:spPr>
          <a:xfrm>
            <a:off x="5580000" y="1628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粗重深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7"/>
          <p:cNvSpPr/>
          <p:nvPr/>
        </p:nvSpPr>
        <p:spPr>
          <a:xfrm>
            <a:off x="5580000" y="2276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腻柔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9"/>
          <p:cNvSpPr/>
          <p:nvPr/>
        </p:nvSpPr>
        <p:spPr>
          <a:xfrm>
            <a:off x="5580000" y="3571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婉转流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0"/>
          <p:cNvSpPr/>
          <p:nvPr/>
        </p:nvSpPr>
        <p:spPr>
          <a:xfrm>
            <a:off x="5580000" y="4221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沉抑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1"/>
          <p:cNvSpPr/>
          <p:nvPr/>
        </p:nvSpPr>
        <p:spPr>
          <a:xfrm>
            <a:off x="5580000" y="486900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越高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2"/>
          <p:cNvSpPr/>
          <p:nvPr/>
        </p:nvSpPr>
        <p:spPr>
          <a:xfrm>
            <a:off x="5580000" y="5516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势雄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5580000" y="6164280"/>
            <a:ext cx="24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戛然而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189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第二次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: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江上聆听琵琶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29462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润清脆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错落有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1844640"/>
            <a:ext cx="792000" cy="4608720"/>
          </a:xfrm>
          <a:custGeom>
            <a:avLst/>
            <a:gdLst>
              <a:gd name="textAreaLeft" fmla="*/ 506160 w 792000"/>
              <a:gd name="textAreaRight" fmla="*/ 792360 w 792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7"/>
                </a:lnTo>
                <a:cubicBezTo>
                  <a:pt x="10800" y="9837"/>
                  <a:pt x="5400" y="10737"/>
                  <a:pt x="0" y="10737"/>
                </a:cubicBezTo>
                <a:cubicBezTo>
                  <a:pt x="5400" y="10737"/>
                  <a:pt x="10800" y="11637"/>
                  <a:pt x="10800" y="1253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149040" y="2205000"/>
            <a:ext cx="1277640" cy="2735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     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56040" y="130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明写详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妙用比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18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诗人运用一连串的比喻来写虚渺飘忽、过耳即逝的无形的音乐，用音强、音高、音色、节奏、旋律各不相同的十多种声音来比喻四根琴弦所发出的不同乐声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将抽象的音乐变为可感的形象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使读者如闻其声，如见其形，不仅调动了读者的听觉和视觉，而且能激发读者的联想和想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893440" cy="1125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琵琶曲旋律变化的描写中你能捕捉到琵琶女情感变化的轨迹吗？请从诗文中找出证据说明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浔阳江口，风寒月冷，琵琶女独守空船孤单凄凉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低沉抑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强烈的生活反差勾起她对往昔的回忆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急切愉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好景不长，时光不再，生活变故，门庭冷落    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幽愁暗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渴望爱情抚慰，但薄情丈夫重利轻别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高亢激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收束一划，“四弦一声如裂帛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愤激抗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71640" y="17640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白居易，字乐天，号香山居士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唐代继杜甫之后的又一位伟大的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现实主义诗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他积极提倡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新乐府运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主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“文章合为时而著，歌诗合为事而作。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《琵琶行》是一首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七言长篇叙事诗</a:t>
            </a:r>
            <a:r>
              <a:rPr b="1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继承了汉乐府叙事诗的传统，白居易的长篇叙事诗优美动人，通俗平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诗人生前，就被广为传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CAQPSTOH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523960" cy="4824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39640" y="11592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684760"/>
            <a:ext cx="8856720" cy="1130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童子解吟长恨曲，胡儿能唱琵琶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——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忱《吊白居易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9640" y="907920"/>
            <a:ext cx="8136000" cy="8251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音乐是心灵世界最美的语言，是情感宣泄的最佳方式。琵琶女一曲弹奏，尽诉胸中怨悱，道出命运的沧桑。悲愤的曲调塑造了一个被侮辱、被玩弄的悲剧形象，令普天下伤心人同声一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以声传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0305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倾诉悲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急切愉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44402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幽愁暗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198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高亢激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戛然而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295280" y="304776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312408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800600" y="2286000"/>
            <a:ext cx="144792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2362320"/>
            <a:ext cx="144792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9280" y="333360"/>
            <a:ext cx="525780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琵琶女的情绪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90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次   重闻琵琶青衫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867280" y="134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明写略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35280" y="1216080"/>
            <a:ext cx="15350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诗  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916280"/>
            <a:ext cx="3671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却坐促弦弦转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2637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凄凄不似向前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35290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满座重闻皆掩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41259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座中泣下谁最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4724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江州司马青衫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995640" y="1989000"/>
            <a:ext cx="4214520" cy="1296720"/>
            <a:chOff x="3995640" y="1989000"/>
            <a:chExt cx="4214520" cy="1296720"/>
          </a:xfrm>
        </p:grpSpPr>
        <p:sp>
          <p:nvSpPr>
            <p:cNvPr id="283" name=""/>
            <p:cNvSpPr/>
            <p:nvPr/>
          </p:nvSpPr>
          <p:spPr>
            <a:xfrm>
              <a:off x="5011920" y="2011320"/>
              <a:ext cx="31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（直接描写音乐的悲凄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95640" y="1989000"/>
              <a:ext cx="137880" cy="1296720"/>
            </a:xfrm>
            <a:custGeom>
              <a:avLst/>
              <a:gdLst>
                <a:gd name="textAreaLeft" fmla="*/ 0 w 137880"/>
                <a:gd name="textAreaRight" fmla="*/ 49680 w 13788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067280" y="3573360"/>
            <a:ext cx="4214520" cy="1800000"/>
            <a:chOff x="4067280" y="3573360"/>
            <a:chExt cx="4214520" cy="1800000"/>
          </a:xfrm>
        </p:grpSpPr>
        <p:sp>
          <p:nvSpPr>
            <p:cNvPr id="286" name=""/>
            <p:cNvSpPr/>
            <p:nvPr/>
          </p:nvSpPr>
          <p:spPr>
            <a:xfrm>
              <a:off x="4067280" y="3573360"/>
              <a:ext cx="140400" cy="1800000"/>
            </a:xfrm>
            <a:custGeom>
              <a:avLst/>
              <a:gdLst>
                <a:gd name="textAreaLeft" fmla="*/ 0 w 140400"/>
                <a:gd name="textAreaRight" fmla="*/ 50760 w 14040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83560" y="4009680"/>
              <a:ext cx="31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（侧面烘托音乐的感人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3108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古人描写音乐美的词语和句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齐闻韶，三月不知肉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论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述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余音绕梁，三日不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列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汤问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曲只应天上有，人间哪得几回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杜甫 《赠花卿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j0232133"/>
          <p:cNvPicPr/>
          <p:nvPr/>
        </p:nvPicPr>
        <p:blipFill>
          <a:blip r:embed="rId1"/>
          <a:stretch/>
        </p:blipFill>
        <p:spPr>
          <a:xfrm>
            <a:off x="0" y="5084640"/>
            <a:ext cx="17226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946160" y="115920"/>
            <a:ext cx="353340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琵琶女三次演奏琵琶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826920" y="9079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暗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人送客闻琵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2684880" y="1628640"/>
            <a:ext cx="34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醉不成欢惨将别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烘托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2050920" y="220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主人忘归客不发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侧面烘托琴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682560" y="278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写详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彼此相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琵琶女奏《霓裳》《六幺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1979640" y="3789360"/>
            <a:ext cx="31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琵琶女自叙身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2566800" y="443700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诗人述“迁谪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5765400" y="3860640"/>
            <a:ext cx="26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同是天涯沦落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6162120" y="4365720"/>
            <a:ext cx="18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点明主旨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754200" y="508464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写略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感我此言”“却坐促弦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正写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2052720" y="616572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江州司马青衫湿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侧面烘托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1052640"/>
            <a:ext cx="431640" cy="518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76720" y="3860640"/>
            <a:ext cx="152640" cy="1008360"/>
          </a:xfrm>
          <a:custGeom>
            <a:avLst/>
            <a:gdLst>
              <a:gd name="textAreaLeft" fmla="*/ 0 w 152640"/>
              <a:gd name="textAreaRight" fmla="*/ 55080 w 152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7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95280" y="1595520"/>
            <a:ext cx="8424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直接描写音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运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比喻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描写音乐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③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通过写音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效果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描写音乐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④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通过写演奏者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动作态度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描写音乐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⑤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运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叠词、双声叠韵词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描写音乐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⑥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点拨音乐中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感情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05920" y="333360"/>
            <a:ext cx="47527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诗描写音乐有哪些方法和角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062680"/>
            <a:ext cx="205740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1125360"/>
            <a:ext cx="64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作探究，理解主旨句的内涵，把握诗歌的思想感情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132000" y="13413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第三课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0000" y="126828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黑体"/>
              </a:rPr>
              <a:t>琵琶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80000" y="1125360"/>
            <a:ext cx="2521080" cy="168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黑体"/>
              </a:rPr>
              <a:t>白居易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5280" y="6021360"/>
            <a:ext cx="81453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同是天涯沦落人，相逢何必曾相识！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5950080"/>
            <a:ext cx="617400" cy="7142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2205000"/>
            <a:ext cx="3606840" cy="5814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自言本是京城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3068640"/>
            <a:ext cx="3549600" cy="5814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名满京都的艺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4076640"/>
            <a:ext cx="3544920" cy="5814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老大嫁作商人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76720" y="2133720"/>
            <a:ext cx="3598920" cy="5814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我从去年辞帝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76720" y="3068640"/>
            <a:ext cx="3598920" cy="5814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才华横溢的诗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76720" y="4076640"/>
            <a:ext cx="3635640" cy="5814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谪居卧病浔阳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4941720"/>
            <a:ext cx="3544920" cy="5814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去来江口守空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76720" y="5013360"/>
            <a:ext cx="3598920" cy="5814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往往取酒还独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诗人为什么说他和琵琶女“同是天涯沦落人”？试结合全诗的内容和白居易的生平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278136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华文行楷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千古传诵的名句。诗人和琵琶女虽然经历、地位不同，但都有着共同的不幸遭遇和艰难处境，生活都同样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飘零、凄凉、失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诗人把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对琵琶女的深挚同情、对自己被贬的满腔幽怨以及对冷酷现实的强烈不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完全融合在一起了。正因为这两句诗揭示出了一种带有普遍意义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典型情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所以能够在历史的长河中激起广泛的同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黑体"/>
              </a:rPr>
              <a:t>琵琶女倾诉身世苦，白居易同病相怜伤迁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19280" y="1052640"/>
            <a:ext cx="5616720" cy="1143000"/>
          </a:xfrm>
          <a:prstGeom prst="wedgeRectCallout">
            <a:avLst>
              <a:gd name="adj1" fmla="val -43666"/>
              <a:gd name="adj2" fmla="val 11388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同是天涯沦落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相逢何必曾相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00000" y="1268280"/>
            <a:ext cx="770580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读《琵琶行》有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人生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难得一知己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千古知音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最难觅。伯牙操琴遇子期，高山流水韵依依。乐天浔阳闻琵琶，相逢何必曾相识。寄语天涯沦落人，莫愁前路无知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4140360" cy="1557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5219640" y="5346720"/>
            <a:ext cx="3924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327672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歌、行都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歌行体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，属于古体诗。音节格律比较自由，句法长短不一，富于变化。唐以后，歌行一般用五、七言古诗体裁。 可叙事，可抒情、议论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例如《白雪歌送武判官归京》，《茅屋为秋风所破歌》，《兵车行》都是歌行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348000" y="333360"/>
            <a:ext cx="28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文体知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195640" y="83664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黑体"/>
              </a:rPr>
              <a:t>明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64720" y="-20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秋江夜送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25920" y="833400"/>
            <a:ext cx="16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黑体"/>
              </a:rPr>
              <a:t>暗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19280" y="16095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夜弹琵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65840" y="1625760"/>
            <a:ext cx="27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夜听琵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69960" y="25621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凄凉话身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65840" y="2562120"/>
            <a:ext cx="27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移船邀相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69960" y="35701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坐弹一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65840" y="3570120"/>
            <a:ext cx="37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作《琵琶行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556000" y="549360"/>
            <a:ext cx="3395520" cy="285840"/>
            <a:chOff x="2556000" y="549360"/>
            <a:chExt cx="3395520" cy="285840"/>
          </a:xfrm>
        </p:grpSpPr>
        <p:sp>
          <p:nvSpPr>
            <p:cNvPr id="339" name=""/>
            <p:cNvSpPr/>
            <p:nvPr/>
          </p:nvSpPr>
          <p:spPr>
            <a:xfrm>
              <a:off x="2556000" y="692280"/>
              <a:ext cx="33955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56000" y="549360"/>
              <a:ext cx="0" cy="142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56000" y="692280"/>
              <a:ext cx="0" cy="142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40360" y="692280"/>
              <a:ext cx="0" cy="142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556000" y="1413000"/>
            <a:ext cx="0" cy="2156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1413000"/>
            <a:ext cx="0" cy="2156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56000" y="2205000"/>
            <a:ext cx="0" cy="360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40360" y="2205000"/>
            <a:ext cx="0" cy="360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56000" y="3213000"/>
            <a:ext cx="0" cy="360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0360" y="3213000"/>
            <a:ext cx="0" cy="360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4437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黑体"/>
              </a:rPr>
              <a:t>明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歌女身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43280" y="4437000"/>
            <a:ext cx="41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黑体"/>
              </a:rPr>
              <a:t>暗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诗人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75440" y="5445000"/>
            <a:ext cx="43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同是天涯沦落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相逢何必曾相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3059280" cy="35002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54880" y="1268280"/>
            <a:ext cx="6069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琵琶行》中的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艺术典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16000" y="105264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形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千呼万唤始出来，犹抱琵琶半遮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6920" y="1341360"/>
            <a:ext cx="432000" cy="4103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177336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典型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乐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大弦嘈嘈如急雨，小弦切切如私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256536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典型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境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别有幽愁暗恨生，此时无声胜有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87280" y="3500280"/>
            <a:ext cx="43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氛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东船西舫悄无言， 唯见江心秋月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6000" y="47242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感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同是天涯沦落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逢何必曾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87280"/>
            <a:ext cx="4897440" cy="765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名句新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640" y="3789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医改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呼万唤始出来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“ 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呼万唤始出来’   刘云飞昨日终于现身申花基地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125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千呼万唤始出来：多形容大众所关注、舆论所呼吁的人物出场（出台）的过程漫长而艰难，与人物本身心情无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4402080" cy="765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名句新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424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彻底打破医疗垄断  不犹抱琵琶半遮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于两岸政策，陈水扁已不再“犹抱琵琶半遮面”，再经历“三合一”选举挫败，思索最后的两年的政策轴线后，陈水扁已选择“战略清晰”的较量路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640" y="112536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犹抱琵琶半遮面：形容女子欲显还隐的羞怯神态；态度或真相尚不十分清晰，或举措尚不彻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490920" y="26028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词多义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67" name=""/>
          <p:cNvSpPr/>
          <p:nvPr/>
        </p:nvSpPr>
        <p:spPr>
          <a:xfrm>
            <a:off x="108000" y="2843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是京城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0320" y="92376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0320" y="1569960"/>
            <a:ext cx="25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斯人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0320" y="2178000"/>
            <a:ext cx="43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凡六百一十六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9440" y="3800520"/>
            <a:ext cx="18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9440" y="4643280"/>
            <a:ext cx="39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快弹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9440" y="5364000"/>
            <a:ext cx="43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曲红绡不知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490920" y="26028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词多义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75" name=""/>
          <p:cNvSpPr/>
          <p:nvPr/>
        </p:nvSpPr>
        <p:spPr>
          <a:xfrm>
            <a:off x="108000" y="2843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是京城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0320" y="92376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0320" y="1569960"/>
            <a:ext cx="25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斯人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0320" y="2178000"/>
            <a:ext cx="43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凡六百一十六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9440" y="3800520"/>
            <a:ext cx="18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9440" y="4643280"/>
            <a:ext cx="39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快弹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9440" y="5364000"/>
            <a:ext cx="43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曲红绡不知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80000" y="162252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话，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80000" y="219852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字，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80000" y="284652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说，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8000" y="2843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是京城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490920" y="260280"/>
            <a:ext cx="216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词多义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7" name=""/>
          <p:cNvSpPr/>
          <p:nvPr/>
        </p:nvSpPr>
        <p:spPr>
          <a:xfrm>
            <a:off x="130320" y="92376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0320" y="1569960"/>
            <a:ext cx="25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斯人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0320" y="2178000"/>
            <a:ext cx="43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凡六百一十六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59280" y="4643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几 ，表不确定的数目，数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59120" y="5370480"/>
            <a:ext cx="37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数量，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9440" y="3800520"/>
            <a:ext cx="18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9440" y="4643280"/>
            <a:ext cx="39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快弹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9440" y="5364000"/>
            <a:ext cx="43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曲红绡不知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80000" y="162252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话，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0" y="219852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字，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80000" y="2846520"/>
            <a:ext cx="24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说，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9440" y="40464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9440" y="1197000"/>
            <a:ext cx="46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琵琶声停欲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9440" y="1917720"/>
            <a:ext cx="52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夜闻君琵琶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8000" y="5421240"/>
            <a:ext cx="67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君翻作《琵琶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0320" y="32148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0320" y="3905280"/>
            <a:ext cx="31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0320" y="4653000"/>
            <a:ext cx="80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初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霓裳》后《六幺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09440" y="40464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9440" y="1197000"/>
            <a:ext cx="46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琵琶声停欲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9440" y="1917720"/>
            <a:ext cx="52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夜闻君琵琶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8000" y="5421240"/>
            <a:ext cx="67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君翻作《琵琶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0320" y="32148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30320" y="3905280"/>
            <a:ext cx="31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0320" y="4653000"/>
            <a:ext cx="80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初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霓裳》后《六幺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79840" y="1197000"/>
            <a:ext cx="53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说话，回答，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64000" y="1924200"/>
            <a:ext cx="35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曲，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09440" y="40464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9440" y="1197000"/>
            <a:ext cx="46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琵琶声停欲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9440" y="1917720"/>
            <a:ext cx="52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夜闻君琵琶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8000" y="5421240"/>
            <a:ext cx="67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君翻作《琵琶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80000" y="39844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写，创作，动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w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27440" y="545148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替、给，介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w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0320" y="32148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0320" y="3905280"/>
            <a:ext cx="31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0320" y="4653000"/>
            <a:ext cx="80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初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霓裳》后《六幺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69040" y="46864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弹奏，动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w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79840" y="1197000"/>
            <a:ext cx="53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说话，回答，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64000" y="1924200"/>
            <a:ext cx="35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曲，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5832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本诗作于元和十年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81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）白居易因上书言事，触犯权贵，被 贬为江洲司马，此年秋天于浔阳江上闻人弹琵琶，伤感不已，因此作诗。 作者通过塑造一位备受侮辱、玩弄的琵琶女的典形象抒自己的感受，表达了 “ 同是天涯沦落人，相逢何必曾相识 ”的主旨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50920" y="42552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5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116856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拢慢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191628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人重利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350028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4243320"/>
            <a:ext cx="54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座重闻皆掩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0920" y="499104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座中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谁最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42552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5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0920" y="116856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拢慢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191628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人重利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350028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0920" y="4243320"/>
            <a:ext cx="54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座重闻皆掩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0920" y="499104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座中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谁最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924360" y="11955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轻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924360" y="18972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轻视，形容词作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50920" y="42552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5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0920" y="116856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拢慢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95640" y="422100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哭泣，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95640" y="492300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眼泪，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0920" y="350028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0920" y="4243320"/>
            <a:ext cx="54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座重闻皆掩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499104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座中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谁最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24360" y="11955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轻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24360" y="18972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轻视，形容词作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191628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人重利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08000" y="692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7.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8000" y="38577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8.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8000" y="4786200"/>
            <a:ext cx="424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凝绝不通声暂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听仙乐耳暂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1544760"/>
            <a:ext cx="496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寻声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弹者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有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愁暗恨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08000" y="692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7.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8000" y="38577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8.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8000" y="4786200"/>
            <a:ext cx="424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凝绝不通声暂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听仙乐耳暂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8000" y="1544760"/>
            <a:ext cx="496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寻声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弹者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有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愁暗恨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84760" y="1549440"/>
            <a:ext cx="24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悄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868560" y="21286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隐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08000" y="692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7.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8000" y="38577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8.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8000" y="4786200"/>
            <a:ext cx="424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凝绝不通声暂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听仙乐耳暂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8000" y="1544760"/>
            <a:ext cx="4968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寻声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弹者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有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愁暗恨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68560" y="212868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隐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29120" y="47862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暂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95640" y="544212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忽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84760" y="1549440"/>
            <a:ext cx="24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悄悄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古今异义词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9" name=""/>
          <p:cNvSpPr/>
          <p:nvPr/>
        </p:nvSpPr>
        <p:spPr>
          <a:xfrm>
            <a:off x="108000" y="12049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8000" y="24400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阑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8000" y="38084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向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8000" y="49608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老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08000" y="57531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颜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08000" y="12049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因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古今异义词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6" name=""/>
          <p:cNvSpPr/>
          <p:nvPr/>
        </p:nvSpPr>
        <p:spPr>
          <a:xfrm>
            <a:off x="1596960" y="968400"/>
            <a:ext cx="71517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个词，于是创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今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表原因的连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8000" y="24400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阑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41600" y="2276640"/>
            <a:ext cx="1238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参差错杂，纵横散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今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木、石、钢材制成的拦挡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08000" y="38084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向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34480" y="3645000"/>
            <a:ext cx="105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前、刚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今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介词和方位名词构成的两个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8000" y="49608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老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672720" y="50166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龄大。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今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兄弟排行第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08000" y="57531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颜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75040" y="580536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古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容颜。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今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201840" y="403200"/>
            <a:ext cx="223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文言句式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86" name=""/>
          <p:cNvSpPr/>
          <p:nvPr/>
        </p:nvSpPr>
        <p:spPr>
          <a:xfrm>
            <a:off x="260280" y="1265400"/>
            <a:ext cx="78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尝学琵琶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于穆、曹二善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0280" y="2637000"/>
            <a:ext cx="78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徙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于江湖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0280" y="4076640"/>
            <a:ext cx="78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是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安倡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0280" y="5370480"/>
            <a:ext cx="78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之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弹数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201840" y="403200"/>
            <a:ext cx="223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文言句式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1" name=""/>
          <p:cNvSpPr/>
          <p:nvPr/>
        </p:nvSpPr>
        <p:spPr>
          <a:xfrm>
            <a:off x="250920" y="19130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介宾短语后置；于，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920" y="3284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介宾短语后置；于，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0920" y="4653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省略句，省略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920" y="59450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省略句，之，琵琶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0280" y="1265400"/>
            <a:ext cx="78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尝学琵琶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于穆、曹二善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0280" y="2637000"/>
            <a:ext cx="78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徙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于江湖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0280" y="4076640"/>
            <a:ext cx="78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是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安倡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60280" y="5370480"/>
            <a:ext cx="78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之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弹数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7840" y="189000"/>
            <a:ext cx="828180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初读课文     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5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铮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然       转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徙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阳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霓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衣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红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头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银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居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独倾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关 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裂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幽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船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舫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虾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陵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呕哑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嘲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干        琴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126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zhē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125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mǐ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4360" y="1203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1844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xún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n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5800" y="1844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n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249228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ch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2492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1440" y="2492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di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10160" y="318600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0" y="321300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zh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10600" y="3186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h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78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ji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20960" y="38354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g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4360" y="3789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d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45165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444348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450864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fǎ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157720"/>
            <a:ext cx="15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há m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508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ōu y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0000" y="511812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zhāo zh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86040" y="580536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l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57340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xi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60280" y="549360"/>
            <a:ext cx="56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送客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于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湓浦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98612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沉吟放拨插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于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弦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60280" y="549360"/>
            <a:ext cx="56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送客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于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湓浦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0920" y="1197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省略句，于，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0920" y="198612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沉吟放拨插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（于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弦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1200" y="26337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省略句，于，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6" name=""/>
          <p:cNvSpPr/>
          <p:nvPr/>
        </p:nvSpPr>
        <p:spPr>
          <a:xfrm>
            <a:off x="108000" y="155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醉不成欢惨将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8" name=""/>
          <p:cNvSpPr/>
          <p:nvPr/>
        </p:nvSpPr>
        <p:spPr>
          <a:xfrm>
            <a:off x="108000" y="1557360"/>
            <a:ext cx="842472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醉不成欢惨将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弦弦掩抑声声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0" name=""/>
          <p:cNvSpPr/>
          <p:nvPr/>
        </p:nvSpPr>
        <p:spPr>
          <a:xfrm>
            <a:off x="108000" y="1557360"/>
            <a:ext cx="8424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醉不成欢惨将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弦弦掩抑声声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低眉信手续续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2" name=""/>
          <p:cNvSpPr/>
          <p:nvPr/>
        </p:nvSpPr>
        <p:spPr>
          <a:xfrm>
            <a:off x="108000" y="1557360"/>
            <a:ext cx="8424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醉不成欢惨将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弦弦掩抑声声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低眉信手续续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嘈嘈切切错杂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4" name=""/>
          <p:cNvSpPr/>
          <p:nvPr/>
        </p:nvSpPr>
        <p:spPr>
          <a:xfrm>
            <a:off x="108000" y="155736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醉不成欢惨将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弦弦掩抑声声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低眉信手续续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嘈嘈切切错杂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间关莺语花底滑，幽咽流泉水下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6" name=""/>
          <p:cNvSpPr/>
          <p:nvPr/>
        </p:nvSpPr>
        <p:spPr>
          <a:xfrm>
            <a:off x="108000" y="1393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别有幽愁暗恨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8" name=""/>
          <p:cNvSpPr/>
          <p:nvPr/>
        </p:nvSpPr>
        <p:spPr>
          <a:xfrm>
            <a:off x="108000" y="1393920"/>
            <a:ext cx="892800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别有幽愁暗恨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银瓶乍破水浆迸，铁骑突出刀枪鸣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0" name=""/>
          <p:cNvSpPr/>
          <p:nvPr/>
        </p:nvSpPr>
        <p:spPr>
          <a:xfrm>
            <a:off x="108000" y="1393920"/>
            <a:ext cx="8928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别有幽愁暗恨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银瓶乍破水浆迸，铁骑突出刀枪鸣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秋月春风等闲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未命名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5796000" y="907920"/>
            <a:ext cx="29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名家朗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2" name=""/>
          <p:cNvSpPr/>
          <p:nvPr/>
        </p:nvSpPr>
        <p:spPr>
          <a:xfrm>
            <a:off x="108000" y="1393920"/>
            <a:ext cx="8928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别有幽愁暗恨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银瓶乍破水浆迸，铁骑突出刀枪鸣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秋月春风等闲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呕哑嘲哳难为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4" name=""/>
          <p:cNvSpPr/>
          <p:nvPr/>
        </p:nvSpPr>
        <p:spPr>
          <a:xfrm>
            <a:off x="108000" y="1393920"/>
            <a:ext cx="892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别有幽愁暗恨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银瓶乍破水浆迸，铁骑突出刀枪鸣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秋月春风等闲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呕哑嘲哳难为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却坐促弦弦转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059280" y="260280"/>
            <a:ext cx="25765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翻译句子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6" name=""/>
          <p:cNvSpPr/>
          <p:nvPr/>
        </p:nvSpPr>
        <p:spPr>
          <a:xfrm>
            <a:off x="108000" y="1393920"/>
            <a:ext cx="892800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别有幽愁暗恨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银瓶乍破水浆迸，铁骑突出刀枪鸣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8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秋月春风等闲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呕哑嘲哳难为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却坐促弦弦转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凄凄不似向前声，满座重闻皆掩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31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予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左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九江郡司马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明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快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弹数曲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长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夕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觉有迁谪意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因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句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六百一十六言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曰《琵琶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323640" y="58680"/>
            <a:ext cx="7272360" cy="706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初读课文   读懂词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836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贬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63280" y="1503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二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222264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畅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2781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容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34480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这   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4221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于是  创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479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一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54640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命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漂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憔悴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赠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凝绝不通声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歇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秋月春风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等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梦啼妆泪红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阑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坐促弦弦转急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去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江口守空船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暮去朝来颜色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54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漂泊沦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1125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作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1844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暂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2492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随随便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3840" y="3095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纵横交错的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1640" y="378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退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443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去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6000" y="5084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衰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139160" cy="792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再读课文    整体感知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诗前小序有些什么内容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全诗有何作用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诗前小序，扼要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交代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了时间、地点、人物和故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主要经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说明了本诗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写作动机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定下了全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凄切伤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情基调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12000" y="2276640"/>
            <a:ext cx="3132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5:36:39Z</dcterms:created>
  <dc:creator>微软用户</dc:creator>
  <dc:description/>
  <dc:language>en-US</dc:language>
  <cp:lastModifiedBy>Administrator</cp:lastModifiedBy>
  <dcterms:modified xsi:type="dcterms:W3CDTF">2015-01-07T02:29:35Z</dcterms:modified>
  <cp:revision>29</cp:revision>
  <dc:subject/>
  <dc:title>幻灯片 1</dc:title>
</cp:coreProperties>
</file>