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9F2-9B91-4281-BC5F-38DDC332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78D-BFE5-43F0-B78D-BCAE1C5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28E-FAC7-45DD-91AA-294B3A68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DA6-6B64-4C8D-B7FE-02C5B4F4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4FE1-88F0-46DF-9EED-EB501CDF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8A1A-FDAF-4F67-826E-B7F8EB9E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599-740C-4F42-8D54-CC27F820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9E9A-9D5C-41A3-AB71-C37A2EB4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309-B4AA-4B05-A011-93CB1D4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E516-04B0-46F3-AB5E-9C2D1249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6D9E-49EC-4569-9F7D-7F415C7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B43-9019-4E21-A443-0AD681C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CFFF-4641-431F-A272-2ACA3D3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773A-A8D0-453B-A6BE-BF231CF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F113-6376-4CCC-A9D7-7CD9E51D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FD46-6D94-47FB-B5E8-AD0B0031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8BA-0C57-41EC-AA45-B998F660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F456-EFCF-46E9-BFF4-8A706558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2D68-549F-4661-AF71-CA752BDD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AD68-0075-4827-B494-92C99BEA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CD4B-C518-4297-9149-6313B01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C9B7-459C-46B0-9904-4FEF184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8FC-DC5D-44A8-9F80-195AFA1E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8AB3-6D6F-41E7-82FE-9A5F12C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1503-BEF7-4EFD-99BC-EEFE1EE7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4899-8D63-4DC8-B272-0920197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CD10-6090-4658-9DC9-4FD3EF7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3312-DC35-4B9B-B522-7DCB50D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7E93-ED0B-4B12-837A-8D783489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2AFB-3968-4A26-B0D1-455596A7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F06-BA59-4727-8B25-9C5CDAD4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622-ED15-47D8-9212-5DBA51B2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ABA-212E-4CB1-BBC3-56CECC9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88F-9967-43DE-8AFC-FE126CC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42F-3F72-4991-B853-8398136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9C8-C7D4-40FF-BCEB-8542D2A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0E82-1E21-40DA-9FB4-5A10998BD3EC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7471-E039-47B2-962B-F7DB0D490513}" type="slidenum">
              <a:rPr b="0" lang="en-US" sz="11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72AA-5107-462B-B437-57FDB92E48A5}" type="slidenum">
              <a:rPr b="0" lang="en-US" sz="1400" spc="-1" strike="noStrike">
                <a:solidFill>
                  <a:srgbClr val="63636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202.83.203.133:8080/news/2004-5-24/ZM-264099.htm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&#38738;&#34255;&#39640;&#21407;.swf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097" descr="pipa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4098"/>
          <p:cNvSpPr/>
          <p:nvPr/>
        </p:nvSpPr>
        <p:spPr>
          <a:xfrm>
            <a:off x="380880" y="3886200"/>
            <a:ext cx="38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993300"/>
                </a:solidFill>
                <a:latin typeface="Times New Roman"/>
                <a:ea typeface="隶书"/>
              </a:rPr>
              <a:t>琵琶</a:t>
            </a:r>
            <a:r>
              <a:rPr b="1" i="1" lang="zh-CN" sz="120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行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099"/>
          <p:cNvSpPr/>
          <p:nvPr/>
        </p:nvSpPr>
        <p:spPr>
          <a:xfrm>
            <a:off x="5686560" y="685800"/>
            <a:ext cx="3109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孺子解吟长恨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胡人能诵琵琶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  <a:ea typeface="隶书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918480" y="2514600"/>
            <a:ext cx="54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8120" y="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00"/>
                </a:solidFill>
                <a:latin typeface="Arial"/>
                <a:ea typeface="隶书"/>
              </a:rPr>
              <a:t>琵琶</a:t>
            </a:r>
            <a:r>
              <a:rPr b="0" lang="zh-CN" sz="9600" spc="-1" strike="noStrike">
                <a:solidFill>
                  <a:srgbClr val="003300"/>
                </a:solidFill>
                <a:latin typeface="Arial"/>
                <a:ea typeface="隶书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66680" y="1676520"/>
            <a:ext cx="684396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琵琶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原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琵琶引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白居易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恨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1" lang="zh-CN" sz="2800" spc="-1" strike="noStrike" u="sng">
                <a:solidFill>
                  <a:srgbClr val="c00000"/>
                </a:solidFill>
                <a:uFillTx/>
                <a:latin typeface="Arial"/>
                <a:ea typeface="隶书"/>
              </a:rPr>
              <a:t>歌、行、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是古代歌曲的三种形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后成为古代诗歌的一种体裁。三者虽名称不同，实则大同小异，常统称“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歌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”。是一种具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铺叙记事性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的歌辞。 其音节、格律一般比较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自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形式都采用五言、七言、杂言的古体，富于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隶书"/>
              </a:rPr>
              <a:t>变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诗是一篇抒情色彩很浓的长篇</a:t>
            </a:r>
            <a:r>
              <a:rPr b="1" lang="zh-CN" sz="3600" spc="-1" strike="noStrike" u="sng">
                <a:solidFill>
                  <a:srgbClr val="c00000"/>
                </a:solidFill>
                <a:uFillTx/>
                <a:latin typeface="Arial"/>
              </a:rPr>
              <a:t>叙事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1828800" cy="6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解题</a:t>
            </a:r>
            <a:endParaRPr b="0" lang="en-US" sz="3600" spc="-1" strike="noStrike">
              <a:solidFill>
                <a:srgbClr val="2f2f2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back1-2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76320" y="609120"/>
            <a:ext cx="8842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和十年，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左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降职为）九江郡司马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明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第二年）秋，送客湓浦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闻舟中夜弹琵琶者，听其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铮铮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铿锵悦耳地）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都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京城乐曲的声调）。问其人，本长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倡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歌女），尝学琵琶于曹穆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善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师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年龄增长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色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容颜衰老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委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嫁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贾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商人）妇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命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叫手下人摆酒），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畅快）弹数曲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曲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弹完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悯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忧郁的样子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少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年轻）时欢乐事，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漂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漂泊沦落）憔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转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辗转迁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江湖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各地）。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出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京官外调）二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恬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淡泊宁静）自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感斯人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被这人的话感动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是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才）觉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迁谪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被贬谪的失意之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r>
              <a:rPr b="1" lang="zh-CN" sz="2800" spc="-1" strike="noStrike">
                <a:solidFill>
                  <a:srgbClr val="00d5d5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于是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写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七言诗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作歌）以赠之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总共）六百一十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字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命名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叫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琵琶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标题 9217"/>
          <p:cNvSpPr/>
          <p:nvPr/>
        </p:nvSpPr>
        <p:spPr>
          <a:xfrm>
            <a:off x="2286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《琵琶行》译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----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小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2960" cy="63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《琵琶行》译文</a:t>
            </a:r>
            <a:br>
              <a:rPr sz="3200"/>
            </a:br>
            <a:r>
              <a:rPr b="1" lang="zh-CN" sz="3200" spc="-1" strike="noStrike">
                <a:solidFill>
                  <a:srgbClr val="2f2f2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唐宪宗元和十年，我被贬为九江郡司马。第二年秋季的一天，送客到湓浦口，夜里听到船上有人弹琵琶。听那声音，铮铮铿铿有京都流行的声韵。探问这个人，原来是长安的歌女，曾经向穆、曹两位琵琶大师学艺。后来年纪大了，红颜退尽，嫁给商人为妻。于是命人摆酒叫她畅快地弹几曲。她弹完后，有些闷闷不乐的样子，自己说起了少年时欢乐之事，而今漂泊沉沦，形容憔悴，在江湖之间辗转流浪。我离京调外任职两年来，随遇而安，自得其乐，而今被这个人的话所感触，这天夜里才有被降职的感觉。于是撰写一首长诗赠送给她，共六百一十六字，题为《琵琶行》。 　　</a:t>
            </a:r>
            <a:endParaRPr b="0" lang="en-US" sz="2800" spc="-1" strike="noStrike">
              <a:solidFill>
                <a:srgbClr val="2f2f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3"/>
          <p:cNvSpPr/>
          <p:nvPr/>
        </p:nvSpPr>
        <p:spPr>
          <a:xfrm>
            <a:off x="838080" y="380880"/>
            <a:ext cx="7875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浔阳江头夜送客，枫叶荻花秋瑟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主人下马客在船，举酒欲饮无管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醉不成欢惨将别，别时茫茫江浸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忽闻水上琵琶声，主人忘归客不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寻声暗问弹者谁？琵琶声停欲语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移船相近邀相见，添酒回灯重开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千呼万唤始出来，犹抱琵琶半遮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轴拨弦三两声，未成曲调先有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弦弦掩抑声声思，似诉平生不得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低眉信手续续弹，说尽心中无限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轻拢慢捻抹复挑，初为霓裳后六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《琵琶行》译文</a:t>
            </a:r>
            <a:endParaRPr b="0" lang="en-US" sz="36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秋夜我到浔阳江头送一位归客，冷风吹着枫叶和荻花秋声瑟瑟。我下马和客人在船上饯别设宴，举起酒杯要饮却无助兴的音乐。酒喝得不痛快更伤心将要分别，临别时夜色茫茫江水倒映着明月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忽听得江面上传来琵琶清脆声；我忘却了回归，客人也不想动身。寻声轻轻探问弹琵琶的是何人？琵琶停了许久却迟迟没有了动静。我们移船靠近邀请她出来相见；叫下人添酒回灯重新摆起酒宴。千呼万唤她才不情愿地走出来，还怀抱琵琶半遮着脸面。转紧琴轴拨动琴弦试弹了几声；尚未成曲调那形态就非常有情。弦弦凄楚悲切声音隐含着沉思；似乎在诉说着她平生的不得志；她低着头随手连续地弹个不停；用琴声把心中无限的往事说尽。轻轻地拢，慢慢地捻，一会儿抹，一会儿挑。初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霓裳羽衣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接着再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六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4"/>
          <p:cNvSpPr/>
          <p:nvPr/>
        </p:nvSpPr>
        <p:spPr>
          <a:xfrm>
            <a:off x="914400" y="1371600"/>
            <a:ext cx="7062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弦嘈嘈如急雨，小弦切切如私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嘈嘈切切错杂弹，大珠小珠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间关莺语花底滑，幽咽泉流冰下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冰泉冷涩弦凝绝，凝绝不通声渐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别有幽愁暗恨生，此时无声胜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银瓶乍破水浆迸，铁骑突出刀枪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曲终收拨当心画，四弦一声如裂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船西舫悄无言，惟见江心秋月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《琵琶行》译文</a:t>
            </a:r>
            <a:endParaRPr b="0" lang="en-US" sz="32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5960" y="1066680"/>
            <a:ext cx="84423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大弦浑宏悠长嘈嘈如暴风骤雨；小弦和缓幽细切切如有人私语。嘈嘈声切切声互为交错地弹奏；就像大珠小珠一串串掉落玉盘。琵琶声一会儿像花底下宛转流畅的鸟鸣声，一会儿又像水在冰下流动受阻艰涩低沉、呜咽断续的声音。好像水泉冷涩琵琶声开始凝结，凝结而不通畅声音渐渐地中断。像另有一种愁思幽恨暗暗滋生；此时闷闷无声却比有声更动人。突然间好像银瓶撞破水浆四溅；又好像铁甲骑兵厮杀刀枪齐鸣。一曲终了她对准琴弦中心划拨；四弦一声轰鸣好像撕裂了布帛。东船西舫人们都静悄悄地聆听，只见江心映着白白秋月影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3"/>
          <p:cNvSpPr/>
          <p:nvPr/>
        </p:nvSpPr>
        <p:spPr>
          <a:xfrm>
            <a:off x="990720" y="380880"/>
            <a:ext cx="7648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沉吟放拨插弦中，整顿衣裳起敛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言本是京城女，家在虾蟆陵下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三学得琵琶成，名属教坊第一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曲罢曾教善才服，妆成每被秋娘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陵少年争缠头，一曲红绡不知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钿头银篦击节碎，血色罗裙翻酒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今年欢笑复明年，秋月春风等闲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弟走从军阿姨死，暮去朝来颜色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门前冷落车马稀，老大嫁作商人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商人重利轻别离，前月浮梁买茶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去来江口守空船，绕船月明江水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夜深忽梦少年事，梦啼妆泪红阑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《琵琶行》译文</a:t>
            </a:r>
            <a:endParaRPr b="0" lang="en-US" sz="32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她沉吟着收起拨片插在琴弦中；整顿衣裳依然显出庄重的颜容。她说我原是京城负有盛名的歌女；老家住在长安城东南的虾蟆陵。弹奏琵琶技艺十三岁就已学成；教坊乐团第一队中列有我姓名。每曲弹罢都令艺术大师们叹服；每次妆成都被同行歌伎们嫉妒。京都豪富子弟争先恐后来献彩；弹完一曲收来的红绡不知其数。钿头银篦打节拍常常断裂粉碎；红色罗裙被酒渍染污也不后悔。年复一年都在欢笑打闹中度过；秋去春来美好的时光白白消磨。兄弟从军老鸨死家道已经破败；暮去朝来我也渐渐地年老色衰。门前车马减少光顾者稀稀落落；青春已逝我只得嫁给商人为妻。商人重利不重情常常轻易别离；上个月他去浮梁做茶叶的生意。他去了留下我在江口孤守空船；秋月与我作伴绕舱的秋水凄寒。更深夜阑常梦少年时作乐狂欢；梦中哭醒涕泪纵横污损了粉颜。 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4"/>
          <p:cNvSpPr/>
          <p:nvPr/>
        </p:nvSpPr>
        <p:spPr>
          <a:xfrm>
            <a:off x="1143000" y="228600"/>
            <a:ext cx="7481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闻琵琶已叹息，又闻此语重唧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是天涯沦落人，相逢何必曾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从去岁辞帝京，谪居卧病浔阳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浔阳地僻无音乐，终岁不闻丝竹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住近湓江地低湿，黄芦苦竹绕宅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其间旦暮闻何物？杜鹃啼血猿哀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江花朝秋月夜，往往取酒还独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岂无山歌与村笛？呕哑嘲哳难为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今夜闻君琵琶语，如听仙乐耳暂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莫辞更坐弹一曲，为君翻作琵琶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感我此言良久立，却坐促弦弦转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凄凄不似向前声，满座重闻皆掩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座中泣下谁最多？江州司马青衫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5121" descr="yw3c3l10001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5805360"/>
          </a:xfrm>
          <a:prstGeom prst="rect">
            <a:avLst/>
          </a:prstGeom>
          <a:ln w="0">
            <a:noFill/>
          </a:ln>
        </p:spPr>
      </p:pic>
      <p:sp>
        <p:nvSpPr>
          <p:cNvPr id="135" name="矩形 5122"/>
          <p:cNvSpPr/>
          <p:nvPr/>
        </p:nvSpPr>
        <p:spPr>
          <a:xfrm>
            <a:off x="0" y="189000"/>
            <a:ext cx="67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白居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7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4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香山居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兼济天下”“为民请命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想。曾任左拾遗，作谏官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上疏获罪，被贬为江州司马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期间送客湓浦口，遇到琵琶女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下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琵琶行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其后升任忠州刺史、杭州太守等，官至刑部尚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杜甫之后，唐朝的又一杰出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现实主义诗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唐代诗人中作品最多的一个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中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新乐府运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主要倡导者，主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文章合为时而著，歌诗合为事而作。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他的早期政治诗广泛而深刻地反映了当时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社会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寄予了人民苦难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深切同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著有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白氏长庆集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现存诗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，其诗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清新自然、通俗易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《琵琶行》译文</a:t>
            </a:r>
            <a:endParaRPr b="0" lang="en-US" sz="36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听琵琶的悲泣早已摇头叹息；又听到她这番诉说更叫我悲凄。我们俩同是天涯沦落的可悲人；今日相逢何必问是否曾经相识！自从去年我离开繁华长安京城；被贬居住在浔阳江畔常常卧病。浔阳这地方荒凉偏僻没有音乐；一年到头听不到管弦的乐器声。住在湓江这个低洼潮湿的地方；第宅周围黄芦和苦竹缭绕丛生。在这里早晚能听到的是什么呢？尽是杜鹃猿猴那些悲凄的哀鸣。春江花朝秋江月夜那样好光景；也无可奈何常常取酒独酌独饮。难道这里就没有山歌和村笛吗？只是那音调嘶哑粗涩实在难听。今晚我听你弹奏琵琶诉说衷情，就像听到仙乐眼也亮来耳也明。请你不要推辞坐下来再弹一曲；我要为你创作一首新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琵琶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被我的话所感动她站立了好久；回身坐下再转紧琴弦拨出急声。凄凄切切不再像刚才那种声音；在座的人重听都掩面哭泣不停。要问在座之中谁流的眼泪最多？我江州司马泪水湿透青衫衣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6508440" y="6095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由熟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268080" y="-2523240"/>
            <a:ext cx="53352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520" y="3049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</a:rPr>
              <a:t>自学指导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文朗读，思考以下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诗前小序有些什么内容？对全诗有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用一七字句概括各个诗节的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学生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教师巡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480" y="990360"/>
            <a:ext cx="7840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默读序文和全诗，把两者对应的部分找出来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序文的第二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“明年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铮铮然有京都声”）跟诗的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第一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三、四、五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“问其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转徙于江湖间”）跟诗的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第二、三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六、七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“予出官二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琵琶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跟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第四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533520" y="2819520"/>
            <a:ext cx="8243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交代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时间、地点、人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故事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主要内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交代了写作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原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定下了全诗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凄切伤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感情基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74560" y="609480"/>
            <a:ext cx="8569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33cc33"/>
                </a:solidFill>
                <a:latin typeface="黑体"/>
                <a:ea typeface="黑体"/>
              </a:rPr>
              <a:t>诗前小序有些什么内容？对全诗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全文结构与内容</a:t>
            </a:r>
            <a:endParaRPr b="0" lang="en-US" sz="32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267080" y="16765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00dd"/>
                </a:solidFill>
                <a:latin typeface="Arial"/>
                <a:ea typeface="黑体"/>
              </a:rPr>
              <a:t>邀见歌女演奏名曲听者陶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38080" y="1447920"/>
            <a:ext cx="3124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江头送客闻琵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江上聆听琵琶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歌女倾诉身世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同病相怜伤迁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重闻琵琶青衫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4038480" y="17524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038480" y="335268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267080" y="33526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00dd"/>
                </a:solidFill>
                <a:latin typeface="Arial"/>
                <a:ea typeface="黑体"/>
              </a:rPr>
              <a:t>少年欢乐晚年沦落悲苦心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6391"/>
          <p:cNvSpPr/>
          <p:nvPr/>
        </p:nvSpPr>
        <p:spPr>
          <a:xfrm>
            <a:off x="550440" y="5867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主旨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6392"/>
          <p:cNvSpPr/>
          <p:nvPr/>
        </p:nvSpPr>
        <p:spPr>
          <a:xfrm>
            <a:off x="451116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同是天涯沦落人，相逢何必曾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自学指导二：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</a:rPr>
              <a:t>、本诗歌的线索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</a:rPr>
              <a:t>、琵琶女出场有何特点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</a:rPr>
              <a:t>、诗第三节的前半部分写乐事，是否与后半部分琵琶女的凄苦身世矛盾？这样写有什么作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</a:rPr>
              <a:t>、琵琶女前后两种命运处境的转变原因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</a:rPr>
              <a:t>、针对本诗 的表达方式谈谈你的看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生自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教师巡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、诗歌写作线索：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琵琶女三次演奏</a:t>
            </a:r>
            <a:endParaRPr b="0" lang="en-US" sz="32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040" y="106668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第一次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仿宋_GB2312"/>
              </a:rPr>
              <a:t>（暗写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一闻琵琶邀相见（第一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醉不成欢惨将别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（烘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主人忘归客不发”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侧面烘托琴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第二次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仿宋_GB2312"/>
              </a:rPr>
              <a:t>（明写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再闻琵琶诉沦落（第二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彼此想见，琵琶女演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霓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六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仿宋_GB2312"/>
              </a:rPr>
              <a:t>（详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第三次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仿宋_GB2312"/>
              </a:rPr>
              <a:t>（明写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仿宋_GB2312"/>
              </a:rPr>
              <a:t>三闻琵琶青衫湿（第五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却坐促弦”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仿宋_GB2312"/>
              </a:rPr>
              <a:t>（略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青州司马青衫湿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（侧面烘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2"/>
          <p:cNvGrpSpPr/>
          <p:nvPr/>
        </p:nvGrpSpPr>
        <p:grpSpPr>
          <a:xfrm>
            <a:off x="1523880" y="3886200"/>
            <a:ext cx="6324480" cy="2286360"/>
            <a:chOff x="1523880" y="3886200"/>
            <a:chExt cx="6324480" cy="2286360"/>
          </a:xfrm>
        </p:grpSpPr>
        <p:sp>
          <p:nvSpPr>
            <p:cNvPr id="252" name="Text Box 5"/>
            <p:cNvSpPr/>
            <p:nvPr/>
          </p:nvSpPr>
          <p:spPr>
            <a:xfrm>
              <a:off x="2057400" y="3886200"/>
              <a:ext cx="2438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琵琶女自述身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诗人述“迁谪意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4572000" y="4191120"/>
              <a:ext cx="32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同时天涯沦落人</a:t>
              </a: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仿宋_GB2312"/>
                </a:rPr>
                <a:t>（点明主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6400800" y="5257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仿宋_GB2312"/>
                </a:rPr>
                <a:t>照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523880" y="3886200"/>
              <a:ext cx="360" cy="457200"/>
              <a:chOff x="1523880" y="3886200"/>
              <a:chExt cx="360" cy="457200"/>
            </a:xfrm>
          </p:grpSpPr>
          <p:sp>
            <p:nvSpPr>
              <p:cNvPr id="256" name="Line 8"/>
              <p:cNvSpPr/>
              <p:nvPr/>
            </p:nvSpPr>
            <p:spPr>
              <a:xfrm>
                <a:off x="1523880" y="38862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1523880" y="38862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523880" y="4343400"/>
              <a:ext cx="457200" cy="360"/>
              <a:chOff x="1523880" y="4343400"/>
              <a:chExt cx="457200" cy="360"/>
            </a:xfrm>
          </p:grpSpPr>
          <p:sp>
            <p:nvSpPr>
              <p:cNvPr id="259" name="Line 9"/>
              <p:cNvSpPr/>
              <p:nvPr/>
            </p:nvSpPr>
            <p:spPr>
              <a:xfrm>
                <a:off x="1523880" y="4343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1523880" y="43434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81080" y="4114800"/>
              <a:ext cx="152280" cy="360"/>
              <a:chOff x="1981080" y="4114800"/>
              <a:chExt cx="152280" cy="360"/>
            </a:xfrm>
          </p:grpSpPr>
          <p:sp>
            <p:nvSpPr>
              <p:cNvPr id="262" name="Line 10"/>
              <p:cNvSpPr/>
              <p:nvPr/>
            </p:nvSpPr>
            <p:spPr>
              <a:xfrm>
                <a:off x="1981080" y="4114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981080" y="41148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981080" y="4114800"/>
              <a:ext cx="360" cy="457200"/>
              <a:chOff x="1981080" y="4114800"/>
              <a:chExt cx="360" cy="457200"/>
            </a:xfrm>
          </p:grpSpPr>
          <p:sp>
            <p:nvSpPr>
              <p:cNvPr id="265" name="Line 11"/>
              <p:cNvSpPr/>
              <p:nvPr/>
            </p:nvSpPr>
            <p:spPr>
              <a:xfrm>
                <a:off x="198108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1981080" y="411480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981080" y="4572000"/>
              <a:ext cx="152280" cy="360"/>
              <a:chOff x="1981080" y="4572000"/>
              <a:chExt cx="152280" cy="360"/>
            </a:xfrm>
          </p:grpSpPr>
          <p:sp>
            <p:nvSpPr>
              <p:cNvPr id="268" name="Line 12"/>
              <p:cNvSpPr/>
              <p:nvPr/>
            </p:nvSpPr>
            <p:spPr>
              <a:xfrm>
                <a:off x="1981080" y="457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1981080" y="4572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962160" y="4114800"/>
              <a:ext cx="381240" cy="360"/>
              <a:chOff x="3962160" y="4114800"/>
              <a:chExt cx="381240" cy="360"/>
            </a:xfrm>
          </p:grpSpPr>
          <p:sp>
            <p:nvSpPr>
              <p:cNvPr id="271" name="Line 13"/>
              <p:cNvSpPr/>
              <p:nvPr/>
            </p:nvSpPr>
            <p:spPr>
              <a:xfrm>
                <a:off x="3962160" y="4114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3962160" y="41148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343400" y="4114800"/>
              <a:ext cx="360" cy="533520"/>
              <a:chOff x="4343400" y="4114800"/>
              <a:chExt cx="360" cy="533520"/>
            </a:xfrm>
          </p:grpSpPr>
          <p:sp>
            <p:nvSpPr>
              <p:cNvPr id="274" name="Line 14"/>
              <p:cNvSpPr/>
              <p:nvPr/>
            </p:nvSpPr>
            <p:spPr>
              <a:xfrm>
                <a:off x="4343400" y="41148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4343400" y="41148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962160" y="4648320"/>
              <a:ext cx="381240" cy="360"/>
              <a:chOff x="3962160" y="4648320"/>
              <a:chExt cx="381240" cy="360"/>
            </a:xfrm>
          </p:grpSpPr>
          <p:sp>
            <p:nvSpPr>
              <p:cNvPr id="277" name="Line 15"/>
              <p:cNvSpPr/>
              <p:nvPr/>
            </p:nvSpPr>
            <p:spPr>
              <a:xfrm>
                <a:off x="3962160" y="46483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3962160" y="464832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095880" y="4572000"/>
              <a:ext cx="360" cy="1295280"/>
              <a:chOff x="6095880" y="4572000"/>
              <a:chExt cx="360" cy="1295280"/>
            </a:xfrm>
          </p:grpSpPr>
          <p:sp>
            <p:nvSpPr>
              <p:cNvPr id="280" name="Line 16"/>
              <p:cNvSpPr/>
              <p:nvPr/>
            </p:nvSpPr>
            <p:spPr>
              <a:xfrm>
                <a:off x="6095880" y="4572000"/>
                <a:ext cx="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6095880" y="4572000"/>
                <a:ext cx="36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21"/>
            <p:cNvGrpSpPr/>
            <p:nvPr/>
          </p:nvGrpSpPr>
          <p:grpSpPr>
            <a:xfrm>
              <a:off x="5638680" y="5486400"/>
              <a:ext cx="380880" cy="685800"/>
              <a:chOff x="5638680" y="5486400"/>
              <a:chExt cx="380880" cy="68580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38680" y="5867280"/>
                <a:ext cx="380880" cy="360"/>
                <a:chOff x="5638680" y="5867280"/>
                <a:chExt cx="380880" cy="360"/>
              </a:xfrm>
            </p:grpSpPr>
            <p:sp>
              <p:nvSpPr>
                <p:cNvPr id="284" name="Line 17"/>
                <p:cNvSpPr/>
                <p:nvPr/>
              </p:nvSpPr>
              <p:spPr>
                <a:xfrm flipH="1">
                  <a:off x="5638680" y="586728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 txBox="1"/>
                <p:nvPr/>
              </p:nvSpPr>
              <p:spPr>
                <a:xfrm>
                  <a:off x="5638680" y="58672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5638680" y="5486400"/>
                <a:ext cx="360" cy="685800"/>
                <a:chOff x="5638680" y="5486400"/>
                <a:chExt cx="360" cy="685800"/>
              </a:xfrm>
            </p:grpSpPr>
            <p:sp>
              <p:nvSpPr>
                <p:cNvPr id="287" name="Line 18"/>
                <p:cNvSpPr/>
                <p:nvPr/>
              </p:nvSpPr>
              <p:spPr>
                <a:xfrm>
                  <a:off x="5638680" y="54864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5638680" y="54864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5257800" y="6172200"/>
              <a:ext cx="380880" cy="360"/>
              <a:chOff x="5257800" y="6172200"/>
              <a:chExt cx="380880" cy="360"/>
            </a:xfrm>
          </p:grpSpPr>
          <p:sp>
            <p:nvSpPr>
              <p:cNvPr id="290" name="Line 19"/>
              <p:cNvSpPr/>
              <p:nvPr/>
            </p:nvSpPr>
            <p:spPr>
              <a:xfrm flipH="1">
                <a:off x="5257800" y="6172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5257800" y="61722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5181480" y="5486400"/>
              <a:ext cx="380880" cy="360"/>
              <a:chOff x="5181480" y="5486400"/>
              <a:chExt cx="380880" cy="360"/>
            </a:xfrm>
          </p:grpSpPr>
          <p:sp>
            <p:nvSpPr>
              <p:cNvPr id="293" name="Line 20"/>
              <p:cNvSpPr/>
              <p:nvPr/>
            </p:nvSpPr>
            <p:spPr>
              <a:xfrm flipH="1">
                <a:off x="518148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5181480" y="548640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9457" descr="千呼万唤始出来，犹抱琵琶半遮面"/>
          <p:cNvPicPr/>
          <p:nvPr/>
        </p:nvPicPr>
        <p:blipFill>
          <a:blip r:embed="rId1"/>
          <a:stretch/>
        </p:blipFill>
        <p:spPr>
          <a:xfrm>
            <a:off x="9360" y="0"/>
            <a:ext cx="3571920" cy="5106960"/>
          </a:xfrm>
          <a:prstGeom prst="rect">
            <a:avLst/>
          </a:prstGeom>
          <a:ln w="0">
            <a:noFill/>
          </a:ln>
        </p:spPr>
      </p:pic>
      <p:sp>
        <p:nvSpPr>
          <p:cNvPr id="296" name="矩形 19458"/>
          <p:cNvSpPr/>
          <p:nvPr/>
        </p:nvSpPr>
        <p:spPr>
          <a:xfrm>
            <a:off x="3581280" y="9907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000">
                <a:solidFill>
                  <a:srgbClr val="0000ff"/>
                </a:solidFill>
                <a:latin typeface="Times New Roman"/>
                <a:ea typeface="隶书"/>
              </a:rPr>
              <a:t>寻</a:t>
            </a:r>
            <a:r>
              <a:rPr b="1" lang="zh-CN" sz="4000" spc="-1" strike="noStrike" baseline="-2000">
                <a:solidFill>
                  <a:srgbClr val="cc3300"/>
                </a:solidFill>
                <a:latin typeface="Times New Roman"/>
                <a:ea typeface="隶书"/>
              </a:rPr>
              <a:t>声暗</a:t>
            </a:r>
            <a:r>
              <a:rPr b="1" lang="zh-CN" sz="4000" spc="-1" strike="noStrike" baseline="-2000">
                <a:solidFill>
                  <a:srgbClr val="0000ff"/>
                </a:solidFill>
                <a:latin typeface="Times New Roman"/>
                <a:ea typeface="隶书"/>
              </a:rPr>
              <a:t>问</a:t>
            </a:r>
            <a:r>
              <a:rPr b="1" lang="zh-CN" sz="4000" spc="-1" strike="noStrike" baseline="-2000">
                <a:solidFill>
                  <a:srgbClr val="cc3300"/>
                </a:solidFill>
                <a:latin typeface="Times New Roman"/>
                <a:ea typeface="隶书"/>
              </a:rPr>
              <a:t>弹者谁？琵琶声停欲语迟。移船相近邀相见，添酒回灯重开宴。</a:t>
            </a:r>
            <a:r>
              <a:rPr b="1" lang="zh-CN" sz="4000" spc="-1" strike="noStrike" u="sng" baseline="-2000">
                <a:solidFill>
                  <a:srgbClr val="33cc33"/>
                </a:solidFill>
                <a:uFillTx/>
                <a:latin typeface="Times New Roman"/>
                <a:ea typeface="隶书"/>
              </a:rPr>
              <a:t>千呼万唤始出来，犹抱琵琶半遮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9459"/>
          <p:cNvSpPr/>
          <p:nvPr/>
        </p:nvSpPr>
        <p:spPr>
          <a:xfrm>
            <a:off x="4495680" y="228600"/>
            <a:ext cx="4114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2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、琵琶女出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9460"/>
          <p:cNvSpPr/>
          <p:nvPr/>
        </p:nvSpPr>
        <p:spPr>
          <a:xfrm>
            <a:off x="3733920" y="2286000"/>
            <a:ext cx="51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、“寻”、“问”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……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这一系列的动词，从中可以看出作者心情如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9461"/>
          <p:cNvSpPr/>
          <p:nvPr/>
        </p:nvSpPr>
        <p:spPr>
          <a:xfrm>
            <a:off x="4885920" y="31240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00dd"/>
                </a:solidFill>
                <a:latin typeface="Times New Roman"/>
                <a:ea typeface="隶书"/>
              </a:rPr>
              <a:t>答：急切、欣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9462"/>
          <p:cNvSpPr/>
          <p:nvPr/>
        </p:nvSpPr>
        <p:spPr>
          <a:xfrm>
            <a:off x="5128920" y="3733920"/>
            <a:ext cx="25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、琵琶女为何“千呼万唤始出来，犹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  <a:ea typeface="隶书"/>
              </a:rPr>
              <a:t>琵琶半遮面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463"/>
          <p:cNvSpPr/>
          <p:nvPr/>
        </p:nvSpPr>
        <p:spPr>
          <a:xfrm>
            <a:off x="4832640" y="4572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00dd"/>
                </a:solidFill>
                <a:latin typeface="Times New Roman"/>
                <a:ea typeface="隶书"/>
              </a:rPr>
              <a:t>答： 矛盾、含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9464"/>
          <p:cNvSpPr/>
          <p:nvPr/>
        </p:nvSpPr>
        <p:spPr>
          <a:xfrm>
            <a:off x="152280" y="5181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f2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</a:rPr>
              <a:t>诗人运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夸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千呼万唤始出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行动描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犹抱琵琶半遮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</a:rPr>
              <a:t>，精炼而又细腻地表现了琵琶女此时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矛盾复杂的心情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</a:rPr>
              <a:t>。这中间有自惭身世，本不愿再向人献艺却又拗不过作者盛情相邀的不得已之情，也有在封建伦理道德观念束缚下的犹疑和顾虑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7"/>
          <p:cNvSpPr/>
          <p:nvPr/>
        </p:nvSpPr>
        <p:spPr>
          <a:xfrm>
            <a:off x="304920" y="25146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不矛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起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对比反衬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　   年轻美貌</a:t>
            </a:r>
            <a:r>
              <a:rPr b="1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年长色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　   门庭若市</a:t>
            </a:r>
            <a:r>
              <a:rPr b="1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孤守空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　   夕日欢笑</a:t>
            </a:r>
            <a:r>
              <a:rPr b="1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今日辛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　   夜梦往事</a:t>
            </a:r>
            <a:r>
              <a:rPr b="1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孤寂伤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380880" y="685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诗第三节的前半部分写乐事，是否与后半部分琵琶女的凄苦身世矛盾？这样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7"/>
          <p:cNvSpPr/>
          <p:nvPr/>
        </p:nvSpPr>
        <p:spPr>
          <a:xfrm>
            <a:off x="533520" y="182880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表层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弟走从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阿姨身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年长色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）深层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  <a:ea typeface="仿宋_GB2312"/>
              </a:rPr>
              <a:t>         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自身不觉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社会对人才的不器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45720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琵琶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前后两种命运处境的转变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990720" y="838080"/>
          <a:ext cx="7500960" cy="5530680"/>
        </p:xfrm>
        <a:graphic>
          <a:graphicData uri="http://schemas.openxmlformats.org/drawingml/2006/table">
            <a:tbl>
              <a:tblPr/>
              <a:tblGrid>
                <a:gridCol w="1808280"/>
                <a:gridCol w="3483000"/>
                <a:gridCol w="220968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时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Franklin Gothic Book"/>
                          <a:ea typeface="华文新魏"/>
                        </a:rPr>
                        <a:t>生活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Franklin Gothic Book"/>
                          <a:ea typeface="华文新魏"/>
                        </a:rPr>
                        <a:t>诗歌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新魏"/>
                        </a:rPr>
                        <a:t>前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新魏"/>
                        </a:rPr>
                        <a:t>（从入仕到贬江州司马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仕途一帆风顺，始终抱着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“为民请命”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“兼济天下”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的宗旨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以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讽喻诗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为主。代表作品为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卖炭翁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1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新魏"/>
                        </a:rPr>
                        <a:t>后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Franklin Gothic Book"/>
                          <a:ea typeface="华文新魏"/>
                        </a:rPr>
                        <a:t>（即自贬江州司马到死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是他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“独善其身”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的时期，揉和儒家“乐天知命”道家“知足不辱”和佛家“四大皆空”来作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“明哲保身”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的法宝。悔恨“三十气太壮，胸中多是非”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以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闲适诗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Franklin Gothic Book"/>
                          <a:ea typeface="华文新魏"/>
                        </a:rPr>
                        <a:t>感伤诗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为主。感伤诗：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长恨歌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》《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琵琶行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闲适诗：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赋得古原草送别</a:t>
                      </a: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Franklin Gothic Book"/>
                          <a:ea typeface="华文新魏"/>
                        </a:rPr>
                        <a:t>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文本框 6165"/>
          <p:cNvSpPr/>
          <p:nvPr/>
        </p:nvSpPr>
        <p:spPr>
          <a:xfrm>
            <a:off x="2133720" y="228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白居易生平与诗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609480" y="6094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本诗表达方式的特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"/>
          <p:cNvSpPr/>
          <p:nvPr/>
        </p:nvSpPr>
        <p:spPr>
          <a:xfrm>
            <a:off x="4419720" y="1828800"/>
            <a:ext cx="419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强烈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抒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气氛贯彻始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诗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叙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身饱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成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景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渲染，又都渗透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情节的描述，人物的自白，使诗歌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故事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抒情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融合无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"/>
          <p:cNvSpPr/>
          <p:nvPr/>
        </p:nvSpPr>
        <p:spPr>
          <a:xfrm>
            <a:off x="5852880" y="609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叙事、写景与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紧密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990720" y="304920"/>
            <a:ext cx="723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学指导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学生先听一首音乐，再尝试着用语言描述自己所听音乐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、诗歌第二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描写乐声应用了什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修辞手法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相对应地写出了乐声的什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特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艺术效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巡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782640"/>
            <a:ext cx="60199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转轴拨弦三两声，未成曲调先有情。弦弦掩抑声声思，似诉平生不得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低眉信手续续弹，说尽心中无限事。轻拢慢捻抹复挑，初为霓裳后六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弦嘈嘈如急雨，小弦切切如私语。嘈嘈切切错杂弹，大珠小珠落玉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间关莺语花底滑，幽咽泉流冰下难。冰泉冷涩弦凝绝，凝绝不通声暂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别有幽愁暗恨生，此时无声胜有声。银瓶乍破水浆迸，铁骑突出刀枪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曲终收拨当心画，四弦一声如裂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228600" y="228600"/>
            <a:ext cx="28195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琵琶女演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5715000" y="9907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5638680" y="259092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5715000" y="41911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5486400" y="5791320"/>
            <a:ext cx="45720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86400" y="6553080"/>
            <a:ext cx="45720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18415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5867280" y="1371600"/>
            <a:ext cx="990720" cy="459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序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73560" y="2895480"/>
            <a:ext cx="546480" cy="8254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第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乐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073560" y="4114800"/>
            <a:ext cx="546480" cy="8254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第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乐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6149880" y="5334120"/>
            <a:ext cx="546480" cy="8254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第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乐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6149880" y="6388200"/>
            <a:ext cx="546480" cy="459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曲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946920" y="129528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00dd"/>
                </a:solidFill>
                <a:latin typeface="Times New Roman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倾诉悲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991560" y="3048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切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7067880" y="426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幽愁暗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7067880" y="56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激越雄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7067880" y="6338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曲终收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8610480" y="907920"/>
            <a:ext cx="5335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奏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8610480" y="2590920"/>
            <a:ext cx="5335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欢乐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8686800" y="4114800"/>
            <a:ext cx="4572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沉思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8686800" y="5715000"/>
            <a:ext cx="4572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悲愤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8381880" y="83808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4"/>
          <p:cNvSpPr/>
          <p:nvPr/>
        </p:nvSpPr>
        <p:spPr>
          <a:xfrm>
            <a:off x="8305920" y="25909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5"/>
          <p:cNvSpPr/>
          <p:nvPr/>
        </p:nvSpPr>
        <p:spPr>
          <a:xfrm>
            <a:off x="8381880" y="403848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26"/>
          <p:cNvSpPr/>
          <p:nvPr/>
        </p:nvSpPr>
        <p:spPr>
          <a:xfrm>
            <a:off x="8381880" y="56386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5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整个曲调可以分为四个部分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560" y="7621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SzPct val="50000"/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一部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前奏曲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轴拨弦三两声，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未成曲调先有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弦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掩抑声声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似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得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Wingdings 2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眉信手续续弹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说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无限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浔阳江边，风寒月冷，琵琶女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独守空船，孤单凄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所以其出场弹奏时</a:t>
            </a:r>
            <a:r>
              <a:rPr b="1" i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旋律低沉抑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烈的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生活反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自然勾起她对往昔生活的深情回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于是音乐进入第二部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文本框 26625"/>
          <p:cNvSpPr/>
          <p:nvPr/>
        </p:nvSpPr>
        <p:spPr>
          <a:xfrm>
            <a:off x="7248600" y="15541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6626"/>
          <p:cNvSpPr/>
          <p:nvPr/>
        </p:nvSpPr>
        <p:spPr>
          <a:xfrm>
            <a:off x="7037280" y="762120"/>
            <a:ext cx="1089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6627"/>
          <p:cNvSpPr/>
          <p:nvPr/>
        </p:nvSpPr>
        <p:spPr>
          <a:xfrm>
            <a:off x="685800" y="1684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二部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欢乐曲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拢慢捻抹复挑，初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霓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弦嘈嘈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如急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小弦切切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如私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嘈嘈切切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错杂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大珠小珠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落玉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6628"/>
          <p:cNvSpPr/>
          <p:nvPr/>
        </p:nvSpPr>
        <p:spPr>
          <a:xfrm>
            <a:off x="685800" y="33530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时</a:t>
            </a:r>
            <a:r>
              <a:rPr b="1" i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欢快明朗、清脆悦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琵琶声，忽高忽低，交织起起伏生动的乐章，唱出了琵琶女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火红的青年时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青年时代的她，可谓色艺超群，名噪京华，“五陵年少争缠头，一曲红绡不知数”，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成功荣誉与醉酒欢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构成她生活的全部。这一切怎不令她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留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故而旋律一转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清脆圆润、轻快舒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而“大珠小珠落玉盘”更如往日盈盈笑语，让人过耳不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27649"/>
          <p:cNvSpPr/>
          <p:nvPr/>
        </p:nvSpPr>
        <p:spPr>
          <a:xfrm>
            <a:off x="7248600" y="15541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7650"/>
          <p:cNvSpPr/>
          <p:nvPr/>
        </p:nvSpPr>
        <p:spPr>
          <a:xfrm>
            <a:off x="83808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三部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沉思曲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间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莺语花底滑，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幽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泉流冰下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冰泉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冷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弦凝绝，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凝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通声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暂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有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幽愁暗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，此时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无声胜有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7651"/>
          <p:cNvSpPr/>
          <p:nvPr/>
        </p:nvSpPr>
        <p:spPr>
          <a:xfrm>
            <a:off x="533520" y="3077640"/>
            <a:ext cx="803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而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好景不长，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风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“弟走从军阿姨死，暮去朝来颜色故”，琵琶女“年长色衰”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生活变故，门庭冷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迫于生计，她“老大嫁作商人妇”。回忆到这儿，琵琶女怎不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肝肠寸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所以旋律又进入第三部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时，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旋律变得“</a:t>
            </a:r>
            <a:r>
              <a:rPr b="1" i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冷涩”“凝绝”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乐之声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暂歇”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命运的变化使此时的琵琶女陷入了深深的思考当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f2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最后部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“悲愤曲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银瓶乍破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水浆迸</a:t>
            </a: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，铁骑突出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刀枪鸣</a:t>
            </a: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曲终收拨当心画，四弦一声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如裂帛</a:t>
            </a:r>
            <a:r>
              <a:rPr b="1" lang="zh-CN" sz="2800" spc="-1" strike="noStrike">
                <a:solidFill>
                  <a:srgbClr val="2f2f2f"/>
                </a:solidFill>
                <a:latin typeface="黑体"/>
                <a:ea typeface="黑体"/>
              </a:rPr>
              <a:t>。”</a:t>
            </a:r>
            <a:r>
              <a:rPr b="0" lang="zh-CN" sz="4000" spc="-1" strike="noStrike">
                <a:solidFill>
                  <a:srgbClr val="2f2f2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282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段音乐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情绪高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起来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绝非柳暗花明，重见天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而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刚劲急促、震撼人心的节奏，表达琵琶女对命运的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不平之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愤懑之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琵琶女受伤的心灵本渴望爱情的抚慰，但薄情的丈夫“重利轻离别”，让她时常空船独守。现实更使她痛不欲生，悔恨交加，故而音乐之声如“银瓶乍破水浆迸，铁骑突出刀枪鸣”。</a:t>
            </a:r>
            <a:r>
              <a:rPr b="1" i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高亢激越的旋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是她对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世人重色轻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丈夫重利寡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愤怒控诉。收拨一划，“四弦一声如裂帛”，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愤激的哀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更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对不公平社会现实和命运的抗争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对象 29697" descr=""/>
          <p:cNvPicPr/>
          <p:nvPr/>
        </p:nvPicPr>
        <p:blipFill>
          <a:blip r:embed="rId1"/>
          <a:stretch/>
        </p:blipFill>
        <p:spPr>
          <a:xfrm>
            <a:off x="8077320" y="2971800"/>
            <a:ext cx="1066680" cy="3886200"/>
          </a:xfrm>
          <a:prstGeom prst="rect">
            <a:avLst/>
          </a:prstGeom>
          <a:ln w="0">
            <a:noFill/>
          </a:ln>
        </p:spPr>
      </p:pic>
      <p:sp>
        <p:nvSpPr>
          <p:cNvPr id="348" name="矩形 29698"/>
          <p:cNvSpPr/>
          <p:nvPr/>
        </p:nvSpPr>
        <p:spPr>
          <a:xfrm>
            <a:off x="304920" y="1523880"/>
            <a:ext cx="5105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转轴拨弦三两声，未成曲调先有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弦弦掩抑声声思，似诉平生不得志。低眉信手续续弹，说尽心中无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轻拢慢捻抹复挑，初为霓裳后六幺。大弦嘈嘈如急雨，小弦切切如私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嘈嘈切切错杂弹，大珠小珠落玉盘。间关莺语花底滑，幽咽泉流冰下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冰泉冷涩弦凝绝，凝绝不通声暂歇。别有幽愁暗恨生，此时无声胜有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银瓶乍破水浆迸，铁骑突出刀枪鸣。曲终收拨当心画，四弦一声如裂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9699"/>
          <p:cNvSpPr/>
          <p:nvPr/>
        </p:nvSpPr>
        <p:spPr>
          <a:xfrm>
            <a:off x="152280" y="120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00dd"/>
                </a:solidFill>
                <a:latin typeface="Times New Roman"/>
                <a:ea typeface="隶书"/>
              </a:rPr>
              <a:t>此文中，白居易对音乐的描绘可谓绝唱，采用了多种表现技巧，你能找出几种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29700"/>
          <p:cNvGrpSpPr/>
          <p:nvPr/>
        </p:nvGrpSpPr>
        <p:grpSpPr>
          <a:xfrm>
            <a:off x="380880" y="3809880"/>
            <a:ext cx="4648320" cy="2743560"/>
            <a:chOff x="380880" y="3809880"/>
            <a:chExt cx="4648320" cy="2743560"/>
          </a:xfrm>
        </p:grpSpPr>
        <p:grpSp>
          <p:nvGrpSpPr>
            <p:cNvPr id="351" name=""/>
            <p:cNvGrpSpPr/>
            <p:nvPr/>
          </p:nvGrpSpPr>
          <p:grpSpPr>
            <a:xfrm>
              <a:off x="1676160" y="3809880"/>
              <a:ext cx="838440" cy="360"/>
              <a:chOff x="1676160" y="3809880"/>
              <a:chExt cx="838440" cy="360"/>
            </a:xfrm>
          </p:grpSpPr>
          <p:sp>
            <p:nvSpPr>
              <p:cNvPr id="352" name="直接连接符 29701"/>
              <p:cNvSpPr/>
              <p:nvPr/>
            </p:nvSpPr>
            <p:spPr>
              <a:xfrm>
                <a:off x="1676160" y="3809880"/>
                <a:ext cx="8384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1676160" y="3809880"/>
                <a:ext cx="83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038480" y="3809880"/>
              <a:ext cx="838080" cy="360"/>
              <a:chOff x="4038480" y="3809880"/>
              <a:chExt cx="838080" cy="360"/>
            </a:xfrm>
          </p:grpSpPr>
          <p:sp>
            <p:nvSpPr>
              <p:cNvPr id="355" name="直接连接符 29702"/>
              <p:cNvSpPr/>
              <p:nvPr/>
            </p:nvSpPr>
            <p:spPr>
              <a:xfrm>
                <a:off x="4038480" y="3809880"/>
                <a:ext cx="8380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4038480" y="380988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80880" y="4724280"/>
              <a:ext cx="4648320" cy="360"/>
              <a:chOff x="380880" y="4724280"/>
              <a:chExt cx="4648320" cy="360"/>
            </a:xfrm>
          </p:grpSpPr>
          <p:sp>
            <p:nvSpPr>
              <p:cNvPr id="358" name="直接连接符 29703"/>
              <p:cNvSpPr/>
              <p:nvPr/>
            </p:nvSpPr>
            <p:spPr>
              <a:xfrm>
                <a:off x="380880" y="4724280"/>
                <a:ext cx="46483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380880" y="4724280"/>
                <a:ext cx="464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819160" y="4343400"/>
              <a:ext cx="2133720" cy="360"/>
              <a:chOff x="2819160" y="4343400"/>
              <a:chExt cx="2133720" cy="360"/>
            </a:xfrm>
          </p:grpSpPr>
          <p:sp>
            <p:nvSpPr>
              <p:cNvPr id="361" name="直接连接符 29704"/>
              <p:cNvSpPr/>
              <p:nvPr/>
            </p:nvSpPr>
            <p:spPr>
              <a:xfrm>
                <a:off x="2819160" y="4343400"/>
                <a:ext cx="21337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2819160" y="4343400"/>
                <a:ext cx="213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80880" y="6172200"/>
              <a:ext cx="4648320" cy="360"/>
              <a:chOff x="380880" y="6172200"/>
              <a:chExt cx="4648320" cy="360"/>
            </a:xfrm>
          </p:grpSpPr>
          <p:sp>
            <p:nvSpPr>
              <p:cNvPr id="364" name="直接连接符 29705"/>
              <p:cNvSpPr/>
              <p:nvPr/>
            </p:nvSpPr>
            <p:spPr>
              <a:xfrm>
                <a:off x="380880" y="6172200"/>
                <a:ext cx="46483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380880" y="6172200"/>
                <a:ext cx="4648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038480" y="6553080"/>
              <a:ext cx="838080" cy="360"/>
              <a:chOff x="4038480" y="6553080"/>
              <a:chExt cx="838080" cy="360"/>
            </a:xfrm>
          </p:grpSpPr>
          <p:sp>
            <p:nvSpPr>
              <p:cNvPr id="367" name="直接连接符 29706"/>
              <p:cNvSpPr/>
              <p:nvPr/>
            </p:nvSpPr>
            <p:spPr>
              <a:xfrm>
                <a:off x="4038480" y="6553080"/>
                <a:ext cx="8380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4038480" y="655308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文本框 29707"/>
          <p:cNvSpPr/>
          <p:nvPr/>
        </p:nvSpPr>
        <p:spPr>
          <a:xfrm>
            <a:off x="5213520" y="1600200"/>
            <a:ext cx="3930480" cy="4597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一：大量运用比喻、通感。把无形的音乐化为有形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有了画面感，给人以无限的联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29708"/>
          <p:cNvSpPr/>
          <p:nvPr/>
        </p:nvSpPr>
        <p:spPr>
          <a:xfrm>
            <a:off x="5997240" y="3429000"/>
            <a:ext cx="2375280" cy="11912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二：摹声与比喻结合。双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叠韵词的运用，能把音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旋律和节奏表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9709"/>
          <p:cNvSpPr/>
          <p:nvPr/>
        </p:nvSpPr>
        <p:spPr>
          <a:xfrm>
            <a:off x="5727240" y="4869000"/>
            <a:ext cx="1460880" cy="8254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三：叙议结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妙语点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9710"/>
          <p:cNvGrpSpPr/>
          <p:nvPr/>
        </p:nvGrpSpPr>
        <p:grpSpPr>
          <a:xfrm>
            <a:off x="380880" y="3352680"/>
            <a:ext cx="3657600" cy="990720"/>
            <a:chOff x="380880" y="3352680"/>
            <a:chExt cx="3657600" cy="990720"/>
          </a:xfrm>
        </p:grpSpPr>
        <p:sp>
          <p:nvSpPr>
            <p:cNvPr id="373" name="椭圆 29711"/>
            <p:cNvSpPr/>
            <p:nvPr/>
          </p:nvSpPr>
          <p:spPr>
            <a:xfrm>
              <a:off x="990360" y="3352680"/>
              <a:ext cx="685800" cy="45720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29712"/>
            <p:cNvSpPr/>
            <p:nvPr/>
          </p:nvSpPr>
          <p:spPr>
            <a:xfrm>
              <a:off x="3352680" y="3352680"/>
              <a:ext cx="685800" cy="45720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29713"/>
            <p:cNvSpPr/>
            <p:nvPr/>
          </p:nvSpPr>
          <p:spPr>
            <a:xfrm>
              <a:off x="380880" y="3886200"/>
              <a:ext cx="1295280" cy="45720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29714"/>
          <p:cNvSpPr/>
          <p:nvPr/>
        </p:nvSpPr>
        <p:spPr>
          <a:xfrm>
            <a:off x="304920" y="4876920"/>
            <a:ext cx="4800600" cy="7617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403280" y="836640"/>
          <a:ext cx="7416720" cy="5826240"/>
        </p:xfrm>
        <a:graphic>
          <a:graphicData uri="http://schemas.openxmlformats.org/drawingml/2006/table">
            <a:tbl>
              <a:tblPr/>
              <a:tblGrid>
                <a:gridCol w="4176720"/>
                <a:gridCol w="324000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诗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隶书"/>
                        </a:rPr>
                        <a:t>音乐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Text Box 38"/>
          <p:cNvSpPr/>
          <p:nvPr/>
        </p:nvSpPr>
        <p:spPr>
          <a:xfrm>
            <a:off x="1403280" y="1628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弦嘈嘈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急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1403280" y="2205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弦切切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私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1403280" y="28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大珠小珠落玉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1403280" y="357192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间关莺语花底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1403280" y="4221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幽咽泉流冰下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1403280" y="4869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银瓶乍破水浆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1403280" y="5516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铁骑突出刀枪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1403280" y="61642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弦一声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裂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5580000" y="1628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粗重繁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5580000" y="227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腻柔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9"/>
          <p:cNvSpPr/>
          <p:nvPr/>
        </p:nvSpPr>
        <p:spPr>
          <a:xfrm>
            <a:off x="5580000" y="3571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婉转流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0"/>
          <p:cNvSpPr/>
          <p:nvPr/>
        </p:nvSpPr>
        <p:spPr>
          <a:xfrm>
            <a:off x="5580000" y="42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沉抑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1"/>
          <p:cNvSpPr/>
          <p:nvPr/>
        </p:nvSpPr>
        <p:spPr>
          <a:xfrm>
            <a:off x="5580000" y="48690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激越高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2"/>
          <p:cNvSpPr/>
          <p:nvPr/>
        </p:nvSpPr>
        <p:spPr>
          <a:xfrm>
            <a:off x="5580000" y="551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势雄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3"/>
          <p:cNvSpPr/>
          <p:nvPr/>
        </p:nvSpPr>
        <p:spPr>
          <a:xfrm>
            <a:off x="5580000" y="6164280"/>
            <a:ext cx="24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戛然而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4"/>
          <p:cNvSpPr/>
          <p:nvPr/>
        </p:nvSpPr>
        <p:spPr>
          <a:xfrm>
            <a:off x="-111600" y="1413000"/>
            <a:ext cx="91188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将 抽 象 的 音 乐 变 为 可 感 的 形 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1"/>
          <p:cNvSpPr/>
          <p:nvPr/>
        </p:nvSpPr>
        <p:spPr>
          <a:xfrm>
            <a:off x="5580000" y="29462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圆润清脆 错落有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2"/>
          <p:cNvSpPr/>
          <p:nvPr/>
        </p:nvSpPr>
        <p:spPr>
          <a:xfrm>
            <a:off x="1258920" y="1844640"/>
            <a:ext cx="792000" cy="4608720"/>
          </a:xfrm>
          <a:custGeom>
            <a:avLst/>
            <a:gdLst>
              <a:gd name="textAreaLeft" fmla="*/ 506160 w 792000"/>
              <a:gd name="textAreaRight" fmla="*/ 792360 w 792000"/>
              <a:gd name="textAreaTop" fmla="*/ 119520 h 4608720"/>
              <a:gd name="textAreaBottom" fmla="*/ 448920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8943"/>
                </a:lnTo>
                <a:cubicBezTo>
                  <a:pt x="10800" y="9840"/>
                  <a:pt x="5400" y="10737"/>
                  <a:pt x="0" y="10737"/>
                </a:cubicBezTo>
                <a:cubicBezTo>
                  <a:pt x="5400" y="10737"/>
                  <a:pt x="10800" y="11634"/>
                  <a:pt x="10800" y="12531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3"/>
          <p:cNvSpPr/>
          <p:nvPr/>
        </p:nvSpPr>
        <p:spPr>
          <a:xfrm>
            <a:off x="333360" y="2781360"/>
            <a:ext cx="1033560" cy="300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比 喻    通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1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师引导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大量应用比喻、通感，化抽象为具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826920" y="2438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大弦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嘈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急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826920" y="3095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弦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切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私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7800" y="492300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间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莺语花底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847800" y="55800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幽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泉流冰下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900000" y="1125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弦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掩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声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826920" y="1781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低眉信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续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2103480" y="3376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826920" y="37512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嘈嘈切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错杂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3798720" y="1322280"/>
            <a:ext cx="370080" cy="2808360"/>
          </a:xfrm>
          <a:custGeom>
            <a:avLst/>
            <a:gdLst>
              <a:gd name="textAreaLeft" fmla="*/ 0 w 370080"/>
              <a:gd name="textAreaRight" fmla="*/ 133560 w 370080"/>
              <a:gd name="textAreaTop" fmla="*/ 72720 h 2808360"/>
              <a:gd name="textAreaBottom" fmla="*/ 273564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8450"/>
                </a:lnTo>
                <a:cubicBezTo>
                  <a:pt x="10800" y="9347"/>
                  <a:pt x="16200" y="10244"/>
                  <a:pt x="21600" y="10244"/>
                </a:cubicBezTo>
                <a:cubicBezTo>
                  <a:pt x="16200" y="10244"/>
                  <a:pt x="10800" y="11141"/>
                  <a:pt x="10800" y="12038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69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4451760" y="2114640"/>
            <a:ext cx="667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叠  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3727440" y="492300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Ji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ān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  gu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3727440" y="557064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ō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u  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5888160" y="4923000"/>
            <a:ext cx="13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叠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5"/>
          <p:cNvSpPr/>
          <p:nvPr/>
        </p:nvSpPr>
        <p:spPr>
          <a:xfrm>
            <a:off x="5888160" y="5580000"/>
            <a:ext cx="12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7236000" y="522936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联绵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6804000" y="5157720"/>
            <a:ext cx="370080" cy="720720"/>
          </a:xfrm>
          <a:custGeom>
            <a:avLst/>
            <a:gdLst>
              <a:gd name="textAreaLeft" fmla="*/ 0 w 370080"/>
              <a:gd name="textAreaRight" fmla="*/ 133560 w 3700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7"/>
                  <a:pt x="10800" y="1794"/>
                </a:cubicBezTo>
                <a:lnTo>
                  <a:pt x="10800" y="8450"/>
                </a:lnTo>
                <a:cubicBezTo>
                  <a:pt x="10800" y="9347"/>
                  <a:pt x="16200" y="10244"/>
                  <a:pt x="21600" y="10244"/>
                </a:cubicBezTo>
                <a:cubicBezTo>
                  <a:pt x="16200" y="10244"/>
                  <a:pt x="10800" y="11141"/>
                  <a:pt x="10800" y="12038"/>
                </a:cubicBezTo>
                <a:lnTo>
                  <a:pt x="10800" y="19806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69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4622760" y="1752480"/>
            <a:ext cx="4079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加形象生动，使诗歌语言有音乐的悦耳动听，即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韵律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2438280" y="22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巧用叠词、联绵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31763"/>
          <p:cNvSpPr/>
          <p:nvPr/>
        </p:nvSpPr>
        <p:spPr>
          <a:xfrm>
            <a:off x="299880" y="228600"/>
            <a:ext cx="16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其他技巧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0" y="0"/>
            <a:ext cx="9144000" cy="67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注意下列字形字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荻花      瑟 瑟        拨 弦       掩 抑        抹        幽 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霓  裳        冷 涩        乍         迸          帛           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自由朗读一遍后齐读（或听朗读录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完成下面预习检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" y="144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í             sè           xián            yì        mǒ            y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7200" y="26668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í  cháng       sè        zhà       bèng       bó          f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文本框 32769"/>
          <p:cNvSpPr/>
          <p:nvPr/>
        </p:nvSpPr>
        <p:spPr>
          <a:xfrm>
            <a:off x="457200" y="99072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试从二段中找出的句子，分别表现了怎样的动作神态。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2770"/>
          <p:cNvSpPr/>
          <p:nvPr/>
        </p:nvSpPr>
        <p:spPr>
          <a:xfrm>
            <a:off x="0" y="17524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d0"/>
                </a:solidFill>
                <a:latin typeface="隶书"/>
                <a:ea typeface="隶书"/>
              </a:rPr>
              <a:t>转轴拨弦三两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771"/>
          <p:cNvSpPr/>
          <p:nvPr/>
        </p:nvSpPr>
        <p:spPr>
          <a:xfrm>
            <a:off x="-912960" y="2438280"/>
            <a:ext cx="1005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弹奏前试弦调音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准备动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说明此时已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曲中的境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2772"/>
          <p:cNvSpPr/>
          <p:nvPr/>
        </p:nvSpPr>
        <p:spPr>
          <a:xfrm>
            <a:off x="0" y="3200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d0"/>
                </a:solidFill>
                <a:latin typeface="隶书"/>
                <a:ea typeface="隶书"/>
              </a:rPr>
              <a:t>低眉信手续续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2773"/>
          <p:cNvSpPr/>
          <p:nvPr/>
        </p:nvSpPr>
        <p:spPr>
          <a:xfrm>
            <a:off x="0" y="3733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弹奏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神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看出她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技艺娴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32774"/>
          <p:cNvSpPr/>
          <p:nvPr/>
        </p:nvSpPr>
        <p:spPr>
          <a:xfrm>
            <a:off x="-912960" y="43434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d0"/>
                </a:solidFill>
                <a:latin typeface="隶书"/>
                <a:ea typeface="隶书"/>
              </a:rPr>
              <a:t>轻拢慢捻抹复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32775"/>
          <p:cNvSpPr/>
          <p:nvPr/>
        </p:nvSpPr>
        <p:spPr>
          <a:xfrm>
            <a:off x="3924360" y="434340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弹奏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作娴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32776"/>
          <p:cNvSpPr/>
          <p:nvPr/>
        </p:nvSpPr>
        <p:spPr>
          <a:xfrm>
            <a:off x="0" y="50846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d0"/>
                </a:solidFill>
                <a:latin typeface="隶书"/>
                <a:ea typeface="隶书"/>
              </a:rPr>
              <a:t>曲终收拨当心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2777"/>
          <p:cNvSpPr/>
          <p:nvPr/>
        </p:nvSpPr>
        <p:spPr>
          <a:xfrm>
            <a:off x="3924360" y="5157720"/>
            <a:ext cx="49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弹奏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结尾动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使听众继续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沉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乐曲的境界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2778"/>
          <p:cNvSpPr/>
          <p:nvPr/>
        </p:nvSpPr>
        <p:spPr>
          <a:xfrm>
            <a:off x="588600" y="228600"/>
            <a:ext cx="27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其他技巧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动作神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3793"/>
          <p:cNvSpPr/>
          <p:nvPr/>
        </p:nvSpPr>
        <p:spPr>
          <a:xfrm>
            <a:off x="152280" y="533520"/>
            <a:ext cx="8790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如此细腻地描写动作神态，有什么好处？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交代了音乐的层次，从而更好地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引导读者领会音乐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也表现了歌女技艺的</a:t>
            </a:r>
            <a:r>
              <a:rPr b="1" lang="zh-CN" sz="4800" spc="-1" strike="noStrike">
                <a:solidFill>
                  <a:srgbClr val="f519d0"/>
                </a:solidFill>
                <a:latin typeface="隶书"/>
                <a:ea typeface="隶书"/>
              </a:rPr>
              <a:t>熟练高超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和作者高度的</a:t>
            </a:r>
            <a:r>
              <a:rPr b="1" lang="zh-CN" sz="4800" spc="-1" strike="noStrike">
                <a:solidFill>
                  <a:srgbClr val="f519d0"/>
                </a:solidFill>
                <a:latin typeface="隶书"/>
                <a:ea typeface="隶书"/>
              </a:rPr>
              <a:t>音乐修养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文本框 34817"/>
          <p:cNvSpPr/>
          <p:nvPr/>
        </p:nvSpPr>
        <p:spPr>
          <a:xfrm>
            <a:off x="-914400" y="4419720"/>
            <a:ext cx="78487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忽闻水上琵琶声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主人忘归客不发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凄凄不似向前声，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满座重闻皆掩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座中泣下谁最多？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江洲司马青衫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4818"/>
          <p:cNvSpPr/>
          <p:nvPr/>
        </p:nvSpPr>
        <p:spPr>
          <a:xfrm>
            <a:off x="2394360" y="0"/>
            <a:ext cx="4661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侧面衬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宋体"/>
              </a:rPr>
              <a:t>（先第二段，后全文，找相关句子，分析作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4819"/>
          <p:cNvSpPr/>
          <p:nvPr/>
        </p:nvSpPr>
        <p:spPr>
          <a:xfrm>
            <a:off x="5938920" y="1268280"/>
            <a:ext cx="32050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音乐效果</a:t>
            </a: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环境气氛、人物感情</a:t>
            </a: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结合起来写，共同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新魏"/>
              </a:rPr>
              <a:t>侧面烘托</a:t>
            </a:r>
            <a:r>
              <a:rPr b="1" lang="zh-CN" sz="3200" spc="-1" strike="noStrike">
                <a:solidFill>
                  <a:srgbClr val="f519d0"/>
                </a:solidFill>
                <a:latin typeface="Arial"/>
                <a:ea typeface="华文新魏"/>
              </a:rPr>
              <a:t>出一个音乐的世界，也衬托出了琵琶女高超的表演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34820"/>
          <p:cNvSpPr/>
          <p:nvPr/>
        </p:nvSpPr>
        <p:spPr>
          <a:xfrm>
            <a:off x="3395520" y="990720"/>
            <a:ext cx="3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-2000">
                <a:solidFill>
                  <a:srgbClr val="33cc33"/>
                </a:solidFill>
                <a:latin typeface="Times New Roman"/>
                <a:ea typeface="华文中宋"/>
              </a:rPr>
              <a:t>东船西舫悄无言，惟见江心秋月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34821"/>
          <p:cNvSpPr/>
          <p:nvPr/>
        </p:nvSpPr>
        <p:spPr>
          <a:xfrm>
            <a:off x="76320" y="160020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悄寂无声的环境来衬托演奏的效果，乐声已停，然而余音绕梁，经久不息，人们还久久沉醉在音乐创造的氛围中。“悄无言”的寂静，实则是充满了感情的时刻，听众的忘情和如痴如醉的神情，从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侧面烘托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琵琶女技艺的高超绝妙。诗人所创造的这个画面，有着及其感人的艺术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文本框 35841"/>
          <p:cNvSpPr/>
          <p:nvPr/>
        </p:nvSpPr>
        <p:spPr>
          <a:xfrm>
            <a:off x="-533520" y="457200"/>
            <a:ext cx="990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小结：白居易高超的音乐描写技巧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运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比喻、通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描写音乐（以声写声，以形写声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通过景物描写、环境气氛及听众感受来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侧面烘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描写音乐人的形象美和音乐美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通过写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演奏者的动作态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描写音乐美及人物情感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运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叠词、联绵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描写音乐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叙议结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妙语点睛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过对乐声的描写评价来揭示乐曲的无穷含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4"/>
          <p:cNvSpPr/>
          <p:nvPr/>
        </p:nvSpPr>
        <p:spPr>
          <a:xfrm>
            <a:off x="3733920" y="2286000"/>
            <a:ext cx="502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“此时无声胜有声”，此句道出了“无声”与“有声”之间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辨证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，道出了音乐上停顿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奇特功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在特定的场合下，乐曲的暂时休止比连续不断的演奏更能触动人们的心弦，更易让人受到感染。创造出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曲止情续、余意无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艺术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656160" y="380880"/>
            <a:ext cx="510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问题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是怎样理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别有幽愁暗恨生，此时无声胜有声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华文中宋"/>
                <a:ea typeface="华文中宋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从古今描写音乐和声音的优秀作品看，对其描绘的方法有很多：</a:t>
            </a:r>
            <a:endParaRPr b="0" lang="en-US" sz="32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对乐曲或声音进行比喻时，也可运用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通感比喻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喻体不诉诸听觉，而诉诸其他感觉或生活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如：苏联歌曲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喀秋莎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》“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歌声好像明媚的春光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28600" y="2590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对声音的美妙或演奏（演唱）者的动作进行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夸张。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如：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列子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汤问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》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余音绕梁，三日不绝。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228600" y="3733920"/>
            <a:ext cx="8610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写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倾听者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反应或内心感受，从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侧面烘托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如：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赤壁赋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》“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舞幽壑之潜蛟，泣孤舟之嫠妇。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228600" y="4876920"/>
            <a:ext cx="8534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描写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周围环境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从</a:t>
            </a:r>
            <a:r>
              <a:rPr b="1" lang="zh-CN" sz="2800" spc="-1" strike="noStrike">
                <a:solidFill>
                  <a:srgbClr val="00ff00"/>
                </a:solidFill>
                <a:latin typeface="华文中宋"/>
                <a:ea typeface="华文中宋"/>
              </a:rPr>
              <a:t>侧面烘托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如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琵琶行</a:t>
            </a:r>
            <a:r>
              <a:rPr b="1" lang="en-US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》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华文中宋"/>
                <a:ea typeface="华文中宋"/>
              </a:rPr>
              <a:t>东船西舫悄无言，唯见江心秋月白。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华文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练  习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桌合作仿写句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一步体会作者描摹声音的高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：那音乐粗重深沉，就像浓厚的黑云压了下来，暴雨挟着狂风，在冲荡着天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6"/>
          <p:cNvSpPr/>
          <p:nvPr/>
        </p:nvSpPr>
        <p:spPr>
          <a:xfrm>
            <a:off x="2590920" y="117360"/>
            <a:ext cx="6019560" cy="1108080"/>
          </a:xfrm>
          <a:prstGeom prst="wedgeRectCallout">
            <a:avLst>
              <a:gd name="adj1" fmla="val 46379"/>
              <a:gd name="adj2" fmla="val 50356"/>
            </a:avLst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成语“高山流水”，比喻知己或知音，也比喻音乐优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27129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知音</a:t>
            </a:r>
            <a:endParaRPr b="0" lang="en-US" sz="6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-152280" y="1322280"/>
            <a:ext cx="920736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秋时代，有个叫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俞伯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人，精通音律，琴艺高超是当时著名的琴师。一夜伯牙乘船游览。面对清风明月，他思绪万千，于是又弹起琴来，琴声悠扬，渐入佳境。忽听岸上有人叫绝。伯牙闻声走出船来只见一个樵夫站在岸边，他知道此人是知音当即请樵夫上船，兴致勃勃地为他演奏。伯牙弹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赞美高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曲调，樵夫说道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好！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雄伟而庄重，好像高耸入云的泰山一样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他弹奏表现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奔腾澎湃的波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樵夫又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好！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宽广浩荡，好像看见滚滚的流水，无边的大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一伯牙兴奋极了，激动地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音！你真是我的知音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个樵夫就是就是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钟子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从此二人成了非常要好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汤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2"/>
          <p:cNvSpPr/>
          <p:nvPr/>
        </p:nvSpPr>
        <p:spPr>
          <a:xfrm>
            <a:off x="457200" y="380880"/>
            <a:ext cx="830592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自学指导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就诗歌中的琵琶女谈谈你的看法？塑造这一形象有何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是天涯沦落人”，作者与琵琶女的相似之处有哪些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就诗歌中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是天涯沦落人，相逢何必曾相识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谈谈你的看法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诗歌往往少不了风物的描写，本诗歌前后贯穿了几处风物描写的文字。这些风物有什么作用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作者为一个身份卑贱的歌女作诗，表达了其什么深沉用意（诗歌主旨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学生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教师巡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"/>
          <p:cNvSpPr/>
          <p:nvPr/>
        </p:nvSpPr>
        <p:spPr>
          <a:xfrm>
            <a:off x="2743200" y="1447920"/>
            <a:ext cx="4343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未成曲调先有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似诉平生不得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说尽心中无限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别有幽愁暗恨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隶书"/>
              </a:rPr>
              <a:t>此时无声胜有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34280" y="2209680"/>
            <a:ext cx="19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以情演曲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琵琶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5378400" y="2286000"/>
            <a:ext cx="2946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诗   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以情绘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76212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找出体现琵琶女感情的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533520" y="5029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同是天涯沦落人，相逢何必曾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0">
            <a:hlinkClick r:id="" action="ppaction://hlinkshowjump?jump=nextslide"/>
          </p:cNvPr>
          <p:cNvSpPr/>
          <p:nvPr/>
        </p:nvSpPr>
        <p:spPr>
          <a:xfrm>
            <a:off x="777240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1">
            <a:hlinkClick r:id="" action="ppaction://hlinkshowjump?jump=previousslide"/>
          </p:cNvPr>
          <p:cNvSpPr/>
          <p:nvPr/>
        </p:nvSpPr>
        <p:spPr>
          <a:xfrm>
            <a:off x="716292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209680" y="2286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） 琵琶女形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55297" descr="WISTERIA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3200400"/>
          </a:xfrm>
          <a:prstGeom prst="rect">
            <a:avLst/>
          </a:prstGeom>
          <a:ln w="0">
            <a:noFill/>
          </a:ln>
        </p:spPr>
      </p:pic>
      <p:sp>
        <p:nvSpPr>
          <p:cNvPr id="142" name="矩形 55298"/>
          <p:cNvSpPr/>
          <p:nvPr/>
        </p:nvSpPr>
        <p:spPr>
          <a:xfrm>
            <a:off x="0" y="53352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习检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下列词语中读音没有错误的一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商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贾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jiǎ) 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六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幺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yāo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  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钿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diàn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头   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虾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há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转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徙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xǐ) 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衣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裳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shang) 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红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绡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xiào)  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管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弦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xián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恬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然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tián)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迁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谪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zhé)    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呕哑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ōuyā)    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铁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骑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q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湓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pén)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浦口 琵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琶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pá)     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嘲哳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zhāozhā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幽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咽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yè)</a:t>
            </a:r>
            <a:r>
              <a:rPr b="1" lang="en-US" sz="2400" spc="-1" strike="noStrike">
                <a:solidFill>
                  <a:srgbClr val="2f2f2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2819520"/>
            <a:ext cx="1371600" cy="360"/>
            <a:chOff x="1066680" y="2819520"/>
            <a:chExt cx="1371600" cy="360"/>
          </a:xfrm>
        </p:grpSpPr>
        <p:sp>
          <p:nvSpPr>
            <p:cNvPr id="144" name="直接连接符 55299"/>
            <p:cNvSpPr/>
            <p:nvPr/>
          </p:nvSpPr>
          <p:spPr>
            <a:xfrm>
              <a:off x="1066680" y="2819520"/>
              <a:ext cx="137160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1066680" y="28195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19520" y="3581280"/>
            <a:ext cx="1676160" cy="360"/>
            <a:chOff x="2819520" y="3581280"/>
            <a:chExt cx="1676160" cy="360"/>
          </a:xfrm>
        </p:grpSpPr>
        <p:sp>
          <p:nvSpPr>
            <p:cNvPr id="147" name="直接连接符 55300"/>
            <p:cNvSpPr/>
            <p:nvPr/>
          </p:nvSpPr>
          <p:spPr>
            <a:xfrm>
              <a:off x="2819520" y="3581280"/>
              <a:ext cx="167616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819520" y="3581280"/>
              <a:ext cx="167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3581280"/>
            <a:ext cx="1523880" cy="360"/>
            <a:chOff x="4876920" y="3581280"/>
            <a:chExt cx="1523880" cy="360"/>
          </a:xfrm>
        </p:grpSpPr>
        <p:sp>
          <p:nvSpPr>
            <p:cNvPr id="150" name="直接连接符 55301"/>
            <p:cNvSpPr/>
            <p:nvPr/>
          </p:nvSpPr>
          <p:spPr>
            <a:xfrm>
              <a:off x="4876920" y="3581280"/>
              <a:ext cx="152388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876920" y="358128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010280" y="4343400"/>
            <a:ext cx="1295640" cy="360"/>
            <a:chOff x="7010280" y="4343400"/>
            <a:chExt cx="1295640" cy="360"/>
          </a:xfrm>
        </p:grpSpPr>
        <p:sp>
          <p:nvSpPr>
            <p:cNvPr id="153" name="直接连接符 55302"/>
            <p:cNvSpPr/>
            <p:nvPr/>
          </p:nvSpPr>
          <p:spPr>
            <a:xfrm>
              <a:off x="7010280" y="4343400"/>
              <a:ext cx="1295640" cy="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7010280" y="434340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文本框 55303"/>
          <p:cNvSpPr/>
          <p:nvPr/>
        </p:nvSpPr>
        <p:spPr>
          <a:xfrm>
            <a:off x="6781680" y="1295280"/>
            <a:ext cx="1447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新魏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5304"/>
          <p:cNvSpPr/>
          <p:nvPr/>
        </p:nvSpPr>
        <p:spPr>
          <a:xfrm>
            <a:off x="685800" y="5486400"/>
            <a:ext cx="1905120" cy="459720"/>
          </a:xfrm>
          <a:prstGeom prst="rect">
            <a:avLst/>
          </a:prstGeom>
          <a:solidFill>
            <a:srgbClr val="918415">
              <a:alpha val="50000"/>
            </a:srgbClr>
          </a:solidFill>
          <a:ln w="57240">
            <a:solidFill>
              <a:srgbClr val="2f2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商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贾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gǔ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5305"/>
          <p:cNvSpPr/>
          <p:nvPr/>
        </p:nvSpPr>
        <p:spPr>
          <a:xfrm>
            <a:off x="2743200" y="5486400"/>
            <a:ext cx="1905120" cy="459720"/>
          </a:xfrm>
          <a:prstGeom prst="rect">
            <a:avLst/>
          </a:prstGeom>
          <a:solidFill>
            <a:srgbClr val="918415">
              <a:alpha val="50000"/>
            </a:srgbClr>
          </a:solidFill>
          <a:ln w="57240">
            <a:solidFill>
              <a:srgbClr val="2f2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衣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裳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chá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5306"/>
          <p:cNvSpPr/>
          <p:nvPr/>
        </p:nvSpPr>
        <p:spPr>
          <a:xfrm>
            <a:off x="4800600" y="5486400"/>
            <a:ext cx="1905120" cy="459720"/>
          </a:xfrm>
          <a:prstGeom prst="rect">
            <a:avLst/>
          </a:prstGeom>
          <a:solidFill>
            <a:srgbClr val="918415">
              <a:alpha val="50000"/>
            </a:srgbClr>
          </a:solidFill>
          <a:ln w="57240">
            <a:solidFill>
              <a:srgbClr val="2f2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红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绡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xiā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5307"/>
          <p:cNvSpPr/>
          <p:nvPr/>
        </p:nvSpPr>
        <p:spPr>
          <a:xfrm>
            <a:off x="6858000" y="5486400"/>
            <a:ext cx="1905120" cy="459720"/>
          </a:xfrm>
          <a:prstGeom prst="rect">
            <a:avLst/>
          </a:prstGeom>
          <a:solidFill>
            <a:srgbClr val="918415">
              <a:alpha val="50000"/>
            </a:srgbClr>
          </a:solidFill>
          <a:ln w="57240">
            <a:solidFill>
              <a:srgbClr val="2f2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铁</a:t>
            </a:r>
            <a:r>
              <a:rPr b="1" lang="zh-CN" sz="2400" spc="-1" strike="noStrike">
                <a:solidFill>
                  <a:srgbClr val="00d5d5"/>
                </a:solidFill>
                <a:latin typeface="黑体"/>
                <a:ea typeface="黑体"/>
              </a:rPr>
              <a:t>骑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(j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2590920" y="11430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琵琶女形象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304920" y="17524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才貌双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但在封建社会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玩弄、被侮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歌女形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晚景凄凉，遭社会遗弃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满怀愤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对世人的重色轻才和丈夫的重利寡情提出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强烈控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琵琶女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没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识到昔日卖笑承欢、醉生梦死是一种被玩弄的生活，相反还抱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炫耀、追恋、惋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态度。她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只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悲叹红颜易老、繁花早逝，却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没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自己的不幸遭遇中得到觉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43011"/>
          <p:cNvSpPr/>
          <p:nvPr/>
        </p:nvSpPr>
        <p:spPr>
          <a:xfrm>
            <a:off x="380880" y="56386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目的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反映了封建社会中被侮辱、损害的歌伎们的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悲惨命运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也更好地抒写自己的</a:t>
            </a:r>
            <a:r>
              <a:rPr b="1" lang="zh-CN" sz="2800" spc="-1" strike="noStrike">
                <a:solidFill>
                  <a:srgbClr val="33cc33"/>
                </a:solidFill>
                <a:latin typeface="黑体"/>
                <a:ea typeface="黑体"/>
              </a:rPr>
              <a:t>天涯沦落之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450440" y="569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琵琶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055840" y="549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1354680" y="145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才貌双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3447360" y="1197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5056920" y="1432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才高位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619280" y="2349360"/>
            <a:ext cx="838080" cy="12193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3358080" y="256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动京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9"/>
          <p:cNvSpPr/>
          <p:nvPr/>
        </p:nvSpPr>
        <p:spPr>
          <a:xfrm flipH="1">
            <a:off x="5434920" y="2349360"/>
            <a:ext cx="785880" cy="1266840"/>
          </a:xfrm>
          <a:custGeom>
            <a:avLst/>
            <a:gdLst>
              <a:gd name="textAreaLeft" fmla="*/ 105120 w 785880"/>
              <a:gd name="textAreaRight" fmla="*/ 680760 w 785880"/>
              <a:gd name="textAreaTop" fmla="*/ 221760 h 1266840"/>
              <a:gd name="textAreaBottom" fmla="*/ 918720 h 126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0"/>
          <p:cNvSpPr/>
          <p:nvPr/>
        </p:nvSpPr>
        <p:spPr>
          <a:xfrm flipH="1">
            <a:off x="5485680" y="4800600"/>
            <a:ext cx="762120" cy="12952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1523160" y="3581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长色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遭世遗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3447360" y="3645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4648320" y="35812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被贬放逐遭君遗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1692360" y="4724280"/>
            <a:ext cx="761760" cy="1295640"/>
          </a:xfrm>
          <a:custGeom>
            <a:avLst/>
            <a:gdLst>
              <a:gd name="textAreaLeft" fmla="*/ 101880 w 761760"/>
              <a:gd name="textAreaRight" fmla="*/ 659880 w 76176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341856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漂沦憔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260040" y="4032000"/>
            <a:ext cx="1072080" cy="1003680"/>
            <a:chOff x="6260040" y="4032000"/>
            <a:chExt cx="1072080" cy="1003680"/>
          </a:xfrm>
        </p:grpSpPr>
        <p:sp>
          <p:nvSpPr>
            <p:cNvPr id="473" name="Line 16"/>
            <p:cNvSpPr/>
            <p:nvPr/>
          </p:nvSpPr>
          <p:spPr>
            <a:xfrm flipH="1">
              <a:off x="6260040" y="4125240"/>
              <a:ext cx="1072080" cy="8172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5723400">
              <a:off x="6338520" y="40384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195240" y="3046320"/>
            <a:ext cx="1125360" cy="1181520"/>
            <a:chOff x="6195240" y="3046320"/>
            <a:chExt cx="1125360" cy="1181520"/>
          </a:xfrm>
        </p:grpSpPr>
        <p:sp>
          <p:nvSpPr>
            <p:cNvPr id="476" name="Line 17"/>
            <p:cNvSpPr/>
            <p:nvPr/>
          </p:nvSpPr>
          <p:spPr>
            <a:xfrm>
              <a:off x="6195240" y="3265920"/>
              <a:ext cx="1125360" cy="7423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 rot="20766600">
              <a:off x="6300720" y="314136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"/>
          <p:cNvSpPr/>
          <p:nvPr/>
        </p:nvSpPr>
        <p:spPr>
          <a:xfrm>
            <a:off x="8121960" y="198900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7308720" y="1989000"/>
            <a:ext cx="64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6"/>
          <p:cNvSpPr txBox="1"/>
          <p:nvPr/>
        </p:nvSpPr>
        <p:spPr>
          <a:xfrm>
            <a:off x="11353680" y="685800"/>
            <a:ext cx="121932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？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1" name="TextBox 20"/>
          <p:cNvSpPr/>
          <p:nvPr/>
        </p:nvSpPr>
        <p:spPr>
          <a:xfrm>
            <a:off x="-317160" y="468360"/>
            <a:ext cx="1155240" cy="5826240"/>
          </a:xfrm>
          <a:prstGeom prst="rect">
            <a:avLst/>
          </a:prstGeom>
          <a:gradFill rotWithShape="0">
            <a:gsLst>
              <a:gs pos="0">
                <a:srgbClr val="584f02"/>
              </a:gs>
              <a:gs pos="100000">
                <a:srgbClr val="9a8b0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作者与琵琶女的相似之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行楷"/>
              </a:rPr>
              <a:t>(1)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行楷"/>
              </a:rPr>
              <a:t>伤人，怜己</a:t>
            </a: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799164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伤人，伤己，两重感伤交织一起，既有对琵琶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限的同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有对自身遭遇的不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感叹与自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琵琶女的深挚同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自己被贬的满腔幽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对冷酷现实的强烈不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融合在一起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468360" y="5373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同是天涯沦落人，相逢何必曾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838080" y="533520"/>
            <a:ext cx="7315200" cy="1066680"/>
          </a:xfrm>
          <a:prstGeom prst="rect">
            <a:avLst/>
          </a:prstGeom>
          <a:solidFill>
            <a:srgbClr val="c475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就诗歌中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同是天涯沦落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相逢何必曾相识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谈谈你的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380880" y="20574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同是天涯沦落人，相逢何必曾相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诗人和琵琶女虽然经历、地位不同，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都有着共同的不幸遭遇和艰难处境，生活都同样地飘零、凄凉、失意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、这两句诗揭示出了一种带有普遍意义的典型情绪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即同命相怜，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蕴含着许多能使人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从悲哀中出甘美的人生哲理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已超越时代、阶级的局限，成为后世饱经忧患的人邂逅时的共同心声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所以能够在历史的长河中激起广泛的同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219320" y="1143000"/>
            <a:ext cx="41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典型感情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、诗歌往往少不了风物的描写，同样，本诗歌前后贯穿了几处风物描写的文字。这些风物有什么作用呢？</a:t>
            </a: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905120" y="5638320"/>
            <a:ext cx="4876560" cy="8384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  <a:ea typeface="华文行楷"/>
              </a:rPr>
              <a:t>一枝一叶总关情</a:t>
            </a:r>
            <a:r>
              <a:rPr b="0" lang="zh-CN" sz="4800" spc="-1" strike="noStrike">
                <a:solidFill>
                  <a:srgbClr val="cc9900"/>
                </a:solidFill>
                <a:latin typeface="Arial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7107"/>
          <p:cNvSpPr/>
          <p:nvPr/>
        </p:nvSpPr>
        <p:spPr>
          <a:xfrm>
            <a:off x="0" y="1676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浔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江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夜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送客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枫叶荻花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秋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瑟瑟”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47108"/>
          <p:cNvSpPr/>
          <p:nvPr/>
        </p:nvSpPr>
        <p:spPr>
          <a:xfrm>
            <a:off x="5288040" y="1676520"/>
            <a:ext cx="30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依恋不舍，凄凉愁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47109"/>
          <p:cNvSpPr/>
          <p:nvPr/>
        </p:nvSpPr>
        <p:spPr>
          <a:xfrm>
            <a:off x="53352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别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茫茫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江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浸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月</a:t>
            </a:r>
            <a:r>
              <a:rPr b="1" lang="zh-CN" sz="2400" spc="-1" strike="noStrike">
                <a:solidFill>
                  <a:srgbClr val="2f2f2f"/>
                </a:solidFill>
                <a:latin typeface="Arial"/>
                <a:ea typeface="宋体"/>
              </a:rPr>
              <a:t>”</a:t>
            </a:r>
            <a:r>
              <a:rPr b="1" lang="zh-CN" sz="2400" spc="-1" strike="noStrike">
                <a:solidFill>
                  <a:srgbClr val="00d5d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7110"/>
          <p:cNvSpPr/>
          <p:nvPr/>
        </p:nvSpPr>
        <p:spPr>
          <a:xfrm>
            <a:off x="5334120" y="2438280"/>
            <a:ext cx="32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离愁别绪，凄冷迷惘</a:t>
            </a:r>
            <a:r>
              <a:rPr b="1" lang="zh-CN" sz="2400" spc="-1" strike="noStrike">
                <a:solidFill>
                  <a:srgbClr val="00d5d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47111"/>
          <p:cNvSpPr/>
          <p:nvPr/>
        </p:nvSpPr>
        <p:spPr>
          <a:xfrm>
            <a:off x="53352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唯见江心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秋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7112"/>
          <p:cNvSpPr/>
          <p:nvPr/>
        </p:nvSpPr>
        <p:spPr>
          <a:xfrm>
            <a:off x="457200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寂静 ，烘托了音乐效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47113"/>
          <p:cNvSpPr/>
          <p:nvPr/>
        </p:nvSpPr>
        <p:spPr>
          <a:xfrm>
            <a:off x="45720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绕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江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47114"/>
          <p:cNvSpPr/>
          <p:nvPr/>
        </p:nvSpPr>
        <p:spPr>
          <a:xfrm>
            <a:off x="4572000" y="3886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琵琶女冷落凄凉的心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47115"/>
          <p:cNvSpPr/>
          <p:nvPr/>
        </p:nvSpPr>
        <p:spPr>
          <a:xfrm>
            <a:off x="0" y="480060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苦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绕宅生”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杜鹃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啼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猿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哀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47116"/>
          <p:cNvSpPr/>
          <p:nvPr/>
        </p:nvSpPr>
        <p:spPr>
          <a:xfrm>
            <a:off x="541008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宋体"/>
              </a:rPr>
              <a:t>诗人被贬后的孤寂悲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48765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诗歌主旨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0667880" y="2362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228600" y="2514600"/>
            <a:ext cx="8088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个是处于封建社会底层的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艺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一个是被压抑的真正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知识分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虽地位悬隔，在这风清月白的环境下自然产生强烈的感情共鸣和交流，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成为知音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可见其对歌伎人格尊重的进步思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二者的遭遇</a:t>
            </a:r>
            <a:r>
              <a:rPr b="1" lang="zh-CN" sz="32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批判了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社会对人才的压抑、及不容贤能的黑暗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48132"/>
          <p:cNvSpPr/>
          <p:nvPr/>
        </p:nvSpPr>
        <p:spPr>
          <a:xfrm>
            <a:off x="762120" y="457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作者为一个身份卑贱的歌女作诗，表达了其什么深沉用意（诗歌主旨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304920" y="1160640"/>
            <a:ext cx="838188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、 写出下列名句的上句或下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犹抱琵琶半遮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大弦嘈嘈如急雨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嘈嘈切切错杂弹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别有幽愁暗恨生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同是天涯沦落人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座中泣下谁最多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转轴拨弦三两声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———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49154"/>
          <p:cNvSpPr/>
          <p:nvPr/>
        </p:nvSpPr>
        <p:spPr>
          <a:xfrm>
            <a:off x="2666880" y="228600"/>
            <a:ext cx="27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课堂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50177"/>
          <p:cNvSpPr/>
          <p:nvPr/>
        </p:nvSpPr>
        <p:spPr>
          <a:xfrm>
            <a:off x="149400" y="0"/>
            <a:ext cx="140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延伸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0178"/>
          <p:cNvSpPr/>
          <p:nvPr/>
        </p:nvSpPr>
        <p:spPr>
          <a:xfrm>
            <a:off x="2050920" y="4046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听颖师弹琴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韩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50179"/>
          <p:cNvSpPr/>
          <p:nvPr/>
        </p:nvSpPr>
        <p:spPr>
          <a:xfrm>
            <a:off x="-395280" y="1341360"/>
            <a:ext cx="741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昵昵儿女语，恩怨相尔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划然变轩昂，勇士赴敌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浮云柳絮无根蒂，天地阔远随飞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喧啾百鸟群，忽见孤凤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跻攀分寸不可上，失势一落千丈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嗟余有两耳，未省听丝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闻颖师弹，起坐在一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手遽止之，湿衣泪滂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颖乎何诚能，无以冰炭置我肠。</a:t>
            </a:r>
            <a:r>
              <a:rPr b="1" lang="zh-CN" sz="2800" spc="-1" strike="noStrike">
                <a:solidFill>
                  <a:srgbClr val="c4754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50180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50181"/>
          <p:cNvSpPr/>
          <p:nvPr/>
        </p:nvSpPr>
        <p:spPr>
          <a:xfrm>
            <a:off x="2896200" y="5300640"/>
            <a:ext cx="35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情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起大落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，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婉转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，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雄奇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。其变态之强烈，令听者感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内心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冰炭交加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升天坠地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。其为音乐艺术，信可如此，而今日之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曲，惟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广陵散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可当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图片 51201" descr="pic002"/>
          <p:cNvPicPr/>
          <p:nvPr/>
        </p:nvPicPr>
        <p:blipFill>
          <a:blip r:embed="rId1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51202"/>
          <p:cNvSpPr/>
          <p:nvPr/>
        </p:nvSpPr>
        <p:spPr>
          <a:xfrm>
            <a:off x="539640" y="333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李凭箜篌引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李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51203"/>
          <p:cNvSpPr/>
          <p:nvPr/>
        </p:nvSpPr>
        <p:spPr>
          <a:xfrm>
            <a:off x="0" y="1341360"/>
            <a:ext cx="508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吴丝蜀桐张高秋，空山凝云颓不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娥啼竹素女愁，李凭中国弹箜篌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山玉碎凤凰叫，芙蓉泣露香兰笑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二门前融冷光，二十三丝动紫皇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炼石补天处，石破天惊逗秋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梦入神山教神妪，老鱼跳波瘦蛟舞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吴质不眠倚桂树，露脚斜飞湿寒兔。</a:t>
            </a:r>
            <a:br>
              <a:rPr sz="2400"/>
            </a:br>
            <a:r>
              <a:rPr b="1" lang="zh-CN" sz="2400" spc="-1" strike="noStrike">
                <a:solidFill>
                  <a:srgbClr val="c47546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51204"/>
          <p:cNvSpPr/>
          <p:nvPr/>
        </p:nvSpPr>
        <p:spPr>
          <a:xfrm>
            <a:off x="0" y="4076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 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图片 51205" descr="20040524konghou">
            <a:hlinkClick r:id="rId2"/>
          </p:cNvPr>
          <p:cNvPicPr/>
          <p:nvPr/>
        </p:nvPicPr>
        <p:blipFill>
          <a:blip r:embed="rId3"/>
          <a:srcRect l="5003" t="0" r="8334" b="0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51206"/>
          <p:cNvSpPr/>
          <p:nvPr/>
        </p:nvSpPr>
        <p:spPr>
          <a:xfrm>
            <a:off x="0" y="4221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60000"/>
                </a:solidFill>
                <a:latin typeface="Arial"/>
                <a:ea typeface="华文新魏"/>
              </a:rPr>
              <a:t>这首诗的最大特点是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想象奇特，形象鲜明</a:t>
            </a:r>
            <a:r>
              <a:rPr b="0" lang="zh-CN" sz="2400" spc="-1" strike="noStrike">
                <a:solidFill>
                  <a:srgbClr val="f60000"/>
                </a:solidFill>
                <a:latin typeface="Arial"/>
                <a:ea typeface="华文新魏"/>
              </a:rPr>
              <a:t>，充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浪漫主义色彩，</a:t>
            </a:r>
            <a:r>
              <a:rPr b="0" lang="zh-CN" sz="2400" spc="-1" strike="noStrike">
                <a:solidFill>
                  <a:srgbClr val="f60000"/>
                </a:solidFill>
                <a:latin typeface="Arial"/>
                <a:ea typeface="华文新魏"/>
              </a:rPr>
              <a:t>诗人致力于把自己对于箜篌声的抽象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感觉、感情与思想</a:t>
            </a:r>
            <a:r>
              <a:rPr b="0" lang="zh-CN" sz="2400" spc="-1" strike="noStrike">
                <a:solidFill>
                  <a:srgbClr val="33cc33"/>
                </a:solidFill>
                <a:latin typeface="Arial"/>
                <a:ea typeface="华文新魏"/>
              </a:rPr>
              <a:t>借助联想转化成具体的物象</a:t>
            </a:r>
            <a:r>
              <a:rPr b="0" lang="zh-CN" sz="2400" spc="-1" strike="noStrike">
                <a:solidFill>
                  <a:srgbClr val="f60000"/>
                </a:solidFill>
                <a:latin typeface="Arial"/>
                <a:ea typeface="华文新魏"/>
              </a:rPr>
              <a:t>，使之可见可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文本框 52225"/>
          <p:cNvSpPr/>
          <p:nvPr/>
        </p:nvSpPr>
        <p:spPr>
          <a:xfrm>
            <a:off x="900000" y="14130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60000"/>
                </a:solidFill>
                <a:latin typeface="Arial"/>
              </a:rPr>
              <a:t>欣赏刘鄂</a:t>
            </a:r>
            <a:r>
              <a:rPr b="1" lang="en-US" sz="3200" spc="-1" strike="noStrike">
                <a:solidFill>
                  <a:srgbClr val="f6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60000"/>
                </a:solidFill>
                <a:latin typeface="Arial"/>
              </a:rPr>
              <a:t>老残游记</a:t>
            </a:r>
            <a:r>
              <a:rPr b="1" lang="en-US" sz="3200" spc="-1" strike="noStrike">
                <a:solidFill>
                  <a:srgbClr val="f6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60000"/>
                </a:solidFill>
                <a:latin typeface="Arial"/>
              </a:rPr>
              <a:t>第二回　历山山下古帝遗踪　明湖湖边美人绝调</a:t>
            </a:r>
            <a:r>
              <a:rPr b="1" lang="en-US" sz="3200" spc="-1" strike="noStrike">
                <a:solidFill>
                  <a:srgbClr val="f6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小玉便启朱唇，发皓齿，唱了几句书儿。声音初不甚大，只觉入耳有说不出来的妙境：五脏六腑里，像熨斗熨过，无一处不伏贴；三万六千个毛孔，像吃了人参果，无一个毛孔不畅快。唱了十数句之后，渐渐的越唱越高，忽然拔了一个尖儿，像一线钢丝抛入天际，不禁暗暗叫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56321" descr="WISTERIA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矩形 56322"/>
          <p:cNvSpPr/>
          <p:nvPr/>
        </p:nvSpPr>
        <p:spPr>
          <a:xfrm>
            <a:off x="-181080" y="5493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  <a:ea typeface="黑体"/>
              </a:rPr>
              <a:t>解释下列句中红色词语在文中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                   使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弹数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句                 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百一十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骑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突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枪鸣           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裳起敛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暮去朝来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           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大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嫁作商人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听仙乐耳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           凄凄不似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56323"/>
          <p:cNvSpPr/>
          <p:nvPr/>
        </p:nvSpPr>
        <p:spPr>
          <a:xfrm>
            <a:off x="1835280" y="2276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第二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6324"/>
          <p:cNvSpPr/>
          <p:nvPr/>
        </p:nvSpPr>
        <p:spPr>
          <a:xfrm>
            <a:off x="2124000" y="3141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于是创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6325"/>
          <p:cNvSpPr/>
          <p:nvPr/>
        </p:nvSpPr>
        <p:spPr>
          <a:xfrm>
            <a:off x="7307280" y="314172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总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6326"/>
          <p:cNvSpPr/>
          <p:nvPr/>
        </p:nvSpPr>
        <p:spPr>
          <a:xfrm>
            <a:off x="3132000" y="486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容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6327"/>
          <p:cNvSpPr/>
          <p:nvPr/>
        </p:nvSpPr>
        <p:spPr>
          <a:xfrm>
            <a:off x="7280280" y="4797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年纪大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6328"/>
          <p:cNvSpPr/>
          <p:nvPr/>
        </p:nvSpPr>
        <p:spPr>
          <a:xfrm>
            <a:off x="7372440" y="4005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整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6329"/>
          <p:cNvSpPr/>
          <p:nvPr/>
        </p:nvSpPr>
        <p:spPr>
          <a:xfrm>
            <a:off x="2987640" y="4005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突然冲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6330"/>
          <p:cNvSpPr/>
          <p:nvPr/>
        </p:nvSpPr>
        <p:spPr>
          <a:xfrm>
            <a:off x="7524720" y="5661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先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6331"/>
          <p:cNvSpPr/>
          <p:nvPr/>
        </p:nvSpPr>
        <p:spPr>
          <a:xfrm>
            <a:off x="3276720" y="573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忽然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6332"/>
          <p:cNvSpPr/>
          <p:nvPr/>
        </p:nvSpPr>
        <p:spPr>
          <a:xfrm>
            <a:off x="6848640" y="22766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  <a:ea typeface="黑体"/>
              </a:rPr>
              <a:t>（畅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文本框 53249"/>
          <p:cNvSpPr/>
          <p:nvPr/>
        </p:nvSpPr>
        <p:spPr>
          <a:xfrm flipV="1">
            <a:off x="324000" y="585216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知他于那极高的地方，尚能回环转折。几啭之后，又高一层，接连有三四叠，节节高起。恍如由傲来峰西面攀登泰山的景象：初看傲来峰削壁干仞，以为上与天通；及至翻到傲来峰顶，才见扇子崖更在傲来峰上；及至翻到扇子崖，又见南天门更在扇子崖上：愈翻愈险，愈险愈奇。那王小玉唱到极高的三四叠后，陡然一落，又极力骋其千回百折的精神，如一条飞蛇在黄山三十六峰半中腰里盘旋穿插。顷刻之间，周匝数遍。从此以后，愈唱愈低，愈低愈细，那声音渐渐的就听不见了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54273"/>
          <p:cNvSpPr/>
          <p:nvPr/>
        </p:nvSpPr>
        <p:spPr>
          <a:xfrm flipV="1">
            <a:off x="1095480" y="2216520"/>
            <a:ext cx="46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54274"/>
          <p:cNvSpPr/>
          <p:nvPr/>
        </p:nvSpPr>
        <p:spPr>
          <a:xfrm>
            <a:off x="324000" y="1125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满园子的人都屏气凝神，不敢少动。约有两三分钟之久，仿佛有一点声音从地底下发出。这一出之后，忽又扬起，像放那东洋烟火，一个弹子上天，随化作千百道五色火光，纵横散乱。这一声飞起，即有无限声音俱来并发。那弹弦子的亦全用轮指，忽大忽小，同他那声音相和相合，有如花坞春晓，好鸟乱鸣。耳朵忙不过来，不晓得听那一声的为是。正在撩乱之际，忽听霍然一声，人弦俱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0" y="609480"/>
            <a:ext cx="9144000" cy="563904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9" descr="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05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0"/>
          <p:cNvSpPr/>
          <p:nvPr/>
        </p:nvSpPr>
        <p:spPr>
          <a:xfrm>
            <a:off x="154080" y="6094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业：</a:t>
            </a:r>
            <a:r>
              <a:rPr b="0" i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欣赏</a:t>
            </a:r>
            <a:r>
              <a:rPr b="0" i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0" i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青藏高原</a:t>
            </a:r>
            <a:r>
              <a:rPr b="0" i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r>
              <a:rPr b="0" i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借助联想想象，用恰当比喻，</a:t>
            </a:r>
            <a:r>
              <a:rPr b="0" i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写一个</a:t>
            </a:r>
            <a:r>
              <a:rPr b="0" i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00</a:t>
            </a:r>
            <a:r>
              <a:rPr b="0" i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字左右的语段来描摹这首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962520" y="457200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Times New Roman"/>
                <a:ea typeface="隶书"/>
              </a:rPr>
              <a:t>青藏高原  </a:t>
            </a:r>
            <a:r>
              <a:rPr b="0" lang="zh-CN" sz="2400" spc="-1" strike="noStrike">
                <a:solidFill>
                  <a:srgbClr val="0066ff"/>
                </a:solidFill>
                <a:latin typeface="Times New Roman"/>
                <a:ea typeface="隶书"/>
              </a:rPr>
              <a:t>李娜演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文言知识提示</a:t>
            </a:r>
            <a:r>
              <a:rPr b="0" lang="zh-CN" sz="4400" spc="-1" strike="noStrike">
                <a:solidFill>
                  <a:srgbClr val="2f2f2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6000" y="620640"/>
            <a:ext cx="2879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斯人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六百一十六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言本是京城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8920" y="1052640"/>
            <a:ext cx="3241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话，名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字，名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说，动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1116000" y="134136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79160" y="162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7720" y="29962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116000" y="292428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2024640" y="2781000"/>
            <a:ext cx="17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快弹数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曲红绡不知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140360" y="2605680"/>
            <a:ext cx="46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几，表不确定的数目，数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5293440" y="321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数量，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7360" y="407592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80000" y="3871440"/>
            <a:ext cx="17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琵琶声停欲语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夜闻君琵琶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1116000" y="4005360"/>
            <a:ext cx="287280" cy="72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938120" y="385992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说话，回答，动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5291280" y="429192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曲，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528840" y="522828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2392920" y="4868640"/>
            <a:ext cx="281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为长句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霓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六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 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君翻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琵琶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1116000" y="501336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5250960" y="4868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写，创作，动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wé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5798880" y="529992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弹奏，动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wéi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5808960" y="5733360"/>
            <a:ext cx="11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替、给，介词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wè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拢慢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       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商人重利轻别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   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泣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座重闻皆掩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  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座中泣下谁最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0036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轻轻，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428360" y="98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轻视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4283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哭泣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428360" y="2349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眼泪，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44280" y="3174120"/>
            <a:ext cx="905688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古：于是创作。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：表原因的连词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阑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古：参差错杂，纵横散乱。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：用木、石、钢材制成的拦挡物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向前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古：从前、刚才。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今：介词和方位名词构成的两个词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老大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古：年龄大。  今：兄弟排行第一。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颜色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古：神态、脸色。 今：色彩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8172360" y="371628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古今异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2997000"/>
            <a:ext cx="9144000" cy="360"/>
            <a:chOff x="0" y="2997000"/>
            <a:chExt cx="9144000" cy="360"/>
          </a:xfrm>
        </p:grpSpPr>
        <p:sp>
          <p:nvSpPr>
            <p:cNvPr id="201" name="Line 10"/>
            <p:cNvSpPr/>
            <p:nvPr/>
          </p:nvSpPr>
          <p:spPr>
            <a:xfrm>
              <a:off x="0" y="2997360"/>
              <a:ext cx="9144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 rot="10800000">
              <a:off x="0" y="2996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1"/>
          <p:cNvSpPr/>
          <p:nvPr/>
        </p:nvSpPr>
        <p:spPr>
          <a:xfrm>
            <a:off x="8028000" y="3573360"/>
            <a:ext cx="863640" cy="216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755640" y="549720"/>
            <a:ext cx="536904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以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赠之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         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尝学琵琶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穆、曹二善才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     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转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江湖间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本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是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长安倡女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   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之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快弹数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   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送客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于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湓浦口     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 rot="17452200">
            <a:off x="5955480" y="220392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文言句式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6767400">
            <a:off x="4773600" y="2071800"/>
            <a:ext cx="3743280" cy="1558800"/>
          </a:xfrm>
          <a:custGeom>
            <a:avLst/>
            <a:gdLst>
              <a:gd name="textAreaLeft" fmla="*/ 467280 w 3743280"/>
              <a:gd name="textAreaRight" fmla="*/ 3276000 w 3743280"/>
              <a:gd name="textAreaTop" fmla="*/ 389520 h 1558800"/>
              <a:gd name="textAreaBottom" fmla="*/ 1169280 h 155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6" y="5400"/>
                </a:lnTo>
                <a:lnTo>
                  <a:pt x="16206" y="0"/>
                </a:lnTo>
                <a:lnTo>
                  <a:pt x="21600" y="10800"/>
                </a:lnTo>
                <a:lnTo>
                  <a:pt x="16206" y="21600"/>
                </a:lnTo>
                <a:lnTo>
                  <a:pt x="16206" y="16200"/>
                </a:lnTo>
                <a:lnTo>
                  <a:pt x="0" y="16200"/>
                </a:lnTo>
                <a:lnTo>
                  <a:pt x="2697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652040" y="14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878120" y="2276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宾短语后置；于，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949760" y="3141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宾短语后置；于，在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71504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略句，省略谓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889280" y="4797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略句，之，琵琶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692720" y="573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省略句，于，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0T14:05:32Z</dcterms:created>
  <dc:creator>acer</dc:creator>
  <dc:description/>
  <dc:language>en-US</dc:language>
  <cp:lastModifiedBy>Administrator</cp:lastModifiedBy>
  <dcterms:modified xsi:type="dcterms:W3CDTF">2015-12-10T01:03:34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