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F25-89C5-4637-8D70-0844A126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D4C-02CD-4A1F-99BB-9DF2DF6E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204-8CED-47E1-BB20-14F56431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97E-9CD9-4CA0-BCE8-92544591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50F-D576-45A2-A0A3-7BA54FA8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D97-BEE8-447C-896C-AB528B30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275-17EE-430F-9CA6-7041E439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D24-7022-4FF2-BBC9-940B2F64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252-3246-4F4B-8522-2C068064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787-0C26-40C0-91E8-42AC28C5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509-B707-439B-BE54-1CF04BD8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91B-3B58-4A0C-A56A-5E6918E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D990-FE67-4346-B895-185131B9E1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378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8380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忽然听到炉子里有什么东西沙沙直响。我们急忙把通风口打开，只见松鼠像粒子弹似的从里头蹿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uā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了出来，跳到了大柜顶上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炉子里的烟直往屋子里冒，而烟囱口却不见一丝烟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结果，哥哥从烟囱里掏出一只手套，还有奶奶过节时才舍得戴的头巾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274320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马上跑去告诉了爸爸：“原来松鼠才是                                        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               ，说：“我怎么没想到这一点呢！                     是在储备冬粮呢。森林里的松鼠到了秋天，就要开始储备冬粮。这是松鼠的        ，                 自然也               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13904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              ……</a:t>
            </a: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有一回，餐柜里的方糖不见了，妈妈把我们几个孩子叫去问，我们谁也不知道。爸爸说我们不诚实，一星期不许吃糖。</a:t>
            </a:r>
            <a:br>
              <a:rPr sz="2400"/>
            </a:b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      （后来）我踩着椅子往大柜顶上瞧，那儿放着妈妈的一顶帽子。我拿起帽子，不由得大吃一惊——那帽子下面什么都有！方糖，纸包糖，还有面包皮和各种各样的小骨头…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3225960"/>
            <a:ext cx="46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家那个不诚实的孩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0320" y="36702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哈哈大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7024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咱们家的松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11560" y="51688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咱们的松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75320" y="515628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甘落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156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960" y="3225960"/>
            <a:ext cx="46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我们家那个不诚实的孩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17720" y="36702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哈哈大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16556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咱们家的松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156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天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11560" y="5168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咱们的松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7920" y="5160960"/>
            <a:ext cx="18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甘落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798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爸爸忽然在书房里惊叫起来：“快来看！”我们跑过去，眼前的景象真是让人哭笑不得：墙上的那副鹿角上挂满了蘑菇；不仅鹿角上，搭手巾的架子上、镜子后面、油画上面，到处是蘑菇。原来松鼠起了个大早，忙活了一个早晨，把蘑菇全晾上了。它想晾干了留着给自己过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天，当阳光还温暖地照耀着大地的时候，森林里的松鼠总是把蘑菇高高地挂在树枝上晾干。我们家的松鼠也这样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3749400"/>
            <a:ext cx="8381880" cy="2653560"/>
            <a:chOff x="457200" y="3749400"/>
            <a:chExt cx="8381880" cy="2653560"/>
          </a:xfrm>
        </p:grpSpPr>
        <p:sp>
          <p:nvSpPr>
            <p:cNvPr id="91" name=""/>
            <p:cNvSpPr/>
            <p:nvPr/>
          </p:nvSpPr>
          <p:spPr>
            <a:xfrm>
              <a:off x="457200" y="3749400"/>
              <a:ext cx="8381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爸爸明白是松鼠把蘑菇都晾在鹿角上了之后，（               ）地说：“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        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                                                   ”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48769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362320"/>
            <a:ext cx="8381880" cy="3581280"/>
          </a:xfrm>
          <a:prstGeom prst="rect">
            <a:avLst/>
          </a:prstGeom>
          <a:solidFill>
            <a:srgbClr val="99ff66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76212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天，当阳光还温暖地照耀着大地的时候，森林里的松鼠总是把蘑菇高高地挂在树枝上晾干。我们家的松鼠也这样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514600"/>
            <a:ext cx="790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愣了半晌，我终于憋不住笑出了声：“这小家伙，倒挺勤快的，想必是忙活了一个早晨吧！哎，爸爸，它这是在晾蘑菇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爸爸笑着说：“是啊！它想晾干了留着自己过冬呢！阳光温暖的秋天，森林里的松鼠总是把蘑菇高高地挂在树枝上晾干。咱们家的松鼠岂能落后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338840"/>
            <a:ext cx="8543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忽然听到炉子里有什么东西沙沙直响。我们急忙把通风口打开，只见松鼠像粒子弹似的从里头蹿（</a:t>
            </a: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cuān</a:t>
            </a: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）了出来，跳到了大柜顶上。</a:t>
            </a:r>
            <a:br>
              <a:rPr sz="2400"/>
            </a:b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       炉子里的烟直往屋子里冒，而烟囱口却不见一丝烟。</a:t>
            </a:r>
            <a:br>
              <a:rPr sz="2400"/>
            </a:b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       结果，哥哥从烟囱里掏出一只手套，还有奶奶过节时才舍得戴的头巾。</a:t>
            </a:r>
            <a:br>
              <a:rPr sz="24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原来，松鼠把这些东西叼到烟囱里给自己垫窝了。唉，它是从森林里来的，住在我们家里，还保留着老习惯。它天性这样，跟它说住在我们的房子里不会冷，是没有用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040640"/>
            <a:ext cx="8238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哥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奶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4648320"/>
            <a:ext cx="6400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5943600"/>
            <a:ext cx="632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4550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1338840"/>
            <a:ext cx="8543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忽然听到炉子里有什么东西沙沙直响。我们急忙把通风口打开，只见松鼠像粒子弹似的从里头蹿（</a:t>
            </a: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cuān</a:t>
            </a: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）了出来，跳到了大柜顶上。</a:t>
            </a:r>
            <a:br>
              <a:rPr sz="2400"/>
            </a:b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       炉子里的烟直往屋子里冒，而烟囱口却不见一丝烟。</a:t>
            </a:r>
            <a:br>
              <a:rPr sz="2400"/>
            </a:br>
            <a:r>
              <a:rPr b="1" lang="zh-CN" sz="2400" spc="-1" strike="noStrike">
                <a:solidFill>
                  <a:srgbClr val="c0c0c0"/>
                </a:solidFill>
                <a:latin typeface="Arial"/>
              </a:rPr>
              <a:t>       结果，哥哥从烟囱里掏出一只手套，还有奶奶过节时才舍得戴的头巾。</a:t>
            </a:r>
            <a:br>
              <a:rPr sz="24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原来，松鼠把这些东西叼到烟囱里给自己垫窝了。唉，它是从森林里来的，住在我们家里，还保留着老习惯。它天性这样，跟它说住在我们的房子里不会冷，是没有用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040640"/>
            <a:ext cx="8238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哥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奶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648320"/>
            <a:ext cx="624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943600"/>
            <a:ext cx="6400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144792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后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较《跑进家来的松鼠》与五上年级所学的《松鼠》一课的异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2193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准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贮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3048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蹿了出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89520" y="30733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烟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3073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空落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7960" y="25146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z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514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590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590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066680"/>
            <a:ext cx="8076960" cy="35053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27160" y="1622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143000"/>
            <a:ext cx="7696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读下面的课文，说说松鼠在“我”家做了哪些事，你从中体会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66680" y="1371600"/>
          <a:ext cx="7162920" cy="441324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松鼠做的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发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感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907800" y="533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速浏览课文，列小标题，填写表格第一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10160" y="533520"/>
            <a:ext cx="529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速默读课文，摘录文中关键词语，填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”和“感受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66680" y="1752480"/>
          <a:ext cx="7162920" cy="403236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松鼠做的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发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感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储备冬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晾晒蘑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叼物垫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5800" y="1295280"/>
          <a:ext cx="7924680" cy="42609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1066680"/>
                <a:gridCol w="2286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发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感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原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松鼠做的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吃一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储备冬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篮子空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哭笑不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晾晒蘑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干脆失踪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空落落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叼物垫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762120" y="23623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糖不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3623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糖不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362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吃一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362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储备冬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429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篮子空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3429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哭笑不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3429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晾晒蘑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干脆失踪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空落落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叼物垫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24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85800" y="1295280"/>
          <a:ext cx="7924680" cy="42609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1066680"/>
                <a:gridCol w="2286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发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感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原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松鼠做的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方糖不见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大吃一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储备冬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篮子空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哭笑不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晾晒蘑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干脆失踪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空落落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叼物垫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762120" y="2362320"/>
            <a:ext cx="2361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22086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回，餐柜里的方糖不见了，妈妈把我们几个孩子叫去问，我们谁也不知道。爸爸说我们不诚实，一星期不许吃糖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（后来）我踩着椅子往大柜顶上瞧，那儿放着妈妈的一顶帽子。我拿起帽子，不由得大吃一惊——那帽子下面什么都有！方糖，纸包糖，还有面包皮和各种各样的小骨头……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7524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爸忽然在书房里惊叫起来：“快来看！”我们跑过去，眼前的景象真是让人哭笑不得：墙上的那副鹿角上挂满了蘑菇；不仅鹿角上，搭手巾的架子上、镜子后面、油画上面，到处是蘑菇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09-25T22:44:48Z</dcterms:modified>
  <cp:revision>1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