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F4A-61D0-4FCE-9C21-8FAA818D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DF5-5BC3-44BE-AA31-E7A76AE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16B-0364-415E-B68C-90B7F393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849-8A9A-4D46-9557-38DE240C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93D7-2C0A-4855-9ED4-09800230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6A4-3FE1-4D52-B178-F31E0A9C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EFEA-D97B-4391-8A5D-A54319D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E2C-8D18-43EA-A8F7-BAA4FD9C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903B-2869-4473-A575-87962A0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264D-337C-45C3-9864-74244786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8FA-5893-4490-BE18-6BD4ECE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55A-A606-4BD2-8204-7E3C6DC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AAAD-DD3A-4995-813C-EFF93467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6639-88EE-450E-B735-6030C24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28A8-BEAE-4B3F-8A35-3021BCE2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BAAF-0A87-459B-81FD-E58DB975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5BE9-CA91-42A4-A259-B403A9B6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4AB-57AC-432A-8D65-D177771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D82-32E5-4206-8FBF-087177F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32E-5ABD-449E-BE59-3D65C89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47B-C855-4A83-BEA2-0B7B549F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185-A98B-4E5E-B615-48A1538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644-3F2C-46F2-9239-60B9D66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559-8D53-47DA-A420-CBCA459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15CB-597F-4876-97DE-A74233522FA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38C5-E69B-4BBB-A9D2-0DF164FB90D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520" y="507960"/>
            <a:ext cx="8244000" cy="595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158480"/>
            <a:ext cx="83916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小组内朗读课文，说说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: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这是一只什么样的松鼠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?</a:t>
            </a:r>
            <a:br>
              <a:rPr sz="60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松鼠在“我”家主要做了哪些事？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9440" y="431640"/>
            <a:ext cx="515916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导学一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: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整体把握课文内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08840" y="155520"/>
            <a:ext cx="1798560" cy="1808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储备  橱柜    哭笑不得  蹿  干脆  失踪  不甘落后    千方百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79400" y="669960"/>
            <a:ext cx="71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松鼠在“我”家主要做了哪些事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960" y="1757520"/>
            <a:ext cx="152100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跑进家来的松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0640" y="1743120"/>
            <a:ext cx="353880" cy="3852720"/>
          </a:xfrm>
          <a:custGeom>
            <a:avLst/>
            <a:gdLst>
              <a:gd name="textAreaLeft" fmla="*/ 226080 w 353880"/>
              <a:gd name="textAreaRight" fmla="*/ 354240 w 353880"/>
              <a:gd name="textAreaTop" fmla="*/ 100440 h 3852720"/>
              <a:gd name="textAreaBottom" fmla="*/ 3752280 h 38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08200" y="1779480"/>
            <a:ext cx="308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储备粮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57520" y="3341520"/>
            <a:ext cx="31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晾蘑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17640" y="4791240"/>
            <a:ext cx="35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给自己垫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4240" y="20620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1------11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7680" y="3586320"/>
            <a:ext cx="21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12-----15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45120" y="501984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16---20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3200" y="2676600"/>
            <a:ext cx="754524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对于这只跑进家来的松鼠，“我们一家人”对它的感情是怎样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20760" y="3824280"/>
            <a:ext cx="68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一家”对松鼠充满了喜爱之情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319880" y="5187960"/>
            <a:ext cx="1068480" cy="998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9440" y="431640"/>
            <a:ext cx="7316640" cy="14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导学二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: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体会情感     领悟写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11" name=""/>
          <p:cNvSpPr/>
          <p:nvPr/>
        </p:nvSpPr>
        <p:spPr>
          <a:xfrm>
            <a:off x="1366920" y="4870440"/>
            <a:ext cx="64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你从文中哪些地方可以看出来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4600" y="28116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9560" y="2708280"/>
            <a:ext cx="818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它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整天满屋乱跑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，在橱柜和架子上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跳来跳去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，动作灵活得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惊人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从来没有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楷体_GB2312"/>
              </a:rPr>
              <a:t>碰掉过一样东西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49600" y="0"/>
            <a:ext cx="4419720" cy="2589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0640" y="33984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4480" y="1324080"/>
            <a:ext cx="811224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有时，松鼠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跳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到我的肩上，用小嘴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蹭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(c</a:t>
            </a:r>
            <a:r>
              <a:rPr b="1" lang="en-US" sz="4800" spc="-1" strike="noStrike" u="sng">
                <a:solidFill>
                  <a:srgbClr val="0033cc"/>
                </a:solidFill>
                <a:uFillTx/>
                <a:latin typeface="Arial"/>
              </a:rPr>
              <a:t>è</a:t>
            </a:r>
            <a:r>
              <a:rPr b="1" lang="zh-CN" sz="4800" spc="-1" strike="noStrike" u="sng">
                <a:solidFill>
                  <a:srgbClr val="0033cc"/>
                </a:solidFill>
                <a:uFillTx/>
                <a:latin typeface="Arial"/>
              </a:rPr>
              <a:t>ng:</a:t>
            </a:r>
            <a:r>
              <a:rPr b="1" lang="zh-CN" sz="4800" spc="-1" strike="noStrike" u="sng">
                <a:solidFill>
                  <a:srgbClr val="0033cc"/>
                </a:solidFill>
                <a:uFillTx/>
                <a:latin typeface="Arial"/>
              </a:rPr>
              <a:t>摩擦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我的脸，还</a:t>
            </a:r>
            <a:r>
              <a:rPr b="1" lang="zh-CN" sz="48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轻轻咬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我的耳朵，我想它是又想吃糖了。可我又上哪儿给它找去呢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8200" y="176040"/>
            <a:ext cx="17143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0720" y="554040"/>
            <a:ext cx="4572000" cy="313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51400" y="169920"/>
            <a:ext cx="354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爸爸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哈哈大笑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，说：“我怎么没想到这一点呢！咱们家的松鼠是在储备冬粮呢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990960"/>
            <a:ext cx="804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森林里的松鼠到了秋天，就要开始储备冬粮。这是松鼠的天性，咱们的松鼠自然也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不甘落后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！”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思考理解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什么是天性？这种本能是否可以改变？从文中哪里看出来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22880" y="4508640"/>
            <a:ext cx="242280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94360" y="88920"/>
            <a:ext cx="3720960" cy="2181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2558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象一下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、如果把蘑菇从鹿角上摘下来，放在一边，会出现什么样的结果？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松鼠忙一个早晨，把蘑菇晾得家里到处都是，家里人会说些什么？假如我们看到松鼠晾晒的蘑菇，心情会怎样？从中体会出什么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79480" y="295200"/>
            <a:ext cx="171432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572"/>
                </a:solidFill>
                <a:latin typeface="Arial"/>
              </a:rPr>
              <a:t>想象：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、松鼠在森林里如何垫窝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、比较文中松鼠的垫窝方式，体会作者一家对松鼠的感情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92920" y="208080"/>
            <a:ext cx="1731960" cy="169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89080" y="11113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感受领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62520" y="2539800"/>
            <a:ext cx="45720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有一天，它干脆失踪了，哪儿也找不到。也许它跑到花园或森林里去了吧？我们心里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空落落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的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406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仿宋"/>
              </a:rPr>
              <a:t>就是这样一只跑进家来的松鼠，作者是怎样将喜爱之情写得真实具体呢？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你从文中哪些地方可以看出来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23280" y="5334120"/>
            <a:ext cx="1068120" cy="99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86840" y="160308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Arial"/>
              </a:rPr>
              <a:t>写法小结：作者是如何来对松鼠的喜爱之情的？用自己的话说说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" descr="osrQ9xH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93680" y="276120"/>
            <a:ext cx="3397320" cy="6581520"/>
            <a:chOff x="193680" y="276120"/>
            <a:chExt cx="3397320" cy="658152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93680" y="3494520"/>
              <a:ext cx="3397320" cy="336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255960" y="276120"/>
              <a:ext cx="3333240" cy="314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7036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快乐习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写一段话，选取有趣事例写出你（或者别人）和小动物之间的亲密情感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如果这只松鼠跑到你的家里，你会怎么做？把你想到的写下来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9800" y="1211400"/>
            <a:ext cx="8259840" cy="5118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139920" y="3343320"/>
            <a:ext cx="274176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再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90600"/>
            <a:ext cx="8692920" cy="6211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0040" y="709560"/>
            <a:ext cx="7389720" cy="520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82480" y="708120"/>
            <a:ext cx="8258400" cy="5513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1720" y="704880"/>
            <a:ext cx="7680240" cy="5396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73280" y="220680"/>
            <a:ext cx="6518160" cy="514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68160" y="5478480"/>
            <a:ext cx="72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如果有一只松鼠跑进你们家你会怎么对待它呢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90600" y="1263600"/>
            <a:ext cx="6276960" cy="24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2.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跑进家来的松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新课标第一网www.xkb1.com</dc:creator>
  <dc:description>新课标第一网www.xkb1.com</dc:description>
  <cp:keywords>新课标第一网www.xkb1.com</cp:keywords>
  <dc:language>en-US</dc:language>
  <cp:lastModifiedBy>Microsoft</cp:lastModifiedBy>
  <dcterms:modified xsi:type="dcterms:W3CDTF">2016-03-15T11:38:35Z</dcterms:modified>
  <cp:revision>845</cp:revision>
  <dc:subject>新课标第一网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