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AFA-81D7-4AF6-92D0-AB06635A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58E-110D-4715-91D8-E14CEB95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D5F-A43D-4143-BBB0-DAC7D5BA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8BF-FF22-40CA-9EB9-FAEB3D8A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0B5-A261-4A9E-BC61-EDBDAFE8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A24-76F0-4B62-BA39-7736AD3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4F9-A400-47E2-95D4-1230E4D3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81F-741C-4E5E-A2B8-169EF88D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979-4845-4676-BE93-7E089DFE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B80-D5D9-4009-B74B-78BB514A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C08-49B4-4204-BE44-B6023159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B24-09D5-4AA9-AB4F-8B2EAD3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A3E3-B380-4C96-8A19-8858282948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447840"/>
          <a:ext cx="7543800" cy="60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7840"/>
                    <a:ext cx="7543800" cy="60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98560" y="898560"/>
            <a:ext cx="519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      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将进酒 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君不见黄河之水天上来，奔流到海不复回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君不见高堂明镜悲白发，朝如青丝暮成雪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人生得意须尽欢，莫使金樽空对月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天生我材必有用，千金散尽还复来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烹羊宰牛且为乐，会须一饮三百杯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岑夫子、丹丘生：将进酒，杯莫停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与君歌一曲，请君为我倾耳听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钟鼓馔玉不足贵，但愿长醉不复醒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古来圣贤皆寂寞，惟有饮者留其名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陈王昔时宴平乐，斗酒十千恣欢谑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主人何为言少钱，径须沽取对君酌。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五花马，千金裘，呼儿将出换美酒， </a:t>
            </a:r>
            <a:br>
              <a:rPr sz="2000"/>
            </a:b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与尔同销万古愁。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838080"/>
            <a:ext cx="8458200" cy="5715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08764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诗人说到“古来圣贤皆寂寞，惟有饮者留其名。”为什么单举曹植为例？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6360" y="320040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隶书"/>
              </a:rPr>
              <a:t>钦佩他的才华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隶书"/>
              </a:rPr>
              <a:t>同情他的不幸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隶书"/>
              </a:rPr>
              <a:t>兼以自况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6280" y="380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李白2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5181480" cy="3708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321280" y="392040"/>
            <a:ext cx="407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文情感变化怎样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基调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5080" y="2124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95080" y="3281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95080" y="4424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71400" y="5567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692280"/>
            <a:ext cx="8458200" cy="5410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89000"/>
            <a:ext cx="3240000" cy="898560"/>
          </a:xfrm>
          <a:prstGeom prst="cloudCallout">
            <a:avLst>
              <a:gd name="adj1" fmla="val 44611"/>
              <a:gd name="adj2" fmla="val 8604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情感基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12560" y="4529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8960" y="278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愤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5260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520" y="3809880"/>
            <a:ext cx="10036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愤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73520" y="1359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763640" y="4365720"/>
            <a:ext cx="50472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08200" y="33847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87640" y="3284640"/>
            <a:ext cx="50472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067280" y="2278080"/>
            <a:ext cx="50472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6024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990720"/>
            <a:ext cx="8458200" cy="5410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75248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什么“愁”令李白难以释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要借酒来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2822400"/>
            <a:ext cx="7391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隶书"/>
              </a:rPr>
              <a:t>为自己怀才不遇而悲叹；</a:t>
            </a:r>
            <a:br>
              <a:rPr sz="4400"/>
            </a:b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隶书"/>
              </a:rPr>
              <a:t>为古来圣贤不得重用而悲叹。</a:t>
            </a:r>
            <a:r>
              <a:rPr b="1" lang="zh-CN" sz="4400" spc="-1" strike="noStrike">
                <a:solidFill>
                  <a:srgbClr val="993300"/>
                </a:solidFill>
                <a:latin typeface="隶书"/>
                <a:ea typeface="隶书"/>
              </a:rPr>
              <a:t>诗人不是一般的儿女愁情，而是对腐朽黑暗现实的悲叹。</a:t>
            </a: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6800" y="304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52320" y="320760"/>
            <a:ext cx="4569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维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请看杜甫是怎样劝李白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痛饮狂歌空度日，飞扬跋扈为谁雄？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               （《赠李白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、你怎样看待李白的生活态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、比较杜甫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和李白你有什么想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320" y="763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将进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1459080"/>
            <a:ext cx="2590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慷慨生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809520" y="2220840"/>
            <a:ext cx="18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830680"/>
            <a:ext cx="2590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畅饮尽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592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4278240"/>
            <a:ext cx="25905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愤激之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504036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5573880"/>
            <a:ext cx="251460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愁极狂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1535040"/>
            <a:ext cx="304560" cy="4648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970920" y="2590920"/>
            <a:ext cx="3210840" cy="35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豪放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是外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愤激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是内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59080"/>
            <a:ext cx="144756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基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153504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459080"/>
            <a:ext cx="152388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主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20400" y="2220840"/>
            <a:ext cx="3210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钟鼓馔玉不足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但愿长醉不复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1920" y="349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9092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写作技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752480"/>
            <a:ext cx="152388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修辞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48200"/>
            <a:ext cx="1600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用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419720"/>
            <a:ext cx="160020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表现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881600"/>
            <a:ext cx="15242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反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295280"/>
            <a:ext cx="1635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比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133720"/>
            <a:ext cx="15238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夸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971800"/>
            <a:ext cx="15238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借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14600" y="18288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5146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666880" y="4419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51814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1447920"/>
            <a:ext cx="457200" cy="4724280"/>
          </a:xfrm>
          <a:custGeom>
            <a:avLst/>
            <a:gdLst>
              <a:gd name="textAreaLeft" fmla="*/ 0 w 457200"/>
              <a:gd name="textAreaRight" fmla="*/ 16488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59400" y="1143000"/>
            <a:ext cx="2389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构思巧妙想象奇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944880"/>
            <a:ext cx="1600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比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69720" y="380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82680" y="14479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背诵全诗，写一篇鉴赏文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59092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981080" y="3505320"/>
            <a:ext cx="5029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63360">
                  <a:solidFill>
                    <a:srgbClr val="0099cc"/>
                  </a:solidFill>
                  <a:miter/>
                </a:ln>
                <a:solidFill>
                  <a:srgbClr val="336699"/>
                </a:solidFill>
                <a:latin typeface="隶书"/>
              </a:rPr>
              <a:t>再见</a:t>
            </a:r>
            <a:endParaRPr b="1" lang="en-US" sz="2400" spc="1" strike="noStrike">
              <a:ln w="63360">
                <a:solidFill>
                  <a:srgbClr val="0099cc"/>
                </a:solidFill>
                <a:miter/>
              </a:ln>
              <a:solidFill>
                <a:srgbClr val="336699"/>
              </a:solidFill>
              <a:latin typeface="隶书"/>
              <a:ea typeface="隶书"/>
            </a:endParaRPr>
          </a:p>
        </p:txBody>
      </p:sp>
    </p:spTree>
  </p:cSld>
  <p:transition spd="med" advTm="6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04920"/>
            <a:ext cx="137160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解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132084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《将进酒》原为汉乐府的曲调，即劝酒歌，</a:t>
            </a:r>
            <a:br>
              <a:rPr sz="3200"/>
            </a:b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此诗大约作于天宝十一年，距诗人被唐玄宗“赐金还乡”已达八年，岑勋、元丹丘是当时著名的隐士，据说，李白与友人岑勋在嵩山元丹丘的颍阳山居为客。他们登高畅饮，对酒高歌，畅抒满腔不平。</a:t>
            </a:r>
            <a:br>
              <a:rPr sz="3200"/>
            </a:b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李白借《将进酒》之调，吟出千古绝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92120" y="2360520"/>
            <a:ext cx="7366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樽                    馔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裘                     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恣                     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239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zū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8840" y="4983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z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5600" y="231624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zhu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581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qi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87800" y="345924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pē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9080" y="49068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xu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5120" y="1050840"/>
            <a:ext cx="21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朗读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5920"/>
            <a:ext cx="9144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准、解释下面的“将”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酒。②呼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换美酒。③爷娘闻女来，出郭相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④王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宁有种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⑤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彼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人不过十五六万。⑥一车炭，千余斤，宫使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得惜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无怒，秋以为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3213000"/>
            <a:ext cx="903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①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qiā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请；②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iā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拿；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iā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扶持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带兵的人；⑤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i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带领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⑥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iā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助词，在动词后，没实在意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iāng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希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李白" descr=""/>
          <p:cNvPicPr/>
          <p:nvPr/>
        </p:nvPicPr>
        <p:blipFill>
          <a:blip r:embed="rId1"/>
          <a:stretch/>
        </p:blipFill>
        <p:spPr>
          <a:xfrm>
            <a:off x="533520" y="1393920"/>
            <a:ext cx="7315200" cy="5235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57040" y="2057400"/>
            <a:ext cx="433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方正粗倩简体"/>
                <a:ea typeface="方正粗倩简体"/>
              </a:rPr>
              <a:t>1.</a:t>
            </a:r>
            <a:r>
              <a:rPr b="1" lang="zh-CN" sz="4400" spc="-1" strike="noStrike">
                <a:solidFill>
                  <a:srgbClr val="3333cc"/>
                </a:solidFill>
                <a:latin typeface="方正粗倩简体"/>
                <a:ea typeface="方正粗倩简体"/>
              </a:rPr>
              <a:t>以黄河起兴有何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2600" y="284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02880" y="1371600"/>
            <a:ext cx="4569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方正粗倩简体"/>
              </a:rPr>
              <a:t>感叹时光易逝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两联把天地人生都说到了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宋体"/>
              </a:rPr>
              <a:t>境界极其阔大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方正粗倩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73000" y="65160"/>
            <a:ext cx="53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面对时光流逝，作者首先想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   </a:t>
            </a:r>
            <a:r>
              <a:rPr b="0" lang="zh-CN" sz="4400" spc="-1" strike="noStrike">
                <a:solidFill>
                  <a:srgbClr val="3333cc"/>
                </a:solidFill>
                <a:latin typeface="隶书"/>
                <a:ea typeface="隶书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7800" y="198108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Times New Roman"/>
                <a:ea typeface="隶书"/>
              </a:rPr>
              <a:t>认为只要人生暂时得意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Times New Roman"/>
                <a:ea typeface="隶书"/>
              </a:rPr>
              <a:t>就可以纵情高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Times New Roman"/>
                <a:ea typeface="隶书"/>
              </a:rPr>
              <a:t>坚定信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36232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8880" y="228600"/>
            <a:ext cx="538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3333cc"/>
                </a:solidFill>
                <a:latin typeface="幼圆"/>
                <a:ea typeface="幼圆"/>
              </a:rPr>
              <a:t>.</a:t>
            </a:r>
            <a:r>
              <a:rPr b="1" lang="zh-CN" sz="4800" spc="-1" strike="noStrike">
                <a:solidFill>
                  <a:srgbClr val="3333cc"/>
                </a:solidFill>
                <a:latin typeface="幼圆"/>
                <a:ea typeface="幼圆"/>
              </a:rPr>
              <a:t>请找出体现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幼圆"/>
              </a:rPr>
              <a:t>全文主旨的诗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8560" y="1484280"/>
            <a:ext cx="520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幼圆"/>
                <a:ea typeface="幼圆"/>
              </a:rPr>
              <a:t>“</a:t>
            </a:r>
            <a:r>
              <a:rPr b="1" lang="zh-CN" sz="4000" spc="-1" strike="noStrike">
                <a:solidFill>
                  <a:srgbClr val="993300"/>
                </a:solidFill>
                <a:latin typeface="幼圆"/>
                <a:ea typeface="幼圆"/>
              </a:rPr>
              <a:t>钟鼓馔玉不足贵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幼圆"/>
                <a:ea typeface="幼圆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幼圆"/>
                <a:ea typeface="幼圆"/>
              </a:rPr>
              <a:t>但愿长醉不复醒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幼圆"/>
                <a:ea typeface="幼圆"/>
              </a:rPr>
              <a:t>寄托了作者怎样的情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幼圆"/>
                <a:ea typeface="幼圆"/>
              </a:rPr>
              <a:t>蔑视权贵愤世嫉俗的</a:t>
            </a: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鄙弃与憎恶</a:t>
            </a:r>
            <a:r>
              <a:rPr b="1" lang="zh-CN" sz="4400" spc="-1" strike="noStrike">
                <a:solidFill>
                  <a:srgbClr val="993300"/>
                </a:solidFill>
                <a:latin typeface="幼圆"/>
                <a:ea typeface="幼圆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993300"/>
                </a:solidFill>
                <a:latin typeface="幼圆"/>
                <a:ea typeface="幼圆"/>
              </a:rPr>
              <a:t>怀才不遇逃往酒乡的悲愁与无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展现诗人狂放不羁的个性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幼圆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8400" y="431640"/>
            <a:ext cx="44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援引典故，用意何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59360" y="1371600"/>
            <a:ext cx="790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陈王，即曹植。遭其兄曹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猜忌，监视，一生才学无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施展，遂借酒销愁。作者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赏其狂放不羁的性格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7:08:55Z</dcterms:created>
  <dc:creator>杨小林</dc:creator>
  <dc:description/>
  <dc:language>en-US</dc:language>
  <cp:lastModifiedBy>微软中国</cp:lastModifiedBy>
  <dcterms:modified xsi:type="dcterms:W3CDTF">2000-01-01T16:07:22Z</dcterms:modified>
  <cp:revision>107</cp:revision>
  <dc:subject/>
  <dc:title>PowerPoint 演示文稿</dc:title>
</cp:coreProperties>
</file>