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798-EDC2-4258-BDDB-05672CA1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23A-37C1-40B3-93AF-11E7F953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693-E51C-4E69-91D9-7A3EE7EF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354-34B8-4785-BBCF-62BE4F96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58D-38CC-4DC5-9E7A-28D4760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E04-0A2A-43D3-8D2C-CBDCEDBC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967-BC80-4D7A-9ECF-83AACAAC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8F3-2B7E-44AA-B21A-F4E34E6C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0FA-2A57-4F8A-ACA5-F32DEAB3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F43-733F-42C6-95B4-C1BB7E6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FFE-1CA4-4A12-985B-FF033F4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4D6-5865-4B76-812E-E1C55D36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360-F336-45A1-8240-07BBF3D3F3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ulib.com/Country/B12/B12-00-03/content/ppt/05.files/outline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x.net.cn/eschool/online/html/15/_private/caozhi2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zx.net.cn/eschool/online/html/15/_private/caozhi2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280"/>
            <a:ext cx="7486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ffff"/>
                </a:solidFill>
                <a:latin typeface="Tahoma"/>
              </a:rPr>
              <a:t>七步诗</a:t>
            </a:r>
            <a:br>
              <a:rPr sz="9600"/>
            </a:b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宋体-方正超大字符集"/>
              </a:rPr>
              <a:t>曹植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50527184952318"/>
          <p:cNvPicPr/>
          <p:nvPr/>
        </p:nvPicPr>
        <p:blipFill>
          <a:blip r:embed="rId1"/>
          <a:stretch/>
        </p:blipFill>
        <p:spPr>
          <a:xfrm>
            <a:off x="2627280" y="333360"/>
            <a:ext cx="375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KongRong2"/>
          <p:cNvPicPr/>
          <p:nvPr/>
        </p:nvPicPr>
        <p:blipFill>
          <a:blip r:embed="rId1"/>
          <a:stretch/>
        </p:blipFill>
        <p:spPr>
          <a:xfrm>
            <a:off x="2700360" y="0"/>
            <a:ext cx="388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slide0045_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907920"/>
            <a:ext cx="72723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402480"/>
            <a:ext cx="88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七步诗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煮豆持作羹，漉豉以为汁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萁向釜下然，豆在釜中泣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本是同根生，相煎何太急。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　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3860640"/>
            <a:ext cx="1619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nde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765000"/>
            <a:ext cx="3843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zhi"/>
          <p:cNvPicPr/>
          <p:nvPr/>
        </p:nvPicPr>
        <p:blipFill>
          <a:blip r:embed="rId1"/>
          <a:stretch/>
        </p:blipFill>
        <p:spPr>
          <a:xfrm>
            <a:off x="2771640" y="476280"/>
            <a:ext cx="2952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42960" y="2181240"/>
          <a:ext cx="625680" cy="24955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94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-828720" y="549360"/>
          <a:ext cx="9685440" cy="4968720"/>
        </p:xfrm>
        <a:graphic>
          <a:graphicData uri="http://schemas.openxmlformats.org/drawingml/2006/table">
            <a:tbl>
              <a:tblPr/>
              <a:tblGrid>
                <a:gridCol w="1428840"/>
                <a:gridCol w="8256600"/>
              </a:tblGrid>
              <a:tr h="49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相传曹植的哥哥魏文帝（曹丕），要他在七步之内作成一首诗，</a:t>
                      </a:r>
                      <a:br>
                        <a:rPr sz="4000"/>
                      </a:b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不然就要杀他的头，曹植愤然写了这首诗。豆和豆秸是同一个</a:t>
                      </a:r>
                      <a:br>
                        <a:rPr sz="4000"/>
                      </a:b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根上长出来的，好比同胞兄弟。豆秸燃烧起来把锅内的豆煮得</a:t>
                      </a:r>
                      <a:br>
                        <a:rPr sz="4000"/>
                      </a:b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哭泣不已。比喻兄长逼弟弟，十分贴切感人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xoxt"/>
          <p:cNvPicPr/>
          <p:nvPr/>
        </p:nvPicPr>
        <p:blipFill>
          <a:blip r:embed="rId1"/>
          <a:stretch/>
        </p:blipFill>
        <p:spPr>
          <a:xfrm>
            <a:off x="250920" y="189000"/>
            <a:ext cx="8424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30862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煮豆子正燃着豆秸，因煮熟豆子来做豆豉而使豆子渗出汁水。豆秸在锅下燃烧着，豆子正在锅里哭泣。本来我们是同一条根上生长出来的，你为什么要这样紧紧逼迫呢？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aima4"/>
          <p:cNvPicPr/>
          <p:nvPr/>
        </p:nvPicPr>
        <p:blipFill>
          <a:blip r:embed="rId1"/>
          <a:stretch/>
        </p:blipFill>
        <p:spPr>
          <a:xfrm>
            <a:off x="2195640" y="0"/>
            <a:ext cx="42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2:11:54Z</dcterms:created>
  <dc:creator>lenovo</dc:creator>
  <dc:description/>
  <dc:language>en-US</dc:language>
  <cp:lastModifiedBy>User</cp:lastModifiedBy>
  <dcterms:modified xsi:type="dcterms:W3CDTF">2014-12-13T09:41:37Z</dcterms:modified>
  <cp:revision>5</cp:revision>
  <dc:subject/>
  <dc:title>七步诗 </dc:title>
</cp:coreProperties>
</file>