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1E0-6C22-48E0-B894-5DE29BEB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223-0E88-4911-BA53-31F896B8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31D-B6E5-4B7B-BEE6-7DC0C71A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81A-A2B3-4103-ACAE-4AD742C8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248-C364-47EB-8D46-1CEEBAE5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FF60-D914-427C-93B5-96D1DFB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9E10-DBDD-405B-A163-369C732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1A3-1E54-44BF-9FD7-94B1DF11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DB1-187E-4602-B14C-23127FB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0A9C-2EE0-48FE-A2E6-7AB507E2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B281-E6EB-4E07-B99B-8765C77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414-A514-4950-8759-B126EE21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657B-C074-45EE-8F95-3854019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E9CA-BE05-4C12-958A-A30DA5C6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7E71-BC67-403C-B9F6-C4A7918A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E80-ED6E-4D95-95EC-2E79A40B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47B7-51D0-4FC6-84E6-89227857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C26-A907-419C-B8D1-BB0FE5B7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A83-5341-4968-A7A7-31EEDF0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8AB-D47C-4A38-AE6C-260245E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953-8043-40DC-BF8D-D168891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4F4-ADEC-4F87-8BC1-AC282E8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93B-83C4-435E-B331-0520029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8B9-7309-44E7-8E2B-847720A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B49-04AB-4145-87A6-888F992D4E5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22CF-AE73-4743-A2A9-2EEC4E219DB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71640" y="1628640"/>
            <a:ext cx="6624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课程   新理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576360" cy="66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032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404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黑体"/>
              </a:rPr>
              <a:t>六年级语文下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5300640"/>
            <a:ext cx="383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古寨小学        授课教师：闫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064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作者简介 </a:t>
            </a: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　　曹植（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192-23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），字子建，曹操第四子，沛国谯（今安徽亳县）人，著名诗人。少年时就很有才华，得到曹操的喜爱，因此受到他的哥哥曹丕的猜忌，后来郁郁而死。他的诗语言精练，词采优美，是建安时期的代表诗人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5084640"/>
            <a:ext cx="43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Adobe 宋体 Std L"/>
              </a:rPr>
              <a:t>天下才共有一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Adobe 宋体 Std L"/>
              </a:rPr>
              <a:t>曹子建独得八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527880" y="59342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30680" y="593424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35640" y="5934240"/>
            <a:ext cx="995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40240" y="59342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3040" y="593424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59342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27880" y="55389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553896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j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35640" y="5538960"/>
            <a:ext cx="99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tà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40240" y="55389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h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553896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jiā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5389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xiā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27880" y="496080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30680" y="4960800"/>
            <a:ext cx="997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35640" y="4960800"/>
            <a:ext cx="995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40240" y="496080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3040" y="4960800"/>
            <a:ext cx="997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96080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27880" y="456552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30680" y="456552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shē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5640" y="4565520"/>
            <a:ext cx="99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gē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40240" y="456552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tó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43040" y="456552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sh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456552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bě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27880" y="398772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0680" y="398772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35640" y="3987720"/>
            <a:ext cx="995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40240" y="398772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43040" y="398772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98772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27880" y="35924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30680" y="359244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q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5640" y="3592440"/>
            <a:ext cx="99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zhō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40240" y="35924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f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43040" y="359244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zà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5924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dò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27880" y="30146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30680" y="301464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5640" y="3014640"/>
            <a:ext cx="995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0240" y="30146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43040" y="301464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01464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27880" y="26193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30680" y="261936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r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35640" y="2619360"/>
            <a:ext cx="99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xi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0240" y="26193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f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43040" y="261936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zà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261936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q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27880" y="204156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0680" y="204156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35640" y="2041560"/>
            <a:ext cx="995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40240" y="204156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3040" y="2041560"/>
            <a:ext cx="997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041560"/>
            <a:ext cx="995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27880" y="1633680"/>
            <a:ext cx="995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0680" y="1633680"/>
            <a:ext cx="997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zh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35640" y="1633680"/>
            <a:ext cx="995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wé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40240" y="1633680"/>
            <a:ext cx="995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y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3040" y="1633680"/>
            <a:ext cx="997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ch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633680"/>
            <a:ext cx="995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l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27880" y="105552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30680" y="1055520"/>
            <a:ext cx="997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35640" y="1055520"/>
            <a:ext cx="995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40240" y="105552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43040" y="1055520"/>
            <a:ext cx="997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055520"/>
            <a:ext cx="995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6602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6421a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0680" y="66024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q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5640" y="660240"/>
            <a:ext cx="99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dò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40240" y="6602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rá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3040" y="660240"/>
            <a:ext cx="9972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dò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660240"/>
            <a:ext cx="995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6421a"/>
                </a:solidFill>
                <a:latin typeface="Arial"/>
              </a:rPr>
              <a:t>zh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66024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651204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328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05552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304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492000" y="660240"/>
            <a:ext cx="47880" cy="619776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3564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3068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7880" y="660240"/>
            <a:ext cx="0" cy="58518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163368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204156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261936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3014640"/>
            <a:ext cx="5977080" cy="5400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359244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07664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456552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496080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553896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5934240"/>
            <a:ext cx="5975640" cy="0"/>
          </a:xfrm>
          <a:prstGeom prst="line">
            <a:avLst/>
          </a:prstGeom>
          <a:ln cap="rnd"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51360" y="1916280"/>
            <a:ext cx="182628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Arial"/>
                <a:ea typeface="黑体"/>
              </a:rPr>
              <a:t>七步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740720" y="5661000"/>
            <a:ext cx="140328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8741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2989440" y="-1179360"/>
            <a:ext cx="13681080" cy="871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11280" y="836640"/>
            <a:ext cx="74152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楷体_GB2312"/>
              </a:rPr>
              <a:t>煮豆持作羹，漉豉以为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句意为：把豆子的残渣过滤出去，留下豆汁作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楷体_GB2312"/>
              </a:rPr>
              <a:t>其在釜下然，豆在釜中泣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句意为：豆秸在锅底下燃烧，豆子在锅中哭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楷体_GB2312"/>
              </a:rPr>
              <a:t>本自同根生，相煎何太急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句意为：咱们本来是从同一个根上长出来  的，你为什么煎熬的我这样急迫啊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0" y="0"/>
            <a:ext cx="6805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总结中心：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700280"/>
            <a:ext cx="80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楷体_GB2312"/>
              </a:rPr>
              <a:t>《七步诗》借物抒情，诗人借燃萁煮豆这一日常生活现象，抒发了对手足相残的悲愤与无奈，也发出了理直气壮的斥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0" y="189000"/>
            <a:ext cx="450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各抒己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1846080" y="22050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兄弟姐妹之间应如何相处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1548000" cy="1096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8320" y="260280"/>
            <a:ext cx="739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课后作业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        </a:t>
            </a:r>
            <a:r>
              <a:rPr b="1" i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哥哥，我想对你说</a:t>
            </a:r>
            <a:r>
              <a:rPr b="1" i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~~~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8032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24000" y="836640"/>
            <a:ext cx="8208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19080">
                  <a:solidFill>
                    <a:srgbClr val="ff0066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宋体"/>
              </a:rPr>
              <a:t>欢迎指导</a:t>
            </a:r>
            <a:endParaRPr b="1" lang="en-US" sz="6600" spc="1" strike="noStrike">
              <a:ln cap="rnd" w="19080">
                <a:solidFill>
                  <a:srgbClr val="ff0066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宋体"/>
              <a:ea typeface="新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19080">
                  <a:solidFill>
                    <a:srgbClr val="ff0066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宋体"/>
              </a:rPr>
              <a:t>谢谢欣赏</a:t>
            </a:r>
            <a:endParaRPr b="1" lang="en-US" sz="6600" spc="1" strike="noStrike">
              <a:ln cap="rnd" w="19080">
                <a:solidFill>
                  <a:srgbClr val="ff0066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6:23:55Z</dcterms:created>
  <dc:creator>微软用户</dc:creator>
  <dc:description/>
  <dc:language>en-US</dc:language>
  <cp:lastModifiedBy>User</cp:lastModifiedBy>
  <dcterms:modified xsi:type="dcterms:W3CDTF">2014-12-13T09:41:53Z</dcterms:modified>
  <cp:revision>15</cp:revision>
  <dc:subject/>
  <dc:title>幻灯片 1</dc:title>
</cp:coreProperties>
</file>