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DC1-D9F4-4884-8180-072E1A66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C71-9483-49FC-AB90-BE472A5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9AC-80B2-4EAA-87B9-EFFBC061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454-CCB4-4A76-AC83-E63E5079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CE5-A9E5-4D30-A186-4D2CC652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6BA-642F-437D-984E-A8E150B8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081D-A466-4DF6-9629-F3A2D8F5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50FD-9CA4-444E-A518-36F35F3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0B7-F6B6-4D05-BA14-879A4091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526-1845-4945-A4B7-1973FA9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82C3-9912-4682-971B-134AA19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4CE-9EC6-4ED9-89F3-0817E93B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95B-5D2E-4A51-8FB4-15016F9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085-F521-46BA-A215-972B3E3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9917-146F-4930-B52B-2C12ACF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C363-409B-443F-A1CF-FA1F6FCC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BA9D-329A-41D5-A745-0B752A5C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DD-D50B-4720-A8E4-3F5B095B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BE6-0637-4612-85DA-F1A6E16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FD7-0B84-4B8F-A161-AA2D5C2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F50-A823-49C3-9D54-0CB8E25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A34-DA7B-401E-B995-16D36EB1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10D-689B-437D-A22D-80E59981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F21-4598-4F35-BC1A-8F28D9D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84D-33F9-4FE2-A554-E996F9133F4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3F4-4672-4FAB-9C34-96A1E505391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2676;&#26143;%20-%20&#19971;&#27493;&#35799;%20&#65288;&#26361;&#26893;&#30340;&#27468;&#65289;.mp3" TargetMode="External"/><Relationship Id="rId2" Type="http://schemas.openxmlformats.org/officeDocument/2006/relationships/hyperlink" Target="file:///&#32676;&#26143;%20-%20&#19971;&#27493;&#35799;%20&#65288;&#26361;&#26893;&#30340;&#27468;&#65289;.mp3" TargetMode="External"/><Relationship Id="rId3" Type="http://schemas.openxmlformats.org/officeDocument/2006/relationships/hyperlink" Target="file:///&#32676;&#26143;%20-%20&#19971;&#27493;&#35799;%20&#65288;&#26361;&#26893;&#30340;&#27468;&#65289;.mp3" TargetMode="External"/><Relationship Id="rId4" Type="http://schemas.openxmlformats.org/officeDocument/2006/relationships/hyperlink" Target="file:///&#32676;&#26143;%20-%20&#19971;&#27493;&#35799;%20&#65288;&#26361;&#26893;&#30340;&#27468;&#65289;.mp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2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3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4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5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6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7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2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3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4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5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6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7" Type="http://schemas.openxmlformats.org/officeDocument/2006/relationships/hyperlink" Target="file:///&#19971;&#27493;&#35799;(&#21016;&#27426;)(&#26361;&#26893;&#20043;&#27468;&#12289;&#26361;&#19989;&#31713;&#27721;&#25554;&#26354;).flv" TargetMode="Externa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2676;&#26143;%20-%20&#19971;&#27493;&#35799;%20&#65288;&#26361;&#26893;&#30340;&#27468;&#65289;.mp3" TargetMode="External"/><Relationship Id="rId2" Type="http://schemas.openxmlformats.org/officeDocument/2006/relationships/hyperlink" Target="file:///&#32676;&#26143;%20-%20&#19971;&#27493;&#35799;%20&#65288;&#26361;&#26893;&#30340;&#27468;&#65289;.mp3" TargetMode="External"/><Relationship Id="rId3" Type="http://schemas.openxmlformats.org/officeDocument/2006/relationships/hyperlink" Target="file:///&#32676;&#26143;%20-%20&#19971;&#27493;&#35799;%20&#65288;&#26361;&#26893;&#30340;&#27468;&#65289;.mp3" TargetMode="External"/><Relationship Id="rId4" Type="http://schemas.openxmlformats.org/officeDocument/2006/relationships/hyperlink" Target="file:///&#32676;&#26143;%20-%20&#19971;&#27493;&#35799;%20&#65288;&#26361;&#26893;&#30340;&#27468;&#65289;.mp3" TargetMode="External"/><Relationship Id="rId5" Type="http://schemas.openxmlformats.org/officeDocument/2006/relationships/hyperlink" Target="file:///&#32676;&#26143;%20-%20&#19971;&#27493;&#35799;%20&#65288;&#26361;&#26893;&#30340;&#27468;&#65289;.mp3" TargetMode="External"/><Relationship Id="rId6" Type="http://schemas.openxmlformats.org/officeDocument/2006/relationships/hyperlink" Target="file:///&#32676;&#26143;%20-%20&#19971;&#27493;&#35799;%20&#65288;&#26361;&#26893;&#30340;&#27468;&#65289;.mp3" TargetMode="External"/><Relationship Id="rId7" Type="http://schemas.openxmlformats.org/officeDocument/2006/relationships/hyperlink" Target="file:///&#32676;&#26143;%20-%20&#19971;&#27493;&#35799;%20&#65288;&#26361;&#26893;&#30340;&#27468;&#65289;.mp3" TargetMode="External"/><Relationship Id="rId8" Type="http://schemas.openxmlformats.org/officeDocument/2006/relationships/hyperlink" Target="file:///&#32676;&#26143;%20-%20&#19971;&#27493;&#35799;%20&#65288;&#26361;&#26893;&#30340;&#27468;&#65289;.mp3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476360" y="2923920"/>
            <a:ext cx="741672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三国    曹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 Black"/>
              </a:rPr>
              <a:t>七步诗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群星 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- 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七步诗 （曹植的歌）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.mp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Arial Black"/>
              </a:rPr>
              <a:t>      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Arial Black"/>
              </a:rPr>
              <a:t>      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2771640" y="2924280"/>
            <a:ext cx="51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Arial Black"/>
              </a:rPr>
              <a:t>再见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71640" y="907920"/>
            <a:ext cx="6400800" cy="26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 Black"/>
              </a:rPr>
              <a:t>字字入目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 Black"/>
              </a:rPr>
              <a:t>句句入心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 Black"/>
              </a:rPr>
              <a:t>声声入耳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 Black"/>
              </a:rPr>
              <a:t>七步诗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                                                        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三国    曹植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煮豆持作羹，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漉菽以为汁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萁在釜下燃，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豆在釜中泣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本是同根生，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相煎何太急？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七步诗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(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刘欢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)(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曹植之歌、曹丕篡汉插曲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).</a:t>
            </a:r>
            <a:r>
              <a:rPr b="0" lang="zh-CN" sz="4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flv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三国演义  第七十九回的片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萁在釜下燃，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豆在釜中泣。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本是同根生，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相煎何太急？ 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8147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8800" spc="-1" strike="noStrike">
                <a:solidFill>
                  <a:srgbClr val="ffcc00"/>
                </a:solidFill>
                <a:latin typeface="Arial Black"/>
              </a:rPr>
              <a:t>本是同根生，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8800" spc="-1" strike="noStrike">
                <a:solidFill>
                  <a:srgbClr val="ffcc00"/>
                </a:solidFill>
                <a:latin typeface="Arial Black"/>
              </a:rPr>
              <a:t>相煎何太急？ 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七步诗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刘欢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)(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曹植之歌、曹丕篡汉插曲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).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fl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243000"/>
            <a:ext cx="82072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zh-CN" sz="3600" spc="-1" strike="noStrike">
                <a:solidFill>
                  <a:srgbClr val="af273e"/>
                </a:solidFill>
                <a:latin typeface="Arial Black"/>
              </a:rPr>
              <a:t>阅读链接：</a:t>
            </a: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      </a:t>
            </a:r>
            <a:br>
              <a:rPr sz="6000"/>
            </a:b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反七步诗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1620720" y="115920"/>
            <a:ext cx="10298160" cy="69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                 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煮豆燃豆萁，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豆熟萁已灰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熟者席上珍，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灰作田中肥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不为同根生，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缘何甘自毁？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群星 </a:t>
            </a:r>
            <a:r>
              <a:rPr b="0" lang="zh-CN" sz="7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- </a:t>
            </a:r>
            <a:r>
              <a:rPr b="0" lang="zh-CN" sz="7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七步诗 （曹植的歌）</a:t>
            </a:r>
            <a:r>
              <a:rPr b="0" lang="zh-CN" sz="7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.mp3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群星 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- 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七步诗 （曹植的歌）</a:t>
            </a:r>
            <a:r>
              <a:rPr b="0" lang="zh-CN" sz="32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.mp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3:52:18Z</dcterms:created>
  <dc:creator>User</dc:creator>
  <dc:description/>
  <dc:language>en-US</dc:language>
  <cp:lastModifiedBy>User</cp:lastModifiedBy>
  <dcterms:modified xsi:type="dcterms:W3CDTF">2014-12-13T09:42:11Z</dcterms:modified>
  <cp:revision>16</cp:revision>
  <dc:subject/>
  <dc:title>幻灯片 1</dc:title>
</cp:coreProperties>
</file>