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088-C45E-46FF-9525-986295D5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F46-E7F2-445B-8DE8-CCFC8B6D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611-7A58-4F9D-83E2-FDBF9C38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E44-AB6A-4260-8499-569941F5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E74-AD63-4112-8FE6-774555A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9BE-B224-4956-B79B-BA84CAA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4CC-2F76-4BD0-9B42-50C9A6A3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110-4903-499A-819F-B14BF9A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FEA-9BB4-4C62-B953-A3B8044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542-5B79-46AE-976C-9EEA2DC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4F0-3E64-4ADD-9FED-0EE8274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FE6-94F2-4815-9337-8D2E527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272C-5ADD-4CC2-A6A2-FC13932EE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41559" b="0"/>
          <a:stretch/>
        </p:blipFill>
        <p:spPr>
          <a:xfrm>
            <a:off x="3924360" y="590400"/>
            <a:ext cx="4174920" cy="52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16000" y="1052640"/>
            <a:ext cx="10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>
                    <a:alpha val="55000"/>
                  </a:srgbClr>
                </a:solidFill>
                <a:latin typeface="叶根友特楷简体"/>
              </a:rPr>
              <a:t>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>
                  <a:alpha val="55000"/>
                </a:srgbClr>
              </a:solidFill>
              <a:latin typeface="叶根友特楷简体"/>
              <a:ea typeface="叶根友特楷简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4360" y="2205000"/>
            <a:ext cx="93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迷你简粗行楷"/>
              </a:rPr>
              <a:t>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迷你简粗行楷"/>
              <a:ea typeface="迷你简粗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2000" y="3429000"/>
            <a:ext cx="1008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5e75"/>
                    </a:gs>
                    <a:gs pos="100000">
                      <a:srgbClr val="00cc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经典趣体简"/>
              </a:rPr>
              <a:t>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5e75"/>
                  </a:gs>
                  <a:gs pos="100000">
                    <a:srgbClr val="00cc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经典趣体简"/>
              <a:ea typeface="经典趣体简"/>
            </a:endParaRPr>
          </a:p>
        </p:txBody>
      </p:sp>
      <p:sp>
        <p:nvSpPr>
          <p:cNvPr id="45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76360" y="333360"/>
            <a:ext cx="54007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汉仪菱心体简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汉仪菱心体简"/>
              </a:rPr>
              <a:t>七步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隶书"/>
              </a:rPr>
              <a:t>曹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煮豆持作羹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漉菽以为汁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萁在釜下燃</a:t>
            </a: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豆在釜中泣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本自同根生</a:t>
            </a: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5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煎何太急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76720" y="119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ē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492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198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3284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84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5367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ji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83664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羹：古人吃羊羔肉，大补。诗中类似八宝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184464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漉：锯断鹿骨头作过滤酒的酒器。诗中为动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词，过滤。现在也用，如“湿漉漉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3141720"/>
            <a:ext cx="74883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菽：豆的总称。五谷丰登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稻、麦、菽、黍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粟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36572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萁：植物的茎。如玉米杆，可当柴火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73160" y="522936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釜：锅。如釜底抽薪、破釜沉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08080" y="6093000"/>
            <a:ext cx="42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煎：煎饼。煎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6908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sh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5672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s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12560" y="2421360"/>
            <a:ext cx="456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南朝诗人谢灵运说：“天下才有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石，曹子建（曹植）独占八斗，我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斗，天下共分一斗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1124640"/>
            <a:ext cx="2521080" cy="77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华文彩云"/>
                <a:ea typeface="华文彩云"/>
              </a:rPr>
              <a:t>才高八斗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55640" y="1125360"/>
            <a:ext cx="324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元</a:t>
            </a: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·</a:t>
            </a: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关汉卿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/>
          <p:nvPr/>
        </p:nvSpPr>
        <p:spPr>
          <a:xfrm>
            <a:off x="3981600" y="2924280"/>
            <a:ext cx="129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是个蒸不烂、煮不熟、捶不扁、炒不爆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响珰珰一粒铜豌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76720" y="1773360"/>
            <a:ext cx="2790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煮豆持作羹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漉菽以为汁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豆在釜中泣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萁在釜下乐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虽是同根生</a:t>
            </a: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该煎就得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斩草不除根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  <a:ea typeface="华文中宋"/>
              </a:rPr>
              <a:t>春风吹又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74000" y="2158200"/>
            <a:ext cx="416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弟子规　圣人训　首孝悌　次谨信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74000" y="3599640"/>
            <a:ext cx="416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兄道友　弟道恭　兄弟睦　孝在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370400" y="2336760"/>
            <a:ext cx="461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56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千里修书只为墙，让他三尺又何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华文中宋"/>
                <a:ea typeface="华文中宋"/>
              </a:rPr>
              <a:t>万里长城今犹在，不见当年秦始皇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9:20:54Z</dcterms:created>
  <dc:creator>luozq</dc:creator>
  <dc:description/>
  <dc:language>en-US</dc:language>
  <cp:lastModifiedBy>User</cp:lastModifiedBy>
  <dcterms:modified xsi:type="dcterms:W3CDTF">2014-12-13T09:42:20Z</dcterms:modified>
  <cp:revision>10</cp:revision>
  <dc:subject/>
  <dc:title>幻灯片 1</dc:title>
</cp:coreProperties>
</file>