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E:\外部文件\图片1.png"/>
          <p:cNvPicPr/>
          <p:nvPr/>
        </p:nvPicPr>
        <p:blipFill>
          <a:blip r:embed="rId2"/>
          <a:stretch/>
        </p:blipFill>
        <p:spPr>
          <a:xfrm>
            <a:off x="0" y="3943440"/>
            <a:ext cx="91440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그림 5" descr="메인3 바닥.png"/>
          <p:cNvPicPr/>
          <p:nvPr/>
        </p:nvPicPr>
        <p:blipFill>
          <a:blip r:embed="rId2"/>
          <a:stretch/>
        </p:blipFill>
        <p:spPr>
          <a:xfrm>
            <a:off x="0" y="4843440"/>
            <a:ext cx="9144000" cy="30024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Administrator\桌面\人七语上课题图\11窃读记.tif"/>
          <p:cNvPicPr/>
          <p:nvPr/>
        </p:nvPicPr>
        <p:blipFill>
          <a:blip r:embed="rId3"/>
          <a:stretch/>
        </p:blipFill>
        <p:spPr>
          <a:xfrm>
            <a:off x="0" y="1211400"/>
            <a:ext cx="9144000" cy="38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标题 1"/>
          <p:cNvSpPr/>
          <p:nvPr/>
        </p:nvSpPr>
        <p:spPr>
          <a:xfrm>
            <a:off x="0" y="7920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窃读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411120" y="206280"/>
            <a:ext cx="125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音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1177920" y="1327320"/>
            <a:ext cx="238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弹簧（     ）子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5391000" y="1414440"/>
            <a:ext cx="32133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创伤（        ）开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07320" y="1757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左大括号 7"/>
          <p:cNvSpPr/>
          <p:nvPr/>
        </p:nvSpPr>
        <p:spPr>
          <a:xfrm>
            <a:off x="1036800" y="1596960"/>
            <a:ext cx="247320" cy="80964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809640"/>
              <a:gd name="textAreaBottom" fmla="*/ 803520 h 8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6"/>
                  <a:pt x="10800" y="551"/>
                </a:cubicBezTo>
                <a:lnTo>
                  <a:pt x="10800" y="10249"/>
                </a:lnTo>
                <a:cubicBezTo>
                  <a:pt x="10800" y="10525"/>
                  <a:pt x="5400" y="10800"/>
                  <a:pt x="0" y="10800"/>
                </a:cubicBezTo>
                <a:cubicBezTo>
                  <a:pt x="5400" y="10800"/>
                  <a:pt x="10800" y="11076"/>
                  <a:pt x="10800" y="11351"/>
                </a:cubicBezTo>
                <a:lnTo>
                  <a:pt x="10800" y="21049"/>
                </a:lnTo>
                <a:cubicBezTo>
                  <a:pt x="10800" y="2132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4825080" y="18111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1641600" y="147312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1510920" y="21067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左大括号 11"/>
          <p:cNvSpPr/>
          <p:nvPr/>
        </p:nvSpPr>
        <p:spPr>
          <a:xfrm>
            <a:off x="5237280" y="1760400"/>
            <a:ext cx="249120" cy="766800"/>
          </a:xfrm>
          <a:custGeom>
            <a:avLst/>
            <a:gdLst>
              <a:gd name="textAreaLeft" fmla="*/ 159120 w 249120"/>
              <a:gd name="textAreaRight" fmla="*/ 249480 w 249120"/>
              <a:gd name="textAreaTop" fmla="*/ 6480 h 766800"/>
              <a:gd name="textAreaBottom" fmla="*/ 760320 h 7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5"/>
                </a:cubicBezTo>
                <a:lnTo>
                  <a:pt x="10800" y="10215"/>
                </a:lnTo>
                <a:cubicBezTo>
                  <a:pt x="10800" y="10508"/>
                  <a:pt x="5400" y="10800"/>
                  <a:pt x="0" y="10800"/>
                </a:cubicBezTo>
                <a:cubicBezTo>
                  <a:pt x="5400" y="10800"/>
                  <a:pt x="10800" y="11093"/>
                  <a:pt x="10800" y="11385"/>
                </a:cubicBezTo>
                <a:lnTo>
                  <a:pt x="10800" y="21015"/>
                </a:lnTo>
                <a:cubicBezTo>
                  <a:pt x="10800" y="213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778360" y="152388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u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5781600" y="21416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huà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8"/>
          <p:cNvSpPr/>
          <p:nvPr/>
        </p:nvSpPr>
        <p:spPr>
          <a:xfrm>
            <a:off x="3274920" y="3065400"/>
            <a:ext cx="238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分量（     ）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2704320" y="34956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左大括号 21"/>
          <p:cNvSpPr/>
          <p:nvPr/>
        </p:nvSpPr>
        <p:spPr>
          <a:xfrm>
            <a:off x="3151080" y="3370320"/>
            <a:ext cx="247680" cy="80964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809640"/>
              <a:gd name="textAreaBottom" fmla="*/ 803520 h 8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6"/>
                  <a:pt x="10800" y="551"/>
                </a:cubicBezTo>
                <a:lnTo>
                  <a:pt x="10800" y="10249"/>
                </a:lnTo>
                <a:cubicBezTo>
                  <a:pt x="10800" y="10525"/>
                  <a:pt x="5400" y="10800"/>
                  <a:pt x="0" y="10800"/>
                </a:cubicBezTo>
                <a:cubicBezTo>
                  <a:pt x="5400" y="10800"/>
                  <a:pt x="10800" y="11076"/>
                  <a:pt x="10800" y="11351"/>
                </a:cubicBezTo>
                <a:lnTo>
                  <a:pt x="10800" y="21049"/>
                </a:lnTo>
                <a:cubicBezTo>
                  <a:pt x="10800" y="2132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2"/>
          <p:cNvSpPr/>
          <p:nvPr/>
        </p:nvSpPr>
        <p:spPr>
          <a:xfrm>
            <a:off x="3569400" y="32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ià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"/>
          <p:cNvSpPr/>
          <p:nvPr/>
        </p:nvSpPr>
        <p:spPr>
          <a:xfrm>
            <a:off x="3612240" y="384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i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262080" y="311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语集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41440" y="811080"/>
            <a:ext cx="84531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平八稳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非常平稳；②形容说话、做事、写文章稳当；③形容做事只求稳妥，不出差错，缺乏进取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羞惭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到羞耻和惭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尴尬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境困难，不好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难堪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难以忍受。②难为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风凛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人敬畏的声势或气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目睽睽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的眼睛都注视着。睽睽，形容注视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煞有介事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真有这回事似的。煞，极、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291960" y="393840"/>
            <a:ext cx="8533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枉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不到任何收获，徒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贪婪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形容“我”渴求知识而不知道满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趣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好歹，不惹人讨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无其事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没有那回事似的，形容不动声色或漠不关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寝忘食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顾不得睡觉，忘记吃饭。形容非常专心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饥肠辘辘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非常饥饿。辘辘，形容肚子饿时发出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踉踉跄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路不稳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日梦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幻想根本不能实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6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5"/>
          <p:cNvSpPr/>
          <p:nvPr/>
        </p:nvSpPr>
        <p:spPr>
          <a:xfrm>
            <a:off x="331920" y="882720"/>
            <a:ext cx="8594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课文思考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记叙一件什么事？ “窃读”是什么意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给课文划分层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446040" y="463680"/>
            <a:ext cx="77914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主要讲述了“我”因无钱买书而偷偷躲在书店看书的故事。“窃读”意为“偷读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070000" y="1841400"/>
            <a:ext cx="497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段）叙述在紧邻“三阳春”的那家书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窃读”的经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672920" y="2884320"/>
            <a:ext cx="542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段）补叙“窃读”的起因以及经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55680" y="3591000"/>
            <a:ext cx="848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</a:t>
            </a:r>
            <a:r>
              <a:rPr b="1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9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段）叙述在另一家书店“窃读”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受到的关爱和支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73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文解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4"/>
          <p:cNvSpPr/>
          <p:nvPr/>
        </p:nvSpPr>
        <p:spPr>
          <a:xfrm>
            <a:off x="655560" y="1684440"/>
            <a:ext cx="7518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边默读课文边勾画出描写“我”是怎样“窃读”的句子，并且加以体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406440" y="998640"/>
            <a:ext cx="4290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品味“窃读”，感受渴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http://www.photophoto.cn/m24/096/001/0960010093.jpg"/>
          <p:cNvPicPr/>
          <p:nvPr/>
        </p:nvPicPr>
        <p:blipFill>
          <a:blip r:embed="rId2"/>
          <a:stretch/>
        </p:blipFill>
        <p:spPr>
          <a:xfrm>
            <a:off x="2847960" y="2631960"/>
            <a:ext cx="3370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569880" y="530280"/>
            <a:ext cx="7670880" cy="10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跨进书店门，暗喜没人注意。我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踮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起脚，使矮小的身体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挨蹭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过别的顾客和书柜的夹缝，从大人的腋下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钻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过去。哟，把短发弄乱了，没关系，我到底</a:t>
            </a:r>
            <a:r>
              <a:rPr b="1" lang="zh-CN" sz="2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挤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里边来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103840" y="266868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这些动词你感受到了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1027080" y="3254400"/>
            <a:ext cx="701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“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踮”“挨蹭”“钻”“挤”，一连串的动作描写体现出“我”十分急切的心情。我们从中也感受到“我”对读书的热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2"/>
          <p:cNvSpPr/>
          <p:nvPr/>
        </p:nvSpPr>
        <p:spPr>
          <a:xfrm>
            <a:off x="623880" y="669960"/>
            <a:ext cx="766908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页，两页，我如饥饿的瘦狼，贪婪地吞读下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76440" y="1492200"/>
            <a:ext cx="521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句话运用了什么修辞手法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676440" y="2146320"/>
            <a:ext cx="756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狼”给我们的印象总是不太美好的，而作者把自己比作“饥饿的瘦狼”，那样“贪婪地吞读”着，这样写有什么好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087960" y="1471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比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1041480" y="3478320"/>
            <a:ext cx="719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形象地刻画了“我”对于读书的深度渴望，如饥似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"/>
          <p:cNvSpPr/>
          <p:nvPr/>
        </p:nvSpPr>
        <p:spPr>
          <a:xfrm>
            <a:off x="662040" y="1560600"/>
            <a:ext cx="7350120" cy="569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很快乐，也很惧怕，这种窃读的滋味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343160" y="2523960"/>
            <a:ext cx="466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你是如何理解这句话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p0.so.qhimg.com/t0114a210b26704837f.jpg"/>
          <p:cNvPicPr/>
          <p:nvPr/>
        </p:nvPicPr>
        <p:blipFill>
          <a:blip r:embed="rId1"/>
          <a:stretch/>
        </p:blipFill>
        <p:spPr>
          <a:xfrm>
            <a:off x="6018120" y="2670120"/>
            <a:ext cx="2165400" cy="2185920"/>
          </a:xfrm>
          <a:prstGeom prst="rect">
            <a:avLst/>
          </a:prstGeom>
          <a:ln w="0">
            <a:noFill/>
          </a:ln>
        </p:spPr>
      </p:pic>
      <p:sp>
        <p:nvSpPr>
          <p:cNvPr id="189" name="矩形 4"/>
          <p:cNvSpPr/>
          <p:nvPr/>
        </p:nvSpPr>
        <p:spPr>
          <a:xfrm>
            <a:off x="355680" y="531720"/>
            <a:ext cx="7827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窃读”到底是什么样的滋味？请在文中找到原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568440" y="72864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这句话是本文的中心句，集中概括了窃读的百般感受，也是作者情感的集中体现。“我”渴望读书，而又无力购买，因此只好“窃读”。但所谓“窃”，也无非是只读不买。“我”在阅读中感受着书籍所带来的智慧与快乐，却时刻害怕被店员或老板发现受到训斥和哄赶，这种书内世界的吸引与沉迷，书外世界的担忧与紧张，使快乐与惧怕紧密地交织在一起，形成一种复杂的、难以言说的感受，正是窃读的滋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77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"/>
          <p:cNvSpPr/>
          <p:nvPr/>
        </p:nvSpPr>
        <p:spPr>
          <a:xfrm>
            <a:off x="433440" y="947880"/>
            <a:ext cx="827388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作者及其作品；学习本文生字生词；体会“记住，你是吃饭长大，读书长大，也是在爱里长大的！”的深刻含义。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点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两次“窃读”不同的经历，感受作者在两次“窃读”过程中的不同思想感情的变化。学习通过人物的神态、语言、动作、心理表现人物的写作方法。 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作者对读书的热爱、对知识的渴望，懂得对生活感恩。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点</a:t>
            </a:r>
            <a:r>
              <a:rPr b="1" lang="en-US" sz="2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2"/>
          <p:cNvSpPr/>
          <p:nvPr/>
        </p:nvSpPr>
        <p:spPr>
          <a:xfrm>
            <a:off x="665280" y="1157400"/>
            <a:ext cx="7788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从本文中你感受到“我”是怎样一个学生？从文中哪些语句中看出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677160" y="176040"/>
            <a:ext cx="1034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分析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793800" y="2306520"/>
            <a:ext cx="73515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“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我”是一个无力购买而又渴望读到那本书的穷学生，求知欲望强烈，却因为生活的贫穷而买不起书，只能无可奈何地到书店里“窃读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3451320" y="450720"/>
            <a:ext cx="10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華康少女文字 Std W7"/>
                <a:ea typeface="華康少女文字 Std W7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華康少女文字 Std W7"/>
                <a:ea typeface="華康少女文字 Std W7"/>
              </a:rPr>
              <a:t>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"/>
          <p:cNvSpPr/>
          <p:nvPr/>
        </p:nvSpPr>
        <p:spPr>
          <a:xfrm>
            <a:off x="695160" y="609480"/>
            <a:ext cx="7170840" cy="10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课从学校急急赶到这里，身上已经汗涔涔的，总算到达目的地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目的地可不是三阳春，而是紧邻它的一家书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89120" y="2293920"/>
            <a:ext cx="7589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用“不是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而是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</a:rPr>
              <a:t>……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句式，强调“精神食粮”更吸引“我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www.taopic.com/uploads/allimg/120224/37-12022409121092.jpg"/>
          <p:cNvPicPr/>
          <p:nvPr/>
        </p:nvPicPr>
        <p:blipFill>
          <a:blip r:embed="rId1"/>
          <a:stretch/>
        </p:blipFill>
        <p:spPr>
          <a:xfrm>
            <a:off x="4449600" y="2816280"/>
            <a:ext cx="296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798480" y="561960"/>
            <a:ext cx="716904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趁着慢步给脑子一个思索的机会：“昨天读到什么地方了？那女孩儿不知最后嫁给谁？那本书放在哪里？左角第三排，不错。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984240" y="2587680"/>
            <a:ext cx="4119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自语式的独白，突出了“我”一直对那本书念念不忘，可见“我”对书的痴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4916520" y="2287440"/>
            <a:ext cx="4199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770040" y="372960"/>
            <a:ext cx="717048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走到三阳春的门口，便可以看见书店里仍像往日那样挤满了顾客，我可以安心了。但是我又担忧那本书会不会卖光了，因为一连几天都看见有人买，昨天好像只剩下一两本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560520" y="2689200"/>
            <a:ext cx="758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看到书店顾客多时的“安心”与对书可能会卖光的“担忧”形成对比，写出了“我”喜忧参半的复杂心情，表现了“我”对书的痴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853920" y="2687760"/>
            <a:ext cx="717084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智慧之田丰收，而胃袋求救的时候，我便从口袋里掏出花生米来救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60520" y="3798720"/>
            <a:ext cx="778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运用比喻、拟人等修辞手法，描述了“我”独特的读书状态：物质贫乏、精神丰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979560" y="385920"/>
            <a:ext cx="717084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页，两页，我如饥饿的瘦狼，贪婪地吞读下去。我很快乐，也很惧怕，这种窃读的滋味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853920" y="1544760"/>
            <a:ext cx="7940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比喻中略带夸张。形象地刻画了“我”“窃读”的复杂心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355680" y="407880"/>
            <a:ext cx="789768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次从书店出来，我都像喝醉了酒似的，脑子被书中的人物所扰，踉踉跄跄，走路失去控制的能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457200" y="1741320"/>
            <a:ext cx="8029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运用夸张手法。形象地刻画了“我”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读书读到忘我的境界，如痴如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img.taopic.com/uploads/allimg/130909/240425-130ZZU5338.jpg"/>
          <p:cNvPicPr/>
          <p:nvPr/>
        </p:nvPicPr>
        <p:blipFill>
          <a:blip r:embed="rId1"/>
          <a:stretch/>
        </p:blipFill>
        <p:spPr>
          <a:xfrm>
            <a:off x="6053040" y="2365200"/>
            <a:ext cx="28893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549360" y="336600"/>
            <a:ext cx="7589880" cy="569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合上最后一页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咽了一口唾沫，好像所有的智慧都被我吞食下去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82680" y="1476360"/>
            <a:ext cx="8388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作者用“咽了一口唾沫”这样一个动作，写出了此时的“我”尽管是腿酸脚麻、饥肠辘辘，却在两个多钟头的饱读之后有一种满足感、充实感。这种窃读犹如一次精神的盛宴，收获了知识与智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p4.so.qhimg.com/t01684d8d73324b1cbe.gif"/>
          <p:cNvPicPr/>
          <p:nvPr/>
        </p:nvPicPr>
        <p:blipFill>
          <a:blip r:embed="rId1"/>
          <a:stretch/>
        </p:blipFill>
        <p:spPr>
          <a:xfrm>
            <a:off x="5645160" y="3021120"/>
            <a:ext cx="2494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194560" y="868320"/>
            <a:ext cx="374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下面句子中感受老板是个什么样的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541440" y="1327320"/>
            <a:ext cx="8294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庆幸它居然没有被卖出去，仍四平八稳地躺在书架上，专候我的光临。我多么高兴，又多么渴望地伸手去拿，但和我的手同时抵达的，还有一只巨掌，五个手指大大地分开来，压住了那本书的整个：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到底买不买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……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威风凛凛地俯视着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众目睽睽之下，我几乎是狼狈地跨出了店门，脚跟后面紧跟着的是老板的冷笑：“不是一回了！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998640" y="8100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书店老板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5072040" y="352440"/>
            <a:ext cx="48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粗暴、冷酷、唯利是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dministrator\桌面\人七语上课题图\人七插图\P83看书.tif"/>
          <p:cNvPicPr/>
          <p:nvPr/>
        </p:nvPicPr>
        <p:blipFill>
          <a:blip r:embed="rId1"/>
          <a:stretch/>
        </p:blipFill>
        <p:spPr>
          <a:xfrm>
            <a:off x="1611360" y="326880"/>
            <a:ext cx="633420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2214360" y="868320"/>
            <a:ext cx="374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从下面句子中感受店员是个什么样的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606600" y="1360440"/>
            <a:ext cx="82944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在这时，一个耳朵上架着铅笔的店员走过来了，看那样子是来招呼我的（我多么怕受人招待！）。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是一本书触着我的胳膊，轻轻地送到我的面前：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看吧，我多留了一天没有卖。”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远远的柜台旁，他向我轻轻地点点头，表示他已经知道我看完了，我默默地把书放回书架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992160" y="8100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书店店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5322960" y="35244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和蔼、体谅人；懂得关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8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"/>
          <p:cNvSpPr/>
          <p:nvPr/>
        </p:nvSpPr>
        <p:spPr>
          <a:xfrm>
            <a:off x="257040" y="1092240"/>
            <a:ext cx="8574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读过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南旧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吗？它的作者就是台湾女作者林海音。林海音小时候家境贫寒，却酷爱读书，她是怎样读完了一本又一本梦寐以求的书的呢？让我们一起走进课文，听听她的读书故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C:\Documents and Settings\Administrator\桌面\人七语上课题图\人七插图\P85给书.tif"/>
          <p:cNvPicPr/>
          <p:nvPr/>
        </p:nvPicPr>
        <p:blipFill>
          <a:blip r:embed="rId1"/>
          <a:stretch/>
        </p:blipFill>
        <p:spPr>
          <a:xfrm>
            <a:off x="1668600" y="311040"/>
            <a:ext cx="6094440" cy="4327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24000" y="533520"/>
            <a:ext cx="803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文章为什么要特别提到“书店老板”和“店员”这两个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15800" y="1425600"/>
            <a:ext cx="7371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书店老板的冷漠粗暴与店员的和蔼可亲形成鲜明对比，表现了“窃读”过程中受到关爱对“我”的影响之大，使“我”领悟了“爱”的真谛，感情经历了一个从“仇恨”到“爱”的过程，最终懂得了人“也是在爱里长大的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6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536400" y="304920"/>
            <a:ext cx="727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何理解“</a:t>
            </a: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记住，你是吃饭长大，读书长大，也是在爱里长大的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536400" y="1200240"/>
            <a:ext cx="7371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“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吃饭长大”指的是身体的物质需求，“读书长大”则是指精神的成长，心灵的成长。粮食哺育的是身体，而书籍哺育的是灵魂，一个只有知识与智慧不断增长的人，才是一个真正健康成长的人。人的成长需要物质食粮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吃饭；还需要精神食粮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读书；更需要社会关怀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人与人之间的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8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2"/>
          <p:cNvSpPr/>
          <p:nvPr/>
        </p:nvSpPr>
        <p:spPr>
          <a:xfrm>
            <a:off x="2405160" y="415800"/>
            <a:ext cx="72244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”为什么要“窃读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”遭遇了哪些事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”有着怎样的心理感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0"/>
          <p:cNvGrpSpPr/>
          <p:nvPr/>
        </p:nvGrpSpPr>
        <p:grpSpPr>
          <a:xfrm>
            <a:off x="204840" y="1250640"/>
            <a:ext cx="2473200" cy="2067480"/>
            <a:chOff x="204840" y="1250640"/>
            <a:chExt cx="2473200" cy="2067480"/>
          </a:xfrm>
        </p:grpSpPr>
        <p:sp>
          <p:nvSpPr>
            <p:cNvPr id="229" name="矩形 1"/>
            <p:cNvSpPr/>
            <p:nvPr/>
          </p:nvSpPr>
          <p:spPr>
            <a:xfrm>
              <a:off x="204840" y="1803240"/>
              <a:ext cx="631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直接箭头连接符 4"/>
            <p:cNvCxnSpPr/>
            <p:nvPr/>
          </p:nvCxnSpPr>
          <p:spPr>
            <a:xfrm flipV="1">
              <a:off x="1063080" y="1250640"/>
              <a:ext cx="1615320" cy="799200"/>
            </a:xfrm>
            <a:prstGeom prst="straightConnector1">
              <a:avLst/>
            </a:prstGeom>
            <a:ln w="4140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1" name="直接箭头连接符 5"/>
            <p:cNvCxnSpPr/>
            <p:nvPr/>
          </p:nvCxnSpPr>
          <p:spPr>
            <a:xfrm flipV="1">
              <a:off x="1216080" y="2201040"/>
              <a:ext cx="1342080" cy="1080"/>
            </a:xfrm>
            <a:prstGeom prst="straightConnector1">
              <a:avLst/>
            </a:prstGeom>
            <a:ln w="4140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2" name="直接箭头连接符 6"/>
            <p:cNvCxnSpPr/>
            <p:nvPr/>
          </p:nvCxnSpPr>
          <p:spPr>
            <a:xfrm>
              <a:off x="996480" y="2565360"/>
              <a:ext cx="1561320" cy="753120"/>
            </a:xfrm>
            <a:prstGeom prst="straightConnector1">
              <a:avLst/>
            </a:prstGeom>
            <a:ln w="4140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233" name="TextBox 13"/>
          <p:cNvSpPr/>
          <p:nvPr/>
        </p:nvSpPr>
        <p:spPr>
          <a:xfrm>
            <a:off x="5566320" y="15494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无力购买而又渴望读到那本书的穷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154400" y="248760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遭拒绝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受呵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3979800" y="3814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很快乐，也很惧怕，这种窃读的滋味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237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深入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1"/>
          <p:cNvSpPr/>
          <p:nvPr/>
        </p:nvSpPr>
        <p:spPr>
          <a:xfrm>
            <a:off x="257040" y="922320"/>
            <a:ext cx="856476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者在两次“窃读”中分别遭遇到了什么？把两次“窃读”的经历放在一起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窃读时遇到了粗暴、冷漠的老板，使“我”羞惭、尴尬，甚至产生了对人类的仇恨。第二次窃读读遇到了细腻、善解人意的店员，让“我”的心里充满了感激之情。作者把两次截然不同的“窃读”经历放在一起，目的是为了突出后一次“窃读”时得到的关爱、支持。平凡的生活中融入浓浓的爱，不经意的细节往往给了我们巨大的力量，希望同学们能够善于去发现、感悟生活中的美好和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2"/>
          <p:cNvSpPr/>
          <p:nvPr/>
        </p:nvSpPr>
        <p:spPr>
          <a:xfrm>
            <a:off x="3049560" y="1722600"/>
            <a:ext cx="247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藏身于顾客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借雨天读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242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结构梳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左大括号 12"/>
          <p:cNvSpPr/>
          <p:nvPr/>
        </p:nvSpPr>
        <p:spPr>
          <a:xfrm>
            <a:off x="2744640" y="1722600"/>
            <a:ext cx="258840" cy="1846080"/>
          </a:xfrm>
          <a:custGeom>
            <a:avLst/>
            <a:gdLst>
              <a:gd name="textAreaLeft" fmla="*/ 165600 w 258840"/>
              <a:gd name="textAreaRight" fmla="*/ 259200 w 258840"/>
              <a:gd name="textAreaTop" fmla="*/ 6480 h 1846080"/>
              <a:gd name="textAreaBottom" fmla="*/ 1839600 h 18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030400" y="110952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书店“窃读”受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835280" y="24145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窃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右大括号 2"/>
          <p:cNvSpPr/>
          <p:nvPr/>
        </p:nvSpPr>
        <p:spPr>
          <a:xfrm>
            <a:off x="5202360" y="1628640"/>
            <a:ext cx="434880" cy="1787760"/>
          </a:xfrm>
          <a:custGeom>
            <a:avLst/>
            <a:gdLst>
              <a:gd name="textAreaLeft" fmla="*/ 0 w 434880"/>
              <a:gd name="textAreaRight" fmla="*/ 156960 w 434880"/>
              <a:gd name="textAreaTop" fmla="*/ 11160 h 1787760"/>
              <a:gd name="textAreaBottom" fmla="*/ 1776600 h 17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9"/>
                  <a:pt x="10800" y="438"/>
                </a:cubicBezTo>
                <a:lnTo>
                  <a:pt x="10800" y="10362"/>
                </a:lnTo>
                <a:cubicBezTo>
                  <a:pt x="10800" y="10581"/>
                  <a:pt x="16200" y="10800"/>
                  <a:pt x="21600" y="10800"/>
                </a:cubicBezTo>
                <a:cubicBezTo>
                  <a:pt x="16200" y="10800"/>
                  <a:pt x="10800" y="11019"/>
                  <a:pt x="10800" y="11238"/>
                </a:cubicBezTo>
                <a:lnTo>
                  <a:pt x="10800" y="21162"/>
                </a:lnTo>
                <a:cubicBezTo>
                  <a:pt x="10800" y="2138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610240" y="1833480"/>
            <a:ext cx="18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惧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左大括号 18"/>
          <p:cNvSpPr/>
          <p:nvPr/>
        </p:nvSpPr>
        <p:spPr>
          <a:xfrm>
            <a:off x="1484280" y="1309680"/>
            <a:ext cx="477720" cy="2932200"/>
          </a:xfrm>
          <a:custGeom>
            <a:avLst/>
            <a:gdLst>
              <a:gd name="textAreaLeft" fmla="*/ 305280 w 477720"/>
              <a:gd name="textAreaRight" fmla="*/ 478080 w 477720"/>
              <a:gd name="textAreaTop" fmla="*/ 12240 h 2932200"/>
              <a:gd name="textAreaBottom" fmla="*/ 2919960 h 293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74640" y="209088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窃读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右大括号 3"/>
          <p:cNvSpPr/>
          <p:nvPr/>
        </p:nvSpPr>
        <p:spPr>
          <a:xfrm>
            <a:off x="6988320" y="1278000"/>
            <a:ext cx="434880" cy="2827440"/>
          </a:xfrm>
          <a:custGeom>
            <a:avLst/>
            <a:gdLst>
              <a:gd name="textAreaLeft" fmla="*/ 0 w 434880"/>
              <a:gd name="textAreaRight" fmla="*/ 156960 w 434880"/>
              <a:gd name="textAreaTop" fmla="*/ 11160 h 2827440"/>
              <a:gd name="textAreaBottom" fmla="*/ 2816280 h 282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7405560" y="2090880"/>
            <a:ext cx="18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酸甜苦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爱中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001960" y="3878280"/>
            <a:ext cx="51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书店“窃读”受到关爱和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25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艺术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矩形 1"/>
          <p:cNvSpPr/>
          <p:nvPr/>
        </p:nvSpPr>
        <p:spPr>
          <a:xfrm>
            <a:off x="425520" y="1069920"/>
            <a:ext cx="84675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索清晰，心理活动刻画细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以“窃读”为线索，记述了几个不同场面的读书经历，刻画心理十分细致，例如：恐惧、惶恐、自卑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快乐、激动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焦急、忿忿不平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绝望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慌忙、紧张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害羞、感激、激动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愉快、满足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→轻松（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。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331920" y="270000"/>
            <a:ext cx="84675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语式的独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善于通过自语式的独白描绘心境，表达自己的感情，如，“啊！它在这里，原来不是在昨天那位置了”，来表达终于发现书并没有卖出去，又可以接着读的惊喜；“好像躲雨人偶然避雨到人家的屋檐下，你总不好意思赶走吧？”，利用“下雨天，留客天”这种理所当然的借口，自我安慰，在书店里开心地读下去，有几分童稚。在“窃读”这种氛围中，一方面享受阅读的快乐，一方面还要时刻关注周围的环境，非常形象生动地表现了“我”的心情变化，使人如历其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331920" y="857160"/>
            <a:ext cx="8467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作描写饱含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善于用细致入微的动作描写来表达自己的感情。如，“我跨进书店门，暗喜没人注意。我踮起脚，使矮小的身体挨蹭过别的顾客和书柜的夹缝，从大人的腋下钻过去。哟，把短发弄乱了，没关系，我到底挤到里边来了。”这其中一系列的动作描写，写出了书店的顾客之多，更表现了“我”“窃读”时的心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26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拓展迁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"/>
          <p:cNvSpPr/>
          <p:nvPr/>
        </p:nvSpPr>
        <p:spPr>
          <a:xfrm>
            <a:off x="677880" y="781200"/>
            <a:ext cx="783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读书名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书是人类进步的阶梯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书籍是全世界的营养品。生活里没有书籍，就好像没有阳光；智慧里没有书籍，就好像鸟儿没有翅膀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理想的书籍是智慧的钥匙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尔斯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书籍是屹立在时间的汪洋大海中的灯塔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惠普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2"/>
          <a:stretch/>
        </p:blipFill>
        <p:spPr>
          <a:xfrm>
            <a:off x="6002280" y="379440"/>
            <a:ext cx="2236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8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作者名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1"/>
          <p:cNvSpPr/>
          <p:nvPr/>
        </p:nvSpPr>
        <p:spPr>
          <a:xfrm>
            <a:off x="444600" y="933480"/>
            <a:ext cx="6694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海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—2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原名含英，台湾苗栗人，中国现代著名女作家。生于日本大坂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随父母返台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来到北京，在北京度过了童年与青年时期。在北京，她完成了从学生到新闻记者、从少女到为人妻母的转变，北京是她文学之路的起点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举家迁往台湾，出版了众多文学名作，被称为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台湾文学“祖母级的人物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Administrator\桌面\人七语大课堂正文（上）\ZX09.tif"/>
          <p:cNvPicPr/>
          <p:nvPr/>
        </p:nvPicPr>
        <p:blipFill>
          <a:blip r:embed="rId2"/>
          <a:stretch/>
        </p:blipFill>
        <p:spPr>
          <a:xfrm>
            <a:off x="7050240" y="1347840"/>
            <a:ext cx="18763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2" descr="7485157_073341707000_2副本"/>
          <p:cNvPicPr/>
          <p:nvPr/>
        </p:nvPicPr>
        <p:blipFill>
          <a:blip r:embed="rId1"/>
          <a:stretch/>
        </p:blipFill>
        <p:spPr>
          <a:xfrm>
            <a:off x="2276640" y="0"/>
            <a:ext cx="4973400" cy="3125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图形1"/>
          <p:cNvPicPr/>
          <p:nvPr/>
        </p:nvPicPr>
        <p:blipFill>
          <a:blip r:embed="rId2"/>
          <a:stretch/>
        </p:blipFill>
        <p:spPr>
          <a:xfrm>
            <a:off x="725400" y="3065400"/>
            <a:ext cx="78390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444600" y="10540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作品被译为多种文字，她的一生荣获众多文学奖项，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“第三届世界华文作家大会”上荣获“终身成就奖”。代表作为短篇小说集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城南旧事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书既是她童年生活的写照，更是当年北京平民生活的写真，也是她最具影响力的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9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背景链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4"/>
          <p:cNvSpPr/>
          <p:nvPr/>
        </p:nvSpPr>
        <p:spPr>
          <a:xfrm>
            <a:off x="257040" y="844560"/>
            <a:ext cx="8790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选自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英子的心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民日报出版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版）。略有改动。在中国解放前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前），不是任何人都可以进书店的。劳动人民因为生活贫困买不起书，一辈子与知识无缘。有些穷人家的孩子非常渴望读书，却只能眼巴巴地看着别人背着书包上学；那些只供得起孩子上学的家庭，没有余钱给孩子买课外书读。读书是富贵人家的享受，没有钱还要读书的人会被别人取笑，认为是“不识抬举”。在那个社会，男女地位悬殊，“女子无才便是德”。正因为如此，女孩子读书的很少，读了书的女孩子学几年也就早早待在家中，等到十五六岁的时候就嫁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4"/>
          <p:cNvSpPr/>
          <p:nvPr/>
        </p:nvSpPr>
        <p:spPr>
          <a:xfrm>
            <a:off x="490680" y="820800"/>
            <a:ext cx="8291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海音就是出生在那个特殊的年代，后来的著书成名完全得益于她小时候读的那些名家名作。她父亲是一个教书先生，她生长的环境是一个知识分子家庭。虽然家里供她读书至大学，但是因为家里条件贫苦，根本没有闲钱给她买书看。但是，她心中酷爱读书的情结一刻都没有放松，她想尽办法读到了许多梦寐以求的书，为以后的写作道路铺下了扎实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9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字词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4"/>
          <p:cNvSpPr/>
          <p:nvPr/>
        </p:nvSpPr>
        <p:spPr>
          <a:xfrm>
            <a:off x="1389240" y="14130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qi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49800" y="2165400"/>
            <a:ext cx="86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c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82680" y="21654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diǎ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93960" y="356076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ju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0200" y="3532320"/>
            <a:ext cx="130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tuò 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673440" y="1434960"/>
            <a:ext cx="109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chǎ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693960" y="2760840"/>
            <a:ext cx="9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zà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064200" y="2797200"/>
            <a:ext cx="6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25480" y="2797200"/>
            <a:ext cx="79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d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986440" y="1486080"/>
            <a:ext cx="11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shá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673440" y="2100240"/>
            <a:ext cx="71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y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473040" y="19000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2"/>
          <p:cNvSpPr/>
          <p:nvPr/>
        </p:nvSpPr>
        <p:spPr>
          <a:xfrm>
            <a:off x="2749320" y="190512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3"/>
          <p:cNvSpPr/>
          <p:nvPr/>
        </p:nvSpPr>
        <p:spPr>
          <a:xfrm>
            <a:off x="5411520" y="19270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4"/>
          <p:cNvSpPr/>
          <p:nvPr/>
        </p:nvSpPr>
        <p:spPr>
          <a:xfrm>
            <a:off x="501480" y="25858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5"/>
          <p:cNvSpPr/>
          <p:nvPr/>
        </p:nvSpPr>
        <p:spPr>
          <a:xfrm>
            <a:off x="3049560" y="258912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7"/>
          <p:cNvSpPr/>
          <p:nvPr/>
        </p:nvSpPr>
        <p:spPr>
          <a:xfrm>
            <a:off x="5200560" y="3927600"/>
            <a:ext cx="54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 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8"/>
          <p:cNvSpPr/>
          <p:nvPr/>
        </p:nvSpPr>
        <p:spPr>
          <a:xfrm>
            <a:off x="2815920" y="32576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5440320" y="259236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0"/>
          <p:cNvSpPr/>
          <p:nvPr/>
        </p:nvSpPr>
        <p:spPr>
          <a:xfrm>
            <a:off x="500040" y="3892680"/>
            <a:ext cx="66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        ●  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2"/>
          <p:cNvSpPr/>
          <p:nvPr/>
        </p:nvSpPr>
        <p:spPr>
          <a:xfrm>
            <a:off x="5516280" y="32608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383400" y="901800"/>
            <a:ext cx="125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难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1"/>
          <p:cNvSpPr/>
          <p:nvPr/>
        </p:nvSpPr>
        <p:spPr>
          <a:xfrm>
            <a:off x="807840" y="32576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043680" y="3517920"/>
            <a:ext cx="159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ɡān ɡ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"/>
          <p:cNvGrpSpPr/>
          <p:nvPr/>
        </p:nvGrpSpPr>
        <p:grpSpPr>
          <a:xfrm>
            <a:off x="393840" y="1330200"/>
            <a:ext cx="7637400" cy="2787480"/>
            <a:chOff x="393840" y="1330200"/>
            <a:chExt cx="7637400" cy="2787480"/>
          </a:xfrm>
        </p:grpSpPr>
        <p:sp>
          <p:nvSpPr>
            <p:cNvPr id="123" name="Text Box 3"/>
            <p:cNvSpPr/>
            <p:nvPr/>
          </p:nvSpPr>
          <p:spPr>
            <a:xfrm>
              <a:off x="393840" y="1330200"/>
              <a:ext cx="7637400" cy="27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窃读（       ）   炒菜（         ）  锅勺（       ）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踮起（       ）   屋檐（         ）  羞惭（       ）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目的地（    ）   暂时（       ）    贪婪（       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唾沫（          ）撅着（        ）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尴尬（          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47"/>
            <p:cNvSpPr/>
            <p:nvPr/>
          </p:nvSpPr>
          <p:spPr>
            <a:xfrm>
              <a:off x="2777400" y="3886560"/>
              <a:ext cx="24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0000"/>
                  </a:solidFill>
                  <a:latin typeface="Arial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98320" y="1116000"/>
            <a:ext cx="71359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枉然（         ）蹭过（        ）汗涔涔（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众目睽睽（         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煞有介事（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踉踉跄跄（                       ）威风凛凛（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饥肠辘辘（       ）倾盆大雨（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647720" y="1201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wǎn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454120" y="2558880"/>
            <a:ext cx="223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liànɡ qiàn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79520" y="1932120"/>
            <a:ext cx="99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ku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755880" y="1233360"/>
            <a:ext cx="109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cèn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425680" y="330840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l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927320" y="330840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qīn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445080" y="2622600"/>
            <a:ext cx="88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lǐ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219720" y="1243080"/>
            <a:ext cx="11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cé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718240" y="1916280"/>
            <a:ext cx="71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sh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709560" y="16858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2"/>
          <p:cNvSpPr/>
          <p:nvPr/>
        </p:nvSpPr>
        <p:spPr>
          <a:xfrm>
            <a:off x="2898720" y="162576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3"/>
          <p:cNvSpPr/>
          <p:nvPr/>
        </p:nvSpPr>
        <p:spPr>
          <a:xfrm>
            <a:off x="5317920" y="16318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4"/>
          <p:cNvSpPr/>
          <p:nvPr/>
        </p:nvSpPr>
        <p:spPr>
          <a:xfrm>
            <a:off x="1439640" y="22892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8"/>
          <p:cNvSpPr/>
          <p:nvPr/>
        </p:nvSpPr>
        <p:spPr>
          <a:xfrm>
            <a:off x="1412640" y="302436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9"/>
          <p:cNvSpPr/>
          <p:nvPr/>
        </p:nvSpPr>
        <p:spPr>
          <a:xfrm>
            <a:off x="4017600" y="23288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0"/>
          <p:cNvSpPr/>
          <p:nvPr/>
        </p:nvSpPr>
        <p:spPr>
          <a:xfrm>
            <a:off x="1430280" y="3692520"/>
            <a:ext cx="66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        ●  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2"/>
          <p:cNvSpPr/>
          <p:nvPr/>
        </p:nvSpPr>
        <p:spPr>
          <a:xfrm>
            <a:off x="5749560" y="30272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779400" y="30002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7"/>
          <p:cNvSpPr/>
          <p:nvPr/>
        </p:nvSpPr>
        <p:spPr>
          <a:xfrm>
            <a:off x="3400200" y="36590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user</cp:lastModifiedBy>
  <dcterms:modified xsi:type="dcterms:W3CDTF">2017-02-13T06:55:30Z</dcterms:modified>
  <cp:revision>520</cp:revision>
  <dc:subject/>
  <dc:title>PowerPoint 演示文稿</dc:title>
</cp:coreProperties>
</file>