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B10-6F5E-44C4-8788-A80B4A26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2FB-A456-4387-A62C-60D3DA4D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BD5-65AC-44A6-A133-49DC502D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0BC-A3A0-40AE-9785-20052D66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1363-2C5C-4C61-BBFE-7FF08654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6112-6405-4CAA-B6AA-D6898E6A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E8A8-118E-4FD0-BB0A-ADACB677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5872-0DA0-44F7-9338-582DA50A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9042-0C4F-411C-A9AB-7EDCA2F7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E013-5F5D-4722-8257-3DE1BE31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0B19-B5A9-4521-B663-FF3C50AD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303-4989-4C90-9374-6E3FDBDF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92A1-62D2-4162-A79F-63809C1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2566-F736-443A-8978-2C435023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94E4-BA72-455C-9EF6-B8F02FB2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4CD5-01E8-4EAD-ADAC-87D09FE5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E510-0349-4E12-A0EA-55FB2AC6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935-2999-4925-8635-2C85C5C1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5A5-A207-4D54-AEAA-C0084AF8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520-0440-463D-BAA5-E95EBCA7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A6E-1559-4F0D-9F47-A6BBB47A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D8A-C483-4E35-AC40-7A0C0DE1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298-CDA6-40DF-8259-018952A3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D49-466F-438A-8E95-E903706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71600" indent="442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909720" indent="4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306440" indent="-39204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695600" indent="-7812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695600" indent="-781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695600" indent="-781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任意多边形 62467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" name="直接连接符 62468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7E25-36BE-4672-8121-C4729D672B2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任意多边形 63494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71600" indent="442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909720" indent="4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306440" indent="-39204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695600" indent="-7812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695600" indent="-781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695600" indent="-781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953D-8084-4F30-9250-8A7FDC2142E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287,18,&#24187;&#28783;&#29255; 18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02401" descr="01300000212958121877025937187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3313"/>
          <p:cNvSpPr/>
          <p:nvPr/>
        </p:nvSpPr>
        <p:spPr>
          <a:xfrm>
            <a:off x="222120" y="1301760"/>
            <a:ext cx="8871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沁园春   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936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月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北国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风光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千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冰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万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雪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望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长城内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惟余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莽莽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大河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上下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顿失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滔滔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山舞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银蛇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原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蜡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欲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与天公试比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须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晴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看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红妆素裹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分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妖娆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江山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如此多娇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引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无数英雄竞折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惜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秦皇汉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略输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文采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唐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宋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稍逊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风骚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一代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天骄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成吉思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只识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弯弓射大雕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俱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往矣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风流人物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还看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今朝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3314"/>
          <p:cNvSpPr/>
          <p:nvPr/>
        </p:nvSpPr>
        <p:spPr>
          <a:xfrm>
            <a:off x="1950120" y="11592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本着刚刚所说的注意事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起把这首词朗读一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沁   园     春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8" name="图片 5123" descr="200597758462504297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5124"/>
          <p:cNvSpPr/>
          <p:nvPr/>
        </p:nvSpPr>
        <p:spPr>
          <a:xfrm>
            <a:off x="6525720" y="1447920"/>
            <a:ext cx="200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请说说几个含“雪”字的成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风花雪月 雪中送炭   冰雪聪明   程门立雪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雪上加霜  冰天雪地  鹅毛大雪   囊萤映雪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阳春白雪  报仇雪恨   风雪交加  傲霜斗雪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傲雪凌霜  傲雪欺霜   白雪皑皑  白雪难和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雪阳春   饱经霜雪  报仇雪耻  报雠雪恨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抱怨雪耻  冰魂雪魄  冰肌雪肠   冰天雪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冰天雪窖 冰天雪窑    冰消雪释  冰雪严寒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步雪履穿 餐风啮雪    餐风茹雪  蝉不知雪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沉冤莫雪 程门立雪    担雪塞井  担雪填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担雪填井 斗霜傲雪   鹅毛大雪   飞鸿踏雪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716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7170"/>
          <p:cNvSpPr/>
          <p:nvPr/>
        </p:nvSpPr>
        <p:spPr>
          <a:xfrm>
            <a:off x="924120" y="5943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请再找几句咏雪的诗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柴门闻犬吠， 风雪夜归人。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刘长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逢雪宿芙蓉山主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墙角数枝梅， 凌寒独自开。 遥知不是雪， 为有暗香来。 （王安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孤舟蓑笠翁， 独钓寒江雪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柳宗元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江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海长云暗雪山， 孤城遥望玉门关。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王昌龄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军行七首其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欲渡黄河冰塞川， 将登太行雪满山。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李白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行路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里黄云白日曛， 北风吹雁雪纷纷。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董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窗含西岭千秋雪， 门泊东吴万里船。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杜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绝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图片 10752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107524"/>
          <p:cNvSpPr/>
          <p:nvPr/>
        </p:nvSpPr>
        <p:spPr>
          <a:xfrm>
            <a:off x="2494080" y="263700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欣赏文章意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8545" descr="44565_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08546"/>
          <p:cNvSpPr/>
          <p:nvPr/>
        </p:nvSpPr>
        <p:spPr>
          <a:xfrm>
            <a:off x="1476360" y="549360"/>
            <a:ext cx="441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0920" y="1916280"/>
            <a:ext cx="4392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北国风光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千里冰封</a:t>
            </a:r>
            <a:br>
              <a:rPr sz="63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09569" descr="62febc080dba6ae22eddd4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万里雪飘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10593" descr="200711110171523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望长城内外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惟余莽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11617" descr="xin_101202081033312105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0000"/>
                </a:solidFill>
                <a:latin typeface="Verdana"/>
              </a:rPr>
              <a:t>大河上下</a:t>
            </a:r>
            <a:br>
              <a:rPr sz="3400"/>
            </a:br>
            <a:r>
              <a:rPr b="1" lang="zh-CN" sz="3400" spc="-1" strike="noStrike">
                <a:solidFill>
                  <a:srgbClr val="800000"/>
                </a:solidFill>
                <a:latin typeface="Verdana"/>
              </a:rPr>
              <a:t>顿失滔滔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04449"/>
          <p:cNvGrpSpPr/>
          <p:nvPr/>
        </p:nvGrpSpPr>
        <p:grpSpPr>
          <a:xfrm>
            <a:off x="0" y="1268280"/>
            <a:ext cx="9144000" cy="5254920"/>
            <a:chOff x="0" y="1268280"/>
            <a:chExt cx="9144000" cy="5254920"/>
          </a:xfrm>
        </p:grpSpPr>
        <p:grpSp>
          <p:nvGrpSpPr>
            <p:cNvPr id="89" name="组合 104450"/>
            <p:cNvGrpSpPr/>
            <p:nvPr/>
          </p:nvGrpSpPr>
          <p:grpSpPr>
            <a:xfrm>
              <a:off x="4320" y="1290600"/>
              <a:ext cx="9134640" cy="5206680"/>
              <a:chOff x="4320" y="1290600"/>
              <a:chExt cx="9134640" cy="5206680"/>
            </a:xfrm>
          </p:grpSpPr>
          <p:sp>
            <p:nvSpPr>
              <p:cNvPr id="90" name="矩形 104451"/>
              <p:cNvSpPr/>
              <p:nvPr/>
            </p:nvSpPr>
            <p:spPr>
              <a:xfrm>
                <a:off x="4320" y="1290600"/>
                <a:ext cx="9134640" cy="52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毛泽东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字润之，笔名子任。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893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年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日生于湖南湘潭韶山冲一个农民家庭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中国人民的领袖，马克思主义者，伟大的无产阶级革命家、战略家和理论家，中国共产党、中国人民解放军和中华人民共和国的主要缔造者和领导人，诗人，书法家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976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年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日在北京逝世。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04452"/>
              <p:cNvSpPr/>
              <p:nvPr/>
            </p:nvSpPr>
            <p:spPr>
              <a:xfrm>
                <a:off x="4320" y="1290600"/>
                <a:ext cx="9134640" cy="5206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104453"/>
            <p:cNvSpPr/>
            <p:nvPr/>
          </p:nvSpPr>
          <p:spPr>
            <a:xfrm>
              <a:off x="0" y="1268280"/>
              <a:ext cx="9144000" cy="5254920"/>
            </a:xfrm>
            <a:prstGeom prst="rect">
              <a:avLst/>
            </a:prstGeom>
            <a:noFill/>
            <a:ln w="9360">
              <a:solidFill>
                <a:srgbClr val="a2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文本框 104454"/>
          <p:cNvSpPr/>
          <p:nvPr/>
        </p:nvSpPr>
        <p:spPr>
          <a:xfrm>
            <a:off x="2987640" y="333360"/>
            <a:ext cx="320040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04455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4456"/>
          <p:cNvSpPr/>
          <p:nvPr/>
        </p:nvSpPr>
        <p:spPr>
          <a:xfrm>
            <a:off x="0" y="28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04457"/>
          <p:cNvSpPr/>
          <p:nvPr/>
        </p:nvSpPr>
        <p:spPr>
          <a:xfrm>
            <a:off x="6477120" y="6019920"/>
            <a:ext cx="1523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4458"/>
          <p:cNvSpPr/>
          <p:nvPr/>
        </p:nvSpPr>
        <p:spPr>
          <a:xfrm>
            <a:off x="145584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12641" descr="20080702121719755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800000"/>
                </a:solidFill>
                <a:latin typeface="Verdana"/>
              </a:rPr>
              <a:t>山舞银蛇</a:t>
            </a:r>
            <a:r>
              <a:rPr b="0" lang="zh-CN" sz="38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13665" descr="1223113f39e208fe9f3d62f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800000"/>
                </a:solidFill>
                <a:latin typeface="Verdana"/>
              </a:rPr>
              <a:t>原驰蜡象</a:t>
            </a:r>
            <a:r>
              <a:rPr b="0" lang="zh-CN" sz="38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14689" descr="dsf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23640" y="476280"/>
            <a:ext cx="633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800000"/>
                </a:solidFill>
                <a:latin typeface="Verdana"/>
              </a:rPr>
              <a:t>欲与天公试比高</a:t>
            </a:r>
            <a:r>
              <a:rPr b="0" lang="zh-CN" sz="38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15713" descr="200810169551886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Verdana"/>
              </a:rPr>
              <a:t>须晴日</a:t>
            </a:r>
            <a:br>
              <a:rPr sz="4200"/>
            </a:br>
            <a:r>
              <a:rPr b="1" lang="zh-CN" sz="4200" spc="-1" strike="noStrike">
                <a:solidFill>
                  <a:srgbClr val="800000"/>
                </a:solidFill>
                <a:latin typeface="Verdana"/>
              </a:rPr>
              <a:t>看红妆素裹</a:t>
            </a:r>
            <a:br>
              <a:rPr sz="4200"/>
            </a:br>
            <a:r>
              <a:rPr b="1" lang="zh-CN" sz="4200" spc="-1" strike="noStrike">
                <a:solidFill>
                  <a:srgbClr val="800000"/>
                </a:solidFill>
                <a:latin typeface="Verdana"/>
              </a:rPr>
              <a:t>分外妖娆</a:t>
            </a:r>
            <a:br>
              <a:rPr sz="4200"/>
            </a:br>
            <a:r>
              <a:rPr b="1" lang="zh-CN" sz="4200" spc="-1" strike="noStrike">
                <a:solidFill>
                  <a:srgbClr val="800000"/>
                </a:solidFill>
                <a:latin typeface="Verdana"/>
              </a:rPr>
              <a:t>江山如此多娇</a:t>
            </a:r>
            <a:br>
              <a:rPr sz="4200"/>
            </a:br>
            <a:r>
              <a:rPr b="1" lang="zh-CN" sz="4200" spc="-1" strike="noStrike">
                <a:solidFill>
                  <a:srgbClr val="800000"/>
                </a:solidFill>
                <a:latin typeface="Verdana"/>
              </a:rPr>
              <a:t>引无数英雄竞折腰</a:t>
            </a:r>
            <a:r>
              <a:rPr b="0" lang="zh-CN" sz="42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16737" descr="20100121154123"/>
          <p:cNvPicPr/>
          <p:nvPr/>
        </p:nvPicPr>
        <p:blipFill>
          <a:blip r:embed="rId1"/>
          <a:stretch/>
        </p:blipFill>
        <p:spPr>
          <a:xfrm>
            <a:off x="0" y="0"/>
            <a:ext cx="437976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16738" descr="xin_500801170910263166997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39640" y="765000"/>
            <a:ext cx="511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惜秦皇汉武</a:t>
            </a:r>
            <a:br>
              <a:rPr sz="3400"/>
            </a:b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略输文采</a:t>
            </a:r>
            <a:r>
              <a:rPr b="0" lang="zh-CN" sz="3400" spc="-1" strike="noStrike">
                <a:solidFill>
                  <a:srgbClr val="9900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17761" descr="390642big"/>
          <p:cNvPicPr/>
          <p:nvPr/>
        </p:nvPicPr>
        <p:blipFill>
          <a:blip r:embed="rId1"/>
          <a:stretch/>
        </p:blipFill>
        <p:spPr>
          <a:xfrm>
            <a:off x="0" y="0"/>
            <a:ext cx="46512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17762" descr="5708312527693398162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95280" y="-360"/>
            <a:ext cx="259236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唐宗宋祖</a:t>
            </a:r>
            <a:br>
              <a:rPr sz="3400"/>
            </a:b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稍逊风骚</a:t>
            </a:r>
            <a:r>
              <a:rPr b="0" lang="zh-CN" sz="3400" spc="-1" strike="noStrike">
                <a:solidFill>
                  <a:srgbClr val="9900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18785" descr="{F3AF9892-AA46-4F8A-8327-B7352F07BEA8}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18786" descr="news_90_103478_4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468000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一代天骄</a:t>
            </a:r>
            <a:br>
              <a:rPr sz="3400"/>
            </a:b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成吉思汗</a:t>
            </a:r>
            <a:br>
              <a:rPr sz="3400"/>
            </a:br>
            <a:r>
              <a:rPr b="1" lang="zh-CN" sz="3400" spc="-1" strike="noStrike">
                <a:solidFill>
                  <a:srgbClr val="9900ff"/>
                </a:solidFill>
                <a:latin typeface="Verdana"/>
              </a:rPr>
              <a:t>只识弯弓射大雕</a:t>
            </a:r>
            <a:r>
              <a:rPr b="0" lang="zh-CN" sz="3400" spc="-1" strike="noStrike">
                <a:solidFill>
                  <a:srgbClr val="9900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19809" descr="00115b52c3100854751a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31320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俱往矣</a:t>
            </a:r>
            <a:br>
              <a:rPr sz="3400"/>
            </a:b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数风流人物</a:t>
            </a:r>
            <a:br>
              <a:rPr sz="3400"/>
            </a:b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还看今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20833" descr="073c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矩形 1208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20835"/>
          <p:cNvSpPr/>
          <p:nvPr/>
        </p:nvSpPr>
        <p:spPr>
          <a:xfrm>
            <a:off x="611280" y="155736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这首词分为上下两阕，概括上下两阕的主要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20836"/>
          <p:cNvSpPr/>
          <p:nvPr/>
        </p:nvSpPr>
        <p:spPr>
          <a:xfrm>
            <a:off x="3697200" y="692280"/>
            <a:ext cx="13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方正流行体简体"/>
              </a:rPr>
              <a:t>赏析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方正流行体简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20837"/>
          <p:cNvSpPr/>
          <p:nvPr/>
        </p:nvSpPr>
        <p:spPr>
          <a:xfrm>
            <a:off x="1692360" y="27082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上阕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启体简体"/>
              </a:rPr>
              <a:t>描写北国雪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20838"/>
          <p:cNvSpPr/>
          <p:nvPr/>
        </p:nvSpPr>
        <p:spPr>
          <a:xfrm>
            <a:off x="1692360" y="3284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下阕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启体简体"/>
              </a:rPr>
              <a:t>评论古今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20839"/>
          <p:cNvSpPr/>
          <p:nvPr/>
        </p:nvSpPr>
        <p:spPr>
          <a:xfrm>
            <a:off x="684360" y="3933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词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阕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总写北国雪景的诗句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0840"/>
          <p:cNvSpPr/>
          <p:nvPr/>
        </p:nvSpPr>
        <p:spPr>
          <a:xfrm>
            <a:off x="4498200" y="465300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方正启体简体"/>
              </a:rPr>
              <a:t>北国风光，千里冰封，万里雪飘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20841"/>
          <p:cNvSpPr/>
          <p:nvPr/>
        </p:nvSpPr>
        <p:spPr>
          <a:xfrm>
            <a:off x="468360" y="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第二轮读悟：读词悟词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Verdana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64516"/>
          <p:cNvSpPr/>
          <p:nvPr/>
        </p:nvSpPr>
        <p:spPr>
          <a:xfrm>
            <a:off x="684360" y="620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上阕：词人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望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见了哪些画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4518"/>
          <p:cNvSpPr/>
          <p:nvPr/>
        </p:nvSpPr>
        <p:spPr>
          <a:xfrm>
            <a:off x="250920" y="1700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长城茫茫图、黄河失滔图、山舞银蛇图、原驰蜡象图、（想象）雪后初晴图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4520"/>
          <p:cNvSpPr/>
          <p:nvPr/>
        </p:nvSpPr>
        <p:spPr>
          <a:xfrm>
            <a:off x="0" y="3645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方正启体简体"/>
              </a:rPr>
              <a:t>山舞银蛇，原驰蜡象，欲与天公试比高” 运用了哪些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4521"/>
          <p:cNvSpPr/>
          <p:nvPr/>
        </p:nvSpPr>
        <p:spPr>
          <a:xfrm>
            <a:off x="4003200" y="530064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方正启体简体"/>
              </a:rPr>
              <a:t>运用比喻、拟人、对偶、夸张等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4337" descr="100_0356_rrHSyCPCxTx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4342"/>
          <p:cNvSpPr/>
          <p:nvPr/>
        </p:nvSpPr>
        <p:spPr>
          <a:xfrm>
            <a:off x="272880" y="404640"/>
            <a:ext cx="887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《沁园春·雪》课文朗读2.mp3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沁伴.mp3" descr=""/>
          <p:cNvPicPr/>
          <p:nvPr/>
        </p:nvPicPr>
        <p:blipFill>
          <a:blip r:embed="rId3"/>
          <a:stretch/>
        </p:blipFill>
        <p:spPr>
          <a:xfrm>
            <a:off x="7236000" y="450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4348" descr="4361c0ef7efbe57979f05516"/>
          <p:cNvPicPr/>
          <p:nvPr/>
        </p:nvPicPr>
        <p:blipFill>
          <a:blip r:embed="rId4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6407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26560" y="6922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下阕词人惋惜了什么？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文本框 121860"/>
          <p:cNvSpPr/>
          <p:nvPr/>
        </p:nvSpPr>
        <p:spPr>
          <a:xfrm>
            <a:off x="395280" y="1844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惋惜秦皇汉武、唐宗宋祖、成吉思汗短于文治</a:t>
            </a:r>
            <a:r>
              <a:rPr b="0" lang="zh-CN" sz="3600" spc="-1" strike="noStrike">
                <a:solidFill>
                  <a:srgbClr val="cc0000"/>
                </a:solidFill>
                <a:latin typeface="Verdana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21861"/>
          <p:cNvSpPr/>
          <p:nvPr/>
        </p:nvSpPr>
        <p:spPr>
          <a:xfrm>
            <a:off x="395280" y="3213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方正启体简体"/>
              </a:rPr>
              <a:t>江山如此多娇”，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表达了作者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21862"/>
          <p:cNvSpPr/>
          <p:nvPr/>
        </p:nvSpPr>
        <p:spPr>
          <a:xfrm>
            <a:off x="2193120" y="4365720"/>
            <a:ext cx="402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表达了诗人对祖国壮丽河山的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情赞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词的上阕写了哪些意象？表达了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一种什么感情？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描写了冰、雪、长城、大河、山、原等，　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达了热爱祖国山河的豪情壮志　。</a:t>
            </a:r>
            <a:r>
              <a:rPr b="0" lang="zh-CN" sz="3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23905" descr="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矩形 123906"/>
          <p:cNvSpPr/>
          <p:nvPr/>
        </p:nvSpPr>
        <p:spPr>
          <a:xfrm>
            <a:off x="2833200" y="76464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dddd"/>
                </a:solidFill>
                <a:latin typeface="Tahoma"/>
              </a:rPr>
              <a:t>本词承上启下的一句是：</a:t>
            </a:r>
            <a:r>
              <a:rPr b="0" lang="zh-CN" sz="18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3907"/>
          <p:cNvSpPr/>
          <p:nvPr/>
        </p:nvSpPr>
        <p:spPr>
          <a:xfrm>
            <a:off x="2952360" y="1483920"/>
            <a:ext cx="48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江山如此多娇，引无数英雄竞折腰　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23908"/>
          <p:cNvSpPr/>
          <p:nvPr/>
        </p:nvSpPr>
        <p:spPr>
          <a:xfrm>
            <a:off x="1725480" y="2421000"/>
            <a:ext cx="46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《</a:t>
            </a:r>
            <a:r>
              <a:rPr b="1" lang="zh-CN" sz="3600" spc="-1" strike="noStrike">
                <a:solidFill>
                  <a:srgbClr val="dddddd"/>
                </a:solidFill>
                <a:latin typeface="Tahoma"/>
              </a:rPr>
              <a:t>沁园春</a:t>
            </a: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·</a:t>
            </a:r>
            <a:r>
              <a:rPr b="1" lang="zh-CN" sz="3600" spc="-1" strike="noStrike">
                <a:solidFill>
                  <a:srgbClr val="dddddd"/>
                </a:solidFill>
                <a:latin typeface="Tahoma"/>
              </a:rPr>
              <a:t>雪</a:t>
            </a:r>
            <a:r>
              <a:rPr b="1" lang="en-US" sz="3600" spc="-1" strike="noStrike">
                <a:solidFill>
                  <a:srgbClr val="dddddd"/>
                </a:solidFill>
                <a:latin typeface="Tahoma"/>
              </a:rPr>
              <a:t>》</a:t>
            </a:r>
            <a:r>
              <a:rPr b="1" lang="zh-CN" sz="3600" spc="-1" strike="noStrike">
                <a:solidFill>
                  <a:srgbClr val="dddddd"/>
                </a:solidFill>
                <a:latin typeface="Tahoma"/>
              </a:rPr>
              <a:t>中评价历史人物的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dddd"/>
                </a:solidFill>
                <a:latin typeface="Tahoma"/>
              </a:rPr>
              <a:t>意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23909"/>
          <p:cNvSpPr/>
          <p:nvPr/>
        </p:nvSpPr>
        <p:spPr>
          <a:xfrm>
            <a:off x="2861640" y="371628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肯定他们的历史贡献，同时委婉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指出其阶级和时代的局限。</a:t>
            </a:r>
            <a:r>
              <a:rPr b="0" lang="zh-CN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24929" descr="bingxuetexie2_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矩形 124930"/>
          <p:cNvSpPr/>
          <p:nvPr/>
        </p:nvSpPr>
        <p:spPr>
          <a:xfrm>
            <a:off x="1965960" y="4762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诗人对历代英雄的评论体现在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个字上？包含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24931"/>
          <p:cNvSpPr/>
          <p:nvPr/>
        </p:nvSpPr>
        <p:spPr>
          <a:xfrm>
            <a:off x="1533240" y="1700280"/>
            <a:ext cx="16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方正启体简体"/>
              </a:rPr>
              <a:t>惜”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24932"/>
          <p:cNvSpPr/>
          <p:nvPr/>
        </p:nvSpPr>
        <p:spPr>
          <a:xfrm>
            <a:off x="2919960" y="4941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本词表达主旨的一句是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24933"/>
          <p:cNvSpPr/>
          <p:nvPr/>
        </p:nvSpPr>
        <p:spPr>
          <a:xfrm>
            <a:off x="4161960" y="573336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俱往矣，数风流人物，还看今朝。</a:t>
            </a: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24934"/>
          <p:cNvSpPr/>
          <p:nvPr/>
        </p:nvSpPr>
        <p:spPr>
          <a:xfrm>
            <a:off x="755640" y="234936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“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惜”的意蕴非常丰富：第一、“惜”中含褒扬之意。肯定他们是英雄人物，也就肯定中华民族是一个英雄辈出的伟大民族；第二，“惜”字也委婉的批评了他们短于“文治”，欠缺才华；第三、“惜”字蕴含后来居上的伟大气概以及超越历史英雄人物的自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图片 125955" descr="bingxuetexie2_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125956"/>
          <p:cNvSpPr/>
          <p:nvPr/>
        </p:nvSpPr>
        <p:spPr>
          <a:xfrm>
            <a:off x="539640" y="184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抒发了对祖国山河的热爱和对当代无产阶级革命英雄的歌颂，表达了欲率全国人民重整祖国河山的伟大抱负和坚定信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5957"/>
          <p:cNvSpPr/>
          <p:nvPr/>
        </p:nvSpPr>
        <p:spPr>
          <a:xfrm>
            <a:off x="2916360" y="62064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文章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65539"/>
          <p:cNvSpPr/>
          <p:nvPr/>
        </p:nvSpPr>
        <p:spPr>
          <a:xfrm>
            <a:off x="539640" y="0"/>
            <a:ext cx="79200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Verdana"/>
              </a:rPr>
              <a:t>第三轮读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Verdana"/>
              </a:rPr>
              <a:t>品读赏析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5540"/>
          <p:cNvSpPr/>
          <p:nvPr/>
        </p:nvSpPr>
        <p:spPr>
          <a:xfrm>
            <a:off x="395280" y="1484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Verdana"/>
              </a:rPr>
              <a:t>1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</a:rPr>
              <a:t>、从修辞手法或用词准确生动的角度赏析上阕，运用圈点勾画的方法在文本空白处做好批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65541"/>
          <p:cNvSpPr/>
          <p:nvPr/>
        </p:nvSpPr>
        <p:spPr>
          <a:xfrm>
            <a:off x="324000" y="314172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Verdana"/>
              </a:rPr>
              <a:t>示例：望</a:t>
            </a:r>
            <a:r>
              <a:rPr b="1" lang="en-US" sz="2800" spc="-1" strike="noStrike">
                <a:solidFill>
                  <a:srgbClr val="9900ff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9900ff"/>
                </a:solidFill>
                <a:latin typeface="Verdana"/>
              </a:rPr>
              <a:t>长城内外，惟余莽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Verdana"/>
              </a:rPr>
              <a:t>赏析：</a:t>
            </a:r>
            <a:r>
              <a:rPr b="1" lang="en-US" sz="2800" spc="-1" strike="noStrike">
                <a:solidFill>
                  <a:srgbClr val="9900ff"/>
                </a:solidFill>
                <a:latin typeface="Verdana"/>
              </a:rPr>
              <a:t>Δ</a:t>
            </a:r>
            <a:r>
              <a:rPr b="1" lang="zh-CN" sz="2800" spc="-1" strike="noStrike">
                <a:solidFill>
                  <a:srgbClr val="9900ff"/>
                </a:solidFill>
                <a:latin typeface="Verdana"/>
              </a:rPr>
              <a:t>这里的“望”，有登高远眺之意并有很大的想像成分，它显示了诗人自身的形象和豪迈的气势。“望”字直贯以下七个短句，“望”字之下展现了北国风貌的雄伟景观，这些景观正是我们伟大祖国的形象。所以，朗读时要略有停顿，字音拉长，读出远眺之态和豪迈之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9457"/>
          <p:cNvSpPr txBox="1"/>
          <p:nvPr/>
        </p:nvSpPr>
        <p:spPr>
          <a:xfrm>
            <a:off x="533520" y="0"/>
            <a:ext cx="4171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重点品读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5" name="文本框 19458"/>
          <p:cNvSpPr/>
          <p:nvPr/>
        </p:nvSpPr>
        <p:spPr>
          <a:xfrm>
            <a:off x="0" y="1317600"/>
            <a:ext cx="9144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、“山舞银蛇，原驰蜡象”句中“山”、“原”都是静物，却写它们“舞”和“驰”，为什么这样写？试对这两句作点</a:t>
            </a:r>
            <a:r>
              <a:rPr b="0" lang="zh-CN" sz="40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1"/>
              </a:rPr>
              <a:t>赏析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20481"/>
          <p:cNvSpPr/>
          <p:nvPr/>
        </p:nvSpPr>
        <p:spPr>
          <a:xfrm>
            <a:off x="611280" y="1154160"/>
            <a:ext cx="82087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山舞银蛇，原驰蜡象”运用比喻、拟人手法，化静为动，有三方面因素：（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视觉因素。作者站得高，看得远，山丘连绵起伏，远看确有山舞原驰的动感。（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精神因素。作者意气风发，因而在他心目中，大自然也生气勃勃。（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时代因素。中国革命正在蓬勃发展，中国人民正在奋起抗日，赋予群山、高原以顽强的性格，可以体现中华民族不屈不挠的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0482"/>
          <p:cNvSpPr txBox="1"/>
          <p:nvPr/>
        </p:nvSpPr>
        <p:spPr>
          <a:xfrm>
            <a:off x="1476360" y="18900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山舞银蛇，原驰蜡象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文本框 20483"/>
          <p:cNvSpPr/>
          <p:nvPr/>
        </p:nvSpPr>
        <p:spPr>
          <a:xfrm>
            <a:off x="611280" y="3940200"/>
            <a:ext cx="8208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赏析一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：“山舞银蛇，原驰蜡象”赋予群山、高原以动态描写，体现出其活泼奔放的气势。加上“欲与天公试比高”一句，表现“山”“原”与天相连，更有一种奋发的态势和竞争的活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赏析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：“山”、“原”都是静止的事物，写它们“舞”、“驰”是化静为动的浪漫想像，诗人情感的跃动，使他眼前的大自然也显得生气勃勃，生动活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66563"/>
          <p:cNvSpPr/>
          <p:nvPr/>
        </p:nvSpPr>
        <p:spPr>
          <a:xfrm>
            <a:off x="684360" y="2133720"/>
            <a:ext cx="79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66564"/>
          <p:cNvSpPr/>
          <p:nvPr/>
        </p:nvSpPr>
        <p:spPr>
          <a:xfrm>
            <a:off x="611280" y="1844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Verdana"/>
              </a:rPr>
              <a:t>3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</a:rPr>
              <a:t>、你完全认同下阕词人对于五位英雄的评价吗？说说你的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66565"/>
          <p:cNvSpPr/>
          <p:nvPr/>
        </p:nvSpPr>
        <p:spPr>
          <a:xfrm>
            <a:off x="395280" y="3357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（秦始皇、汉武帝、唐太宗、宋太祖、成吉思汗，他们都是中国历史上杰出的人物，是无数英雄中的佼佼者，都是雄才大略，战功赫赫，对中国历史的发展产生过巨大的影响。可是词人们却批评他们短于文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66566"/>
          <p:cNvSpPr/>
          <p:nvPr/>
        </p:nvSpPr>
        <p:spPr>
          <a:xfrm>
            <a:off x="826920" y="494172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不完全认同。因为文学才华包括政治、思想、文化在内，而这五位英雄在政治、思想、文化方面均有所功绩，所以并不能完全否定他们短于文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97281" descr="cy-swpy"/>
          <p:cNvPicPr/>
          <p:nvPr/>
        </p:nvPicPr>
        <p:blipFill>
          <a:blip r:embed="rId1"/>
          <a:stretch/>
        </p:blipFill>
        <p:spPr>
          <a:xfrm>
            <a:off x="5076720" y="4262400"/>
            <a:ext cx="4067280" cy="2595600"/>
          </a:xfrm>
          <a:prstGeom prst="rect">
            <a:avLst/>
          </a:prstGeom>
          <a:ln w="0">
            <a:noFill/>
          </a:ln>
        </p:spPr>
      </p:pic>
      <p:sp>
        <p:nvSpPr>
          <p:cNvPr id="214" name="矩形 97282"/>
          <p:cNvSpPr/>
          <p:nvPr/>
        </p:nvSpPr>
        <p:spPr>
          <a:xfrm>
            <a:off x="1187280" y="836640"/>
            <a:ext cx="68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28600" y="476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Verdana"/>
              </a:rPr>
              <a:t>4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</a:rPr>
              <a:t>、“俱往矣，数风流人物，还看今朝”怎样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97284"/>
          <p:cNvSpPr/>
          <p:nvPr/>
        </p:nvSpPr>
        <p:spPr>
          <a:xfrm>
            <a:off x="684360" y="1741320"/>
            <a:ext cx="813564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今朝的风流人物，是新时代在文治和武功两方面都有更杰出的才能更伟大的抱负的人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应该是人民群众，也应该是领导人民群众进行斗争的无产阶级革命家，还应该是诗人的自况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这是诗人的自信和自励，是对中国共产党和人民大众的歌颂，是他们决心登上历史舞台的威武雄壮的宣言。这是全诗的主旨所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03425"/>
          <p:cNvSpPr/>
          <p:nvPr/>
        </p:nvSpPr>
        <p:spPr>
          <a:xfrm>
            <a:off x="514440" y="13003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方正启体简体"/>
                <a:ea typeface="方正启体简体"/>
              </a:rPr>
              <a:t>1936</a:t>
            </a:r>
            <a:r>
              <a:rPr b="1" lang="zh-CN" sz="3600" spc="-1" strike="noStrike">
                <a:solidFill>
                  <a:srgbClr val="800000"/>
                </a:solidFill>
                <a:latin typeface="方正启体简体"/>
                <a:ea typeface="方正启体简体"/>
              </a:rPr>
              <a:t>年</a:t>
            </a:r>
            <a:r>
              <a:rPr b="1" lang="en-US" sz="3600" spc="-1" strike="noStrike">
                <a:solidFill>
                  <a:srgbClr val="80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方正启体简体"/>
                <a:ea typeface="方正启体简体"/>
              </a:rPr>
              <a:t>月，当时</a:t>
            </a:r>
            <a:r>
              <a:rPr b="1" lang="zh-CN" sz="3600" spc="-1" strike="noStrike">
                <a:solidFill>
                  <a:srgbClr val="800000"/>
                </a:solidFill>
                <a:latin typeface="方正启体简体"/>
                <a:ea typeface="方正启体简体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方正启体简体"/>
                <a:ea typeface="方正启体简体"/>
              </a:rPr>
              <a:t>遵义会议确立了毛泽东同志在全党的领导地位。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毛泽东同志率领红军长征部队胜利到达陕北清涧县袁家沟，准备渡河东征，开赴抗日前线。为了视察地形，毛泽东同志登上海拔千米白雪覆盖的塬上，当“千里冰封”的大好河山展现在他眼前时，不禁感慨万千，诗兴大发，欣然命笔，写下了这一首豪放之词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沁园春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雪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3426"/>
          <p:cNvSpPr/>
          <p:nvPr/>
        </p:nvSpPr>
        <p:spPr>
          <a:xfrm>
            <a:off x="3405600" y="476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方正流行体简体"/>
              </a:rPr>
              <a:t>写作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21505"/>
          <p:cNvSpPr/>
          <p:nvPr/>
        </p:nvSpPr>
        <p:spPr>
          <a:xfrm>
            <a:off x="380880" y="3048120"/>
            <a:ext cx="1676520" cy="153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北国风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千里冰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万里雪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右箭头 21506"/>
          <p:cNvSpPr/>
          <p:nvPr/>
        </p:nvSpPr>
        <p:spPr>
          <a:xfrm>
            <a:off x="2057400" y="380988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1507"/>
          <p:cNvSpPr/>
          <p:nvPr/>
        </p:nvSpPr>
        <p:spPr>
          <a:xfrm>
            <a:off x="2484360" y="2708280"/>
            <a:ext cx="2667240" cy="2209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长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莽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大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顿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原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1508"/>
          <p:cNvSpPr/>
          <p:nvPr/>
        </p:nvSpPr>
        <p:spPr>
          <a:xfrm>
            <a:off x="2052360" y="31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右箭头 21509"/>
          <p:cNvSpPr/>
          <p:nvPr/>
        </p:nvSpPr>
        <p:spPr>
          <a:xfrm>
            <a:off x="5257800" y="4038480"/>
            <a:ext cx="990720" cy="76320"/>
          </a:xfrm>
          <a:prstGeom prst="rightArrow">
            <a:avLst>
              <a:gd name="adj1" fmla="val 50000"/>
              <a:gd name="adj2" fmla="val 324528"/>
            </a:avLst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1510"/>
          <p:cNvSpPr/>
          <p:nvPr/>
        </p:nvSpPr>
        <p:spPr>
          <a:xfrm>
            <a:off x="6400800" y="3505320"/>
            <a:ext cx="243828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红装素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分外妖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右大括号 21511"/>
          <p:cNvSpPr/>
          <p:nvPr/>
        </p:nvSpPr>
        <p:spPr>
          <a:xfrm>
            <a:off x="5029200" y="312408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a3b2c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1512"/>
          <p:cNvSpPr/>
          <p:nvPr/>
        </p:nvSpPr>
        <p:spPr>
          <a:xfrm>
            <a:off x="5178240" y="29955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右大括号 21513"/>
          <p:cNvSpPr/>
          <p:nvPr/>
        </p:nvSpPr>
        <p:spPr>
          <a:xfrm>
            <a:off x="4648320" y="4114800"/>
            <a:ext cx="75960" cy="457200"/>
          </a:xfrm>
          <a:custGeom>
            <a:avLst/>
            <a:gdLst>
              <a:gd name="textAreaLeft" fmla="*/ 0 w 75960"/>
              <a:gd name="textAreaRight" fmla="*/ 2736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a3b2c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1514"/>
          <p:cNvSpPr/>
          <p:nvPr/>
        </p:nvSpPr>
        <p:spPr>
          <a:xfrm>
            <a:off x="4786920" y="4114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直接箭头连接符 21515"/>
          <p:cNvCxnSpPr/>
          <p:nvPr/>
        </p:nvCxnSpPr>
        <p:spPr>
          <a:xfrm flipV="1">
            <a:off x="1066320" y="1447200"/>
            <a:ext cx="1080" cy="1524600"/>
          </a:xfrm>
          <a:prstGeom prst="straightConnector1">
            <a:avLst/>
          </a:prstGeom>
          <a:ln w="12600">
            <a:solidFill>
              <a:srgbClr val="000000"/>
            </a:solidFill>
            <a:round/>
          </a:ln>
        </p:spPr>
      </p:cxnSp>
      <p:sp>
        <p:nvSpPr>
          <p:cNvPr id="228" name="文本框 21516"/>
          <p:cNvSpPr/>
          <p:nvPr/>
        </p:nvSpPr>
        <p:spPr>
          <a:xfrm>
            <a:off x="910800" y="938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295280" y="1295280"/>
            <a:ext cx="2590920" cy="360"/>
            <a:chOff x="1295280" y="1295280"/>
            <a:chExt cx="2590920" cy="360"/>
          </a:xfrm>
        </p:grpSpPr>
        <p:sp>
          <p:nvSpPr>
            <p:cNvPr id="230" name="直接连接符 21517"/>
            <p:cNvSpPr/>
            <p:nvPr/>
          </p:nvSpPr>
          <p:spPr>
            <a:xfrm>
              <a:off x="1295280" y="12952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295280" y="129528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文本框 21518"/>
          <p:cNvSpPr/>
          <p:nvPr/>
        </p:nvSpPr>
        <p:spPr>
          <a:xfrm>
            <a:off x="3809880" y="114300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分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905120" y="4495680"/>
            <a:ext cx="360" cy="1295640"/>
            <a:chOff x="1905120" y="4495680"/>
            <a:chExt cx="360" cy="1295640"/>
          </a:xfrm>
        </p:grpSpPr>
        <p:sp>
          <p:nvSpPr>
            <p:cNvPr id="234" name="直接连接符 21519"/>
            <p:cNvSpPr/>
            <p:nvPr/>
          </p:nvSpPr>
          <p:spPr>
            <a:xfrm>
              <a:off x="1905120" y="4495680"/>
              <a:ext cx="0" cy="129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905120" y="4495680"/>
              <a:ext cx="36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905120" y="5791320"/>
            <a:ext cx="2361960" cy="360"/>
            <a:chOff x="1905120" y="5791320"/>
            <a:chExt cx="2361960" cy="360"/>
          </a:xfrm>
        </p:grpSpPr>
        <p:sp>
          <p:nvSpPr>
            <p:cNvPr id="237" name="直接连接符 21520"/>
            <p:cNvSpPr/>
            <p:nvPr/>
          </p:nvSpPr>
          <p:spPr>
            <a:xfrm>
              <a:off x="1905120" y="579132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1905120" y="5791320"/>
              <a:ext cx="2361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矩形 21521"/>
          <p:cNvSpPr/>
          <p:nvPr/>
        </p:nvSpPr>
        <p:spPr>
          <a:xfrm>
            <a:off x="4267080" y="5638680"/>
            <a:ext cx="457200" cy="45432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724280" y="5867280"/>
            <a:ext cx="2590920" cy="360"/>
            <a:chOff x="4724280" y="5867280"/>
            <a:chExt cx="2590920" cy="360"/>
          </a:xfrm>
        </p:grpSpPr>
        <p:sp>
          <p:nvSpPr>
            <p:cNvPr id="241" name="直接连接符 21522"/>
            <p:cNvSpPr/>
            <p:nvPr/>
          </p:nvSpPr>
          <p:spPr>
            <a:xfrm>
              <a:off x="4724280" y="58672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4724280" y="586728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文本框 21523"/>
          <p:cNvSpPr/>
          <p:nvPr/>
        </p:nvSpPr>
        <p:spPr>
          <a:xfrm>
            <a:off x="723888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1524"/>
          <p:cNvSpPr/>
          <p:nvPr/>
        </p:nvSpPr>
        <p:spPr>
          <a:xfrm>
            <a:off x="5478120" y="3376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038120" y="1523520"/>
            <a:ext cx="360" cy="1143000"/>
            <a:chOff x="4038120" y="1523520"/>
            <a:chExt cx="360" cy="1143000"/>
          </a:xfrm>
        </p:grpSpPr>
        <p:sp>
          <p:nvSpPr>
            <p:cNvPr id="246" name="直接连接符 21525"/>
            <p:cNvSpPr/>
            <p:nvPr/>
          </p:nvSpPr>
          <p:spPr>
            <a:xfrm flipV="1">
              <a:off x="4038480" y="15235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 rot="10800000">
              <a:off x="4038120" y="152352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543800" y="4648320"/>
            <a:ext cx="360" cy="914400"/>
            <a:chOff x="7543800" y="4648320"/>
            <a:chExt cx="360" cy="914400"/>
          </a:xfrm>
        </p:grpSpPr>
        <p:sp>
          <p:nvSpPr>
            <p:cNvPr id="249" name="直接连接符 21526"/>
            <p:cNvSpPr/>
            <p:nvPr/>
          </p:nvSpPr>
          <p:spPr>
            <a:xfrm>
              <a:off x="7543800" y="46483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543800" y="464832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495680" y="4952880"/>
            <a:ext cx="360" cy="685800"/>
            <a:chOff x="4495680" y="4952880"/>
            <a:chExt cx="360" cy="685800"/>
          </a:xfrm>
        </p:grpSpPr>
        <p:sp>
          <p:nvSpPr>
            <p:cNvPr id="252" name="直接连接符 21527"/>
            <p:cNvSpPr/>
            <p:nvPr/>
          </p:nvSpPr>
          <p:spPr>
            <a:xfrm>
              <a:off x="4495680" y="49528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495680" y="49528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21528"/>
          <p:cNvSpPr/>
          <p:nvPr/>
        </p:nvSpPr>
        <p:spPr>
          <a:xfrm>
            <a:off x="4648320" y="476280"/>
            <a:ext cx="44956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写景顺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从总到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从静到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由实到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22529"/>
          <p:cNvSpPr/>
          <p:nvPr/>
        </p:nvSpPr>
        <p:spPr>
          <a:xfrm>
            <a:off x="457200" y="2819520"/>
            <a:ext cx="236232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江山如此多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引无数英雄竟折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530"/>
          <p:cNvSpPr/>
          <p:nvPr/>
        </p:nvSpPr>
        <p:spPr>
          <a:xfrm>
            <a:off x="3733920" y="2819520"/>
            <a:ext cx="213336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秦皇汉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略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唐宗宋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稍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成吉思汗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只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2531"/>
          <p:cNvSpPr/>
          <p:nvPr/>
        </p:nvSpPr>
        <p:spPr>
          <a:xfrm>
            <a:off x="7010280" y="3200400"/>
            <a:ext cx="160020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数风流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还看今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2532"/>
          <p:cNvSpPr/>
          <p:nvPr/>
        </p:nvSpPr>
        <p:spPr>
          <a:xfrm>
            <a:off x="303444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2533"/>
          <p:cNvSpPr/>
          <p:nvPr/>
        </p:nvSpPr>
        <p:spPr>
          <a:xfrm>
            <a:off x="6128280" y="320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俱往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直接箭头连接符 22534"/>
          <p:cNvCxnSpPr>
            <a:stCxn id="255" idx="0"/>
          </p:cNvCxnSpPr>
          <p:nvPr/>
        </p:nvCxnSpPr>
        <p:spPr>
          <a:xfrm>
            <a:off x="1638360" y="2819520"/>
            <a:ext cx="216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sm" type="triangle" w="sm"/>
          </a:ln>
        </p:spPr>
      </p:cxnSp>
      <p:sp>
        <p:nvSpPr>
          <p:cNvPr id="261" name="文本框 22535"/>
          <p:cNvSpPr/>
          <p:nvPr/>
        </p:nvSpPr>
        <p:spPr>
          <a:xfrm>
            <a:off x="1219320" y="1371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过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133720" y="1752480"/>
            <a:ext cx="2057400" cy="360"/>
            <a:chOff x="2133720" y="1752480"/>
            <a:chExt cx="2057400" cy="360"/>
          </a:xfrm>
        </p:grpSpPr>
        <p:sp>
          <p:nvSpPr>
            <p:cNvPr id="263" name="直接连接符 22536"/>
            <p:cNvSpPr/>
            <p:nvPr/>
          </p:nvSpPr>
          <p:spPr>
            <a:xfrm>
              <a:off x="2133720" y="175248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133720" y="175248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文本框 22537"/>
          <p:cNvSpPr/>
          <p:nvPr/>
        </p:nvSpPr>
        <p:spPr>
          <a:xfrm>
            <a:off x="4114800" y="144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评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029200" y="1752480"/>
            <a:ext cx="1905120" cy="360"/>
            <a:chOff x="5029200" y="1752480"/>
            <a:chExt cx="1905120" cy="360"/>
          </a:xfrm>
        </p:grpSpPr>
        <p:sp>
          <p:nvSpPr>
            <p:cNvPr id="267" name="直接连接符 22538"/>
            <p:cNvSpPr/>
            <p:nvPr/>
          </p:nvSpPr>
          <p:spPr>
            <a:xfrm>
              <a:off x="5029200" y="175248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5029200" y="175248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文本框 22539"/>
          <p:cNvSpPr/>
          <p:nvPr/>
        </p:nvSpPr>
        <p:spPr>
          <a:xfrm>
            <a:off x="6934320" y="1371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颂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1640" y="2057040"/>
            <a:ext cx="360" cy="762120"/>
            <a:chOff x="4571640" y="2057040"/>
            <a:chExt cx="360" cy="762120"/>
          </a:xfrm>
        </p:grpSpPr>
        <p:sp>
          <p:nvSpPr>
            <p:cNvPr id="271" name="直接连接符 22540"/>
            <p:cNvSpPr/>
            <p:nvPr/>
          </p:nvSpPr>
          <p:spPr>
            <a:xfrm flipV="1">
              <a:off x="4572000" y="205704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 rot="10800000">
              <a:off x="4571640" y="205704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543440" y="1980720"/>
            <a:ext cx="360" cy="1219320"/>
            <a:chOff x="7543440" y="1980720"/>
            <a:chExt cx="360" cy="1219320"/>
          </a:xfrm>
        </p:grpSpPr>
        <p:sp>
          <p:nvSpPr>
            <p:cNvPr id="274" name="直接连接符 22541"/>
            <p:cNvSpPr/>
            <p:nvPr/>
          </p:nvSpPr>
          <p:spPr>
            <a:xfrm flipV="1">
              <a:off x="7543800" y="19807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 rot="10800000">
              <a:off x="7543440" y="1980720"/>
              <a:ext cx="36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文本框 22542"/>
          <p:cNvSpPr/>
          <p:nvPr/>
        </p:nvSpPr>
        <p:spPr>
          <a:xfrm>
            <a:off x="2895480" y="5105520"/>
            <a:ext cx="35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议论、抒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76160" y="1828800"/>
            <a:ext cx="360" cy="990720"/>
            <a:chOff x="1676160" y="1828800"/>
            <a:chExt cx="360" cy="990720"/>
          </a:xfrm>
        </p:grpSpPr>
        <p:sp>
          <p:nvSpPr>
            <p:cNvPr id="278" name="直接连接符 22543"/>
            <p:cNvSpPr/>
            <p:nvPr/>
          </p:nvSpPr>
          <p:spPr>
            <a:xfrm flipV="1">
              <a:off x="1676520" y="18288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 rot="10800000">
              <a:off x="1676160" y="182880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右箭头 22544"/>
          <p:cNvSpPr/>
          <p:nvPr/>
        </p:nvSpPr>
        <p:spPr>
          <a:xfrm>
            <a:off x="2819520" y="36576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右箭头 22545"/>
          <p:cNvSpPr/>
          <p:nvPr/>
        </p:nvSpPr>
        <p:spPr>
          <a:xfrm>
            <a:off x="6019920" y="3733920"/>
            <a:ext cx="990360" cy="75960"/>
          </a:xfrm>
          <a:prstGeom prst="rightArrow">
            <a:avLst>
              <a:gd name="adj1" fmla="val 50000"/>
              <a:gd name="adj2" fmla="val 325948"/>
            </a:avLst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图片 128001" descr="雪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83" name="矩形 128002"/>
          <p:cNvSpPr/>
          <p:nvPr/>
        </p:nvSpPr>
        <p:spPr>
          <a:xfrm>
            <a:off x="533520" y="10666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你从毛主席的诗歌中体会到了哪些美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28003"/>
          <p:cNvSpPr/>
          <p:nvPr/>
        </p:nvSpPr>
        <p:spPr>
          <a:xfrm>
            <a:off x="1447920" y="2895480"/>
            <a:ext cx="4572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气磅礴的意境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超凡脱俗的人格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深邃隽永的哲理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90113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1"/>
          <p:cNvSpPr/>
          <p:nvPr/>
        </p:nvSpPr>
        <p:spPr>
          <a:xfrm>
            <a:off x="2050920" y="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全词小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90115"/>
          <p:cNvSpPr/>
          <p:nvPr/>
        </p:nvSpPr>
        <p:spPr>
          <a:xfrm>
            <a:off x="324000" y="1098720"/>
            <a:ext cx="8532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上阕写景抒情，下阕评古论今，从赞美祖国大好河山到评说封建帝王的不足，水到渠成地过渡到歌颂真正的英雄人物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中国共产党领导下的伟大的中国人民，从而将议论和抒情结合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图片 23553" descr="雪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23554" descr="030124qycchangsha"/>
          <p:cNvPicPr/>
          <p:nvPr/>
        </p:nvPicPr>
        <p:blipFill>
          <a:blip r:embed="rId2"/>
          <a:stretch/>
        </p:blipFill>
        <p:spPr>
          <a:xfrm>
            <a:off x="108000" y="1413000"/>
            <a:ext cx="8928000" cy="5329080"/>
          </a:xfrm>
          <a:prstGeom prst="rect">
            <a:avLst/>
          </a:prstGeom>
          <a:ln w="0">
            <a:noFill/>
          </a:ln>
        </p:spPr>
      </p:pic>
      <p:sp>
        <p:nvSpPr>
          <p:cNvPr id="290" name="矩形 23555"/>
          <p:cNvSpPr txBox="1"/>
          <p:nvPr/>
        </p:nvSpPr>
        <p:spPr>
          <a:xfrm>
            <a:off x="252360" y="189000"/>
            <a:ext cx="2448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拓展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1" name="文本框 23556"/>
          <p:cNvSpPr/>
          <p:nvPr/>
        </p:nvSpPr>
        <p:spPr>
          <a:xfrm>
            <a:off x="538200" y="1628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沁园春  长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3557"/>
          <p:cNvSpPr/>
          <p:nvPr/>
        </p:nvSpPr>
        <p:spPr>
          <a:xfrm>
            <a:off x="179280" y="2205000"/>
            <a:ext cx="583272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独立寒秋，湘江北去，橘子洲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看万山红遍，丛林尽染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漫江碧透，百舸争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鹰击长空，鱼翔浅底，万类霜天竞自由。怅寥阔，问苍茫大地，谁主沉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携来百侣曾游，忆往昔峥嵘岁月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恰同学少年，风华正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书生意气，挥斥方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指点江山，激扬文字，粪土当年万户侯。曾记否，到中流击水 ，浪遏飞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23558"/>
          <p:cNvSpPr/>
          <p:nvPr/>
        </p:nvSpPr>
        <p:spPr>
          <a:xfrm>
            <a:off x="2987640" y="189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1925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月，毛泽东从上海回到韶山，从事革命活动，军阀赵恒惕要逮捕他，在韶山人民的掩护下，他秘密离开韶山，到达长沙，并独自来到橘子洲头。事后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《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沁园春 长沙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。此时毛泽东正在苦苦寻求救国救民之路，因而发出了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“怅寥阔，问苍茫大地，谁主沉浮？”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的呼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24577" descr="雪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95" name="矩形 24578"/>
          <p:cNvSpPr/>
          <p:nvPr/>
        </p:nvSpPr>
        <p:spPr>
          <a:xfrm>
            <a:off x="685800" y="17636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沁园春  长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里作者对当年的求索“怅寥阔，问苍茫大地，谁主沉浮？”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沁园春  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是否有了回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4579"/>
          <p:cNvSpPr/>
          <p:nvPr/>
        </p:nvSpPr>
        <p:spPr>
          <a:xfrm>
            <a:off x="1037880" y="6094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  <a:ea typeface="华文彩云"/>
              </a:rPr>
              <a:t>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4580"/>
          <p:cNvSpPr/>
          <p:nvPr/>
        </p:nvSpPr>
        <p:spPr>
          <a:xfrm>
            <a:off x="762120" y="41148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俱往矣，数风流人物，还看今朝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文本框 25601"/>
          <p:cNvSpPr/>
          <p:nvPr/>
        </p:nvSpPr>
        <p:spPr>
          <a:xfrm>
            <a:off x="0" y="3808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课外积累：尝试填写下列毛泽东诗词名句的上句或下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赤橙黄绿青蓝紫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-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风景这边独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雄关漫道真如铁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-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屈指行程二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宜将剩勇追穷寇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红军不怕远征难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088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谁持彩练当空舞？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踏遍青山人未老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而今迈步从头越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不到长城非好汉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不可沽名学霸王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万水千山只等闲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三、下面这首词的内容也与雪有关。反复朗读这首词，说说它抒发了诗人怎样的感情，情与景是怎样交融的。如有条件，课外抄录或背诵毛泽东的其他诗词，与同学交流心得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3017880"/>
            <a:ext cx="91440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减字木兰花　　广昌路上（</a:t>
            </a:r>
            <a:r>
              <a:rPr b="0" lang="en-US" sz="4000" spc="-1" strike="noStrike">
                <a:solidFill>
                  <a:srgbClr val="6600ff"/>
                </a:solidFill>
                <a:latin typeface="宋体"/>
              </a:rPr>
              <a:t>1930</a:t>
            </a: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年</a:t>
            </a:r>
            <a:r>
              <a:rPr b="0" lang="en-US" sz="4000" spc="-1" strike="noStrike">
                <a:solidFill>
                  <a:srgbClr val="6600ff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月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　毛泽东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漫天皆白， 雪里行军情更迫。</a:t>
            </a:r>
            <a:br>
              <a:rPr sz="4000"/>
            </a:b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头上高山，风卷红旗过大关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此行何去？赣江风雪弥漫处。</a:t>
            </a:r>
            <a:br>
              <a:rPr sz="4000"/>
            </a:br>
            <a:r>
              <a:rPr b="0" lang="zh-CN" sz="4000" spc="-1" strike="noStrike">
                <a:solidFill>
                  <a:srgbClr val="6600ff"/>
                </a:solidFill>
                <a:latin typeface="宋体"/>
              </a:rPr>
              <a:t>命令昨颁，十万工农下吉安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Verdana"/>
              </a:rPr>
              <a:t>      </a:t>
            </a:r>
            <a:r>
              <a:rPr b="0" lang="zh-CN" sz="3600" spc="-1" strike="noStrike">
                <a:solidFill>
                  <a:srgbClr val="a50021"/>
                </a:solidFill>
                <a:latin typeface="Verdana"/>
              </a:rPr>
              <a:t>都描写了雪景，都有雄壮的气势，豪放的风格。</a:t>
            </a:r>
            <a:br>
              <a:rPr sz="3600"/>
            </a:br>
            <a:r>
              <a:rPr b="0" lang="zh-CN" sz="3600" spc="-1" strike="noStrike">
                <a:solidFill>
                  <a:srgbClr val="a50021"/>
                </a:solidFill>
                <a:latin typeface="Verdana"/>
              </a:rPr>
              <a:t>      前者是借景抒怀之作，赞美祖国山河的壮丽，抒发诗人作为革命领袖的豪情壮志；</a:t>
            </a:r>
            <a:br>
              <a:rPr sz="3600"/>
            </a:br>
            <a:r>
              <a:rPr b="0" lang="zh-CN" sz="3600" spc="-1" strike="noStrike">
                <a:solidFill>
                  <a:srgbClr val="a50021"/>
                </a:solidFill>
                <a:latin typeface="Verdana"/>
              </a:rPr>
              <a:t>       后者是写景叙事之作，描写行军的一个场景，表现工农红军一往无前的战斗气概。前者上片写景下片议论；后者上片写景下片叙事。前者写的是北国雪景，壮阔而美好，并有诗人的想像；后者写的是南国雪景，虽有气势而难与前者相比，只是展现眼前的实景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动作按钮: 开始 74754"/>
          <p:cNvSpPr/>
          <p:nvPr/>
        </p:nvSpPr>
        <p:spPr>
          <a:xfrm>
            <a:off x="81532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5939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14094" y="3794"/>
                </a:lnTo>
                <a:lnTo>
                  <a:pt x="14094" y="17806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74755"/>
          <p:cNvSpPr/>
          <p:nvPr/>
        </p:nvSpPr>
        <p:spPr>
          <a:xfrm>
            <a:off x="533520" y="1295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重庆谈判期间，爱国民主人士柳亚子向毛泽东“索句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毛泽东即赠此词。柳读后，评价道：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展读之余，以为中国有词以来第一作手，虽苏、辛未能抗，况余子乎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126977" descr="雪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304" name="矩形 126978"/>
          <p:cNvSpPr/>
          <p:nvPr/>
        </p:nvSpPr>
        <p:spPr>
          <a:xfrm>
            <a:off x="3059280" y="476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泽东诗词中的名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126979"/>
          <p:cNvSpPr/>
          <p:nvPr/>
        </p:nvSpPr>
        <p:spPr>
          <a:xfrm>
            <a:off x="1163520" y="47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彩云"/>
              </a:rPr>
              <a:t>知识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26980"/>
          <p:cNvSpPr/>
          <p:nvPr/>
        </p:nvSpPr>
        <p:spPr>
          <a:xfrm>
            <a:off x="395280" y="1055520"/>
            <a:ext cx="8136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天若有情天亦老，人间正道是沧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——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七律、人民解放军占领南京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雄关漫道真如铁，而今迈步从头越。   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——《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忆秦娥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娄山关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踏遍青山人未老，风景这边独好。  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——《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清平乐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会昌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不到长城非好汉，屈指行程二万。  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——《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清平乐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六盘山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世上无难事，只要肯登攀。         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——《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水调歌头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重上井冈山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91137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矩形 91138"/>
          <p:cNvSpPr/>
          <p:nvPr/>
        </p:nvSpPr>
        <p:spPr>
          <a:xfrm>
            <a:off x="468360" y="2133720"/>
            <a:ext cx="84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发挥想象</a:t>
            </a:r>
            <a:r>
              <a:rPr b="0" lang="en-US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用自己的话描绘一下诗人笔下的北国雪景图，并谈谈你的感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91139"/>
          <p:cNvSpPr txBox="1"/>
          <p:nvPr/>
        </p:nvSpPr>
        <p:spPr>
          <a:xfrm>
            <a:off x="2124000" y="333360"/>
            <a:ext cx="5616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5231"/>
                <a:gd name="adj2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练笔天地</a:t>
            </a:r>
            <a:endParaRPr b="1" lang="en-US" sz="6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4097" descr="Nature05"/>
          <p:cNvPicPr/>
          <p:nvPr/>
        </p:nvPicPr>
        <p:blipFill>
          <a:blip r:embed="rId1"/>
          <a:srcRect l="0" t="0" r="0" b="7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4098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109" name="矩形 4099"/>
          <p:cNvSpPr txBox="1"/>
          <p:nvPr/>
        </p:nvSpPr>
        <p:spPr>
          <a:xfrm>
            <a:off x="826920" y="692280"/>
            <a:ext cx="75614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0265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彩云"/>
              </a:rPr>
              <a:t>沁园春  雪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f0265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10" name="文本框 4100"/>
          <p:cNvSpPr/>
          <p:nvPr/>
        </p:nvSpPr>
        <p:spPr>
          <a:xfrm>
            <a:off x="611280" y="4508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宋体"/>
              </a:rPr>
              <a:t>     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宋体"/>
              </a:rPr>
              <a:t>《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沁园春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宋体"/>
              </a:rPr>
              <a:t>》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这个词牌规定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宋体"/>
              </a:rPr>
              <a:t>114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个字，分上下两阕</a:t>
            </a:r>
            <a:r>
              <a:rPr b="1" lang="en-US" sz="4400" spc="-1" strike="noStrike">
                <a:solidFill>
                  <a:srgbClr val="6600ff"/>
                </a:solidFill>
                <a:latin typeface="宋体"/>
                <a:ea typeface="宋体"/>
              </a:rPr>
              <a:t>qu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，上阕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宋体"/>
              </a:rPr>
              <a:t>13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句，下阕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宋体"/>
              </a:rPr>
              <a:t>12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句，句号处必须压韵。</a:t>
            </a:r>
            <a:r>
              <a:rPr b="1" lang="zh-CN" sz="2600" spc="-1" strike="noStrike">
                <a:solidFill>
                  <a:srgbClr val="000099"/>
                </a:solidFill>
                <a:latin typeface="Arial"/>
                <a:ea typeface="宋体"/>
              </a:rPr>
              <a:t>“沁园”相传是东汉明帝女儿沁水公主的园林，曾被外戚窦宪夺取，后人作诗以咏其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26977"/>
          <p:cNvSpPr/>
          <p:nvPr/>
        </p:nvSpPr>
        <p:spPr>
          <a:xfrm>
            <a:off x="-36360" y="1052640"/>
            <a:ext cx="932472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①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分（   ）外妖娆（   </a:t>
            </a:r>
            <a:r>
              <a:rPr b="0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逊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成吉思汗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数（</a:t>
            </a:r>
            <a:r>
              <a:rPr b="1" lang="zh-CN" sz="4000" spc="-1" strike="noStrike">
                <a:solidFill>
                  <a:srgbClr val="ff3300"/>
                </a:solidFill>
                <a:latin typeface="方正启体简体"/>
                <a:ea typeface="方正启体简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）风流人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还看今朝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26978"/>
          <p:cNvSpPr/>
          <p:nvPr/>
        </p:nvSpPr>
        <p:spPr>
          <a:xfrm>
            <a:off x="2268360" y="33336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流行体简体"/>
                <a:ea typeface="方正流行体简体"/>
              </a:rPr>
              <a:t>掌握正确读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6979"/>
          <p:cNvSpPr/>
          <p:nvPr/>
        </p:nvSpPr>
        <p:spPr>
          <a:xfrm>
            <a:off x="1836720" y="15080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f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6980"/>
          <p:cNvSpPr/>
          <p:nvPr/>
        </p:nvSpPr>
        <p:spPr>
          <a:xfrm>
            <a:off x="5078160" y="143496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r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6981"/>
          <p:cNvSpPr/>
          <p:nvPr/>
        </p:nvSpPr>
        <p:spPr>
          <a:xfrm>
            <a:off x="1981440" y="256536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x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6982"/>
          <p:cNvSpPr/>
          <p:nvPr/>
        </p:nvSpPr>
        <p:spPr>
          <a:xfrm>
            <a:off x="3278520" y="357336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6983"/>
          <p:cNvSpPr/>
          <p:nvPr/>
        </p:nvSpPr>
        <p:spPr>
          <a:xfrm>
            <a:off x="1885680" y="46530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6984"/>
          <p:cNvSpPr/>
          <p:nvPr/>
        </p:nvSpPr>
        <p:spPr>
          <a:xfrm>
            <a:off x="3409560" y="573408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h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05473"/>
          <p:cNvSpPr/>
          <p:nvPr/>
        </p:nvSpPr>
        <p:spPr>
          <a:xfrm>
            <a:off x="2377440" y="1773360"/>
            <a:ext cx="456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第一轮读悟：</a:t>
            </a:r>
            <a:br>
              <a:rPr sz="3600"/>
            </a:b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整体感知，确立朗读基调，初悟词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2289" descr="雪1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12290"/>
          <p:cNvSpPr/>
          <p:nvPr/>
        </p:nvSpPr>
        <p:spPr>
          <a:xfrm>
            <a:off x="380880" y="91440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诗歌朗读应注意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291"/>
          <p:cNvSpPr/>
          <p:nvPr/>
        </p:nvSpPr>
        <p:spPr>
          <a:xfrm>
            <a:off x="457200" y="2133720"/>
            <a:ext cx="31240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停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节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重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感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2292"/>
          <p:cNvSpPr/>
          <p:nvPr/>
        </p:nvSpPr>
        <p:spPr>
          <a:xfrm>
            <a:off x="2286000" y="2286000"/>
            <a:ext cx="7696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ff"/>
                </a:solidFill>
                <a:uFillTx/>
                <a:latin typeface="宋体"/>
                <a:ea typeface="宋体"/>
              </a:rPr>
              <a:t>北国</a:t>
            </a:r>
            <a:r>
              <a:rPr b="1" lang="en-US" sz="4400" spc="-1" strike="noStrike">
                <a:solidFill>
                  <a:srgbClr val="9900ff"/>
                </a:solidFill>
                <a:latin typeface="宋体"/>
                <a:ea typeface="宋体"/>
              </a:rPr>
              <a:t>/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  <a:ea typeface="宋体"/>
              </a:rPr>
              <a:t>风光，</a:t>
            </a:r>
            <a:r>
              <a:rPr b="1" lang="en-US" sz="4400" spc="-1" strike="noStrike">
                <a:solidFill>
                  <a:srgbClr val="9900ff"/>
                </a:solidFill>
                <a:latin typeface="宋体"/>
                <a:ea typeface="宋体"/>
              </a:rPr>
              <a:t>(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  <a:ea typeface="宋体"/>
              </a:rPr>
              <a:t>豪迈，高而慢</a:t>
            </a:r>
            <a:r>
              <a:rPr b="1" lang="en-US" sz="4400" spc="-1" strike="noStrike">
                <a:solidFill>
                  <a:srgbClr val="9900ff"/>
                </a:solidFill>
                <a:latin typeface="宋体"/>
                <a:ea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ff"/>
                </a:solidFill>
                <a:uFillTx/>
                <a:latin typeface="宋体"/>
                <a:ea typeface="宋体"/>
              </a:rPr>
              <a:t>千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  <a:ea typeface="宋体"/>
              </a:rPr>
              <a:t>里</a:t>
            </a:r>
            <a:r>
              <a:rPr b="1" lang="en-US" sz="4400" spc="-1" strike="noStrike">
                <a:solidFill>
                  <a:srgbClr val="9900ff"/>
                </a:solidFill>
                <a:latin typeface="宋体"/>
                <a:ea typeface="宋体"/>
              </a:rPr>
              <a:t>/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  <a:ea typeface="宋体"/>
              </a:rPr>
              <a:t>冰封，（拉长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ff"/>
                </a:solidFill>
                <a:uFillTx/>
                <a:latin typeface="宋体"/>
                <a:ea typeface="宋体"/>
              </a:rPr>
              <a:t>万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  <a:ea typeface="宋体"/>
              </a:rPr>
              <a:t>里</a:t>
            </a:r>
            <a:r>
              <a:rPr b="1" lang="en-US" sz="4400" spc="-1" strike="noStrike">
                <a:solidFill>
                  <a:srgbClr val="9900ff"/>
                </a:solidFill>
                <a:latin typeface="宋体"/>
                <a:ea typeface="宋体"/>
              </a:rPr>
              <a:t>/</a:t>
            </a:r>
            <a:r>
              <a:rPr b="1" lang="zh-CN" sz="4400" spc="-1" strike="noStrike">
                <a:solidFill>
                  <a:srgbClr val="9900ff"/>
                </a:solidFill>
                <a:latin typeface="宋体"/>
                <a:ea typeface="宋体"/>
              </a:rPr>
              <a:t>雪飘。（高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16:27:57Z</dcterms:created>
  <dc:creator>微软用户</dc:creator>
  <dc:description/>
  <dc:language>en-US</dc:language>
  <cp:lastModifiedBy>Administrator</cp:lastModifiedBy>
  <dcterms:modified xsi:type="dcterms:W3CDTF">2016-09-01T10:59:13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