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9383-5046-49CB-98C0-9E2C7645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E8A2-0EBE-4CF7-90EB-0C7D5256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0B98-758A-40E7-98EB-487BCC19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0240-FAE0-42BA-BD3F-3D009415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C82DE-BA19-4B60-BC5F-08AADCD42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E3C8B-A272-437D-8B94-0065876A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1A08B-DAC6-42C1-A1C9-23FB424C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13ECE-B697-4C52-9A64-4F77BD6F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402BC-1B86-4CCE-97FC-CA8389FD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D6CA2-9575-4A54-BB37-711B9CB9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64FA1-7F55-4B3C-A4E5-13A24D7D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2698-8928-4F73-9353-066D5BA3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E513C-E36B-4EA2-80E4-50656461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FB85C-404C-45F7-9817-E729A10E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2B1A4-FC32-4D72-A453-5306A3AC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F61DA-FE07-405A-A2BD-77A0B201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19D97-950A-4E42-A174-76ABCFFB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9AAFF-3C58-44E1-8060-950AF72A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1DB7B-FDD5-46F6-9CC6-B04EE6C6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29899-AF61-4538-9E70-18D940C8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CECD1-0B78-4E9D-8465-CACCB78C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DC6DB-4F19-4C7F-AE3E-FBF7591F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CB39-C5EA-4F98-AAF5-CF03B253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E3D1A-A05D-4B6D-B373-EC3A1168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80948-E1DD-4348-A95A-E398102C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2A0AF-7BE6-4F6F-A62A-066053D6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CAB42-6C61-4397-B349-37D5B218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BCFCE-6E20-4364-BEAB-E7AA03FB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D56E4-7E28-44F3-BB9F-5B8C9747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74F10-7E75-4281-A434-369C6324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85FE3-4801-41C1-9D77-147C4E1A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2BD31-7AD1-4CD1-8504-3976C208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06EF4-06F2-4438-8EE9-CFC3D0B7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747D-EF41-48A3-9E1E-886FEBE3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EF96C-701F-4BD3-9B91-B3C525BE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3C029-36E4-400B-B22D-54951C83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9A84C-17FC-42BC-B23D-6E83A102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708F8-549E-4599-AAD7-4328AD9B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8E4FF-F8B6-4A3A-836A-999BB01B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B7C46-F657-4861-8915-CF0CB8FA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01E9A-0AC4-4610-8C05-93C45077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D1C45-C25F-4980-ABAC-981CBF232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7B309-C9CF-4A01-8736-A05C1B2D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F62E4-3E95-45F8-8E59-5418997E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53BA-1D72-45F4-8E5D-00ACD349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D91D1-33EB-4857-B550-2322429D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21362-E61D-49FE-8626-369ED7BE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B802E-3FAB-4046-BE93-5CF1D091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32C03-259F-4D72-BD97-C6F00D1C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40C60-6380-47CF-A974-6F7E98B6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E0BA5-20C7-400C-BEF8-C63B098A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813DE-1020-40CC-A213-E140C84E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F9AD8-13D3-4A7F-BB56-65473D21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8AFC8-6A21-476C-8F48-B2D10ACD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E6B6C-3B2C-4501-A1C1-C6712858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7016-4189-4258-A185-1E31B9F2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70AB7-EEB3-4375-A4D1-8AB9F2AC0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2164C-8728-4A86-89EA-691D83C1C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CEA76-A07D-4347-8B30-0BA21179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9C8DE-DBDA-4905-AE1D-AE58E2E6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D949A-5961-4853-B365-13E54E22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7225E-B015-4711-900F-E239596B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4B166-A1A2-4BBF-9746-B836D9EC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6DC4C-71CE-4D6B-8E92-437FE54E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3B126-A1DE-47F3-9C4B-A044381B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33C03-594E-4797-ACDE-75B91A11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7D46-879A-4BF4-BA96-C3200F5F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C2E20-B16E-4316-A7B8-E8FCD14C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0912F-3B4A-4820-8E5B-CA96FC1E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46A76-6E19-458B-84F8-063718F5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1109-9751-4E04-90E3-81E23DF2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E36B-0924-4E63-8515-98EC8F75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0CCF-B6D1-4A5A-A407-D43483EB06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未知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3100-0063-4020-BF7B-F25439CA95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F746-00DE-4842-A637-50F48D5E09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0BE4-2CF9-4FC1-AE4B-309C7B2001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121F-C96B-4D90-B736-80B47858DB5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12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213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216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96D6-8BE6-4BB2-9EF4-5858C0859AF6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7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17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image" Target="../media/image30.jpeg"/><Relationship Id="rId12" Type="http://schemas.openxmlformats.org/officeDocument/2006/relationships/image" Target="../media/image31.jpeg"/><Relationship Id="rId13" Type="http://schemas.openxmlformats.org/officeDocument/2006/relationships/image" Target="../media/image9.jpeg"/><Relationship Id="rId14" Type="http://schemas.openxmlformats.org/officeDocument/2006/relationships/image" Target="../media/image32.jpeg"/><Relationship Id="rId15" Type="http://schemas.openxmlformats.org/officeDocument/2006/relationships/image" Target="../media/image33.jpeg"/><Relationship Id="rId16" Type="http://schemas.openxmlformats.org/officeDocument/2006/relationships/image" Target="../media/image34.jpeg"/><Relationship Id="rId17" Type="http://schemas.openxmlformats.org/officeDocument/2006/relationships/image" Target="../media/image35.jpeg"/><Relationship Id="rId18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图片 1" descr="长城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2"/>
          <p:cNvSpPr/>
          <p:nvPr/>
        </p:nvSpPr>
        <p:spPr>
          <a:xfrm>
            <a:off x="1571760" y="1500120"/>
            <a:ext cx="600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沁园春</a:t>
            </a:r>
            <a:r>
              <a:rPr b="0" lang="en-US" sz="9600" spc="-1" strike="noStrike">
                <a:solidFill>
                  <a:srgbClr val="0000ff"/>
                </a:solidFill>
                <a:latin typeface="华文新魏"/>
                <a:ea typeface="华文新魏"/>
              </a:rPr>
              <a:t>·</a:t>
            </a:r>
            <a:r>
              <a:rPr b="1" lang="zh-CN" sz="9600" spc="-1" strike="noStrike">
                <a:solidFill>
                  <a:srgbClr val="0000ff"/>
                </a:solidFill>
                <a:latin typeface="华文新魏"/>
                <a:ea typeface="华文新魏"/>
              </a:rPr>
              <a:t>雪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Box 3"/>
          <p:cNvSpPr/>
          <p:nvPr/>
        </p:nvSpPr>
        <p:spPr>
          <a:xfrm>
            <a:off x="2411280" y="3284640"/>
            <a:ext cx="40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毛泽东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一九三六年二月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6553080" y="914400"/>
            <a:ext cx="21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渡自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629400" y="2133720"/>
            <a:ext cx="219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用词精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有褒有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629400" y="4800600"/>
            <a:ext cx="23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点明主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0920" y="0"/>
            <a:ext cx="32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下阕写什么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71640" y="0"/>
            <a:ext cx="51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议论历史人物，歌颂当今英雄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4920" y="5587920"/>
            <a:ext cx="28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现什么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08000" y="60958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评析千秋历史功过，高度赞颂当今无产阶级和革命人民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9280" y="3141720"/>
            <a:ext cx="275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如何写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590920" y="762120"/>
            <a:ext cx="3413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江山如此多娇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引无数英雄竞折腰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惜秦始皇汉武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略输文采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唐宗宋祖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稍逊风骚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代天骄，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成吉思汗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只识弯弓射大雕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俱往矣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风流人物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还看今朝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95880" y="914400"/>
            <a:ext cx="228600" cy="685800"/>
          </a:xfrm>
          <a:custGeom>
            <a:avLst/>
            <a:gdLst>
              <a:gd name="textAreaLeft" fmla="*/ 0 w 228600"/>
              <a:gd name="textAreaRight" fmla="*/ 8244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5880" y="1676520"/>
            <a:ext cx="304920" cy="2743200"/>
          </a:xfrm>
          <a:custGeom>
            <a:avLst/>
            <a:gdLst>
              <a:gd name="textAreaLeft" fmla="*/ 0 w 304920"/>
              <a:gd name="textAreaRight" fmla="*/ 110160 w 3049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95880" y="457200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06640" y="981000"/>
            <a:ext cx="549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63640" y="1052640"/>
            <a:ext cx="720720" cy="4681440"/>
          </a:xfrm>
          <a:custGeom>
            <a:avLst/>
            <a:gdLst>
              <a:gd name="textAreaLeft" fmla="*/ 460440 w 720720"/>
              <a:gd name="textAreaRight" fmla="*/ 721080 w 720720"/>
              <a:gd name="textAreaTop" fmla="*/ 122040 h 4681440"/>
              <a:gd name="textAreaBottom" fmla="*/ 4559400 h 46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43"/>
                </a:lnTo>
                <a:cubicBezTo>
                  <a:pt x="10800" y="10043"/>
                  <a:pt x="5400" y="10943"/>
                  <a:pt x="0" y="10943"/>
                </a:cubicBezTo>
                <a:cubicBezTo>
                  <a:pt x="5400" y="10943"/>
                  <a:pt x="10800" y="11843"/>
                  <a:pt x="10800" y="1274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3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3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3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3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3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3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3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5148360" cy="270828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1116000" y="189000"/>
            <a:ext cx="6840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39640" y="47628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、“惜”字领起哪些句子？有何含义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39640" y="1700280"/>
            <a:ext cx="813600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惜”字的丰富含义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惜中含褒。肯定他们是英雄人物，他们对中国历史的发展都有过巨大的影响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b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惜中有贬。委婉批评了他们的不足，短于“文治”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c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惜中寓志。表现了后来者居上的伟大气概以及超越历代英雄人物的自信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5076720" y="4262400"/>
            <a:ext cx="4067280" cy="25956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1187280" y="836640"/>
            <a:ext cx="684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228600" y="4762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“俱往矣，数风流人物，还看今朝”怎样理解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4360" y="1741320"/>
            <a:ext cx="8135640" cy="19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今朝的风流人物，是新时代在文治和武功两方面都有更杰出的才能更伟大的抱负的人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应该是人民群众，也应该是领导人民群众进行斗争的无产阶级革命家，还应该是诗人的自况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这是诗人的自信和自励，是对中国共产党和人民大众的歌颂，是他们决心登上历史舞台的威武雄壮的宣言。这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全诗的主旨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所在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11"/>
          <p:cNvSpPr/>
          <p:nvPr/>
        </p:nvSpPr>
        <p:spPr>
          <a:xfrm>
            <a:off x="2050920" y="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华文行楷"/>
                <a:ea typeface="华文行楷"/>
              </a:rPr>
              <a:t>全词小结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24000" y="1098720"/>
            <a:ext cx="853272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上阕写景抒情，下阕评古论今，从赞美祖国大好河山到评说封建帝王的不足，水到渠成地过渡到歌颂真正的英雄人物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中国共产党领导下的伟大的中国人民，从而将议论和抒情结合起来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3"/>
          <p:cNvSpPr/>
          <p:nvPr/>
        </p:nvSpPr>
        <p:spPr>
          <a:xfrm>
            <a:off x="2411280" y="882720"/>
            <a:ext cx="6048360" cy="35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华文楷体"/>
                <a:ea typeface="华文楷体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华文楷体"/>
                <a:ea typeface="华文楷体"/>
              </a:rPr>
              <a:t>、有感情</a:t>
            </a:r>
            <a:r>
              <a:rPr b="1" lang="zh-CN" sz="4000" spc="-1" strike="noStrike">
                <a:solidFill>
                  <a:srgbClr val="0033cc"/>
                </a:solidFill>
                <a:latin typeface="华文楷体"/>
                <a:ea typeface="华文楷体"/>
              </a:rPr>
              <a:t>朗读并背诵这首词</a:t>
            </a:r>
            <a:r>
              <a:rPr b="1" lang="en-US" sz="4000" spc="-1" strike="noStrike">
                <a:solidFill>
                  <a:srgbClr val="0033cc"/>
                </a:solidFill>
                <a:latin typeface="华文楷体"/>
                <a:ea typeface="华文楷体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华文楷体"/>
                <a:ea typeface="华文楷体"/>
              </a:rPr>
              <a:t>感悟诗歌内容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华文楷体"/>
                <a:ea typeface="华文楷体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华文楷体"/>
                <a:ea typeface="华文楷体"/>
              </a:rPr>
              <a:t>、了解写景、议论、抒情的表达方式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华文楷体"/>
                <a:ea typeface="华文楷体"/>
              </a:rPr>
              <a:t>3</a:t>
            </a:r>
            <a:r>
              <a:rPr b="1" lang="zh-CN" sz="4000" spc="-1" strike="noStrike">
                <a:solidFill>
                  <a:srgbClr val="0033cc"/>
                </a:solidFill>
                <a:latin typeface="华文楷体"/>
                <a:ea typeface="华文楷体"/>
              </a:rPr>
              <a:t>、体会诗人宽广的胸怀，坚定的信心和为中华民族建功立业的伟大抱负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477720" y="620640"/>
            <a:ext cx="2374920" cy="4581720"/>
          </a:xfrm>
          <a:prstGeom prst="rect">
            <a:avLst/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学习目标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7" descr="毛泽东头像67"/>
          <p:cNvPicPr/>
          <p:nvPr/>
        </p:nvPicPr>
        <p:blipFill>
          <a:blip r:embed="rId2"/>
          <a:stretch/>
        </p:blipFill>
        <p:spPr>
          <a:xfrm>
            <a:off x="3276720" y="2606760"/>
            <a:ext cx="3028680" cy="42512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9" descr="mao9"/>
          <p:cNvPicPr/>
          <p:nvPr/>
        </p:nvPicPr>
        <p:blipFill>
          <a:blip r:embed="rId3"/>
          <a:stretch/>
        </p:blipFill>
        <p:spPr>
          <a:xfrm>
            <a:off x="2971800" y="3484440"/>
            <a:ext cx="3749760" cy="33735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3" descr="毛与邓"/>
          <p:cNvPicPr/>
          <p:nvPr/>
        </p:nvPicPr>
        <p:blipFill>
          <a:blip r:embed="rId4"/>
          <a:stretch/>
        </p:blipFill>
        <p:spPr>
          <a:xfrm>
            <a:off x="2819520" y="3905280"/>
            <a:ext cx="4024080" cy="2952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2" descr="毛泽东坐藤椅"/>
          <p:cNvPicPr/>
          <p:nvPr/>
        </p:nvPicPr>
        <p:blipFill>
          <a:blip r:embed="rId5">
            <a:lum contrast="24000"/>
          </a:blip>
          <a:stretch/>
        </p:blipFill>
        <p:spPr>
          <a:xfrm>
            <a:off x="3352680" y="3110040"/>
            <a:ext cx="2822760" cy="37479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7" descr="mzd"/>
          <p:cNvPicPr/>
          <p:nvPr/>
        </p:nvPicPr>
        <p:blipFill>
          <a:blip r:embed="rId6"/>
          <a:stretch/>
        </p:blipFill>
        <p:spPr>
          <a:xfrm>
            <a:off x="3276720" y="2290680"/>
            <a:ext cx="3163680" cy="45673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0" descr="毛泽东1"/>
          <p:cNvPicPr/>
          <p:nvPr/>
        </p:nvPicPr>
        <p:blipFill>
          <a:blip r:embed="rId7"/>
          <a:stretch/>
        </p:blipFill>
        <p:spPr>
          <a:xfrm>
            <a:off x="6508800" y="1600200"/>
            <a:ext cx="2635200" cy="35812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mao1"/>
          <p:cNvPicPr/>
          <p:nvPr/>
        </p:nvPicPr>
        <p:blipFill>
          <a:blip r:embed="rId8"/>
          <a:stretch/>
        </p:blipFill>
        <p:spPr>
          <a:xfrm>
            <a:off x="6400800" y="1371600"/>
            <a:ext cx="2743200" cy="38098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mao4"/>
          <p:cNvPicPr/>
          <p:nvPr/>
        </p:nvPicPr>
        <p:blipFill>
          <a:blip r:embed="rId9"/>
          <a:stretch/>
        </p:blipFill>
        <p:spPr>
          <a:xfrm>
            <a:off x="6256440" y="1371600"/>
            <a:ext cx="2887560" cy="3860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mao5"/>
          <p:cNvPicPr/>
          <p:nvPr/>
        </p:nvPicPr>
        <p:blipFill>
          <a:blip r:embed="rId10"/>
          <a:stretch/>
        </p:blipFill>
        <p:spPr>
          <a:xfrm>
            <a:off x="5334120" y="1371600"/>
            <a:ext cx="3809880" cy="3727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mao12"/>
          <p:cNvPicPr/>
          <p:nvPr/>
        </p:nvPicPr>
        <p:blipFill>
          <a:blip r:embed="rId11"/>
          <a:stretch/>
        </p:blipFill>
        <p:spPr>
          <a:xfrm>
            <a:off x="6199200" y="1371600"/>
            <a:ext cx="2944800" cy="39816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2"/>
          <p:cNvSpPr/>
          <p:nvPr/>
        </p:nvSpPr>
        <p:spPr>
          <a:xfrm>
            <a:off x="395280" y="260280"/>
            <a:ext cx="3348000" cy="670680"/>
          </a:xfrm>
          <a:prstGeom prst="rect">
            <a:avLst/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领袖风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Picture 6" descr="mao7"/>
          <p:cNvPicPr/>
          <p:nvPr/>
        </p:nvPicPr>
        <p:blipFill>
          <a:blip r:embed="rId12"/>
          <a:stretch/>
        </p:blipFill>
        <p:spPr>
          <a:xfrm>
            <a:off x="1447920" y="990720"/>
            <a:ext cx="6480000" cy="4879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1" descr="mao"/>
          <p:cNvPicPr/>
          <p:nvPr/>
        </p:nvPicPr>
        <p:blipFill>
          <a:blip r:embed="rId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4572000" y="0"/>
            <a:ext cx="4572000" cy="186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8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10199"/>
                </a:solidFill>
                <a:latin typeface="华文隶书"/>
                <a:ea typeface="华文隶书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毛泽东（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1893 — 1976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）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中国无产阶级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革命家、政治家、军事家、理论家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中国共产党、中国人民解放军和中华人民共和国的主要缔造者，中国共产党和中国人民的伟大领袖，毛泽东思想的主要创立者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字润之，湖南湘潭韶山人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。毛泽东也是杰出的诗人，有许多大气磅礴的诗作，主要作品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毛泽东选集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》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毛泽东军事文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》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毛泽东诗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等。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4"/>
          <a:stretch/>
        </p:blipFill>
        <p:spPr>
          <a:xfrm>
            <a:off x="85327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4500720" y="0"/>
            <a:ext cx="4643280" cy="2531160"/>
          </a:xfrm>
          <a:prstGeom prst="rect">
            <a:avLst/>
          </a:prstGeom>
          <a:solidFill>
            <a:srgbClr val="ffffff"/>
          </a:solidFill>
          <a:ln w="95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华文楷体"/>
              </a:rPr>
              <a:t>《</a:t>
            </a:r>
            <a:r>
              <a:rPr b="1" lang="zh-CN" sz="3200" spc="-1" strike="noStrike">
                <a:solidFill>
                  <a:srgbClr val="000099"/>
                </a:solidFill>
                <a:latin typeface="华文楷体"/>
                <a:ea typeface="华文楷体"/>
              </a:rPr>
              <a:t>沁园春</a:t>
            </a:r>
            <a:r>
              <a:rPr b="1" lang="en-US" sz="3200" spc="-1" strike="noStrike">
                <a:solidFill>
                  <a:srgbClr val="000099"/>
                </a:solidFill>
                <a:latin typeface="华文楷体"/>
                <a:ea typeface="华文楷体"/>
              </a:rPr>
              <a:t>·</a:t>
            </a:r>
            <a:r>
              <a:rPr b="1" lang="zh-CN" sz="3200" spc="-1" strike="noStrike">
                <a:solidFill>
                  <a:srgbClr val="000099"/>
                </a:solidFill>
                <a:latin typeface="华文楷体"/>
                <a:ea typeface="华文楷体"/>
              </a:rPr>
              <a:t>雪</a:t>
            </a:r>
            <a:r>
              <a:rPr b="1" lang="en-US" sz="3200" spc="-1" strike="noStrike">
                <a:solidFill>
                  <a:srgbClr val="000099"/>
                </a:solidFill>
                <a:latin typeface="华文楷体"/>
                <a:ea typeface="华文楷体"/>
              </a:rPr>
              <a:t>》</a:t>
            </a:r>
            <a:r>
              <a:rPr b="1" lang="zh-CN" sz="3200" spc="-1" strike="noStrike">
                <a:solidFill>
                  <a:srgbClr val="000099"/>
                </a:solidFill>
                <a:latin typeface="华文楷体"/>
                <a:ea typeface="华文楷体"/>
              </a:rPr>
              <a:t>写于</a:t>
            </a:r>
            <a:r>
              <a:rPr b="1" lang="en-US" sz="3200" spc="-1" strike="noStrike">
                <a:solidFill>
                  <a:srgbClr val="000099"/>
                </a:solidFill>
                <a:latin typeface="华文楷体"/>
                <a:ea typeface="华文楷体"/>
              </a:rPr>
              <a:t>1936</a:t>
            </a:r>
            <a:r>
              <a:rPr b="1" lang="zh-CN" sz="3200" spc="-1" strike="noStrike">
                <a:solidFill>
                  <a:srgbClr val="000099"/>
                </a:solidFill>
                <a:latin typeface="华文楷体"/>
                <a:ea typeface="华文楷体"/>
              </a:rPr>
              <a:t>年</a:t>
            </a:r>
            <a:r>
              <a:rPr b="1" lang="en-US" sz="3200" spc="-1" strike="noStrike">
                <a:solidFill>
                  <a:srgbClr val="000099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华文楷体"/>
                <a:ea typeface="华文楷体"/>
              </a:rPr>
              <a:t>月。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遵义会议确立了毛泽东在全党全军的领导地位</a:t>
            </a:r>
            <a:r>
              <a:rPr b="1" lang="zh-CN" sz="3200" spc="-1" strike="noStrike">
                <a:solidFill>
                  <a:srgbClr val="000099"/>
                </a:solidFill>
                <a:latin typeface="华文楷体"/>
                <a:ea typeface="华文楷体"/>
              </a:rPr>
              <a:t>。毛泽东率长征部队胜利到达陕北后，领导全党展开了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反抗日本帝国主义的伟大斗争</a:t>
            </a:r>
            <a:r>
              <a:rPr b="1" lang="zh-CN" sz="3200" spc="-1" strike="noStrike">
                <a:solidFill>
                  <a:srgbClr val="000099"/>
                </a:solidFill>
                <a:latin typeface="华文楷体"/>
                <a:ea typeface="华文楷体"/>
              </a:rPr>
              <a:t>。在陕北清涧县，毛泽东同志曾于一场大雪之后攀登到海拔千米、白雪覆盖的塬上视察地形，过后写下了这首词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324000" y="3789360"/>
            <a:ext cx="1082520" cy="1008360"/>
          </a:xfrm>
          <a:prstGeom prst="rect">
            <a:avLst/>
          </a:prstGeom>
          <a:solidFill>
            <a:srgbClr val="99ccff"/>
          </a:solidFill>
          <a:ln w="60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背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187280" y="4292640"/>
            <a:ext cx="1040040" cy="1008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60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景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2050920" y="4797360"/>
            <a:ext cx="998640" cy="1008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60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介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2843280" y="5229360"/>
            <a:ext cx="1008000" cy="1008360"/>
          </a:xfrm>
          <a:prstGeom prst="rect">
            <a:avLst/>
          </a:prstGeom>
          <a:solidFill>
            <a:srgbClr val="33cccc"/>
          </a:solidFill>
          <a:ln w="60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绍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4"/>
          <a:srcRect l="11453" t="0" r="12885" b="0"/>
          <a:stretch/>
        </p:blipFill>
        <p:spPr>
          <a:xfrm>
            <a:off x="900000" y="260280"/>
            <a:ext cx="29037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0" y="2073240"/>
            <a:ext cx="9144000" cy="47847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8745480" y="6237360"/>
            <a:ext cx="398520" cy="3985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2349360"/>
            <a:ext cx="770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Times New Roman"/>
                <a:ea typeface="华文琥珀"/>
              </a:rPr>
              <a:t>北国风光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Times New Roman"/>
                <a:ea typeface="华文琥珀"/>
              </a:rPr>
              <a:t>  </a:t>
            </a:r>
            <a:r>
              <a:rPr b="0" lang="zh-CN" sz="8000" spc="-1" strike="noStrike">
                <a:solidFill>
                  <a:srgbClr val="0000ff"/>
                </a:solidFill>
                <a:latin typeface="Times New Roman"/>
                <a:ea typeface="华文琥珀"/>
              </a:rPr>
              <a:t>千里冰封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Times New Roman"/>
                <a:ea typeface="华文琥珀"/>
              </a:rPr>
              <a:t>             </a:t>
            </a:r>
            <a:r>
              <a:rPr b="0" lang="zh-CN" sz="8000" spc="-1" strike="noStrike">
                <a:solidFill>
                  <a:srgbClr val="0000ff"/>
                </a:solidFill>
                <a:latin typeface="Times New Roman"/>
                <a:ea typeface="华文琥珀"/>
              </a:rPr>
              <a:t>万里雪飘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58920" y="1268280"/>
            <a:ext cx="72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沁园春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·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雪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毛泽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0" y="2100240"/>
            <a:ext cx="9144000" cy="47577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649520" y="2593800"/>
            <a:ext cx="59943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ff"/>
                </a:solidFill>
                <a:latin typeface="华文琥珀"/>
                <a:ea typeface="华文琥珀"/>
              </a:rPr>
              <a:t>望</a:t>
            </a:r>
            <a:r>
              <a:rPr b="0" lang="zh-CN" sz="9600" spc="-1" strike="noStrike">
                <a:solidFill>
                  <a:srgbClr val="0000ff"/>
                </a:solidFill>
                <a:latin typeface="华文琥珀"/>
                <a:ea typeface="华文琥珀"/>
              </a:rPr>
              <a:t> </a:t>
            </a:r>
            <a:r>
              <a:rPr b="0" lang="zh-CN" sz="9600" spc="-1" strike="noStrike">
                <a:solidFill>
                  <a:srgbClr val="0000ff"/>
                </a:solidFill>
                <a:latin typeface="Times New Roman"/>
                <a:ea typeface="华文彩云"/>
              </a:rPr>
              <a:t>   </a:t>
            </a:r>
            <a:r>
              <a:rPr b="0" lang="zh-CN" sz="9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长城内外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       </a:t>
            </a:r>
            <a:r>
              <a:rPr b="0" lang="zh-CN" sz="9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惟余莽莽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55640" y="2349360"/>
            <a:ext cx="7489800" cy="43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大河上下</a:t>
            </a:r>
            <a:endParaRPr b="0" lang="en-US" sz="1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顿失滔滔</a:t>
            </a:r>
            <a:r>
              <a:rPr b="0" lang="zh-CN" sz="1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6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0" y="2349360"/>
            <a:ext cx="9144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山舞银蛇原驰蜡象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 </a:t>
            </a:r>
            <a:r>
              <a:rPr b="0" lang="zh-CN" sz="8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欲与天公试比高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7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2637000"/>
            <a:ext cx="896472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须晴日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看红装素裹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分外妖娆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8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278136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江山如此多娇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引无数英雄竞折腰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9"/>
          <a:srcRect l="11171" t="5692" r="0" b="0"/>
          <a:stretch/>
        </p:blipFill>
        <p:spPr>
          <a:xfrm>
            <a:off x="0" y="2060640"/>
            <a:ext cx="2933640" cy="479736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10"/>
          <a:stretch/>
        </p:blipFill>
        <p:spPr>
          <a:xfrm>
            <a:off x="2916360" y="2060640"/>
            <a:ext cx="3384360" cy="4797360"/>
          </a:xfrm>
          <a:prstGeom prst="rect">
            <a:avLst/>
          </a:prstGeom>
          <a:ln w="0">
            <a:noFill/>
          </a:ln>
        </p:spPr>
      </p:pic>
      <p:grpSp>
        <p:nvGrpSpPr>
          <p:cNvPr id="304" name=""/>
          <p:cNvGrpSpPr/>
          <p:nvPr/>
        </p:nvGrpSpPr>
        <p:grpSpPr>
          <a:xfrm>
            <a:off x="6084720" y="2060640"/>
            <a:ext cx="3059280" cy="4797000"/>
            <a:chOff x="6084720" y="2060640"/>
            <a:chExt cx="3059280" cy="4797000"/>
          </a:xfrm>
        </p:grpSpPr>
        <p:pic>
          <p:nvPicPr>
            <p:cNvPr id="305" name="" descr=""/>
            <p:cNvPicPr/>
            <p:nvPr/>
          </p:nvPicPr>
          <p:blipFill>
            <a:blip r:embed="rId11"/>
            <a:stretch/>
          </p:blipFill>
          <p:spPr>
            <a:xfrm>
              <a:off x="6084720" y="2060640"/>
              <a:ext cx="3059280" cy="47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6127560" y="2256120"/>
              <a:ext cx="546120" cy="14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宋太祖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0" y="4022640"/>
            <a:ext cx="9144000" cy="2860200"/>
          </a:xfrm>
          <a:prstGeom prst="rect">
            <a:avLst/>
          </a:prstGeom>
          <a:gradFill rotWithShape="0">
            <a:gsLst>
              <a:gs pos="0">
                <a:srgbClr val="000000">
                  <a:alpha val="60000"/>
                </a:srgbClr>
              </a:gs>
              <a:gs pos="100000">
                <a:srgbClr val="0000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8"/>
                </a:solidFill>
                <a:latin typeface="Times New Roman"/>
                <a:ea typeface="华文行楷"/>
              </a:rPr>
              <a:t>惜秦皇汉武   略输文采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8"/>
                </a:solidFill>
                <a:latin typeface="Times New Roman"/>
                <a:ea typeface="华文行楷"/>
              </a:rPr>
              <a:t>唐宗宋祖   稍逊风骚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4005360"/>
            <a:ext cx="91440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一代天骄成吉思汗只识弯弓射大雕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2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539640" y="2708280"/>
            <a:ext cx="8028000" cy="35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俱往矣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</a:t>
            </a:r>
            <a:r>
              <a:rPr b="0" lang="zh-CN" sz="8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数风流人物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            </a:t>
            </a:r>
            <a:r>
              <a:rPr b="0" lang="zh-CN" sz="8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还看今朝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3"/>
          <a:stretch/>
        </p:blipFill>
        <p:spPr>
          <a:xfrm>
            <a:off x="2124000" y="2133720"/>
            <a:ext cx="3465720" cy="47242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14"/>
          <a:stretch/>
        </p:blipFill>
        <p:spPr>
          <a:xfrm>
            <a:off x="3564000" y="2060640"/>
            <a:ext cx="4071960" cy="47973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15"/>
          <a:stretch/>
        </p:blipFill>
        <p:spPr>
          <a:xfrm>
            <a:off x="2268360" y="2060640"/>
            <a:ext cx="3913200" cy="47973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16"/>
          <a:stretch/>
        </p:blipFill>
        <p:spPr>
          <a:xfrm>
            <a:off x="2700360" y="2060640"/>
            <a:ext cx="3454200" cy="4797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11280" y="189000"/>
            <a:ext cx="7777080" cy="1099440"/>
          </a:xfrm>
          <a:prstGeom prst="rect">
            <a:avLst/>
          </a:prstGeom>
          <a:noFill/>
          <a:ln w="93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华文隶书"/>
                <a:ea typeface="华文隶书"/>
              </a:rPr>
              <a:t>听读诗词  体会魅力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7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317" name="">
            <a:hlinkClick r:id="" action="ppaction://hlinkshowjump?jump=nextslide"/>
          </p:cNvPr>
          <p:cNvSpPr/>
          <p:nvPr/>
        </p:nvSpPr>
        <p:spPr>
          <a:xfrm>
            <a:off x="7164360" y="515772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596360" y="1341360"/>
            <a:ext cx="1152360" cy="719280"/>
          </a:xfrm>
          <a:custGeom>
            <a:avLst/>
            <a:gdLst>
              <a:gd name="textAreaLeft" fmla="*/ 46440 w 1152360"/>
              <a:gd name="textAreaRight" fmla="*/ 1105920 w 11523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4599" h="21600">
                <a:moveTo>
                  <a:pt x="0" y="0"/>
                </a:moveTo>
                <a:lnTo>
                  <a:pt x="34599" y="0"/>
                </a:lnTo>
                <a:lnTo>
                  <a:pt x="34599" y="21600"/>
                </a:lnTo>
                <a:lnTo>
                  <a:pt x="0" y="21600"/>
                </a:lnTo>
                <a:close/>
              </a:path>
              <a:path fill="lightenLess" w="34599" h="21600">
                <a:moveTo>
                  <a:pt x="0" y="0"/>
                </a:moveTo>
                <a:lnTo>
                  <a:pt x="34599" y="0"/>
                </a:lnTo>
                <a:lnTo>
                  <a:pt x="33199" y="1400"/>
                </a:lnTo>
                <a:lnTo>
                  <a:pt x="1400" y="1400"/>
                </a:lnTo>
                <a:close/>
              </a:path>
              <a:path fill="darken" w="34599" h="21600">
                <a:moveTo>
                  <a:pt x="34599" y="0"/>
                </a:moveTo>
                <a:lnTo>
                  <a:pt x="34599" y="21600"/>
                </a:lnTo>
                <a:lnTo>
                  <a:pt x="33199" y="20200"/>
                </a:lnTo>
                <a:lnTo>
                  <a:pt x="33199" y="1400"/>
                </a:lnTo>
                <a:close/>
              </a:path>
              <a:path fill="darkenLess" w="34599" h="21600">
                <a:moveTo>
                  <a:pt x="345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99" y="20200"/>
                </a:lnTo>
                <a:close/>
              </a:path>
              <a:path fill="lighten" w="345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99" h="21600">
                <a:moveTo>
                  <a:pt x="10293" y="10800"/>
                </a:moveTo>
                <a:lnTo>
                  <a:pt x="24306" y="3794"/>
                </a:lnTo>
                <a:lnTo>
                  <a:pt x="24306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84360" y="476280"/>
            <a:ext cx="40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读准下列字音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0920" y="1916280"/>
            <a:ext cx="8137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分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外（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    妖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娆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（        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莽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莽（         ）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折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腰（        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成吉思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汗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（         ）    稍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逊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风骚（        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296200" y="508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659640" y="35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xù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700360" y="191628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fè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67280" y="184464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á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556000" y="2708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mǎ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796000" y="270828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zh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27280" y="35002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há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1628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27280" y="260280"/>
            <a:ext cx="31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19280" y="333360"/>
            <a:ext cx="489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763640" y="404640"/>
            <a:ext cx="4537080" cy="720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全词包括两方面的内容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04000" y="836640"/>
            <a:ext cx="16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描绘壮丽河山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抒发个人情怀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>
            <a:lum contrast="-38000"/>
          </a:blip>
          <a:stretch/>
        </p:blipFill>
        <p:spPr>
          <a:xfrm>
            <a:off x="0" y="0"/>
            <a:ext cx="9615600" cy="71229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539640" y="907920"/>
            <a:ext cx="8856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、全词分为上下两阙，分别写了什么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、上阙是如何写景的？抒发了作者怎样的情感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、下阙为什么要评论古代帝王？（理解“惜”的含义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26920" y="4221000"/>
            <a:ext cx="72010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描写北国雪景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议论历史人物，歌颂当今英雄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35280" y="2924280"/>
            <a:ext cx="216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24000" y="333360"/>
            <a:ext cx="1584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合作探究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80880" y="685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词的上阕如何描写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361240" y="1066680"/>
            <a:ext cx="1278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北国风光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千里冰封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万里雪飘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望长城内外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惟余莽莽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大河上下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顿失滔滔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山舞银蛇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原驰蜡象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欲与天公试比高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须晴日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看红装素裹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分外妖娆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2520" y="129528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38480" y="2438280"/>
            <a:ext cx="457200" cy="2362320"/>
          </a:xfrm>
          <a:custGeom>
            <a:avLst/>
            <a:gdLst>
              <a:gd name="textAreaLeft" fmla="*/ 0 w 457200"/>
              <a:gd name="textAreaRight" fmla="*/ 16488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38480" y="4952880"/>
            <a:ext cx="457200" cy="1143000"/>
          </a:xfrm>
          <a:custGeom>
            <a:avLst/>
            <a:gdLst>
              <a:gd name="textAreaLeft" fmla="*/ 0 w 457200"/>
              <a:gd name="textAreaRight" fmla="*/ 164880 w 4572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652280" y="1295280"/>
            <a:ext cx="60696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总 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02000" y="2438280"/>
            <a:ext cx="103356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具  体  细  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78320" y="4724280"/>
            <a:ext cx="103356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展开想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43600" y="1371600"/>
            <a:ext cx="21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雄伟壮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867280" y="2438280"/>
            <a:ext cx="223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形象鲜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动静结合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生机勃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-179280" y="6093000"/>
            <a:ext cx="37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上阕表现了什么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52600" y="6093000"/>
            <a:ext cx="14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赞美祖国大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河山，表达对祖国的热爱之情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172360" y="3357720"/>
            <a:ext cx="64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先实后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478640" y="1413000"/>
            <a:ext cx="549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524720" y="2492280"/>
            <a:ext cx="576360" cy="3457800"/>
          </a:xfrm>
          <a:custGeom>
            <a:avLst/>
            <a:gdLst>
              <a:gd name="textAreaLeft" fmla="*/ 0 w 576360"/>
              <a:gd name="textAreaRight" fmla="*/ 208080 w 576360"/>
              <a:gd name="textAreaTop" fmla="*/ 90000 h 3457800"/>
              <a:gd name="textAreaBottom" fmla="*/ 3367800 h 345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379"/>
                </a:lnTo>
                <a:cubicBezTo>
                  <a:pt x="10800" y="10279"/>
                  <a:pt x="16200" y="11179"/>
                  <a:pt x="21600" y="11179"/>
                </a:cubicBezTo>
                <a:cubicBezTo>
                  <a:pt x="16200" y="11179"/>
                  <a:pt x="10800" y="12079"/>
                  <a:pt x="10800" y="1297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3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9144000" cy="27082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1116000" y="189000"/>
            <a:ext cx="6840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0" y="1052640"/>
            <a:ext cx="9144000" cy="2356920"/>
          </a:xfrm>
          <a:prstGeom prst="rect">
            <a:avLst/>
          </a:prstGeom>
          <a:solidFill>
            <a:srgbClr val="f8f0e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“山舞银蛇，原驰蜡象”，山、原都是静物，却写它们“舞”和“驰”，为什么这样写？给你怎样的感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258920" y="0"/>
            <a:ext cx="697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精读诗文 合作探究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120" y="2637000"/>
            <a:ext cx="83818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山”“原” 都是静物，写它们 “舞”和“驰” ，用了化静为动的写法，形象地展现了群山起伏，丘陵绵延的壮观景致，极富动感，使人眼中的大自然显得生机勃勃，灵动活跃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9640" y="981000"/>
            <a:ext cx="8064720" cy="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71640" y="404640"/>
            <a:ext cx="0" cy="86364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26920" y="260280"/>
            <a:ext cx="0" cy="86508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172360" y="692280"/>
            <a:ext cx="503280" cy="215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88360" y="476280"/>
            <a:ext cx="431640" cy="28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12:20:13Z</dcterms:created>
  <dc:creator>姚勤智</dc:creator>
  <dc:description/>
  <cp:keywords/>
  <dc:language>en-US</dc:language>
  <cp:lastModifiedBy>Sky123.Org</cp:lastModifiedBy>
  <dcterms:modified xsi:type="dcterms:W3CDTF">2014-09-04T01:34:59Z</dcterms:modified>
  <cp:revision>6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