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9.gif" ContentType="image/gif"/>
  <Override PartName="/ppt/media/image10.gif" ContentType="image/gif"/>
  <Override PartName="/ppt/media/image11.gif" ContentType="image/gif"/>
  <Override PartName="/ppt/media/image12.gif" ContentType="image/gif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BE7-E9E6-4726-A412-154C8A2E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171-474E-4C8F-83D8-9316CAE0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201-20E4-484A-82F5-CEBED8E5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5F6-502F-49D3-8FCC-87F40B7E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9DD-2950-42A9-8C21-00A40B2C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76E-3F5A-4712-80EA-6C5DCABF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4C6-42DE-47DA-9CA7-78565D8F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1DF-731F-415A-A967-9202B825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434-86E9-40F1-B12C-DF92EC38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D3A-BA68-48D3-9F67-03A179DE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BE0-5AE1-4272-9A58-5FF6E3E0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342-920D-4302-92C2-D63DA81C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7C14-6D5C-495A-B842-9E9BC4F3F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5,20,&#24187;&#28783;&#29255; 20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雪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42" name="1965jinggangshan" descr=""/>
          <p:cNvPicPr/>
          <p:nvPr/>
        </p:nvPicPr>
        <p:blipFill>
          <a:blip r:embed="rId3"/>
          <a:stretch/>
        </p:blipFill>
        <p:spPr>
          <a:xfrm>
            <a:off x="4370400" y="0"/>
            <a:ext cx="47736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228600"/>
            <a:ext cx="365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毛泽东是中国人民的伟大领袖，也是一位伟大的诗人。著名诗人臧克家说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毛泽东诗词是伟大的篇章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雪1" descr=""/>
          <p:cNvPicPr/>
          <p:nvPr/>
        </p:nvPicPr>
        <p:blipFill>
          <a:blip r:embed="rId2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91440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诗歌朗读应注意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2133720"/>
            <a:ext cx="31240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停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节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重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感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2286000"/>
            <a:ext cx="7696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9900ff"/>
                </a:solidFill>
                <a:uFillTx/>
                <a:latin typeface="宋体"/>
              </a:rPr>
              <a:t>北国</a:t>
            </a:r>
            <a:r>
              <a:rPr b="1" lang="en-US" sz="4400" spc="-1" strike="noStrike">
                <a:solidFill>
                  <a:srgbClr val="9900ff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</a:rPr>
              <a:t>风光，</a:t>
            </a:r>
            <a:r>
              <a:rPr b="1" lang="en-US" sz="4400" spc="-1" strike="noStrike">
                <a:solidFill>
                  <a:srgbClr val="9900ff"/>
                </a:solidFill>
                <a:latin typeface="宋体"/>
              </a:rPr>
              <a:t>(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</a:rPr>
              <a:t>豪迈，高而慢</a:t>
            </a:r>
            <a:r>
              <a:rPr b="1" lang="en-US" sz="4400" spc="-1" strike="noStrike">
                <a:solidFill>
                  <a:srgbClr val="9900ff"/>
                </a:solidFill>
                <a:latin typeface="宋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9900ff"/>
                </a:solidFill>
                <a:uFillTx/>
                <a:latin typeface="宋体"/>
              </a:rPr>
              <a:t>千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</a:rPr>
              <a:t>里</a:t>
            </a:r>
            <a:r>
              <a:rPr b="1" lang="en-US" sz="4400" spc="-1" strike="noStrike">
                <a:solidFill>
                  <a:srgbClr val="9900ff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</a:rPr>
              <a:t>冰封，（拉长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9900ff"/>
                </a:solidFill>
                <a:uFillTx/>
                <a:latin typeface="宋体"/>
              </a:rPr>
              <a:t>万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</a:rPr>
              <a:t>里</a:t>
            </a:r>
            <a:r>
              <a:rPr b="1" lang="en-US" sz="4400" spc="-1" strike="noStrike">
                <a:solidFill>
                  <a:srgbClr val="9900ff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</a:rPr>
              <a:t>雪飘。（高昂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72880" y="1405080"/>
            <a:ext cx="8871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沁园春   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936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月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毛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北国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风光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千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冰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万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雪飘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望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长城内外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惟余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莽莽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大河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上下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顿失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滔滔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山舞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银蛇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原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蜡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欲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与天公试比高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须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晴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看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红妆素裹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分外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妖娆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江山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如此多娇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引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无数英雄竞折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惜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秦皇汉武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略输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文采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唐宗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宋祖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稍逊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风骚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代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天骄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成吉思汗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只识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弯弓射大雕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俱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往矣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风流人物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还看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今朝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0120" y="115920"/>
            <a:ext cx="353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着刚刚所说的注意事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起把这首词朗读一遍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33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完成思考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沁园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雪》这首词写于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，其中“沁园春”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“雪”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词的上一节又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词的下一节又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6720" y="2362320"/>
            <a:ext cx="87472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936.2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  词牌名（作用：规定了词的形式）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词的题目（作用：词中描写的内容，相当于一般文章的题目）上阕 、 下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360" y="4267080"/>
            <a:ext cx="870264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首词的题目是《雪》，哪些诗句是描写雪景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词中雪景以“白”为特征但又未着一个“白”字，作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哪些词语将洁白的雪原展现出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54880" y="5791320"/>
            <a:ext cx="548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上阕   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""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雪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""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银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""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""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素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"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望”字统领了哪些句子？下阕中与之相对应的词语是哪一个？它又统领哪些句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3080" y="982800"/>
            <a:ext cx="377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望长城…试比高”、“惜”、“惜…大雕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97880" y="1752480"/>
            <a:ext cx="49399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首词的上阕总写雪景的句子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分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雪景的句子中写到的景物有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、    、    、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句运用了拟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。展开想像写景的句子是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454560"/>
            <a:ext cx="853452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北国风光，千里冰封，万里雪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长城、黄河、群山、高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山舞银蛇原驰蜡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欲与天公试比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须晴日，看红妆素裹，分外妖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首词上阕描写了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下阕评论千秋历史，赞 颂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21932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北国风光，展壮丽河山  诗人理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0360" y="2286000"/>
            <a:ext cx="505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阕评古论今，承上启下的句子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到的历史人物有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、   、   、   、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词中的“风流人物”是指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3886200"/>
            <a:ext cx="7034040" cy="17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江上如此多娇，引无数英雄竞折腰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嬴政、刘彻、李世民、赵匡胤、铁木真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能建功立业的英雄人物，无产阶级革命者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40880" y="0"/>
            <a:ext cx="43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江山如此多娇，引无数英雄竞折腰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者为什么不用“赞美”而用“折腰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914400"/>
            <a:ext cx="83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Arial"/>
              </a:rPr>
              <a:t>此句在全词中起到承上启下的作用。“赞美”一词在全词中表达情感比较单薄、单一，并且在音韵上不符合本词要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。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折腰”本是鞠躬、倾倒的意思，这里有赞颂、赞美之意，且比“赞美”程度更深，更能体现无数英雄为祖国壮丽河山而倾倒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26440" y="3397320"/>
            <a:ext cx="472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采”“风骚”“弯弓射大雕”分别指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了什么修辞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840" y="4275000"/>
            <a:ext cx="54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.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文采”“风骚”指的是文学才华，这里指广义的文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即文治；“弯弓射大雕”指武功。都用借代手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89520" y="5226120"/>
            <a:ext cx="49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点明作品主旨的句子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7080" y="5783400"/>
            <a:ext cx="324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俱往矣数风流人物还看今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07241970254355_1[1]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295280"/>
            <a:ext cx="93646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要词句的品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从修辞、字词、含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义等方面考虑）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33520" y="0"/>
            <a:ext cx="4171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重点品读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17600"/>
            <a:ext cx="914400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、“山舞银蛇，原驰蜡象”句中“山”、“原”都是静物，却写它们“舞”和“驰”，为什么这样写？试对这两句作点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宋体"/>
                <a:hlinkClick r:id="rId2"/>
              </a:rPr>
              <a:t>赏析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1154160"/>
            <a:ext cx="82087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山舞银蛇，原驰蜡象”运用比喻、拟人手法，化静为动，有三方面因素：（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）视觉因素。作者站得高，看得远，山丘连绵起伏，远看确有山舞原驰的动感。（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）精神因素。作者意气风发，因而在他心目中，大自然也生气勃勃。（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）时代因素。中国革命正在蓬勃发展，中国人民正在奋起抗日，赋予群山、高原以顽强的性格，可以体现中华民族不屈不挠的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76360" y="189000"/>
            <a:ext cx="604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山舞银蛇，原驰蜡象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3940200"/>
            <a:ext cx="8208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赏析一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：“山舞银蛇，原驰蜡象”赋予群山、高原以动态描写，体现出其活泼奔放的气势。加上“欲与天公试比高”一句，表现“山”“原”与天相连，更有一种奋发的态势和竞争的活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赏析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：“山”、“原”都是静止的事物，写它们“舞”、“驰”是化静为动的浪漫想像，诗人情感的跃动，使他眼前的大自然也显得生气勃勃，生动活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3048120"/>
            <a:ext cx="1676520" cy="1533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北国风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千里冰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万里雪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380988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2708280"/>
            <a:ext cx="2667240" cy="2209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长城—莽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大河—顿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山—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原—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2360" y="3141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4038480"/>
            <a:ext cx="990720" cy="76320"/>
          </a:xfrm>
          <a:prstGeom prst="rightArrow">
            <a:avLst>
              <a:gd name="adj1" fmla="val 50000"/>
              <a:gd name="adj2" fmla="val 32452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505320"/>
            <a:ext cx="243828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红装素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外妖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312408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78240" y="29955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4114800"/>
            <a:ext cx="75960" cy="457200"/>
          </a:xfrm>
          <a:custGeom>
            <a:avLst/>
            <a:gdLst>
              <a:gd name="textAreaLeft" fmla="*/ 0 w 75960"/>
              <a:gd name="textAreaRight" fmla="*/ 2736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6920" y="4114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/>
          <p:nvPr/>
        </p:nvCxnSpPr>
        <p:spPr>
          <a:xfrm flipV="1">
            <a:off x="1066320" y="1447200"/>
            <a:ext cx="1080" cy="15246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910800" y="938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2952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114300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分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44956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579132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5638680"/>
            <a:ext cx="457200" cy="4543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58672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78120" y="3376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想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038480" y="1523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46483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49528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476280"/>
            <a:ext cx="44956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景顺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从总到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从静到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由实到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Nature05" descr=""/>
          <p:cNvPicPr/>
          <p:nvPr/>
        </p:nvPicPr>
        <p:blipFill>
          <a:blip r:embed="rId2"/>
          <a:srcRect l="0" t="0" r="0" b="73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826920" y="692280"/>
            <a:ext cx="756144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265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彩云"/>
              </a:rPr>
              <a:t>沁园春  雪</a:t>
            </a:r>
            <a:endParaRPr b="1" lang="en-US" sz="8000" spc="-1" strike="noStrike">
              <a:ln w="9360">
                <a:solidFill>
                  <a:srgbClr val="000000"/>
                </a:solidFill>
                <a:miter/>
              </a:ln>
              <a:solidFill>
                <a:srgbClr val="f0265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4508640"/>
            <a:ext cx="7993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《沁园春》这个词牌规定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114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个字，分上下两阕</a:t>
            </a:r>
            <a:r>
              <a:rPr b="1" lang="en-US" sz="4400" spc="-1" strike="noStrike">
                <a:solidFill>
                  <a:srgbClr val="6600ff"/>
                </a:solidFill>
                <a:latin typeface="宋体"/>
              </a:rPr>
              <a:t>qu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，上阕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句，下阕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句，句号处必须压韵。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“沁园”相传是东汉明帝女儿沁水公主的园林，曾被外戚窦宪夺取，后人作诗以咏其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819520"/>
            <a:ext cx="236232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江山如此多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引无数英雄竟折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2819520"/>
            <a:ext cx="213336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秦皇汉武—略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唐宗宋祖—稍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成吉思汗—只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3200400"/>
            <a:ext cx="160020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数风流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还看今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34440" y="312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28280" y="3200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俱往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29" idx="0"/>
          </p:cNvCxnSpPr>
          <p:nvPr/>
        </p:nvCxnSpPr>
        <p:spPr>
          <a:xfrm>
            <a:off x="1638360" y="2819520"/>
            <a:ext cx="21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5" name=""/>
          <p:cNvSpPr/>
          <p:nvPr/>
        </p:nvSpPr>
        <p:spPr>
          <a:xfrm>
            <a:off x="1219320" y="1371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过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17524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14479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评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7524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34320" y="1371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颂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20570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543800" y="19807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5105520"/>
            <a:ext cx="35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议论、抒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676520" y="18288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365760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3733920"/>
            <a:ext cx="990360" cy="75960"/>
          </a:xfrm>
          <a:prstGeom prst="rightArrow">
            <a:avLst>
              <a:gd name="adj1" fmla="val 50000"/>
              <a:gd name="adj2" fmla="val 32594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雪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147" name="030124qycchangsha" descr=""/>
          <p:cNvPicPr/>
          <p:nvPr/>
        </p:nvPicPr>
        <p:blipFill>
          <a:blip r:embed="rId3"/>
          <a:stretch/>
        </p:blipFill>
        <p:spPr>
          <a:xfrm>
            <a:off x="108000" y="1413000"/>
            <a:ext cx="8928000" cy="5329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52360" y="189000"/>
            <a:ext cx="2448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拓展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9" name=""/>
          <p:cNvSpPr/>
          <p:nvPr/>
        </p:nvSpPr>
        <p:spPr>
          <a:xfrm>
            <a:off x="538200" y="1628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沁园春  长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2205000"/>
            <a:ext cx="5832720" cy="34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独立寒秋，湘江北去，橘子洲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看万山红遍，丛林尽染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漫江碧透，百舸争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鹰击长空，鱼翔浅底，万类霜天竞自由。怅寥阔，问苍茫大地，谁主沉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携来百侣曾游，忆往昔峥嵘岁月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恰同学少年，风华正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书生意气，挥斥方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指点江山，激扬文字，粪土当年万户侯。曾记否，到中流击水 ，浪遏飞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87640" y="189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925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月，毛泽东从上海回到韶山，从事革命活动，军阀赵恒惕要逮捕他，在韶山人民的掩护下，他秘密离开韶山，到达长沙，并独自来到橘子洲头。事后作《沁园春 长沙》。此时毛泽东正在苦苦寻求救国救民之路，因而发出了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“怅寥阔，问苍茫大地，谁主沉浮？”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的呼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雪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17636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《沁园春  长沙》里作者对当年的求索“怅寥阔，问苍茫大地，谁主沉浮？”在《沁园春  雪》中是否有了回答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37880" y="6094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  <a:ea typeface="华文彩云"/>
              </a:rPr>
              <a:t>探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1148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俱往矣，数风流人物，还看今朝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8088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课外积累：尝试填写下列毛泽东诗词名句的上句或下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赤橙黄绿青蓝紫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------------------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--------------------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风景这边独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雄关漫道真如铁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------------------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--------------------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屈指行程二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宜将剩勇追穷寇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------------------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红军不怕远征难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------------------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谁持彩练当空舞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踏遍青山人未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而今迈步从头越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不到长城非好汉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不可沽名学霸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万水千山只等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763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、下面这首词的内容也与雪有关。反复朗读这首词，说说它抒发了诗人怎样的感情，情与景是怎样交融的。如有条件，课外抄录或背诵毛泽东的其他诗词，与同学交流心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3017880"/>
            <a:ext cx="91440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66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宋体"/>
              </a:rPr>
              <a:t>减字木兰花　　广昌路上（</a:t>
            </a:r>
            <a:r>
              <a:rPr b="0" lang="en-US" sz="4000" spc="-1" strike="noStrike">
                <a:solidFill>
                  <a:srgbClr val="6600ff"/>
                </a:solidFill>
                <a:latin typeface="宋体"/>
              </a:rPr>
              <a:t>1930</a:t>
            </a:r>
            <a:r>
              <a:rPr b="0" lang="zh-CN" sz="4000" spc="-1" strike="noStrike">
                <a:solidFill>
                  <a:srgbClr val="6600ff"/>
                </a:solidFill>
                <a:latin typeface="宋体"/>
              </a:rPr>
              <a:t>年</a:t>
            </a:r>
            <a:r>
              <a:rPr b="0" lang="en-US" sz="4000" spc="-1" strike="noStrike">
                <a:solidFill>
                  <a:srgbClr val="6600ff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6600ff"/>
                </a:solidFill>
                <a:latin typeface="宋体"/>
              </a:rPr>
              <a:t>月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66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宋体"/>
              </a:rPr>
              <a:t>　毛泽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66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宋体"/>
              </a:rPr>
              <a:t>漫天皆白， 雪里行军情更迫。</a:t>
            </a:r>
            <a:br>
              <a:rPr sz="4000"/>
            </a:br>
            <a:r>
              <a:rPr b="0" lang="zh-CN" sz="4000" spc="-1" strike="noStrike">
                <a:solidFill>
                  <a:srgbClr val="6600ff"/>
                </a:solidFill>
                <a:latin typeface="宋体"/>
              </a:rPr>
              <a:t>头上高山，风卷红旗过大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1100"/>
              </a:spcBef>
              <a:buClr>
                <a:srgbClr val="66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宋体"/>
              </a:rPr>
              <a:t>此行何去？赣江风雪弥漫处。</a:t>
            </a:r>
            <a:br>
              <a:rPr sz="4000"/>
            </a:br>
            <a:r>
              <a:rPr b="0" lang="zh-CN" sz="4000" spc="-1" strike="noStrike">
                <a:solidFill>
                  <a:srgbClr val="6600ff"/>
                </a:solidFill>
                <a:latin typeface="宋体"/>
              </a:rPr>
              <a:t>命令昨颁，十万工农下吉安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都描写了雪景，都有雄壮的气势，豪放的风格。</a:t>
            </a:r>
            <a:br>
              <a:rPr sz="3600"/>
            </a:br>
            <a:r>
              <a:rPr b="0" lang="zh-CN" sz="3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前者是借景抒怀之作，赞美祖国山河的壮丽，抒发诗人作为革命领袖的豪情壮志；</a:t>
            </a:r>
            <a:br>
              <a:rPr sz="3600"/>
            </a:br>
            <a:r>
              <a:rPr b="0" lang="zh-CN" sz="36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后者是写景叙事之作，描写行军的一个场景，表现工农红军一往无前的战斗气概。前者上片写景下片议论；后者上片写景下片叙事。前者写的是北国雪景，壮阔而美好，并有诗人的想像；后者写的是南国雪景，虽有气势而难与前者相比，只是展现眼前的实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沁   园     春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2005977584625042979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25720" y="1447920"/>
            <a:ext cx="200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请说说几个含“雪”字的成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风花雪月 雪中送炭   冰雪聪明   程门立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雪上加霜  冰天雪地  鹅毛大雪   囊萤映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阳春白雪  报仇雪恨   风雪交加  傲霜斗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傲雪凌霜  傲雪欺霜   白雪皑皑  白雪难和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雪阳春   饱经霜雪  报仇雪耻  报雠雪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抱怨雪耻  冰魂雪魄  冰肌雪肠   冰天雪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冰天雪窖 冰天雪窑    冰消雪释  冰雪严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步雪履穿 餐风啮雪    餐风茹雪  蝉不知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沉冤莫雪 程门立雪    担雪塞井  担雪填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担雪填井 斗霜傲雪   鹅毛大雪   飞鸿踏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24120" y="59436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再找几句咏雪的诗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柴门闻犬吠， 风雪夜归人。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刘长卿《逢雪宿芙蓉山主人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墙角数枝梅， 凌寒独自开。 遥知不是雪， 为有暗香来。 （王安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《梅花》）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孤舟蓑笠翁， 独钓寒江雪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柳宗元：《江雪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海长云暗雪山， 孤城遥望玉门关。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王昌龄：《从军行七首其四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欲渡黄河冰塞川， 将登太行雪满山。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李白：《行路难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千里黄云白日曛， 北风吹雁雪纷纷。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适《别董大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窗含西岭千秋雪， 门泊东吴万里船。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杜甫《绝句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雪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2122560"/>
            <a:ext cx="8210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沁园春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雪》写于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936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月。当时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遵义会议确立了毛泽东在全党的领导地位。毛泽东率领长征部队胜利到达陕北之后，领导全党展开了反抗日本帝国主义的伟大斗争。在陕北清涧县，毛泽东同志曾于一场大雪之后攀登到海拔千米、白雪覆盖的塬上视察地形，欣赏“北国风光”，过后饱含激情地写下了这首气吞山河的壮丽诗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945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月重庆谈判期间，爱国民主人士柳亚子向毛泽东“索句”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毛泽东即赠此词。柳读后，评价道：“展读之余，以为中国有词以来第一作手，虽苏、辛未能抗，况余子乎？”公开发表后，给人民以极大鼓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9800" y="287280"/>
            <a:ext cx="827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毛泽东，字润之。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893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6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日生于湖南湘潭韶山冲一个农民家庭。中国人民的领袖，马克思主义者，伟大的无产阶级革命家、战略家和理论家，中国共产党、中国人民解放军和中华人民共和国的主要缔造者和领导人，诗人，书法家。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976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日在北京逝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2" descr=""/>
          <p:cNvPicPr/>
          <p:nvPr/>
        </p:nvPicPr>
        <p:blipFill>
          <a:blip r:embed="rId3"/>
          <a:srcRect l="3521" t="0" r="0" b="1690"/>
          <a:stretch/>
        </p:blipFill>
        <p:spPr>
          <a:xfrm>
            <a:off x="395280" y="2276640"/>
            <a:ext cx="4105440" cy="4248000"/>
          </a:xfrm>
          <a:prstGeom prst="rect">
            <a:avLst/>
          </a:prstGeom>
          <a:ln w="0">
            <a:noFill/>
          </a:ln>
        </p:spPr>
      </p:pic>
      <p:pic>
        <p:nvPicPr>
          <p:cNvPr id="60" name="2" descr=""/>
          <p:cNvPicPr/>
          <p:nvPr/>
        </p:nvPicPr>
        <p:blipFill>
          <a:blip r:embed="rId4"/>
          <a:srcRect l="3646" t="0" r="0" b="1690"/>
          <a:stretch/>
        </p:blipFill>
        <p:spPr>
          <a:xfrm>
            <a:off x="4498920" y="2276640"/>
            <a:ext cx="417672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380880" y="304920"/>
            <a:ext cx="8305920" cy="1828440"/>
            <a:chOff x="380880" y="304920"/>
            <a:chExt cx="8305920" cy="1828440"/>
          </a:xfrm>
        </p:grpSpPr>
        <p:grpSp>
          <p:nvGrpSpPr>
            <p:cNvPr id="62" name=""/>
            <p:cNvGrpSpPr/>
            <p:nvPr/>
          </p:nvGrpSpPr>
          <p:grpSpPr>
            <a:xfrm>
              <a:off x="457200" y="461160"/>
              <a:ext cx="8153280" cy="1546920"/>
              <a:chOff x="457200" y="461160"/>
              <a:chExt cx="8153280" cy="1546920"/>
            </a:xfrm>
          </p:grpSpPr>
          <p:pic>
            <p:nvPicPr>
              <p:cNvPr id="63" name="flash033" descr=""/>
              <p:cNvPicPr/>
              <p:nvPr/>
            </p:nvPicPr>
            <p:blipFill>
              <a:blip r:embed="rId2"/>
              <a:stretch/>
            </p:blipFill>
            <p:spPr>
              <a:xfrm>
                <a:off x="6942240" y="496800"/>
                <a:ext cx="1668240" cy="146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j02832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876920" y="461160"/>
                <a:ext cx="1752480" cy="147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flash021" descr=""/>
              <p:cNvPicPr/>
              <p:nvPr/>
            </p:nvPicPr>
            <p:blipFill>
              <a:blip r:embed="rId4"/>
              <a:stretch/>
            </p:blipFill>
            <p:spPr>
              <a:xfrm>
                <a:off x="2666880" y="496800"/>
                <a:ext cx="1905120" cy="144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flash012" descr=""/>
              <p:cNvPicPr/>
              <p:nvPr/>
            </p:nvPicPr>
            <p:blipFill>
              <a:blip r:embed="rId5"/>
              <a:stretch/>
            </p:blipFill>
            <p:spPr>
              <a:xfrm>
                <a:off x="457200" y="496800"/>
                <a:ext cx="1790640" cy="1511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"/>
            <p:cNvSpPr/>
            <p:nvPr/>
          </p:nvSpPr>
          <p:spPr>
            <a:xfrm>
              <a:off x="380880" y="304920"/>
              <a:ext cx="830592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0880" y="2133360"/>
              <a:ext cx="830592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 txBox="1"/>
          <p:nvPr/>
        </p:nvSpPr>
        <p:spPr>
          <a:xfrm>
            <a:off x="304920" y="3200400"/>
            <a:ext cx="84582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听读本词并思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63640" y="2602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给下面多音字选择正确的读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31680" y="1052640"/>
            <a:ext cx="9320040" cy="489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①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）外妖娆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fèn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竞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）腰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zhé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③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成吉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汗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）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hán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④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）风流人物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shǔ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⑤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还看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zhāo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06:40:14Z</dcterms:created>
  <dc:creator>张恒福</dc:creator>
  <dc:description>张恒福</dc:description>
  <cp:keywords>张恒福</cp:keywords>
  <dc:language>en-US</dc:language>
  <cp:lastModifiedBy>zmj</cp:lastModifiedBy>
  <dcterms:modified xsi:type="dcterms:W3CDTF">2015-09-02T02:35:22Z</dcterms:modified>
  <cp:revision>86</cp:revision>
  <dc:subject/>
  <dc:title>张恒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