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FAE-7F9A-4C6F-8007-2D592B91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714-AC1D-457C-B50F-A032D25C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148-239C-4FC7-B97B-EB4864D9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FFA-ADB9-4592-ACA4-5D3DF3E5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D300-181C-42EF-8E28-D2B2F808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3169-CE0F-4DFD-B06C-E2941724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2A59-0F7A-4BFD-91A4-9B5F4ED1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24C8-C558-4D6B-943E-C8EB94E0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7344-494E-4E55-92F0-2D8FA7EE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1069-6E0C-47AD-B745-6D8058C5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5715-7489-490C-818B-A23DD5F8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4E9-00B7-4271-A1BB-4E12379D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6D59-EDF0-4D26-83F4-8C8749FF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3F06-4372-4E54-B694-CE36DA26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A7B7-945E-43BE-846E-8DE381A0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E5F3-07B5-4B04-B5B8-C9048466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D41A-CD95-4C85-A99D-FC0DDA28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7BF-6AFD-48E3-9F52-846DC21E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B9B-FE25-459D-80D0-8EF82CA6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B6A-2855-4E81-9B12-2CF782DE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9DD-DCA9-42F3-840C-2C75B347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FFA-39BE-49E9-B763-81480B79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F46-DE0A-4A6C-BE86-BD18F37B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EAB-5068-48E0-B406-D487E092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D801-2FC2-493E-9038-F9406638088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0DE5-D394-4C2A-A916-10D5DB81ECE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30000021295812187702593718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xin_101202081033312105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00000"/>
                </a:solidFill>
                <a:latin typeface="Verdana"/>
              </a:rPr>
              <a:t>大河上下</a:t>
            </a:r>
            <a:br>
              <a:rPr sz="3400"/>
            </a:br>
            <a:r>
              <a:rPr b="1" lang="zh-CN" sz="3400" spc="-1" strike="noStrike">
                <a:solidFill>
                  <a:srgbClr val="800000"/>
                </a:solidFill>
                <a:latin typeface="Verdana"/>
              </a:rPr>
              <a:t>顿失滔滔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00807021217197550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800000"/>
                </a:solidFill>
                <a:latin typeface="Verdana"/>
              </a:rPr>
              <a:t>山舞银蛇</a:t>
            </a:r>
            <a:r>
              <a:rPr b="0" lang="zh-CN" sz="38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1223113f39e208fe9f3d62f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800000"/>
                </a:solidFill>
                <a:latin typeface="Verdana"/>
              </a:rPr>
              <a:t>原驰蜡象</a:t>
            </a:r>
            <a:r>
              <a:rPr b="0" lang="zh-CN" sz="38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dsf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23640" y="476280"/>
            <a:ext cx="633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800000"/>
                </a:solidFill>
                <a:latin typeface="Verdana"/>
              </a:rPr>
              <a:t>欲与天公试比高</a:t>
            </a:r>
            <a:r>
              <a:rPr b="0" lang="zh-CN" sz="38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2008101695518866_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Verdana"/>
              </a:rPr>
              <a:t>须晴日</a:t>
            </a:r>
            <a:br>
              <a:rPr sz="4200"/>
            </a:br>
            <a:r>
              <a:rPr b="1" lang="zh-CN" sz="4200" spc="-1" strike="noStrike">
                <a:solidFill>
                  <a:srgbClr val="800000"/>
                </a:solidFill>
                <a:latin typeface="Verdana"/>
              </a:rPr>
              <a:t>看红妆素裹</a:t>
            </a:r>
            <a:br>
              <a:rPr sz="4200"/>
            </a:br>
            <a:r>
              <a:rPr b="1" lang="zh-CN" sz="4200" spc="-1" strike="noStrike">
                <a:solidFill>
                  <a:srgbClr val="800000"/>
                </a:solidFill>
                <a:latin typeface="Verdana"/>
              </a:rPr>
              <a:t>分外妖娆</a:t>
            </a:r>
            <a:br>
              <a:rPr sz="4200"/>
            </a:br>
            <a:r>
              <a:rPr b="1" lang="zh-CN" sz="4200" spc="-1" strike="noStrike">
                <a:solidFill>
                  <a:srgbClr val="800000"/>
                </a:solidFill>
                <a:latin typeface="Verdana"/>
              </a:rPr>
              <a:t>江山如此多娇</a:t>
            </a:r>
            <a:br>
              <a:rPr sz="4200"/>
            </a:br>
            <a:r>
              <a:rPr b="1" lang="zh-CN" sz="4200" spc="-1" strike="noStrike">
                <a:solidFill>
                  <a:srgbClr val="800000"/>
                </a:solidFill>
                <a:latin typeface="Verdana"/>
              </a:rPr>
              <a:t>引无数英雄竞折腰</a:t>
            </a:r>
            <a:r>
              <a:rPr b="0" lang="zh-CN" sz="42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100121154123" descr=""/>
          <p:cNvPicPr/>
          <p:nvPr/>
        </p:nvPicPr>
        <p:blipFill>
          <a:blip r:embed="rId2"/>
          <a:stretch/>
        </p:blipFill>
        <p:spPr>
          <a:xfrm>
            <a:off x="0" y="0"/>
            <a:ext cx="437976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xin_500801170910263166997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39640" y="765000"/>
            <a:ext cx="511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惜秦皇汉武</a:t>
            </a:r>
            <a:br>
              <a:rPr sz="3400"/>
            </a:b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略输文采</a:t>
            </a:r>
            <a:r>
              <a:rPr b="0" lang="zh-CN" sz="3400" spc="-1" strike="noStrike">
                <a:solidFill>
                  <a:srgbClr val="9900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390642big" descr=""/>
          <p:cNvPicPr/>
          <p:nvPr/>
        </p:nvPicPr>
        <p:blipFill>
          <a:blip r:embed="rId2"/>
          <a:stretch/>
        </p:blipFill>
        <p:spPr>
          <a:xfrm>
            <a:off x="0" y="0"/>
            <a:ext cx="46512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5708312527693398162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95280" y="-360"/>
            <a:ext cx="259236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唐宗宋祖</a:t>
            </a:r>
            <a:br>
              <a:rPr sz="3400"/>
            </a:b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稍逊风骚</a:t>
            </a:r>
            <a:r>
              <a:rPr b="0" lang="zh-CN" sz="3400" spc="-1" strike="noStrike">
                <a:solidFill>
                  <a:srgbClr val="9900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{F3AF9892-AA46-4F8A-8327-B7352F07BEA8}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news_90_103478_4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468000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一代天骄</a:t>
            </a:r>
            <a:br>
              <a:rPr sz="3400"/>
            </a:b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成吉思汗</a:t>
            </a:r>
            <a:br>
              <a:rPr sz="3400"/>
            </a:b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只识弯弓射大雕</a:t>
            </a:r>
            <a:r>
              <a:rPr b="0" lang="zh-CN" sz="3400" spc="-1" strike="noStrike">
                <a:solidFill>
                  <a:srgbClr val="9900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00115b52c3100854751a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31320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俱往矣</a:t>
            </a:r>
            <a:br>
              <a:rPr sz="3400"/>
            </a:b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数风流人物</a:t>
            </a:r>
            <a:br>
              <a:rPr sz="3400"/>
            </a:b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还看今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073c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155736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这首词分为上下两阕，概括上下两阕的主要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97200" y="692280"/>
            <a:ext cx="13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方正流行体简体"/>
              </a:rPr>
              <a:t>赏析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方正流行体简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270828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上阕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启体简体"/>
              </a:rPr>
              <a:t>描写北国雪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3284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下阕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启体简体"/>
              </a:rPr>
              <a:t>评论古今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39337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词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阕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总写北国雪景的诗句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8200" y="465300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方正启体简体"/>
              </a:rPr>
              <a:t>北国风光，千里冰封，万里雪飘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第二轮读悟：读词悟词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Verdana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1268280"/>
            <a:ext cx="9144000" cy="5254920"/>
            <a:chOff x="0" y="1268280"/>
            <a:chExt cx="9144000" cy="5254920"/>
          </a:xfrm>
        </p:grpSpPr>
        <p:grpSp>
          <p:nvGrpSpPr>
            <p:cNvPr id="87" name=""/>
            <p:cNvGrpSpPr/>
            <p:nvPr/>
          </p:nvGrpSpPr>
          <p:grpSpPr>
            <a:xfrm>
              <a:off x="4320" y="1290600"/>
              <a:ext cx="9134640" cy="5206680"/>
              <a:chOff x="4320" y="1290600"/>
              <a:chExt cx="9134640" cy="5206680"/>
            </a:xfrm>
          </p:grpSpPr>
          <p:sp>
            <p:nvSpPr>
              <p:cNvPr id="88" name=""/>
              <p:cNvSpPr/>
              <p:nvPr/>
            </p:nvSpPr>
            <p:spPr>
              <a:xfrm>
                <a:off x="4320" y="1290600"/>
                <a:ext cx="9134640" cy="52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毛泽东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字润之，笔名子任。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1893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年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日生于湖南湘潭韶山冲一个农民家庭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中国人民的领袖，马克思主义者，伟大的无产阶级革命家、战略家和理论家，中国共产党、中国人民解放军和中华人民共和国的主要缔造者和领导人，诗人，书法家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1976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年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日在北京逝世。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20" y="1290600"/>
                <a:ext cx="9134640" cy="5206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0" y="1268280"/>
              <a:ext cx="9144000" cy="5254920"/>
            </a:xfrm>
            <a:prstGeom prst="rect">
              <a:avLst/>
            </a:prstGeom>
            <a:noFill/>
            <a:ln w="9360">
              <a:solidFill>
                <a:srgbClr val="a2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987640" y="333360"/>
            <a:ext cx="3200400" cy="91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6019920"/>
            <a:ext cx="1523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5584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4360" y="620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上阕：词人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望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见了哪些画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700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长城茫茫图、黄河失滔图、山舞银蛇图、原驰蜡象图、（想象）雪后初晴图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645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方正启体简体"/>
              </a:rPr>
              <a:t>山舞银蛇，原驰蜡象，欲与天公试比高” 运用了哪些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03200" y="530064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方正启体简体"/>
              </a:rPr>
              <a:t>运用比喻、拟人、对偶、夸张等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560" y="6922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下阕词人惋惜了什么？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44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惋惜秦皇汉武、唐宗宋祖、成吉思汗短于文治</a:t>
            </a:r>
            <a:r>
              <a:rPr b="0" lang="zh-CN" sz="3600" spc="-1" strike="noStrike">
                <a:solidFill>
                  <a:srgbClr val="cc0000"/>
                </a:solidFill>
                <a:latin typeface="Verdana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3213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方正启体简体"/>
              </a:rPr>
              <a:t>江山如此多娇”，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表达了作者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3120" y="4365720"/>
            <a:ext cx="402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表达了诗人对祖国壮丽河山的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情赞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词的上阕写了哪些意象？表达了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一种什么感情？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描写了冰、雪、长城、大河、山、原等，　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达了热爱祖国山河的豪情壮志　。</a:t>
            </a:r>
            <a:r>
              <a:rPr b="0" lang="zh-CN" sz="30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33200" y="76464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dddd"/>
                </a:solidFill>
                <a:latin typeface="Tahoma"/>
              </a:rPr>
              <a:t>本词承上启下的一句是：</a:t>
            </a:r>
            <a:r>
              <a:rPr b="0" lang="zh-CN" sz="1800" spc="-1" strike="noStrike">
                <a:solidFill>
                  <a:srgbClr val="dddddd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52360" y="1483920"/>
            <a:ext cx="48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江山如此多娇，引无数英雄竞折腰　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42100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dddd"/>
                </a:solidFill>
                <a:latin typeface="Tahoma"/>
              </a:rPr>
              <a:t>《沁园春</a:t>
            </a:r>
            <a:r>
              <a:rPr b="1" lang="zh-CN" sz="3600" spc="-1" strike="noStrike">
                <a:solidFill>
                  <a:srgbClr val="dddddd"/>
                </a:solidFill>
                <a:latin typeface="Tahoma"/>
              </a:rPr>
              <a:t>·</a:t>
            </a:r>
            <a:r>
              <a:rPr b="1" lang="zh-CN" sz="3600" spc="-1" strike="noStrike">
                <a:solidFill>
                  <a:srgbClr val="dddddd"/>
                </a:solidFill>
                <a:latin typeface="Tahoma"/>
              </a:rPr>
              <a:t>雪》中评价历史人物的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dddd"/>
                </a:solidFill>
                <a:latin typeface="Tahoma"/>
              </a:rPr>
              <a:t>意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61640" y="371628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肯定他们的历史贡献，同时委婉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指出其阶级和时代的局限。</a:t>
            </a:r>
            <a:r>
              <a:rPr b="0" lang="zh-CN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bingxuetexie2_03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965960" y="4762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诗人对历代英雄的评论体现在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个字上？包含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33240" y="1700280"/>
            <a:ext cx="16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方正启体简体"/>
              </a:rPr>
              <a:t>惜”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19960" y="4941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本词表达主旨的一句是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61960" y="573336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俱往矣，数风流人物，还看今朝。</a:t>
            </a: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234936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    “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惜”的意蕴非常丰富：第一、“惜”中含褒扬之意。肯定他们是英雄人物，也就肯定中华民族是一个英雄辈出的伟大民族；第二，“惜”字也委婉的批评了他们短于“文治”，欠缺才华；第三、“惜”字蕴含后来居上的伟大气概以及超越历史英雄人物的自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bingxuetexie2_03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39640" y="1844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抒发了对祖国山河的热爱和对当代无产阶级革命英雄的歌颂，表达了欲率全国人民重整祖国河山的伟大抱负和坚定信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62064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文章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0"/>
            <a:ext cx="79200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Verdana"/>
              </a:rPr>
              <a:t>第三轮读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Verdana"/>
              </a:rPr>
              <a:t>品读赏析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484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</a:rPr>
              <a:t>1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</a:rPr>
              <a:t>、从修辞手法或用词准确生动的角度赏析上阕，运用圈点勾画的方法在文本空白处做好批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314172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Verdana"/>
              </a:rPr>
              <a:t>示例：望</a:t>
            </a:r>
            <a:r>
              <a:rPr b="1" lang="zh-CN" sz="2800" spc="-1" strike="noStrike">
                <a:solidFill>
                  <a:srgbClr val="9900ff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9900ff"/>
                </a:solidFill>
                <a:latin typeface="Verdana"/>
              </a:rPr>
              <a:t>长城内外，惟余莽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Verdana"/>
              </a:rPr>
              <a:t>赏析：</a:t>
            </a:r>
            <a:r>
              <a:rPr b="1" lang="zh-CN" sz="2800" spc="-1" strike="noStrike">
                <a:solidFill>
                  <a:srgbClr val="9900ff"/>
                </a:solidFill>
                <a:latin typeface="Verdana"/>
              </a:rPr>
              <a:t>Δ</a:t>
            </a:r>
            <a:r>
              <a:rPr b="1" lang="zh-CN" sz="2800" spc="-1" strike="noStrike">
                <a:solidFill>
                  <a:srgbClr val="9900ff"/>
                </a:solidFill>
                <a:latin typeface="Verdana"/>
              </a:rPr>
              <a:t>这里的“望”，有登高远眺之意并有很大的想像成分，它显示了诗人自身的形象和豪迈的气势。“望”字直贯以下七个短句，“望”字之下展现了北国风貌的雄伟景观，这些景观正是我们伟大祖国的形象。所以，朗读时要略有停顿，字音拉长，读出远眺之态和豪迈之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116000" y="189000"/>
            <a:ext cx="68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1052640"/>
            <a:ext cx="9144000" cy="2356920"/>
          </a:xfrm>
          <a:prstGeom prst="rect">
            <a:avLst/>
          </a:prstGeom>
          <a:solidFill>
            <a:srgbClr val="f8f0e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“山舞银蛇，原驰蜡象”，山、原都是静物，却写它们“舞”和“驰”，为什么这样写？给你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637000"/>
            <a:ext cx="83818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山”“原” 都是静物，写它们 “舞”和“驰” ，用了化静为动的写法，形象地展现了群山起伏，丘陵绵延的壮观景致，极富动感，使人眼中的大自然显得生机勃勃，灵动活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981000"/>
            <a:ext cx="8064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404640"/>
            <a:ext cx="0" cy="863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260280"/>
            <a:ext cx="0" cy="865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72360" y="692280"/>
            <a:ext cx="503280" cy="215640"/>
          </a:xfrm>
          <a:prstGeom prst="rect">
            <a:avLst/>
          </a:prstGeom>
          <a:solidFill>
            <a:srgbClr val="a3b2c1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8360" y="476280"/>
            <a:ext cx="43164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4360" y="2133720"/>
            <a:ext cx="79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1844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Verdana"/>
              </a:rPr>
              <a:t>3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</a:rPr>
              <a:t>、你完全认同下阕词人对于五位英雄的评价吗？说说你的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357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（秦始皇、汉武帝、唐太宗、宋太祖、成吉思汗，他们都是中国历史上杰出的人物，是无数英雄中的佼佼者，都是雄才大略，战功赫赫，对中国历史的发展产生过巨大的影响。可是词人们却批评他们短于文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494172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不完全认同。因为文学才华包括政治、思想、文化在内，而这五位英雄在政治、思想、文化方面均有所功绩，所以并不能完全否定他们短于文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76720" y="4262400"/>
            <a:ext cx="4067280" cy="2595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187280" y="836640"/>
            <a:ext cx="68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8600" y="476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Verdana"/>
              </a:rPr>
              <a:t>4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</a:rPr>
              <a:t>、“俱往矣，数风流人物，还看今朝”怎样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1741320"/>
            <a:ext cx="813564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今朝的风流人物，是新时代在文治和武功两方面都有更杰出的才能更伟大的抱负的人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应该是人民群众，也应该是领导人民群众进行斗争的无产阶级革命家，还应该是诗人的自况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这是诗人的自信和自励，是对中国共产党和人民大众的歌颂，是他们决心登上历史舞台的威武雄壮的宣言。这是全诗的主旨所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557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方正启体简体"/>
                <a:ea typeface="方正启体简体"/>
              </a:rPr>
              <a:t>1936</a:t>
            </a:r>
            <a:r>
              <a:rPr b="1" lang="zh-CN" sz="3600" spc="-1" strike="noStrike">
                <a:solidFill>
                  <a:srgbClr val="800000"/>
                </a:solidFill>
                <a:latin typeface="方正启体简体"/>
                <a:ea typeface="方正启体简体"/>
              </a:rPr>
              <a:t>年</a:t>
            </a:r>
            <a:r>
              <a:rPr b="1" lang="zh-CN" sz="3600" spc="-1" strike="noStrike">
                <a:solidFill>
                  <a:srgbClr val="80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方正启体简体"/>
                <a:ea typeface="方正启体简体"/>
              </a:rPr>
              <a:t>月，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毛泽东同志率领红军长征部队胜利到达陕北清涧县袁家沟，准备渡河东征，开赴抗日前线。为了视察地形，毛泽东同志登上海拔千米白雪覆盖的塬上，当“千里冰封”的大好河山展现在他眼前时，不禁感慨万千，诗兴大发，欣然命笔，写下了这一首豪放之词《沁园春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雪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05600" y="476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方正流行体简体"/>
              </a:rPr>
              <a:t>写作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2050920" y="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全词小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098720"/>
            <a:ext cx="8532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上阕写景抒情，下阕评古论今，从赞美祖国大好河山到评说封建帝王的不足，水到渠成地过渡到歌颂真正的英雄人物——中国共产党领导下的伟大的中国人民，从而将议论和抒情结合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68360" y="2133720"/>
            <a:ext cx="84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发挥想象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用自己的话描绘一下诗人笔下的北国雪景图，并谈谈你的感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24000" y="333360"/>
            <a:ext cx="5616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5231"/>
                <a:gd name="adj2" fmla="val 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练笔天地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36360" y="1052640"/>
            <a:ext cx="932472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①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分（   ）外妖娆（   </a:t>
            </a:r>
            <a:r>
              <a:rPr b="0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②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逊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③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成吉思汗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④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数（</a:t>
            </a:r>
            <a:r>
              <a:rPr b="1" lang="zh-CN" sz="4000" spc="-1" strike="noStrike">
                <a:solidFill>
                  <a:srgbClr val="ff3300"/>
                </a:solidFill>
                <a:latin typeface="方正启体简体"/>
                <a:ea typeface="方正启体简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）风流人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⑤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还看今朝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3336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方正流行体简体"/>
                <a:ea typeface="方正流行体简体"/>
              </a:rPr>
              <a:t>掌握正确读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6720" y="15080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f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8160" y="143496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r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440" y="256536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x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8520" y="357336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85680" y="46530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09560" y="573408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zh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77440" y="1773360"/>
            <a:ext cx="456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第一轮读悟：</a:t>
            </a:r>
            <a:br>
              <a:rPr sz="3600"/>
            </a:b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整体感知，确立朗读基调，初悟词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图片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494080" y="263700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欣赏文章意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44565_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76360" y="549360"/>
            <a:ext cx="441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0920" y="1916280"/>
            <a:ext cx="4392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北国风光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千里冰封</a:t>
            </a:r>
            <a:br>
              <a:rPr sz="63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62febc080dba6ae22eddd48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万里雪飘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2007111101715232_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望长城内外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惟余莽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16:27:57Z</dcterms:created>
  <dc:creator>微软用户</dc:creator>
  <dc:description/>
  <dc:language>en-US</dc:language>
  <cp:lastModifiedBy>X</cp:lastModifiedBy>
  <dcterms:modified xsi:type="dcterms:W3CDTF">2015-08-29T09:22:04Z</dcterms:modified>
  <cp:revision>27</cp:revision>
  <dc:subject/>
  <dc:title>幻灯片 1</dc:title>
</cp:coreProperties>
</file>