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chimes.wav" ContentType="audio/x-wav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582E-A404-42F3-A658-D896B506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73D0-17D3-4BD2-8180-EC13348A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E58-246F-4988-A178-C7249EB5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82E1-FB92-4BC6-A661-078198AB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A3A-A290-4AEB-B896-7F3A2FB3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1D36-1C64-4313-9EC9-C20B9A7D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A10-D73C-4C62-972E-F8A1968D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74BA-48A4-4527-B078-3EAE8ACD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5724-D504-4894-95D9-AF29AD24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7A58-D33F-4FE2-B555-DB3F1507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514-11EF-48C7-BE79-04E3E42F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86B5-90DC-498F-865A-AE5FD989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EB30-9036-4424-8E49-5F749AFEA1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hyperlink" Target="file:///../Local%20Settings/Local%20Settings/Temporary%20Internet%20Files/Content.IE5/Y8PTVZRN/&#31351;&#20154;.ppt" TargetMode="Externa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插图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穷人2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WordArt 8" descr=""/>
          <p:cNvPicPr/>
          <p:nvPr/>
        </p:nvPicPr>
        <p:blipFill>
          <a:blip r:embed="rId3"/>
          <a:stretch/>
        </p:blipFill>
        <p:spPr>
          <a:xfrm>
            <a:off x="2975040" y="328680"/>
            <a:ext cx="2835360" cy="1305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1042920" y="0"/>
            <a:ext cx="73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义务教育课程标准实验教科书小学语文六年级上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280" y="1052640"/>
            <a:ext cx="7451640" cy="23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自读“等待丈夫”一部分内容。读完这部分内容，你体会到桑娜是一位怎样的妇女？从哪些地方体会出来？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99640" y="3933720"/>
            <a:ext cx="6877080" cy="172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体会桑娜的家庭贫困、勤劳能干、心地善良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95280" y="2117880"/>
            <a:ext cx="80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思考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作者给我们讲了一个什么故事。把最使你感动的地方画下来，写上几句自己的感受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1341360"/>
            <a:ext cx="82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ff"/>
                </a:solidFill>
                <a:uFillTx/>
                <a:latin typeface="Times New Roman"/>
              </a:rPr>
              <a:t>1.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</a:rPr>
              <a:t>她自己也不知道为什么要这样做，但是她觉得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非这样做不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11280" y="2852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西蒙死了，孩子总不能和死人呆在一起，如果没有人管他们，他们以后怎么办？所以说“她觉得非这样做不可”。但她做这件事情的时候，并没有多考虑，只是良心使她本能地这样做了，所以说，“她自己也不知道为什么要这样做”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从这句朴实的话中，可以看出桑娜的心地多么善良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24000" y="549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难句理解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79912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她忐忑不安地想：“他会说什么呢？这是闹着玩的吗？自己的五个孩子已经够他受的了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是他来啦？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，还没来！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为什么把他们抱过来啊？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他会揍我的！那也活该，我自作自受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嗯，揍我一顿也好！”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75596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透过桑娜的心理活动，充分感受到生活给桑娜带来的压力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感受到桑娜的内心充满矛盾、不安，但是她是热爱丈夫，同情孤儿，宁可自己吃苦也要帮助别人的美好的心灵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激起读者对桑娜今后命运的关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5614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俩个人沉默了一阵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桑娜沉默了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490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沉默”是不做声的意思。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桑娜与渔夫对话时先后两次“沉默”。第一次是桑娜与渔夫同时沉默。渔夫回家了，渔网也撕破了，面对刚刚从死亡线上挣扎回来的丈夫，桑娜不知道如何告诉丈夫收养孤儿的事，所以选择了沉默。而渔夫还沉浸在与海浪搏斗的恐怖中，心里尚存余悸，看到桑娜沉默了，所以也不说话了。第二次是桑娜把西蒙死去的消息告诉了丈夫，她在等待丈夫的决定，所以又沉默了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桑娜的两次沉默，都反映了桑娜善良的心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893080" cy="16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渔夫皱起眉，他的脸变得严肃、忧虑。“嗯，是个问题！”他搔搔后脑勺说，“嗯，你看怎么办？得把他们抱来，同死人呆在一起怎么行！哦，我们，我们总能熬过去的！快去！别等他们醒来。”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2923920"/>
            <a:ext cx="8540640" cy="3384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皱起眉”“脸变得严肃、忧虑”说明渔夫感到问题很难办。“搔搔后脑勺”说明他正在认真考虑，形象地说明渔夫觉得问题严重。“嗯，你看怎么办？”这是渔夫在征求妻子的意见。“得把他们抱来，同死人呆在一起怎么行！”这是渔夫做出的初步决定。“哦，我们，我们总能熬过去的！”“熬”，是忍受（疼痛或艰苦的生活）的意思。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说明渔夫为了抚养邻居的孩子，准备过更艰苦的日子，准备付出更多的辛劳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“快去！别等他们醒来。”渔夫怕孩子醒来受惊，催促桑娜去抱孩子。这段话细致地描写了渔夫做出决定前后思考的过程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说明他与妻子桑娜一样，有着一颗甘愿自己受苦也要帮助他人的高尚的心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468360" y="141300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思考：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作者给我们讲了一个什么故事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3429000"/>
            <a:ext cx="85406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课文记叙了一个寒风呼啸的夜晚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桑娜与渔夫主动收养已故邻居西蒙的两个孤儿的故事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43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但桑娜坐着一动不动。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你怎么啦？不愿意吗？你怎么啦，桑娜？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 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你瞧，他们在这里啦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桑娜拉开了帐子。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116000" y="3995280"/>
            <a:ext cx="74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文章的悬念终于消除，读者悬着的心也终于放下了。丈夫的理解，使桑娜沉浸在激动、兴奋和快慰中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这“一动不动”的动作恰如其分地表达了她当时激动、兴奋、欣慰的心情，收到了似平静又不平静的效果，读来给人以回味的余地，显示出作者高超的艺术表现能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297000"/>
            <a:ext cx="84582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文中省略号用法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78508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．古老的钟发哑地敲了十下，十一下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始终不见丈夫回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．她忐忑不安地想：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他会说什么呢？这是闹着玩的吗？自己的五个孩子已经够他受的了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是他来啦？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不，还没来</a:t>
            </a:r>
            <a:r>
              <a:rPr b="1" lang="en-US" sz="2800" spc="-1" strike="noStrike">
                <a:solidFill>
                  <a:srgbClr val="333300"/>
                </a:solidFill>
                <a:latin typeface="黑体"/>
                <a:ea typeface="黑体"/>
              </a:rPr>
              <a:t>!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为什么把他们抱过来啊？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他会揍我的</a:t>
            </a:r>
            <a:r>
              <a:rPr b="1" lang="en-US" sz="2800" spc="-1" strike="noStrike">
                <a:solidFill>
                  <a:srgbClr val="333300"/>
                </a:solidFill>
                <a:latin typeface="黑体"/>
                <a:ea typeface="黑体"/>
              </a:rPr>
              <a:t>!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那也活该，我自作自受。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．谢谢上帝，总算活着回来啦。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我不在，你在家里做些什么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95280" y="110016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．声音的延续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 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．语言中断，语言断断续续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 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．表示沉默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843280" y="19890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声音的延续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835280" y="3933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语言中断，语言断断续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140360" y="495468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表示沉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875880"/>
            <a:ext cx="8540640" cy="3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本文的中心思想：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24000" y="353952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黑体"/>
              </a:rPr>
              <a:t>一是表现沙俄时代穷人的穷困和悲惨。</a:t>
            </a:r>
            <a:r>
              <a:rPr b="1" lang="zh-CN" sz="1800" spc="-1" strike="noStrike">
                <a:solidFill>
                  <a:srgbClr val="cc00ff"/>
                </a:solidFill>
                <a:latin typeface="Arial"/>
                <a:ea typeface="黑体"/>
              </a:rPr>
              <a:t>除了题目，全文没有一个“穷”字，但穷人“穷”到什么地步，我们却能从文中感受得十分真切。桑娜的丈夫为了一家七口人的生活，竟然冒着危险出海打鱼，清早出去，深夜未归；桑娜自己也从早到晚地干活，还只能勉强填饱肚子。可见桑娜一家的生活是多么艰难。再看西蒙一家，丈夫已死了，在这个寒冷的夜晚，她也悲惨地病死在稻草铺的床上。屋里又潮湿又阴冷，两个无依无靠的孩子熟睡在死去的母亲旁边。这些描述饱含作者的感情，使读者深切地感受到穷人的悲惨命运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 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黑体"/>
              </a:rPr>
              <a:t>二是赞颂穷人富于同情、热心助人的美德。</a:t>
            </a:r>
            <a:r>
              <a:rPr b="1" lang="zh-CN" sz="1800" spc="-1" strike="noStrike">
                <a:solidFill>
                  <a:srgbClr val="cc00ff"/>
                </a:solidFill>
                <a:latin typeface="Arial"/>
                <a:ea typeface="黑体"/>
              </a:rPr>
              <a:t>课文里没有一句直接赞美的话，然而穷人的高尚品质却被表现得感人肺腑。收养孤儿，本来就是一件感人的事，而作者把收养孤儿这件事安排在一个孩子多、生活已经十分艰难的穷人桑娜家里，这就感人至深了。桑娜抱回两个孤儿以后，作者细致地描写了她紧张、担忧的复杂心理活动。造成桑娜内心矛盾的客观原因，就是桑娜一家的生活十分艰难，而收养两个孤儿，无异于在极为沉重的生活压力上，再增加一个包袱。然而最后桑娜夫妇还是做出了收养孤儿的决定。作者在叙述这个故事时，没有拔高人物，而是植根于现实的土壤，真实地刻画人物的内心世界。桑娜夫妇没有说一句豪言壮语，然而他们那颗善良、淳朴的美好心灵，却深深地打动了读者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1320" y="765000"/>
            <a:ext cx="53499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全名：列夫</a:t>
            </a:r>
            <a:r>
              <a:rPr b="1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尼古拉耶维奇</a:t>
            </a:r>
            <a:r>
              <a:rPr b="1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托尔斯泰，俄国作家、思想家，</a:t>
            </a:r>
            <a:r>
              <a:rPr b="1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19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世纪末</a:t>
            </a:r>
            <a:r>
              <a:rPr b="1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20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世纪初最伟大的文学家，</a:t>
            </a:r>
            <a:r>
              <a:rPr b="1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19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世纪俄国伟大的批判现实主义作家，是世界文学史上最杰出的作家之一，他被称颂为具有“最清醒的现实主义”的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“天才艺术家”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。主要作品有长篇小说</a:t>
            </a:r>
            <a:r>
              <a:rPr b="1" lang="en-US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战争与和平</a:t>
            </a:r>
            <a:r>
              <a:rPr b="1" lang="en-US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》《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安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卡列尼娜</a:t>
            </a:r>
            <a:r>
              <a:rPr b="1" lang="en-US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》《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复活</a:t>
            </a:r>
            <a:r>
              <a:rPr b="1" lang="en-US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等，也创作了大量的童话，是大多数人所崇拜的对象。他的作品描写了俄国革命时的人民的顽强抗争，因此被称为“俄国十月革命的镜子”列宁曾称赞他创作了世界文学中“第一流”的作品。他的作品</a:t>
            </a:r>
            <a:r>
              <a:rPr b="1" lang="en-US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七颗钻石</a:t>
            </a:r>
            <a:r>
              <a:rPr b="1" lang="en-US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》《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跳水</a:t>
            </a:r>
            <a:r>
              <a:rPr b="1" lang="en-US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》《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穷人</a:t>
            </a:r>
            <a:r>
              <a:rPr b="1" lang="en-US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已被收入人教版小学语文教科书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2881080" cy="4465800"/>
          </a:xfrm>
          <a:prstGeom prst="rect">
            <a:avLst/>
          </a:prstGeom>
          <a:ln w="0">
            <a:noFill/>
          </a:ln>
        </p:spPr>
      </p:pic>
      <p:sp>
        <p:nvSpPr>
          <p:cNvPr id="4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20640"/>
            <a:ext cx="854064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课文题目的深意：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2927160"/>
            <a:ext cx="806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课文以“穷人”为题富有深意。文章通篇反映了桑娜与西蒙两家的贫穷──住得差，吃得差，劳动条件差，还有疾病，是沙俄时期俄国渔民悲惨生活的真实写照。就是在这样贫穷的情况下，桑娜与渔夫做出了令人难以相信的举动：在自己五个孩子的基础上，主动收养西蒙的两个孤儿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作者就是通过这样的事例，讴歌了穷人宁可自己吃苦，也要帮助别人的高尚品质，有力地抨击了当时上流社会的堕落与腐化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588960"/>
            <a:ext cx="854064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课文写法特点：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324000" y="3393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333300"/>
                </a:solidFill>
                <a:latin typeface="Arial"/>
              </a:rPr>
              <a:t>、课文在写作上特色鲜明，通过对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环境和人物心理、对话的描写，</a:t>
            </a:r>
            <a:r>
              <a:rPr b="1" lang="zh-CN" sz="2200" spc="-1" strike="noStrike">
                <a:solidFill>
                  <a:srgbClr val="333300"/>
                </a:solidFill>
                <a:latin typeface="Arial"/>
              </a:rPr>
              <a:t>刻画了栩栩如生的人物形象。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环境描写有力地烘托出主人公勤劳、善良的品质。关于桑娜心理活动的描写真实地展现了桑娜的内心世界，刻画了一个充满爱心、乐于助人的穷苦劳动妇女的形象。渔夫与桑娜的对话，个性鲜明，恰如其分地表达了人物的真情实感。</a:t>
            </a:r>
            <a:r>
              <a:rPr b="1" lang="zh-CN" sz="2200" spc="-1" strike="noStrike">
                <a:solidFill>
                  <a:srgbClr val="333300"/>
                </a:solidFill>
                <a:latin typeface="Arial"/>
              </a:rPr>
              <a:t>渔夫的话显示出他爽直、乐于助人的品质。而桑娜则小心应对，说话断断续续，表明了她紧张、不安的内心，反映出她热爱丈夫、同情西蒙的善良品质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0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333300"/>
                </a:solidFill>
                <a:latin typeface="Arial"/>
              </a:rPr>
              <a:t>、课文段落分明，结构独具匠心。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全文以桑娜的内心矛盾为主线，围绕收养西蒙的两个孤儿这件事，前后设置了两个悬念：渔夫是否平安回家？渔夫回家后能否同意收养孩子。</a:t>
            </a:r>
            <a:r>
              <a:rPr b="1" lang="zh-CN" sz="2200" spc="-1" strike="noStrike">
                <a:solidFill>
                  <a:srgbClr val="333300"/>
                </a:solidFill>
                <a:latin typeface="Arial"/>
              </a:rPr>
              <a:t>两个悬念交替展开，逐步消除，从而推动着故事向前发展。这样处理，使得全文波澜迭起，扣人心弦，显示出作者高超的艺术技巧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1"/>
          <p:cNvPicPr/>
          <p:nvPr/>
        </p:nvPicPr>
        <p:blipFill>
          <a:blip r:embed="rId1"/>
          <a:stretch/>
        </p:blipFill>
        <p:spPr>
          <a:xfrm>
            <a:off x="5257800" y="2057400"/>
            <a:ext cx="3886200" cy="2362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2"/>
          <p:cNvPicPr/>
          <p:nvPr/>
        </p:nvPicPr>
        <p:blipFill>
          <a:blip r:embed="rId2"/>
          <a:stretch/>
        </p:blipFill>
        <p:spPr>
          <a:xfrm>
            <a:off x="0" y="2057400"/>
            <a:ext cx="5257800" cy="2362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3"/>
          <p:cNvPicPr/>
          <p:nvPr/>
        </p:nvPicPr>
        <p:blipFill>
          <a:blip r:embed="rId3"/>
          <a:stretch/>
        </p:blipFill>
        <p:spPr>
          <a:xfrm>
            <a:off x="0" y="4419720"/>
            <a:ext cx="5257800" cy="2438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4"/>
          <p:cNvPicPr/>
          <p:nvPr/>
        </p:nvPicPr>
        <p:blipFill>
          <a:blip r:embed="rId4"/>
          <a:stretch/>
        </p:blipFill>
        <p:spPr>
          <a:xfrm>
            <a:off x="5257800" y="0"/>
            <a:ext cx="3886200" cy="2057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5"/>
          <p:cNvPicPr/>
          <p:nvPr/>
        </p:nvPicPr>
        <p:blipFill>
          <a:blip r:embed="rId5"/>
          <a:stretch/>
        </p:blipFill>
        <p:spPr>
          <a:xfrm>
            <a:off x="0" y="0"/>
            <a:ext cx="5257800" cy="2057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fejhq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57800" y="4419720"/>
            <a:ext cx="3886200" cy="2438280"/>
          </a:xfrm>
          <a:prstGeom prst="rect">
            <a:avLst/>
          </a:prstGeom>
          <a:ln w="0">
            <a:noFill/>
          </a:ln>
        </p:spPr>
      </p:pic>
      <p:sp>
        <p:nvSpPr>
          <p:cNvPr id="13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042920" y="1989000"/>
            <a:ext cx="7632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贫穷的人往往富于仁慈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                 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——</a:t>
            </a:r>
            <a:r>
              <a:rPr b="1" i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海明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900000" y="236592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课后小练笔：续写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穷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字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桑娜告诉丈夫自己已经把孩子抱回家后，课文就戛然而止了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孩子的命运会怎么样呢？桑娜与渔夫又会带领孩子怎样渡过一个又一个难关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48942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本文作者是俄国作家列夫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托尔斯泰。我们在以前曾经学过他写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跳水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一课。他是伟大的俄国作家，出身贵族，但同情被剥削被压迫的农奴。他的作品无情地揭露了封建沙皇制度和资本主义势力的种种罪恶。这篇文章写的是沙俄时期穷人的故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3" descr="4548b9951572263dd31b7028"/>
          <p:cNvPicPr/>
          <p:nvPr/>
        </p:nvPicPr>
        <p:blipFill>
          <a:blip r:embed="rId1"/>
          <a:stretch/>
        </p:blipFill>
        <p:spPr>
          <a:xfrm>
            <a:off x="5103720" y="1268280"/>
            <a:ext cx="4040280" cy="4753080"/>
          </a:xfrm>
          <a:prstGeom prst="rect">
            <a:avLst/>
          </a:prstGeom>
          <a:ln w="0">
            <a:noFill/>
          </a:ln>
        </p:spPr>
      </p:pic>
      <p:sp>
        <p:nvSpPr>
          <p:cNvPr id="5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44146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著名的美国作家海明威曾说过这样一句话，“贫穷的人往往富于仁慈。”果真是这样吗？今天，我们来一起学习一篇课文“穷人”，看看他们的精神世界也是否如他们的物质世界一样“穷”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01300000198582121653038116537"/>
          <p:cNvPicPr/>
          <p:nvPr/>
        </p:nvPicPr>
        <p:blipFill>
          <a:blip r:embed="rId1"/>
          <a:stretch/>
        </p:blipFill>
        <p:spPr>
          <a:xfrm>
            <a:off x="4500720" y="907920"/>
            <a:ext cx="4211640" cy="4465800"/>
          </a:xfrm>
          <a:prstGeom prst="rect">
            <a:avLst/>
          </a:prstGeom>
          <a:ln w="0">
            <a:noFill/>
          </a:ln>
        </p:spPr>
      </p:pic>
      <p:sp>
        <p:nvSpPr>
          <p:cNvPr id="5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4000" y="21178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思考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本文写了几个穷人？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作者给我们讲了一个什么故事？写了穷人的什么事？你感觉这些穷人怎样？你还读懂了什么？本文是按什么顺序叙述的？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381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课文内容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课文记叙了一个寒风呼啸的夜晚</a:t>
            </a: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桑娜与渔夫主动收养已故邻居西蒙的两个孤儿的故事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755640" y="3645000"/>
            <a:ext cx="778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对“穷人”印象：善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84360" y="4797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本文写作顺序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等待丈夫→抱回孩子→催促桑娜抱回孩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WordArt 6"/>
          <p:cNvSpPr txBox="1"/>
          <p:nvPr/>
        </p:nvSpPr>
        <p:spPr>
          <a:xfrm>
            <a:off x="6732720" y="4508640"/>
            <a:ext cx="172224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事情发展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2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244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250920" y="765000"/>
            <a:ext cx="115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ɡē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搁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835280" y="836640"/>
            <a:ext cx="115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ti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á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n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填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348000" y="765000"/>
            <a:ext cx="11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yu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à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n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抱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4643280" y="765000"/>
            <a:ext cx="11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xiān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掀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5651640" y="620640"/>
            <a:ext cx="208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ā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唉了一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7596360" y="836640"/>
            <a:ext cx="115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guǒ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包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539640" y="4581360"/>
            <a:ext cx="237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Ku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í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w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ú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魁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059280" y="4581360"/>
            <a:ext cx="158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l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í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n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湿淋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788000" y="4581360"/>
            <a:ext cx="115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sī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撕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6227640" y="4653000"/>
            <a:ext cx="11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m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é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i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倒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7524720" y="4581360"/>
            <a:ext cx="11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lǜ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忧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3132000" cy="46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词语理解：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748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呼啸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抱怨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自作自受：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魁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倒霉：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忧虑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847400" y="13100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文中形容海风发出高而长的声音，说明寒风猛烈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2144880" y="191556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埋怨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299200" y="2548440"/>
            <a:ext cx="52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黑体"/>
              </a:rPr>
              <a:t>自己做错了事，自己承受不好的结果。受：承受。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2890080" y="30675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（身体）强壮高大。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3322080" y="364428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遇事不利；遭遇不好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692360" y="4220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忧愁担心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4797360"/>
            <a:ext cx="88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还有哪些词语不理解，请质疑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71640" y="2565360"/>
            <a:ext cx="7345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思考：从这些的描写中，你看出桑娜是一个怎样的母亲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19480"/>
          </a:xfrm>
          <a:prstGeom prst="rect">
            <a:avLst/>
          </a:prstGeom>
          <a:ln w="0">
            <a:noFill/>
          </a:ln>
        </p:spPr>
      </p:pic>
      <p:sp>
        <p:nvSpPr>
          <p:cNvPr id="88" name="WordArt 4"/>
          <p:cNvSpPr txBox="1"/>
          <p:nvPr/>
        </p:nvSpPr>
        <p:spPr>
          <a:xfrm>
            <a:off x="179280" y="981000"/>
            <a:ext cx="856944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——————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9" name="WordArt 5"/>
          <p:cNvSpPr txBox="1"/>
          <p:nvPr/>
        </p:nvSpPr>
        <p:spPr>
          <a:xfrm>
            <a:off x="179280" y="1628640"/>
            <a:ext cx="691380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——————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635280" y="3933720"/>
            <a:ext cx="151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勤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03:14:51Z</dcterms:created>
  <dc:creator>wangliping</dc:creator>
  <dc:description/>
  <dc:language>en-US</dc:language>
  <cp:lastModifiedBy>Administrator</cp:lastModifiedBy>
  <dcterms:modified xsi:type="dcterms:W3CDTF">2014-10-23T06:21:39Z</dcterms:modified>
  <cp:revision>33</cp:revision>
  <dc:subject/>
  <dc:title>PowerPoint 演示文稿</dc:title>
</cp:coreProperties>
</file>