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31B-E7C2-40AD-AEBC-39D65B65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F7E-6D6D-4499-9BDC-2753E240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8D1-7205-4AD4-AD90-7F7972EB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455-C10B-47EB-B9A2-4568207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EBD7-74D4-4916-A134-3724831E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5ED-A4FE-4930-AD82-296B273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A2E5-AD0E-41C9-B894-25DB6AE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22B-F010-4B11-AA7C-63BED47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379-0857-4C78-B28A-3000D894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EC99-5C81-4067-911B-5FB5CEF7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2AE-B0D9-4F5F-9CE6-30D8AF1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122-6359-4813-AA98-463B12A0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F0A-F1DE-4C04-848B-26CEECD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4EC-8792-4679-9785-39F99DA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371C-050A-4E64-859A-03AE4128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6E18-3B4A-4976-AA17-F59CAE00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DA95-9AF7-4E74-9F91-0555E29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B8C-823A-49FC-883B-86DDAE32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B7E-BAAF-49F5-9EDE-901C82B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B33-2F5B-47A4-81F7-678C84EF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FDA-A95F-4CEA-925E-2CDF068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CBE-6F07-4F00-B220-0FBFC0F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360-0BB2-45BD-A894-18AF4FF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661-FC86-4506-A1CE-280B162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6C7-6FF0-4DA4-A267-3C53A3900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F8E-575D-4BC5-B30A-85EC21A8199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pic_270706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9" descr=""/>
          <p:cNvPicPr/>
          <p:nvPr/>
        </p:nvPicPr>
        <p:blipFill>
          <a:blip r:embed="rId2"/>
          <a:stretch/>
        </p:blipFill>
        <p:spPr>
          <a:xfrm>
            <a:off x="1895400" y="2206800"/>
            <a:ext cx="3487680" cy="1742760"/>
          </a:xfrm>
          <a:prstGeom prst="rect">
            <a:avLst/>
          </a:prstGeom>
          <a:ln w="0">
            <a:noFill/>
          </a:ln>
        </p:spPr>
      </p:pic>
      <p:sp>
        <p:nvSpPr>
          <p:cNvPr id="84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因为他们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善良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所以说他们很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富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1640" y="3029040"/>
            <a:ext cx="7118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地扫得干干净净，炉子里的火还没有熄，食具在搁板上闪闪发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挂着白色帐子的床上，五个孩子正在海风呼啸声中安静地睡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480" y="1752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１、家中整洁、温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90400" y="3551400"/>
            <a:ext cx="601164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桑娜想起了傍晚就想去探望的那个生病的女邻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3520" y="19051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２、桑娜关心生病的女邻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13000" y="2962080"/>
            <a:ext cx="6721200" cy="27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752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３、夫妻俩不顾生活艰难收养孤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371600" y="28195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课文中人物的对话和心理活动描写细腻，让我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真正走进穷人的内心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来体会它们与桑娜和渔夫的</a:t>
            </a:r>
            <a:r>
              <a:rPr b="1" lang="zh-CN" sz="3600" spc="-1" strike="noStrike">
                <a:solidFill>
                  <a:srgbClr val="00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富有</a:t>
            </a:r>
            <a:r>
              <a:rPr b="1" lang="zh-CN" sz="3600" spc="-1" strike="noStrike">
                <a:solidFill>
                  <a:srgbClr val="00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有什么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322380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这样做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指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不知道为什么要这样做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但是觉得非这样做不可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看似矛盾，实际上反映了桑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的善良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她的心跳得很厉害，自己也不知道为什么要这样做，但是觉得非这样做不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  ②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她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忐忑不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地想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会说什么呢？这是闹着玩的吗？自己的五个孩子已经够他受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他来啦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，还没来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什么把他们抱过来啊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会揍我的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也活该，我自作自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嗯，揍我一顿也好！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6782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　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省略号的连续运用，表明桑娜当时心理活动的时断时续，逼真地写出了桑娜不安的心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457200" y="1523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华文中宋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中宋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渔夫皱起眉，他的脸变得严肃、忧虑。“嗯，是个问题！”他搔搔后脑勺说，“嗯，你看怎么办？得把他们抱来，同死人呆在一起怎么行！哦，我们，我们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总能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过去的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快去！别等他们醒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云形 3"/>
          <p:cNvSpPr/>
          <p:nvPr/>
        </p:nvSpPr>
        <p:spPr>
          <a:xfrm>
            <a:off x="3657600" y="4724280"/>
            <a:ext cx="4419720" cy="1905120"/>
          </a:xfrm>
          <a:prstGeom prst="pie">
            <a:avLst/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Arial"/>
              </a:rPr>
              <a:t>把这里的感叹号改为省略号怎样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9144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渔夫皱起眉，他的脸变得严肃、忧虑。“嗯，是个问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他搔搔后脑勺说，“嗯，你看怎么办？得把他们抱来，同死人呆在一起怎么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哦，我们，我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总能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过去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快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别等他们醒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19320" y="350496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文章的悬念终于被解开，读者悬着的心也终于放下了。丈夫的理解，使桑娜沉浸在激动、兴奋和快慰中，这“一动不动”的动作恰如其分地表达了她当时的心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1600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华文仿宋"/>
              </a:rPr>
              <a:t>④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但桑娜坐着一动不动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怎么啦？不愿意吗？你怎么啦，桑娜？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你瞧，他们在这里啦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桑娜拉开了帐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2840" y="510552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列夫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托尔斯泰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(1828—1910)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伟大的俄国作家。他出身贵族家庭，早年接受典型的贵族教育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参军，不久开始创作小说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童年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63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起，用六年时间写成巨著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战争与和平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后来又写成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安娜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卡列尼娜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复活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等著名作品。他的作品气势磅礴，场面广阔，人物众多，心理描写逼真、细腻，语言质朴洗炼，在世界文学史上有着巨大的影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4" descr="200601120519_573370"/>
          <p:cNvPicPr/>
          <p:nvPr/>
        </p:nvPicPr>
        <p:blipFill>
          <a:blip r:embed="rId1"/>
          <a:stretch/>
        </p:blipFill>
        <p:spPr>
          <a:xfrm>
            <a:off x="7391520" y="4495680"/>
            <a:ext cx="1447560" cy="198144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qr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010280" y="26668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  <a:ea typeface="黑体"/>
              </a:rPr>
              <a:t>桑娜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90720" y="35053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黑体"/>
              </a:rPr>
              <a:t>渔夫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b49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aoxia8197200651213493812833"/>
          <p:cNvPicPr/>
          <p:nvPr/>
        </p:nvPicPr>
        <p:blipFill>
          <a:blip r:embed="rId2"/>
          <a:stretch/>
        </p:blipFill>
        <p:spPr>
          <a:xfrm>
            <a:off x="380880" y="1066680"/>
            <a:ext cx="2210040" cy="2122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96560" y="3747960"/>
            <a:ext cx="569268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因为：桑娜和渔夫有勤劳、善良、淳朴、富于同情心、宁可自己吃苦也要帮助别人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2590920" y="190512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中宋"/>
              </a:rPr>
              <a:t>他们是最“富有”的人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pic>
        <p:nvPicPr>
          <p:cNvPr id="156" name="Picture 11" descr="Gif0405_071"/>
          <p:cNvPicPr/>
          <p:nvPr/>
        </p:nvPicPr>
        <p:blipFill>
          <a:blip r:embed="rId3"/>
          <a:stretch/>
        </p:blipFill>
        <p:spPr>
          <a:xfrm>
            <a:off x="6781680" y="5181480"/>
            <a:ext cx="2019600" cy="1200240"/>
          </a:xfrm>
          <a:prstGeom prst="rect">
            <a:avLst/>
          </a:prstGeom>
          <a:ln w="0">
            <a:noFill/>
          </a:ln>
        </p:spPr>
      </p:pic>
      <p:sp>
        <p:nvSpPr>
          <p:cNvPr id="157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90360" y="3657600"/>
            <a:ext cx="674676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桑娜告诉丈夫自己已经把孩子抱回家后，课文就戛然而止了。孩子的命运会怎样呢？桑娜与渔夫又会带领孩子怎样渡过一个又一个的难关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1828800" y="1371600"/>
            <a:ext cx="6705360" cy="2057400"/>
            <a:chOff x="1828800" y="1371600"/>
            <a:chExt cx="6705360" cy="2057400"/>
          </a:xfrm>
        </p:grpSpPr>
        <p:pic>
          <p:nvPicPr>
            <p:cNvPr id="160" name="Picture 6" descr="qr"/>
            <p:cNvPicPr/>
            <p:nvPr/>
          </p:nvPicPr>
          <p:blipFill>
            <a:blip r:embed="rId1"/>
            <a:stretch/>
          </p:blipFill>
          <p:spPr>
            <a:xfrm>
              <a:off x="5867280" y="1371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8"/>
            <p:cNvSpPr/>
            <p:nvPr/>
          </p:nvSpPr>
          <p:spPr>
            <a:xfrm>
              <a:off x="1828800" y="1676520"/>
              <a:ext cx="350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课后小练笔：续写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《</a:t>
              </a: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穷人</a:t>
              </a: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》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2666880" y="2514600"/>
            <a:ext cx="327672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6200" y="167652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速读课文，</a:t>
            </a:r>
            <a:br>
              <a:rPr sz="4000"/>
            </a:b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复述故事内容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9280" y="3618000"/>
            <a:ext cx="608832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课文记叙了在一个寒风呼啸的夜晚</a:t>
            </a:r>
            <a:r>
              <a:rPr b="1" lang="en-US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桑娜与渔夫主动收养已故邻居西蒙的两个孤儿的故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qr"/>
          <p:cNvPicPr/>
          <p:nvPr/>
        </p:nvPicPr>
        <p:blipFill>
          <a:blip r:embed="rId1"/>
          <a:stretch/>
        </p:blipFill>
        <p:spPr>
          <a:xfrm>
            <a:off x="533520" y="129528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92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课文中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人”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 指的是谁，他们的</a:t>
            </a:r>
            <a:r>
              <a:rPr b="1" lang="zh-CN" sz="4000" spc="-1" strike="noStrike">
                <a:solidFill>
                  <a:srgbClr val="333300"/>
                </a:solidFill>
                <a:latin typeface="华文中宋"/>
                <a:ea typeface="华文中宋"/>
              </a:rPr>
              <a:t>“穷”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体现在哪些地方？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划出能说明他们贫穷的句子，想想这些句子是从哪些方面来写“穷”的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762120" y="914400"/>
            <a:ext cx="6705000" cy="1371600"/>
            <a:chOff x="762120" y="914400"/>
            <a:chExt cx="6705000" cy="1371600"/>
          </a:xfrm>
        </p:grpSpPr>
        <p:sp>
          <p:nvSpPr>
            <p:cNvPr id="95" name="WordArt 4"/>
            <p:cNvSpPr txBox="1"/>
            <p:nvPr/>
          </p:nvSpPr>
          <p:spPr>
            <a:xfrm>
              <a:off x="2895480" y="914400"/>
              <a:ext cx="457164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黑体"/>
                </a:rPr>
                <a:t>理解课文内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96" name="Picture 5" descr="063ck"/>
            <p:cNvPicPr/>
            <p:nvPr/>
          </p:nvPicPr>
          <p:blipFill>
            <a:blip r:embed="rId1"/>
            <a:stretch/>
          </p:blipFill>
          <p:spPr>
            <a:xfrm>
              <a:off x="762120" y="914400"/>
              <a:ext cx="14475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885680" y="3551040"/>
            <a:ext cx="561636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古老的钟嘶哑地敲了十下，十一下</a:t>
            </a:r>
            <a:r>
              <a:rPr b="1" lang="en-US" sz="3600" spc="-1" strike="noStrike">
                <a:solidFill>
                  <a:srgbClr val="ff00ff"/>
                </a:solidFill>
                <a:latin typeface="华文仿宋"/>
                <a:ea typeface="华文仿宋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38080" y="20574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１、从“屋内装饰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3352320"/>
            <a:ext cx="71168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仿宋"/>
              </a:rPr>
              <a:t>　　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仿宋"/>
              </a:rPr>
              <a:t>孩子们没有鞋穿，不论冬夏都光着脚跑来跑去；吃的是黑面包，菜只有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3880" y="16765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２、从“吃、穿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丈夫清早驾着小船出海，这时候还没有回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丈夫不顾惜身体，冒着寒冷和风暴出去打鱼，她自己也从早到晚地干活，还只能勉强填饱肚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糟糕，真糟糕！什么也没有打到，还把网给撕破了。倒霉，倒霉！天气可真厉害！我简直记不起几时有过这样的夜晚了，还谈得上什么打鱼！谢谢上帝，总算活着回来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990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３、从“桑娜和渔夫的忙碌”看出“穷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36720" y="2133360"/>
            <a:ext cx="76708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屋外寒风呼啸，汹涌澎湃的海浪拍击着海岸，溅起一阵阵浪花。海上正起着风暴，外面又黑又冷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桑娜听着波涛的轰鸣和狂风的怒吼，感到心惊肉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海面上什么也看不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1219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４、从“天气的恶劣”看出“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1295280" y="4876920"/>
            <a:ext cx="7391520" cy="1600200"/>
            <a:chOff x="1295280" y="4876920"/>
            <a:chExt cx="7391520" cy="1600200"/>
          </a:xfrm>
        </p:grpSpPr>
        <p:sp>
          <p:nvSpPr>
            <p:cNvPr id="110" name="AutoShape 6"/>
            <p:cNvSpPr/>
            <p:nvPr/>
          </p:nvSpPr>
          <p:spPr>
            <a:xfrm>
              <a:off x="1295280" y="4876920"/>
              <a:ext cx="7391520" cy="1600200"/>
            </a:xfrm>
            <a:prstGeom prst="cloudCallout">
              <a:avLst>
                <a:gd name="adj1" fmla="val -35074"/>
                <a:gd name="adj2" fmla="val -54861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1905120" y="52578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提示：渔夫在这样恶劣的天气之下仍然冒险出海打鱼，这里以环境描写写出了“穷”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2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pic_27067202"/>
          <p:cNvPicPr/>
          <p:nvPr/>
        </p:nvPicPr>
        <p:blipFill>
          <a:blip r:embed="rId1"/>
          <a:stretch/>
        </p:blipFill>
        <p:spPr>
          <a:xfrm>
            <a:off x="6553080" y="4114800"/>
            <a:ext cx="22860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1066680" y="1523880"/>
            <a:ext cx="7391520" cy="2667240"/>
            <a:chOff x="1066680" y="1523880"/>
            <a:chExt cx="7391520" cy="2667240"/>
          </a:xfrm>
        </p:grpSpPr>
        <p:sp>
          <p:nvSpPr>
            <p:cNvPr id="115" name="AutoShape 7"/>
            <p:cNvSpPr/>
            <p:nvPr/>
          </p:nvSpPr>
          <p:spPr>
            <a:xfrm>
              <a:off x="1066680" y="1523880"/>
              <a:ext cx="7391520" cy="2667240"/>
            </a:xfrm>
            <a:prstGeom prst="wedgeEllipseCallout">
              <a:avLst>
                <a:gd name="adj1" fmla="val 38143"/>
                <a:gd name="adj2" fmla="val 46486"/>
              </a:avLst>
            </a:prstGeom>
            <a:solidFill>
              <a:srgbClr val="ccff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1600200" y="2057400"/>
              <a:ext cx="6400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　　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有人说这篇课文中的“穷人”桑娜和渔夫其实并不“穷”，其实他们很“富有”。你支持这种观点吗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7" name="WordArt 9"/>
          <p:cNvSpPr txBox="1"/>
          <p:nvPr/>
        </p:nvSpPr>
        <p:spPr>
          <a:xfrm>
            <a:off x="2743200" y="502920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23T06:21:35Z</dcterms:modified>
  <cp:revision>2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