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88D-ABB9-4E45-9EB4-F2958E1B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B84-3E44-4AC2-B9F7-DA139D49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0FE-FFDE-439A-A960-9081732A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63C-89E3-4A3E-BB8B-4A40D8B9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76B3-A0E1-4DC8-92A6-33129546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EF9A-21A0-4736-A4CD-C330242B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9D2B-5AC4-483A-B825-D01E7B14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4D3B-D8A1-4817-A1FE-17D9FE9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5DD1-2B0D-4FDE-8DBF-BC5630B8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FF8B-4516-4651-B955-8105D7BF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3BB1-EA77-491B-B390-61FBC64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ED3-39A1-4104-A7B7-2B543846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261C-921E-464A-8117-3346424D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8E5B-3B50-4C37-BFBE-A6143612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C9AF-D33E-4E8A-8046-281CDDD0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8815-9C56-423F-A819-A59B5933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6A07-00D6-4CDF-8491-AA0A0CB3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CF3-C480-4C37-8AD3-9289227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F83-E917-4D32-A632-1856B865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542-A5FE-4080-9ED4-A3F8DA16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D44-EAB1-4D9E-AA95-945D9169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994-70D2-4350-8914-47DCBC89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087-CD2B-4F08-AE04-9DD98A14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5D0-F989-4E77-AE6E-1ED3633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4B31-76EC-487C-83BE-EE454801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0395-9911-4AA0-96A7-A17012DE77FA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9.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穷人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Picture 5" descr="211854370dHM"/>
          <p:cNvPicPr/>
          <p:nvPr/>
        </p:nvPicPr>
        <p:blipFill>
          <a:blip r:embed="rId2"/>
          <a:stretch/>
        </p:blipFill>
        <p:spPr>
          <a:xfrm>
            <a:off x="838080" y="2057400"/>
            <a:ext cx="7239240" cy="4167360"/>
          </a:xfrm>
          <a:prstGeom prst="rect">
            <a:avLst/>
          </a:prstGeom>
          <a:ln w="0">
            <a:noFill/>
          </a:ln>
        </p:spPr>
      </p:pic>
      <p:sp>
        <p:nvSpPr>
          <p:cNvPr id="85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主人公何许人也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桑 娜是个 怎样的人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从课文里的哪些描写中可以看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cc"/>
              </a:solidFill>
              <a:latin typeface="华文新魏"/>
              <a:ea typeface="华文新魏"/>
            </a:endParaRPr>
          </a:p>
        </p:txBody>
      </p:sp>
      <p:pic>
        <p:nvPicPr>
          <p:cNvPr id="132" name="Picture 5" descr="%e6%96%b0%e9%b2%9c%e7%9a%84%e9%b2%b1%e9%b1%bc   %e6%b2%b9%e7%94%bb%e4%b8%b4%e4%bd%9c   %e5%bc%a0%e5%8d%ab%e4%b8%9c"/>
          <p:cNvPicPr/>
          <p:nvPr/>
        </p:nvPicPr>
        <p:blipFill>
          <a:blip r:embed="rId1"/>
          <a:stretch/>
        </p:blipFill>
        <p:spPr>
          <a:xfrm>
            <a:off x="5029200" y="19810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默读课文</a:t>
            </a: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-11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自然段，画出心理描写的句子，从中找出最能体现桑娜从邻居家抱回孩子后的心情的词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忐忑不安：心神不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Picture 7" descr="1107030855c02a1c62e7c12eb4"/>
          <p:cNvPicPr/>
          <p:nvPr/>
        </p:nvPicPr>
        <p:blipFill>
          <a:blip r:embed="rId1"/>
          <a:stretch/>
        </p:blipFill>
        <p:spPr>
          <a:xfrm>
            <a:off x="4952880" y="3352680"/>
            <a:ext cx="3733920" cy="3106800"/>
          </a:xfrm>
          <a:prstGeom prst="rect">
            <a:avLst/>
          </a:prstGeom>
          <a:ln w="0">
            <a:noFill/>
          </a:ln>
        </p:spPr>
      </p:pic>
      <p:sp>
        <p:nvSpPr>
          <p:cNvPr id="137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桑娜脸色苍白，神情激动。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她忐忑不安地想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他会说什么呢？这是闹着玩的吗？自己的五个孩子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经够他受的了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是他来啦？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不，还没来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什么把他们抱过来啊？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他会揍我的，那也活该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我自作自受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嗯，揍我一顿也好。” 　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门吱嘎一声，仿佛有人进来了，桑娜一惊，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椅子上站起来。 　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不，没有人，上帝，我为什么要这样做？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如今叫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怎么对他说呢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……”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桑娜沉思着，久久地坐在床前。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新魏"/>
              </a:rPr>
              <a:t>桑娜忐忑不安地想了哪几方面事情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一、他会说什么呢？这是闹着玩的吗？自己的五个孩子已经够他受的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二、为什么把他们抱过来啊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三、他会揍我的！那也活该，我自作自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嗯，揍我一顿也好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四、我为什么要这样做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如今叫我怎么对他说呢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一、“他会说什么呢？这是闹着玩的吗？自己的五个孩子已经够他受的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……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桑娜为什么会想“自己的五个孩子已经够他受的了”？从课文的那些地方可以看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、古老的钟嘶哑地敲了十下、十一下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始终不见丈夫回来。</a:t>
            </a:r>
            <a:r>
              <a:rPr b="0" lang="zh-CN" sz="2800" spc="-1" strike="noStrike">
                <a:solidFill>
                  <a:srgbClr val="cc3300"/>
                </a:solidFill>
                <a:latin typeface="宋体"/>
              </a:rPr>
              <a:t>桑娜沉思着：丈夫不顾惜身体，冒着寒冷和风暴出去打鱼，她自己也从早到晚地干活，可是还只能勉强填饱肚子。孩子们没有鞋穿，不论冬夏都光着脚跑来跑去，吃的是黑面包，菜只有鱼。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不过，感谢上帝，孩子们都还健康，没有什么可抱怨的，桑娜倾听着风暴的声音，“他现在在哪儿？上帝啊，保佑他，救救他，开开恩吧！”她一面自言自语，一面画着十字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5105520" y="685800"/>
            <a:ext cx="3276360" cy="838080"/>
          </a:xfrm>
          <a:prstGeom prst="wedgeRoundRectCallout">
            <a:avLst>
              <a:gd name="adj1" fmla="val -37935"/>
              <a:gd name="adj2" fmla="val 128217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华文新魏"/>
              </a:rPr>
              <a:t>家境艰难，生活贫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一家生活贫困，那么他们家所住的房子里面是什么样子的呢？从哪些描写中可以看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" name="Picture 4" descr="4882d09b8cc19f37ed49166009dcd7c5"/>
          <p:cNvPicPr/>
          <p:nvPr/>
        </p:nvPicPr>
        <p:blipFill>
          <a:blip r:embed="rId1"/>
          <a:stretch/>
        </p:blipFill>
        <p:spPr>
          <a:xfrm>
            <a:off x="2590920" y="32767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154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渔夫的妻子桑娜坐在火炉旁补一张破帆。屋外寒风呼啸，汹涌澎湃的海浪拍击着海岸，溅起一阵阵浪花。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海上正起着风暴，外面又黑又冷，这间渔家的小屋里却温暖而舒适。地扫得干干净净，炉子里的火还没有熄，食具在搁板上闪闪发亮。挂着白色帐子的床上，五个孩子正在海风呼啸声中安静地睡着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丈夫清早驾着小船出海，这时候还没有回来。桑娜听着波涛的轰鸣和狂风的怒吼，感到心惊肉跳。 （配乐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环境描写有力地烘托出主人公勤劳能干的品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、“为什么把他们抱过来啊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阅读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-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然段，想想桑娜为什么把两个孩子抱过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Picture 4" descr="2008012713010046652"/>
          <p:cNvPicPr/>
          <p:nvPr/>
        </p:nvPicPr>
        <p:blipFill>
          <a:blip r:embed="rId1"/>
          <a:stretch/>
        </p:blipFill>
        <p:spPr>
          <a:xfrm>
            <a:off x="2666880" y="33526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61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邻居西蒙的情况怎样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邻居西蒙生活困难，是个有两个孩子的寡妇，在一个寒冷的风暴之夜悲惨地死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4" name="Picture 4" descr="1107030855c02a1c62e7c12eb4"/>
          <p:cNvPicPr/>
          <p:nvPr/>
        </p:nvPicPr>
        <p:blipFill>
          <a:blip r:embed="rId1"/>
          <a:stretch/>
        </p:blipFill>
        <p:spPr>
          <a:xfrm>
            <a:off x="1981080" y="3708360"/>
            <a:ext cx="3429000" cy="2852640"/>
          </a:xfrm>
          <a:prstGeom prst="rect">
            <a:avLst/>
          </a:prstGeom>
          <a:ln w="0">
            <a:noFill/>
          </a:ln>
        </p:spPr>
      </p:pic>
      <p:sp>
        <p:nvSpPr>
          <p:cNvPr id="165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列夫</a:t>
            </a:r>
            <a:r>
              <a:rPr b="1" lang="en-US" sz="4400" spc="-1" strike="noStrike">
                <a:solidFill>
                  <a:srgbClr val="0000ff"/>
                </a:solidFill>
                <a:latin typeface="华文仿宋"/>
                <a:ea typeface="华文仿宋"/>
              </a:rPr>
              <a:t>·</a:t>
            </a:r>
            <a:r>
              <a:rPr b="1" lang="zh-CN" sz="4400" spc="-1" strike="noStrike">
                <a:solidFill>
                  <a:srgbClr val="0000ff"/>
                </a:solidFill>
                <a:latin typeface="华文仿宋"/>
                <a:ea typeface="华文仿宋"/>
              </a:rPr>
              <a:t>托尔斯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647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28—1910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，伟大的</a:t>
            </a: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俄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作家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。他出身贵族家庭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但同情被剥削、被压迫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农奴。</a:t>
            </a: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51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参军，不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开始创作小说</a:t>
            </a: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童年</a:t>
            </a: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1856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年退役后两度出国游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历、考察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代表作：</a:t>
            </a:r>
            <a:r>
              <a:rPr b="1" lang="en-US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安娜</a:t>
            </a:r>
            <a:r>
              <a:rPr b="1" lang="en-US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·</a:t>
            </a: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卡列妮娜</a:t>
            </a:r>
            <a:r>
              <a:rPr b="1" lang="en-US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《</a:t>
            </a: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战争与和平</a:t>
            </a:r>
            <a:r>
              <a:rPr b="1" lang="en-US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》《</a:t>
            </a:r>
            <a:r>
              <a:rPr b="1" lang="zh-CN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复活</a:t>
            </a:r>
            <a:r>
              <a:rPr b="1" lang="en-US" sz="2400" spc="-1" strike="noStrike">
                <a:solidFill>
                  <a:srgbClr val="cc3300"/>
                </a:solidFill>
                <a:latin typeface="华文仿宋"/>
                <a:ea typeface="华文仿宋"/>
              </a:rPr>
              <a:t>》</a:t>
            </a:r>
            <a:r>
              <a:rPr b="1" lang="en-US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Picture 7" descr="heianshili1"/>
          <p:cNvPicPr/>
          <p:nvPr/>
        </p:nvPicPr>
        <p:blipFill>
          <a:blip r:embed="rId1"/>
          <a:stretch/>
        </p:blipFill>
        <p:spPr>
          <a:xfrm>
            <a:off x="5029200" y="1981080"/>
            <a:ext cx="3146400" cy="4162680"/>
          </a:xfrm>
          <a:prstGeom prst="rect">
            <a:avLst/>
          </a:prstGeom>
          <a:ln w="0">
            <a:noFill/>
          </a:ln>
        </p:spPr>
      </p:pic>
      <p:sp>
        <p:nvSpPr>
          <p:cNvPr id="90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对于西蒙的状况桑娜是怎么想的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-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然段里找描写桑娜心理活动的句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没有一个人照顾她啊！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寡妇的日子真困难啊！”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站在门口想，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“孩子虽然不算多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只有两个，可是全靠她一个人张罗，如今又加上病。唉，寡妇的日子真难过啊，进去看看吧！”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对女邻居非常关心、同情，是个心地善良的劳动妇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新魏"/>
              </a:rPr>
              <a:t>二、“为什么把他们抱过来啊？”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西蒙悲惨的遭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桑娜的心地善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2" name="Picture 6" descr="YW00067"/>
          <p:cNvPicPr/>
          <p:nvPr/>
        </p:nvPicPr>
        <p:blipFill>
          <a:blip r:embed="rId1"/>
          <a:stretch/>
        </p:blipFill>
        <p:spPr>
          <a:xfrm>
            <a:off x="4952880" y="1981080"/>
            <a:ext cx="3095640" cy="4343400"/>
          </a:xfrm>
          <a:prstGeom prst="rect">
            <a:avLst/>
          </a:prstGeom>
          <a:ln w="0">
            <a:noFill/>
          </a:ln>
        </p:spPr>
      </p:pic>
      <p:sp>
        <p:nvSpPr>
          <p:cNvPr id="173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三、他会揍我的！那也活该，我自作自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嗯，揍我一顿也好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在收养小孩这件事上动摇过吗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8-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然段，哪句话可以看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甘愿自己受苦也要帮助他人的高尚心灵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她的心跳得很厉害，自己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知道为什么要这样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是她觉得非这样做不可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这样做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是指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收养西蒙的两个孤儿，把他们抚养成人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面对西蒙的悲惨遭遇，桑娜本能地把两个孤儿抱回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自己的家。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不知道为什么要这样做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但是觉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非这样做不可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看似矛盾，实际上反映了桑娜同情穷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人、关心穷人的善良品质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仿宋"/>
              </a:rPr>
              <a:t>收养孩子的想法坚定不动摇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桑娜脸色苍白，神情激动。她忐忑不安地想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他会说什么呢？这是闹着玩的吗？自己的五个孩子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经够他受的了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是他来啦？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不，还没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什么把他们抱过来啊？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他会揍我的，那也活该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我自作自受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嗯，揍我一顿也好！”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通过桑娜的心理活动，读者能充分感受到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生活给桑娜带来的压力，感受到桑娜热爱丈夫，同情孤儿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宁可自己吃苦也要帮助别人的美好心灵。　　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宁可自己吃苦也要帮助别人的桑娜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环境描写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力地烘托出桑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勤劳能干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的品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关于桑娜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心理活动的描写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真实地展现了桑娜的内心世界，刻画了一个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充满爱心、乐于助人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的穷苦劳动妇女的形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四、“我为什么要这样做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今叫我怎么对他说呢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感情地朗读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2-2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自然段。（配乐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和渔夫的对话中，出现了两次沉默，请找出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0.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两个人沉默了一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3. 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也不知道她什么时候死的，大概是昨天，唉，她死得好惨哪，两个孩子都在她身边，睡着了。他们那么小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个还不会说话，另一个刚会爬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桑娜沉默了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第一次沉默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0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两个人沉默了一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桑娜为什么沉默？渔夫为什么也沉默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桑娜沉默是因为不知怎么向丈夫说出抱回孩子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事，她正在盘算着从何说起，这种沉默正掩盖着桑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内心的激烈斗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渔夫沉默是因为一方面还沉浸在与海浪搏斗的恐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中，心里尚存余悸，另一方面生活艰难，压力沉重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看到桑娜沉默了，所以也不说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第二次沉默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3. 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也不知道她什么时候死的，大概是昨天，唉，她死得好惨哪，两个孩子都在她身边，睡着了。他们那么小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个还不会说话，另一个刚会爬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”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桑娜沉默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此时的沉默带着试探性，想看看丈夫对这件事有什么反映，等待丈夫做决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列夫</a:t>
            </a:r>
            <a:r>
              <a:rPr b="1" lang="en-US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托尔斯泰的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品气势磅礴，场面广阔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人物众多，</a:t>
            </a:r>
            <a:r>
              <a:rPr b="1" lang="zh-CN" sz="2800" spc="-1" strike="noStrike">
                <a:solidFill>
                  <a:srgbClr val="cc3300"/>
                </a:solidFill>
                <a:latin typeface="华文仿宋"/>
                <a:ea typeface="华文仿宋"/>
              </a:rPr>
              <a:t>心理描写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仿宋"/>
                <a:ea typeface="华文仿宋"/>
              </a:rPr>
              <a:t>真、细腻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，语言质朴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炼，在世界文学史上有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巨大的影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7" descr="01300000180919121506054574320_s"/>
          <p:cNvPicPr/>
          <p:nvPr/>
        </p:nvPicPr>
        <p:blipFill>
          <a:blip r:embed="rId1"/>
          <a:stretch/>
        </p:blipFill>
        <p:spPr>
          <a:xfrm>
            <a:off x="4800600" y="1981080"/>
            <a:ext cx="3657600" cy="3610080"/>
          </a:xfrm>
          <a:prstGeom prst="rect">
            <a:avLst/>
          </a:prstGeom>
          <a:ln w="0">
            <a:noFill/>
          </a:ln>
        </p:spPr>
      </p:pic>
      <p:sp>
        <p:nvSpPr>
          <p:cNvPr id="95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4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渔夫皱起眉，他的脸色变得严肃，忧虑。“恩，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问题”他搔搔后脑勺说：“恩，你看怎么办？得把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们抱来，同死人呆在一起怎么行？哦，我们，我们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熬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过去的，快去，别等他们醒来。” 但桑娜坐着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动不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这一段对渔夫进行了什么描写？从“熬”字你读到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什么？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动作、神态、语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这段细致地描写了渔夫做出决定前后的过程，“熬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字可以感受到渔夫为了抚养邻居的孩子准备过更艰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的日子，准备付出更多的辛劳，可见渔夫和桑娜一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有着一颗甘愿自己受苦也要帮助他人的高尚心灵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谁是真正的穷人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穷得只剩下了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贫穷的人往往富于仁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人性的光辉：真、善、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4" name="Picture 9" descr="xin_15120510120743728623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200863114452423_2"/>
          <p:cNvPicPr/>
          <p:nvPr/>
        </p:nvPicPr>
        <p:blipFill>
          <a:blip r:embed="rId2"/>
          <a:stretch/>
        </p:blipFill>
        <p:spPr>
          <a:xfrm>
            <a:off x="4724280" y="1981080"/>
            <a:ext cx="3934080" cy="3967200"/>
          </a:xfrm>
          <a:prstGeom prst="rect">
            <a:avLst/>
          </a:prstGeom>
          <a:ln w="0">
            <a:noFill/>
          </a:ln>
        </p:spPr>
      </p:pic>
      <p:sp>
        <p:nvSpPr>
          <p:cNvPr id="206" name="页脚占位符 8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续写穷人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、把握主要人物的性格特点和思想品质，要前后一致。（桑娜和渔夫心地善良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、掌握故事情节的主线，要前后连贯。（桑拿的心理，收养孤儿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三、想象要合情合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通过心理活动表现人物的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篇课文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注重通过人物心理活动的描写来表现人物的思想品质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：桑娜抱回孩子后的一段心理描写，深刻地反映了桑娜矛盾的心理状态，表现了她宁愿自己承担痛苦和劳累，也要把西蒙的两个孩子抚养长大的朴实、善良的美好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中心思想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课文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记叙了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个寒风呼啸的夜晚，桑娜与渔夫主动收养已故邻居西蒙的两个孤儿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故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真实地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反映了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沙俄专制制度下渔民的悲惨生活，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赞美了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桑娜和渔夫宁可自己吃苦也要帮助别人的美好品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905120" y="13716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呼啸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抱怨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作自受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魁梧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倒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忧虑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 rot="5400000">
            <a:off x="-343080" y="278136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词语理解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191120" y="1371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文中形容海风发出高而长的声音，说明寒风猛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191120" y="2362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埋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191120" y="2971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自己做错了事，自己承受不好的结果。受：承受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038480" y="40384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身体）强壮高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191120" y="4572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遇事不利；遭遇不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191120" y="5105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忧愁担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页脚占位符 11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182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iá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iǎ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ià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ià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u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514600" y="1980720"/>
            <a:ext cx="633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身强体壮    强弩之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勉强   强迫  强词夺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倔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睡觉 午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觉 觉悟 发觉 察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ū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铺盖 铺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ù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稻草铺  床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ó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佛教  佛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ú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仿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é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缝补 缝合 裁缝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èng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缝隙 裂缝  天衣无缝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见缝插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近义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舒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顾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抱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忧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心惊肉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舒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怜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埋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焦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胆战心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反义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潮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严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寒风呼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干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活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暖风习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8" name="Picture 4" descr="m188_G"/>
          <p:cNvPicPr/>
          <p:nvPr/>
        </p:nvPicPr>
        <p:blipFill>
          <a:blip r:embed="rId1"/>
          <a:stretch/>
        </p:blipFill>
        <p:spPr>
          <a:xfrm>
            <a:off x="380880" y="388800"/>
            <a:ext cx="8382240" cy="6080400"/>
          </a:xfrm>
          <a:prstGeom prst="rect">
            <a:avLst/>
          </a:prstGeom>
          <a:ln w="0">
            <a:noFill/>
          </a:ln>
        </p:spPr>
      </p:pic>
      <p:sp>
        <p:nvSpPr>
          <p:cNvPr id="99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省略号的作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表明心理活动的时断时续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她忐忑不安地想：“他会说什么呢？这是闹着玩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吗？自己的五个孩子已经够他受的了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是他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啦？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，还没来！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为什么把他们抱过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啊？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他会揍我的！那也活该，我自作自受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嗯，揍我一顿也好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表示省略递增的次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古老的钟发哑地敲了十下，十一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表示语意的跳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谢谢上帝，总算活着回来啦。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不在，你在家里做些什么呢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表示说话结巴，欲言又止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8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？”桑娜脸色发白，说：“我嘛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缝缝补补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风吼得这么凶，真叫人害怕，我可替你担心呢。” 　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9" name="WordArt 6" descr=""/>
          <p:cNvPicPr/>
          <p:nvPr/>
        </p:nvPicPr>
        <p:blipFill>
          <a:blip r:embed="rId2"/>
          <a:stretch/>
        </p:blipFill>
        <p:spPr>
          <a:xfrm>
            <a:off x="2054160" y="2987640"/>
            <a:ext cx="4748400" cy="987480"/>
          </a:xfrm>
          <a:prstGeom prst="rect">
            <a:avLst/>
          </a:prstGeom>
          <a:ln w="0">
            <a:noFill/>
          </a:ln>
        </p:spPr>
      </p:pic>
      <p:sp>
        <p:nvSpPr>
          <p:cNvPr id="250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新魏"/>
              </a:rPr>
              <a:t>写作背景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穷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一文的写作年代，正是俄国历史上阶级矛盾空前激化的时期。封建农奴制一步步地崩溃瓦解，广大人民对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沙皇专制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的反抗斗争日趋高涨，逐渐形成了俄国资产阶级民主革命的高潮。在这个时期，贵族、资产阶级吮吸人民的血汗，生活奢华而道德堕落；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广大劳动人民生活极端贫困，然而他们的道德情操却高尚淳朴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大声朗读课文，标出不会读的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想一想，课文讲了一件什么事？尝试用自己的话复述一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" name="Picture 4" descr="imagesCAERG9WB"/>
          <p:cNvPicPr/>
          <p:nvPr/>
        </p:nvPicPr>
        <p:blipFill>
          <a:blip r:embed="rId1"/>
          <a:stretch/>
        </p:blipFill>
        <p:spPr>
          <a:xfrm>
            <a:off x="4038480" y="3505320"/>
            <a:ext cx="3886200" cy="2911320"/>
          </a:xfrm>
          <a:prstGeom prst="rect">
            <a:avLst/>
          </a:prstGeom>
          <a:ln w="0">
            <a:noFill/>
          </a:ln>
        </p:spPr>
      </p:pic>
      <p:sp>
        <p:nvSpPr>
          <p:cNvPr id="106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ic_2707111"/>
          <p:cNvPicPr/>
          <p:nvPr/>
        </p:nvPicPr>
        <p:blipFill>
          <a:blip r:embed="rId1"/>
          <a:stretch/>
        </p:blipFill>
        <p:spPr>
          <a:xfrm>
            <a:off x="762120" y="2666880"/>
            <a:ext cx="7010280" cy="2121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219320" y="1523880"/>
            <a:ext cx="1447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g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搁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0" y="152388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iá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填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276720" y="1523880"/>
            <a:ext cx="106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u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抱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267080" y="1523880"/>
            <a:ext cx="114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iā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掀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181480" y="152388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ā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唉声叹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781680" y="1523880"/>
            <a:ext cx="914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gu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包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295280" y="4724280"/>
            <a:ext cx="198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kuí   w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魁    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124080" y="472428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lí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湿淋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419720" y="4724280"/>
            <a:ext cx="114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撕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410080" y="4724280"/>
            <a:ext cx="1067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mé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倒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24480" y="472428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l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忧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446120" y="1371600"/>
            <a:ext cx="45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5562720" y="304920"/>
            <a:ext cx="2743200" cy="838080"/>
          </a:xfrm>
          <a:prstGeom prst="cloudCallout">
            <a:avLst>
              <a:gd name="adj1" fmla="val -28643"/>
              <a:gd name="adj2" fmla="val 10643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华文新魏"/>
              </a:rPr>
              <a:t>都会了吗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页脚占位符 1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Arial"/>
                <a:ea typeface="华文新魏"/>
              </a:rPr>
              <a:t>一个怎样的故事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课文记叙了在一个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风呼啸的夜晚</a:t>
            </a: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桑娜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渔夫主动收养已故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居西蒙的两个孤儿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故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Picture 5" descr="YW00067"/>
          <p:cNvPicPr/>
          <p:nvPr/>
        </p:nvPicPr>
        <p:blipFill>
          <a:blip r:embed="rId1"/>
          <a:stretch/>
        </p:blipFill>
        <p:spPr>
          <a:xfrm>
            <a:off x="5181480" y="1905120"/>
            <a:ext cx="3040200" cy="4267080"/>
          </a:xfrm>
          <a:prstGeom prst="rect">
            <a:avLst/>
          </a:prstGeom>
          <a:ln w="0">
            <a:noFill/>
          </a:ln>
        </p:spPr>
      </p:pic>
      <p:sp>
        <p:nvSpPr>
          <p:cNvPr id="125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段落大意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一（</a:t>
            </a:r>
            <a:r>
              <a:rPr b="0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-2</a:t>
            </a: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桑娜焦急地等待出海捕鱼的丈夫归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二（</a:t>
            </a:r>
            <a:r>
              <a:rPr b="0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3-11</a:t>
            </a: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桑娜去探望邻居西蒙，发现她已经死了，就抱回了两个遗孤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三（</a:t>
            </a:r>
            <a:r>
              <a:rPr b="0" lang="en-US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2-27</a:t>
            </a: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渔夫出海归来，知道西蒙死了，主动提出抱回孩子抚养，两人的想法不谋而合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10-23T06:21:4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