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9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8.jpeg" ContentType="image/jpeg"/>
  <Override PartName="/ppt/media/image8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5C7-DC53-41E3-B1CC-E103AC9E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4EB-2D1A-4252-9B1D-93075D4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CE7-A108-4C21-AD33-23E888A5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1CE-48C0-4030-B535-AC9AEC68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CF9-34B2-46BE-B21E-FD39CDB3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905-1127-428F-AA35-2594582E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4C7-D80C-4454-B92E-36C90143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D86-D79D-4C74-A847-9BF68078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5EE-B0C8-47A8-A93F-55DEBFB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B74-3534-4B10-8C86-515AB46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C45-8F6C-4FF0-AFBF-50945C8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7B1-33D4-4A84-8502-3902EE7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682D-D589-4F8E-942E-ADE1563C34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file:///tmp/home/.config/libreoffice/4/user/gallery/MTA_017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177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净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天净沙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500720" y="4724280"/>
            <a:ext cx="381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天净沙 秋思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6372360" y="6165720"/>
            <a:ext cx="14000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马致远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971640" y="404640"/>
          <a:ext cx="7416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04640"/>
                    <a:ext cx="7416720" cy="604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643280" y="187200"/>
            <a:ext cx="406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枯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藤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老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树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昏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流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古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道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西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瘦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u=3418350437,1164947270&amp;fm=0&amp;gp=26"/>
          <p:cNvPicPr/>
          <p:nvPr/>
        </p:nvPicPr>
        <p:blipFill>
          <a:blip r:embed="rId2"/>
          <a:stretch/>
        </p:blipFill>
        <p:spPr>
          <a:xfrm>
            <a:off x="1835280" y="260280"/>
            <a:ext cx="2376360" cy="208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u=3698101747,4101234362&amp;fm=0&amp;gp=24"/>
          <p:cNvPicPr/>
          <p:nvPr/>
        </p:nvPicPr>
        <p:blipFill>
          <a:blip r:embed="rId3"/>
          <a:stretch/>
        </p:blipFill>
        <p:spPr>
          <a:xfrm>
            <a:off x="539640" y="2637000"/>
            <a:ext cx="338472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u=2270211388,3290945994&amp;fm=0&amp;gp=32"/>
          <p:cNvPicPr/>
          <p:nvPr/>
        </p:nvPicPr>
        <p:blipFill>
          <a:blip r:embed="rId4"/>
          <a:stretch/>
        </p:blipFill>
        <p:spPr>
          <a:xfrm>
            <a:off x="1258920" y="4653000"/>
            <a:ext cx="2160720" cy="1778040"/>
          </a:xfrm>
          <a:prstGeom prst="rect">
            <a:avLst/>
          </a:prstGeom>
          <a:ln w="0">
            <a:noFill/>
          </a:ln>
        </p:spPr>
      </p:pic>
      <p:sp>
        <p:nvSpPr>
          <p:cNvPr id="93" name="WordArt 6"/>
          <p:cNvSpPr txBox="1"/>
          <p:nvPr/>
        </p:nvSpPr>
        <p:spPr>
          <a:xfrm rot="5400000">
            <a:off x="192240" y="822960"/>
            <a:ext cx="1655640" cy="962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品一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sp>
        <p:nvSpPr>
          <p:cNvPr id="9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54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100"/>
          <p:cNvPicPr/>
          <p:nvPr/>
        </p:nvPicPr>
        <p:blipFill>
          <a:blip r:embed="rId2"/>
          <a:stretch/>
        </p:blipFill>
        <p:spPr>
          <a:xfrm>
            <a:off x="6781680" y="121932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187280" y="42210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枯藤老树昏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95280" y="189000"/>
            <a:ext cx="208908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看一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9" name="40662_1083_32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199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小桥流水"/>
          <p:cNvPicPr/>
          <p:nvPr/>
        </p:nvPicPr>
        <p:blipFill>
          <a:blip r:embed="rId1"/>
          <a:srcRect l="0" t="0" r="191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</p:pic>
      <p:sp>
        <p:nvSpPr>
          <p:cNvPr id="102" name="Text Box 3"/>
          <p:cNvSpPr/>
          <p:nvPr/>
        </p:nvSpPr>
        <p:spPr>
          <a:xfrm>
            <a:off x="1804680" y="4968720"/>
            <a:ext cx="4204080" cy="1434600"/>
          </a:xfrm>
          <a:prstGeom prst="rect">
            <a:avLst/>
          </a:prstGeom>
          <a:noFill/>
          <a:ln w="0">
            <a:noFill/>
          </a:ln>
          <a:effectLst>
            <a:outerShdw dist="89808" dir="483908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小桥流水人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WALLPAPER138"/>
          <p:cNvPicPr/>
          <p:nvPr/>
        </p:nvPicPr>
        <p:blipFill>
          <a:blip r:embed="rId2">
            <a:alphaModFix amt="50000"/>
          </a:blip>
          <a:srcRect l="41810" t="53846" r="4861" b="17953"/>
          <a:stretch/>
        </p:blipFill>
        <p:spPr>
          <a:xfrm>
            <a:off x="6095880" y="304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>
            <a:hlinkClick r:id="rId3"/>
          </p:cNvPr>
          <p:cNvSpPr/>
          <p:nvPr/>
        </p:nvSpPr>
        <p:spPr>
          <a:xfrm>
            <a:off x="3276720" y="4495680"/>
            <a:ext cx="2895480" cy="2362320"/>
          </a:xfrm>
          <a:custGeom>
            <a:avLst/>
            <a:gdLst>
              <a:gd name="textAreaLeft" fmla="*/ 153000 w 2895480"/>
              <a:gd name="textAreaRight" fmla="*/ 2742480 w 289548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26474" h="21600">
                <a:moveTo>
                  <a:pt x="0" y="0"/>
                </a:moveTo>
                <a:lnTo>
                  <a:pt x="26474" y="0"/>
                </a:lnTo>
                <a:lnTo>
                  <a:pt x="26474" y="21600"/>
                </a:lnTo>
                <a:lnTo>
                  <a:pt x="0" y="21600"/>
                </a:lnTo>
                <a:close/>
              </a:path>
              <a:path fill="lightenLess" w="26474" h="21600">
                <a:moveTo>
                  <a:pt x="0" y="0"/>
                </a:moveTo>
                <a:lnTo>
                  <a:pt x="26474" y="0"/>
                </a:lnTo>
                <a:lnTo>
                  <a:pt x="25074" y="1400"/>
                </a:lnTo>
                <a:lnTo>
                  <a:pt x="1400" y="1400"/>
                </a:lnTo>
                <a:close/>
              </a:path>
              <a:path fill="darken" w="26474" h="21600">
                <a:moveTo>
                  <a:pt x="26474" y="0"/>
                </a:moveTo>
                <a:lnTo>
                  <a:pt x="26474" y="21600"/>
                </a:lnTo>
                <a:lnTo>
                  <a:pt x="25074" y="20200"/>
                </a:lnTo>
                <a:lnTo>
                  <a:pt x="25074" y="1400"/>
                </a:lnTo>
                <a:close/>
              </a:path>
              <a:path fill="darkenLess" w="26474" h="21600">
                <a:moveTo>
                  <a:pt x="26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4" y="20200"/>
                </a:lnTo>
                <a:close/>
              </a:path>
              <a:path fill="lighten" w="26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74" h="21600">
                <a:moveTo>
                  <a:pt x="6231" y="8406"/>
                </a:moveTo>
                <a:lnTo>
                  <a:pt x="10661" y="8406"/>
                </a:lnTo>
                <a:lnTo>
                  <a:pt x="15082" y="3794"/>
                </a:lnTo>
                <a:lnTo>
                  <a:pt x="15082" y="17806"/>
                </a:lnTo>
                <a:lnTo>
                  <a:pt x="10661" y="13194"/>
                </a:lnTo>
                <a:lnTo>
                  <a:pt x="6231" y="13194"/>
                </a:lnTo>
                <a:close/>
              </a:path>
              <a:path fill="darken" w="26474" h="21600">
                <a:moveTo>
                  <a:pt x="16736" y="10800"/>
                </a:moveTo>
                <a:lnTo>
                  <a:pt x="20244" y="10800"/>
                </a:lnTo>
              </a:path>
              <a:path fill="darken" w="26474" h="21600">
                <a:moveTo>
                  <a:pt x="16736" y="8406"/>
                </a:moveTo>
                <a:lnTo>
                  <a:pt x="20244" y="5639"/>
                </a:lnTo>
              </a:path>
              <a:path fill="darken" w="26474" h="21600">
                <a:moveTo>
                  <a:pt x="16736" y="13194"/>
                </a:moveTo>
                <a:lnTo>
                  <a:pt x="20244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流水的声音1.mp3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流水的声音1.mp3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42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31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新魏"/>
              </a:rPr>
              <a:t>古道西风瘦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SNP8D7pP0k0.mp3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312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62064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彩云"/>
              </a:rPr>
              <a:t>曲中前三句共描写了几种景物？情调氛围有何异同？在文中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971960" y="19890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种景物：枯藤、老树、乌鸦、小桥、流水、人家、古道、西风、廋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00000" y="278136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一句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种景物写出一片萧杀秋景，造成一种黯然凄凉的气氛，衬托旅人内心的悲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0000" y="364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二句的三景则是安谧，明净，就连那户人家的欢心笑语也仿佛听见，对比自己的奔波不定，更感羁旅之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00000" y="4508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三句三景古老，凄凉，羸弱，衬托出天涯游子的内心孤独凄苦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0" y="19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4920" y="278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异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14920" y="551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042920" y="55897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一、三句色彩情调一样，都是哀景，正面衬托游子的哀愁；第二句则为乐景，反衬游子的羁旅之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几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缠绕着一棵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那凋零了的黄叶在萧萧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瑟瑟的颤抖，黄昏的天空中点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声声哀鸣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一片悲凉的秋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眼前呈现出一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桥下小溪潺潺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不远处还有升起袅袅炊烟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那里有安居落业的人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萧瑟的秋风中，在寂寞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上，饱尝艰辛的游子骑着一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向远方踽踽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jǔ 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而行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1187280" y="620640"/>
            <a:ext cx="244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绘一绘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052000" y="155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枯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36720" y="155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秃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34764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2680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寒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0800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8692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018560" y="33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农家小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956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995280" y="47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瘦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19640" y="189000"/>
            <a:ext cx="345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夕阳西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断肠人在天涯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d56d500336cc10c738b6510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WALLPAPER3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600200" y="5334120"/>
            <a:ext cx="65530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断肠人在天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96840" y="1341360"/>
            <a:ext cx="2619000" cy="131292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夕阳西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JNA9zqlUamS.mp3" descr=""/>
          <p:cNvPicPr/>
          <p:nvPr/>
        </p:nvPicPr>
        <p:blipFill>
          <a:blip r:embed="rId2"/>
          <a:stretch/>
        </p:blipFill>
        <p:spPr>
          <a:xfrm>
            <a:off x="8920080" y="6453360"/>
            <a:ext cx="223920" cy="223560"/>
          </a:xfrm>
          <a:prstGeom prst="rect">
            <a:avLst/>
          </a:prstGeom>
          <a:ln w="0">
            <a:noFill/>
          </a:ln>
        </p:spPr>
      </p:pic>
      <p:sp>
        <p:nvSpPr>
          <p:cNvPr id="14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3236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4143240" y="7650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⊙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这九种又是在一个什么大的背景之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00000" y="1844640"/>
            <a:ext cx="73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夕阳西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时间愈来愈晚，光线惨淡、昏黄，更使以上景物倍添迟暮苍凉的氛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67320" y="2997360"/>
            <a:ext cx="28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⊙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结句点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826920" y="4149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处在这种环境下的人是天涯游子，并直抒胸臆：因思乡愁已断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流浪歌.mp3" descr=""/>
          <p:cNvPicPr/>
          <p:nvPr/>
        </p:nvPicPr>
        <p:blipFill>
          <a:blip r:embed="rId2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684360" y="623736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流浪在外，也常回家看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83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此时此刻，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正西沉，撒下凄冷的斜晖，本是鸟禽回巢、羊牛回圈、人儿归家的团圆时刻，而游子却仍是人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______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此时此刻、此情此景，漂泊他乡的游子面对如此萧瑟凄凉的景象，怎能不悲从中来，怎能不撕心裂肺，怎能不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______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457200" y="274680"/>
            <a:ext cx="33228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绘一绘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42072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370920" y="400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柔肠寸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587280" y="256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天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700360" y="1263600"/>
            <a:ext cx="3744720" cy="564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天净沙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秋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华文新魏"/>
              </a:rPr>
              <a:t>马致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枯藤老树昏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小桥流水人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古道西风瘦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夕阳西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断肠人在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2240" y="4508640"/>
            <a:ext cx="1337760" cy="1224000"/>
            <a:chOff x="1002240" y="4508640"/>
            <a:chExt cx="1337760" cy="1224000"/>
          </a:xfrm>
        </p:grpSpPr>
        <p:sp>
          <p:nvSpPr>
            <p:cNvPr id="156" name="Text Box 4"/>
            <p:cNvSpPr/>
            <p:nvPr/>
          </p:nvSpPr>
          <p:spPr>
            <a:xfrm>
              <a:off x="1002240" y="4581720"/>
              <a:ext cx="1155240" cy="936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烘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2340000" y="4508640"/>
              <a:ext cx="0" cy="1224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6053400" y="2852640"/>
            <a:ext cx="1471320" cy="4005360"/>
            <a:chOff x="6053400" y="2852640"/>
            <a:chExt cx="1471320" cy="4005360"/>
          </a:xfrm>
        </p:grpSpPr>
        <p:sp>
          <p:nvSpPr>
            <p:cNvPr id="159" name="AutoShape 7"/>
            <p:cNvSpPr/>
            <p:nvPr/>
          </p:nvSpPr>
          <p:spPr>
            <a:xfrm>
              <a:off x="6156360" y="5389560"/>
              <a:ext cx="358920" cy="1468440"/>
            </a:xfrm>
            <a:custGeom>
              <a:avLst/>
              <a:gdLst>
                <a:gd name="textAreaLeft" fmla="*/ 47880 w 358920"/>
                <a:gd name="textAreaRight" fmla="*/ 311040 w 358920"/>
                <a:gd name="textAreaTop" fmla="*/ 257040 h 1468440"/>
                <a:gd name="textAreaBottom" fmla="*/ 1064880 h 14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6053400" y="5445000"/>
              <a:ext cx="1277640" cy="1152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思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6372360" y="2852640"/>
              <a:ext cx="1152360" cy="642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苍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6372360" y="4508280"/>
              <a:ext cx="1150920" cy="642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荒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6372360" y="3644640"/>
              <a:ext cx="1152360" cy="642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恬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2"/>
          <p:cNvSpPr/>
          <p:nvPr/>
        </p:nvSpPr>
        <p:spPr>
          <a:xfrm>
            <a:off x="0" y="4292640"/>
            <a:ext cx="10796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子思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3"/>
          <p:cNvGrpSpPr/>
          <p:nvPr/>
        </p:nvGrpSpPr>
        <p:grpSpPr>
          <a:xfrm>
            <a:off x="0" y="3213000"/>
            <a:ext cx="2557440" cy="3645000"/>
            <a:chOff x="0" y="3213000"/>
            <a:chExt cx="2557440" cy="3645000"/>
          </a:xfrm>
        </p:grpSpPr>
        <p:sp>
          <p:nvSpPr>
            <p:cNvPr id="166" name="AutoShape 14"/>
            <p:cNvSpPr/>
            <p:nvPr/>
          </p:nvSpPr>
          <p:spPr>
            <a:xfrm>
              <a:off x="2268360" y="3213000"/>
              <a:ext cx="287640" cy="1800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>
              <a:off x="2340000" y="5634000"/>
              <a:ext cx="217440" cy="1224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0" y="3644640"/>
              <a:ext cx="1979640" cy="642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写    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0" y="5877000"/>
              <a:ext cx="1979640" cy="642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抒    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8"/>
          <p:cNvSpPr/>
          <p:nvPr/>
        </p:nvSpPr>
        <p:spPr>
          <a:xfrm>
            <a:off x="250920" y="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这首小令哪几句是写景的？哪几句是抒情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5092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写景的句子分别写出了景物什么特点？抒情的语句抒发了什么样的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50920" y="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综观这首小令，请你用简洁的语言来给这幅图画拟个恰当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25092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前三句写景与后两句抒情是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7236000" y="2781360"/>
            <a:ext cx="1908000" cy="3595320"/>
            <a:chOff x="7236000" y="2781360"/>
            <a:chExt cx="1908000" cy="3595320"/>
          </a:xfrm>
        </p:grpSpPr>
        <p:sp>
          <p:nvSpPr>
            <p:cNvPr id="175" name="AutoShape 23"/>
            <p:cNvSpPr/>
            <p:nvPr/>
          </p:nvSpPr>
          <p:spPr>
            <a:xfrm>
              <a:off x="7236000" y="5950080"/>
              <a:ext cx="647640" cy="216000"/>
            </a:xfrm>
            <a:custGeom>
              <a:avLst/>
              <a:gdLst>
                <a:gd name="textAreaLeft" fmla="*/ 81000 w 647640"/>
                <a:gd name="textAreaRight" fmla="*/ 567000 w 6476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7848720" y="5734080"/>
              <a:ext cx="12952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断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5"/>
            <p:cNvSpPr/>
            <p:nvPr/>
          </p:nvSpPr>
          <p:spPr>
            <a:xfrm>
              <a:off x="7667640" y="2781360"/>
              <a:ext cx="144720" cy="1225440"/>
            </a:xfrm>
            <a:custGeom>
              <a:avLst/>
              <a:gdLst>
                <a:gd name="textAreaLeft" fmla="*/ 19080 w 144720"/>
                <a:gd name="textAreaRight" fmla="*/ 125640 w 144720"/>
                <a:gd name="textAreaTop" fmla="*/ 214200 h 1225440"/>
                <a:gd name="textAreaBottom" fmla="*/ 88848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6"/>
            <p:cNvSpPr/>
            <p:nvPr/>
          </p:nvSpPr>
          <p:spPr>
            <a:xfrm>
              <a:off x="7667640" y="4076640"/>
              <a:ext cx="142920" cy="122400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214200 h 1224000"/>
                <a:gd name="textAreaBottom" fmla="*/ 8874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7"/>
            <p:cNvSpPr/>
            <p:nvPr/>
          </p:nvSpPr>
          <p:spPr>
            <a:xfrm>
              <a:off x="7866360" y="2997360"/>
              <a:ext cx="1277640" cy="2089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对比反衬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8"/>
            <p:cNvSpPr/>
            <p:nvPr/>
          </p:nvSpPr>
          <p:spPr>
            <a:xfrm>
              <a:off x="7740720" y="3933720"/>
              <a:ext cx="576360" cy="289080"/>
            </a:xfrm>
            <a:custGeom>
              <a:avLst/>
              <a:gdLst>
                <a:gd name="textAreaLeft" fmla="*/ 72000 w 576360"/>
                <a:gd name="textAreaRight" fmla="*/ 504360 w 576360"/>
                <a:gd name="textAreaTop" fmla="*/ 72000 h 289080"/>
                <a:gd name="textAreaBottom" fmla="*/ 217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8101080" y="4365720"/>
              <a:ext cx="0" cy="12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30"/>
          <p:cNvSpPr/>
          <p:nvPr/>
        </p:nvSpPr>
        <p:spPr>
          <a:xfrm>
            <a:off x="179280" y="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第二句写景与一、三句写景是什么关系？这样写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539640" y="189000"/>
            <a:ext cx="23338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思乡的古诗句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796120" y="1916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彩云"/>
              </a:rPr>
              <a:t>举头望明月，低头思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796120" y="2637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彩云"/>
              </a:rPr>
              <a:t>烽火连三月，家书抵万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967120" y="3429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彩云"/>
              </a:rPr>
              <a:t>白日放歌须纵酒，青春作伴好还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967120" y="4221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彩云"/>
              </a:rPr>
              <a:t>日暮乡关何处是？烟波江上使人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197440" y="479736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321264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元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明清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136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国古代不同历史时期占主导地位的文学体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189000"/>
            <a:ext cx="3311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</a:rPr>
              <a:t>文史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图片2"/>
          <p:cNvPicPr/>
          <p:nvPr/>
        </p:nvPicPr>
        <p:blipFill>
          <a:blip r:embed="rId1"/>
          <a:stretch/>
        </p:blipFill>
        <p:spPr>
          <a:xfrm>
            <a:off x="76320" y="5724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11280" y="620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Arial"/>
                <a:ea typeface="华文隶书"/>
              </a:rPr>
              <a:t>文史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87280" y="21337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中国古代文学中，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汉赋、唐诗、宋词、元曲、明清小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别代表着一个时代文学作品的最高成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 rot="5400000">
            <a:off x="6938640" y="845640"/>
            <a:ext cx="1873080" cy="113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听一听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627280" y="333360"/>
            <a:ext cx="3168720" cy="825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元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2924280"/>
            <a:ext cx="17636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曲”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2124000" y="2492280"/>
            <a:ext cx="432000" cy="1582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627280" y="2276640"/>
            <a:ext cx="99072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剧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556000" y="3860640"/>
            <a:ext cx="99036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散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564000" y="3357720"/>
            <a:ext cx="358560" cy="1368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125960" y="3068640"/>
            <a:ext cx="501804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散套：是同一宫调的若干小令相联而成的组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995640" y="4581360"/>
            <a:ext cx="266724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小令：只有一支曲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403280" y="2421000"/>
            <a:ext cx="5184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2708280"/>
            <a:ext cx="6767640" cy="916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天净沙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是曲牌名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秋思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是题目。此曲是元代小令中的名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059280" y="981000"/>
            <a:ext cx="3095280" cy="916920"/>
          </a:xfrm>
          <a:prstGeom prst="rect">
            <a:avLst/>
          </a:prstGeom>
          <a:solidFill>
            <a:srgbClr val="808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解　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55640" y="1844640"/>
            <a:ext cx="7704000" cy="2287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马致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号东篱，元代大都人，是当时著名的元曲作家，被人称为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元曲四大家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”之一，更被时人美誉为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曲状元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”。因为这首小令，他还被称为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秋思之祖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627280" y="692280"/>
            <a:ext cx="3168720" cy="825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介绍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55448"/>
          <p:cNvPicPr/>
          <p:nvPr/>
        </p:nvPicPr>
        <p:blipFill>
          <a:blip r:embed="rId1"/>
          <a:stretch/>
        </p:blipFill>
        <p:spPr>
          <a:xfrm>
            <a:off x="0" y="0"/>
            <a:ext cx="4643280" cy="63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008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38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Pi_19488"/>
          <p:cNvPicPr/>
          <p:nvPr/>
        </p:nvPicPr>
        <p:blipFill>
          <a:blip r:embed="rId3"/>
          <a:stretch/>
        </p:blipFill>
        <p:spPr>
          <a:xfrm>
            <a:off x="6084720" y="3284640"/>
            <a:ext cx="1297080" cy="1125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908000" y="0"/>
            <a:ext cx="532800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听　　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100"/>
          <p:cNvPicPr/>
          <p:nvPr/>
        </p:nvPicPr>
        <p:blipFill>
          <a:blip r:embed="rId4"/>
          <a:stretch/>
        </p:blipFill>
        <p:spPr>
          <a:xfrm rot="20665200">
            <a:off x="2771640" y="1844280"/>
            <a:ext cx="79236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Untitled-1副本0副本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68360" y="266760"/>
            <a:ext cx="8675640" cy="69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隶书"/>
              </a:rPr>
              <a:t>天净沙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隶书"/>
              </a:rPr>
              <a:t>·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隶书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华文行楷"/>
                <a:ea typeface="华文行楷"/>
              </a:rPr>
              <a:t>马致远</a:t>
            </a:r>
            <a:r>
              <a:rPr b="1" lang="zh-CN" sz="36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枯藤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老树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昏鸦。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小桥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流水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人家。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古道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西风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瘦马。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夕阳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西下，断肠人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在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cc"/>
                </a:solidFill>
                <a:latin typeface="Arial Unicode MS"/>
                <a:ea typeface="楷体_GB2312"/>
              </a:rPr>
              <a:t>天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 rot="5400000">
            <a:off x="7299000" y="701640"/>
            <a:ext cx="2016360" cy="113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读一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32:42Z</dcterms:created>
  <dc:creator>PC-201007170854</dc:creator>
  <dc:description/>
  <cp:keywords/>
  <dc:language>en-US</dc:language>
  <cp:lastModifiedBy>Administrator</cp:lastModifiedBy>
  <cp:lastPrinted>1899-12-30T00:00:00Z</cp:lastPrinted>
  <dcterms:modified xsi:type="dcterms:W3CDTF">2014-10-20T15:23:54Z</dcterms:modified>
  <cp:revision>2</cp:revision>
  <dc:subject/>
  <dc:title>天净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