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6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697-0562-46FD-B338-C7A7B921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6E2-DCBF-4337-BFBE-CE26A3D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212-489B-45E5-9790-7A67296C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EC4-D885-460D-88DF-F1C9E813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8AC-50A3-496F-9DAA-B8E7081F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2A8-C872-431D-AD7B-2C82AFE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25E-4203-46D4-8267-3304E87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8FB-F323-4B84-8F06-B16ACE2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770-4D8B-445A-8C86-0A15060F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F36-1FA9-4180-B82A-23364E8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35A-5B3F-4902-AC63-8CB57ED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F6B-FF71-4E7A-9CB2-7943957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FB6F-2B55-4AB9-B27F-DF2A08DEC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p00004.avi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447920" y="40384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方正姚体"/>
                <a:ea typeface="方正姚体"/>
              </a:rPr>
              <a:t>马致远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96360" y="5229360"/>
            <a:ext cx="64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华文中宋"/>
                <a:ea typeface="华文中宋"/>
                <a:hlinkClick r:id="rId2"/>
              </a:rPr>
              <a:t>A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44" name="天净沙·秋思（歌）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9.0)">
                                      <p:cBhvr>
                                        <p:cTn id="6" dur="1106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天净沙   秋思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赏析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　　　　　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细细品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小桥流水人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诗人笔锋一转，推出一幅幽远恬静的画面。潺潺的流水上，横跨一座别致的小桥。水边桥边的人家，一缕袅袅炊烟飘出屋外。这是伏笔，与下面的三句相映照，起到强烈的反衬作用。如果说第一句是一幅浓郁凝重的油画，那么，第二句则是一幅清新淡远的水彩画。二者相得益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瘦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787080" y="990720"/>
            <a:ext cx="1642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古道西风瘦马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8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天净沙   秋思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赏析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　 　　　　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细细品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古道西风瘦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古道西风瘦马”，与前二句相呼应。萧瑟西风，吹打着孤独的旅人，掀起他单薄的衣襟。孤独的旅人骑着孤独的瘦马，蹒跚走在羊肠古道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天净沙   秋思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赏析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　　　　　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细细品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夕阳西下，断肠人在天涯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夕阳正逐渐沉到地平线下去，此时，正是人们停止劳作，从田间，从作坊归家歇息的时候。连乌鸦也在此时纷纷回飞，到枯藤缠绕的老树上，寻找自己的窝巢。小桥流水边上的人家，也飘出了袅袅炊烟，等待劳累了一天的家人回到温馨宁静的家。面对昏鸦归巢，小桥人家，孤独的旅人愈加孤独，思乡之情也愈加强烈。多么希望前面就是自己的家啊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可自己却远离亲人，浪迹天涯，漂泊在荒远的他乡，难怪要悲痛欲断肠了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天净沙   秋思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赏析</a:t>
            </a:r>
            <a:br>
              <a:rPr sz="4000"/>
            </a:b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　　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整体把握诗意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枯藤缠绕着老树，树枝上栖息着黄昏时归巢的乌鸦，小桥下，流水潺潺，旁边有几户人家，在古老荒凉的道路上，秋风萧瑟，一匹疲惫的瘦马驮着我蹒跚前行。夕阳向西缓缓落下，悲伤断肠的人还漂泊在天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95280" y="1413000"/>
            <a:ext cx="842472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华文行楷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ff6600"/>
                </a:solidFill>
                <a:latin typeface="华文行楷"/>
                <a:ea typeface="华文行楷"/>
              </a:rPr>
              <a:t>曲中描写了哪几种景物？其中与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华文行楷"/>
                <a:ea typeface="华文行楷"/>
              </a:rPr>
              <a:t>秋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”“</a:t>
            </a:r>
            <a:r>
              <a:rPr b="1" lang="zh-CN" sz="4400" spc="-1" strike="noStrike">
                <a:solidFill>
                  <a:srgbClr val="ff6600"/>
                </a:solidFill>
                <a:latin typeface="华文行楷"/>
                <a:ea typeface="华文行楷"/>
              </a:rPr>
              <a:t>夕阳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ff6600"/>
                </a:solidFill>
                <a:latin typeface="华文行楷"/>
                <a:ea typeface="华文行楷"/>
              </a:rPr>
              <a:t>相照应的景物分别是哪几种景物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曲中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华文行楷"/>
              </a:rPr>
              <a:t>间接指出主人公漂泊他乡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的是哪一句呢？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华文行楷"/>
              </a:rPr>
              <a:t>直接写羁旅之思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的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华文行楷"/>
              </a:rPr>
              <a:t>又是哪句话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？你认为</a:t>
            </a:r>
            <a:r>
              <a:rPr b="1" lang="zh-CN" sz="4000" spc="-1" strike="noStrike">
                <a:solidFill>
                  <a:srgbClr val="ff6600"/>
                </a:solidFill>
                <a:latin typeface="隶书"/>
                <a:ea typeface="华文行楷"/>
              </a:rPr>
              <a:t>羁旅之思</a:t>
            </a:r>
            <a:r>
              <a:rPr b="1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是怎样一种感情？哪句话是画龙点睛之笔？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11280" y="47628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</a:rPr>
              <a:t>找一找：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9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1844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隶书"/>
              </a:rPr>
              <a:t>   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文中第一句：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枯藤老树昏鸦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，它给人怎样一种感受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371628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华文中宋"/>
                <a:ea typeface="华文中宋"/>
              </a:rPr>
              <a:t>      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小桥流水人家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又给人怎样一种感受？这与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断肠人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的愁思是否一致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663480" y="260280"/>
            <a:ext cx="4195800" cy="942840"/>
            <a:chOff x="663480" y="260280"/>
            <a:chExt cx="4195800" cy="942840"/>
          </a:xfrm>
        </p:grpSpPr>
        <p:sp>
          <p:nvSpPr>
            <p:cNvPr id="104" name="Text Box 7"/>
            <p:cNvSpPr/>
            <p:nvPr/>
          </p:nvSpPr>
          <p:spPr>
            <a:xfrm>
              <a:off x="663480" y="378000"/>
              <a:ext cx="419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隶书"/>
                </a:rPr>
                <a:t>想一想：</a:t>
              </a:r>
              <a:endParaRPr b="1" lang="en-US" sz="4800" spc="-1" strike="noStrike">
                <a:solidFill>
                  <a:srgbClr val="0000ff"/>
                </a:solidFill>
                <a:latin typeface="隶书"/>
              </a:endParaRPr>
            </a:p>
          </p:txBody>
        </p:sp>
        <p:pic>
          <p:nvPicPr>
            <p:cNvPr id="105" name="Picture 10" descr="q2"/>
            <p:cNvPicPr/>
            <p:nvPr/>
          </p:nvPicPr>
          <p:blipFill>
            <a:blip r:embed="rId2"/>
            <a:stretch/>
          </p:blipFill>
          <p:spPr>
            <a:xfrm>
              <a:off x="3203640" y="260280"/>
              <a:ext cx="946080" cy="9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50920" y="2205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然而游子却只能忍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古道西风瘦马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加上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夕阳西下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，你想想游子的心理活动又会是怎样的呢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84360" y="12682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比：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110" name="天净沙（曲）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4360" y="1125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夕阳西下，断肠人在天涯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揭示了本文的主旨。断肠人在天涯是怎样一种感受？你能说说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断肠人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在想些什么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68360" y="400536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</a:rPr>
              <a:t>作品构思精巧、别致，说一说这一首曲在内容表现上有什么艺术特色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84360" y="333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说一说：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16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9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3508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图片8"/>
          <p:cNvPicPr/>
          <p:nvPr/>
        </p:nvPicPr>
        <p:blipFill>
          <a:blip r:embed="rId2"/>
          <a:stretch/>
        </p:blipFill>
        <p:spPr>
          <a:xfrm>
            <a:off x="0" y="3494160"/>
            <a:ext cx="9144000" cy="3363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258920" y="90792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</a:rPr>
              <a:t>正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</a:rPr>
              <a:t>面：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24360" y="692280"/>
            <a:ext cx="4562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枯藤老树昏鸦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古道西风瘦马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夕阳西下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2692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侧面：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3780000" y="407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小桥流水人家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1116000" y="55166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隶书"/>
              </a:rPr>
              <a:t>对比映衬手法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24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322800" y="99072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初步了解关于曲的知识识。</a:t>
            </a:r>
            <a:endParaRPr b="1" lang="en-US" sz="36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5280" y="148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在中国古代文学中，汉赋，唐诗、宋词、元曲，分别代表着一个时代文学作品的最高成就。元曲大致分为两种，一是剧曲（一种成熟的戏剧形式），一是散曲。散曲又分为两类：包括套曲和小令。套曲由若干曲子组成，小令以一支曲子为独立单位。散曲有曲牌名，如“天净沙”“山坡羊”等。有的还有曲题，如本课的“秋思”。</a:t>
            </a:r>
            <a:endParaRPr b="1" lang="en-US" sz="36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4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图片9"/>
          <p:cNvPicPr/>
          <p:nvPr/>
        </p:nvPicPr>
        <p:blipFill>
          <a:blip r:embed="rId1"/>
          <a:stretch/>
        </p:blipFill>
        <p:spPr>
          <a:xfrm>
            <a:off x="-60480" y="-60480"/>
            <a:ext cx="9266400" cy="6980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39640" y="126828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</a:rPr>
              <a:t>曲子的    写作手法：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grpSp>
        <p:nvGrpSpPr>
          <p:cNvPr id="127" name="Group 15"/>
          <p:cNvGrpSpPr/>
          <p:nvPr/>
        </p:nvGrpSpPr>
        <p:grpSpPr>
          <a:xfrm>
            <a:off x="826920" y="3141720"/>
            <a:ext cx="6907320" cy="1999800"/>
            <a:chOff x="826920" y="3141720"/>
            <a:chExt cx="6907320" cy="1999800"/>
          </a:xfrm>
        </p:grpSpPr>
        <p:grpSp>
          <p:nvGrpSpPr>
            <p:cNvPr id="128" name="Group 14"/>
            <p:cNvGrpSpPr/>
            <p:nvPr/>
          </p:nvGrpSpPr>
          <p:grpSpPr>
            <a:xfrm>
              <a:off x="826920" y="3141720"/>
              <a:ext cx="3745080" cy="1937160"/>
              <a:chOff x="826920" y="3141720"/>
              <a:chExt cx="3745080" cy="1937160"/>
            </a:xfrm>
          </p:grpSpPr>
          <p:sp>
            <p:nvSpPr>
              <p:cNvPr id="129" name="Line 10"/>
              <p:cNvSpPr/>
              <p:nvPr/>
            </p:nvSpPr>
            <p:spPr>
              <a:xfrm>
                <a:off x="3635280" y="3645000"/>
                <a:ext cx="936720" cy="57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ff"/>
                  </a:solidFill>
                  <a:latin typeface="隶书"/>
                </a:endParaRPr>
              </a:p>
            </p:txBody>
          </p:sp>
          <p:grpSp>
            <p:nvGrpSpPr>
              <p:cNvPr id="130" name="Group 13"/>
              <p:cNvGrpSpPr/>
              <p:nvPr/>
            </p:nvGrpSpPr>
            <p:grpSpPr>
              <a:xfrm>
                <a:off x="826920" y="3141720"/>
                <a:ext cx="3745080" cy="1937160"/>
                <a:chOff x="826920" y="3141720"/>
                <a:chExt cx="3745080" cy="1937160"/>
              </a:xfrm>
            </p:grpSpPr>
            <p:sp>
              <p:nvSpPr>
                <p:cNvPr id="131" name="Text Box 8"/>
                <p:cNvSpPr/>
                <p:nvPr/>
              </p:nvSpPr>
              <p:spPr>
                <a:xfrm>
                  <a:off x="826920" y="3141720"/>
                  <a:ext cx="1676520" cy="19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描写</a:t>
                  </a:r>
                  <a:endParaRPr b="1" lang="en-US" sz="4800" spc="-1" strike="noStrike">
                    <a:solidFill>
                      <a:srgbClr val="0000ff"/>
                    </a:solidFill>
                    <a:latin typeface="隶书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抒情 </a:t>
                  </a:r>
                  <a:endParaRPr b="1" lang="en-US" sz="4800" spc="-1" strike="noStrike">
                    <a:solidFill>
                      <a:srgbClr val="0000ff"/>
                    </a:solidFill>
                    <a:latin typeface="隶书"/>
                  </a:endParaRPr>
                </a:p>
              </p:txBody>
            </p:sp>
            <p:sp>
              <p:nvSpPr>
                <p:cNvPr id="132" name="Line 11"/>
                <p:cNvSpPr/>
                <p:nvPr/>
              </p:nvSpPr>
              <p:spPr>
                <a:xfrm flipV="1">
                  <a:off x="3564000" y="4221000"/>
                  <a:ext cx="1008000" cy="50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ff"/>
                    </a:solidFill>
                    <a:latin typeface="隶书"/>
                  </a:endParaRPr>
                </a:p>
              </p:txBody>
            </p:sp>
          </p:grpSp>
        </p:grpSp>
        <p:sp>
          <p:nvSpPr>
            <p:cNvPr id="133" name="Text Box 12"/>
            <p:cNvSpPr/>
            <p:nvPr/>
          </p:nvSpPr>
          <p:spPr>
            <a:xfrm>
              <a:off x="5219640" y="3357720"/>
              <a:ext cx="25146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借景抒情</a:t>
              </a:r>
              <a:endParaRPr b="1" lang="en-US" sz="4400" spc="-1" strike="noStrike">
                <a:solidFill>
                  <a:srgbClr val="0000ff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情景交融</a:t>
              </a:r>
              <a:endParaRPr b="1" lang="en-US" sz="4400" spc="-1" strike="noStrike">
                <a:solidFill>
                  <a:srgbClr val="0000ff"/>
                </a:solidFill>
                <a:latin typeface="隶书"/>
              </a:endParaRPr>
            </a:p>
          </p:txBody>
        </p:sp>
      </p:grpSp>
      <p:sp>
        <p:nvSpPr>
          <p:cNvPr id="134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老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84360" y="549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曲文鉴赏（品读）：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360" y="37162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隶书"/>
              </a:rPr>
              <a:t>通过你的学习，你能再回过头来用自己的语言说一说这首元曲给你的感受吗？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3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68360" y="620640"/>
            <a:ext cx="813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马致远的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天净沙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秋思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不失为千古绝唱。全曲只用了短短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8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字，刻划了一幅非常真实生动的秋郊夕照图。起首三句为鼎足对，一连排出九幅画面：枯藤、老树、昏鸦、小桥、流水、人家、古道、西风、瘦马，以景托景，景中生情，在苍凉的背景上勾勒出行旅之人飘泊不定而又忧愁的情怀。这里，作者创造性地将孤立的自然物精巧地组合在一起，使整个画面富有流动感、生命感。同时，有意识地突出画面的昏暗阴冷，以便充分表现“断肠人”浪迹天涯的浓烈的羁旅愁怀。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</a:t>
            </a:r>
            <a:endParaRPr b="1" lang="en-US" sz="36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142" name="天净沙（曲）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85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145" name="Picture 3" descr="11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-667080" y="260280"/>
            <a:ext cx="1521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比较探究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147" name="Picture 8" descr="__end_key__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1506240" y="476280"/>
            <a:ext cx="57168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孤村落日残霞，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轻烟老树寒鸦，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一点飞鸿影下。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青山绿水，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白草红叶黄花。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7612560" y="1125360"/>
            <a:ext cx="1531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</a:rPr>
              <a:t>天净沙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白朴</a:t>
            </a:r>
            <a:endParaRPr b="1" lang="en-US" sz="32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50" name="Line 14"/>
          <p:cNvSpPr/>
          <p:nvPr/>
        </p:nvSpPr>
        <p:spPr>
          <a:xfrm flipH="1">
            <a:off x="3924360" y="4508640"/>
            <a:ext cx="41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84360" y="4653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体会这首曲的意境， 说一说这首小令与马致远的小令哪一首更能打动人？说说你的理由。</a:t>
            </a:r>
            <a:r>
              <a:rPr b="1" lang="zh-CN" sz="4400" spc="-1" strike="noStrike">
                <a:solidFill>
                  <a:srgbClr val="ff0066"/>
                </a:solidFill>
                <a:latin typeface="隶书"/>
              </a:rPr>
              <a:t> 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152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u=2813258021,112048387&amp;gp=44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cc3300"/>
                </a:solidFill>
                <a:latin typeface="Times New Roman"/>
                <a:ea typeface="隶书"/>
              </a:rPr>
              <a:t>课后习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5843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有感情的朗诵本诗，并细细体会作者所要表达的思想意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关于思乡主题的诗句：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床头明月光，疑是地上霜。举头望明月，低头思故乡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李白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静夜诗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仍怜故乡水，万里送行舟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李白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渡荆门送别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乡书何处达？归雁洛阳边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王湾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次北固山下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烽火连三月，家书抵万金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杜甫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春望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u=2813258021,112048387&amp;gp=44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cc3300"/>
                </a:solidFill>
                <a:latin typeface="Times New Roman"/>
              </a:rPr>
              <a:t>课后习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白日放歌须纵酒，青春作伴好还乡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杜甫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闻官军收河南河北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日暮乡关何处是？烟波江上使人愁。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崔灏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黄河楼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读古人思乡的诗句，还会联想到哪些？你有什么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　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当你远离故乡深秋已至，你又有何感受呢？用自己的语言描述你心目中的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秋思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u=134468970,1355091401&amp;gp=0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元曲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92000" y="1773000"/>
            <a:ext cx="74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我国古代诗歌的发展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在不同的历史时期有不同的体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如唐诗、宋词、元曲。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天净沙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•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秋思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就是元曲中的一首佳作。元曲是继唐诗宋词后兴起的一种艺术形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是一种新的诗体，包括杂剧和散曲两部分。散曲又分小令和套数。小令在元代又名“叶儿”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每首能独立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相当于一首诗或一阕词；由于它是能歌唱的文字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所以就有不同的曲调；每个曲调都有一个名称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叫曲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表示不同的谱式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规定着不同的字数、句数、平仄、韵脚。曲牌表示曲调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另有题目。小令的曲牌常是一个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即一首小令一个曲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但也有例外的。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天净沙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•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秋思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》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属于散曲中的小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隶书"/>
              </a:rPr>
              <a:t>天净沙是曲牌名，秋思是题目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5"/>
          <p:cNvSpPr txBox="1"/>
          <p:nvPr/>
        </p:nvSpPr>
        <p:spPr>
          <a:xfrm rot="5400000">
            <a:off x="-995400" y="2874960"/>
            <a:ext cx="43912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天净沙秋思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4" name="Picture 6" descr="118cfe1fe47fa563f724e42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6308640"/>
            <a:ext cx="90000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1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33520" y="685800"/>
            <a:ext cx="86104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简介作者。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宋体"/>
              </a:rPr>
              <a:t>    </a:t>
            </a:r>
            <a:endParaRPr b="1" lang="en-US" sz="24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18241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马致远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(1250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？一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1321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？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字千里，号东篱，大都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今北京市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人，元代戏曲作家、散曲家。有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曲状元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之称。他的散曲描写景物意境优美，语言凝炼，流畅自然。他与关汉卿，白朴、郑光祖，一起并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元曲四大家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其小令名作</a:t>
            </a:r>
            <a:r>
              <a:rPr b="1" i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《</a:t>
            </a:r>
            <a:r>
              <a:rPr b="1" i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净沙</a:t>
            </a:r>
            <a:r>
              <a:rPr b="1" i="1" lang="en-US" sz="3600" spc="-1" strike="noStrike">
                <a:solidFill>
                  <a:srgbClr val="0000ff"/>
                </a:solidFill>
                <a:latin typeface="宋体"/>
                <a:ea typeface="仿宋_GB2312"/>
              </a:rPr>
              <a:t>·</a:t>
            </a:r>
            <a:r>
              <a:rPr b="1" i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秋思</a:t>
            </a:r>
            <a:r>
              <a:rPr b="1" i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被称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秋思之祖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5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=134468970,1355091401&amp;gp=0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马致远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743200" y="1844640"/>
            <a:ext cx="6400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马致远生于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250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年，约卒于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321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年，是元代著名的杂剧家。大都（今北京）人。马致远以字行于世，名不祥。晚号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东篱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，以示效陶渊明之志。曾任江浙行省务官。一生写了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20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多首散曲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其中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秋思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堪称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叹世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之作中的代表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被人称为“元曲四大家”之一，更被时人美誉为“曲状元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5"/>
          <p:cNvSpPr txBox="1"/>
          <p:nvPr/>
        </p:nvSpPr>
        <p:spPr>
          <a:xfrm rot="5400000">
            <a:off x="-995400" y="2874960"/>
            <a:ext cx="43912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天净沙秋思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6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468360" y="266760"/>
            <a:ext cx="8207280" cy="69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</a:rPr>
              <a:t>天净沙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·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华文行楷"/>
                <a:ea typeface="华文行楷"/>
              </a:rPr>
              <a:t>马致远</a:t>
            </a:r>
            <a:r>
              <a:rPr b="1" lang="zh-CN" sz="36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隶书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枯藤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老树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昏鸦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小桥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流水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人家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古道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西风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瘦马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夕阳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西下，断肠人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在</a:t>
            </a:r>
            <a:r>
              <a:rPr b="1" lang="en-US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天涯。</a:t>
            </a: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67" name="Picture 8" descr="i"/>
          <p:cNvPicPr/>
          <p:nvPr/>
        </p:nvPicPr>
        <p:blipFill>
          <a:blip r:embed="rId2"/>
          <a:stretch/>
        </p:blipFill>
        <p:spPr>
          <a:xfrm>
            <a:off x="611280" y="836640"/>
            <a:ext cx="125712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255960" y="184464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提示：</a:t>
            </a:r>
            <a:r>
              <a:rPr b="1" lang="zh-CN" sz="3600" spc="-1" strike="noStrike">
                <a:solidFill>
                  <a:srgbClr val="ffffff"/>
                </a:solidFill>
                <a:latin typeface="华文彩云"/>
                <a:ea typeface="华文彩云"/>
              </a:rPr>
              <a:t>注意节奏</a:t>
            </a:r>
            <a:endParaRPr b="1" lang="en-US" sz="36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6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读一读：</a:t>
            </a:r>
            <a:endParaRPr b="1" lang="en-US" sz="44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70" name="tjsqs_3269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90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老树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638680" y="464832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枯藤老树昏鸦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宋体"/>
              </a:rPr>
              <a:t>夕阳西下</a:t>
            </a:r>
            <a:endParaRPr b="1" lang="en-US" sz="4000" spc="-1" strike="noStrike">
              <a:solidFill>
                <a:srgbClr val="0000ff"/>
              </a:solidFill>
              <a:latin typeface="隶书"/>
            </a:endParaRPr>
          </a:p>
        </p:txBody>
      </p:sp>
      <p:sp>
        <p:nvSpPr>
          <p:cNvPr id="7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天净沙   秋思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赏析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　　　　　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细细品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209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枯藤老树昏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首句写旅人眼中所见。苍老干枯的树上，缠绕着苍老干枯的藤。黄昏时的乌鸦哀鸣着，寻找着自己的窝巢。诗人选择了“枯藤”“老树”“昏鸦”这三个各自独立的意象，把它们糅合在一起，着力渲染，突出它们的“枯”“老”和“昏”，烘托出一个完整的萧瑟荒凉的意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83808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Times New Roman"/>
                <a:ea typeface="宋体"/>
              </a:rPr>
              <a:t>小桥   流水   人家</a:t>
            </a:r>
            <a:endParaRPr b="1" lang="en-US" sz="5400" spc="-1" strike="noStrike">
              <a:solidFill>
                <a:srgbClr val="0000ff"/>
              </a:solidFill>
              <a:latin typeface="隶书"/>
            </a:endParaRPr>
          </a:p>
        </p:txBody>
      </p:sp>
      <p:pic>
        <p:nvPicPr>
          <p:cNvPr id="79" name="Picture 3" descr="Img240189640"/>
          <p:cNvPicPr/>
          <p:nvPr/>
        </p:nvPicPr>
        <p:blipFill>
          <a:blip r:embed="rId1"/>
          <a:stretch/>
        </p:blipFill>
        <p:spPr>
          <a:xfrm>
            <a:off x="533520" y="2057400"/>
            <a:ext cx="8280360" cy="3746520"/>
          </a:xfrm>
          <a:prstGeom prst="rect">
            <a:avLst/>
          </a:prstGeom>
          <a:ln w="0">
            <a:noFill/>
          </a:ln>
        </p:spPr>
      </p:pic>
      <p:sp>
        <p:nvSpPr>
          <p:cNvPr id="8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1" lang="en-US" sz="1400" spc="-1" strike="noStrike">
              <a:solidFill>
                <a:srgbClr val="0000ff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3:03:51Z</dcterms:created>
  <dc:creator>番茄花园</dc:creator>
  <dc:description/>
  <dc:language>en-US</dc:language>
  <cp:lastModifiedBy>Administrator</cp:lastModifiedBy>
  <dcterms:modified xsi:type="dcterms:W3CDTF">2014-10-20T15:24:10Z</dcterms:modified>
  <cp:revision>71</cp:revision>
  <dc:subject/>
  <dc:title>PowerPoint 演示文稿</dc:title>
</cp:coreProperties>
</file>