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4.png" ContentType="image/png"/>
  <Override PartName="/ppt/media/image13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wind.wav" ContentType="audio/x-wav"/>
  <Override PartName="/ppt/media/chimes.wav" ContentType="audio/x-wav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04F-E8A9-4A77-98B9-5587A7EA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A63-D3EC-4E54-A730-0971D327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699-3689-4FFD-B5DE-9B3A51FD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2EEB-955F-4E1C-81C9-075D0C9C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0A5-4CD0-494F-A44A-18FA4236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2B4-3A10-4A87-B6B5-A8150668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AB58-5D23-4C01-8D0E-BF187355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78B-DED0-40C9-8F22-5ABC3CEB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5D9C-6421-474C-BD56-FEBCA72A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1C9E-F46F-44ED-824E-0DDDA476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5A7-1254-40F5-A47B-81B90E5F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268-F896-4F7D-8EDC-437F3A03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DE45-829C-4E56-ABB6-B65DDC1D24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904663a5582ef0b"/>
          <p:cNvPicPr/>
          <p:nvPr/>
        </p:nvPicPr>
        <p:blipFill>
          <a:blip r:embed="rId1"/>
          <a:stretch/>
        </p:blipFill>
        <p:spPr>
          <a:xfrm>
            <a:off x="0" y="-196920"/>
            <a:ext cx="10044000" cy="75312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250920" y="0"/>
            <a:ext cx="547344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秋思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724360" y="508464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  <a:ea typeface="楷体_GB2312"/>
              </a:rPr>
              <a:t>桃园联校史彩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2008915133658917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2268360" y="333360"/>
          <a:ext cx="5977080" cy="475776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归信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作者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孟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泪墨洒为书，将寄万里亲。</a:t>
                      </a:r>
                      <a:br>
                        <a:rPr sz="3600"/>
                      </a:b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书去魂亦去，兀然空一身。</a:t>
                      </a:r>
                      <a:br>
                        <a:rPr sz="3600"/>
                      </a:b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《秋思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3"/>
          <p:cNvSpPr/>
          <p:nvPr/>
        </p:nvSpPr>
        <p:spPr>
          <a:xfrm>
            <a:off x="8101080" y="6237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01021742249761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539640" y="-520560"/>
            <a:ext cx="8604360" cy="74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当一片片落叶飞舞在空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轻吻着妈妈的脸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妈妈却潇洒地放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优雅地划出一道道圆圆的弧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慢慢地依附在妈妈的脚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久久，久久。。。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当一只只大雁掠过深邃的天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划破妈妈的心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妈妈发出深深的呼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却触摸不到你的踪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你那轻盈矫健的身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化成了一轮弯弯的月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印刷成了妈妈的眼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永远，永远。。。。。。 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          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mainPic" descr="la_pic?fid=8377353495170846861"/>
          <p:cNvPicPr/>
          <p:nvPr/>
        </p:nvPicPr>
        <p:blipFill>
          <a:blip r:embed="rId1"/>
          <a:stretch/>
        </p:blipFill>
        <p:spPr>
          <a:xfrm>
            <a:off x="-179280" y="0"/>
            <a:ext cx="9323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WordArt 3" descr="白色大理石"/>
          <p:cNvPicPr/>
          <p:nvPr/>
        </p:nvPicPr>
        <p:blipFill>
          <a:blip r:embed="rId2"/>
          <a:stretch/>
        </p:blipFill>
        <p:spPr>
          <a:xfrm>
            <a:off x="1170000" y="530280"/>
            <a:ext cx="2670120" cy="12380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1619280" y="2924280"/>
            <a:ext cx="7121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背诵并默写《秋思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继续搜集并整理表达思想情感的诗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3.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请你发挥想象，把《秋思》改写成一个小          故事，要求语句通顺，写出真情实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4.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拿起你手中的笔，为秋天作一首小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2700360" y="1916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选做两道题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011040816345171"/>
          <p:cNvPicPr/>
          <p:nvPr/>
        </p:nvPicPr>
        <p:blipFill>
          <a:blip r:embed="rId1"/>
          <a:stretch/>
        </p:blipFill>
        <p:spPr>
          <a:xfrm>
            <a:off x="0" y="-765000"/>
            <a:ext cx="9144000" cy="8389800"/>
          </a:xfrm>
          <a:prstGeom prst="rect">
            <a:avLst/>
          </a:prstGeom>
          <a:ln w="0">
            <a:noFill/>
          </a:ln>
        </p:spPr>
      </p:pic>
      <p:sp>
        <p:nvSpPr>
          <p:cNvPr id="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p20095110114895187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1835280" y="1821600"/>
            <a:ext cx="70945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8708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《晋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张翰传》说：“因见秋风起，乃思吴中菰菜、莼羹、鲈鱼脍，曰：‘人生贵得适志，何能羁宦数千里以要名爵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!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遂命驾而归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20095110114895187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771640" y="836640"/>
            <a:ext cx="59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秋风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刘禹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何处秋风至，萧萧送雁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朝来入庭树，孤客最先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qiusi"/>
          <p:cNvPicPr/>
          <p:nvPr/>
        </p:nvPicPr>
        <p:blipFill>
          <a:blip r:embed="rId1"/>
          <a:stretch/>
        </p:blipFill>
        <p:spPr>
          <a:xfrm>
            <a:off x="-322200" y="0"/>
            <a:ext cx="94662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3"/>
          <p:cNvSpPr txBox="1"/>
          <p:nvPr/>
        </p:nvSpPr>
        <p:spPr>
          <a:xfrm>
            <a:off x="2268360" y="476280"/>
            <a:ext cx="352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见？</a:t>
            </a:r>
            <a:endParaRPr b="1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5" name="陈悦 马克 - 乱红 (笛).mp3" descr=""/>
          <p:cNvPicPr/>
          <p:nvPr/>
        </p:nvPicPr>
        <p:blipFill>
          <a:blip r:embed="rId4"/>
          <a:stretch/>
        </p:blipFill>
        <p:spPr>
          <a:xfrm>
            <a:off x="8317080" y="5661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31314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张籍"/>
          <p:cNvPicPr/>
          <p:nvPr/>
        </p:nvPicPr>
        <p:blipFill>
          <a:blip r:embed="rId1"/>
          <a:stretch/>
        </p:blipFill>
        <p:spPr>
          <a:xfrm>
            <a:off x="0" y="1844640"/>
            <a:ext cx="3960720" cy="4176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3780000" y="2964600"/>
            <a:ext cx="52052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8708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张籍：唐诗人。字文昌，原籍吴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江苏苏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少时迁和州乌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安徽和县乌江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贞元十五年进士，历任太常寺太祝、国子监助教、秘书郎、国子博士、水部员外郎、主客郎中，仕终国子司业，故世称张水部、张司业。因家境贫困，眼疾严重，孟郊戏称“穷瞎张太祝”。写这首诗时他已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，离家近十年了，独自在洛阳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324000" y="404640"/>
            <a:ext cx="3311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资料袋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407dee7141e04904"/>
          <p:cNvPicPr/>
          <p:nvPr/>
        </p:nvPicPr>
        <p:blipFill>
          <a:blip r:embed="rId1"/>
          <a:stretch/>
        </p:blipFill>
        <p:spPr>
          <a:xfrm>
            <a:off x="0" y="2205000"/>
            <a:ext cx="3600360" cy="3598920"/>
          </a:xfrm>
          <a:prstGeom prst="rect">
            <a:avLst/>
          </a:prstGeom>
          <a:ln w="0">
            <a:noFill/>
          </a:ln>
        </p:spPr>
      </p:pic>
      <p:sp>
        <p:nvSpPr>
          <p:cNvPr id="62" name="WordArt 3"/>
          <p:cNvSpPr txBox="1"/>
          <p:nvPr/>
        </p:nvSpPr>
        <p:spPr>
          <a:xfrm>
            <a:off x="395280" y="333360"/>
            <a:ext cx="3095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练笔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635280" y="198900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十年了，多少个日日夜夜呀！年迈的父母，翘首遥望的妻子，幼小的孩子，家中的一切一切，张籍只能把这深深的思念化在心中，那他会在信中说些什么呢？同学们拿起笔来，把张籍想说的话写下来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古筝 - 琵琶语.mp3" descr=""/>
          <p:cNvPicPr/>
          <p:nvPr/>
        </p:nvPicPr>
        <p:blipFill>
          <a:blip r:embed="rId2"/>
          <a:stretch/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25917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896200" y="2653560"/>
            <a:ext cx="44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3"/>
          <p:cNvSpPr txBox="1"/>
          <p:nvPr/>
        </p:nvSpPr>
        <p:spPr>
          <a:xfrm>
            <a:off x="468360" y="620640"/>
            <a:ext cx="35989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学法指导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116000" y="2781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抓关键字、关键词，品味诗句，展开想象，领悟诗情，读出情味、读出意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250920" y="260280"/>
            <a:ext cx="35989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组合作学习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124000" y="213372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042920" y="19890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抓关键字、关键词，品味诗句，领悟诗情，读出情味、读出意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以小组为单位表演张籍与送信人的对话，更要演出张籍细微的心理和行动的细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4:45:15Z</dcterms:created>
  <dc:creator>USER</dc:creator>
  <dc:description/>
  <cp:keywords/>
  <dc:language>en-US</dc:language>
  <cp:lastModifiedBy>Administrator</cp:lastModifiedBy>
  <cp:lastPrinted>1899-12-30T00:00:00Z</cp:lastPrinted>
  <dcterms:modified xsi:type="dcterms:W3CDTF">2014-10-20T15:24:03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