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C88-6E89-4DAB-8F7B-8436ED2C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200-0FAD-4F18-8819-E54CA8E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247-DE0B-49FC-9CD5-47F9EFBF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8DB-BCDD-473E-A9D0-A23DC02D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4F6-000C-4EF6-919A-871ADB1D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C01-B607-4426-9878-34E875E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2AC-BCEF-442B-8EA3-4AA0A503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570-303A-4708-8E3F-EEE3490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EAE-F94B-4613-BEE0-3A14915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DFC-5FEC-40A3-BAE2-4B623A3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D70-5494-4520-915E-C724F577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ECA-5148-443B-8105-D37A7CD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E705-1AB4-44C1-BABF-83C76B2F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0020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秋思"/>
          <p:cNvPicPr/>
          <p:nvPr/>
        </p:nvPicPr>
        <p:blipFill>
          <a:blip r:embed="rId1"/>
          <a:srcRect l="11263" t="7544" r="13401" b="9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564000" y="3284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539640" y="0"/>
            <a:ext cx="4537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秋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667320" y="1700280"/>
            <a:ext cx="20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1619280" y="270828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风本无形，但它可以使树叶黄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花凋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自然界带来秋光秋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虽无形可见，却又处处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608200" y="873000"/>
            <a:ext cx="50594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年一度的秋风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又吹到了洛阳城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催我写一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家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将万重心意与亲人沟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捎信人即将出发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我又拆开了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的信封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赶快再添上几句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说不尽的心事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无奈太匆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 rot="19995000">
            <a:off x="6819480" y="4798800"/>
            <a:ext cx="2016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25092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秋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描绘的画面，把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秋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改写成一个小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人张籍在街上闲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清早了。忽然一阵萧瑟的秋风送来阵阵寒意，此刻，一排大雁从诗人张籍的 头顶飞过，飞向南方，诗人张籍不禁想起自己寄居他乡常年不归。大雁飞走了，但明年春天还会回来。可是自己什么时候能回来呢？想到这里，张籍落下了眼泪。树叶飘落了，荷花也枯萎了，习习秋风吹乱了他那长发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诗人张籍回到家中，望着那飘落的白杨叶无心写诗思前想后，他觉得应该给家人写封信了，便把笔墨纸都准备好，张籍提起笔，千言万语涌上心头，不知道从何说起此时张籍的脑海里不断出现当年自己离家之景，眼泪夺眶而出，千头万绪的情感，种种思念流露于字里行间。就这样一个小时过去了，二个小时过去了，三个小时过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籍花了整整一天来写这封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他觉得这封信是他的思念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好信后，张籍并不是马上用信封装上，而是反反复复地检查了一遍又一遍，生怕有什么重要内容落下了。就这样又过了一夜。在这一天一夜中张籍从未吃饭喝水心心念念的而是那封信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天亮了，公鸡开始打鸣了，这时，张籍不再睡觉，而是把信封好，早早地来到街口，来等待邮差，张籍现在心急如焚，希望邮差早点到来，亲人就能早日看到这封信。忽然街上传来马踢声，张籍便知道是邮差来了。邮差下马，从张籍手中接过了信，正要上马，忽听张籍说：“等一下，让我再看一遍，可能有什么内容写落了，好吗？”邮差把信又给了张籍，打开已经封好的信封，张籍便仔细看了一遍，又把信封封好交给了邮差，邮差上马，扬鞭而去，诗人注视着他，直到邮差从他的眼线中消失，习习秋风吹拂着张籍那张沧桑的面庞，泪水又从张籍眼中流出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回到家中，他提笔写下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前有个叫张籍的人，客居在洛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一年一度的秋天又到了，树叶都枯黄了，一片片地飘落下来，在旁人眼中，落叶好似一只只纷飞的、充满生机的彩蝶，装点着快乐的金色的秋天。而在张籍眼中，却一片荒凉、落寂。他已经离家很多年了，好久没有见到自己的亲人了，真思念他们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张籍想给远在家乡的亲人写一封信，但是想说的话实在太多了，一下子不止到从何说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在信中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爹，娘，你们在家乡过得好吗？我在洛阳一切都好，只是耳边没了娘那虽然喋喋不休但充满关爱的唠叨，眼前没了爹那慈祥的笑容。你们不用挂念我，我很好。我很想你们，你们一定也很想我吧？我保证，我有时间就会来看你们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中秋节快到了，这是我离家第几个中秋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爹娘，最近天气转凉了，你们多加些衣服、被子，千万别病了。还有，平时不要太劳累了，如果缺什么的话，给我捎个信，我会办好的！一定要保重身体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写着写着，脑中浮现出了久违爹娘的笑容，耳边响起了娘的唠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啪”的一声，扯回了他的思绪，原来，不知不觉中自己已泪流满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天，他把信交给了仆人，吩咐仆人一定要将信送到。就在仆人即将出发的时候，张籍又叫住了他，仆人转过身，不解地问：“老爷，您还有什么吩咐吗？”“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把信给我，让我再看几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接过信后，认认真真地读了好几遍，才双手颤抖着郑重的交给了仆人。并嘱咐道：“一定要把信送到啊，一定要一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仆人走了，他望着仆人远去的身影，口中不知道在嘀咕着什么。他的眼泪终于像断了线的珍珠，流了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那信中藏着一颗怎样的思乡之心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秋思"/>
          <p:cNvPicPr/>
          <p:nvPr/>
        </p:nvPicPr>
        <p:blipFill>
          <a:blip r:embed="rId1"/>
          <a:srcRect l="11263" t="7544" r="13401" b="9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11.mpg" descr=""/>
          <p:cNvPicPr/>
          <p:nvPr/>
        </p:nvPicPr>
        <p:blipFill>
          <a:blip r:embed="rId2"/>
          <a:stretch/>
        </p:blipFill>
        <p:spPr>
          <a:xfrm>
            <a:off x="611280" y="11853720"/>
            <a:ext cx="9144000" cy="1697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0" y="333360"/>
            <a:ext cx="827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搜集表达思乡情感的诗句、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8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静夜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 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床前明月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疑是地上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举头望明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低头思故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84360" y="1341360"/>
            <a:ext cx="8281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写作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籍，唐代诗人。张籍是韩愈的学生，他出身贫寒，常年过着四处奔波，漂泊异乡的生活。在唐朝安史之乱是兵荒马乱，民不聊生，离家十年的诗人深陷洛阳城，却不知战乱中的家人的信息。正在此时他在洛阳城里遇到了故人，并托他捎信给家人 。在此情此景下，写下了这首诗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九月九日忆山东兄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 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独在异乡为异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逢佳节倍思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遥知兄弟登高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遍插茱萸少一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050920" y="1052640"/>
            <a:ext cx="66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驿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唐）白居易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靖安宅思当窗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驿台前扑地花。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处春光同日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居人思客客思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边框6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47640" y="1052640"/>
            <a:ext cx="720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净沙  秋思      （元）马致远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枯藤老树昏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桥流水人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古道西风瘦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夕阳西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断肠人在天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213536660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627280" y="0"/>
            <a:ext cx="67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乡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光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枚小小的邮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母亲在那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长大后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张窄窄的船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新娘在那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后来啊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方矮矮的坟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外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母亲在里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而现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乡愁是一湾浅浅的海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在这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大陆在那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配乐诗朗诵 乡愁.mp3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4012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498120" y="873000"/>
            <a:ext cx="30823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见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780000" y="1773360"/>
            <a:ext cx="3024000" cy="1224000"/>
          </a:xfrm>
          <a:prstGeom prst="wedgeRoundRectCallout">
            <a:avLst>
              <a:gd name="adj1" fmla="val 35986"/>
              <a:gd name="adj2" fmla="val 75550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万重：形容要表达的意思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403280" y="3429000"/>
            <a:ext cx="3097440" cy="936720"/>
          </a:xfrm>
          <a:prstGeom prst="wedgeRoundRectCallout">
            <a:avLst>
              <a:gd name="adj1" fmla="val 25805"/>
              <a:gd name="adj2" fmla="val 70509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人：这里指捎信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003640" y="3357720"/>
            <a:ext cx="3168720" cy="934920"/>
          </a:xfrm>
          <a:prstGeom prst="wedgeRoundRectCallout">
            <a:avLst>
              <a:gd name="adj1" fmla="val -652"/>
              <a:gd name="adj2" fmla="val 82768"/>
              <a:gd name="adj3" fmla="val 16667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封：把封好的信拆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979640" y="1125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547640" y="234936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风本无形，但它可以使树叶黄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花凋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自然界带来秋光秋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虽无形可见，却又处处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洛阳城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秋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风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形的，可闻、可触、可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却不可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但正如春风可以染绿大地，带来无边春色一样，秋风所包含的寂寥肃杀之气，也可使秋叶纷纷，落红遍地，给自然界和人间带来一片秋容秋态。那么，诗人见到的恐怕是这秋风带来的凄凉摇落之景。客居他乡的游子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见到这一切，怎能不勾起羁泊异乡的孤独寂落情怀，引起对家乡、亲人的悠长思念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平淡而富于含蕴的“见”字，给予读者多么丰富的想象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124000" y="119700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欲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家书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意万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332000" y="2492280"/>
            <a:ext cx="64818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封家书，一份情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有千言万语，他在信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0" y="116532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意万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58360" y="1268280"/>
            <a:ext cx="34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 阳 城 里 见 秋 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 作 家 书 意 万 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767760" y="2924280"/>
            <a:ext cx="20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居洛阳，又见秋风。心中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千愁万绪，觉得有说不完、写不尽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倾吐，而一时间竟不知从何处说起，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知如何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258360" y="1268280"/>
            <a:ext cx="34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 恐 匆 匆 说 不 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 人 临 发 又 开 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92040" y="2852640"/>
            <a:ext cx="4965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带信的人将要出发的时候，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又打开了封好的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"/>
          <p:cNvGrpSpPr/>
          <p:nvPr/>
        </p:nvGrpSpPr>
        <p:grpSpPr>
          <a:xfrm>
            <a:off x="539640" y="4149720"/>
            <a:ext cx="8351640" cy="2232000"/>
            <a:chOff x="539640" y="4149720"/>
            <a:chExt cx="8351640" cy="2232000"/>
          </a:xfrm>
        </p:grpSpPr>
        <p:sp>
          <p:nvSpPr>
            <p:cNvPr id="74" name="Rectangle 8"/>
            <p:cNvSpPr/>
            <p:nvPr/>
          </p:nvSpPr>
          <p:spPr>
            <a:xfrm>
              <a:off x="539640" y="4149720"/>
              <a:ext cx="8351640" cy="22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82560" y="4294080"/>
              <a:ext cx="813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书成封就之际，似乎已经言尽；但当捎信的行人就要上路的时候，却又忽然感到刚才由于匆忙，生怕信里漏写了什么重要的内容，于是又匆匆拆开信封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6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498120" y="873000"/>
            <a:ext cx="30823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秋   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张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洛阳城里见秋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欲作家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万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复恐匆匆说不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行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临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开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5:41:01Z</dcterms:created>
  <dc:creator>OK</dc:creator>
  <dc:description/>
  <dc:language>en-US</dc:language>
  <cp:lastModifiedBy>Administrator</cp:lastModifiedBy>
  <dcterms:modified xsi:type="dcterms:W3CDTF">2014-10-20T15:24:00Z</dcterms:modified>
  <cp:revision>15</cp:revision>
  <dc:subject/>
  <dc:title>幻灯片 1</dc:title>
</cp:coreProperties>
</file>