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B54-52FB-46B2-ABCD-C7D44B92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941D-5BA0-434A-9226-C113BE5C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0A7-4829-4847-887C-C843A7EA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79D-F2FC-4776-94A8-4BA94569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C39-0830-47B6-B088-77587EB0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C1A-AB24-431C-91F8-EACAEDDB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F02-A886-4F2E-BA4F-B57CFCF5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90B-2413-4E74-9A86-71AF6FD4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A99-4BD0-495E-A5AE-A8B9BC83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5D3-F6C2-478F-9FB1-E9409E5C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9FF-567D-444E-8D80-CA2ECCD7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0CBC-40F6-4E77-87C1-AAE864B4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E919-98E1-461D-874B-87ADF2B2D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G:\Peter\&#36213;&#29081;&#35838;&#21069;&#28436;&#35762;\&#35821;&#25991;&#28436;&#35762;\&#38899;&#39057;\001.mp3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:\Peter\&#35821;&#25991;&#28436;&#35762;\&#38899;&#39057;\001.mp3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843280" y="1268280"/>
            <a:ext cx="3524040" cy="20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秋思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468360" y="549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由于此诗艺术上取得如此杰出的成就，因此前人给予极高的评价。林昌彝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射鹰楼诗话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说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文昌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张籍字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隶书"/>
              </a:rPr>
              <a:t>‘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洛阳城里见秋风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’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一绝，七绝之绝境，盛唐人到此者亦罕，不独乐府古淡足与盛唐争衡也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一般论者以为诗到中唐，不足与盛唐争衡。但就此诗来看，截取日常生活中一个片段，挖掘到人物感情的深处，以淡语写至情，发纤浓于简古，诗风质朴，意境浑成，称之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七绝之绝境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，决不为过；与盛唐名家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如前举之岑参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同类之作相比，也是毫不逊色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5"/>
          <p:cNvSpPr txBox="1"/>
          <p:nvPr/>
        </p:nvSpPr>
        <p:spPr>
          <a:xfrm>
            <a:off x="2916360" y="2421000"/>
            <a:ext cx="302076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谢谢观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5340240" y="4700520"/>
            <a:ext cx="304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赵熙 郑炜 制作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3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2855880" y="2836800"/>
            <a:ext cx="302112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观看视频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002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2987640" y="0"/>
            <a:ext cx="2793960" cy="15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秋思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1" name="WordArt 7" descr=""/>
          <p:cNvPicPr/>
          <p:nvPr/>
        </p:nvPicPr>
        <p:blipFill>
          <a:blip r:embed="rId2"/>
          <a:stretch/>
        </p:blipFill>
        <p:spPr>
          <a:xfrm>
            <a:off x="3408480" y="1474920"/>
            <a:ext cx="3571920" cy="61596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>
            <a:off x="2592360" y="2205000"/>
            <a:ext cx="4105440" cy="8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洛阳城里见秋风，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2590920" y="3068640"/>
            <a:ext cx="4105080" cy="8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欲作家书意万重。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2590920" y="3932280"/>
            <a:ext cx="4105080" cy="8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复恐匆匆说不尽，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2590920" y="4797360"/>
            <a:ext cx="410508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行人临发又开封。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6" name="AutoShape 12">
            <a:hlinkClick r:id="rId3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8406"/>
                </a:moveTo>
                <a:lnTo>
                  <a:pt x="10876" y="8406"/>
                </a:lnTo>
                <a:lnTo>
                  <a:pt x="15297" y="3794"/>
                </a:lnTo>
                <a:lnTo>
                  <a:pt x="15297" y="17806"/>
                </a:lnTo>
                <a:lnTo>
                  <a:pt x="10876" y="13194"/>
                </a:lnTo>
                <a:lnTo>
                  <a:pt x="6446" y="13194"/>
                </a:lnTo>
                <a:close/>
              </a:path>
              <a:path fill="darken" w="26905" h="21600">
                <a:moveTo>
                  <a:pt x="16951" y="10800"/>
                </a:moveTo>
                <a:lnTo>
                  <a:pt x="20459" y="10800"/>
                </a:lnTo>
              </a:path>
              <a:path fill="darken" w="26905" h="21600">
                <a:moveTo>
                  <a:pt x="16951" y="8406"/>
                </a:moveTo>
                <a:lnTo>
                  <a:pt x="20459" y="5639"/>
                </a:lnTo>
              </a:path>
              <a:path fill="darken" w="26905" h="21600">
                <a:moveTo>
                  <a:pt x="16951" y="13194"/>
                </a:moveTo>
                <a:lnTo>
                  <a:pt x="20459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>
            <a:off x="3276720" y="1484280"/>
            <a:ext cx="4628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形容表达的意思很多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3276720" y="2550960"/>
            <a:ext cx="360036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这里指捎信的人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3276720" y="3695760"/>
            <a:ext cx="326700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把封好的信拆开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2627280" y="4797360"/>
            <a:ext cx="653436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怕这封信的内容不够多，说不尽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3" name="WordArt 8"/>
          <p:cNvSpPr txBox="1"/>
          <p:nvPr/>
        </p:nvSpPr>
        <p:spPr>
          <a:xfrm>
            <a:off x="468360" y="1268280"/>
            <a:ext cx="216072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意万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行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开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复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4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02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1">
            <a:hlinkClick r:id="rId2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8406"/>
                </a:moveTo>
                <a:lnTo>
                  <a:pt x="10876" y="8406"/>
                </a:lnTo>
                <a:lnTo>
                  <a:pt x="15297" y="3794"/>
                </a:lnTo>
                <a:lnTo>
                  <a:pt x="15297" y="17806"/>
                </a:lnTo>
                <a:lnTo>
                  <a:pt x="10876" y="13194"/>
                </a:lnTo>
                <a:lnTo>
                  <a:pt x="6446" y="13194"/>
                </a:lnTo>
                <a:close/>
              </a:path>
              <a:path fill="darken" w="26905" h="21600">
                <a:moveTo>
                  <a:pt x="16951" y="10800"/>
                </a:moveTo>
                <a:lnTo>
                  <a:pt x="20459" y="10800"/>
                </a:lnTo>
              </a:path>
              <a:path fill="darken" w="26905" h="21600">
                <a:moveTo>
                  <a:pt x="16951" y="8406"/>
                </a:moveTo>
                <a:lnTo>
                  <a:pt x="20459" y="5639"/>
                </a:lnTo>
              </a:path>
              <a:path fill="darken" w="26905" h="21600">
                <a:moveTo>
                  <a:pt x="16951" y="13194"/>
                </a:moveTo>
                <a:lnTo>
                  <a:pt x="20459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12"/>
          <p:cNvSpPr txBox="1"/>
          <p:nvPr/>
        </p:nvSpPr>
        <p:spPr>
          <a:xfrm>
            <a:off x="2556000" y="1125360"/>
            <a:ext cx="410508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洛阳城里见秋风，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0" name="WordArt 13"/>
          <p:cNvSpPr txBox="1"/>
          <p:nvPr/>
        </p:nvSpPr>
        <p:spPr>
          <a:xfrm>
            <a:off x="2195640" y="2276640"/>
            <a:ext cx="49273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一年一度的秋风，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1" name="WordArt 14"/>
          <p:cNvSpPr txBox="1"/>
          <p:nvPr/>
        </p:nvSpPr>
        <p:spPr>
          <a:xfrm>
            <a:off x="2050920" y="3573360"/>
            <a:ext cx="489600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 </a:t>
            </a: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又吹到了洛阳城中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2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02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76" name="WordArt 6"/>
          <p:cNvSpPr txBox="1"/>
          <p:nvPr/>
        </p:nvSpPr>
        <p:spPr>
          <a:xfrm>
            <a:off x="2556000" y="1125360"/>
            <a:ext cx="410508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欲作家书意万重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1042920" y="2060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身居洛阳城内的游子，不知家乡的亲人怎么样了，写封家书问候平安，要说的话太多了，又不知从何说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002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2556000" y="1125360"/>
            <a:ext cx="410508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复恐匆匆说不尽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971640" y="3068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信写好了，又担心匆匆中没有把自己要说的话说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02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2556000" y="1125360"/>
            <a:ext cx="410508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行人临发又开封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798560" y="328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方正姚体"/>
              </a:rPr>
              <a:t>当捎信人出发时，又拆开信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1116000" y="112536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张籍（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6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～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3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，唐代诗人。字文昌，汉族，和州乌江（今安徽和县）人，郡望苏州吴（今江苏苏州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先世移居和州，遂为和州乌江（今安徽和县乌江镇）人。世称“张水部”、“张司业”。张籍的乐府诗与王建齐名，并称“张王乐府”。著名诗篇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塞下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征妇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采莲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江南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张籍籍贯考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认为，韩愈所说的“吴郡张籍”乃谓其郡望，并引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新唐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张籍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唐诗纪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舆地纪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等史传材料，驳苏州之说而定张籍为乌江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3492360" y="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作者简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4:42:43Z</dcterms:created>
  <dc:creator>微软用户</dc:creator>
  <dc:description/>
  <dc:language>en-US</dc:language>
  <cp:lastModifiedBy>Administrator</cp:lastModifiedBy>
  <dcterms:modified xsi:type="dcterms:W3CDTF">2014-10-20T15:23:48Z</dcterms:modified>
  <cp:revision>8</cp:revision>
  <dc:subject/>
  <dc:title>幻灯片 1</dc:title>
</cp:coreProperties>
</file>