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5.png" ContentType="image/png"/>
  <Override PartName="/ppt/media/chimes.wav" ContentType="audio/x-wav"/>
  <Override PartName="/ppt/media/image16.gif" ContentType="image/gif"/>
  <Override PartName="/ppt/media/image14.jpeg" ContentType="image/jpeg"/>
  <Override PartName="/ppt/media/image15.png" ContentType="image/png"/>
  <Override PartName="/ppt/media/image6.gif" ContentType="image/gif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DC4-3F6A-4019-A0C7-8B07F7F1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C64-764F-4560-8677-795EA026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834-45A7-47D7-A614-5468E196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020-02C4-4750-9A0D-619C5FF1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6D8-9447-4EEB-91E4-AE329FDF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618-4018-4CF7-936D-ECCCA9DA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B8A-BAC9-42F4-B50C-3201EAAB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D9A-226F-479A-9D91-131CAB32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4F1-62C0-4084-9B10-C370644F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548-7839-466C-B22F-5ABA521C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59B-38FA-481A-B6ED-8DAA167E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558-0443-46A2-965C-D36EE66F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6A09-97DA-4574-8C06-4F221C2CA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W02008072454615146757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3" descr=""/>
          <p:cNvPicPr/>
          <p:nvPr/>
        </p:nvPicPr>
        <p:blipFill>
          <a:blip r:embed="rId3"/>
          <a:stretch/>
        </p:blipFill>
        <p:spPr>
          <a:xfrm>
            <a:off x="-639720" y="1401840"/>
            <a:ext cx="903456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" descr="3757_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秋天的雨用那五彩缤纷的颜料把银杏树和枫树打扮得如此美丽。孩子满让我们也来学学课文的样子说说几个这样美丽的句子吧。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33520" y="2286000"/>
            <a:ext cx="784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秋天的雨把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色给了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，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像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例如：秋天的雨把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色给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鸭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，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黄的鸭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像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个小葫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3"/>
          <p:cNvPicPr/>
          <p:nvPr/>
        </p:nvPicPr>
        <p:blipFill>
          <a:blip r:embed="rId1"/>
          <a:srcRect l="5903" t="8008" r="6683" b="63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3"/>
          <p:cNvSpPr txBox="1"/>
          <p:nvPr/>
        </p:nvSpPr>
        <p:spPr>
          <a:xfrm>
            <a:off x="1295280" y="990720"/>
            <a:ext cx="4175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重读黑体字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38080" y="228600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秋天的雨，藏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非常好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气味。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香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，菠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甜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的，还有苹果、橘子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好多好多香甜的气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都躲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雨滴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呢！小朋友的脚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被那香味勾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7913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瓜果飘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秋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543279772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Oval 3"/>
          <p:cNvSpPr/>
          <p:nvPr/>
        </p:nvSpPr>
        <p:spPr>
          <a:xfrm>
            <a:off x="1116000" y="6093000"/>
            <a:ext cx="576360" cy="576000"/>
          </a:xfrm>
          <a:prstGeom prst="ellipse">
            <a:avLst/>
          </a:prstGeom>
          <a:solidFill>
            <a:srgbClr val="d8dd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2195640" y="6093000"/>
            <a:ext cx="57600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3203640" y="6093000"/>
            <a:ext cx="57636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4140360" y="6093000"/>
            <a:ext cx="576000" cy="576000"/>
          </a:xfrm>
          <a:prstGeom prst="ellipse">
            <a:avLst/>
          </a:prstGeom>
          <a:solidFill>
            <a:srgbClr val="fd37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5148360" y="6093000"/>
            <a:ext cx="576000" cy="576000"/>
          </a:xfrm>
          <a:prstGeom prst="ellipse">
            <a:avLst/>
          </a:prstGeom>
          <a:solidFill>
            <a:srgbClr val="d307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6156360" y="6093000"/>
            <a:ext cx="576360" cy="57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7164360" y="6093000"/>
            <a:ext cx="576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900000" y="1052640"/>
            <a:ext cx="705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12"/>
          <p:cNvSpPr txBox="1"/>
          <p:nvPr/>
        </p:nvSpPr>
        <p:spPr>
          <a:xfrm>
            <a:off x="609480" y="457200"/>
            <a:ext cx="381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师生承接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304920" y="16002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秋天的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吹起了金色的小喇叭，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它告诉大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冬天快要来了。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小喜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衔来树枝造房子，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小松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找来松果当粮食，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小青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加紧挖洞，准备舒舒服服地睡大觉。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松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上厚厚的、油亮亮的衣裳，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杨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柳树的叶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飘到树妈妈的脚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2565360"/>
            <a:ext cx="98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告诉大家（                ），小喜鹊（                  ），小松鼠（                ），小青蛙（                       ），松柏（                ），杨树、柳树的叶子（                    ），它们都在准备过冬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9640" y="6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它们听到喇叭声都在做些什么？请你从文中找出主要的动词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826920" y="907920"/>
            <a:ext cx="21600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780000" y="263700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冬天快要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71640" y="3213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衔来树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156360" y="321300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找来松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556000" y="3789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加紧挖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755640" y="4437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穿上衣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68360" y="501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飘到树妈妈脚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忙忙碌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秋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M_0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914400" y="16765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　</a:t>
            </a:r>
            <a:r>
              <a:rPr b="0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　秋天的雨，带给大地的是一曲丰收的歌，带给小朋友的是一曲　欢乐的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971800" y="250812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33ff"/>
                </a:solidFill>
                <a:latin typeface="Times New Roman"/>
                <a:ea typeface="隶书"/>
              </a:rPr>
              <a:t>一曲丰收的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715000" y="331776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33ff"/>
                </a:solidFill>
                <a:latin typeface="Times New Roman"/>
                <a:ea typeface="隶书"/>
              </a:rPr>
              <a:t>一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14400" y="4148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33ff"/>
                </a:solidFill>
                <a:latin typeface="Times New Roman"/>
                <a:ea typeface="隶书"/>
              </a:rPr>
              <a:t>欢乐的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3-800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539640" y="1600200"/>
            <a:ext cx="81360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秋天的雨，轻柔地抹去夏的炎热，把秋天的大门打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秋天的雨，带来了秋的五彩缤纷，带来了秋的芬芳扑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秋天的雨，捂着丰收的硕果，深情地呼唤冬的纯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609480" y="3808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总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685800" y="2133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70c0"/>
                </a:solidFill>
                <a:latin typeface="Arial"/>
              </a:rPr>
              <a:t>朗读古诗，思考古诗中描写了一个怎样的秋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685800" y="68580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带文自学导航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61232[1]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0" y="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拓展阅读，速读速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52280" y="91440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秋凉晚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杨万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秋气堪悲未必然，轻寒正是可人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池落尽红蕖却，荷叶犹开最小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秋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禹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古逢秋悲寂寥， 我言秋日胜春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晴空一鹤排云上， 便引诗情到碧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23070f4dc21b3d80ba95632a4_560[1]"/>
          <p:cNvPicPr/>
          <p:nvPr/>
        </p:nvPicPr>
        <p:blipFill>
          <a:blip r:embed="rId2"/>
          <a:stretch/>
        </p:blipFill>
        <p:spPr>
          <a:xfrm>
            <a:off x="0" y="1440"/>
            <a:ext cx="9158400" cy="6856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2209320"/>
            <a:ext cx="647676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你还发现秋天有什么“宝贝”？将你的发现写下来与大家分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609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543279772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57200" y="220968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金秋时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景色宜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层林尽染叠翠流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高云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大雁南飞秋高气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山河壮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五谷丰登瓜果飘香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春华秋实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秋收冬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539640" y="476280"/>
            <a:ext cx="4114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描写秋天景色的词语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R_05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219320" y="838080"/>
            <a:ext cx="6688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秋天的雨，是一把钥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悄悄地打开秋天的大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秋天的雨，有一盒五彩缤纷的颜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轻轻地给田野、树木、花草涂上绚丽的色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秋天的雨，藏着非常好闻的气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小朋友的脚常被那香味勾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秋天的雨，吹起了金色的小喇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动物植物赶紧做好过冬准备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秋天的雨，带给大地的是一曲丰收的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秋天的雨，带给小朋友的是一首欢乐的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R_05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143000" y="12193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自学导航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43000" y="2362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自己喜欢的段落， 用“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画出描写秋天特点的句子，用“△”标出关键词语。说说从这些语句中你读出了一个怎样的秋天？用简单的词语或句子写下自己的感受或收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uisya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秋天的雨2.avi" descr=""/>
          <p:cNvPicPr/>
          <p:nvPr/>
        </p:nvPicPr>
        <p:blipFill>
          <a:blip r:embed="rId3"/>
          <a:stretch/>
        </p:blipFill>
        <p:spPr>
          <a:xfrm>
            <a:off x="1908000" y="333360"/>
            <a:ext cx="5688360" cy="3792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1763640" y="436572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走进秋天的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感受秋雨的神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0" y="685800"/>
            <a:ext cx="9144000" cy="557820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秋天的雨，是一把钥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它带着清凉和温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轻轻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轻轻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趁你没留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把秋天的大门打开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590920" y="2590920"/>
            <a:ext cx="152280" cy="152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3581280" y="2590920"/>
            <a:ext cx="152640" cy="152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4038480" y="2590920"/>
            <a:ext cx="152640" cy="152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00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805360"/>
            <a:ext cx="523800" cy="652680"/>
          </a:xfrm>
          <a:prstGeom prst="rect">
            <a:avLst/>
          </a:prstGeom>
          <a:ln w="0">
            <a:noFill/>
          </a:ln>
        </p:spPr>
      </p:pic>
      <p:sp>
        <p:nvSpPr>
          <p:cNvPr id="60" name="Oval 9"/>
          <p:cNvSpPr/>
          <p:nvPr/>
        </p:nvSpPr>
        <p:spPr>
          <a:xfrm>
            <a:off x="1066680" y="4343400"/>
            <a:ext cx="152640" cy="152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533520" y="4343400"/>
            <a:ext cx="152280" cy="152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1066680" y="3429000"/>
            <a:ext cx="152640" cy="152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57200" y="3429000"/>
            <a:ext cx="152280" cy="152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28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生承接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1"/>
          <p:cNvPicPr/>
          <p:nvPr/>
        </p:nvPicPr>
        <p:blipFill>
          <a:blip r:embed="rId3"/>
          <a:stretch/>
        </p:blipFill>
        <p:spPr>
          <a:xfrm>
            <a:off x="4511520" y="0"/>
            <a:ext cx="46324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826920" y="1484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秋雨带着我们穿过了秋天的大门，我们都看到了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3" descr="3757_12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天的雨，有一盒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五彩缤纷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颜料。你看，它把黄色给了银杏树，黄黄的叶子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像一把把小扇子，扇哪扇哪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扇走了夏天的炎热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它把红色给了枫树，红红的枫叶</a:t>
            </a:r>
            <a:r>
              <a:rPr b="1" lang="zh-CN" sz="3200" spc="-1" strike="noStrike" u="sng">
                <a:solidFill>
                  <a:srgbClr val="c00000"/>
                </a:solidFill>
                <a:uFillTx/>
                <a:latin typeface="Arial"/>
              </a:rPr>
              <a:t>像一枚枚邮票，飘哇飘哇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邮来了秋天的凉爽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黄色是给田野的，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看，田野像金色的海洋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橙红色是给果树的，橘子、柿子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你挤我碰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争着要人们去摘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0" y="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减词加词对比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5562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彩缤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秋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5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828800" y="1828800"/>
            <a:ext cx="106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c02500"/>
                </a:solidFill>
                <a:latin typeface="Times New Roman"/>
                <a:ea typeface="黑体"/>
              </a:rPr>
              <a:t>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c02500"/>
                </a:solidFill>
                <a:latin typeface="Times New Roman"/>
                <a:ea typeface="黑体"/>
              </a:rPr>
              <a:t>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c02500"/>
                </a:solidFill>
                <a:latin typeface="Times New Roman"/>
                <a:ea typeface="黑体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c02500"/>
                </a:solidFill>
                <a:latin typeface="Times New Roman"/>
                <a:ea typeface="黑体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c02500"/>
                </a:solidFill>
                <a:latin typeface="Times New Roman"/>
                <a:ea typeface="黑体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971800" y="669960"/>
            <a:ext cx="50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    （银杏树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>
            <a:hlinkClick r:id="rId3" action="ppaction://hlinksldjump"/>
          </p:cNvPr>
          <p:cNvSpPr/>
          <p:nvPr/>
        </p:nvSpPr>
        <p:spPr>
          <a:xfrm>
            <a:off x="1676520" y="2438280"/>
            <a:ext cx="30456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>
            <a:hlinkClick r:id="rId4" action="ppaction://hlinksldjump"/>
          </p:cNvPr>
          <p:cNvSpPr/>
          <p:nvPr/>
        </p:nvSpPr>
        <p:spPr>
          <a:xfrm>
            <a:off x="1676520" y="3200400"/>
            <a:ext cx="30456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>
            <a:hlinkClick r:id="rId5" action="ppaction://hlinksldjump"/>
          </p:cNvPr>
          <p:cNvSpPr/>
          <p:nvPr/>
        </p:nvSpPr>
        <p:spPr>
          <a:xfrm>
            <a:off x="1676520" y="3962520"/>
            <a:ext cx="30456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3581280" y="7621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黄色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3581280" y="1676520"/>
            <a:ext cx="990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火红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3657600" y="25909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宋体"/>
              </a:rPr>
              <a:t>金色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81" name="WordArt 11"/>
          <p:cNvSpPr txBox="1"/>
          <p:nvPr/>
        </p:nvSpPr>
        <p:spPr>
          <a:xfrm>
            <a:off x="3657600" y="3505320"/>
            <a:ext cx="8190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橙色</a:t>
            </a:r>
            <a:endParaRPr b="0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82" name="WordArt 12"/>
          <p:cNvSpPr txBox="1"/>
          <p:nvPr/>
        </p:nvSpPr>
        <p:spPr>
          <a:xfrm>
            <a:off x="3581280" y="44197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红色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3" name="WordArt 13"/>
          <p:cNvSpPr txBox="1"/>
          <p:nvPr/>
        </p:nvSpPr>
        <p:spPr>
          <a:xfrm>
            <a:off x="3505320" y="533412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99ff"/>
                </a:solidFill>
                <a:latin typeface="宋体"/>
              </a:rPr>
              <a:t>五颜六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c99ff"/>
              </a:solidFill>
              <a:latin typeface="宋体"/>
              <a:ea typeface="宋体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5148360" y="15573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枫树） 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348000" y="249228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      （田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5219640" y="335772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橘子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5219640" y="42926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柿子） 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514836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菊花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1:22:19Z</dcterms:created>
  <dc:creator>Administrator</dc:creator>
  <dc:description/>
  <dc:language>en-US</dc:language>
  <cp:lastModifiedBy>微软中国</cp:lastModifiedBy>
  <dcterms:modified xsi:type="dcterms:W3CDTF">2015-10-11T07:14:3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